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1280"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430200">
              <a:lnSpc>
                <a:spcPct val="87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9120" indent="-432000">
              <a:lnSpc>
                <a:spcPct val="87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7840" indent="-430200">
              <a:lnSpc>
                <a:spcPct val="87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5120" indent="-430200">
              <a:lnSpc>
                <a:spcPct val="87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54200" indent="-432000">
              <a:lnSpc>
                <a:spcPct val="87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54200" indent="-432000">
              <a:lnSpc>
                <a:spcPct val="87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54200" indent="-432000">
              <a:lnSpc>
                <a:spcPct val="87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1040" y="1214280"/>
            <a:ext cx="7758360" cy="21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8000"/>
              </a:lnSpc>
              <a:buNone/>
              <a:tabLst>
                <a:tab algn="l" pos="0"/>
                <a:tab algn="l" pos="3571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Times New Roman"/>
              </a:rPr>
              <a:t>Планиметрия.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99284c"/>
                </a:solidFill>
                <a:latin typeface="Times New Roman"/>
              </a:rPr>
              <a:t>О</a:t>
            </a:r>
            <a:r>
              <a:rPr b="1" i="1" lang="en-GB" sz="4000" spc="-1" strike="noStrike">
                <a:solidFill>
                  <a:srgbClr val="99284c"/>
                </a:solidFill>
                <a:latin typeface="Times New Roman"/>
              </a:rPr>
              <a:t>кружность.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745920" y="3060360"/>
            <a:ext cx="76374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21420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99284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440000" y="539640"/>
            <a:ext cx="630072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040" y="663120"/>
            <a:ext cx="7807320" cy="10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8000"/>
              </a:lnSpc>
              <a:buNone/>
              <a:tabLst>
                <a:tab algn="l" pos="0"/>
                <a:tab algn="l" pos="3571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Times New Roman"/>
              </a:rPr>
              <a:t>Вписанные и описанные четырехугольники.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440000" y="1979640"/>
            <a:ext cx="6480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619280" y="539640"/>
            <a:ext cx="576108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1960" y="360360"/>
            <a:ext cx="780732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8000"/>
              </a:lnSpc>
              <a:buNone/>
              <a:tabLst>
                <a:tab algn="l" pos="0"/>
                <a:tab algn="l" pos="3571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Times New Roman"/>
              </a:rPr>
              <a:t>Длина окружности и площадь круга.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800360" y="1440000"/>
            <a:ext cx="558000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1440000" y="720720"/>
            <a:ext cx="59403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8000"/>
              </a:lnSpc>
              <a:buNone/>
              <a:tabLst>
                <a:tab algn="l" pos="0"/>
                <a:tab algn="l" pos="3571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Times New Roman"/>
              </a:rPr>
              <a:t>Окружность. Хорды и касательные.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00000" y="1979640"/>
            <a:ext cx="738036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1260360" y="539640"/>
            <a:ext cx="684072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8000"/>
              </a:lnSpc>
              <a:buNone/>
              <a:tabLst>
                <a:tab algn="l" pos="0"/>
                <a:tab algn="l" pos="3571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Times New Roman"/>
              </a:rPr>
              <a:t>Окружность, описанная около треугольника.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260360" y="2160720"/>
            <a:ext cx="6480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1440000" y="539640"/>
            <a:ext cx="611964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1440000" y="2160720"/>
            <a:ext cx="6480000" cy="2160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46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8000"/>
              </a:lnSpc>
              <a:buNone/>
              <a:tabLst>
                <a:tab algn="l" pos="0"/>
                <a:tab algn="l" pos="3571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Times New Roman"/>
              </a:rPr>
              <a:t>Окружность, вписанная в треугольник.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800360" y="539640"/>
            <a:ext cx="576108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679320"/>
            <a:ext cx="78073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8000"/>
              </a:lnSpc>
              <a:buNone/>
              <a:tabLst>
                <a:tab algn="l" pos="0"/>
                <a:tab algn="l" pos="3571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Times New Roman"/>
              </a:rPr>
              <a:t>Центральные и вписанные углы.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440000" y="1619280"/>
            <a:ext cx="611964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040" y="679320"/>
            <a:ext cx="780732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8000"/>
              </a:lnSpc>
              <a:buNone/>
              <a:tabLst>
                <a:tab algn="l" pos="0"/>
                <a:tab algn="l" pos="35712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Times New Roman"/>
              </a:rPr>
              <a:t>Свойства хорд и секущих.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79640" y="1800360"/>
            <a:ext cx="7019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9-05-07T03:30:41Z</dcterms:modified>
  <cp:revision>1</cp:revision>
  <dc:subject/>
  <dc:title>Планиметрия.    Окружность.</dc:title>
</cp:coreProperties>
</file>