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FBF-45D5-4FC5-A131-14FF1AB5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BBB-2A87-4BAB-A814-03C9AD0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528-47A5-40EE-9E2E-EF61262A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78A-91E9-40FC-AD2A-87141C82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BD7-EF1F-4C81-B34C-26CB6C79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606-8C2A-4A93-9144-949BF210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A79-C8FA-4B28-9DD9-B5B6AE2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DFC-C685-41BE-AE45-CDA91C0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B86-9DE9-401B-A68F-4026300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02F-6CDC-4ACF-A811-7C370F1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66B-8698-4AA2-B197-27701F17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5C9-4928-4AF7-9E33-984116E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4DBD-5A65-427E-A647-CA4B75431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lk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 rot="20791200">
            <a:off x="457200" y="47772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00"/>
                </a:solidFill>
                <a:latin typeface="Arial"/>
              </a:rPr>
              <a:t>Осторожно:</a:t>
            </a:r>
            <a:r>
              <a:rPr b="0" lang="ru-RU" sz="9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Arial"/>
              </a:rPr>
              <a:t>страх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202360" y="5992920"/>
            <a:ext cx="396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ОУ «Бабкинская средня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уева С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33920" y="64944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505320" y="11066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733920" y="5731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73392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219320" y="907920"/>
            <a:ext cx="5867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Психологическое 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Наполнение повседневной жизни ребёнка яркими впечатлениями, включение ребёнка в интересную для него деятельность (кружки, секции, хобби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 Поощрение коллективных игр, дружбы со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 Коррекция поведения взрослых, окружающих ребё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требования взрослых должны соответствовать возрасту и способностям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угроз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в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чрезмерной оп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необоснованным запр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295280" y="1143000"/>
            <a:ext cx="57913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контроль за соблюдением режима дня               (нормализуется психологический фон, восстанавливается психическое равновесие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. Исключение стрессовых ситуаций в школьной  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5. «Открытая война» со стр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. Использование фильмов ужасов (условие – фильм должен быть точно по теме страха и с положительным конц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7. Обучение допустимым способам выражения гне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ить «грушу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метать дротики, мешочки в миш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пинать мяч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8. Использование иг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гра «Как я представляю свой страх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гра «Прогони страх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143000" y="1143000"/>
            <a:ext cx="5943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гра «Петушиный бо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мыльные пузы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дувание шаро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9. Использование сказкотера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сочинить сказку (рассказ) на тему страха (обязательно элементы юмора и счастливый коне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сочинить сказку (историю), в которой страшного героя ж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спользовать инсценировку (финал – победа над страхом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0. Использование тематического рис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рисование пружинок, свободная штрихов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, сжечь, порв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, посадить в клетку, закрыть на зам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 маленьким, а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SN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066680" y="103032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ядом большим, сильным, вооружё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, подружиться с ним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Изображение 003"/>
          <p:cNvPicPr/>
          <p:nvPr/>
        </p:nvPicPr>
        <p:blipFill>
          <a:blip r:embed="rId2"/>
          <a:stretch/>
        </p:blipFill>
        <p:spPr>
          <a:xfrm>
            <a:off x="393840" y="274680"/>
            <a:ext cx="575136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248520" y="213372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рисовать страх, посадить его в кле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Изображение 009"/>
          <p:cNvPicPr/>
          <p:nvPr/>
        </p:nvPicPr>
        <p:blipFill>
          <a:blip r:embed="rId2"/>
          <a:srcRect l="-1320" t="-34938" r="0" b="0"/>
          <a:stretch/>
        </p:blipFill>
        <p:spPr>
          <a:xfrm>
            <a:off x="334800" y="-1981080"/>
            <a:ext cx="5807160" cy="8534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477120" y="114300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рисовать страх, рядом нарисовать себя сильным, большим, вооружен-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Изображение"/>
          <p:cNvPicPr/>
          <p:nvPr/>
        </p:nvPicPr>
        <p:blipFill>
          <a:blip r:embed="rId2"/>
          <a:stretch/>
        </p:blipFill>
        <p:spPr>
          <a:xfrm>
            <a:off x="287280" y="380880"/>
            <a:ext cx="5753160" cy="6096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6248520" y="220968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рисовать страх и подружи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-559080"/>
            <a:ext cx="82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2987640" y="1549080"/>
            <a:ext cx="590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Оценка уровня тревожности и предрасположенности ребёнка к невр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Предлагаем ответить на вопросы теста-опросника, касающиеся особенностей поведения вашего ребёнка. Каждый пункт оценивается в 2 балла, если отмеченная в нём особенность поведения выражена и тем более возрастает в своей интенсивности в последние годы. Если указанные проявления встречаются периодически, то соответствующий пункт оценивается в 1 балл. При отсутствии названных в пункте особенностей поведения выставляется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987640" y="1238040"/>
            <a:ext cx="579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Легко расстраивается, много переживает, всё слишком близко принимает к серд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Чуть что – в слёзы, плачет навзрыд или ноет, ворчит, не может успоко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Капризничает, ни с того ни с сего раздражается по пустякам, не может ждать, терп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Очень часто обижается, «дуется», не переносит никаких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5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Крайне неустойчив в настроении, вплоть до того, что может смеяться и плакать одн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T9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352680" y="457200"/>
            <a:ext cx="5257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Страх 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ую роль он играет в жизни человека? С одной стороны, он может уберечь от необдуманных,  рискованных поступков. А с другой – продолжительные и устойчивые страхи препятствуют развитию личности ребёнка, сковывают творческую энергию, способствуют формированию неуверенности и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276720" y="1066680"/>
            <a:ext cx="52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6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Всё больше грустит и печалится без видим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7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Как и в первые годы, снова сосёт соску, палец, всё вертит в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8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Долго не засыпает без света и присутствия рядом близких; беспокойно спит, часто просыпается ночью; не может сразу прийти в себя у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9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Становится повышенно возбудимым, когда нужно сдерживать себя, или заторможенным и вялым при выполнении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03640" y="530064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10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Появляются выраженные страхи, опасения, боязливость в любых новых, неизвестных или ответств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916360" y="1016640"/>
            <a:ext cx="59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1.Нарастает неуверенность  в себе, нерешительность в действиях и поступ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2.Всё быстрее устаёт, отвлекается, не может концентрировать внимание продолж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3.Всё труднее найти с ним общий язык, договориться, становится сам не свой, без конца меняет решения или уходит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4.Начинает жаловаться на головные боли вечером или боли в области живота утром; нередко бледнеет, краснеет, потеет; беспокоит зуд без видимой причины, аллергия, раздражение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5.Снижается аппетит, часто и подолгу болеет, повышается без причин температура, часто пропускает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916360" y="1506960"/>
            <a:ext cx="57592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000" spc="-1" strike="noStrike">
                <a:solidFill>
                  <a:srgbClr val="333399"/>
                </a:solidFill>
                <a:latin typeface="Verdana"/>
              </a:rPr>
              <a:t>Оценка результатов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30-20 баллов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– невроз у ребёнка несомнен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9-15 баллов 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– невроз был или будет в ближайшее вр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4-10 баллов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– есть признаки нервного расстройства, но не обяз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достигающего стадии заболе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9-5 баллов – 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есть предрасположенность к возникновению нервного расстройства, необходимо быть более внимательными к состоянию нервной системы ребёнка;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4-0 баллов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– отклонения несущественны или являются выражением возрастных, преходящих особенностей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200400" y="2287080"/>
            <a:ext cx="539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.Становлюсь всё более чувствительным, ранимым и обидч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Всё труднее контролирую  свои чувства и эмоции, хотя потом и переживаю 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Легко расстраиваюсь, раздражаюсь по пустякам, долго не могу прийти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Всё больше беспокоюсь, волнуюсь без видимых причин, не могу ждать, как обычно, нетерпелив и непоследователен в своих действиях и поступ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311640" y="1267200"/>
            <a:ext cx="58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Оценка уровня тревожности и предрасположенности к неврозу родителей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492360" y="1484280"/>
            <a:ext cx="45720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5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Начинаю видеть опасность там, где её нет, и более чем часто сомневаюсь в правильности свои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6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Всё менее жизнерадостен и активен в новых контактах, многое уже воспринимаю в мрачном свете, часто ворчу и злюсь, как потом оказывается, совсем не по тому по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7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Возникает разлад с самим собой, внутренний конфли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2895480" y="1551960"/>
            <a:ext cx="5907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333399"/>
                </a:solidFill>
                <a:latin typeface="Verdana"/>
              </a:rPr>
              <a:t>Оценка результатов</a:t>
            </a:r>
            <a:r>
              <a:rPr b="1" i="1" lang="ru-RU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0-4 балла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– благополучное состояние нервной системы; в стрессовых ситуациях возможно некоторое повышение нервоз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5-9 баллов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– наличие эмоционального стресса; вы болели неврозом или можете заболеть им в ближайшее вре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10-14 баллов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– невроз уже есть, необходимо обратиться за квалифицированной помощью к специалисту, и чем скорее вы это сделаете, тем меньше трудностей ждёт вас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e177a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752480" y="1143000"/>
            <a:ext cx="64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До новой встреч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9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76720" y="304920"/>
            <a:ext cx="556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81280" y="533520"/>
            <a:ext cx="53341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тр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боязнь ситуаций (предметов, людей, событий). Это чувство, которое характеризуется привыканием. Один раз, в детстве, испытав биологическую реакцию страха, мы будем её испытывать постоянно в похожи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екрет, что все мы –взрослые- чего-то боимся: инфляции, катастроф, кризисов, эпидемий… Мы говорим об этом дома, забывая порой, что рядом находятся дети, которые воспринимают происходящее намного серьёзнее, чем нам каж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T9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429000" y="83808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звестно, новорождённый младенец ничего не боится. Но вот он растёт, начинает познавать окружающий мир, а направляем в этом его мы, взрослые, и от того, насколько грамотны будут наши слова и поведение, зависит не только его физическое состояние, но и психическое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я о детских страхах и их проявлении, необходимо знать, что при этом считать нормой, а что патолог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-609480" y="-1143000"/>
            <a:ext cx="9982080" cy="861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752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e17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191120" y="228600"/>
            <a:ext cx="4572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иды страх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авязчи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редо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верхц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навязчи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хам относятся: гипсофобия (страх высоты), клаустрофобия (боязнь закрытых пространств), агорафобия (боязнь открытых пространств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страхи ребёнок испытывает в определённых, конкретных ситуациях, боится обстоятельств, которые могут их за собой повл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e17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419720" y="762120"/>
            <a:ext cx="4343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Бредовые страх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это страхи, причину появления которых найти просто невозможно. Бредовые страхи часто указывают на серьёзные отклонения в психике ребёнка. Детей с бредовыми страхами можно встретить в клиниках неврозов и больницах, поскольку это самая тяжёлая 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Te17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267080" y="762120"/>
            <a:ext cx="4648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хи, связанные с некоторыми идеями (как говорят, с «идеями фикс»), называют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верхценными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ервоначально они соответствуют какой-либо жизненной ситуации, а потом становятся настолько значимыми, что ни о чём другом ребёнок думать уже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рхценные страхи составляют 90% от общего количества детских стра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s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533520" y="152280"/>
            <a:ext cx="86104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сновными причинами страхов младших школьников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лишнее беспокойство и тревожность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спитание в социальной изо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фликтные взаимоотношени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лкоголизм в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перопека над ребёнком, авторитарный стиль       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пугивание наказанием  со стороны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оязнь не соответствовать ожиданиям род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а С.В.</cp:lastModifiedBy>
  <dcterms:modified xsi:type="dcterms:W3CDTF">2019-05-07T13:06:1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