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1D0-5A9F-45A5-AEB7-6A05BF47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81C-31DB-4A36-86EC-182797B9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E59-A415-41EF-B20C-2B1AF0D3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266-38F4-43B1-BD84-20A82B9F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CC8-9E63-4F9C-B793-C06CD33E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F6D-45CE-4B0D-B86B-237C1501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FEE-728D-4714-A064-634E3A5D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E1C-B50A-41F4-A71D-97727BE4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7C2-9FC4-4680-AFD5-D9F42FB9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3AA-50FD-441D-83E6-AF34E0A0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D9D-0D1F-4BC8-BC5E-A028FACD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32C-A1D5-4C37-9EFD-2B42C68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141A-E1FA-465C-AFA8-DD987C44E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Alk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 rot="20791200">
            <a:off x="457200" y="47772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90000"/>
                </a:solidFill>
                <a:latin typeface="Arial"/>
              </a:rPr>
              <a:t>Осторожно:</a:t>
            </a:r>
            <a:r>
              <a:rPr b="0" lang="ru-RU" sz="9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Arial"/>
              </a:rPr>
              <a:t>страхи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202360" y="5992920"/>
            <a:ext cx="396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ОУ «Бабкинская средняя шко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уева С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733920" y="64944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505320" y="110664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733920" y="57312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733920" y="228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OS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1219320" y="907920"/>
            <a:ext cx="5867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be0e3"/>
                </a:solidFill>
                <a:latin typeface="Arial"/>
              </a:rPr>
              <a:t>Психологическое л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. Наполнение повседневной жизни ребёнка яркими впечатлениями, включение ребёнка в интересную для него деятельность (кружки, секции, хобби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 Поощрение коллективных игр, дружбы со сверст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 Коррекция поведения взрослых, окружающих ребё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требования взрослых должны соответствовать возрасту и способностям ребё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ет угроз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ет в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ет чрезмерной оп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ет необоснованным запре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OS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295280" y="1143000"/>
            <a:ext cx="57913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контроль за соблюдением режима дня               (нормализуется психологический фон, восстанавливается психическое равновесие)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4. Исключение стрессовых ситуаций в школьной  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5. «Открытая война» со страх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6. Использование фильмов ужасов (условие – фильм должен быть точно по теме страха и с положительным конц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7. Обучение допустимым способам выражения гне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ить «грушу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метать дротики, мешочки в миш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пинать мяч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8. Использование иг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игра «Как я представляю свой страх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игра «Прогони страх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OS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143000" y="1143000"/>
            <a:ext cx="5943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игра «Петушиный бой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мыльные пузы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дувание шаро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9. Использование сказкотера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сочинить сказку (рассказ) на тему страха (обязательно элементы юмора и счастливый коне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сочинить сказку (историю), в которой страшного героя ж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использовать инсценировку (финал – победа над страхом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0. Использование тематического рис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рисование пружинок, свободная штрихов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рисовать страх, сжечь, порва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рисовать страх, посадить в клетку, закрыть на зам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рисовать страх маленьким, а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OSN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066680" y="103032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ядом большим, сильным, вооружён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- нарисовать страх, подружиться с ним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Изображение 003"/>
          <p:cNvPicPr/>
          <p:nvPr/>
        </p:nvPicPr>
        <p:blipFill>
          <a:blip r:embed="rId2"/>
          <a:stretch/>
        </p:blipFill>
        <p:spPr>
          <a:xfrm>
            <a:off x="393840" y="274680"/>
            <a:ext cx="575136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248520" y="2133720"/>
            <a:ext cx="289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арисовать страх, посадить его в клет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Изображение 009"/>
          <p:cNvPicPr/>
          <p:nvPr/>
        </p:nvPicPr>
        <p:blipFill>
          <a:blip r:embed="rId2"/>
          <a:srcRect l="-1320" t="-34938" r="0" b="0"/>
          <a:stretch/>
        </p:blipFill>
        <p:spPr>
          <a:xfrm>
            <a:off x="334800" y="-1981080"/>
            <a:ext cx="5807160" cy="8534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6477120" y="1143000"/>
            <a:ext cx="2666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арисовать страх, рядом нарисовать себя сильным, большим, вооружен-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s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Изображение"/>
          <p:cNvPicPr/>
          <p:nvPr/>
        </p:nvPicPr>
        <p:blipFill>
          <a:blip r:embed="rId2"/>
          <a:stretch/>
        </p:blipFill>
        <p:spPr>
          <a:xfrm>
            <a:off x="287280" y="380880"/>
            <a:ext cx="5753160" cy="6096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6248520" y="2209680"/>
            <a:ext cx="2895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арисовать страх и подружи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-559080"/>
            <a:ext cx="82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2987640" y="1549080"/>
            <a:ext cx="590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Оценка уровня тревожности и предрасположенности ребёнка к невро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Предлагаем ответить на вопросы теста-опросника, касающиеся особенностей поведения вашего ребёнка. Каждый пункт оценивается в 2 балла, если отмеченная в нём особенность поведения выражена и тем более возрастает в своей интенсивности в последние годы. Если указанные проявления встречаются периодически, то соответствующий пункт оценивается в 1 балл. При отсутствии названных в пункте особенностей поведения выставляется 0 б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2987640" y="1238040"/>
            <a:ext cx="5797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Легко расстраивается, много переживает, всё слишком близко принимает к серд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Чуть что – в слёзы, плачет навзрыд или ноет, ворчит, не может успоко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3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Капризничает, ни с того ни с сего раздражается по пустякам, не может ждать, терп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4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Очень часто обижается, «дуется», не переносит никаких замеч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5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Крайне неустойчив в настроении, вплоть до того, что может смеяться и плакать одн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T9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352680" y="457200"/>
            <a:ext cx="52578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Страх …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ую роль он играет в жизни человека? С одной стороны, он может уберечь от необдуманных,  рискованных поступков. А с другой – продолжительные и устойчивые страхи препятствуют развитию личности ребёнка, сковывают творческую энергию, способствуют формированию неуверенности и трев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3276720" y="1066680"/>
            <a:ext cx="5219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6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Всё больше грустит и печалится без видимой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7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Как и в первые годы, снова сосёт соску, палец, всё вертит в ру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8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Долго не засыпает без света и присутствия рядом близких; беспокойно спит, часто просыпается ночью; не может сразу прийти в себя у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9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Становится повышенно возбудимым, когда нужно сдерживать себя, или заторможенным и вялым при выполнении зад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03640" y="5300640"/>
            <a:ext cx="54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10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Появляются выраженные страхи, опасения, боязливость в любых новых, неизвестных или ответствен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916360" y="1016640"/>
            <a:ext cx="590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11.Нарастает неуверенность  в себе, нерешительность в действиях и поступ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12.Всё быстрее устаёт, отвлекается, не может концентрировать внимание продолжительн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13.Всё труднее найти с ним общий язык, договориться, становится сам не свой, без конца меняет решения или уходит в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14.Начинает жаловаться на головные боли вечером или боли в области живота утром; нередко бледнеет, краснеет, потеет; беспокоит зуд без видимой причины, аллергия, раздражение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15.Снижается аппетит, часто и подолгу болеет, повышается без причин температура, часто пропускает шк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916360" y="1506960"/>
            <a:ext cx="57592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2000" spc="-1" strike="noStrike">
                <a:solidFill>
                  <a:srgbClr val="333399"/>
                </a:solidFill>
                <a:latin typeface="Verdana"/>
              </a:rPr>
              <a:t>Оценка результатов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30-20 баллов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– невроз у ребёнка несомнен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19-15 баллов 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– невроз был или будет в ближайшее врем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14-10 баллов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– есть признаки нервного расстройства, но не обяз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достигающего стадии заболе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9-5 баллов – 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есть предрасположенность к возникновению нервного расстройства, необходимо быть более внимательными к состоянию нервной системы ребёнка;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4-0 баллов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– отклонения несущественны или являются выражением возрастных, преходящих особенностей ребё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3200400" y="2287080"/>
            <a:ext cx="539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.Становлюсь всё более чувствительным, ранимым и обидч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2.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Всё труднее контролирую  свои чувства и эмоции, хотя потом и переживаю с чувством в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3.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Легко расстраиваюсь, раздражаюсь по пустякам, долго не могу прийти в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4.</a:t>
            </a: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Всё больше беспокоюсь, волнуюсь без видимых причин, не могу ждать, как обычно, нетерпелив и непоследователен в своих действиях и поступ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311640" y="1267200"/>
            <a:ext cx="58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Оценка уровня тревожности и предрасположенности к неврозу родителей ребё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492360" y="1484280"/>
            <a:ext cx="457200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5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Начинаю видеть опасность там, где её нет, и более чем часто сомневаюсь в правильности своих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6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Всё менее жизнерадостен и активен в новых контактах, многое уже воспринимаю в мрачном свете, часто ворчу и злюсь, как потом оказывается, совсем не по тому по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7.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Возникает разлад с самим собой, внутренний конфли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T9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2895480" y="1551960"/>
            <a:ext cx="5907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333399"/>
                </a:solidFill>
                <a:latin typeface="Verdana"/>
              </a:rPr>
              <a:t>Оценка результатов</a:t>
            </a:r>
            <a:r>
              <a:rPr b="1" i="1" lang="ru-RU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0-4 балла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 – благополучное состояние нервной системы; в стрессовых ситуациях возможно некоторое повышение нервоз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5-9 баллов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 – наличие эмоционального стресса; вы болели неврозом или можете заболеть им в ближайшее врем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Verdana"/>
              </a:rPr>
              <a:t>10-14 баллов</a:t>
            </a:r>
            <a:r>
              <a:rPr b="0" lang="ru-RU" sz="2000" spc="-1" strike="noStrike">
                <a:solidFill>
                  <a:srgbClr val="333399"/>
                </a:solidFill>
                <a:latin typeface="Verdana"/>
              </a:rPr>
              <a:t> – невроз уже есть, необходимо обратиться за квалифицированной помощью к специалисту, и чем скорее вы это сделаете, тем меньше трудностей ждёт вас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Te177a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1752480" y="1143000"/>
            <a:ext cx="6400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До новой встреч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T9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276720" y="304920"/>
            <a:ext cx="5562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81280" y="533520"/>
            <a:ext cx="53341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Стр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боязнь ситуаций (предметов, людей, событий). Это чувство, которое характеризуется привыканием. Один раз, в детстве, испытав биологическую реакцию страха, мы будем её испытывать постоянно в похожих ситуац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екрет, что все мы –взрослые- чего-то боимся: инфляции, катастроф, кризисов, эпидемий… Мы говорим об этом дома, забывая порой, что рядом находятся дети, которые воспринимают происходящее намного серьёзнее, чем нам каж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T9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429000" y="838080"/>
            <a:ext cx="5486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известно, новорождённый младенец ничего не боится. Но вот он растёт, начинает познавать окружающий мир, а направляем в этом его мы, взрослые, и от того, насколько грамотны будут наши слова и поведение, зависит не только его физическое состояние, но и психическое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воря о детских страхах и их проявлении, необходимо знать, что при этом считать нормой, а что патолог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-609480" y="-1143000"/>
            <a:ext cx="9982080" cy="8610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7524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Te17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191120" y="228600"/>
            <a:ext cx="4572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иды страх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авязчив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бредов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верхц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навязчивы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хам относятся: гипсофобия (страх высоты), клаустрофобия (боязнь закрытых пространств), агорафобия (боязнь открытых пространств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страхи ребёнок испытывает в определённых, конкретных ситуациях, боится обстоятельств, которые могут их за собой повл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e17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4419720" y="762120"/>
            <a:ext cx="4343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Бредовые страх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это страхи, причину появления которых найти просто невозможно. Бредовые страхи часто указывают на серьёзные отклонения в психике ребёнка. Детей с бредовыми страхами можно встретить в клиниках неврозов и больницах, поскольку это самая тяжёлая фор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Te176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267080" y="762120"/>
            <a:ext cx="46483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хи, связанные с некоторыми идеями (как говорят, с «идеями фикс»), называют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сверхценными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ервоначально они соответствуют какой-либо жизненной ситуации, а потом становятся настолько значимыми, что ни о чём другом ребёнок думать уже не мо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рхценные страхи составляют 90% от общего количества детских страх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s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533520" y="152280"/>
            <a:ext cx="861048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Основными причинами страхов младших школьников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злишнее беспокойство и тревожность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спитание в социальной изо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онфликтные взаимоотношения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лкоголизм в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перопека над ребёнком, авторитарный стиль       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пугивание наказанием  со стороны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оязнь не соответствовать ожиданиям родите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ева С.В.</cp:lastModifiedBy>
  <dcterms:modified xsi:type="dcterms:W3CDTF">2019-05-07T13:06:1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