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648-4348-4541-B090-25CA780D6A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4B6-83C2-4293-8BDB-820BC434F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5CD-8CE8-411F-ADA4-63FF9EAB20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. Эшер «Бабочки». Поворот. Центральная симметрия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851E-2189-4656-B3D2-B8FB54985D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40B-2828-401F-95A8-43C1052AE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EAD0-406A-413C-8A61-16036A750F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F53-3B37-4EA8-8771-D8CD383A9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й угол можно повернуть эти фигуры, чтобы при повороте фигура отобразилась сама на себя? 1) 90, 180, 270 360;  2) 120, 240, 360;  3) 60, 120, 180, 2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300, 3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353-9CDD-42D4-A6DE-8AB75E60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D5B-10DF-490D-AF42-96DA610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644-F16C-4060-B3DF-A814492D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500-F39C-4B2C-862D-B0C035D6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E7A6-5B9E-48F5-9981-3C137758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3A5-AEEE-4A11-8923-67D7003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DB1C-6C2B-4151-B77F-E5C2A065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3B0-56F5-4AED-835A-3583F59C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2F9B-99C0-4D85-B967-714BC4C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8645-79E1-41D8-A626-C738C1A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D17-6FE4-4477-B85A-BE5215C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2C5-5D52-4366-BBAB-18A5395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9F0-8F8E-41CD-B681-B607A19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69D1-99C4-43CA-97A0-EB284A9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DDD-B44C-4FE6-8BFB-EB2E09C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9E2D-F551-42FE-83FA-D6EF515B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E1C6-5126-4130-8C8C-B20884A4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08E1-9134-48CB-BEE5-C77D3064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A362-4F36-44B4-AB8A-DE068704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3BB9-5810-4C13-A9FB-B05DCFBA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19D4-850F-425E-A713-C2E66CC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6C1C-9BF3-42E6-867E-E1E43E46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319-CA1B-4F80-AA21-DA18D7D8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2B04-CE54-4020-9491-3F62D6D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08D0-6165-44BE-A7D0-1146D09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F0EE-CBF8-4449-9B0F-0F0CE09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4C07-5D0D-4D97-B73D-57102D39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1484-5A76-4726-9107-B1BFBF7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7898-DD7E-4B22-8642-C823F5A9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6066-B61B-4889-A058-A766C1D8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DA5C-8666-4C77-A65E-9A87B737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8754-D9E5-4797-927C-47AC30A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5D6C-8374-4BD2-ABFB-85E2A386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C91-02A7-4BF9-B651-1CDB37CD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2EA4-6A8A-48A8-91A6-0267BD72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9043-8456-4A35-82CB-791495B4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3D82-E673-4370-A4C7-D4B1F38E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CD12-21A3-4DF6-A472-CF75B08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C66B-B13B-4D68-85BE-CF7A38F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9246-EEF7-4B66-AF4B-0274823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E42A-B514-4F56-B972-2204FD6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AB00-5158-482E-9E44-4A5E21E2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FE58-55E5-41A4-B284-E5E3A07B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04B-7487-48CD-B865-DD98CAA5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171-5533-42A1-8522-74C12F6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DD3-1867-4D93-97ED-8D076693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895-B8A3-42D9-B591-2AE6368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A41-98B1-4884-9021-092B5418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b687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3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E59D-1A60-439F-8CF7-BB0BE31C6A1C}" type="slidenum">
              <a:rPr b="0" lang="ru-RU" sz="1200" spc="-1" strike="noStrike">
                <a:solidFill>
                  <a:srgbClr val="6663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158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D2F-FF89-420B-9FC9-6E34B077E68B}" type="slidenum">
              <a:rPr b="0" lang="ru-RU" sz="1200" spc="-1" strike="noStrike">
                <a:solidFill>
                  <a:srgbClr val="8158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158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010-A9E1-4152-894A-CD0C93A5850D}" type="slidenum">
              <a:rPr b="0" lang="ru-RU" sz="1200" spc="-1" strike="noStrike">
                <a:solidFill>
                  <a:srgbClr val="8158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b687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3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C7B-2E9B-4D6A-828D-638991F3AEBA}" type="slidenum">
              <a:rPr b="0" lang="ru-RU" sz="1200" spc="-1" strike="noStrike">
                <a:solidFill>
                  <a:srgbClr val="6663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189080" y="1414440"/>
            <a:ext cx="5638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42560" y="5896080"/>
            <a:ext cx="7854840" cy="96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Белявской Александры 9Б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reeform 2"/>
          <p:cNvSpPr/>
          <p:nvPr/>
        </p:nvSpPr>
        <p:spPr>
          <a:xfrm>
            <a:off x="3505320" y="4089240"/>
            <a:ext cx="2108160" cy="1625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1328" h="1024">
                <a:moveTo>
                  <a:pt x="1328" y="784"/>
                </a:moveTo>
                <a:lnTo>
                  <a:pt x="0" y="1024"/>
                </a:lnTo>
                <a:lnTo>
                  <a:pt x="85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2997720" y="5562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-1829160" y="4572000"/>
            <a:ext cx="10693800" cy="2286000"/>
            <a:chOff x="-1829160" y="4572000"/>
            <a:chExt cx="10693800" cy="2286000"/>
          </a:xfrm>
        </p:grpSpPr>
        <p:sp>
          <p:nvSpPr>
            <p:cNvPr id="611" name="Freeform 15"/>
            <p:cNvSpPr/>
            <p:nvPr/>
          </p:nvSpPr>
          <p:spPr>
            <a:xfrm>
              <a:off x="3530520" y="457200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solidFill>
              <a:srgbClr val="93e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2" name="Freeform 16"/>
            <p:cNvSpPr/>
            <p:nvPr/>
          </p:nvSpPr>
          <p:spPr>
            <a:xfrm flipH="1" flipV="1">
              <a:off x="-1829520" y="495288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360 h 1905120"/>
                <a:gd name="textAreaBottom" fmla="*/ 190584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13" name="Group 17"/>
          <p:cNvGrpSpPr/>
          <p:nvPr/>
        </p:nvGrpSpPr>
        <p:grpSpPr>
          <a:xfrm>
            <a:off x="-1829160" y="4572000"/>
            <a:ext cx="10693800" cy="2286000"/>
            <a:chOff x="-1829160" y="4572000"/>
            <a:chExt cx="10693800" cy="2286000"/>
          </a:xfrm>
        </p:grpSpPr>
        <p:sp>
          <p:nvSpPr>
            <p:cNvPr id="614" name="Freeform 18"/>
            <p:cNvSpPr/>
            <p:nvPr/>
          </p:nvSpPr>
          <p:spPr>
            <a:xfrm>
              <a:off x="3530520" y="457200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solidFill>
              <a:srgbClr val="93e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 flipH="1" flipV="1">
              <a:off x="-1829520" y="495288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360 h 1905120"/>
                <a:gd name="textAreaBottom" fmla="*/ 190584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16" name="Oval 20"/>
          <p:cNvSpPr/>
          <p:nvPr/>
        </p:nvSpPr>
        <p:spPr>
          <a:xfrm rot="3834000">
            <a:off x="3449160" y="56563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5638680" y="30492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Центр поворота фигуры может быть во внутренней области фигуры и во внешней…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85800" y="685800"/>
            <a:ext cx="4876920" cy="3048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3072" h="1920">
                <a:moveTo>
                  <a:pt x="0" y="1872"/>
                </a:moveTo>
                <a:lnTo>
                  <a:pt x="1008" y="0"/>
                </a:lnTo>
                <a:lnTo>
                  <a:pt x="3072" y="672"/>
                </a:lnTo>
                <a:lnTo>
                  <a:pt x="1872" y="1920"/>
                </a:lnTo>
                <a:lnTo>
                  <a:pt x="0" y="1872"/>
                </a:lnTo>
                <a:close/>
              </a:path>
            </a:pathLst>
          </a:custGeom>
          <a:solidFill>
            <a:srgbClr val="ff3300">
              <a:alpha val="32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685800" y="685800"/>
            <a:ext cx="4876920" cy="3048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3072" h="1920">
                <a:moveTo>
                  <a:pt x="0" y="1872"/>
                </a:moveTo>
                <a:lnTo>
                  <a:pt x="1008" y="0"/>
                </a:lnTo>
                <a:lnTo>
                  <a:pt x="3072" y="672"/>
                </a:lnTo>
                <a:lnTo>
                  <a:pt x="1872" y="1920"/>
                </a:lnTo>
                <a:lnTo>
                  <a:pt x="0" y="1872"/>
                </a:lnTo>
                <a:close/>
              </a:path>
            </a:pathLst>
          </a:custGeom>
          <a:solidFill>
            <a:srgbClr val="6600cc">
              <a:alpha val="32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Freeform 27"/>
          <p:cNvSpPr/>
          <p:nvPr/>
        </p:nvSpPr>
        <p:spPr>
          <a:xfrm>
            <a:off x="685800" y="2184480"/>
            <a:ext cx="2476440" cy="1473120"/>
          </a:xfrm>
          <a:custGeom>
            <a:avLst/>
            <a:gdLst>
              <a:gd name="textAreaLeft" fmla="*/ 0 w 2476440"/>
              <a:gd name="textAreaRight" fmla="*/ 2476800 w 247644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1560" h="928">
                <a:moveTo>
                  <a:pt x="1560" y="0"/>
                </a:moveTo>
                <a:lnTo>
                  <a:pt x="0" y="928"/>
                </a:lnTo>
              </a:path>
            </a:pathLst>
          </a:custGeom>
          <a:noFill/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1" name="Freeform 30"/>
          <p:cNvSpPr/>
          <p:nvPr/>
        </p:nvSpPr>
        <p:spPr>
          <a:xfrm>
            <a:off x="633240" y="824040"/>
            <a:ext cx="2516400" cy="136980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1585" h="863">
                <a:moveTo>
                  <a:pt x="1585" y="86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2" name="Oval 24"/>
          <p:cNvSpPr/>
          <p:nvPr/>
        </p:nvSpPr>
        <p:spPr>
          <a:xfrm rot="3834000">
            <a:off x="3085560" y="213840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6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46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60"/>
          <p:cNvPicPr/>
          <p:nvPr/>
        </p:nvPicPr>
        <p:blipFill>
          <a:blip r:embed="rId1"/>
          <a:stretch/>
        </p:blipFill>
        <p:spPr>
          <a:xfrm>
            <a:off x="1143000" y="76320"/>
            <a:ext cx="6813720" cy="67532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15"/>
          <p:cNvGrpSpPr/>
          <p:nvPr/>
        </p:nvGrpSpPr>
        <p:grpSpPr>
          <a:xfrm>
            <a:off x="1028880" y="2471760"/>
            <a:ext cx="3619440" cy="1893600"/>
            <a:chOff x="1028880" y="2471760"/>
            <a:chExt cx="3619440" cy="1893600"/>
          </a:xfrm>
        </p:grpSpPr>
        <p:sp>
          <p:nvSpPr>
            <p:cNvPr id="625" name="Freeform 13"/>
            <p:cNvSpPr/>
            <p:nvPr/>
          </p:nvSpPr>
          <p:spPr>
            <a:xfrm>
              <a:off x="2819520" y="247176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b687a">
                <a:alpha val="54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 flipH="1" flipV="1">
              <a:off x="1028520" y="264096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27" name="Group 27"/>
          <p:cNvGrpSpPr/>
          <p:nvPr/>
        </p:nvGrpSpPr>
        <p:grpSpPr>
          <a:xfrm>
            <a:off x="3606840" y="1218960"/>
            <a:ext cx="3581280" cy="4480200"/>
            <a:chOff x="3606840" y="1218960"/>
            <a:chExt cx="3581280" cy="4480200"/>
          </a:xfrm>
        </p:grpSpPr>
        <p:sp>
          <p:nvSpPr>
            <p:cNvPr id="628" name="Freeform 17"/>
            <p:cNvSpPr/>
            <p:nvPr/>
          </p:nvSpPr>
          <p:spPr>
            <a:xfrm>
              <a:off x="5359320" y="39751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 flipH="1" flipV="1">
              <a:off x="3606840" y="121860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30" name="Line 20"/>
          <p:cNvSpPr/>
          <p:nvPr/>
        </p:nvSpPr>
        <p:spPr>
          <a:xfrm>
            <a:off x="3962520" y="2895480"/>
            <a:ext cx="2819160" cy="10670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1" name="Line 21"/>
          <p:cNvSpPr/>
          <p:nvPr/>
        </p:nvSpPr>
        <p:spPr>
          <a:xfrm flipH="1">
            <a:off x="5333760" y="1981080"/>
            <a:ext cx="75960" cy="29718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32" name="Group 28"/>
          <p:cNvGrpSpPr/>
          <p:nvPr/>
        </p:nvGrpSpPr>
        <p:grpSpPr>
          <a:xfrm>
            <a:off x="4648320" y="1219320"/>
            <a:ext cx="1460520" cy="4432320"/>
            <a:chOff x="4648320" y="1219320"/>
            <a:chExt cx="1460520" cy="4432320"/>
          </a:xfrm>
        </p:grpSpPr>
        <p:sp>
          <p:nvSpPr>
            <p:cNvPr id="633" name="Freeform 22"/>
            <p:cNvSpPr/>
            <p:nvPr/>
          </p:nvSpPr>
          <p:spPr>
            <a:xfrm>
              <a:off x="4648320" y="1219320"/>
              <a:ext cx="723960" cy="2222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280"/>
                <a:gd name="textAreaBottom" fmla="*/ 2222640 h 222228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384880" y="3429000"/>
              <a:ext cx="723960" cy="22226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35" name="Group 29"/>
          <p:cNvGrpSpPr/>
          <p:nvPr/>
        </p:nvGrpSpPr>
        <p:grpSpPr>
          <a:xfrm>
            <a:off x="3733920" y="1981080"/>
            <a:ext cx="3352680" cy="2895840"/>
            <a:chOff x="3733920" y="1981080"/>
            <a:chExt cx="3352680" cy="2895840"/>
          </a:xfrm>
        </p:grpSpPr>
        <p:sp>
          <p:nvSpPr>
            <p:cNvPr id="636" name="Line 24"/>
            <p:cNvSpPr/>
            <p:nvPr/>
          </p:nvSpPr>
          <p:spPr>
            <a:xfrm>
              <a:off x="3733920" y="1981080"/>
              <a:ext cx="167616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7" name="Line 25"/>
            <p:cNvSpPr/>
            <p:nvPr/>
          </p:nvSpPr>
          <p:spPr>
            <a:xfrm>
              <a:off x="5410080" y="3429000"/>
              <a:ext cx="167652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38" name="Oval 26"/>
          <p:cNvSpPr/>
          <p:nvPr/>
        </p:nvSpPr>
        <p:spPr>
          <a:xfrm>
            <a:off x="5334120" y="3378240"/>
            <a:ext cx="1267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-379800" y="1431720"/>
            <a:ext cx="6458400" cy="3981960"/>
            <a:chOff x="-379800" y="1431720"/>
            <a:chExt cx="6458400" cy="3981960"/>
          </a:xfrm>
        </p:grpSpPr>
        <p:sp>
          <p:nvSpPr>
            <p:cNvPr id="640" name="Freeform 31"/>
            <p:cNvSpPr/>
            <p:nvPr/>
          </p:nvSpPr>
          <p:spPr>
            <a:xfrm rot="14403600">
              <a:off x="3960720" y="33289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0000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1" name="Freeform 33"/>
            <p:cNvSpPr/>
            <p:nvPr/>
          </p:nvSpPr>
          <p:spPr>
            <a:xfrm flipH="1" flipV="1" rot="14403600">
              <a:off x="-91080" y="179208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42" name="Freeform 36"/>
          <p:cNvSpPr/>
          <p:nvPr/>
        </p:nvSpPr>
        <p:spPr>
          <a:xfrm rot="7159800">
            <a:off x="1559880" y="432720"/>
            <a:ext cx="1828800" cy="17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1152" h="1086">
                <a:moveTo>
                  <a:pt x="0" y="603"/>
                </a:moveTo>
                <a:lnTo>
                  <a:pt x="240" y="555"/>
                </a:lnTo>
                <a:lnTo>
                  <a:pt x="408" y="525"/>
                </a:lnTo>
                <a:lnTo>
                  <a:pt x="522" y="522"/>
                </a:lnTo>
                <a:lnTo>
                  <a:pt x="498" y="492"/>
                </a:lnTo>
                <a:lnTo>
                  <a:pt x="495" y="441"/>
                </a:lnTo>
                <a:lnTo>
                  <a:pt x="480" y="363"/>
                </a:lnTo>
                <a:lnTo>
                  <a:pt x="630" y="417"/>
                </a:lnTo>
                <a:lnTo>
                  <a:pt x="672" y="459"/>
                </a:lnTo>
                <a:lnTo>
                  <a:pt x="693" y="360"/>
                </a:lnTo>
                <a:lnTo>
                  <a:pt x="750" y="234"/>
                </a:lnTo>
                <a:lnTo>
                  <a:pt x="933" y="0"/>
                </a:lnTo>
                <a:lnTo>
                  <a:pt x="954" y="51"/>
                </a:lnTo>
                <a:lnTo>
                  <a:pt x="1008" y="123"/>
                </a:lnTo>
                <a:lnTo>
                  <a:pt x="1125" y="231"/>
                </a:lnTo>
                <a:lnTo>
                  <a:pt x="1002" y="330"/>
                </a:lnTo>
                <a:lnTo>
                  <a:pt x="1056" y="363"/>
                </a:lnTo>
                <a:lnTo>
                  <a:pt x="1152" y="375"/>
                </a:lnTo>
                <a:lnTo>
                  <a:pt x="1104" y="459"/>
                </a:lnTo>
                <a:lnTo>
                  <a:pt x="1086" y="540"/>
                </a:lnTo>
                <a:lnTo>
                  <a:pt x="1089" y="615"/>
                </a:lnTo>
                <a:lnTo>
                  <a:pt x="1053" y="642"/>
                </a:lnTo>
                <a:lnTo>
                  <a:pt x="969" y="669"/>
                </a:lnTo>
                <a:lnTo>
                  <a:pt x="885" y="678"/>
                </a:lnTo>
                <a:lnTo>
                  <a:pt x="906" y="762"/>
                </a:lnTo>
                <a:lnTo>
                  <a:pt x="912" y="843"/>
                </a:lnTo>
                <a:lnTo>
                  <a:pt x="804" y="810"/>
                </a:lnTo>
                <a:lnTo>
                  <a:pt x="750" y="771"/>
                </a:lnTo>
                <a:lnTo>
                  <a:pt x="729" y="864"/>
                </a:lnTo>
                <a:lnTo>
                  <a:pt x="681" y="984"/>
                </a:lnTo>
                <a:lnTo>
                  <a:pt x="651" y="1038"/>
                </a:lnTo>
                <a:lnTo>
                  <a:pt x="540" y="1056"/>
                </a:lnTo>
                <a:lnTo>
                  <a:pt x="468" y="1086"/>
                </a:lnTo>
                <a:lnTo>
                  <a:pt x="465" y="963"/>
                </a:lnTo>
                <a:lnTo>
                  <a:pt x="432" y="891"/>
                </a:lnTo>
                <a:lnTo>
                  <a:pt x="378" y="936"/>
                </a:lnTo>
                <a:lnTo>
                  <a:pt x="336" y="987"/>
                </a:lnTo>
                <a:lnTo>
                  <a:pt x="309" y="993"/>
                </a:lnTo>
                <a:lnTo>
                  <a:pt x="228" y="852"/>
                </a:lnTo>
                <a:lnTo>
                  <a:pt x="189" y="807"/>
                </a:lnTo>
                <a:lnTo>
                  <a:pt x="96" y="717"/>
                </a:lnTo>
                <a:lnTo>
                  <a:pt x="0" y="603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3" name="Oval 38"/>
          <p:cNvSpPr/>
          <p:nvPr/>
        </p:nvSpPr>
        <p:spPr>
          <a:xfrm>
            <a:off x="2755800" y="3365640"/>
            <a:ext cx="1270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7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8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8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0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1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1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375 0.01667 L 0.5625 0.01482 E">
                                      <p:cBhvr>
                                        <p:cTn id="52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поворот"/>
          <p:cNvPicPr/>
          <p:nvPr/>
        </p:nvPicPr>
        <p:blipFill>
          <a:blip r:embed="rId1"/>
          <a:stretch/>
        </p:blipFill>
        <p:spPr>
          <a:xfrm>
            <a:off x="0" y="3429000"/>
            <a:ext cx="4143240" cy="3030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6320"/>
            <a:ext cx="854892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984956"/>
                </a:solidFill>
                <a:latin typeface="Monotype Corsiva"/>
              </a:rPr>
              <a:t>ПОВОРОТ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85520" y="1214280"/>
            <a:ext cx="739116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ование, при котором каждая точка Х  фигуры  поворачивается на один и тот же угол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круг заданного центра О, называется 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  <a:ea typeface="Arial"/>
              </a:rPr>
              <a:t>вращением или поворотом плоск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4427640" y="4292640"/>
            <a:ext cx="3543120" cy="1923480"/>
          </a:xfrm>
          <a:prstGeom prst="rect">
            <a:avLst/>
          </a:prstGeom>
          <a:noFill/>
          <a:ln w="9360">
            <a:solidFill>
              <a:srgbClr val="b48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называется 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центром вращения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, угол </a:t>
            </a:r>
            <a:r>
              <a:rPr b="1" i="1" lang="ru-RU" sz="2000" spc="-1" strike="noStrike">
                <a:solidFill>
                  <a:srgbClr val="984956"/>
                </a:solidFill>
                <a:latin typeface="Monotype Corsiva"/>
              </a:rPr>
              <a:t>α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углом вращения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неподвижная прямая - 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осью вращения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 и т. д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3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449880" cy="353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поворот"/>
          <p:cNvPicPr/>
          <p:nvPr/>
        </p:nvPicPr>
        <p:blipFill>
          <a:blip r:embed="rId2"/>
          <a:stretch/>
        </p:blipFill>
        <p:spPr>
          <a:xfrm>
            <a:off x="214200" y="1000080"/>
            <a:ext cx="4253040" cy="361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984956"/>
                </a:solidFill>
                <a:latin typeface="Monotype Corsiva"/>
              </a:rPr>
              <a:t>ПОВОРОТ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" y="3428640"/>
            <a:ext cx="195408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1"/>
          <p:cNvSpPr/>
          <p:nvPr/>
        </p:nvSpPr>
        <p:spPr>
          <a:xfrm>
            <a:off x="4801320" y="4724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3" name="Group 13"/>
          <p:cNvGrpSpPr/>
          <p:nvPr/>
        </p:nvGrpSpPr>
        <p:grpSpPr>
          <a:xfrm>
            <a:off x="2275920" y="4704120"/>
            <a:ext cx="5183640" cy="184680"/>
            <a:chOff x="2275920" y="4704120"/>
            <a:chExt cx="5183640" cy="184680"/>
          </a:xfrm>
        </p:grpSpPr>
        <p:grpSp>
          <p:nvGrpSpPr>
            <p:cNvPr id="214" name="Group 14"/>
            <p:cNvGrpSpPr/>
            <p:nvPr/>
          </p:nvGrpSpPr>
          <p:grpSpPr>
            <a:xfrm>
              <a:off x="4876560" y="4704120"/>
              <a:ext cx="2583000" cy="172080"/>
              <a:chOff x="4876560" y="4704120"/>
              <a:chExt cx="2583000" cy="172080"/>
            </a:xfrm>
          </p:grpSpPr>
          <p:sp>
            <p:nvSpPr>
              <p:cNvPr id="215" name="Freeform 15"/>
              <p:cNvSpPr/>
              <p:nvPr/>
            </p:nvSpPr>
            <p:spPr>
              <a:xfrm>
                <a:off x="4876560" y="4787640"/>
                <a:ext cx="2502000" cy="12600"/>
              </a:xfrm>
              <a:custGeom>
                <a:avLst/>
                <a:gdLst>
                  <a:gd name="textAreaLeft" fmla="*/ 0 w 2502000"/>
                  <a:gd name="textAreaRight" fmla="*/ 2502360 w 250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576" h="8">
                    <a:moveTo>
                      <a:pt x="0" y="8"/>
                    </a:moveTo>
                    <a:lnTo>
                      <a:pt x="15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6" name="Oval 16"/>
              <p:cNvSpPr/>
              <p:nvPr/>
            </p:nvSpPr>
            <p:spPr>
              <a:xfrm rot="3834000">
                <a:off x="7309800" y="4728960"/>
                <a:ext cx="13176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7" name="Group 17"/>
            <p:cNvGrpSpPr/>
            <p:nvPr/>
          </p:nvGrpSpPr>
          <p:grpSpPr>
            <a:xfrm>
              <a:off x="2275920" y="4716720"/>
              <a:ext cx="2583000" cy="172080"/>
              <a:chOff x="2275920" y="4716720"/>
              <a:chExt cx="2583000" cy="172080"/>
            </a:xfrm>
          </p:grpSpPr>
          <p:sp>
            <p:nvSpPr>
              <p:cNvPr id="218" name="Freeform 18"/>
              <p:cNvSpPr/>
              <p:nvPr/>
            </p:nvSpPr>
            <p:spPr>
              <a:xfrm flipH="1" flipV="1">
                <a:off x="2356920" y="4792320"/>
                <a:ext cx="2502000" cy="12600"/>
              </a:xfrm>
              <a:custGeom>
                <a:avLst/>
                <a:gdLst>
                  <a:gd name="textAreaLeft" fmla="*/ 360 w 2502000"/>
                  <a:gd name="textAreaRight" fmla="*/ 2502720 w 25020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1576" h="8">
                    <a:moveTo>
                      <a:pt x="0" y="8"/>
                    </a:moveTo>
                    <a:lnTo>
                      <a:pt x="1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9" name="Oval 19"/>
              <p:cNvSpPr/>
              <p:nvPr/>
            </p:nvSpPr>
            <p:spPr>
              <a:xfrm flipH="1" flipV="1" rot="3834000">
                <a:off x="2293200" y="4741560"/>
                <a:ext cx="131760" cy="122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20" name="Oval 20"/>
          <p:cNvSpPr/>
          <p:nvPr/>
        </p:nvSpPr>
        <p:spPr>
          <a:xfrm rot="3834000">
            <a:off x="4795560" y="474192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Oval 21"/>
          <p:cNvSpPr/>
          <p:nvPr/>
        </p:nvSpPr>
        <p:spPr>
          <a:xfrm rot="3834000">
            <a:off x="2293560" y="4741920"/>
            <a:ext cx="131760" cy="122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2438280" y="4800600"/>
            <a:ext cx="2362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380880" y="500040"/>
            <a:ext cx="8406000" cy="1355400"/>
          </a:xfrm>
          <a:prstGeom prst="rect">
            <a:avLst/>
          </a:prstGeom>
          <a:noFill/>
          <a:ln w="9360">
            <a:solidFill>
              <a:srgbClr val="b48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Поворотом плоскости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круг точки О на угол          называется отображение плоскости на себя, при котором каждая точка М отображается в такую точку 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что ОМ = О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угол МО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       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6"/>
              <p:cNvSpPr txBox="1"/>
              <p:nvPr/>
            </p:nvSpPr>
            <p:spPr>
              <a:xfrm>
                <a:off x="6500880" y="5716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7"/>
              <p:cNvSpPr txBox="1"/>
              <p:nvPr/>
            </p:nvSpPr>
            <p:spPr>
              <a:xfrm>
                <a:off x="1428840" y="15001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 Box 38"/>
          <p:cNvSpPr/>
          <p:nvPr/>
        </p:nvSpPr>
        <p:spPr>
          <a:xfrm>
            <a:off x="2138040" y="479916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3663720" y="2178000"/>
            <a:ext cx="66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28" name="Group 42"/>
          <p:cNvGrpSpPr/>
          <p:nvPr/>
        </p:nvGrpSpPr>
        <p:grpSpPr>
          <a:xfrm>
            <a:off x="3898800" y="4235400"/>
            <a:ext cx="660240" cy="558720"/>
            <a:chOff x="3898800" y="4235400"/>
            <a:chExt cx="660240" cy="558720"/>
          </a:xfrm>
        </p:grpSpPr>
        <p:sp>
          <p:nvSpPr>
            <p:cNvPr id="229" name="Freeform 40"/>
            <p:cNvSpPr/>
            <p:nvPr/>
          </p:nvSpPr>
          <p:spPr>
            <a:xfrm>
              <a:off x="4254120" y="4286160"/>
              <a:ext cx="304920" cy="5079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92" h="320">
                  <a:moveTo>
                    <a:pt x="0" y="320"/>
                  </a:moveTo>
                  <a:cubicBezTo>
                    <a:pt x="4" y="252"/>
                    <a:pt x="16" y="181"/>
                    <a:pt x="48" y="128"/>
                  </a:cubicBezTo>
                  <a:cubicBezTo>
                    <a:pt x="80" y="75"/>
                    <a:pt x="162" y="27"/>
                    <a:pt x="192" y="0"/>
                  </a:cubicBezTo>
                </a:path>
              </a:pathLst>
            </a:custGeom>
            <a:noFill/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3898800" y="4235400"/>
                  <a:ext cx="380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5"/>
          <p:cNvGrpSpPr/>
          <p:nvPr/>
        </p:nvGrpSpPr>
        <p:grpSpPr>
          <a:xfrm>
            <a:off x="3517920" y="3321000"/>
            <a:ext cx="609120" cy="1600200"/>
            <a:chOff x="3517920" y="3321000"/>
            <a:chExt cx="609120" cy="1600200"/>
          </a:xfrm>
        </p:grpSpPr>
        <p:sp>
          <p:nvSpPr>
            <p:cNvPr id="232" name="Line 43"/>
            <p:cNvSpPr/>
            <p:nvPr/>
          </p:nvSpPr>
          <p:spPr>
            <a:xfrm>
              <a:off x="3517920" y="4692600"/>
              <a:ext cx="75960" cy="228600"/>
            </a:xfrm>
            <a:prstGeom prst="line">
              <a:avLst/>
            </a:prstGeom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3" name="Line 44"/>
            <p:cNvSpPr/>
            <p:nvPr/>
          </p:nvSpPr>
          <p:spPr>
            <a:xfrm flipH="1">
              <a:off x="3898800" y="3321000"/>
              <a:ext cx="228240" cy="228600"/>
            </a:xfrm>
            <a:prstGeom prst="line">
              <a:avLst/>
            </a:prstGeom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6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13"/>
          <p:cNvSpPr/>
          <p:nvPr/>
        </p:nvSpPr>
        <p:spPr>
          <a:xfrm>
            <a:off x="3987720" y="5054760"/>
            <a:ext cx="4889520" cy="1260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80" h="8">
                <a:moveTo>
                  <a:pt x="0" y="8"/>
                </a:moveTo>
                <a:lnTo>
                  <a:pt x="30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879120" y="2211480"/>
            <a:ext cx="5994360" cy="2960640"/>
            <a:chOff x="879120" y="2211480"/>
            <a:chExt cx="5994360" cy="2960640"/>
          </a:xfrm>
        </p:grpSpPr>
        <p:sp>
          <p:nvSpPr>
            <p:cNvPr id="236" name="Freeform 3"/>
            <p:cNvSpPr/>
            <p:nvPr/>
          </p:nvSpPr>
          <p:spPr>
            <a:xfrm>
              <a:off x="1055520" y="505944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7" name="Oval 4"/>
            <p:cNvSpPr/>
            <p:nvPr/>
          </p:nvSpPr>
          <p:spPr>
            <a:xfrm>
              <a:off x="3951000" y="494820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8" name="Text Box 5"/>
            <p:cNvSpPr/>
            <p:nvPr/>
          </p:nvSpPr>
          <p:spPr>
            <a:xfrm>
              <a:off x="6443280" y="4356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6230520" y="395820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5604840" y="2918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5223960" y="2657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4787280" y="2408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4257360" y="22341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4" name="Text Box 11"/>
            <p:cNvSpPr/>
            <p:nvPr/>
          </p:nvSpPr>
          <p:spPr>
            <a:xfrm>
              <a:off x="3809880" y="254916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5" name="Text Box 12"/>
            <p:cNvSpPr/>
            <p:nvPr/>
          </p:nvSpPr>
          <p:spPr>
            <a:xfrm>
              <a:off x="3301200" y="2234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2801880" y="23547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2435400" y="2531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8" name="Text Box 15"/>
            <p:cNvSpPr/>
            <p:nvPr/>
          </p:nvSpPr>
          <p:spPr>
            <a:xfrm>
              <a:off x="2045520" y="2842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9" name="Text Box 16"/>
            <p:cNvSpPr/>
            <p:nvPr/>
          </p:nvSpPr>
          <p:spPr>
            <a:xfrm>
              <a:off x="1724760" y="3088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1463760" y="3462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1" name="Text Box 18"/>
            <p:cNvSpPr/>
            <p:nvPr/>
          </p:nvSpPr>
          <p:spPr>
            <a:xfrm>
              <a:off x="1250640" y="379296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2" name="Text Box 19"/>
            <p:cNvSpPr/>
            <p:nvPr/>
          </p:nvSpPr>
          <p:spPr>
            <a:xfrm>
              <a:off x="1055520" y="431856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3" name="Text Box 20"/>
            <p:cNvSpPr/>
            <p:nvPr/>
          </p:nvSpPr>
          <p:spPr>
            <a:xfrm>
              <a:off x="879120" y="478224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5915880" y="4767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5" name="Text Box 22"/>
            <p:cNvSpPr/>
            <p:nvPr/>
          </p:nvSpPr>
          <p:spPr>
            <a:xfrm>
              <a:off x="5842800" y="4442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6" name="Text Box 23"/>
            <p:cNvSpPr/>
            <p:nvPr/>
          </p:nvSpPr>
          <p:spPr>
            <a:xfrm>
              <a:off x="5717520" y="4137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7" name="Text Box 24"/>
            <p:cNvSpPr/>
            <p:nvPr/>
          </p:nvSpPr>
          <p:spPr>
            <a:xfrm>
              <a:off x="5574600" y="392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5411160" y="3650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5142600" y="33627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4853880" y="3147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1" name="Text Box 28"/>
            <p:cNvSpPr/>
            <p:nvPr/>
          </p:nvSpPr>
          <p:spPr>
            <a:xfrm>
              <a:off x="4474440" y="2985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2" name="Text Box 29"/>
            <p:cNvSpPr/>
            <p:nvPr/>
          </p:nvSpPr>
          <p:spPr>
            <a:xfrm>
              <a:off x="4115520" y="2858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3" name="Text Box 30"/>
            <p:cNvSpPr/>
            <p:nvPr/>
          </p:nvSpPr>
          <p:spPr>
            <a:xfrm>
              <a:off x="3490560" y="2902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4" name="Text Box 31"/>
            <p:cNvSpPr/>
            <p:nvPr/>
          </p:nvSpPr>
          <p:spPr>
            <a:xfrm>
              <a:off x="1713960" y="4802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5" name="Text Box 32"/>
            <p:cNvSpPr/>
            <p:nvPr/>
          </p:nvSpPr>
          <p:spPr>
            <a:xfrm>
              <a:off x="1690200" y="44931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6" name="Text Box 33"/>
            <p:cNvSpPr/>
            <p:nvPr/>
          </p:nvSpPr>
          <p:spPr>
            <a:xfrm>
              <a:off x="1836360" y="4155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7" name="Text Box 34"/>
            <p:cNvSpPr/>
            <p:nvPr/>
          </p:nvSpPr>
          <p:spPr>
            <a:xfrm>
              <a:off x="1991880" y="38660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8" name="Text Box 35"/>
            <p:cNvSpPr/>
            <p:nvPr/>
          </p:nvSpPr>
          <p:spPr>
            <a:xfrm>
              <a:off x="2266560" y="3578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9" name="Text Box 36"/>
            <p:cNvSpPr/>
            <p:nvPr/>
          </p:nvSpPr>
          <p:spPr>
            <a:xfrm>
              <a:off x="2482200" y="3362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2769840" y="3147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3130200" y="3013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6538680" y="4756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5881320" y="3265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4" name="Text Box 41"/>
            <p:cNvSpPr/>
            <p:nvPr/>
          </p:nvSpPr>
          <p:spPr>
            <a:xfrm>
              <a:off x="6120720" y="36154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1071360" y="221148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1944360" y="314820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5978160" y="505620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4003560" y="298296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4003560" y="221148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6600600" y="426240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6456240" y="385308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46720" y="34956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6662520" y="472284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6136920" y="330984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6379920" y="369576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6555960" y="408312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6679800" y="449100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5994000" y="314820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5860800" y="300348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5665680" y="285912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5484600" y="270036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5256000" y="257652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5027400" y="241956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4765320" y="234324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4498560" y="225288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4227120" y="221472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3279600" y="230508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3027240" y="238608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3794040" y="224316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3541320" y="227196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2784240" y="249876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2589120" y="257652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2352240" y="271476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2131920" y="290052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989000" y="304344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836360" y="318132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703160" y="336384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536480" y="356256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415880" y="379584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288800" y="401004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1250640" y="424836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1164960" y="447192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1117440" y="472932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4" name="Text Box 87"/>
          <p:cNvSpPr/>
          <p:nvPr/>
        </p:nvSpPr>
        <p:spPr>
          <a:xfrm>
            <a:off x="701640" y="387360"/>
            <a:ext cx="33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956"/>
                </a:solidFill>
                <a:latin typeface="Monotype Corsiva"/>
              </a:rPr>
              <a:t>Угол поворота 60</a:t>
            </a:r>
            <a:r>
              <a:rPr b="1" lang="ru-RU" sz="2800" spc="-1" strike="noStrike" baseline="30000">
                <a:solidFill>
                  <a:srgbClr val="984956"/>
                </a:solidFill>
                <a:latin typeface="Monotype Corsi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15" name="Group 89"/>
          <p:cNvGrpSpPr/>
          <p:nvPr/>
        </p:nvGrpSpPr>
        <p:grpSpPr>
          <a:xfrm>
            <a:off x="3780000" y="2558880"/>
            <a:ext cx="3240000" cy="2594160"/>
            <a:chOff x="3780000" y="2558880"/>
            <a:chExt cx="3240000" cy="2594160"/>
          </a:xfrm>
        </p:grpSpPr>
        <p:sp>
          <p:nvSpPr>
            <p:cNvPr id="316" name="Arc 90"/>
            <p:cNvSpPr/>
            <p:nvPr/>
          </p:nvSpPr>
          <p:spPr>
            <a:xfrm>
              <a:off x="3780000" y="2558880"/>
              <a:ext cx="3240000" cy="259092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fill="none" w="21585" h="17659">
                  <a:moveTo>
                    <a:pt x="12438" y="0"/>
                  </a:moveTo>
                  <a:cubicBezTo>
                    <a:pt x="17951" y="3883"/>
                    <a:pt x="21334" y="10117"/>
                    <a:pt x="21585" y="16854"/>
                  </a:cubicBezTo>
                </a:path>
                <a:path stroke="0" w="21585" h="17659">
                  <a:moveTo>
                    <a:pt x="12438" y="0"/>
                  </a:moveTo>
                  <a:cubicBezTo>
                    <a:pt x="17951" y="3883"/>
                    <a:pt x="21334" y="10117"/>
                    <a:pt x="21585" y="16854"/>
                  </a:cubicBezTo>
                  <a:lnTo>
                    <a:pt x="0" y="17659"/>
                  </a:lnTo>
                  <a:lnTo>
                    <a:pt x="124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7" name="Oval 91"/>
            <p:cNvSpPr/>
            <p:nvPr/>
          </p:nvSpPr>
          <p:spPr>
            <a:xfrm>
              <a:off x="6443640" y="464832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8" name="Freeform 109"/>
          <p:cNvSpPr/>
          <p:nvPr/>
        </p:nvSpPr>
        <p:spPr>
          <a:xfrm>
            <a:off x="3949560" y="723960"/>
            <a:ext cx="2908440" cy="435600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4356000"/>
              <a:gd name="textAreaBottom" fmla="*/ 4356360 h 4356000"/>
            </a:gdLst>
            <a:ahLst/>
            <a:rect l="textAreaLeft" t="textAreaTop" r="textAreaRight" b="textAreaBottom"/>
            <a:pathLst>
              <a:path w="1832" h="2744">
                <a:moveTo>
                  <a:pt x="0" y="2744"/>
                </a:moveTo>
                <a:lnTo>
                  <a:pt x="18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Oval 111"/>
          <p:cNvSpPr/>
          <p:nvPr/>
        </p:nvSpPr>
        <p:spPr>
          <a:xfrm rot="3834000">
            <a:off x="3893760" y="502128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114"/>
          <p:cNvSpPr/>
          <p:nvPr/>
        </p:nvSpPr>
        <p:spPr>
          <a:xfrm>
            <a:off x="5935320" y="510552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Text Box 116"/>
          <p:cNvSpPr/>
          <p:nvPr/>
        </p:nvSpPr>
        <p:spPr>
          <a:xfrm>
            <a:off x="3744720" y="51055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Arc 117"/>
          <p:cNvSpPr/>
          <p:nvPr/>
        </p:nvSpPr>
        <p:spPr>
          <a:xfrm rot="19851000">
            <a:off x="4008240" y="3296880"/>
            <a:ext cx="1454040" cy="90648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fill="none" w="20607" h="12869">
                <a:moveTo>
                  <a:pt x="17347" y="0"/>
                </a:moveTo>
                <a:cubicBezTo>
                  <a:pt x="18783" y="1935"/>
                  <a:pt x="19885" y="4097"/>
                  <a:pt x="20607" y="6396"/>
                </a:cubicBezTo>
              </a:path>
              <a:path stroke="0" w="20607" h="12869">
                <a:moveTo>
                  <a:pt x="17347" y="0"/>
                </a:moveTo>
                <a:cubicBezTo>
                  <a:pt x="18783" y="1935"/>
                  <a:pt x="19885" y="4097"/>
                  <a:pt x="20607" y="6396"/>
                </a:cubicBezTo>
                <a:lnTo>
                  <a:pt x="0" y="12869"/>
                </a:lnTo>
                <a:lnTo>
                  <a:pt x="1734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Oval 118"/>
          <p:cNvSpPr/>
          <p:nvPr/>
        </p:nvSpPr>
        <p:spPr>
          <a:xfrm flipH="1" flipV="1" rot="14634000">
            <a:off x="6090840" y="49957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24" name="Group 119"/>
          <p:cNvGrpSpPr/>
          <p:nvPr/>
        </p:nvGrpSpPr>
        <p:grpSpPr>
          <a:xfrm>
            <a:off x="1785960" y="2040480"/>
            <a:ext cx="4358880" cy="6053400"/>
            <a:chOff x="1785960" y="2040480"/>
            <a:chExt cx="4358880" cy="6053400"/>
          </a:xfrm>
        </p:grpSpPr>
        <p:grpSp>
          <p:nvGrpSpPr>
            <p:cNvPr id="325" name="Group 120"/>
            <p:cNvGrpSpPr/>
            <p:nvPr/>
          </p:nvGrpSpPr>
          <p:grpSpPr>
            <a:xfrm>
              <a:off x="3979080" y="2040480"/>
              <a:ext cx="2165760" cy="3138120"/>
              <a:chOff x="3979080" y="2040480"/>
              <a:chExt cx="2165760" cy="3138120"/>
            </a:xfrm>
          </p:grpSpPr>
          <p:grpSp>
            <p:nvGrpSpPr>
              <p:cNvPr id="326" name="Group 121"/>
              <p:cNvGrpSpPr/>
              <p:nvPr/>
            </p:nvGrpSpPr>
            <p:grpSpPr>
              <a:xfrm>
                <a:off x="4710240" y="2040480"/>
                <a:ext cx="1434600" cy="3059280"/>
                <a:chOff x="4710240" y="2040480"/>
                <a:chExt cx="1434600" cy="3059280"/>
              </a:xfrm>
            </p:grpSpPr>
            <p:sp>
              <p:nvSpPr>
                <p:cNvPr id="327" name="Freeform 122"/>
                <p:cNvSpPr/>
                <p:nvPr/>
              </p:nvSpPr>
              <p:spPr>
                <a:xfrm rot="21528600">
                  <a:off x="4741560" y="2054160"/>
                  <a:ext cx="1352160" cy="3030480"/>
                </a:xfrm>
                <a:custGeom>
                  <a:avLst/>
                  <a:gdLst>
                    <a:gd name="textAreaLeft" fmla="*/ 0 w 1352160"/>
                    <a:gd name="textAreaRight" fmla="*/ 1352520 w 1352160"/>
                    <a:gd name="textAreaTop" fmla="*/ 0 h 3030480"/>
                    <a:gd name="textAreaBottom" fmla="*/ 3030840 h 3030480"/>
                  </a:gdLst>
                  <a:ahLst/>
                  <a:rect l="textAreaLeft" t="textAreaTop" r="textAreaRight" b="textAreaBottom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b48e9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8" name="Freeform 123"/>
                <p:cNvSpPr/>
                <p:nvPr/>
              </p:nvSpPr>
              <p:spPr>
                <a:xfrm rot="21528600">
                  <a:off x="5797440" y="4507200"/>
                  <a:ext cx="341280" cy="58860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9" name="Freeform 124"/>
                <p:cNvSpPr/>
                <p:nvPr/>
              </p:nvSpPr>
              <p:spPr>
                <a:xfrm rot="21528600">
                  <a:off x="6004440" y="4856400"/>
                  <a:ext cx="129960" cy="2232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0" name="Freeform 125"/>
                <p:cNvSpPr/>
                <p:nvPr/>
              </p:nvSpPr>
              <p:spPr>
                <a:xfrm rot="21528600">
                  <a:off x="4839840" y="2069640"/>
                  <a:ext cx="1180800" cy="253188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331" name="Group 126"/>
              <p:cNvGrpSpPr/>
              <p:nvPr/>
            </p:nvGrpSpPr>
            <p:grpSpPr>
              <a:xfrm>
                <a:off x="3979080" y="2269440"/>
                <a:ext cx="1343520" cy="2909160"/>
                <a:chOff x="3979080" y="2269440"/>
                <a:chExt cx="1343520" cy="2909160"/>
              </a:xfrm>
            </p:grpSpPr>
            <p:sp>
              <p:nvSpPr>
                <p:cNvPr id="332" name="Freeform 127"/>
                <p:cNvSpPr/>
                <p:nvPr/>
              </p:nvSpPr>
              <p:spPr>
                <a:xfrm rot="889200">
                  <a:off x="4340520" y="2299320"/>
                  <a:ext cx="380880" cy="2878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878200"/>
                    <a:gd name="textAreaBottom" fmla="*/ 287856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75d7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3" name="Oval 128"/>
                <p:cNvSpPr/>
                <p:nvPr/>
              </p:nvSpPr>
              <p:spPr>
                <a:xfrm rot="889200">
                  <a:off x="4820040" y="2320560"/>
                  <a:ext cx="456120" cy="421200"/>
                </a:xfrm>
                <a:prstGeom prst="ellipse">
                  <a:avLst/>
                </a:prstGeom>
                <a:solidFill>
                  <a:srgbClr val="875d7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334" name="Group 129"/>
            <p:cNvGrpSpPr/>
            <p:nvPr/>
          </p:nvGrpSpPr>
          <p:grpSpPr>
            <a:xfrm>
              <a:off x="1785960" y="4956120"/>
              <a:ext cx="2166840" cy="3137760"/>
              <a:chOff x="1785960" y="4956120"/>
              <a:chExt cx="2166840" cy="3137760"/>
            </a:xfrm>
          </p:grpSpPr>
          <p:grpSp>
            <p:nvGrpSpPr>
              <p:cNvPr id="335" name="Group 130"/>
              <p:cNvGrpSpPr/>
              <p:nvPr/>
            </p:nvGrpSpPr>
            <p:grpSpPr>
              <a:xfrm>
                <a:off x="1785960" y="5034600"/>
                <a:ext cx="1434600" cy="3059280"/>
                <a:chOff x="1785960" y="5034600"/>
                <a:chExt cx="1434600" cy="3059280"/>
              </a:xfrm>
            </p:grpSpPr>
            <p:sp>
              <p:nvSpPr>
                <p:cNvPr id="336" name="Freeform 131"/>
                <p:cNvSpPr/>
                <p:nvPr/>
              </p:nvSpPr>
              <p:spPr>
                <a:xfrm flipH="1" flipV="1" rot="21528600">
                  <a:off x="1836000" y="5049000"/>
                  <a:ext cx="1352160" cy="3030480"/>
                </a:xfrm>
                <a:custGeom>
                  <a:avLst/>
                  <a:gdLst>
                    <a:gd name="textAreaLeft" fmla="*/ 360 w 1352160"/>
                    <a:gd name="textAreaRight" fmla="*/ 1352880 w 1352160"/>
                    <a:gd name="textAreaTop" fmla="*/ 360 h 3030480"/>
                    <a:gd name="textAreaBottom" fmla="*/ 3031200 h 3030480"/>
                  </a:gdLst>
                  <a:ahLst/>
                  <a:rect l="textAreaLeft" t="textAreaTop" r="textAreaRight" b="textAreaBottom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7" name="Freeform 132"/>
                <p:cNvSpPr/>
                <p:nvPr/>
              </p:nvSpPr>
              <p:spPr>
                <a:xfrm flipH="1" flipV="1" rot="21528600">
                  <a:off x="1792080" y="5037480"/>
                  <a:ext cx="341280" cy="588600"/>
                </a:xfrm>
                <a:custGeom>
                  <a:avLst/>
                  <a:gdLst>
                    <a:gd name="textAreaLeft" fmla="*/ 360 w 341280"/>
                    <a:gd name="textAreaRight" fmla="*/ 342000 w 341280"/>
                    <a:gd name="textAreaTop" fmla="*/ -360 h 588600"/>
                    <a:gd name="textAreaBottom" fmla="*/ 588600 h 588600"/>
                  </a:gdLst>
                  <a:ahLst/>
                  <a:rect l="textAreaLeft" t="textAreaTop" r="textAreaRight" b="textAreaBottom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8" name="Freeform 133"/>
                <p:cNvSpPr/>
                <p:nvPr/>
              </p:nvSpPr>
              <p:spPr>
                <a:xfrm flipH="1" flipV="1" rot="21528600">
                  <a:off x="1795320" y="5054400"/>
                  <a:ext cx="129960" cy="223200"/>
                </a:xfrm>
                <a:custGeom>
                  <a:avLst/>
                  <a:gdLst>
                    <a:gd name="textAreaLeft" fmla="*/ -360 w 129960"/>
                    <a:gd name="textAreaRight" fmla="*/ 129960 w 129960"/>
                    <a:gd name="textAreaTop" fmla="*/ 360 h 223200"/>
                    <a:gd name="textAreaBottom" fmla="*/ 223920 h 223200"/>
                  </a:gdLst>
                  <a:ahLst/>
                  <a:rect l="textAreaLeft" t="textAreaTop" r="textAreaRight" b="textAreaBottom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9" name="Freeform 134"/>
                <p:cNvSpPr/>
                <p:nvPr/>
              </p:nvSpPr>
              <p:spPr>
                <a:xfrm flipH="1" flipV="1" rot="21528600">
                  <a:off x="1909440" y="5531040"/>
                  <a:ext cx="1180800" cy="2532600"/>
                </a:xfrm>
                <a:custGeom>
                  <a:avLst/>
                  <a:gdLst>
                    <a:gd name="textAreaLeft" fmla="*/ 360 w 1180800"/>
                    <a:gd name="textAreaRight" fmla="*/ 1181520 w 1180800"/>
                    <a:gd name="textAreaTop" fmla="*/ 0 h 2532600"/>
                    <a:gd name="textAreaBottom" fmla="*/ 2532600 h 25326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340" name="Group 135"/>
              <p:cNvGrpSpPr/>
              <p:nvPr/>
            </p:nvGrpSpPr>
            <p:grpSpPr>
              <a:xfrm>
                <a:off x="2608200" y="4956120"/>
                <a:ext cx="1344600" cy="2908800"/>
                <a:chOff x="2608200" y="4956120"/>
                <a:chExt cx="1344600" cy="2908800"/>
              </a:xfrm>
            </p:grpSpPr>
            <p:sp>
              <p:nvSpPr>
                <p:cNvPr id="341" name="Freeform 136"/>
                <p:cNvSpPr/>
                <p:nvPr/>
              </p:nvSpPr>
              <p:spPr>
                <a:xfrm flipH="1" flipV="1" rot="889200">
                  <a:off x="3209040" y="4956480"/>
                  <a:ext cx="380880" cy="2878200"/>
                </a:xfrm>
                <a:custGeom>
                  <a:avLst/>
                  <a:gdLst>
                    <a:gd name="textAreaLeft" fmla="*/ 360 w 380880"/>
                    <a:gd name="textAreaRight" fmla="*/ 381600 w 380880"/>
                    <a:gd name="textAreaTop" fmla="*/ -360 h 2878200"/>
                    <a:gd name="textAreaBottom" fmla="*/ 287820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42" name="Oval 137"/>
                <p:cNvSpPr/>
                <p:nvPr/>
              </p:nvSpPr>
              <p:spPr>
                <a:xfrm flipH="1" flipV="1" rot="889200">
                  <a:off x="2654280" y="739188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343" name="Oval 110"/>
          <p:cNvSpPr/>
          <p:nvPr/>
        </p:nvSpPr>
        <p:spPr>
          <a:xfrm flipH="1" flipV="1" rot="14634000">
            <a:off x="5112360" y="31669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Text Box 138"/>
          <p:cNvSpPr/>
          <p:nvPr/>
        </p:nvSpPr>
        <p:spPr>
          <a:xfrm>
            <a:off x="4794120" y="2438280"/>
            <a:ext cx="66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45" name="Group 141"/>
          <p:cNvGrpSpPr/>
          <p:nvPr/>
        </p:nvGrpSpPr>
        <p:grpSpPr>
          <a:xfrm>
            <a:off x="4648320" y="3809880"/>
            <a:ext cx="534960" cy="1371600"/>
            <a:chOff x="4648320" y="3809880"/>
            <a:chExt cx="534960" cy="1371600"/>
          </a:xfrm>
        </p:grpSpPr>
        <p:sp>
          <p:nvSpPr>
            <p:cNvPr id="346" name="Line 139"/>
            <p:cNvSpPr/>
            <p:nvPr/>
          </p:nvSpPr>
          <p:spPr>
            <a:xfrm>
              <a:off x="4648320" y="3809880"/>
              <a:ext cx="152280" cy="152640"/>
            </a:xfrm>
            <a:prstGeom prst="line">
              <a:avLst/>
            </a:prstGeom>
            <a:ln w="2844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7" name="Line 140"/>
            <p:cNvSpPr/>
            <p:nvPr/>
          </p:nvSpPr>
          <p:spPr>
            <a:xfrm>
              <a:off x="5181480" y="4952880"/>
              <a:ext cx="1800" cy="228600"/>
            </a:xfrm>
            <a:prstGeom prst="line">
              <a:avLst/>
            </a:prstGeom>
            <a:ln w="2844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6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16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2720160" y="2189520"/>
            <a:ext cx="2156400" cy="2229840"/>
            <a:chOff x="2720160" y="2189520"/>
            <a:chExt cx="2156400" cy="2229840"/>
          </a:xfrm>
        </p:grpSpPr>
        <p:sp>
          <p:nvSpPr>
            <p:cNvPr id="349" name="Line 3"/>
            <p:cNvSpPr/>
            <p:nvPr/>
          </p:nvSpPr>
          <p:spPr>
            <a:xfrm>
              <a:off x="2819160" y="3962160"/>
              <a:ext cx="20574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50" name="Group 4"/>
            <p:cNvGrpSpPr/>
            <p:nvPr/>
          </p:nvGrpSpPr>
          <p:grpSpPr>
            <a:xfrm>
              <a:off x="2720160" y="2189520"/>
              <a:ext cx="421920" cy="1848600"/>
              <a:chOff x="2720160" y="2189520"/>
              <a:chExt cx="421920" cy="1848600"/>
            </a:xfrm>
          </p:grpSpPr>
          <p:sp>
            <p:nvSpPr>
              <p:cNvPr id="351" name="Line 5"/>
              <p:cNvSpPr/>
              <p:nvPr/>
            </p:nvSpPr>
            <p:spPr>
              <a:xfrm flipV="1">
                <a:off x="2819160" y="2286000"/>
                <a:ext cx="228600" cy="1676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Oval 6"/>
              <p:cNvSpPr/>
              <p:nvPr/>
            </p:nvSpPr>
            <p:spPr>
              <a:xfrm rot="3834000">
                <a:off x="2737800" y="3890880"/>
                <a:ext cx="131760" cy="122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Oval 7"/>
              <p:cNvSpPr/>
              <p:nvPr/>
            </p:nvSpPr>
            <p:spPr>
              <a:xfrm rot="3834000">
                <a:off x="2991960" y="2214360"/>
                <a:ext cx="131760" cy="1224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354" name="Group 8"/>
          <p:cNvGrpSpPr/>
          <p:nvPr/>
        </p:nvGrpSpPr>
        <p:grpSpPr>
          <a:xfrm>
            <a:off x="2720160" y="2189520"/>
            <a:ext cx="4300200" cy="4459680"/>
            <a:chOff x="2720160" y="2189520"/>
            <a:chExt cx="4300200" cy="4459680"/>
          </a:xfrm>
        </p:grpSpPr>
        <p:grpSp>
          <p:nvGrpSpPr>
            <p:cNvPr id="355" name="Group 9"/>
            <p:cNvGrpSpPr/>
            <p:nvPr/>
          </p:nvGrpSpPr>
          <p:grpSpPr>
            <a:xfrm>
              <a:off x="2720160" y="2189520"/>
              <a:ext cx="2156400" cy="2229840"/>
              <a:chOff x="2720160" y="2189520"/>
              <a:chExt cx="2156400" cy="2229840"/>
            </a:xfrm>
          </p:grpSpPr>
          <p:sp>
            <p:nvSpPr>
              <p:cNvPr id="356" name="Line 10"/>
              <p:cNvSpPr/>
              <p:nvPr/>
            </p:nvSpPr>
            <p:spPr>
              <a:xfrm>
                <a:off x="2819160" y="3962160"/>
                <a:ext cx="2057400" cy="45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357" name="Group 11"/>
              <p:cNvGrpSpPr/>
              <p:nvPr/>
            </p:nvGrpSpPr>
            <p:grpSpPr>
              <a:xfrm>
                <a:off x="2720160" y="2189520"/>
                <a:ext cx="421920" cy="1848600"/>
                <a:chOff x="2720160" y="2189520"/>
                <a:chExt cx="421920" cy="1848600"/>
              </a:xfrm>
            </p:grpSpPr>
            <p:sp>
              <p:nvSpPr>
                <p:cNvPr id="358" name="Line 12"/>
                <p:cNvSpPr/>
                <p:nvPr/>
              </p:nvSpPr>
              <p:spPr>
                <a:xfrm flipV="1">
                  <a:off x="2819160" y="2286000"/>
                  <a:ext cx="228600" cy="1676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 rot="3834000">
                  <a:off x="2737800" y="3890880"/>
                  <a:ext cx="131760" cy="1220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6b68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 rot="3834000">
                  <a:off x="2991960" y="2214360"/>
                  <a:ext cx="131760" cy="1224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6b68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361" name="Group 15"/>
            <p:cNvGrpSpPr/>
            <p:nvPr/>
          </p:nvGrpSpPr>
          <p:grpSpPr>
            <a:xfrm>
              <a:off x="4863960" y="4419360"/>
              <a:ext cx="2156400" cy="2229840"/>
              <a:chOff x="4863960" y="4419360"/>
              <a:chExt cx="2156400" cy="2229840"/>
            </a:xfrm>
          </p:grpSpPr>
          <p:sp>
            <p:nvSpPr>
              <p:cNvPr id="362" name="Line 16"/>
              <p:cNvSpPr/>
              <p:nvPr/>
            </p:nvSpPr>
            <p:spPr>
              <a:xfrm flipH="1" flipV="1">
                <a:off x="4863960" y="4419360"/>
                <a:ext cx="2057400" cy="45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363" name="Group 17"/>
              <p:cNvGrpSpPr/>
              <p:nvPr/>
            </p:nvGrpSpPr>
            <p:grpSpPr>
              <a:xfrm>
                <a:off x="6598440" y="4800600"/>
                <a:ext cx="421920" cy="1848600"/>
                <a:chOff x="6598440" y="4800600"/>
                <a:chExt cx="421920" cy="1848600"/>
              </a:xfrm>
            </p:grpSpPr>
            <p:sp>
              <p:nvSpPr>
                <p:cNvPr id="364" name="Line 18"/>
                <p:cNvSpPr/>
                <p:nvPr/>
              </p:nvSpPr>
              <p:spPr>
                <a:xfrm flipH="1">
                  <a:off x="6692760" y="4876560"/>
                  <a:ext cx="228600" cy="167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 flipH="1" flipV="1" rot="3834000">
                  <a:off x="6870240" y="4825440"/>
                  <a:ext cx="131760" cy="122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 flipH="1" flipV="1" rot="3834000">
                  <a:off x="6615720" y="6501960"/>
                  <a:ext cx="131760" cy="122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367" name="Line 21"/>
          <p:cNvSpPr/>
          <p:nvPr/>
        </p:nvSpPr>
        <p:spPr>
          <a:xfrm>
            <a:off x="2819520" y="3962520"/>
            <a:ext cx="20574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Text Box 31"/>
          <p:cNvSpPr/>
          <p:nvPr/>
        </p:nvSpPr>
        <p:spPr>
          <a:xfrm>
            <a:off x="6094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84956"/>
                </a:solidFill>
                <a:latin typeface="Arial"/>
              </a:rPr>
              <a:t>       </a:t>
            </a:r>
            <a:r>
              <a:rPr b="0" i="1" lang="ru-RU" sz="4400" spc="-1" strike="noStrike">
                <a:solidFill>
                  <a:srgbClr val="984956"/>
                </a:solidFill>
                <a:latin typeface="Arial"/>
              </a:rPr>
              <a:t>Поворот отрез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Freeform 32"/>
          <p:cNvSpPr/>
          <p:nvPr/>
        </p:nvSpPr>
        <p:spPr>
          <a:xfrm>
            <a:off x="3086280" y="2298600"/>
            <a:ext cx="1777680" cy="2095560"/>
          </a:xfrm>
          <a:custGeom>
            <a:avLst/>
            <a:gdLst>
              <a:gd name="textAreaLeft" fmla="*/ 0 w 1777680"/>
              <a:gd name="textAreaRight" fmla="*/ 1778040 w 177768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1120" h="1320">
                <a:moveTo>
                  <a:pt x="0" y="0"/>
                </a:moveTo>
                <a:lnTo>
                  <a:pt x="112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Freeform 33"/>
          <p:cNvSpPr/>
          <p:nvPr/>
        </p:nvSpPr>
        <p:spPr>
          <a:xfrm>
            <a:off x="4865760" y="2413080"/>
            <a:ext cx="442800" cy="199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279" h="1254">
                <a:moveTo>
                  <a:pt x="279" y="0"/>
                </a:moveTo>
                <a:lnTo>
                  <a:pt x="0" y="1254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Freeform 34"/>
          <p:cNvSpPr/>
          <p:nvPr/>
        </p:nvSpPr>
        <p:spPr>
          <a:xfrm rot="5400000">
            <a:off x="5022360" y="2495520"/>
            <a:ext cx="1778040" cy="209556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1120" h="1320">
                <a:moveTo>
                  <a:pt x="0" y="0"/>
                </a:moveTo>
                <a:lnTo>
                  <a:pt x="112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4801320" y="4343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Oval 36"/>
          <p:cNvSpPr/>
          <p:nvPr/>
        </p:nvSpPr>
        <p:spPr>
          <a:xfrm rot="3834000">
            <a:off x="4795560" y="436068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167"/>
          <p:cNvGrpSpPr/>
          <p:nvPr/>
        </p:nvGrpSpPr>
        <p:grpSpPr>
          <a:xfrm>
            <a:off x="2019240" y="442440"/>
            <a:ext cx="6420960" cy="5910120"/>
            <a:chOff x="2019240" y="442440"/>
            <a:chExt cx="6420960" cy="5910120"/>
          </a:xfrm>
        </p:grpSpPr>
        <p:sp>
          <p:nvSpPr>
            <p:cNvPr id="375" name="Freeform 168"/>
            <p:cNvSpPr/>
            <p:nvPr/>
          </p:nvSpPr>
          <p:spPr>
            <a:xfrm rot="2398800">
              <a:off x="1492920" y="448128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6" name="Oval 169"/>
            <p:cNvSpPr/>
            <p:nvPr/>
          </p:nvSpPr>
          <p:spPr>
            <a:xfrm rot="2398800">
              <a:off x="4385160" y="43815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7" name="Text Box 170"/>
            <p:cNvSpPr/>
            <p:nvPr/>
          </p:nvSpPr>
          <p:spPr>
            <a:xfrm rot="2398800">
              <a:off x="6610680" y="5624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8" name="Text Box 171"/>
            <p:cNvSpPr/>
            <p:nvPr/>
          </p:nvSpPr>
          <p:spPr>
            <a:xfrm rot="2398800">
              <a:off x="6688440" y="522432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9" name="Text Box 172"/>
            <p:cNvSpPr/>
            <p:nvPr/>
          </p:nvSpPr>
          <p:spPr>
            <a:xfrm rot="2398800">
              <a:off x="6891840" y="3983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0" name="Text Box 173"/>
            <p:cNvSpPr/>
            <p:nvPr/>
          </p:nvSpPr>
          <p:spPr>
            <a:xfrm rot="2398800">
              <a:off x="6767280" y="3539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1" name="Text Box 174"/>
            <p:cNvSpPr/>
            <p:nvPr/>
          </p:nvSpPr>
          <p:spPr>
            <a:xfrm rot="2398800">
              <a:off x="6592680" y="3067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2" name="Text Box 175"/>
            <p:cNvSpPr/>
            <p:nvPr/>
          </p:nvSpPr>
          <p:spPr>
            <a:xfrm rot="2398800">
              <a:off x="6279840" y="26463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3" name="Text Box 176"/>
            <p:cNvSpPr/>
            <p:nvPr/>
          </p:nvSpPr>
          <p:spPr>
            <a:xfrm rot="2398800">
              <a:off x="5737680" y="2560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4" name="Text Box 177"/>
            <p:cNvSpPr/>
            <p:nvPr/>
          </p:nvSpPr>
          <p:spPr>
            <a:xfrm rot="2398800">
              <a:off x="5553720" y="2012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5" name="Text Box 178"/>
            <p:cNvSpPr/>
            <p:nvPr/>
          </p:nvSpPr>
          <p:spPr>
            <a:xfrm rot="2398800">
              <a:off x="5093640" y="1784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6" name="Text Box 179"/>
            <p:cNvSpPr/>
            <p:nvPr/>
          </p:nvSpPr>
          <p:spPr>
            <a:xfrm rot="2398800">
              <a:off x="4699440" y="1683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7" name="Text Box 180"/>
            <p:cNvSpPr/>
            <p:nvPr/>
          </p:nvSpPr>
          <p:spPr>
            <a:xfrm rot="2398800">
              <a:off x="4200840" y="167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8" name="Text Box 181"/>
            <p:cNvSpPr/>
            <p:nvPr/>
          </p:nvSpPr>
          <p:spPr>
            <a:xfrm rot="2398800">
              <a:off x="3796920" y="1654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9" name="Text Box 182"/>
            <p:cNvSpPr/>
            <p:nvPr/>
          </p:nvSpPr>
          <p:spPr>
            <a:xfrm rot="2398800">
              <a:off x="3356280" y="1773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0" name="Text Box 183"/>
            <p:cNvSpPr/>
            <p:nvPr/>
          </p:nvSpPr>
          <p:spPr>
            <a:xfrm rot="2398800">
              <a:off x="2916360" y="185436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1" name="Text Box 184"/>
            <p:cNvSpPr/>
            <p:nvPr/>
          </p:nvSpPr>
          <p:spPr>
            <a:xfrm rot="2398800">
              <a:off x="2475000" y="221940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2" name="Text Box 185"/>
            <p:cNvSpPr/>
            <p:nvPr/>
          </p:nvSpPr>
          <p:spPr>
            <a:xfrm rot="2398800">
              <a:off x="2044800" y="2453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3" name="Text Box 186"/>
            <p:cNvSpPr/>
            <p:nvPr/>
          </p:nvSpPr>
          <p:spPr>
            <a:xfrm rot="2398800">
              <a:off x="5929920" y="5633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4" name="Text Box 187"/>
            <p:cNvSpPr/>
            <p:nvPr/>
          </p:nvSpPr>
          <p:spPr>
            <a:xfrm rot="2398800">
              <a:off x="6082920" y="5337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5" name="Text Box 188"/>
            <p:cNvSpPr/>
            <p:nvPr/>
          </p:nvSpPr>
          <p:spPr>
            <a:xfrm rot="2398800">
              <a:off x="6183000" y="5023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6" name="Text Box 189"/>
            <p:cNvSpPr/>
            <p:nvPr/>
          </p:nvSpPr>
          <p:spPr>
            <a:xfrm rot="2398800">
              <a:off x="6211800" y="4766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7" name="Text Box 190"/>
            <p:cNvSpPr/>
            <p:nvPr/>
          </p:nvSpPr>
          <p:spPr>
            <a:xfrm rot="2398800">
              <a:off x="6261120" y="445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8" name="Text Box 191"/>
            <p:cNvSpPr/>
            <p:nvPr/>
          </p:nvSpPr>
          <p:spPr>
            <a:xfrm rot="2398800">
              <a:off x="6239880" y="406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9" name="Text Box 192"/>
            <p:cNvSpPr/>
            <p:nvPr/>
          </p:nvSpPr>
          <p:spPr>
            <a:xfrm rot="2398800">
              <a:off x="6157080" y="370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0" name="Text Box 193"/>
            <p:cNvSpPr/>
            <p:nvPr/>
          </p:nvSpPr>
          <p:spPr>
            <a:xfrm rot="2398800">
              <a:off x="5970600" y="3341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1" name="Text Box 194"/>
            <p:cNvSpPr/>
            <p:nvPr/>
          </p:nvSpPr>
          <p:spPr>
            <a:xfrm rot="2398800">
              <a:off x="5776920" y="3013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2" name="Text Box 195"/>
            <p:cNvSpPr/>
            <p:nvPr/>
          </p:nvSpPr>
          <p:spPr>
            <a:xfrm rot="2398800">
              <a:off x="5281560" y="26136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3" name="Text Box 196"/>
            <p:cNvSpPr/>
            <p:nvPr/>
          </p:nvSpPr>
          <p:spPr>
            <a:xfrm rot="2398800">
              <a:off x="2711520" y="2895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4" name="Text Box 197"/>
            <p:cNvSpPr/>
            <p:nvPr/>
          </p:nvSpPr>
          <p:spPr>
            <a:xfrm rot="2398800">
              <a:off x="2880360" y="267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5" name="Text Box 198"/>
            <p:cNvSpPr/>
            <p:nvPr/>
          </p:nvSpPr>
          <p:spPr>
            <a:xfrm rot="2398800">
              <a:off x="3209400" y="2510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6" name="Text Box 199"/>
            <p:cNvSpPr/>
            <p:nvPr/>
          </p:nvSpPr>
          <p:spPr>
            <a:xfrm rot="2398800">
              <a:off x="3505680" y="24123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7" name="Text Box 200"/>
            <p:cNvSpPr/>
            <p:nvPr/>
          </p:nvSpPr>
          <p:spPr>
            <a:xfrm rot="2398800">
              <a:off x="3909240" y="23454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8" name="Text Box 201"/>
            <p:cNvSpPr/>
            <p:nvPr/>
          </p:nvSpPr>
          <p:spPr>
            <a:xfrm rot="2398800">
              <a:off x="4213440" y="23184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9" name="Text Box 202"/>
            <p:cNvSpPr/>
            <p:nvPr/>
          </p:nvSpPr>
          <p:spPr>
            <a:xfrm rot="2398800">
              <a:off x="4572360" y="23378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0" name="Text Box 203"/>
            <p:cNvSpPr/>
            <p:nvPr/>
          </p:nvSpPr>
          <p:spPr>
            <a:xfrm rot="2398800">
              <a:off x="4934160" y="2467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1" name="Text Box 204"/>
            <p:cNvSpPr/>
            <p:nvPr/>
          </p:nvSpPr>
          <p:spPr>
            <a:xfrm rot="2398800">
              <a:off x="6438600" y="5959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2" name="Text Box 205"/>
            <p:cNvSpPr/>
            <p:nvPr/>
          </p:nvSpPr>
          <p:spPr>
            <a:xfrm rot="2398800">
              <a:off x="6880680" y="4427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3" name="Text Box 206"/>
            <p:cNvSpPr/>
            <p:nvPr/>
          </p:nvSpPr>
          <p:spPr>
            <a:xfrm rot="2398800">
              <a:off x="6839640" y="4849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4" name="Freeform 207"/>
            <p:cNvSpPr/>
            <p:nvPr/>
          </p:nvSpPr>
          <p:spPr>
            <a:xfrm rot="2398800">
              <a:off x="2422440" y="196272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5" name="Freeform 208"/>
            <p:cNvSpPr/>
            <p:nvPr/>
          </p:nvSpPr>
          <p:spPr>
            <a:xfrm rot="2398800">
              <a:off x="2982960" y="279936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6" name="Freeform 209"/>
            <p:cNvSpPr/>
            <p:nvPr/>
          </p:nvSpPr>
          <p:spPr>
            <a:xfrm rot="2398800">
              <a:off x="5842440" y="606132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7" name="Freeform 210"/>
            <p:cNvSpPr/>
            <p:nvPr/>
          </p:nvSpPr>
          <p:spPr>
            <a:xfrm rot="2398800">
              <a:off x="5712120" y="289872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8" name="Freeform 211"/>
            <p:cNvSpPr/>
            <p:nvPr/>
          </p:nvSpPr>
          <p:spPr>
            <a:xfrm rot="2398800">
              <a:off x="6206040" y="230616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9" name="Freeform 212"/>
            <p:cNvSpPr/>
            <p:nvPr/>
          </p:nvSpPr>
          <p:spPr>
            <a:xfrm rot="2398800">
              <a:off x="6908760" y="560052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0" name="Freeform 213"/>
            <p:cNvSpPr/>
            <p:nvPr/>
          </p:nvSpPr>
          <p:spPr>
            <a:xfrm rot="2398800">
              <a:off x="7056360" y="519300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1" name="Freeform 214"/>
            <p:cNvSpPr/>
            <p:nvPr/>
          </p:nvSpPr>
          <p:spPr>
            <a:xfrm rot="2398800">
              <a:off x="7125120" y="47754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2" name="Freeform 215"/>
            <p:cNvSpPr/>
            <p:nvPr/>
          </p:nvSpPr>
          <p:spPr>
            <a:xfrm rot="2398800">
              <a:off x="6662160" y="600048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3" name="Freeform 216"/>
            <p:cNvSpPr/>
            <p:nvPr/>
          </p:nvSpPr>
          <p:spPr>
            <a:xfrm rot="2398800">
              <a:off x="7160040" y="455760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4" name="Freeform 217"/>
            <p:cNvSpPr/>
            <p:nvPr/>
          </p:nvSpPr>
          <p:spPr>
            <a:xfrm rot="2398800">
              <a:off x="7106040" y="501228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5" name="Freeform 218"/>
            <p:cNvSpPr/>
            <p:nvPr/>
          </p:nvSpPr>
          <p:spPr>
            <a:xfrm rot="2398800">
              <a:off x="6996600" y="542700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6" name="Freeform 219"/>
            <p:cNvSpPr/>
            <p:nvPr/>
          </p:nvSpPr>
          <p:spPr>
            <a:xfrm rot="2398800">
              <a:off x="6831720" y="582012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7" name="Freeform 220"/>
            <p:cNvSpPr/>
            <p:nvPr/>
          </p:nvSpPr>
          <p:spPr>
            <a:xfrm rot="2398800">
              <a:off x="7152480" y="434304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8" name="Freeform 221"/>
            <p:cNvSpPr/>
            <p:nvPr/>
          </p:nvSpPr>
          <p:spPr>
            <a:xfrm rot="2398800">
              <a:off x="7158240" y="413640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9" name="Freeform 222"/>
            <p:cNvSpPr/>
            <p:nvPr/>
          </p:nvSpPr>
          <p:spPr>
            <a:xfrm rot="2398800">
              <a:off x="7094160" y="389664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0" name="Freeform 223"/>
            <p:cNvSpPr/>
            <p:nvPr/>
          </p:nvSpPr>
          <p:spPr>
            <a:xfrm rot="2398800">
              <a:off x="7050600" y="366048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1" name="Freeform 224"/>
            <p:cNvSpPr/>
            <p:nvPr/>
          </p:nvSpPr>
          <p:spPr>
            <a:xfrm rot="2398800">
              <a:off x="6950880" y="341568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2" name="Freeform 225"/>
            <p:cNvSpPr/>
            <p:nvPr/>
          </p:nvSpPr>
          <p:spPr>
            <a:xfrm rot="2398800">
              <a:off x="6874200" y="314568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3" name="Freeform 226"/>
            <p:cNvSpPr/>
            <p:nvPr/>
          </p:nvSpPr>
          <p:spPr>
            <a:xfrm rot="2398800">
              <a:off x="6723720" y="291456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4" name="Freeform 227"/>
            <p:cNvSpPr/>
            <p:nvPr/>
          </p:nvSpPr>
          <p:spPr>
            <a:xfrm rot="2398800">
              <a:off x="6585120" y="266796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5" name="Freeform 228"/>
            <p:cNvSpPr/>
            <p:nvPr/>
          </p:nvSpPr>
          <p:spPr>
            <a:xfrm rot="2398800">
              <a:off x="6386760" y="245736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6" name="Freeform 229"/>
            <p:cNvSpPr/>
            <p:nvPr/>
          </p:nvSpPr>
          <p:spPr>
            <a:xfrm rot="2398800">
              <a:off x="5604480" y="192708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7" name="Freeform 230"/>
            <p:cNvSpPr/>
            <p:nvPr/>
          </p:nvSpPr>
          <p:spPr>
            <a:xfrm rot="2398800">
              <a:off x="5368680" y="182880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8" name="Freeform 231"/>
            <p:cNvSpPr/>
            <p:nvPr/>
          </p:nvSpPr>
          <p:spPr>
            <a:xfrm rot="2398800">
              <a:off x="6045480" y="220392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9" name="Freeform 232"/>
            <p:cNvSpPr/>
            <p:nvPr/>
          </p:nvSpPr>
          <p:spPr>
            <a:xfrm rot="2398800">
              <a:off x="5846760" y="207072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0" name="Freeform 233"/>
            <p:cNvSpPr/>
            <p:nvPr/>
          </p:nvSpPr>
          <p:spPr>
            <a:xfrm rot="2398800">
              <a:off x="5115600" y="176508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1" name="Freeform 234"/>
            <p:cNvSpPr/>
            <p:nvPr/>
          </p:nvSpPr>
          <p:spPr>
            <a:xfrm rot="2398800">
              <a:off x="4911840" y="16988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2" name="Freeform 235"/>
            <p:cNvSpPr/>
            <p:nvPr/>
          </p:nvSpPr>
          <p:spPr>
            <a:xfrm rot="2398800">
              <a:off x="4629960" y="166068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3" name="Freeform 236"/>
            <p:cNvSpPr/>
            <p:nvPr/>
          </p:nvSpPr>
          <p:spPr>
            <a:xfrm rot="2398800">
              <a:off x="4358880" y="166248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4" name="Freeform 237"/>
            <p:cNvSpPr/>
            <p:nvPr/>
          </p:nvSpPr>
          <p:spPr>
            <a:xfrm rot="2398800">
              <a:off x="4159080" y="168084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5" name="Freeform 238"/>
            <p:cNvSpPr/>
            <p:nvPr/>
          </p:nvSpPr>
          <p:spPr>
            <a:xfrm rot="2398800">
              <a:off x="3948840" y="168660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6" name="Freeform 239"/>
            <p:cNvSpPr/>
            <p:nvPr/>
          </p:nvSpPr>
          <p:spPr>
            <a:xfrm rot="2398800">
              <a:off x="3732120" y="174888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7" name="Freeform 240"/>
            <p:cNvSpPr/>
            <p:nvPr/>
          </p:nvSpPr>
          <p:spPr>
            <a:xfrm rot="2398800">
              <a:off x="3474720" y="179892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8" name="Freeform 241"/>
            <p:cNvSpPr/>
            <p:nvPr/>
          </p:nvSpPr>
          <p:spPr>
            <a:xfrm rot="2398800">
              <a:off x="3232440" y="190008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9" name="Freeform 242"/>
            <p:cNvSpPr/>
            <p:nvPr/>
          </p:nvSpPr>
          <p:spPr>
            <a:xfrm rot="2398800">
              <a:off x="3002400" y="198756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0" name="Freeform 243"/>
            <p:cNvSpPr/>
            <p:nvPr/>
          </p:nvSpPr>
          <p:spPr>
            <a:xfrm rot="2398800">
              <a:off x="2823120" y="214380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1" name="Freeform 244"/>
            <p:cNvSpPr/>
            <p:nvPr/>
          </p:nvSpPr>
          <p:spPr>
            <a:xfrm rot="2398800">
              <a:off x="2610720" y="227160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2" name="Freeform 245"/>
            <p:cNvSpPr/>
            <p:nvPr/>
          </p:nvSpPr>
          <p:spPr>
            <a:xfrm rot="2398800">
              <a:off x="2414160" y="243432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53" name="Freeform 250"/>
          <p:cNvSpPr/>
          <p:nvPr/>
        </p:nvSpPr>
        <p:spPr>
          <a:xfrm>
            <a:off x="2832120" y="3073320"/>
            <a:ext cx="1790640" cy="16524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128" h="104">
                <a:moveTo>
                  <a:pt x="1128" y="10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Freeform 163"/>
          <p:cNvSpPr/>
          <p:nvPr/>
        </p:nvSpPr>
        <p:spPr>
          <a:xfrm>
            <a:off x="4406760" y="4521240"/>
            <a:ext cx="1511280" cy="1257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952" h="792">
                <a:moveTo>
                  <a:pt x="0" y="0"/>
                </a:moveTo>
                <a:lnTo>
                  <a:pt x="952" y="792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732240" y="891360"/>
            <a:ext cx="6412320" cy="4658760"/>
            <a:chOff x="732240" y="891360"/>
            <a:chExt cx="6412320" cy="4658760"/>
          </a:xfrm>
        </p:grpSpPr>
        <p:sp>
          <p:nvSpPr>
            <p:cNvPr id="456" name="Freeform 8"/>
            <p:cNvSpPr/>
            <p:nvPr/>
          </p:nvSpPr>
          <p:spPr>
            <a:xfrm rot="20463600">
              <a:off x="1484640" y="452088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7" name="Oval 9"/>
            <p:cNvSpPr/>
            <p:nvPr/>
          </p:nvSpPr>
          <p:spPr>
            <a:xfrm rot="20463600">
              <a:off x="4378680" y="440388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8" name="Text Box 10"/>
            <p:cNvSpPr/>
            <p:nvPr/>
          </p:nvSpPr>
          <p:spPr>
            <a:xfrm rot="20463600">
              <a:off x="6548760" y="2980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 rot="20463600">
              <a:off x="6214680" y="265104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0" name="Text Box 12"/>
            <p:cNvSpPr/>
            <p:nvPr/>
          </p:nvSpPr>
          <p:spPr>
            <a:xfrm rot="20463600">
              <a:off x="5288760" y="1891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1" name="Text Box 13"/>
            <p:cNvSpPr/>
            <p:nvPr/>
          </p:nvSpPr>
          <p:spPr>
            <a:xfrm rot="20463600">
              <a:off x="4844160" y="1769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 rot="20463600">
              <a:off x="4350240" y="1675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3" name="Text Box 15"/>
            <p:cNvSpPr/>
            <p:nvPr/>
          </p:nvSpPr>
          <p:spPr>
            <a:xfrm rot="20463600">
              <a:off x="3787920" y="1655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4" name="Text Box 16"/>
            <p:cNvSpPr/>
            <p:nvPr/>
          </p:nvSpPr>
          <p:spPr>
            <a:xfrm rot="20463600">
              <a:off x="3474720" y="211608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5" name="Text Box 17"/>
            <p:cNvSpPr/>
            <p:nvPr/>
          </p:nvSpPr>
          <p:spPr>
            <a:xfrm rot="20463600">
              <a:off x="2885040" y="19756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6" name="Text Box 18"/>
            <p:cNvSpPr/>
            <p:nvPr/>
          </p:nvSpPr>
          <p:spPr>
            <a:xfrm rot="20463600">
              <a:off x="2451960" y="2251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 rot="20463600">
              <a:off x="2162520" y="2537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 rot="20463600">
              <a:off x="1894680" y="2958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 rot="20463600">
              <a:off x="1671120" y="329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 rot="20463600">
              <a:off x="1545840" y="37342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1" name="Text Box 23"/>
            <p:cNvSpPr/>
            <p:nvPr/>
          </p:nvSpPr>
          <p:spPr>
            <a:xfrm rot="20463600">
              <a:off x="1487160" y="411552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2" name="Text Box 24"/>
            <p:cNvSpPr/>
            <p:nvPr/>
          </p:nvSpPr>
          <p:spPr>
            <a:xfrm rot="20463600">
              <a:off x="1433160" y="46501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3" name="Text Box 25"/>
            <p:cNvSpPr/>
            <p:nvPr/>
          </p:nvSpPr>
          <p:spPr>
            <a:xfrm rot="20463600">
              <a:off x="1417320" y="51498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Text Box 26"/>
            <p:cNvSpPr/>
            <p:nvPr/>
          </p:nvSpPr>
          <p:spPr>
            <a:xfrm rot="20463600">
              <a:off x="6180480" y="35236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5" name="Text Box 27"/>
            <p:cNvSpPr/>
            <p:nvPr/>
          </p:nvSpPr>
          <p:spPr>
            <a:xfrm rot="20463600">
              <a:off x="6005880" y="3239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6" name="Text Box 28"/>
            <p:cNvSpPr/>
            <p:nvPr/>
          </p:nvSpPr>
          <p:spPr>
            <a:xfrm rot="20463600">
              <a:off x="5788440" y="2991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Text Box 29"/>
            <p:cNvSpPr/>
            <p:nvPr/>
          </p:nvSpPr>
          <p:spPr>
            <a:xfrm rot="20463600">
              <a:off x="5583240" y="28342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8" name="Text Box 30"/>
            <p:cNvSpPr/>
            <p:nvPr/>
          </p:nvSpPr>
          <p:spPr>
            <a:xfrm rot="20463600">
              <a:off x="5340240" y="2630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9" name="Text Box 31"/>
            <p:cNvSpPr/>
            <p:nvPr/>
          </p:nvSpPr>
          <p:spPr>
            <a:xfrm rot="20463600">
              <a:off x="4992840" y="2445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0" name="Text Box 32"/>
            <p:cNvSpPr/>
            <p:nvPr/>
          </p:nvSpPr>
          <p:spPr>
            <a:xfrm rot="20463600">
              <a:off x="4649760" y="23353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1" name="Text Box 33"/>
            <p:cNvSpPr/>
            <p:nvPr/>
          </p:nvSpPr>
          <p:spPr>
            <a:xfrm rot="20463600">
              <a:off x="4238280" y="230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2" name="Text Box 34"/>
            <p:cNvSpPr/>
            <p:nvPr/>
          </p:nvSpPr>
          <p:spPr>
            <a:xfrm rot="20463600">
              <a:off x="3857760" y="2301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 rot="20463600">
              <a:off x="3283920" y="2563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4" name="Text Box 36"/>
            <p:cNvSpPr/>
            <p:nvPr/>
          </p:nvSpPr>
          <p:spPr>
            <a:xfrm rot="20463600">
              <a:off x="2223000" y="4953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 rot="20463600">
              <a:off x="2097360" y="4651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6" name="Text Box 38"/>
            <p:cNvSpPr/>
            <p:nvPr/>
          </p:nvSpPr>
          <p:spPr>
            <a:xfrm rot="20463600">
              <a:off x="2125800" y="4284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 rot="20463600">
              <a:off x="2177280" y="3948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8" name="Text Box 40"/>
            <p:cNvSpPr/>
            <p:nvPr/>
          </p:nvSpPr>
          <p:spPr>
            <a:xfrm rot="20463600">
              <a:off x="2345760" y="3600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9" name="Text Box 41"/>
            <p:cNvSpPr/>
            <p:nvPr/>
          </p:nvSpPr>
          <p:spPr>
            <a:xfrm rot="20463600">
              <a:off x="2479680" y="3325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0" name="Text Box 42"/>
            <p:cNvSpPr/>
            <p:nvPr/>
          </p:nvSpPr>
          <p:spPr>
            <a:xfrm rot="20463600">
              <a:off x="2681640" y="3028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1" name="Text Box 43"/>
            <p:cNvSpPr/>
            <p:nvPr/>
          </p:nvSpPr>
          <p:spPr>
            <a:xfrm rot="20463600">
              <a:off x="2979000" y="2784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2" name="Text Box 44"/>
            <p:cNvSpPr/>
            <p:nvPr/>
          </p:nvSpPr>
          <p:spPr>
            <a:xfrm rot="20463600">
              <a:off x="6771600" y="33440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3" name="Text Box 45"/>
            <p:cNvSpPr/>
            <p:nvPr/>
          </p:nvSpPr>
          <p:spPr>
            <a:xfrm rot="20463600">
              <a:off x="5663160" y="21308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4" name="Text Box 46"/>
            <p:cNvSpPr/>
            <p:nvPr/>
          </p:nvSpPr>
          <p:spPr>
            <a:xfrm rot="20463600">
              <a:off x="6003000" y="2383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5" name="Freeform 47"/>
            <p:cNvSpPr/>
            <p:nvPr/>
          </p:nvSpPr>
          <p:spPr>
            <a:xfrm rot="20463600">
              <a:off x="1039680" y="175104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6" name="Freeform 48"/>
            <p:cNvSpPr/>
            <p:nvPr/>
          </p:nvSpPr>
          <p:spPr>
            <a:xfrm rot="20463600">
              <a:off x="2067120" y="265572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7" name="Freeform 49"/>
            <p:cNvSpPr/>
            <p:nvPr/>
          </p:nvSpPr>
          <p:spPr>
            <a:xfrm rot="20463600">
              <a:off x="6273000" y="371808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8" name="Freeform 50"/>
            <p:cNvSpPr/>
            <p:nvPr/>
          </p:nvSpPr>
          <p:spPr>
            <a:xfrm rot="20463600">
              <a:off x="3782880" y="253800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9" name="Freeform 51"/>
            <p:cNvSpPr/>
            <p:nvPr/>
          </p:nvSpPr>
          <p:spPr>
            <a:xfrm rot="20463600">
              <a:off x="3533760" y="180828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0" name="Freeform 52"/>
            <p:cNvSpPr/>
            <p:nvPr/>
          </p:nvSpPr>
          <p:spPr>
            <a:xfrm rot="20463600">
              <a:off x="6630480" y="289008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1" name="Freeform 53"/>
            <p:cNvSpPr/>
            <p:nvPr/>
          </p:nvSpPr>
          <p:spPr>
            <a:xfrm rot="20463600">
              <a:off x="6363360" y="254880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2" name="Freeform 54"/>
            <p:cNvSpPr/>
            <p:nvPr/>
          </p:nvSpPr>
          <p:spPr>
            <a:xfrm rot="20463600">
              <a:off x="6051240" y="22824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3" name="Freeform 55"/>
            <p:cNvSpPr/>
            <p:nvPr/>
          </p:nvSpPr>
          <p:spPr>
            <a:xfrm rot="20463600">
              <a:off x="6836040" y="330264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4" name="Freeform 56"/>
            <p:cNvSpPr/>
            <p:nvPr/>
          </p:nvSpPr>
          <p:spPr>
            <a:xfrm rot="20463600">
              <a:off x="5888160" y="214452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5" name="Freeform 57"/>
            <p:cNvSpPr/>
            <p:nvPr/>
          </p:nvSpPr>
          <p:spPr>
            <a:xfrm rot="20463600">
              <a:off x="6239520" y="243144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6" name="Freeform 58"/>
            <p:cNvSpPr/>
            <p:nvPr/>
          </p:nvSpPr>
          <p:spPr>
            <a:xfrm rot="20463600">
              <a:off x="6528960" y="273960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7" name="Freeform 59"/>
            <p:cNvSpPr/>
            <p:nvPr/>
          </p:nvSpPr>
          <p:spPr>
            <a:xfrm rot="20463600">
              <a:off x="6777360" y="308520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8" name="Freeform 60"/>
            <p:cNvSpPr/>
            <p:nvPr/>
          </p:nvSpPr>
          <p:spPr>
            <a:xfrm rot="20463600">
              <a:off x="5701320" y="203688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9" name="Freeform 61"/>
            <p:cNvSpPr/>
            <p:nvPr/>
          </p:nvSpPr>
          <p:spPr>
            <a:xfrm rot="20463600">
              <a:off x="5524560" y="195120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0" name="Freeform 62"/>
            <p:cNvSpPr/>
            <p:nvPr/>
          </p:nvSpPr>
          <p:spPr>
            <a:xfrm rot="20463600">
              <a:off x="5297040" y="187740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1" name="Freeform 63"/>
            <p:cNvSpPr/>
            <p:nvPr/>
          </p:nvSpPr>
          <p:spPr>
            <a:xfrm rot="20463600">
              <a:off x="5076720" y="178416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2" name="Freeform 64"/>
            <p:cNvSpPr/>
            <p:nvPr/>
          </p:nvSpPr>
          <p:spPr>
            <a:xfrm rot="20463600">
              <a:off x="4822920" y="174132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3" name="Freeform 65"/>
            <p:cNvSpPr/>
            <p:nvPr/>
          </p:nvSpPr>
          <p:spPr>
            <a:xfrm rot="20463600">
              <a:off x="4556880" y="166788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4" name="Freeform 66"/>
            <p:cNvSpPr/>
            <p:nvPr/>
          </p:nvSpPr>
          <p:spPr>
            <a:xfrm rot="20463600">
              <a:off x="4284720" y="168300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5" name="Freeform 67"/>
            <p:cNvSpPr/>
            <p:nvPr/>
          </p:nvSpPr>
          <p:spPr>
            <a:xfrm rot="20463600">
              <a:off x="4001760" y="168804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6" name="Freeform 68"/>
            <p:cNvSpPr/>
            <p:nvPr/>
          </p:nvSpPr>
          <p:spPr>
            <a:xfrm rot="20463600">
              <a:off x="3740040" y="173952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7" name="Freeform 69"/>
            <p:cNvSpPr/>
            <p:nvPr/>
          </p:nvSpPr>
          <p:spPr>
            <a:xfrm rot="20463600">
              <a:off x="2870280" y="212904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8" name="Freeform 70"/>
            <p:cNvSpPr/>
            <p:nvPr/>
          </p:nvSpPr>
          <p:spPr>
            <a:xfrm rot="20463600">
              <a:off x="2653560" y="228924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9" name="Freeform 71"/>
            <p:cNvSpPr/>
            <p:nvPr/>
          </p:nvSpPr>
          <p:spPr>
            <a:xfrm rot="20463600">
              <a:off x="3335040" y="190800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0" name="Freeform 72"/>
            <p:cNvSpPr/>
            <p:nvPr/>
          </p:nvSpPr>
          <p:spPr>
            <a:xfrm rot="20463600">
              <a:off x="3098520" y="201744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1" name="Freeform 73"/>
            <p:cNvSpPr/>
            <p:nvPr/>
          </p:nvSpPr>
          <p:spPr>
            <a:xfrm rot="20463600">
              <a:off x="2456280" y="247392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2" name="Freeform 74"/>
            <p:cNvSpPr/>
            <p:nvPr/>
          </p:nvSpPr>
          <p:spPr>
            <a:xfrm rot="20463600">
              <a:off x="2298960" y="26096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3" name="Freeform 75"/>
            <p:cNvSpPr/>
            <p:nvPr/>
          </p:nvSpPr>
          <p:spPr>
            <a:xfrm rot="20463600">
              <a:off x="2122920" y="281160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4" name="Freeform 76"/>
            <p:cNvSpPr/>
            <p:nvPr/>
          </p:nvSpPr>
          <p:spPr>
            <a:xfrm rot="20463600">
              <a:off x="1967400" y="306180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5" name="Freeform 77"/>
            <p:cNvSpPr/>
            <p:nvPr/>
          </p:nvSpPr>
          <p:spPr>
            <a:xfrm rot="20463600">
              <a:off x="1877760" y="324396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6" name="Freeform 78"/>
            <p:cNvSpPr/>
            <p:nvPr/>
          </p:nvSpPr>
          <p:spPr>
            <a:xfrm rot="20463600">
              <a:off x="1780200" y="342324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7" name="Freeform 79"/>
            <p:cNvSpPr/>
            <p:nvPr/>
          </p:nvSpPr>
          <p:spPr>
            <a:xfrm rot="20463600">
              <a:off x="1710720" y="363636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8" name="Freeform 80"/>
            <p:cNvSpPr/>
            <p:nvPr/>
          </p:nvSpPr>
          <p:spPr>
            <a:xfrm rot="20463600">
              <a:off x="1617120" y="387612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9" name="Freeform 81"/>
            <p:cNvSpPr/>
            <p:nvPr/>
          </p:nvSpPr>
          <p:spPr>
            <a:xfrm rot="20463600">
              <a:off x="1578960" y="413568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0" name="Freeform 82"/>
            <p:cNvSpPr/>
            <p:nvPr/>
          </p:nvSpPr>
          <p:spPr>
            <a:xfrm rot="20463600">
              <a:off x="1524960" y="437904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1" name="Freeform 83"/>
            <p:cNvSpPr/>
            <p:nvPr/>
          </p:nvSpPr>
          <p:spPr>
            <a:xfrm rot="20463600">
              <a:off x="1565640" y="461808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2" name="Freeform 84"/>
            <p:cNvSpPr/>
            <p:nvPr/>
          </p:nvSpPr>
          <p:spPr>
            <a:xfrm rot="20463600">
              <a:off x="1555560" y="485208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3" name="Freeform 85"/>
            <p:cNvSpPr/>
            <p:nvPr/>
          </p:nvSpPr>
          <p:spPr>
            <a:xfrm rot="20463600">
              <a:off x="1593000" y="511380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34" name="Group 89"/>
          <p:cNvGrpSpPr/>
          <p:nvPr/>
        </p:nvGrpSpPr>
        <p:grpSpPr>
          <a:xfrm>
            <a:off x="1932840" y="650520"/>
            <a:ext cx="5390280" cy="4493520"/>
            <a:chOff x="1932840" y="650520"/>
            <a:chExt cx="5390280" cy="4493520"/>
          </a:xfrm>
        </p:grpSpPr>
        <p:sp>
          <p:nvSpPr>
            <p:cNvPr id="535" name="Arc 90"/>
            <p:cNvSpPr/>
            <p:nvPr/>
          </p:nvSpPr>
          <p:spPr>
            <a:xfrm rot="20464200">
              <a:off x="2322000" y="1312920"/>
              <a:ext cx="4611600" cy="31687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fill="none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</a:path>
                <a:path stroke="0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  <a:lnTo>
                    <a:pt x="9142" y="21600"/>
                  </a:lnTo>
                  <a:lnTo>
                    <a:pt x="0" y="203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6" name="Oval 91"/>
            <p:cNvSpPr/>
            <p:nvPr/>
          </p:nvSpPr>
          <p:spPr>
            <a:xfrm rot="20464200">
              <a:off x="6683040" y="326304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7" name="Text Box 108"/>
          <p:cNvSpPr/>
          <p:nvPr/>
        </p:nvSpPr>
        <p:spPr>
          <a:xfrm>
            <a:off x="4188600" y="449568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Freeform 110"/>
          <p:cNvSpPr/>
          <p:nvPr/>
        </p:nvSpPr>
        <p:spPr>
          <a:xfrm>
            <a:off x="4419720" y="3340080"/>
            <a:ext cx="3467160" cy="115560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84" h="728">
                <a:moveTo>
                  <a:pt x="0" y="728"/>
                </a:moveTo>
                <a:lnTo>
                  <a:pt x="2184" y="0"/>
                </a:lnTo>
              </a:path>
            </a:pathLst>
          </a:custGeom>
          <a:noFill/>
          <a:ln w="9360">
            <a:solidFill>
              <a:srgbClr val="0099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9" name="Freeform 111"/>
          <p:cNvSpPr/>
          <p:nvPr/>
        </p:nvSpPr>
        <p:spPr>
          <a:xfrm>
            <a:off x="1117440" y="1562040"/>
            <a:ext cx="3314880" cy="295920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2088" h="1864">
                <a:moveTo>
                  <a:pt x="0" y="0"/>
                </a:moveTo>
                <a:lnTo>
                  <a:pt x="2088" y="1864"/>
                </a:lnTo>
              </a:path>
            </a:pathLst>
          </a:custGeom>
          <a:noFill/>
          <a:ln w="9360">
            <a:solidFill>
              <a:srgbClr val="0099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0" name="Group 106"/>
          <p:cNvGrpSpPr/>
          <p:nvPr/>
        </p:nvGrpSpPr>
        <p:grpSpPr>
          <a:xfrm>
            <a:off x="5270760" y="3793680"/>
            <a:ext cx="1192680" cy="1527480"/>
            <a:chOff x="5270760" y="3793680"/>
            <a:chExt cx="1192680" cy="1527480"/>
          </a:xfrm>
        </p:grpSpPr>
        <p:sp>
          <p:nvSpPr>
            <p:cNvPr id="541" name="Line 103"/>
            <p:cNvSpPr/>
            <p:nvPr/>
          </p:nvSpPr>
          <p:spPr>
            <a:xfrm flipH="1">
              <a:off x="5303520" y="3822120"/>
              <a:ext cx="1126080" cy="1473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2" name="Oval 104"/>
            <p:cNvSpPr/>
            <p:nvPr/>
          </p:nvSpPr>
          <p:spPr>
            <a:xfrm flipH="1" flipV="1" rot="16310400">
              <a:off x="5272200" y="5244120"/>
              <a:ext cx="74520" cy="76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3" name="Oval 105"/>
            <p:cNvSpPr/>
            <p:nvPr/>
          </p:nvSpPr>
          <p:spPr>
            <a:xfrm flipH="1" flipV="1" rot="16310400">
              <a:off x="6386040" y="3793680"/>
              <a:ext cx="74520" cy="76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44" name="Text Box 107"/>
          <p:cNvSpPr/>
          <p:nvPr/>
        </p:nvSpPr>
        <p:spPr>
          <a:xfrm>
            <a:off x="5115240" y="52578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Text Box 109"/>
          <p:cNvSpPr/>
          <p:nvPr/>
        </p:nvSpPr>
        <p:spPr>
          <a:xfrm>
            <a:off x="6383880" y="37339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Freeform 164"/>
          <p:cNvSpPr/>
          <p:nvPr/>
        </p:nvSpPr>
        <p:spPr>
          <a:xfrm>
            <a:off x="4419720" y="1143000"/>
            <a:ext cx="558720" cy="3390840"/>
          </a:xfrm>
          <a:custGeom>
            <a:avLst/>
            <a:gdLst>
              <a:gd name="textAreaLeft" fmla="*/ 0 w 558720"/>
              <a:gd name="textAreaRight" fmla="*/ 559080 w 55872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352" h="2136">
                <a:moveTo>
                  <a:pt x="0" y="2136"/>
                </a:moveTo>
                <a:lnTo>
                  <a:pt x="352" y="0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7" name="Oval 165"/>
          <p:cNvSpPr/>
          <p:nvPr/>
        </p:nvSpPr>
        <p:spPr>
          <a:xfrm>
            <a:off x="4381560" y="4483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8" name="Group 246"/>
          <p:cNvGrpSpPr/>
          <p:nvPr/>
        </p:nvGrpSpPr>
        <p:grpSpPr>
          <a:xfrm>
            <a:off x="3158280" y="1155240"/>
            <a:ext cx="5586120" cy="5329440"/>
            <a:chOff x="3158280" y="1155240"/>
            <a:chExt cx="5586120" cy="5329440"/>
          </a:xfrm>
        </p:grpSpPr>
        <p:sp>
          <p:nvSpPr>
            <p:cNvPr id="549" name="Arc 247"/>
            <p:cNvSpPr/>
            <p:nvPr/>
          </p:nvSpPr>
          <p:spPr>
            <a:xfrm rot="2266200">
              <a:off x="3645360" y="2235240"/>
              <a:ext cx="4611600" cy="31687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fill="none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</a:path>
                <a:path stroke="0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  <a:lnTo>
                    <a:pt x="9142" y="21600"/>
                  </a:lnTo>
                  <a:lnTo>
                    <a:pt x="0" y="203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0" name="Oval 248"/>
            <p:cNvSpPr/>
            <p:nvPr/>
          </p:nvSpPr>
          <p:spPr>
            <a:xfrm rot="2266200">
              <a:off x="6448680" y="583524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51" name="Group 254"/>
          <p:cNvGrpSpPr/>
          <p:nvPr/>
        </p:nvGrpSpPr>
        <p:grpSpPr>
          <a:xfrm>
            <a:off x="2781360" y="3035160"/>
            <a:ext cx="2705040" cy="1231920"/>
            <a:chOff x="2781360" y="3035160"/>
            <a:chExt cx="2705040" cy="1231920"/>
          </a:xfrm>
        </p:grpSpPr>
        <p:sp>
          <p:nvSpPr>
            <p:cNvPr id="552" name="Oval 112"/>
            <p:cNvSpPr/>
            <p:nvPr/>
          </p:nvSpPr>
          <p:spPr>
            <a:xfrm>
              <a:off x="2781360" y="30351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53" name="Group 253"/>
            <p:cNvGrpSpPr/>
            <p:nvPr/>
          </p:nvGrpSpPr>
          <p:grpSpPr>
            <a:xfrm>
              <a:off x="3428640" y="3657600"/>
              <a:ext cx="2057760" cy="609480"/>
              <a:chOff x="3428640" y="3657600"/>
              <a:chExt cx="2057760" cy="609480"/>
            </a:xfrm>
          </p:grpSpPr>
          <p:sp>
            <p:nvSpPr>
              <p:cNvPr id="554" name="Line 251"/>
              <p:cNvSpPr/>
              <p:nvPr/>
            </p:nvSpPr>
            <p:spPr>
              <a:xfrm>
                <a:off x="5334120" y="4038480"/>
                <a:ext cx="152280" cy="228600"/>
              </a:xfrm>
              <a:prstGeom prst="line">
                <a:avLst/>
              </a:prstGeom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5" name="Line 252"/>
              <p:cNvSpPr/>
              <p:nvPr/>
            </p:nvSpPr>
            <p:spPr>
              <a:xfrm flipH="1">
                <a:off x="3428640" y="3657600"/>
                <a:ext cx="228600" cy="152280"/>
              </a:xfrm>
              <a:prstGeom prst="line">
                <a:avLst/>
              </a:prstGeom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556" name="Group 263"/>
          <p:cNvGrpSpPr/>
          <p:nvPr/>
        </p:nvGrpSpPr>
        <p:grpSpPr>
          <a:xfrm>
            <a:off x="4383000" y="3200400"/>
            <a:ext cx="645840" cy="1828800"/>
            <a:chOff x="4383000" y="3200400"/>
            <a:chExt cx="645840" cy="1828800"/>
          </a:xfrm>
        </p:grpSpPr>
        <p:sp>
          <p:nvSpPr>
            <p:cNvPr id="557" name="Oval 166"/>
            <p:cNvSpPr/>
            <p:nvPr/>
          </p:nvSpPr>
          <p:spPr>
            <a:xfrm>
              <a:off x="4597560" y="32004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58" name="Group 258"/>
            <p:cNvGrpSpPr/>
            <p:nvPr/>
          </p:nvGrpSpPr>
          <p:grpSpPr>
            <a:xfrm>
              <a:off x="4723920" y="4800600"/>
              <a:ext cx="304920" cy="228600"/>
              <a:chOff x="4723920" y="4800600"/>
              <a:chExt cx="304920" cy="228600"/>
            </a:xfrm>
          </p:grpSpPr>
          <p:sp>
            <p:nvSpPr>
              <p:cNvPr id="559" name="Line 256"/>
              <p:cNvSpPr/>
              <p:nvPr/>
            </p:nvSpPr>
            <p:spPr>
              <a:xfrm flipH="1">
                <a:off x="4723920" y="4800600"/>
                <a:ext cx="228600" cy="22860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0" name="Line 257"/>
              <p:cNvSpPr/>
              <p:nvPr/>
            </p:nvSpPr>
            <p:spPr>
              <a:xfrm flipH="1">
                <a:off x="4800240" y="4800600"/>
                <a:ext cx="228600" cy="22860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1" name="Group 260"/>
            <p:cNvGrpSpPr/>
            <p:nvPr/>
          </p:nvGrpSpPr>
          <p:grpSpPr>
            <a:xfrm>
              <a:off x="4383000" y="3693240"/>
              <a:ext cx="301320" cy="233280"/>
              <a:chOff x="4383000" y="3693240"/>
              <a:chExt cx="301320" cy="233280"/>
            </a:xfrm>
          </p:grpSpPr>
          <p:sp>
            <p:nvSpPr>
              <p:cNvPr id="562" name="Line 261"/>
              <p:cNvSpPr/>
              <p:nvPr/>
            </p:nvSpPr>
            <p:spPr>
              <a:xfrm flipH="1" flipV="1">
                <a:off x="4383000" y="3693240"/>
                <a:ext cx="281160" cy="15948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3" name="Line 262"/>
              <p:cNvSpPr/>
              <p:nvPr/>
            </p:nvSpPr>
            <p:spPr>
              <a:xfrm flipH="1" flipV="1">
                <a:off x="4403160" y="3766680"/>
                <a:ext cx="281160" cy="15984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64" name="Text Box 264"/>
          <p:cNvSpPr/>
          <p:nvPr/>
        </p:nvSpPr>
        <p:spPr>
          <a:xfrm>
            <a:off x="4658760" y="2971800"/>
            <a:ext cx="48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5" name="Text Box 265"/>
          <p:cNvSpPr/>
          <p:nvPr/>
        </p:nvSpPr>
        <p:spPr>
          <a:xfrm>
            <a:off x="2320560" y="286236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6" name="Text Box 266"/>
          <p:cNvSpPr/>
          <p:nvPr/>
        </p:nvSpPr>
        <p:spPr>
          <a:xfrm>
            <a:off x="343440" y="30492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956"/>
                </a:solidFill>
                <a:latin typeface="Monotype Corsiva"/>
              </a:rPr>
              <a:t>Угол поворота 120</a:t>
            </a:r>
            <a:r>
              <a:rPr b="1" lang="ru-RU" sz="2800" spc="-1" strike="noStrike" baseline="30000">
                <a:solidFill>
                  <a:srgbClr val="984956"/>
                </a:solidFill>
                <a:latin typeface="Monotype Corsi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888840" y="1409760"/>
            <a:ext cx="6807240" cy="4610160"/>
            <a:chOff x="888840" y="1409760"/>
            <a:chExt cx="6807240" cy="4610160"/>
          </a:xfrm>
        </p:grpSpPr>
        <p:grpSp>
          <p:nvGrpSpPr>
            <p:cNvPr id="568" name="Group 3"/>
            <p:cNvGrpSpPr/>
            <p:nvPr/>
          </p:nvGrpSpPr>
          <p:grpSpPr>
            <a:xfrm>
              <a:off x="4292640" y="3720960"/>
              <a:ext cx="3403440" cy="2298960"/>
              <a:chOff x="4292640" y="3720960"/>
              <a:chExt cx="3403440" cy="2298960"/>
            </a:xfrm>
          </p:grpSpPr>
          <p:sp>
            <p:nvSpPr>
              <p:cNvPr id="569" name="Freeform 4"/>
              <p:cNvSpPr/>
              <p:nvPr/>
            </p:nvSpPr>
            <p:spPr>
              <a:xfrm>
                <a:off x="5029200" y="4191120"/>
                <a:ext cx="2666880" cy="182880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0" name="Freeform 5"/>
              <p:cNvSpPr/>
              <p:nvPr/>
            </p:nvSpPr>
            <p:spPr>
              <a:xfrm>
                <a:off x="4292640" y="3720960"/>
                <a:ext cx="736560" cy="146052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1460520"/>
                  <a:gd name="textAreaBottom" fmla="*/ 1460520 h 146052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71" name="Group 6"/>
            <p:cNvGrpSpPr/>
            <p:nvPr/>
          </p:nvGrpSpPr>
          <p:grpSpPr>
            <a:xfrm>
              <a:off x="888840" y="1409760"/>
              <a:ext cx="3403440" cy="2298240"/>
              <a:chOff x="888840" y="1409760"/>
              <a:chExt cx="3403440" cy="2298240"/>
            </a:xfrm>
          </p:grpSpPr>
          <p:sp>
            <p:nvSpPr>
              <p:cNvPr id="572" name="Freeform 7"/>
              <p:cNvSpPr/>
              <p:nvPr/>
            </p:nvSpPr>
            <p:spPr>
              <a:xfrm flipH="1" flipV="1">
                <a:off x="888480" y="1409400"/>
                <a:ext cx="2666880" cy="182844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-360 h 1828440"/>
                  <a:gd name="textAreaBottom" fmla="*/ 1828440 h 182844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3" name="Freeform 8"/>
              <p:cNvSpPr/>
              <p:nvPr/>
            </p:nvSpPr>
            <p:spPr>
              <a:xfrm flipH="1" flipV="1">
                <a:off x="3555720" y="2247840"/>
                <a:ext cx="736560" cy="1460160"/>
              </a:xfrm>
              <a:custGeom>
                <a:avLst/>
                <a:gdLst>
                  <a:gd name="textAreaLeft" fmla="*/ 360 w 736560"/>
                  <a:gd name="textAreaRight" fmla="*/ 737280 w 736560"/>
                  <a:gd name="textAreaTop" fmla="*/ 360 h 1460160"/>
                  <a:gd name="textAreaBottom" fmla="*/ 1460880 h 146016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574" name="Group 19"/>
          <p:cNvGrpSpPr/>
          <p:nvPr/>
        </p:nvGrpSpPr>
        <p:grpSpPr>
          <a:xfrm>
            <a:off x="888840" y="1409760"/>
            <a:ext cx="6807240" cy="4610160"/>
            <a:chOff x="888840" y="1409760"/>
            <a:chExt cx="6807240" cy="4610160"/>
          </a:xfrm>
        </p:grpSpPr>
        <p:grpSp>
          <p:nvGrpSpPr>
            <p:cNvPr id="575" name="Group 20"/>
            <p:cNvGrpSpPr/>
            <p:nvPr/>
          </p:nvGrpSpPr>
          <p:grpSpPr>
            <a:xfrm>
              <a:off x="4292640" y="3720960"/>
              <a:ext cx="3403440" cy="2298960"/>
              <a:chOff x="4292640" y="3720960"/>
              <a:chExt cx="3403440" cy="2298960"/>
            </a:xfrm>
          </p:grpSpPr>
          <p:sp>
            <p:nvSpPr>
              <p:cNvPr id="576" name="Freeform 21"/>
              <p:cNvSpPr/>
              <p:nvPr/>
            </p:nvSpPr>
            <p:spPr>
              <a:xfrm>
                <a:off x="5029200" y="4191120"/>
                <a:ext cx="2666880" cy="182880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7" name="Freeform 22"/>
              <p:cNvSpPr/>
              <p:nvPr/>
            </p:nvSpPr>
            <p:spPr>
              <a:xfrm>
                <a:off x="4292640" y="3720960"/>
                <a:ext cx="736560" cy="146052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1460520"/>
                  <a:gd name="textAreaBottom" fmla="*/ 1460520 h 146052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78" name="Group 23"/>
            <p:cNvGrpSpPr/>
            <p:nvPr/>
          </p:nvGrpSpPr>
          <p:grpSpPr>
            <a:xfrm>
              <a:off x="888840" y="1409760"/>
              <a:ext cx="3403440" cy="2298240"/>
              <a:chOff x="888840" y="1409760"/>
              <a:chExt cx="3403440" cy="2298240"/>
            </a:xfrm>
          </p:grpSpPr>
          <p:sp>
            <p:nvSpPr>
              <p:cNvPr id="579" name="Freeform 24"/>
              <p:cNvSpPr/>
              <p:nvPr/>
            </p:nvSpPr>
            <p:spPr>
              <a:xfrm flipH="1" flipV="1">
                <a:off x="888480" y="1409400"/>
                <a:ext cx="2666880" cy="182844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-360 h 1828440"/>
                  <a:gd name="textAreaBottom" fmla="*/ 1828440 h 182844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0" name="Freeform 25"/>
              <p:cNvSpPr/>
              <p:nvPr/>
            </p:nvSpPr>
            <p:spPr>
              <a:xfrm flipH="1" flipV="1">
                <a:off x="3555720" y="2247840"/>
                <a:ext cx="736560" cy="1460160"/>
              </a:xfrm>
              <a:custGeom>
                <a:avLst/>
                <a:gdLst>
                  <a:gd name="textAreaLeft" fmla="*/ 360 w 736560"/>
                  <a:gd name="textAreaRight" fmla="*/ 737280 w 736560"/>
                  <a:gd name="textAreaTop" fmla="*/ 360 h 1460160"/>
                  <a:gd name="textAreaBottom" fmla="*/ 1460880 h 146016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81" name="Freeform 26"/>
          <p:cNvSpPr/>
          <p:nvPr/>
        </p:nvSpPr>
        <p:spPr>
          <a:xfrm>
            <a:off x="4267080" y="2070000"/>
            <a:ext cx="1981440" cy="21211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121120"/>
              <a:gd name="textAreaBottom" fmla="*/ 2121120 h 2121120"/>
            </a:gdLst>
            <a:ahLst/>
            <a:rect l="textAreaLeft" t="textAreaTop" r="textAreaRight" b="textAreaBottom"/>
            <a:pathLst>
              <a:path w="1248" h="1336">
                <a:moveTo>
                  <a:pt x="704" y="0"/>
                </a:moveTo>
                <a:lnTo>
                  <a:pt x="0" y="1048"/>
                </a:lnTo>
                <a:lnTo>
                  <a:pt x="1248" y="13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2" name="Freeform 27"/>
          <p:cNvSpPr/>
          <p:nvPr/>
        </p:nvSpPr>
        <p:spPr>
          <a:xfrm>
            <a:off x="4305240" y="2489040"/>
            <a:ext cx="2882880" cy="35179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17920"/>
              <a:gd name="textAreaBottom" fmla="*/ 3518280 h 3517920"/>
            </a:gdLst>
            <a:ahLst/>
            <a:rect l="textAreaLeft" t="textAreaTop" r="textAreaRight" b="textAreaBottom"/>
            <a:pathLst>
              <a:path w="1816" h="2216">
                <a:moveTo>
                  <a:pt x="1816" y="0"/>
                </a:moveTo>
                <a:lnTo>
                  <a:pt x="0" y="760"/>
                </a:lnTo>
                <a:lnTo>
                  <a:pt x="1360" y="221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3" name="Freeform 28"/>
          <p:cNvSpPr/>
          <p:nvPr/>
        </p:nvSpPr>
        <p:spPr>
          <a:xfrm>
            <a:off x="4292640" y="3543480"/>
            <a:ext cx="1612800" cy="163800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1016" h="1032">
                <a:moveTo>
                  <a:pt x="464" y="1032"/>
                </a:moveTo>
                <a:lnTo>
                  <a:pt x="0" y="104"/>
                </a:lnTo>
                <a:lnTo>
                  <a:pt x="1016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Freeform 29"/>
          <p:cNvSpPr/>
          <p:nvPr/>
        </p:nvSpPr>
        <p:spPr>
          <a:xfrm>
            <a:off x="4305240" y="977760"/>
            <a:ext cx="3390840" cy="405144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4051440"/>
              <a:gd name="textAreaBottom" fmla="*/ 4051800 h 4051440"/>
            </a:gdLst>
            <a:ahLst/>
            <a:rect l="textAreaLeft" t="textAreaTop" r="textAreaRight" b="textAreaBottom"/>
            <a:pathLst>
              <a:path w="2136" h="2552">
                <a:moveTo>
                  <a:pt x="2136" y="2552"/>
                </a:moveTo>
                <a:lnTo>
                  <a:pt x="0" y="1728"/>
                </a:lnTo>
                <a:lnTo>
                  <a:pt x="14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85" name="Group 30"/>
          <p:cNvGrpSpPr/>
          <p:nvPr/>
        </p:nvGrpSpPr>
        <p:grpSpPr>
          <a:xfrm>
            <a:off x="3937680" y="3637440"/>
            <a:ext cx="478080" cy="601560"/>
            <a:chOff x="3937680" y="3637440"/>
            <a:chExt cx="478080" cy="601560"/>
          </a:xfrm>
        </p:grpSpPr>
        <p:sp>
          <p:nvSpPr>
            <p:cNvPr id="586" name="Text Box 31"/>
            <p:cNvSpPr/>
            <p:nvPr/>
          </p:nvSpPr>
          <p:spPr>
            <a:xfrm>
              <a:off x="3937680" y="36576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7" name="Oval 32"/>
            <p:cNvSpPr/>
            <p:nvPr/>
          </p:nvSpPr>
          <p:spPr>
            <a:xfrm rot="3834000">
              <a:off x="4236480" y="3662280"/>
              <a:ext cx="131760" cy="122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88" name="Text Box 33"/>
          <p:cNvSpPr/>
          <p:nvPr/>
        </p:nvSpPr>
        <p:spPr>
          <a:xfrm>
            <a:off x="6094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При повороте многоугольника надо повернуть каждую</a:t>
            </a:r>
            <a:r>
              <a:rPr b="1" lang="en-US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его вершину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4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9"/>
          <p:cNvGrpSpPr/>
          <p:nvPr/>
        </p:nvGrpSpPr>
        <p:grpSpPr>
          <a:xfrm>
            <a:off x="5638680" y="1371600"/>
            <a:ext cx="2590920" cy="3002040"/>
            <a:chOff x="5638680" y="1371600"/>
            <a:chExt cx="2590920" cy="3002040"/>
          </a:xfrm>
        </p:grpSpPr>
        <p:sp>
          <p:nvSpPr>
            <p:cNvPr id="590" name="AutoShape 22"/>
            <p:cNvSpPr/>
            <p:nvPr/>
          </p:nvSpPr>
          <p:spPr>
            <a:xfrm>
              <a:off x="5638680" y="1371600"/>
              <a:ext cx="2590920" cy="22399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1" name="AutoShape 23"/>
            <p:cNvSpPr/>
            <p:nvPr/>
          </p:nvSpPr>
          <p:spPr>
            <a:xfrm flipV="1">
              <a:off x="5638680" y="2133720"/>
              <a:ext cx="2590920" cy="2239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92" name="Freeform 21"/>
          <p:cNvSpPr/>
          <p:nvPr/>
        </p:nvSpPr>
        <p:spPr>
          <a:xfrm>
            <a:off x="5626080" y="2451240"/>
            <a:ext cx="1917720" cy="115560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08" h="728">
                <a:moveTo>
                  <a:pt x="0" y="728"/>
                </a:moveTo>
                <a:lnTo>
                  <a:pt x="1208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143000" y="1066680"/>
            <a:ext cx="2133720" cy="2133720"/>
          </a:xfrm>
          <a:prstGeom prst="rect">
            <a:avLst/>
          </a:prstGeom>
          <a:noFill/>
          <a:ln w="1908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1143000" y="1066680"/>
            <a:ext cx="213372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1143000" y="1066680"/>
            <a:ext cx="2133720" cy="2133720"/>
          </a:xfrm>
          <a:prstGeom prst="line">
            <a:avLst/>
          </a:prstGeom>
          <a:ln w="9360">
            <a:solidFill>
              <a:srgbClr val="6b68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Line 8"/>
          <p:cNvSpPr/>
          <p:nvPr/>
        </p:nvSpPr>
        <p:spPr>
          <a:xfrm flipH="1">
            <a:off x="1142640" y="1066680"/>
            <a:ext cx="2133720" cy="2133720"/>
          </a:xfrm>
          <a:prstGeom prst="line">
            <a:avLst/>
          </a:prstGeom>
          <a:ln w="9360">
            <a:solidFill>
              <a:srgbClr val="6b68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Oval 6"/>
          <p:cNvSpPr/>
          <p:nvPr/>
        </p:nvSpPr>
        <p:spPr>
          <a:xfrm>
            <a:off x="2171880" y="2095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8" name="AutoShape 10"/>
          <p:cNvSpPr/>
          <p:nvPr/>
        </p:nvSpPr>
        <p:spPr>
          <a:xfrm>
            <a:off x="5638680" y="1371600"/>
            <a:ext cx="2590920" cy="2239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2743200" y="3733920"/>
            <a:ext cx="2895480" cy="250488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Freeform 14"/>
          <p:cNvSpPr/>
          <p:nvPr/>
        </p:nvSpPr>
        <p:spPr>
          <a:xfrm>
            <a:off x="3479760" y="3746520"/>
            <a:ext cx="1447920" cy="2502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912" h="1576">
                <a:moveTo>
                  <a:pt x="0" y="0"/>
                </a:moveTo>
                <a:lnTo>
                  <a:pt x="912" y="1576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Freeform 15"/>
          <p:cNvSpPr/>
          <p:nvPr/>
        </p:nvSpPr>
        <p:spPr>
          <a:xfrm>
            <a:off x="3429000" y="3720960"/>
            <a:ext cx="1511280" cy="25146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952" h="1584">
                <a:moveTo>
                  <a:pt x="952" y="0"/>
                </a:moveTo>
                <a:lnTo>
                  <a:pt x="0" y="1584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2" name="Freeform 16"/>
          <p:cNvSpPr/>
          <p:nvPr/>
        </p:nvSpPr>
        <p:spPr>
          <a:xfrm>
            <a:off x="2755800" y="4965840"/>
            <a:ext cx="2870280" cy="12600"/>
          </a:xfrm>
          <a:custGeom>
            <a:avLst/>
            <a:gdLst>
              <a:gd name="textAreaLeft" fmla="*/ 0 w 2870280"/>
              <a:gd name="textAreaRight" fmla="*/ 2870640 w 2870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08" h="8">
                <a:moveTo>
                  <a:pt x="1808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152960" y="4927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AutoShape 17"/>
          <p:cNvSpPr/>
          <p:nvPr/>
        </p:nvSpPr>
        <p:spPr>
          <a:xfrm>
            <a:off x="2743200" y="3743280"/>
            <a:ext cx="2895480" cy="2505240"/>
          </a:xfrm>
          <a:prstGeom prst="hexagon">
            <a:avLst>
              <a:gd name="adj" fmla="val 28894"/>
              <a:gd name="vf" fmla="val 11547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Freeform 19"/>
          <p:cNvSpPr/>
          <p:nvPr/>
        </p:nvSpPr>
        <p:spPr>
          <a:xfrm>
            <a:off x="6931080" y="1371600"/>
            <a:ext cx="3240" cy="2209680"/>
          </a:xfrm>
          <a:custGeom>
            <a:avLst/>
            <a:gdLst>
              <a:gd name="textAreaLeft" fmla="*/ 0 w 3240"/>
              <a:gd name="textAreaRight" fmla="*/ 3600 w 32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" h="1392">
                <a:moveTo>
                  <a:pt x="2" y="139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6" name="Freeform 20"/>
          <p:cNvSpPr/>
          <p:nvPr/>
        </p:nvSpPr>
        <p:spPr>
          <a:xfrm>
            <a:off x="6324480" y="2438280"/>
            <a:ext cx="1905120" cy="11811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200" h="744">
                <a:moveTo>
                  <a:pt x="1200" y="7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Oval 12"/>
          <p:cNvSpPr/>
          <p:nvPr/>
        </p:nvSpPr>
        <p:spPr>
          <a:xfrm>
            <a:off x="6896160" y="27687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3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3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43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23:19Z</dcterms:created>
  <dc:creator>First</dc:creator>
  <dc:description/>
  <dc:language>en-US</dc:language>
  <cp:lastModifiedBy>прадо-150</cp:lastModifiedBy>
  <dcterms:modified xsi:type="dcterms:W3CDTF">2017-03-19T10:08:24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