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75d72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875d7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E8AB-C68F-4874-BA39-81343E9A9F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4CF2-B8E3-4F15-B214-144925A88B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DDD7-3D2D-4891-98C9-0D685ADA4D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. Эшер «Бабочки». Поворот. Центральная симметрия. Параллельный перен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985B-0569-45D7-829B-F038B7B44A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5322-C69C-40CE-B2FB-D0CDBAF1D4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AC58-C6A1-430D-B51E-0CDDEEAB42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Геометрия 7-9»  Л.С. Атанасян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C5A6-BE6C-4447-BF30-7E5F65E7A1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ой угол можно повернуть эти фигуры, чтобы при повороте фигура отобразилась сама на себя? 1) 90, 180, 270 360;  2) 120, 240, 360;  3) 60, 120, 180, 2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300, 3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B81-9EC2-431D-A3C6-F5295283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563-A8DC-4878-A7EF-B4BDCF95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7AF-675E-4B76-AB84-3F22C0CD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E72-64DA-4214-A967-6C28DE73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6801-465C-42C9-BFE2-13C51499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0F17-87A5-40CA-93FD-831EE663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8B40-61AF-4389-9E0F-4F5F30E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61E6-8C2B-4B40-8519-AEF0148B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C1ED-E981-473C-AFFB-CB4959D8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C9FF-ED01-47F8-8B57-3699872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3967-4CBC-446B-BAB7-A3C6534B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AF5-4D53-4350-90A2-676B24B7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5FAB-8FFC-4F31-AC12-DB2345BA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6862-C3F9-4417-9D70-D53FBC7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C912-034E-4739-A9AC-392E9809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F5EA-D83C-42F8-B7B3-F49942B1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F37D-8A21-48EC-B6A4-5B4DD2B0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D1FD-5CA3-4B9E-A79D-935DFEDF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4599C-F804-4B7F-94CC-ACEC436D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58B32-D7E5-4617-915F-BD264D3A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03F3-8E40-4CF7-9925-58069B5B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19353-A550-4DBD-96D7-F7177E3E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EFB-C37D-4021-B34B-4EC6AF9E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0CB8-8988-4E3D-9B80-C9AFD767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75582-C9CF-4070-849B-8EE0FA34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30F6-049B-4D79-80C0-058759FD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14F0-638F-42E8-A657-AE2D5AAD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2B34-299F-46C1-AD77-42D6C649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4E79-26A4-4D59-9C62-F4EFDF3F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EC68-84E5-48AE-A968-79B4CE80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D8BF-73C3-4913-A51A-39078FB5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A826E-787A-4C91-BA11-D3AB1F27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3E088-DCF3-4B28-9409-AEA65D19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47F-5679-4A13-AA6D-D37A15E7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5EB5F-EA3D-4BEF-9C2C-C72932F2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9314-14BB-44FC-AC29-66BA92BB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FB05-C266-435F-828C-53F1015B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A028E-C2CE-4D8E-814C-AC969CEB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148C-4971-452F-B834-C84F4E9F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6C3C-4F14-4F84-8254-9C494663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AF4E-CF07-4A7C-A69F-2CEEDBDB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22B1C-A802-4B4C-A7FA-36600DA0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1C21-695C-41E5-94FF-13ABB8DF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48B-656D-4ADC-A1BA-8299E2DB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9A7-5A2D-4AD0-9EBD-2A53119B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604-9343-446F-9C56-C209002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297-9933-4D18-A5C5-81AD42D0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8F9-E191-4800-B22D-4F77C19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4b41">
                  <a:alpha val="45098"/>
                </a:srgbClr>
              </a:gs>
              <a:gs pos="100000">
                <a:srgbClr val="84496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3d52">
                  <a:alpha val="45098"/>
                </a:srgbClr>
              </a:gs>
              <a:gs pos="100000">
                <a:srgbClr val="795a4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b687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48e9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836a5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3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AF2E-9FB8-450B-BB9A-80141ECE2ADE}" type="slidenum">
              <a:rPr b="0" lang="ru-RU" sz="1200" spc="-1" strike="noStrike">
                <a:solidFill>
                  <a:srgbClr val="66637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4b41">
                  <a:alpha val="45098"/>
                </a:srgbClr>
              </a:gs>
              <a:gs pos="100000">
                <a:srgbClr val="84496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3d52">
                  <a:alpha val="45098"/>
                </a:srgbClr>
              </a:gs>
              <a:gs pos="100000">
                <a:srgbClr val="795a4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75d7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875d7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48e9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836a5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158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5CE3-0D63-4200-BBE0-D0C0AB9D102B}" type="slidenum">
              <a:rPr b="0" lang="ru-RU" sz="1200" spc="-1" strike="noStrike">
                <a:solidFill>
                  <a:srgbClr val="8158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4b41">
                  <a:alpha val="45098"/>
                </a:srgbClr>
              </a:gs>
              <a:gs pos="100000">
                <a:srgbClr val="84496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3d52">
                  <a:alpha val="45098"/>
                </a:srgbClr>
              </a:gs>
              <a:gs pos="100000">
                <a:srgbClr val="795a4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75d7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875d7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48e9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836a5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158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732E-8D9B-46A4-BA98-54A8D572304A}" type="slidenum">
              <a:rPr b="0" lang="ru-RU" sz="1200" spc="-1" strike="noStrike">
                <a:solidFill>
                  <a:srgbClr val="81586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614b41">
                  <a:alpha val="45098"/>
                </a:srgbClr>
              </a:gs>
              <a:gs pos="100000">
                <a:srgbClr val="84496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3d52">
                  <a:alpha val="45098"/>
                </a:srgbClr>
              </a:gs>
              <a:gs pos="100000">
                <a:srgbClr val="795a4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b687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48e9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836a5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63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24E6-9FFB-4219-B235-4F6F23747A8B}" type="slidenum">
              <a:rPr b="0" lang="ru-RU" sz="1200" spc="-1" strike="noStrike">
                <a:solidFill>
                  <a:srgbClr val="66637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189080" y="1414440"/>
            <a:ext cx="5638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042560" y="5896080"/>
            <a:ext cx="7854840" cy="961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Белявской Александры 9Б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reeform 2"/>
          <p:cNvSpPr/>
          <p:nvPr/>
        </p:nvSpPr>
        <p:spPr>
          <a:xfrm>
            <a:off x="3505320" y="4089240"/>
            <a:ext cx="2108160" cy="1625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1328" h="1024">
                <a:moveTo>
                  <a:pt x="1328" y="784"/>
                </a:moveTo>
                <a:lnTo>
                  <a:pt x="0" y="1024"/>
                </a:lnTo>
                <a:lnTo>
                  <a:pt x="85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2997720" y="5562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10" name="Group 14"/>
          <p:cNvGrpSpPr/>
          <p:nvPr/>
        </p:nvGrpSpPr>
        <p:grpSpPr>
          <a:xfrm>
            <a:off x="-1829160" y="4572000"/>
            <a:ext cx="10693800" cy="2286000"/>
            <a:chOff x="-1829160" y="4572000"/>
            <a:chExt cx="10693800" cy="2286000"/>
          </a:xfrm>
        </p:grpSpPr>
        <p:sp>
          <p:nvSpPr>
            <p:cNvPr id="611" name="Freeform 15"/>
            <p:cNvSpPr/>
            <p:nvPr/>
          </p:nvSpPr>
          <p:spPr>
            <a:xfrm>
              <a:off x="3530520" y="4572000"/>
              <a:ext cx="5334120" cy="1905120"/>
            </a:xfrm>
            <a:custGeom>
              <a:avLst/>
              <a:gdLst>
                <a:gd name="textAreaLeft" fmla="*/ 0 w 5334120"/>
                <a:gd name="textAreaRight" fmla="*/ 5334120 w 53341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360" h="1200">
                  <a:moveTo>
                    <a:pt x="0" y="720"/>
                  </a:moveTo>
                  <a:lnTo>
                    <a:pt x="1920" y="1200"/>
                  </a:lnTo>
                  <a:lnTo>
                    <a:pt x="1296" y="480"/>
                  </a:lnTo>
                  <a:lnTo>
                    <a:pt x="3360" y="0"/>
                  </a:lnTo>
                  <a:lnTo>
                    <a:pt x="1920" y="1200"/>
                  </a:lnTo>
                </a:path>
              </a:pathLst>
            </a:custGeom>
            <a:solidFill>
              <a:srgbClr val="93e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2" name="Freeform 16"/>
            <p:cNvSpPr/>
            <p:nvPr/>
          </p:nvSpPr>
          <p:spPr>
            <a:xfrm flipH="1" flipV="1">
              <a:off x="-1829520" y="4952880"/>
              <a:ext cx="5334120" cy="1905120"/>
            </a:xfrm>
            <a:custGeom>
              <a:avLst/>
              <a:gdLst>
                <a:gd name="textAreaLeft" fmla="*/ 0 w 5334120"/>
                <a:gd name="textAreaRight" fmla="*/ 5334120 w 5334120"/>
                <a:gd name="textAreaTop" fmla="*/ 360 h 1905120"/>
                <a:gd name="textAreaBottom" fmla="*/ 1905840 h 1905120"/>
              </a:gdLst>
              <a:ahLst/>
              <a:rect l="textAreaLeft" t="textAreaTop" r="textAreaRight" b="textAreaBottom"/>
              <a:pathLst>
                <a:path w="3360" h="1200">
                  <a:moveTo>
                    <a:pt x="0" y="720"/>
                  </a:moveTo>
                  <a:lnTo>
                    <a:pt x="1920" y="1200"/>
                  </a:lnTo>
                  <a:lnTo>
                    <a:pt x="1296" y="480"/>
                  </a:lnTo>
                  <a:lnTo>
                    <a:pt x="3360" y="0"/>
                  </a:lnTo>
                  <a:lnTo>
                    <a:pt x="1920" y="1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613" name="Group 17"/>
          <p:cNvGrpSpPr/>
          <p:nvPr/>
        </p:nvGrpSpPr>
        <p:grpSpPr>
          <a:xfrm>
            <a:off x="-1829160" y="4572000"/>
            <a:ext cx="10693800" cy="2286000"/>
            <a:chOff x="-1829160" y="4572000"/>
            <a:chExt cx="10693800" cy="2286000"/>
          </a:xfrm>
        </p:grpSpPr>
        <p:sp>
          <p:nvSpPr>
            <p:cNvPr id="614" name="Freeform 18"/>
            <p:cNvSpPr/>
            <p:nvPr/>
          </p:nvSpPr>
          <p:spPr>
            <a:xfrm>
              <a:off x="3530520" y="4572000"/>
              <a:ext cx="5334120" cy="1905120"/>
            </a:xfrm>
            <a:custGeom>
              <a:avLst/>
              <a:gdLst>
                <a:gd name="textAreaLeft" fmla="*/ 0 w 5334120"/>
                <a:gd name="textAreaRight" fmla="*/ 5334120 w 533412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360" h="1200">
                  <a:moveTo>
                    <a:pt x="0" y="720"/>
                  </a:moveTo>
                  <a:lnTo>
                    <a:pt x="1920" y="1200"/>
                  </a:lnTo>
                  <a:lnTo>
                    <a:pt x="1296" y="480"/>
                  </a:lnTo>
                  <a:lnTo>
                    <a:pt x="3360" y="0"/>
                  </a:lnTo>
                  <a:lnTo>
                    <a:pt x="1920" y="1200"/>
                  </a:lnTo>
                </a:path>
              </a:pathLst>
            </a:custGeom>
            <a:solidFill>
              <a:srgbClr val="93ea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5" name="Freeform 19"/>
            <p:cNvSpPr/>
            <p:nvPr/>
          </p:nvSpPr>
          <p:spPr>
            <a:xfrm flipH="1" flipV="1">
              <a:off x="-1829520" y="4952880"/>
              <a:ext cx="5334120" cy="1905120"/>
            </a:xfrm>
            <a:custGeom>
              <a:avLst/>
              <a:gdLst>
                <a:gd name="textAreaLeft" fmla="*/ 0 w 5334120"/>
                <a:gd name="textAreaRight" fmla="*/ 5334120 w 5334120"/>
                <a:gd name="textAreaTop" fmla="*/ 360 h 1905120"/>
                <a:gd name="textAreaBottom" fmla="*/ 1905840 h 1905120"/>
              </a:gdLst>
              <a:ahLst/>
              <a:rect l="textAreaLeft" t="textAreaTop" r="textAreaRight" b="textAreaBottom"/>
              <a:pathLst>
                <a:path w="3360" h="1200">
                  <a:moveTo>
                    <a:pt x="0" y="720"/>
                  </a:moveTo>
                  <a:lnTo>
                    <a:pt x="1920" y="1200"/>
                  </a:lnTo>
                  <a:lnTo>
                    <a:pt x="1296" y="480"/>
                  </a:lnTo>
                  <a:lnTo>
                    <a:pt x="3360" y="0"/>
                  </a:lnTo>
                  <a:lnTo>
                    <a:pt x="1920" y="1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16" name="Oval 20"/>
          <p:cNvSpPr/>
          <p:nvPr/>
        </p:nvSpPr>
        <p:spPr>
          <a:xfrm rot="3834000">
            <a:off x="3449160" y="5656320"/>
            <a:ext cx="131760" cy="12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7" name="Text Box 21"/>
          <p:cNvSpPr/>
          <p:nvPr/>
        </p:nvSpPr>
        <p:spPr>
          <a:xfrm>
            <a:off x="5638680" y="30492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956"/>
                </a:solidFill>
                <a:latin typeface="Arial"/>
              </a:rPr>
              <a:t>Центр поворота фигуры может быть во внутренней области фигуры и во внешней…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8" name="Freeform 22"/>
          <p:cNvSpPr/>
          <p:nvPr/>
        </p:nvSpPr>
        <p:spPr>
          <a:xfrm>
            <a:off x="685800" y="685800"/>
            <a:ext cx="4876920" cy="3048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3072" h="1920">
                <a:moveTo>
                  <a:pt x="0" y="1872"/>
                </a:moveTo>
                <a:lnTo>
                  <a:pt x="1008" y="0"/>
                </a:lnTo>
                <a:lnTo>
                  <a:pt x="3072" y="672"/>
                </a:lnTo>
                <a:lnTo>
                  <a:pt x="1872" y="1920"/>
                </a:lnTo>
                <a:lnTo>
                  <a:pt x="0" y="1872"/>
                </a:lnTo>
                <a:close/>
              </a:path>
            </a:pathLst>
          </a:custGeom>
          <a:solidFill>
            <a:srgbClr val="ff3300">
              <a:alpha val="32000"/>
            </a:srgbClr>
          </a:solidFill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Freeform 23"/>
          <p:cNvSpPr/>
          <p:nvPr/>
        </p:nvSpPr>
        <p:spPr>
          <a:xfrm>
            <a:off x="685800" y="685800"/>
            <a:ext cx="4876920" cy="304812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3072" h="1920">
                <a:moveTo>
                  <a:pt x="0" y="1872"/>
                </a:moveTo>
                <a:lnTo>
                  <a:pt x="1008" y="0"/>
                </a:lnTo>
                <a:lnTo>
                  <a:pt x="3072" y="672"/>
                </a:lnTo>
                <a:lnTo>
                  <a:pt x="1872" y="1920"/>
                </a:lnTo>
                <a:lnTo>
                  <a:pt x="0" y="1872"/>
                </a:lnTo>
                <a:close/>
              </a:path>
            </a:pathLst>
          </a:custGeom>
          <a:solidFill>
            <a:srgbClr val="6600cc">
              <a:alpha val="32000"/>
            </a:srgbClr>
          </a:solidFill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Freeform 27"/>
          <p:cNvSpPr/>
          <p:nvPr/>
        </p:nvSpPr>
        <p:spPr>
          <a:xfrm>
            <a:off x="685800" y="2184480"/>
            <a:ext cx="2476440" cy="1473120"/>
          </a:xfrm>
          <a:custGeom>
            <a:avLst/>
            <a:gdLst>
              <a:gd name="textAreaLeft" fmla="*/ 0 w 2476440"/>
              <a:gd name="textAreaRight" fmla="*/ 2476800 w 247644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1560" h="928">
                <a:moveTo>
                  <a:pt x="1560" y="0"/>
                </a:moveTo>
                <a:lnTo>
                  <a:pt x="0" y="928"/>
                </a:lnTo>
              </a:path>
            </a:pathLst>
          </a:custGeom>
          <a:noFill/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1" name="Freeform 30"/>
          <p:cNvSpPr/>
          <p:nvPr/>
        </p:nvSpPr>
        <p:spPr>
          <a:xfrm>
            <a:off x="633240" y="824040"/>
            <a:ext cx="2516400" cy="136980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1585" h="863">
                <a:moveTo>
                  <a:pt x="1585" y="86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2" name="Oval 24"/>
          <p:cNvSpPr/>
          <p:nvPr/>
        </p:nvSpPr>
        <p:spPr>
          <a:xfrm rot="3834000">
            <a:off x="3085560" y="2138400"/>
            <a:ext cx="131760" cy="12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463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467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60"/>
          <p:cNvPicPr/>
          <p:nvPr/>
        </p:nvPicPr>
        <p:blipFill>
          <a:blip r:embed="rId1"/>
          <a:stretch/>
        </p:blipFill>
        <p:spPr>
          <a:xfrm>
            <a:off x="1143000" y="76320"/>
            <a:ext cx="6813720" cy="675324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15"/>
          <p:cNvGrpSpPr/>
          <p:nvPr/>
        </p:nvGrpSpPr>
        <p:grpSpPr>
          <a:xfrm>
            <a:off x="1028880" y="2471760"/>
            <a:ext cx="3619440" cy="1893600"/>
            <a:chOff x="1028880" y="2471760"/>
            <a:chExt cx="3619440" cy="1893600"/>
          </a:xfrm>
        </p:grpSpPr>
        <p:sp>
          <p:nvSpPr>
            <p:cNvPr id="625" name="Freeform 13"/>
            <p:cNvSpPr/>
            <p:nvPr/>
          </p:nvSpPr>
          <p:spPr>
            <a:xfrm>
              <a:off x="2819520" y="247176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b687a">
                <a:alpha val="54000"/>
              </a:srgbClr>
            </a:solidFill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 flipH="1" flipV="1">
              <a:off x="1028520" y="264096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627" name="Group 27"/>
          <p:cNvGrpSpPr/>
          <p:nvPr/>
        </p:nvGrpSpPr>
        <p:grpSpPr>
          <a:xfrm>
            <a:off x="3606840" y="1218960"/>
            <a:ext cx="3581280" cy="4480200"/>
            <a:chOff x="3606840" y="1218960"/>
            <a:chExt cx="3581280" cy="4480200"/>
          </a:xfrm>
        </p:grpSpPr>
        <p:sp>
          <p:nvSpPr>
            <p:cNvPr id="628" name="Freeform 17"/>
            <p:cNvSpPr/>
            <p:nvPr/>
          </p:nvSpPr>
          <p:spPr>
            <a:xfrm>
              <a:off x="5359320" y="397512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600cc">
                <a:alpha val="80000"/>
              </a:srgbClr>
            </a:solidFill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 flipH="1" flipV="1">
              <a:off x="3606840" y="121860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6600cc">
                <a:alpha val="80000"/>
              </a:srgbClr>
            </a:solidFill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30" name="Line 20"/>
          <p:cNvSpPr/>
          <p:nvPr/>
        </p:nvSpPr>
        <p:spPr>
          <a:xfrm>
            <a:off x="3962520" y="2895480"/>
            <a:ext cx="2819160" cy="10670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1" name="Line 21"/>
          <p:cNvSpPr/>
          <p:nvPr/>
        </p:nvSpPr>
        <p:spPr>
          <a:xfrm flipH="1">
            <a:off x="5333760" y="1981080"/>
            <a:ext cx="75960" cy="29718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32" name="Group 28"/>
          <p:cNvGrpSpPr/>
          <p:nvPr/>
        </p:nvGrpSpPr>
        <p:grpSpPr>
          <a:xfrm>
            <a:off x="4648320" y="1219320"/>
            <a:ext cx="1460520" cy="4432320"/>
            <a:chOff x="4648320" y="1219320"/>
            <a:chExt cx="1460520" cy="4432320"/>
          </a:xfrm>
        </p:grpSpPr>
        <p:sp>
          <p:nvSpPr>
            <p:cNvPr id="633" name="Freeform 22"/>
            <p:cNvSpPr/>
            <p:nvPr/>
          </p:nvSpPr>
          <p:spPr>
            <a:xfrm>
              <a:off x="4648320" y="1219320"/>
              <a:ext cx="723960" cy="2222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222280"/>
                <a:gd name="textAreaBottom" fmla="*/ 2222640 h 2222280"/>
              </a:gdLst>
              <a:ahLst/>
              <a:rect l="textAreaLeft" t="textAreaTop" r="textAreaRight" b="textAreaBottom"/>
              <a:pathLst>
                <a:path w="456" h="1400">
                  <a:moveTo>
                    <a:pt x="0" y="0"/>
                  </a:moveTo>
                  <a:lnTo>
                    <a:pt x="456" y="140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4" name="Freeform 23"/>
            <p:cNvSpPr/>
            <p:nvPr/>
          </p:nvSpPr>
          <p:spPr>
            <a:xfrm>
              <a:off x="5384880" y="3429000"/>
              <a:ext cx="723960" cy="222264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2222640"/>
                <a:gd name="textAreaBottom" fmla="*/ 2223000 h 2222640"/>
              </a:gdLst>
              <a:ahLst/>
              <a:rect l="textAreaLeft" t="textAreaTop" r="textAreaRight" b="textAreaBottom"/>
              <a:pathLst>
                <a:path w="456" h="1400">
                  <a:moveTo>
                    <a:pt x="0" y="0"/>
                  </a:moveTo>
                  <a:lnTo>
                    <a:pt x="456" y="1400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635" name="Group 29"/>
          <p:cNvGrpSpPr/>
          <p:nvPr/>
        </p:nvGrpSpPr>
        <p:grpSpPr>
          <a:xfrm>
            <a:off x="3733920" y="1981080"/>
            <a:ext cx="3352680" cy="2895840"/>
            <a:chOff x="3733920" y="1981080"/>
            <a:chExt cx="3352680" cy="2895840"/>
          </a:xfrm>
        </p:grpSpPr>
        <p:sp>
          <p:nvSpPr>
            <p:cNvPr id="636" name="Line 24"/>
            <p:cNvSpPr/>
            <p:nvPr/>
          </p:nvSpPr>
          <p:spPr>
            <a:xfrm>
              <a:off x="3733920" y="1981080"/>
              <a:ext cx="167616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7" name="Line 25"/>
            <p:cNvSpPr/>
            <p:nvPr/>
          </p:nvSpPr>
          <p:spPr>
            <a:xfrm>
              <a:off x="5410080" y="3429000"/>
              <a:ext cx="1676520" cy="144792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38" name="Oval 26"/>
          <p:cNvSpPr/>
          <p:nvPr/>
        </p:nvSpPr>
        <p:spPr>
          <a:xfrm>
            <a:off x="5334120" y="3378240"/>
            <a:ext cx="1267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639" name="Group 34"/>
          <p:cNvGrpSpPr/>
          <p:nvPr/>
        </p:nvGrpSpPr>
        <p:grpSpPr>
          <a:xfrm>
            <a:off x="-379800" y="1431720"/>
            <a:ext cx="6458400" cy="3981960"/>
            <a:chOff x="-379800" y="1431720"/>
            <a:chExt cx="6458400" cy="3981960"/>
          </a:xfrm>
        </p:grpSpPr>
        <p:sp>
          <p:nvSpPr>
            <p:cNvPr id="640" name="Freeform 31"/>
            <p:cNvSpPr/>
            <p:nvPr/>
          </p:nvSpPr>
          <p:spPr>
            <a:xfrm rot="14403600">
              <a:off x="3960720" y="3328920"/>
              <a:ext cx="1828800" cy="172404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ff0000">
                <a:alpha val="80000"/>
              </a:srgbClr>
            </a:solidFill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41" name="Freeform 33"/>
            <p:cNvSpPr/>
            <p:nvPr/>
          </p:nvSpPr>
          <p:spPr>
            <a:xfrm flipH="1" flipV="1" rot="14403600">
              <a:off x="-91080" y="1792080"/>
              <a:ext cx="1828800" cy="1724040"/>
            </a:xfrm>
            <a:custGeom>
              <a:avLst/>
              <a:gdLst>
                <a:gd name="textAreaLeft" fmla="*/ 360 w 1828800"/>
                <a:gd name="textAreaRight" fmla="*/ 1829520 w 1828800"/>
                <a:gd name="textAreaTop" fmla="*/ -360 h 1724040"/>
                <a:gd name="textAreaBottom" fmla="*/ 1724040 h 1724040"/>
              </a:gdLst>
              <a:ahLst/>
              <a:rect l="textAreaLeft" t="textAreaTop" r="textAreaRight" b="textAreaBottom"/>
              <a:pathLst>
                <a:path w="1152" h="1086">
                  <a:moveTo>
                    <a:pt x="0" y="603"/>
                  </a:moveTo>
                  <a:lnTo>
                    <a:pt x="240" y="555"/>
                  </a:lnTo>
                  <a:lnTo>
                    <a:pt x="408" y="525"/>
                  </a:lnTo>
                  <a:lnTo>
                    <a:pt x="522" y="522"/>
                  </a:lnTo>
                  <a:lnTo>
                    <a:pt x="498" y="492"/>
                  </a:lnTo>
                  <a:lnTo>
                    <a:pt x="495" y="441"/>
                  </a:lnTo>
                  <a:lnTo>
                    <a:pt x="480" y="363"/>
                  </a:lnTo>
                  <a:lnTo>
                    <a:pt x="630" y="417"/>
                  </a:lnTo>
                  <a:lnTo>
                    <a:pt x="672" y="459"/>
                  </a:lnTo>
                  <a:lnTo>
                    <a:pt x="693" y="360"/>
                  </a:lnTo>
                  <a:lnTo>
                    <a:pt x="750" y="234"/>
                  </a:lnTo>
                  <a:lnTo>
                    <a:pt x="933" y="0"/>
                  </a:lnTo>
                  <a:lnTo>
                    <a:pt x="954" y="51"/>
                  </a:lnTo>
                  <a:lnTo>
                    <a:pt x="1008" y="123"/>
                  </a:lnTo>
                  <a:lnTo>
                    <a:pt x="1125" y="231"/>
                  </a:lnTo>
                  <a:lnTo>
                    <a:pt x="1002" y="330"/>
                  </a:lnTo>
                  <a:lnTo>
                    <a:pt x="1056" y="363"/>
                  </a:lnTo>
                  <a:lnTo>
                    <a:pt x="1152" y="375"/>
                  </a:lnTo>
                  <a:lnTo>
                    <a:pt x="1104" y="459"/>
                  </a:lnTo>
                  <a:lnTo>
                    <a:pt x="1086" y="540"/>
                  </a:lnTo>
                  <a:lnTo>
                    <a:pt x="1089" y="615"/>
                  </a:lnTo>
                  <a:lnTo>
                    <a:pt x="1053" y="642"/>
                  </a:lnTo>
                  <a:lnTo>
                    <a:pt x="969" y="669"/>
                  </a:lnTo>
                  <a:lnTo>
                    <a:pt x="885" y="678"/>
                  </a:lnTo>
                  <a:lnTo>
                    <a:pt x="906" y="762"/>
                  </a:lnTo>
                  <a:lnTo>
                    <a:pt x="912" y="843"/>
                  </a:lnTo>
                  <a:lnTo>
                    <a:pt x="804" y="810"/>
                  </a:lnTo>
                  <a:lnTo>
                    <a:pt x="750" y="771"/>
                  </a:lnTo>
                  <a:lnTo>
                    <a:pt x="729" y="864"/>
                  </a:lnTo>
                  <a:lnTo>
                    <a:pt x="681" y="984"/>
                  </a:lnTo>
                  <a:lnTo>
                    <a:pt x="651" y="1038"/>
                  </a:lnTo>
                  <a:lnTo>
                    <a:pt x="540" y="1056"/>
                  </a:lnTo>
                  <a:lnTo>
                    <a:pt x="468" y="1086"/>
                  </a:lnTo>
                  <a:lnTo>
                    <a:pt x="465" y="963"/>
                  </a:lnTo>
                  <a:lnTo>
                    <a:pt x="432" y="891"/>
                  </a:lnTo>
                  <a:lnTo>
                    <a:pt x="378" y="936"/>
                  </a:lnTo>
                  <a:lnTo>
                    <a:pt x="336" y="987"/>
                  </a:lnTo>
                  <a:lnTo>
                    <a:pt x="309" y="993"/>
                  </a:lnTo>
                  <a:lnTo>
                    <a:pt x="228" y="852"/>
                  </a:lnTo>
                  <a:lnTo>
                    <a:pt x="189" y="807"/>
                  </a:lnTo>
                  <a:lnTo>
                    <a:pt x="96" y="717"/>
                  </a:lnTo>
                  <a:lnTo>
                    <a:pt x="0" y="60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642" name="Freeform 36"/>
          <p:cNvSpPr/>
          <p:nvPr/>
        </p:nvSpPr>
        <p:spPr>
          <a:xfrm rot="7159800">
            <a:off x="1559880" y="432720"/>
            <a:ext cx="1828800" cy="17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24040"/>
              <a:gd name="textAreaBottom" fmla="*/ 1724400 h 1724040"/>
            </a:gdLst>
            <a:ahLst/>
            <a:rect l="textAreaLeft" t="textAreaTop" r="textAreaRight" b="textAreaBottom"/>
            <a:pathLst>
              <a:path w="1152" h="1086">
                <a:moveTo>
                  <a:pt x="0" y="603"/>
                </a:moveTo>
                <a:lnTo>
                  <a:pt x="240" y="555"/>
                </a:lnTo>
                <a:lnTo>
                  <a:pt x="408" y="525"/>
                </a:lnTo>
                <a:lnTo>
                  <a:pt x="522" y="522"/>
                </a:lnTo>
                <a:lnTo>
                  <a:pt x="498" y="492"/>
                </a:lnTo>
                <a:lnTo>
                  <a:pt x="495" y="441"/>
                </a:lnTo>
                <a:lnTo>
                  <a:pt x="480" y="363"/>
                </a:lnTo>
                <a:lnTo>
                  <a:pt x="630" y="417"/>
                </a:lnTo>
                <a:lnTo>
                  <a:pt x="672" y="459"/>
                </a:lnTo>
                <a:lnTo>
                  <a:pt x="693" y="360"/>
                </a:lnTo>
                <a:lnTo>
                  <a:pt x="750" y="234"/>
                </a:lnTo>
                <a:lnTo>
                  <a:pt x="933" y="0"/>
                </a:lnTo>
                <a:lnTo>
                  <a:pt x="954" y="51"/>
                </a:lnTo>
                <a:lnTo>
                  <a:pt x="1008" y="123"/>
                </a:lnTo>
                <a:lnTo>
                  <a:pt x="1125" y="231"/>
                </a:lnTo>
                <a:lnTo>
                  <a:pt x="1002" y="330"/>
                </a:lnTo>
                <a:lnTo>
                  <a:pt x="1056" y="363"/>
                </a:lnTo>
                <a:lnTo>
                  <a:pt x="1152" y="375"/>
                </a:lnTo>
                <a:lnTo>
                  <a:pt x="1104" y="459"/>
                </a:lnTo>
                <a:lnTo>
                  <a:pt x="1086" y="540"/>
                </a:lnTo>
                <a:lnTo>
                  <a:pt x="1089" y="615"/>
                </a:lnTo>
                <a:lnTo>
                  <a:pt x="1053" y="642"/>
                </a:lnTo>
                <a:lnTo>
                  <a:pt x="969" y="669"/>
                </a:lnTo>
                <a:lnTo>
                  <a:pt x="885" y="678"/>
                </a:lnTo>
                <a:lnTo>
                  <a:pt x="906" y="762"/>
                </a:lnTo>
                <a:lnTo>
                  <a:pt x="912" y="843"/>
                </a:lnTo>
                <a:lnTo>
                  <a:pt x="804" y="810"/>
                </a:lnTo>
                <a:lnTo>
                  <a:pt x="750" y="771"/>
                </a:lnTo>
                <a:lnTo>
                  <a:pt x="729" y="864"/>
                </a:lnTo>
                <a:lnTo>
                  <a:pt x="681" y="984"/>
                </a:lnTo>
                <a:lnTo>
                  <a:pt x="651" y="1038"/>
                </a:lnTo>
                <a:lnTo>
                  <a:pt x="540" y="1056"/>
                </a:lnTo>
                <a:lnTo>
                  <a:pt x="468" y="1086"/>
                </a:lnTo>
                <a:lnTo>
                  <a:pt x="465" y="963"/>
                </a:lnTo>
                <a:lnTo>
                  <a:pt x="432" y="891"/>
                </a:lnTo>
                <a:lnTo>
                  <a:pt x="378" y="936"/>
                </a:lnTo>
                <a:lnTo>
                  <a:pt x="336" y="987"/>
                </a:lnTo>
                <a:lnTo>
                  <a:pt x="309" y="993"/>
                </a:lnTo>
                <a:lnTo>
                  <a:pt x="228" y="852"/>
                </a:lnTo>
                <a:lnTo>
                  <a:pt x="189" y="807"/>
                </a:lnTo>
                <a:lnTo>
                  <a:pt x="96" y="717"/>
                </a:lnTo>
                <a:lnTo>
                  <a:pt x="0" y="603"/>
                </a:lnTo>
                <a:close/>
              </a:path>
            </a:pathLst>
          </a:custGeom>
          <a:solidFill>
            <a:srgbClr val="00cc00">
              <a:alpha val="80000"/>
            </a:srgbClr>
          </a:solidFill>
          <a:ln w="9360">
            <a:solidFill>
              <a:srgbClr val="6b68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3" name="Oval 38"/>
          <p:cNvSpPr/>
          <p:nvPr/>
        </p:nvSpPr>
        <p:spPr>
          <a:xfrm>
            <a:off x="2755800" y="3365640"/>
            <a:ext cx="1270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7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8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8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9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9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49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50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51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480000">
                                      <p:cBhvr>
                                        <p:cTn id="51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375 0.01667 L 0.5625 0.01482 E">
                                      <p:cBhvr>
                                        <p:cTn id="524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поворот"/>
          <p:cNvPicPr/>
          <p:nvPr/>
        </p:nvPicPr>
        <p:blipFill>
          <a:blip r:embed="rId1"/>
          <a:stretch/>
        </p:blipFill>
        <p:spPr>
          <a:xfrm>
            <a:off x="0" y="3429000"/>
            <a:ext cx="4143240" cy="3030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6760" y="76320"/>
            <a:ext cx="8548920" cy="83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984956"/>
                </a:solidFill>
                <a:latin typeface="Monotype Corsiva"/>
              </a:rPr>
              <a:t>ПОВОРОТ</a:t>
            </a: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85520" y="1214280"/>
            <a:ext cx="739116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образование, при котором каждая точка Х  фигуры  поворачивается на один и тот же угол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α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круг заданного центра О, называется </a:t>
            </a:r>
            <a:r>
              <a:rPr b="1" i="1" lang="ru-RU" sz="2000" spc="-1" strike="noStrike">
                <a:solidFill>
                  <a:srgbClr val="984956"/>
                </a:solidFill>
                <a:latin typeface="Arial"/>
                <a:ea typeface="Arial"/>
              </a:rPr>
              <a:t>вращением или поворотом плоскост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35"/>
          <p:cNvSpPr/>
          <p:nvPr/>
        </p:nvSpPr>
        <p:spPr>
          <a:xfrm>
            <a:off x="4427640" y="4292640"/>
            <a:ext cx="3543120" cy="1923480"/>
          </a:xfrm>
          <a:prstGeom prst="rect">
            <a:avLst/>
          </a:prstGeom>
          <a:noFill/>
          <a:ln w="9360">
            <a:solidFill>
              <a:srgbClr val="b48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lang="ru-RU" sz="2000" spc="-1" strike="noStrike">
                <a:solidFill>
                  <a:srgbClr val="984956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</a:rPr>
              <a:t>называется </a:t>
            </a:r>
            <a:r>
              <a:rPr b="1" i="1" lang="ru-RU" sz="2000" spc="-1" strike="noStrike">
                <a:solidFill>
                  <a:srgbClr val="984956"/>
                </a:solidFill>
                <a:latin typeface="Arial"/>
              </a:rPr>
              <a:t>центром вращения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</a:rPr>
              <a:t>, угол </a:t>
            </a:r>
            <a:r>
              <a:rPr b="1" i="1" lang="ru-RU" sz="2000" spc="-1" strike="noStrike">
                <a:solidFill>
                  <a:srgbClr val="984956"/>
                </a:solidFill>
                <a:latin typeface="Monotype Corsiva"/>
              </a:rPr>
              <a:t>α </a:t>
            </a: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84956"/>
                </a:solidFill>
                <a:latin typeface="Arial"/>
              </a:rPr>
              <a:t>углом вращения</a:t>
            </a:r>
            <a:r>
              <a:rPr b="0" lang="ru-RU" sz="2000" spc="-1" strike="noStrike">
                <a:solidFill>
                  <a:srgbClr val="98495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</a:rPr>
              <a:t>неподвижная прямая - </a:t>
            </a:r>
            <a:r>
              <a:rPr b="1" i="1" lang="ru-RU" sz="2000" spc="-1" strike="noStrike">
                <a:solidFill>
                  <a:srgbClr val="984956"/>
                </a:solidFill>
                <a:latin typeface="Arial"/>
              </a:rPr>
              <a:t>осью вращения</a:t>
            </a:r>
            <a:r>
              <a:rPr b="0" lang="ru-RU" sz="2000" spc="-1" strike="noStrike">
                <a:solidFill>
                  <a:srgbClr val="222222"/>
                </a:solidFill>
                <a:latin typeface="Arial"/>
              </a:rPr>
              <a:t> и т. д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606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3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3449880" cy="3538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поворот"/>
          <p:cNvPicPr/>
          <p:nvPr/>
        </p:nvPicPr>
        <p:blipFill>
          <a:blip r:embed="rId2"/>
          <a:stretch/>
        </p:blipFill>
        <p:spPr>
          <a:xfrm>
            <a:off x="214200" y="1000080"/>
            <a:ext cx="4253040" cy="361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984956"/>
                </a:solidFill>
                <a:latin typeface="Monotype Corsiva"/>
              </a:rPr>
              <a:t>ПОВОРОТ</a:t>
            </a:r>
            <a:endParaRPr b="0" lang="en-US" sz="5000" spc="-1" strike="noStrike">
              <a:solidFill>
                <a:srgbClr val="6b687a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57200" y="3428640"/>
            <a:ext cx="1954080" cy="2895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1"/>
          <p:cNvSpPr/>
          <p:nvPr/>
        </p:nvSpPr>
        <p:spPr>
          <a:xfrm>
            <a:off x="4801320" y="4724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13" name="Group 13"/>
          <p:cNvGrpSpPr/>
          <p:nvPr/>
        </p:nvGrpSpPr>
        <p:grpSpPr>
          <a:xfrm>
            <a:off x="2275920" y="4704120"/>
            <a:ext cx="5183640" cy="184680"/>
            <a:chOff x="2275920" y="4704120"/>
            <a:chExt cx="5183640" cy="184680"/>
          </a:xfrm>
        </p:grpSpPr>
        <p:grpSp>
          <p:nvGrpSpPr>
            <p:cNvPr id="214" name="Group 14"/>
            <p:cNvGrpSpPr/>
            <p:nvPr/>
          </p:nvGrpSpPr>
          <p:grpSpPr>
            <a:xfrm>
              <a:off x="4876560" y="4704120"/>
              <a:ext cx="2583000" cy="172080"/>
              <a:chOff x="4876560" y="4704120"/>
              <a:chExt cx="2583000" cy="172080"/>
            </a:xfrm>
          </p:grpSpPr>
          <p:sp>
            <p:nvSpPr>
              <p:cNvPr id="215" name="Freeform 15"/>
              <p:cNvSpPr/>
              <p:nvPr/>
            </p:nvSpPr>
            <p:spPr>
              <a:xfrm>
                <a:off x="4876560" y="4787640"/>
                <a:ext cx="2502000" cy="12600"/>
              </a:xfrm>
              <a:custGeom>
                <a:avLst/>
                <a:gdLst>
                  <a:gd name="textAreaLeft" fmla="*/ 0 w 2502000"/>
                  <a:gd name="textAreaRight" fmla="*/ 2502360 w 250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576" h="8">
                    <a:moveTo>
                      <a:pt x="0" y="8"/>
                    </a:moveTo>
                    <a:lnTo>
                      <a:pt x="15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6" name="Oval 16"/>
              <p:cNvSpPr/>
              <p:nvPr/>
            </p:nvSpPr>
            <p:spPr>
              <a:xfrm rot="3834000">
                <a:off x="7309800" y="4728960"/>
                <a:ext cx="131760" cy="122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17" name="Group 17"/>
            <p:cNvGrpSpPr/>
            <p:nvPr/>
          </p:nvGrpSpPr>
          <p:grpSpPr>
            <a:xfrm>
              <a:off x="2275920" y="4716720"/>
              <a:ext cx="2583000" cy="172080"/>
              <a:chOff x="2275920" y="4716720"/>
              <a:chExt cx="2583000" cy="172080"/>
            </a:xfrm>
          </p:grpSpPr>
          <p:sp>
            <p:nvSpPr>
              <p:cNvPr id="218" name="Freeform 18"/>
              <p:cNvSpPr/>
              <p:nvPr/>
            </p:nvSpPr>
            <p:spPr>
              <a:xfrm flipH="1" flipV="1">
                <a:off x="2356920" y="4792320"/>
                <a:ext cx="2502000" cy="12600"/>
              </a:xfrm>
              <a:custGeom>
                <a:avLst/>
                <a:gdLst>
                  <a:gd name="textAreaLeft" fmla="*/ 360 w 2502000"/>
                  <a:gd name="textAreaRight" fmla="*/ 2502720 w 2502000"/>
                  <a:gd name="textAreaTop" fmla="*/ -360 h 12600"/>
                  <a:gd name="textAreaBottom" fmla="*/ 12600 h 12600"/>
                </a:gdLst>
                <a:ahLst/>
                <a:rect l="textAreaLeft" t="textAreaTop" r="textAreaRight" b="textAreaBottom"/>
                <a:pathLst>
                  <a:path w="1576" h="8">
                    <a:moveTo>
                      <a:pt x="0" y="8"/>
                    </a:moveTo>
                    <a:lnTo>
                      <a:pt x="157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9" name="Oval 19"/>
              <p:cNvSpPr/>
              <p:nvPr/>
            </p:nvSpPr>
            <p:spPr>
              <a:xfrm flipH="1" flipV="1" rot="3834000">
                <a:off x="2293200" y="4741560"/>
                <a:ext cx="131760" cy="122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20" name="Oval 20"/>
          <p:cNvSpPr/>
          <p:nvPr/>
        </p:nvSpPr>
        <p:spPr>
          <a:xfrm rot="3834000">
            <a:off x="4795560" y="4741920"/>
            <a:ext cx="1317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Oval 21"/>
          <p:cNvSpPr/>
          <p:nvPr/>
        </p:nvSpPr>
        <p:spPr>
          <a:xfrm rot="3834000">
            <a:off x="2293560" y="4741920"/>
            <a:ext cx="131760" cy="122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2438280" y="4800600"/>
            <a:ext cx="2362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380880" y="500040"/>
            <a:ext cx="8406000" cy="1355400"/>
          </a:xfrm>
          <a:prstGeom prst="rect">
            <a:avLst/>
          </a:prstGeom>
          <a:noFill/>
          <a:ln w="9360">
            <a:solidFill>
              <a:srgbClr val="b48e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84956"/>
                </a:solidFill>
                <a:latin typeface="Arial"/>
              </a:rPr>
              <a:t>Поворотом плоскости</a:t>
            </a:r>
            <a:r>
              <a:rPr b="0" lang="ru-RU" sz="2000" spc="-1" strike="noStrike">
                <a:solidFill>
                  <a:srgbClr val="98495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круг точки О на угол          называется отображение плоскости на себя, при котором каждая точка М отображается в такую точку М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, что ОМ = ОМ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угол МОМ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ен       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6"/>
              <p:cNvSpPr txBox="1"/>
              <p:nvPr/>
            </p:nvSpPr>
            <p:spPr>
              <a:xfrm>
                <a:off x="6500880" y="57168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7"/>
              <p:cNvSpPr txBox="1"/>
              <p:nvPr/>
            </p:nvSpPr>
            <p:spPr>
              <a:xfrm>
                <a:off x="1428840" y="1500120"/>
                <a:ext cx="380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Text Box 38"/>
          <p:cNvSpPr/>
          <p:nvPr/>
        </p:nvSpPr>
        <p:spPr>
          <a:xfrm>
            <a:off x="2138040" y="4799160"/>
            <a:ext cx="5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3663720" y="2178000"/>
            <a:ext cx="66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28" name="Group 42"/>
          <p:cNvGrpSpPr/>
          <p:nvPr/>
        </p:nvGrpSpPr>
        <p:grpSpPr>
          <a:xfrm>
            <a:off x="3898800" y="4235400"/>
            <a:ext cx="660240" cy="558720"/>
            <a:chOff x="3898800" y="4235400"/>
            <a:chExt cx="660240" cy="558720"/>
          </a:xfrm>
        </p:grpSpPr>
        <p:sp>
          <p:nvSpPr>
            <p:cNvPr id="229" name="Freeform 40"/>
            <p:cNvSpPr/>
            <p:nvPr/>
          </p:nvSpPr>
          <p:spPr>
            <a:xfrm>
              <a:off x="4254120" y="4286160"/>
              <a:ext cx="304920" cy="5079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92" h="320">
                  <a:moveTo>
                    <a:pt x="0" y="320"/>
                  </a:moveTo>
                  <a:cubicBezTo>
                    <a:pt x="4" y="252"/>
                    <a:pt x="16" y="181"/>
                    <a:pt x="48" y="128"/>
                  </a:cubicBezTo>
                  <a:cubicBezTo>
                    <a:pt x="80" y="75"/>
                    <a:pt x="162" y="27"/>
                    <a:pt x="192" y="0"/>
                  </a:cubicBezTo>
                </a:path>
              </a:pathLst>
            </a:custGeom>
            <a:noFill/>
            <a:ln w="936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41"/>
                <p:cNvSpPr txBox="1"/>
                <p:nvPr/>
              </p:nvSpPr>
              <p:spPr>
                <a:xfrm>
                  <a:off x="3898800" y="4235400"/>
                  <a:ext cx="38088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1" name="Group 45"/>
          <p:cNvGrpSpPr/>
          <p:nvPr/>
        </p:nvGrpSpPr>
        <p:grpSpPr>
          <a:xfrm>
            <a:off x="3517920" y="3321000"/>
            <a:ext cx="609120" cy="1600200"/>
            <a:chOff x="3517920" y="3321000"/>
            <a:chExt cx="609120" cy="1600200"/>
          </a:xfrm>
        </p:grpSpPr>
        <p:sp>
          <p:nvSpPr>
            <p:cNvPr id="232" name="Line 43"/>
            <p:cNvSpPr/>
            <p:nvPr/>
          </p:nvSpPr>
          <p:spPr>
            <a:xfrm>
              <a:off x="3517920" y="4692600"/>
              <a:ext cx="75960" cy="228600"/>
            </a:xfrm>
            <a:prstGeom prst="line">
              <a:avLst/>
            </a:prstGeom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3" name="Line 44"/>
            <p:cNvSpPr/>
            <p:nvPr/>
          </p:nvSpPr>
          <p:spPr>
            <a:xfrm flipH="1">
              <a:off x="3898800" y="3321000"/>
              <a:ext cx="228240" cy="228600"/>
            </a:xfrm>
            <a:prstGeom prst="line">
              <a:avLst/>
            </a:prstGeom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6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113"/>
          <p:cNvSpPr/>
          <p:nvPr/>
        </p:nvSpPr>
        <p:spPr>
          <a:xfrm>
            <a:off x="3987720" y="5054760"/>
            <a:ext cx="4889520" cy="1260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3080" h="8">
                <a:moveTo>
                  <a:pt x="0" y="8"/>
                </a:moveTo>
                <a:lnTo>
                  <a:pt x="30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879120" y="2211480"/>
            <a:ext cx="5994360" cy="2960640"/>
            <a:chOff x="879120" y="2211480"/>
            <a:chExt cx="5994360" cy="2960640"/>
          </a:xfrm>
        </p:grpSpPr>
        <p:sp>
          <p:nvSpPr>
            <p:cNvPr id="236" name="Freeform 3"/>
            <p:cNvSpPr/>
            <p:nvPr/>
          </p:nvSpPr>
          <p:spPr>
            <a:xfrm>
              <a:off x="1055520" y="5059440"/>
              <a:ext cx="5813280" cy="4680"/>
            </a:xfrm>
            <a:custGeom>
              <a:avLst/>
              <a:gdLst>
                <a:gd name="textAreaLeft" fmla="*/ 0 w 5813280"/>
                <a:gd name="textAreaRight" fmla="*/ 5813640 w 5813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554" h="3">
                  <a:moveTo>
                    <a:pt x="4554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7" name="Oval 4"/>
            <p:cNvSpPr/>
            <p:nvPr/>
          </p:nvSpPr>
          <p:spPr>
            <a:xfrm>
              <a:off x="3951000" y="494820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8" name="Text Box 5"/>
            <p:cNvSpPr/>
            <p:nvPr/>
          </p:nvSpPr>
          <p:spPr>
            <a:xfrm>
              <a:off x="6443280" y="43567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9" name="Text Box 6"/>
            <p:cNvSpPr/>
            <p:nvPr/>
          </p:nvSpPr>
          <p:spPr>
            <a:xfrm>
              <a:off x="6230520" y="395820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0" name="Text Box 7"/>
            <p:cNvSpPr/>
            <p:nvPr/>
          </p:nvSpPr>
          <p:spPr>
            <a:xfrm>
              <a:off x="5604840" y="29185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1" name="Text Box 8"/>
            <p:cNvSpPr/>
            <p:nvPr/>
          </p:nvSpPr>
          <p:spPr>
            <a:xfrm>
              <a:off x="5223960" y="2657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4787280" y="24087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4257360" y="223416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4" name="Text Box 11"/>
            <p:cNvSpPr/>
            <p:nvPr/>
          </p:nvSpPr>
          <p:spPr>
            <a:xfrm>
              <a:off x="3809880" y="254916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5" name="Text Box 12"/>
            <p:cNvSpPr/>
            <p:nvPr/>
          </p:nvSpPr>
          <p:spPr>
            <a:xfrm>
              <a:off x="3301200" y="2234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2801880" y="23547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2435400" y="2531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8" name="Text Box 15"/>
            <p:cNvSpPr/>
            <p:nvPr/>
          </p:nvSpPr>
          <p:spPr>
            <a:xfrm>
              <a:off x="2045520" y="2842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49" name="Text Box 16"/>
            <p:cNvSpPr/>
            <p:nvPr/>
          </p:nvSpPr>
          <p:spPr>
            <a:xfrm>
              <a:off x="1724760" y="3088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0" name="Text Box 17"/>
            <p:cNvSpPr/>
            <p:nvPr/>
          </p:nvSpPr>
          <p:spPr>
            <a:xfrm>
              <a:off x="1463760" y="3462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1" name="Text Box 18"/>
            <p:cNvSpPr/>
            <p:nvPr/>
          </p:nvSpPr>
          <p:spPr>
            <a:xfrm>
              <a:off x="1250640" y="3792960"/>
              <a:ext cx="45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2" name="Text Box 19"/>
            <p:cNvSpPr/>
            <p:nvPr/>
          </p:nvSpPr>
          <p:spPr>
            <a:xfrm>
              <a:off x="1055520" y="431856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3" name="Text Box 20"/>
            <p:cNvSpPr/>
            <p:nvPr/>
          </p:nvSpPr>
          <p:spPr>
            <a:xfrm>
              <a:off x="879120" y="478224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4" name="Text Box 21"/>
            <p:cNvSpPr/>
            <p:nvPr/>
          </p:nvSpPr>
          <p:spPr>
            <a:xfrm>
              <a:off x="5915880" y="4767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5" name="Text Box 22"/>
            <p:cNvSpPr/>
            <p:nvPr/>
          </p:nvSpPr>
          <p:spPr>
            <a:xfrm>
              <a:off x="5842800" y="44424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6" name="Text Box 23"/>
            <p:cNvSpPr/>
            <p:nvPr/>
          </p:nvSpPr>
          <p:spPr>
            <a:xfrm>
              <a:off x="5717520" y="4137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7" name="Text Box 24"/>
            <p:cNvSpPr/>
            <p:nvPr/>
          </p:nvSpPr>
          <p:spPr>
            <a:xfrm>
              <a:off x="5574600" y="392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8" name="Text Box 25"/>
            <p:cNvSpPr/>
            <p:nvPr/>
          </p:nvSpPr>
          <p:spPr>
            <a:xfrm>
              <a:off x="5411160" y="36504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59" name="Text Box 26"/>
            <p:cNvSpPr/>
            <p:nvPr/>
          </p:nvSpPr>
          <p:spPr>
            <a:xfrm>
              <a:off x="5142600" y="33627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0" name="Text Box 27"/>
            <p:cNvSpPr/>
            <p:nvPr/>
          </p:nvSpPr>
          <p:spPr>
            <a:xfrm>
              <a:off x="4853880" y="3147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1" name="Text Box 28"/>
            <p:cNvSpPr/>
            <p:nvPr/>
          </p:nvSpPr>
          <p:spPr>
            <a:xfrm>
              <a:off x="4474440" y="2985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2" name="Text Box 29"/>
            <p:cNvSpPr/>
            <p:nvPr/>
          </p:nvSpPr>
          <p:spPr>
            <a:xfrm>
              <a:off x="4115520" y="28580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3" name="Text Box 30"/>
            <p:cNvSpPr/>
            <p:nvPr/>
          </p:nvSpPr>
          <p:spPr>
            <a:xfrm>
              <a:off x="3490560" y="29026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4" name="Text Box 31"/>
            <p:cNvSpPr/>
            <p:nvPr/>
          </p:nvSpPr>
          <p:spPr>
            <a:xfrm>
              <a:off x="1713960" y="4802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5" name="Text Box 32"/>
            <p:cNvSpPr/>
            <p:nvPr/>
          </p:nvSpPr>
          <p:spPr>
            <a:xfrm>
              <a:off x="1690200" y="44931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6" name="Text Box 33"/>
            <p:cNvSpPr/>
            <p:nvPr/>
          </p:nvSpPr>
          <p:spPr>
            <a:xfrm>
              <a:off x="1836360" y="41551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7" name="Text Box 34"/>
            <p:cNvSpPr/>
            <p:nvPr/>
          </p:nvSpPr>
          <p:spPr>
            <a:xfrm>
              <a:off x="1991880" y="38660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8" name="Text Box 35"/>
            <p:cNvSpPr/>
            <p:nvPr/>
          </p:nvSpPr>
          <p:spPr>
            <a:xfrm>
              <a:off x="2266560" y="35787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69" name="Text Box 36"/>
            <p:cNvSpPr/>
            <p:nvPr/>
          </p:nvSpPr>
          <p:spPr>
            <a:xfrm>
              <a:off x="2482200" y="33627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0" name="Text Box 37"/>
            <p:cNvSpPr/>
            <p:nvPr/>
          </p:nvSpPr>
          <p:spPr>
            <a:xfrm>
              <a:off x="2769840" y="31471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3130200" y="30135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6538680" y="4756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5881320" y="32659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4" name="Text Box 41"/>
            <p:cNvSpPr/>
            <p:nvPr/>
          </p:nvSpPr>
          <p:spPr>
            <a:xfrm>
              <a:off x="6120720" y="36154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1071360" y="2211480"/>
              <a:ext cx="5773680" cy="2859120"/>
            </a:xfrm>
            <a:custGeom>
              <a:avLst/>
              <a:gdLst>
                <a:gd name="textAreaLeft" fmla="*/ 0 w 5773680"/>
                <a:gd name="textAreaRight" fmla="*/ 5773680 w 5773680"/>
                <a:gd name="textAreaTop" fmla="*/ 0 h 2859120"/>
                <a:gd name="textAreaBottom" fmla="*/ 2859480 h 2859120"/>
              </a:gdLst>
              <a:ahLst/>
              <a:rect l="textAreaLeft" t="textAreaTop" r="textAreaRight" b="textAreaBottom"/>
              <a:pathLst>
                <a:path w="4524" h="2319">
                  <a:moveTo>
                    <a:pt x="0" y="2313"/>
                  </a:moveTo>
                  <a:cubicBezTo>
                    <a:pt x="13" y="2230"/>
                    <a:pt x="47" y="1958"/>
                    <a:pt x="79" y="1811"/>
                  </a:cubicBezTo>
                  <a:cubicBezTo>
                    <a:pt x="111" y="1664"/>
                    <a:pt x="146" y="1547"/>
                    <a:pt x="192" y="1431"/>
                  </a:cubicBezTo>
                  <a:cubicBezTo>
                    <a:pt x="238" y="1315"/>
                    <a:pt x="285" y="1224"/>
                    <a:pt x="354" y="1113"/>
                  </a:cubicBezTo>
                  <a:cubicBezTo>
                    <a:pt x="423" y="1002"/>
                    <a:pt x="516" y="868"/>
                    <a:pt x="606" y="765"/>
                  </a:cubicBezTo>
                  <a:cubicBezTo>
                    <a:pt x="696" y="662"/>
                    <a:pt x="793" y="578"/>
                    <a:pt x="895" y="496"/>
                  </a:cubicBezTo>
                  <a:cubicBezTo>
                    <a:pt x="997" y="414"/>
                    <a:pt x="1112" y="333"/>
                    <a:pt x="1218" y="273"/>
                  </a:cubicBezTo>
                  <a:cubicBezTo>
                    <a:pt x="1324" y="213"/>
                    <a:pt x="1409" y="174"/>
                    <a:pt x="1530" y="133"/>
                  </a:cubicBezTo>
                  <a:cubicBezTo>
                    <a:pt x="1651" y="92"/>
                    <a:pt x="1814" y="49"/>
                    <a:pt x="1944" y="27"/>
                  </a:cubicBezTo>
                  <a:cubicBezTo>
                    <a:pt x="2074" y="5"/>
                    <a:pt x="2181" y="0"/>
                    <a:pt x="2310" y="3"/>
                  </a:cubicBezTo>
                  <a:cubicBezTo>
                    <a:pt x="2439" y="6"/>
                    <a:pt x="2582" y="16"/>
                    <a:pt x="2718" y="45"/>
                  </a:cubicBezTo>
                  <a:cubicBezTo>
                    <a:pt x="2854" y="74"/>
                    <a:pt x="2991" y="117"/>
                    <a:pt x="3126" y="177"/>
                  </a:cubicBezTo>
                  <a:cubicBezTo>
                    <a:pt x="3261" y="237"/>
                    <a:pt x="3414" y="329"/>
                    <a:pt x="3526" y="405"/>
                  </a:cubicBezTo>
                  <a:cubicBezTo>
                    <a:pt x="3638" y="481"/>
                    <a:pt x="3705" y="540"/>
                    <a:pt x="3798" y="632"/>
                  </a:cubicBezTo>
                  <a:cubicBezTo>
                    <a:pt x="3891" y="724"/>
                    <a:pt x="4007" y="851"/>
                    <a:pt x="4086" y="957"/>
                  </a:cubicBezTo>
                  <a:cubicBezTo>
                    <a:pt x="4165" y="1063"/>
                    <a:pt x="4222" y="1172"/>
                    <a:pt x="4272" y="1269"/>
                  </a:cubicBezTo>
                  <a:cubicBezTo>
                    <a:pt x="4322" y="1366"/>
                    <a:pt x="4353" y="1433"/>
                    <a:pt x="4388" y="1539"/>
                  </a:cubicBezTo>
                  <a:cubicBezTo>
                    <a:pt x="4423" y="1645"/>
                    <a:pt x="4456" y="1772"/>
                    <a:pt x="4479" y="1902"/>
                  </a:cubicBezTo>
                  <a:cubicBezTo>
                    <a:pt x="4502" y="2032"/>
                    <a:pt x="4515" y="2232"/>
                    <a:pt x="4524" y="2319"/>
                  </a:cubicBezTo>
                </a:path>
              </a:pathLst>
            </a:custGeom>
            <a:noFill/>
            <a:ln w="7632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1944360" y="3148200"/>
              <a:ext cx="4065480" cy="1944720"/>
            </a:xfrm>
            <a:custGeom>
              <a:avLst/>
              <a:gdLst>
                <a:gd name="textAreaLeft" fmla="*/ 0 w 4065480"/>
                <a:gd name="textAreaRight" fmla="*/ 4065840 w 40654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3186" h="1577">
                  <a:moveTo>
                    <a:pt x="0" y="1577"/>
                  </a:moveTo>
                  <a:cubicBezTo>
                    <a:pt x="23" y="1494"/>
                    <a:pt x="77" y="1223"/>
                    <a:pt x="138" y="1073"/>
                  </a:cubicBezTo>
                  <a:cubicBezTo>
                    <a:pt x="199" y="923"/>
                    <a:pt x="284" y="792"/>
                    <a:pt x="366" y="677"/>
                  </a:cubicBezTo>
                  <a:cubicBezTo>
                    <a:pt x="448" y="562"/>
                    <a:pt x="539" y="467"/>
                    <a:pt x="630" y="383"/>
                  </a:cubicBezTo>
                  <a:cubicBezTo>
                    <a:pt x="721" y="299"/>
                    <a:pt x="799" y="232"/>
                    <a:pt x="912" y="173"/>
                  </a:cubicBezTo>
                  <a:cubicBezTo>
                    <a:pt x="1025" y="114"/>
                    <a:pt x="1187" y="57"/>
                    <a:pt x="1308" y="29"/>
                  </a:cubicBezTo>
                  <a:cubicBezTo>
                    <a:pt x="1429" y="1"/>
                    <a:pt x="1521" y="0"/>
                    <a:pt x="1638" y="5"/>
                  </a:cubicBezTo>
                  <a:cubicBezTo>
                    <a:pt x="1755" y="10"/>
                    <a:pt x="1885" y="21"/>
                    <a:pt x="2010" y="59"/>
                  </a:cubicBezTo>
                  <a:cubicBezTo>
                    <a:pt x="2135" y="97"/>
                    <a:pt x="2270" y="158"/>
                    <a:pt x="2388" y="234"/>
                  </a:cubicBezTo>
                  <a:cubicBezTo>
                    <a:pt x="2506" y="310"/>
                    <a:pt x="2623" y="411"/>
                    <a:pt x="2718" y="515"/>
                  </a:cubicBezTo>
                  <a:cubicBezTo>
                    <a:pt x="2813" y="619"/>
                    <a:pt x="2892" y="742"/>
                    <a:pt x="2958" y="857"/>
                  </a:cubicBezTo>
                  <a:cubicBezTo>
                    <a:pt x="3024" y="972"/>
                    <a:pt x="3076" y="1092"/>
                    <a:pt x="3114" y="1205"/>
                  </a:cubicBezTo>
                  <a:cubicBezTo>
                    <a:pt x="3152" y="1318"/>
                    <a:pt x="3171" y="1466"/>
                    <a:pt x="3186" y="1535"/>
                  </a:cubicBez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5978160" y="5056200"/>
              <a:ext cx="895320" cy="32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02" h="3">
                  <a:moveTo>
                    <a:pt x="702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4003560" y="2982960"/>
              <a:ext cx="4680" cy="168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" h="106">
                  <a:moveTo>
                    <a:pt x="0" y="0"/>
                  </a:moveTo>
                  <a:lnTo>
                    <a:pt x="3" y="1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4003560" y="2211480"/>
              <a:ext cx="2880" cy="174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" h="110">
                  <a:moveTo>
                    <a:pt x="2" y="0"/>
                  </a:moveTo>
                  <a:lnTo>
                    <a:pt x="0" y="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6600600" y="4262400"/>
              <a:ext cx="122040" cy="38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7" h="24">
                  <a:moveTo>
                    <a:pt x="0" y="24"/>
                  </a:move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6456240" y="3853080"/>
              <a:ext cx="123840" cy="522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33">
                  <a:moveTo>
                    <a:pt x="0" y="33"/>
                  </a:move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46720" y="3495600"/>
              <a:ext cx="99720" cy="619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3" h="39">
                  <a:moveTo>
                    <a:pt x="0" y="39"/>
                  </a:move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6662520" y="4722840"/>
              <a:ext cx="139680" cy="25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88" h="16">
                  <a:moveTo>
                    <a:pt x="0" y="16"/>
                  </a:moveTo>
                  <a:lnTo>
                    <a:pt x="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6136920" y="3309840"/>
              <a:ext cx="85680" cy="66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4" h="42">
                  <a:moveTo>
                    <a:pt x="0" y="42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6379920" y="3695760"/>
              <a:ext cx="85680" cy="42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4" h="27">
                  <a:moveTo>
                    <a:pt x="0" y="27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6555960" y="4083120"/>
              <a:ext cx="93960" cy="27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" h="17">
                  <a:moveTo>
                    <a:pt x="0" y="17"/>
                  </a:move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6679800" y="4491000"/>
              <a:ext cx="95400" cy="19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0" h="12">
                  <a:moveTo>
                    <a:pt x="0" y="12"/>
                  </a:move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5994000" y="3148200"/>
              <a:ext cx="90720" cy="7128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7" h="45">
                  <a:moveTo>
                    <a:pt x="0" y="45"/>
                  </a:moveTo>
                  <a:lnTo>
                    <a:pt x="5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5860800" y="3003480"/>
              <a:ext cx="47520" cy="3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" h="25">
                  <a:moveTo>
                    <a:pt x="0" y="25"/>
                  </a:move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5665680" y="2859120"/>
              <a:ext cx="45720" cy="6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9" h="41">
                  <a:moveTo>
                    <a:pt x="0" y="41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5484600" y="2700360"/>
              <a:ext cx="57240" cy="81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6" h="51">
                  <a:moveTo>
                    <a:pt x="0" y="51"/>
                  </a:move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5256000" y="2576520"/>
              <a:ext cx="52200" cy="954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3" h="60">
                  <a:moveTo>
                    <a:pt x="0" y="60"/>
                  </a:move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5027400" y="2419560"/>
              <a:ext cx="46080" cy="1047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9" h="66">
                  <a:moveTo>
                    <a:pt x="0" y="66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4765320" y="2343240"/>
              <a:ext cx="33480" cy="104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1" h="66">
                  <a:moveTo>
                    <a:pt x="0" y="66"/>
                  </a:moveTo>
                  <a:lnTo>
                    <a:pt x="2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4498560" y="2252880"/>
              <a:ext cx="9720" cy="90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" h="57">
                  <a:moveTo>
                    <a:pt x="0" y="57"/>
                  </a:move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4227120" y="2214720"/>
              <a:ext cx="5040" cy="1378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" h="87">
                  <a:moveTo>
                    <a:pt x="0" y="87"/>
                  </a:move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3279600" y="2305080"/>
              <a:ext cx="28440" cy="123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" h="78">
                  <a:moveTo>
                    <a:pt x="18" y="7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3027240" y="2386080"/>
              <a:ext cx="23760" cy="95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60">
                  <a:moveTo>
                    <a:pt x="15" y="6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3794040" y="2243160"/>
              <a:ext cx="4680" cy="10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" h="69">
                  <a:moveTo>
                    <a:pt x="3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3541320" y="2271960"/>
              <a:ext cx="9720" cy="66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42">
                  <a:moveTo>
                    <a:pt x="6" y="4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2784240" y="2498760"/>
              <a:ext cx="33480" cy="73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" h="46">
                  <a:moveTo>
                    <a:pt x="21" y="4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2589120" y="257652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24" y="5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2352240" y="2714760"/>
              <a:ext cx="70200" cy="1094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4" h="69">
                  <a:moveTo>
                    <a:pt x="44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2131920" y="2900520"/>
              <a:ext cx="56880" cy="61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6" h="39">
                  <a:moveTo>
                    <a:pt x="36" y="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989000" y="304344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36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836360" y="3181320"/>
              <a:ext cx="57240" cy="71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6" h="45">
                  <a:moveTo>
                    <a:pt x="36" y="4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703160" y="3363840"/>
              <a:ext cx="76320" cy="558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48" h="35">
                  <a:moveTo>
                    <a:pt x="48" y="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536480" y="3562560"/>
              <a:ext cx="90360" cy="56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415880" y="3795840"/>
              <a:ext cx="90360" cy="57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288800" y="4010040"/>
              <a:ext cx="100080" cy="381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3" h="24">
                  <a:moveTo>
                    <a:pt x="63" y="2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1250640" y="4248360"/>
              <a:ext cx="90720" cy="33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7" h="21">
                  <a:moveTo>
                    <a:pt x="57" y="2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1164960" y="4471920"/>
              <a:ext cx="125280" cy="288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9" h="18">
                  <a:moveTo>
                    <a:pt x="79" y="1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1117440" y="4729320"/>
              <a:ext cx="109440" cy="19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12">
                  <a:moveTo>
                    <a:pt x="69" y="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14" name="Text Box 87"/>
          <p:cNvSpPr/>
          <p:nvPr/>
        </p:nvSpPr>
        <p:spPr>
          <a:xfrm>
            <a:off x="701640" y="387360"/>
            <a:ext cx="33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956"/>
                </a:solidFill>
                <a:latin typeface="Monotype Corsiva"/>
              </a:rPr>
              <a:t>Угол поворота 60</a:t>
            </a:r>
            <a:r>
              <a:rPr b="1" lang="ru-RU" sz="2800" spc="-1" strike="noStrike" baseline="30000">
                <a:solidFill>
                  <a:srgbClr val="984956"/>
                </a:solidFill>
                <a:latin typeface="Monotype Corsiv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15" name="Group 89"/>
          <p:cNvGrpSpPr/>
          <p:nvPr/>
        </p:nvGrpSpPr>
        <p:grpSpPr>
          <a:xfrm>
            <a:off x="3780000" y="2558880"/>
            <a:ext cx="3240000" cy="2594160"/>
            <a:chOff x="3780000" y="2558880"/>
            <a:chExt cx="3240000" cy="2594160"/>
          </a:xfrm>
        </p:grpSpPr>
        <p:sp>
          <p:nvSpPr>
            <p:cNvPr id="316" name="Arc 90"/>
            <p:cNvSpPr/>
            <p:nvPr/>
          </p:nvSpPr>
          <p:spPr>
            <a:xfrm>
              <a:off x="3780000" y="2558880"/>
              <a:ext cx="3240000" cy="259092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fill="none" w="21585" h="17659">
                  <a:moveTo>
                    <a:pt x="12438" y="0"/>
                  </a:moveTo>
                  <a:cubicBezTo>
                    <a:pt x="17951" y="3883"/>
                    <a:pt x="21334" y="10117"/>
                    <a:pt x="21585" y="16854"/>
                  </a:cubicBezTo>
                </a:path>
                <a:path stroke="0" w="21585" h="17659">
                  <a:moveTo>
                    <a:pt x="12438" y="0"/>
                  </a:moveTo>
                  <a:cubicBezTo>
                    <a:pt x="17951" y="3883"/>
                    <a:pt x="21334" y="10117"/>
                    <a:pt x="21585" y="16854"/>
                  </a:cubicBezTo>
                  <a:lnTo>
                    <a:pt x="0" y="17659"/>
                  </a:lnTo>
                  <a:lnTo>
                    <a:pt x="1243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17" name="Oval 91"/>
            <p:cNvSpPr/>
            <p:nvPr/>
          </p:nvSpPr>
          <p:spPr>
            <a:xfrm>
              <a:off x="6443640" y="4648320"/>
              <a:ext cx="50472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18" name="Freeform 109"/>
          <p:cNvSpPr/>
          <p:nvPr/>
        </p:nvSpPr>
        <p:spPr>
          <a:xfrm>
            <a:off x="3949560" y="723960"/>
            <a:ext cx="2908440" cy="4356000"/>
          </a:xfrm>
          <a:custGeom>
            <a:avLst/>
            <a:gdLst>
              <a:gd name="textAreaLeft" fmla="*/ 0 w 2908440"/>
              <a:gd name="textAreaRight" fmla="*/ 2908800 w 2908440"/>
              <a:gd name="textAreaTop" fmla="*/ 0 h 4356000"/>
              <a:gd name="textAreaBottom" fmla="*/ 4356360 h 4356000"/>
            </a:gdLst>
            <a:ahLst/>
            <a:rect l="textAreaLeft" t="textAreaTop" r="textAreaRight" b="textAreaBottom"/>
            <a:pathLst>
              <a:path w="1832" h="2744">
                <a:moveTo>
                  <a:pt x="0" y="2744"/>
                </a:moveTo>
                <a:lnTo>
                  <a:pt x="18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Oval 111"/>
          <p:cNvSpPr/>
          <p:nvPr/>
        </p:nvSpPr>
        <p:spPr>
          <a:xfrm rot="3834000">
            <a:off x="3893760" y="5021280"/>
            <a:ext cx="1317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Text Box 114"/>
          <p:cNvSpPr/>
          <p:nvPr/>
        </p:nvSpPr>
        <p:spPr>
          <a:xfrm>
            <a:off x="5935320" y="5105520"/>
            <a:ext cx="5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Text Box 116"/>
          <p:cNvSpPr/>
          <p:nvPr/>
        </p:nvSpPr>
        <p:spPr>
          <a:xfrm>
            <a:off x="3744720" y="51055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2" name="Arc 117"/>
          <p:cNvSpPr/>
          <p:nvPr/>
        </p:nvSpPr>
        <p:spPr>
          <a:xfrm rot="19851000">
            <a:off x="4008240" y="3296880"/>
            <a:ext cx="1454040" cy="906480"/>
          </a:xfrm>
          <a:custGeom>
            <a:avLst/>
            <a:gdLst>
              <a:gd name="textAreaLeft" fmla="*/ 0 w 1454040"/>
              <a:gd name="textAreaRight" fmla="*/ 1454400 w 14540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fill="none" w="20607" h="12869">
                <a:moveTo>
                  <a:pt x="17347" y="0"/>
                </a:moveTo>
                <a:cubicBezTo>
                  <a:pt x="18783" y="1935"/>
                  <a:pt x="19885" y="4097"/>
                  <a:pt x="20607" y="6396"/>
                </a:cubicBezTo>
              </a:path>
              <a:path stroke="0" w="20607" h="12869">
                <a:moveTo>
                  <a:pt x="17347" y="0"/>
                </a:moveTo>
                <a:cubicBezTo>
                  <a:pt x="18783" y="1935"/>
                  <a:pt x="19885" y="4097"/>
                  <a:pt x="20607" y="6396"/>
                </a:cubicBezTo>
                <a:lnTo>
                  <a:pt x="0" y="12869"/>
                </a:lnTo>
                <a:lnTo>
                  <a:pt x="17347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3" name="Oval 118"/>
          <p:cNvSpPr/>
          <p:nvPr/>
        </p:nvSpPr>
        <p:spPr>
          <a:xfrm flipH="1" flipV="1" rot="14634000">
            <a:off x="6090840" y="4995720"/>
            <a:ext cx="131760" cy="12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24" name="Group 119"/>
          <p:cNvGrpSpPr/>
          <p:nvPr/>
        </p:nvGrpSpPr>
        <p:grpSpPr>
          <a:xfrm>
            <a:off x="1785960" y="2040480"/>
            <a:ext cx="4358880" cy="6053400"/>
            <a:chOff x="1785960" y="2040480"/>
            <a:chExt cx="4358880" cy="6053400"/>
          </a:xfrm>
        </p:grpSpPr>
        <p:grpSp>
          <p:nvGrpSpPr>
            <p:cNvPr id="325" name="Group 120"/>
            <p:cNvGrpSpPr/>
            <p:nvPr/>
          </p:nvGrpSpPr>
          <p:grpSpPr>
            <a:xfrm>
              <a:off x="3979080" y="2040480"/>
              <a:ext cx="2165760" cy="3138120"/>
              <a:chOff x="3979080" y="2040480"/>
              <a:chExt cx="2165760" cy="3138120"/>
            </a:xfrm>
          </p:grpSpPr>
          <p:grpSp>
            <p:nvGrpSpPr>
              <p:cNvPr id="326" name="Group 121"/>
              <p:cNvGrpSpPr/>
              <p:nvPr/>
            </p:nvGrpSpPr>
            <p:grpSpPr>
              <a:xfrm>
                <a:off x="4710240" y="2040480"/>
                <a:ext cx="1434600" cy="3059280"/>
                <a:chOff x="4710240" y="2040480"/>
                <a:chExt cx="1434600" cy="3059280"/>
              </a:xfrm>
            </p:grpSpPr>
            <p:sp>
              <p:nvSpPr>
                <p:cNvPr id="327" name="Freeform 122"/>
                <p:cNvSpPr/>
                <p:nvPr/>
              </p:nvSpPr>
              <p:spPr>
                <a:xfrm rot="21528600">
                  <a:off x="4741560" y="2054160"/>
                  <a:ext cx="1352160" cy="3030480"/>
                </a:xfrm>
                <a:custGeom>
                  <a:avLst/>
                  <a:gdLst>
                    <a:gd name="textAreaLeft" fmla="*/ 0 w 1352160"/>
                    <a:gd name="textAreaRight" fmla="*/ 1352520 w 1352160"/>
                    <a:gd name="textAreaTop" fmla="*/ 0 h 3030480"/>
                    <a:gd name="textAreaBottom" fmla="*/ 3030840 h 3030480"/>
                  </a:gdLst>
                  <a:ahLst/>
                  <a:rect l="textAreaLeft" t="textAreaTop" r="textAreaRight" b="textAreaBottom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b48e9a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28" name="Freeform 123"/>
                <p:cNvSpPr/>
                <p:nvPr/>
              </p:nvSpPr>
              <p:spPr>
                <a:xfrm rot="21528600">
                  <a:off x="5797440" y="4507200"/>
                  <a:ext cx="341280" cy="588600"/>
                </a:xfrm>
                <a:custGeom>
                  <a:avLst/>
                  <a:gdLst/>
                  <a:ahLst/>
                  <a:rect l="l" t="t" r="r" b="b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ff9900"/>
                    </a:gs>
                    <a:gs pos="100000">
                      <a:srgbClr val="ffffff"/>
                    </a:gs>
                  </a:gsLst>
                  <a:lin ang="234600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29" name="Freeform 124"/>
                <p:cNvSpPr/>
                <p:nvPr/>
              </p:nvSpPr>
              <p:spPr>
                <a:xfrm rot="21528600">
                  <a:off x="6004440" y="4856400"/>
                  <a:ext cx="129960" cy="223200"/>
                </a:xfrm>
                <a:custGeom>
                  <a:avLst/>
                  <a:gdLst>
                    <a:gd name="textAreaLeft" fmla="*/ 0 w 129960"/>
                    <a:gd name="textAreaRight" fmla="*/ 130320 w 129960"/>
                    <a:gd name="textAreaTop" fmla="*/ 0 h 223200"/>
                    <a:gd name="textAreaBottom" fmla="*/ 223560 h 223200"/>
                  </a:gdLst>
                  <a:ahLst/>
                  <a:rect l="textAreaLeft" t="textAreaTop" r="textAreaRight" b="textAreaBottom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0" name="Freeform 125"/>
                <p:cNvSpPr/>
                <p:nvPr/>
              </p:nvSpPr>
              <p:spPr>
                <a:xfrm rot="21528600">
                  <a:off x="4839840" y="2069640"/>
                  <a:ext cx="1180800" cy="2531880"/>
                </a:xfrm>
                <a:custGeom>
                  <a:avLst/>
                  <a:gdLst>
                    <a:gd name="textAreaLeft" fmla="*/ 0 w 1180800"/>
                    <a:gd name="textAreaRight" fmla="*/ 1181160 w 1180800"/>
                    <a:gd name="textAreaTop" fmla="*/ 0 h 2531880"/>
                    <a:gd name="textAreaBottom" fmla="*/ 2532240 h 253188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331" name="Group 126"/>
              <p:cNvGrpSpPr/>
              <p:nvPr/>
            </p:nvGrpSpPr>
            <p:grpSpPr>
              <a:xfrm>
                <a:off x="3979080" y="2269440"/>
                <a:ext cx="1343520" cy="2909160"/>
                <a:chOff x="3979080" y="2269440"/>
                <a:chExt cx="1343520" cy="2909160"/>
              </a:xfrm>
            </p:grpSpPr>
            <p:sp>
              <p:nvSpPr>
                <p:cNvPr id="332" name="Freeform 127"/>
                <p:cNvSpPr/>
                <p:nvPr/>
              </p:nvSpPr>
              <p:spPr>
                <a:xfrm rot="889200">
                  <a:off x="4340520" y="2299320"/>
                  <a:ext cx="380880" cy="28782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2878200"/>
                    <a:gd name="textAreaBottom" fmla="*/ 2878560 h 287820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875d7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3" name="Oval 128"/>
                <p:cNvSpPr/>
                <p:nvPr/>
              </p:nvSpPr>
              <p:spPr>
                <a:xfrm rot="889200">
                  <a:off x="4820040" y="2320560"/>
                  <a:ext cx="456120" cy="421200"/>
                </a:xfrm>
                <a:prstGeom prst="ellipse">
                  <a:avLst/>
                </a:prstGeom>
                <a:solidFill>
                  <a:srgbClr val="875d7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334" name="Group 129"/>
            <p:cNvGrpSpPr/>
            <p:nvPr/>
          </p:nvGrpSpPr>
          <p:grpSpPr>
            <a:xfrm>
              <a:off x="1785960" y="4956120"/>
              <a:ext cx="2166840" cy="3137760"/>
              <a:chOff x="1785960" y="4956120"/>
              <a:chExt cx="2166840" cy="3137760"/>
            </a:xfrm>
          </p:grpSpPr>
          <p:grpSp>
            <p:nvGrpSpPr>
              <p:cNvPr id="335" name="Group 130"/>
              <p:cNvGrpSpPr/>
              <p:nvPr/>
            </p:nvGrpSpPr>
            <p:grpSpPr>
              <a:xfrm>
                <a:off x="1785960" y="5034600"/>
                <a:ext cx="1434600" cy="3059280"/>
                <a:chOff x="1785960" y="5034600"/>
                <a:chExt cx="1434600" cy="3059280"/>
              </a:xfrm>
            </p:grpSpPr>
            <p:sp>
              <p:nvSpPr>
                <p:cNvPr id="336" name="Freeform 131"/>
                <p:cNvSpPr/>
                <p:nvPr/>
              </p:nvSpPr>
              <p:spPr>
                <a:xfrm flipH="1" flipV="1" rot="21528600">
                  <a:off x="1836000" y="5049000"/>
                  <a:ext cx="1352160" cy="3030480"/>
                </a:xfrm>
                <a:custGeom>
                  <a:avLst/>
                  <a:gdLst>
                    <a:gd name="textAreaLeft" fmla="*/ 360 w 1352160"/>
                    <a:gd name="textAreaRight" fmla="*/ 1352880 w 1352160"/>
                    <a:gd name="textAreaTop" fmla="*/ 360 h 3030480"/>
                    <a:gd name="textAreaBottom" fmla="*/ 3031200 h 3030480"/>
                  </a:gdLst>
                  <a:ahLst/>
                  <a:rect l="textAreaLeft" t="textAreaTop" r="textAreaRight" b="textAreaBottom"/>
                  <a:pathLst>
                    <a:path w="1252" h="3125">
                      <a:moveTo>
                        <a:pt x="0" y="90"/>
                      </a:moveTo>
                      <a:lnTo>
                        <a:pt x="227" y="0"/>
                      </a:lnTo>
                      <a:lnTo>
                        <a:pt x="1179" y="2540"/>
                      </a:lnTo>
                      <a:lnTo>
                        <a:pt x="1252" y="3125"/>
                      </a:lnTo>
                      <a:lnTo>
                        <a:pt x="952" y="263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7" name="Freeform 132"/>
                <p:cNvSpPr/>
                <p:nvPr/>
              </p:nvSpPr>
              <p:spPr>
                <a:xfrm flipH="1" flipV="1" rot="21528600">
                  <a:off x="1792080" y="5037480"/>
                  <a:ext cx="341280" cy="588600"/>
                </a:xfrm>
                <a:custGeom>
                  <a:avLst/>
                  <a:gdLst>
                    <a:gd name="textAreaLeft" fmla="*/ 360 w 341280"/>
                    <a:gd name="textAreaRight" fmla="*/ 342000 w 341280"/>
                    <a:gd name="textAreaTop" fmla="*/ -360 h 588600"/>
                    <a:gd name="textAreaBottom" fmla="*/ 588600 h 588600"/>
                  </a:gdLst>
                  <a:ahLst/>
                  <a:rect l="textAreaLeft" t="textAreaTop" r="textAreaRight" b="textAreaBottom"/>
                  <a:pathLst>
                    <a:path w="316" h="608">
                      <a:moveTo>
                        <a:pt x="316" y="608"/>
                      </a:moveTo>
                      <a:lnTo>
                        <a:pt x="227" y="0"/>
                      </a:lnTo>
                      <a:lnTo>
                        <a:pt x="0" y="90"/>
                      </a:lnTo>
                      <a:lnTo>
                        <a:pt x="316" y="608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8" name="Freeform 133"/>
                <p:cNvSpPr/>
                <p:nvPr/>
              </p:nvSpPr>
              <p:spPr>
                <a:xfrm flipH="1" flipV="1" rot="21528600">
                  <a:off x="1795320" y="5054400"/>
                  <a:ext cx="129960" cy="223200"/>
                </a:xfrm>
                <a:custGeom>
                  <a:avLst/>
                  <a:gdLst>
                    <a:gd name="textAreaLeft" fmla="*/ -360 w 129960"/>
                    <a:gd name="textAreaRight" fmla="*/ 129960 w 129960"/>
                    <a:gd name="textAreaTop" fmla="*/ 360 h 223200"/>
                    <a:gd name="textAreaBottom" fmla="*/ 223920 h 223200"/>
                  </a:gdLst>
                  <a:ahLst/>
                  <a:rect l="textAreaLeft" t="textAreaTop" r="textAreaRight" b="textAreaBottom"/>
                  <a:pathLst>
                    <a:path w="121" h="230">
                      <a:moveTo>
                        <a:pt x="85" y="0"/>
                      </a:moveTo>
                      <a:lnTo>
                        <a:pt x="0" y="25"/>
                      </a:lnTo>
                      <a:lnTo>
                        <a:pt x="121" y="230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9" name="Freeform 134"/>
                <p:cNvSpPr/>
                <p:nvPr/>
              </p:nvSpPr>
              <p:spPr>
                <a:xfrm flipH="1" flipV="1" rot="21528600">
                  <a:off x="1909440" y="5531040"/>
                  <a:ext cx="1180800" cy="2532600"/>
                </a:xfrm>
                <a:custGeom>
                  <a:avLst/>
                  <a:gdLst>
                    <a:gd name="textAreaLeft" fmla="*/ 360 w 1180800"/>
                    <a:gd name="textAreaRight" fmla="*/ 1181520 w 1180800"/>
                    <a:gd name="textAreaTop" fmla="*/ 0 h 2532600"/>
                    <a:gd name="textAreaBottom" fmla="*/ 2532600 h 2532600"/>
                  </a:gdLst>
                  <a:ahLst/>
                  <a:rect l="textAreaLeft" t="textAreaTop" r="textAreaRight" b="textAreaBottom"/>
                  <a:pathLst>
                    <a:path w="1094" h="2612">
                      <a:moveTo>
                        <a:pt x="867" y="2612"/>
                      </a:moveTo>
                      <a:lnTo>
                        <a:pt x="1094" y="2522"/>
                      </a:lnTo>
                      <a:lnTo>
                        <a:pt x="1016" y="2554"/>
                      </a:lnTo>
                      <a:lnTo>
                        <a:pt x="84" y="0"/>
                      </a:lnTo>
                      <a:lnTo>
                        <a:pt x="0" y="30"/>
                      </a:lnTo>
                      <a:lnTo>
                        <a:pt x="940" y="258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340" name="Group 135"/>
              <p:cNvGrpSpPr/>
              <p:nvPr/>
            </p:nvGrpSpPr>
            <p:grpSpPr>
              <a:xfrm>
                <a:off x="2608200" y="4956120"/>
                <a:ext cx="1344600" cy="2908800"/>
                <a:chOff x="2608200" y="4956120"/>
                <a:chExt cx="1344600" cy="2908800"/>
              </a:xfrm>
            </p:grpSpPr>
            <p:sp>
              <p:nvSpPr>
                <p:cNvPr id="341" name="Freeform 136"/>
                <p:cNvSpPr/>
                <p:nvPr/>
              </p:nvSpPr>
              <p:spPr>
                <a:xfrm flipH="1" flipV="1" rot="889200">
                  <a:off x="3209040" y="4956480"/>
                  <a:ext cx="380880" cy="2878200"/>
                </a:xfrm>
                <a:custGeom>
                  <a:avLst/>
                  <a:gdLst>
                    <a:gd name="textAreaLeft" fmla="*/ 360 w 380880"/>
                    <a:gd name="textAreaRight" fmla="*/ 381600 w 380880"/>
                    <a:gd name="textAreaTop" fmla="*/ -360 h 2878200"/>
                    <a:gd name="textAreaBottom" fmla="*/ 2878200 h 2878200"/>
                  </a:gdLst>
                  <a:ahLst/>
                  <a:rect l="textAreaLeft" t="textAreaTop" r="textAreaRight" b="textAreaBottom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42" name="Oval 137"/>
                <p:cNvSpPr/>
                <p:nvPr/>
              </p:nvSpPr>
              <p:spPr>
                <a:xfrm flipH="1" flipV="1" rot="889200">
                  <a:off x="2654280" y="7391880"/>
                  <a:ext cx="456120" cy="4212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sp>
        <p:nvSpPr>
          <p:cNvPr id="343" name="Oval 110"/>
          <p:cNvSpPr/>
          <p:nvPr/>
        </p:nvSpPr>
        <p:spPr>
          <a:xfrm flipH="1" flipV="1" rot="14634000">
            <a:off x="5112360" y="3166920"/>
            <a:ext cx="131760" cy="1220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4" name="Text Box 138"/>
          <p:cNvSpPr/>
          <p:nvPr/>
        </p:nvSpPr>
        <p:spPr>
          <a:xfrm>
            <a:off x="4794120" y="2438280"/>
            <a:ext cx="668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М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345" name="Group 141"/>
          <p:cNvGrpSpPr/>
          <p:nvPr/>
        </p:nvGrpSpPr>
        <p:grpSpPr>
          <a:xfrm>
            <a:off x="4648320" y="3809880"/>
            <a:ext cx="534960" cy="1371600"/>
            <a:chOff x="4648320" y="3809880"/>
            <a:chExt cx="534960" cy="1371600"/>
          </a:xfrm>
        </p:grpSpPr>
        <p:sp>
          <p:nvSpPr>
            <p:cNvPr id="346" name="Line 139"/>
            <p:cNvSpPr/>
            <p:nvPr/>
          </p:nvSpPr>
          <p:spPr>
            <a:xfrm>
              <a:off x="4648320" y="3809880"/>
              <a:ext cx="152280" cy="152640"/>
            </a:xfrm>
            <a:prstGeom prst="line">
              <a:avLst/>
            </a:prstGeom>
            <a:ln w="2844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47" name="Line 140"/>
            <p:cNvSpPr/>
            <p:nvPr/>
          </p:nvSpPr>
          <p:spPr>
            <a:xfrm>
              <a:off x="5181480" y="4952880"/>
              <a:ext cx="1800" cy="228600"/>
            </a:xfrm>
            <a:prstGeom prst="line">
              <a:avLst/>
            </a:prstGeom>
            <a:ln w="2844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transition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6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40000">
                                      <p:cBhvr>
                                        <p:cTn id="16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2720160" y="2189520"/>
            <a:ext cx="2156400" cy="2229840"/>
            <a:chOff x="2720160" y="2189520"/>
            <a:chExt cx="2156400" cy="2229840"/>
          </a:xfrm>
        </p:grpSpPr>
        <p:sp>
          <p:nvSpPr>
            <p:cNvPr id="349" name="Line 3"/>
            <p:cNvSpPr/>
            <p:nvPr/>
          </p:nvSpPr>
          <p:spPr>
            <a:xfrm>
              <a:off x="2819160" y="3962160"/>
              <a:ext cx="205740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350" name="Group 4"/>
            <p:cNvGrpSpPr/>
            <p:nvPr/>
          </p:nvGrpSpPr>
          <p:grpSpPr>
            <a:xfrm>
              <a:off x="2720160" y="2189520"/>
              <a:ext cx="421920" cy="1848600"/>
              <a:chOff x="2720160" y="2189520"/>
              <a:chExt cx="421920" cy="1848600"/>
            </a:xfrm>
          </p:grpSpPr>
          <p:sp>
            <p:nvSpPr>
              <p:cNvPr id="351" name="Line 5"/>
              <p:cNvSpPr/>
              <p:nvPr/>
            </p:nvSpPr>
            <p:spPr>
              <a:xfrm flipV="1">
                <a:off x="2819160" y="2286000"/>
                <a:ext cx="228600" cy="16761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2" name="Oval 6"/>
              <p:cNvSpPr/>
              <p:nvPr/>
            </p:nvSpPr>
            <p:spPr>
              <a:xfrm rot="3834000">
                <a:off x="2737800" y="3890880"/>
                <a:ext cx="131760" cy="122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353" name="Oval 7"/>
              <p:cNvSpPr/>
              <p:nvPr/>
            </p:nvSpPr>
            <p:spPr>
              <a:xfrm rot="3834000">
                <a:off x="2991960" y="2214360"/>
                <a:ext cx="131760" cy="1224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grpSp>
        <p:nvGrpSpPr>
          <p:cNvPr id="354" name="Group 8"/>
          <p:cNvGrpSpPr/>
          <p:nvPr/>
        </p:nvGrpSpPr>
        <p:grpSpPr>
          <a:xfrm>
            <a:off x="2720160" y="2189520"/>
            <a:ext cx="4300200" cy="4459680"/>
            <a:chOff x="2720160" y="2189520"/>
            <a:chExt cx="4300200" cy="4459680"/>
          </a:xfrm>
        </p:grpSpPr>
        <p:grpSp>
          <p:nvGrpSpPr>
            <p:cNvPr id="355" name="Group 9"/>
            <p:cNvGrpSpPr/>
            <p:nvPr/>
          </p:nvGrpSpPr>
          <p:grpSpPr>
            <a:xfrm>
              <a:off x="2720160" y="2189520"/>
              <a:ext cx="2156400" cy="2229840"/>
              <a:chOff x="2720160" y="2189520"/>
              <a:chExt cx="2156400" cy="2229840"/>
            </a:xfrm>
          </p:grpSpPr>
          <p:sp>
            <p:nvSpPr>
              <p:cNvPr id="356" name="Line 10"/>
              <p:cNvSpPr/>
              <p:nvPr/>
            </p:nvSpPr>
            <p:spPr>
              <a:xfrm>
                <a:off x="2819160" y="3962160"/>
                <a:ext cx="2057400" cy="45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357" name="Group 11"/>
              <p:cNvGrpSpPr/>
              <p:nvPr/>
            </p:nvGrpSpPr>
            <p:grpSpPr>
              <a:xfrm>
                <a:off x="2720160" y="2189520"/>
                <a:ext cx="421920" cy="1848600"/>
                <a:chOff x="2720160" y="2189520"/>
                <a:chExt cx="421920" cy="1848600"/>
              </a:xfrm>
            </p:grpSpPr>
            <p:sp>
              <p:nvSpPr>
                <p:cNvPr id="358" name="Line 12"/>
                <p:cNvSpPr/>
                <p:nvPr/>
              </p:nvSpPr>
              <p:spPr>
                <a:xfrm flipV="1">
                  <a:off x="2819160" y="2286000"/>
                  <a:ext cx="228600" cy="167616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59" name="Oval 13"/>
                <p:cNvSpPr/>
                <p:nvPr/>
              </p:nvSpPr>
              <p:spPr>
                <a:xfrm rot="3834000">
                  <a:off x="2737800" y="3890880"/>
                  <a:ext cx="131760" cy="12204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6b68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60" name="Oval 14"/>
                <p:cNvSpPr/>
                <p:nvPr/>
              </p:nvSpPr>
              <p:spPr>
                <a:xfrm rot="3834000">
                  <a:off x="2991960" y="2214360"/>
                  <a:ext cx="131760" cy="12240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6b68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361" name="Group 15"/>
            <p:cNvGrpSpPr/>
            <p:nvPr/>
          </p:nvGrpSpPr>
          <p:grpSpPr>
            <a:xfrm>
              <a:off x="4863960" y="4419360"/>
              <a:ext cx="2156400" cy="2229840"/>
              <a:chOff x="4863960" y="4419360"/>
              <a:chExt cx="2156400" cy="2229840"/>
            </a:xfrm>
          </p:grpSpPr>
          <p:sp>
            <p:nvSpPr>
              <p:cNvPr id="362" name="Line 16"/>
              <p:cNvSpPr/>
              <p:nvPr/>
            </p:nvSpPr>
            <p:spPr>
              <a:xfrm flipH="1" flipV="1">
                <a:off x="4863960" y="4419360"/>
                <a:ext cx="2057400" cy="457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363" name="Group 17"/>
              <p:cNvGrpSpPr/>
              <p:nvPr/>
            </p:nvGrpSpPr>
            <p:grpSpPr>
              <a:xfrm>
                <a:off x="6598440" y="4800600"/>
                <a:ext cx="421920" cy="1848600"/>
                <a:chOff x="6598440" y="4800600"/>
                <a:chExt cx="421920" cy="1848600"/>
              </a:xfrm>
            </p:grpSpPr>
            <p:sp>
              <p:nvSpPr>
                <p:cNvPr id="364" name="Line 18"/>
                <p:cNvSpPr/>
                <p:nvPr/>
              </p:nvSpPr>
              <p:spPr>
                <a:xfrm flipH="1">
                  <a:off x="6692760" y="4876560"/>
                  <a:ext cx="228600" cy="1676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65" name="Oval 19"/>
                <p:cNvSpPr/>
                <p:nvPr/>
              </p:nvSpPr>
              <p:spPr>
                <a:xfrm flipH="1" flipV="1" rot="3834000">
                  <a:off x="6870240" y="4825440"/>
                  <a:ext cx="131760" cy="122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66" name="Oval 20"/>
                <p:cNvSpPr/>
                <p:nvPr/>
              </p:nvSpPr>
              <p:spPr>
                <a:xfrm flipH="1" flipV="1" rot="3834000">
                  <a:off x="6615720" y="6501960"/>
                  <a:ext cx="131760" cy="1220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sp>
        <p:nvSpPr>
          <p:cNvPr id="367" name="Line 21"/>
          <p:cNvSpPr/>
          <p:nvPr/>
        </p:nvSpPr>
        <p:spPr>
          <a:xfrm>
            <a:off x="2819520" y="3962520"/>
            <a:ext cx="20574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Text Box 31"/>
          <p:cNvSpPr/>
          <p:nvPr/>
        </p:nvSpPr>
        <p:spPr>
          <a:xfrm>
            <a:off x="609480" y="2286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84956"/>
                </a:solidFill>
                <a:latin typeface="Arial"/>
              </a:rPr>
              <a:t>       </a:t>
            </a:r>
            <a:r>
              <a:rPr b="0" i="1" lang="ru-RU" sz="4400" spc="-1" strike="noStrike">
                <a:solidFill>
                  <a:srgbClr val="984956"/>
                </a:solidFill>
                <a:latin typeface="Arial"/>
              </a:rPr>
              <a:t>Поворот отрез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9" name="Freeform 32"/>
          <p:cNvSpPr/>
          <p:nvPr/>
        </p:nvSpPr>
        <p:spPr>
          <a:xfrm>
            <a:off x="3086280" y="2298600"/>
            <a:ext cx="1777680" cy="2095560"/>
          </a:xfrm>
          <a:custGeom>
            <a:avLst/>
            <a:gdLst>
              <a:gd name="textAreaLeft" fmla="*/ 0 w 1777680"/>
              <a:gd name="textAreaRight" fmla="*/ 1778040 w 177768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1120" h="1320">
                <a:moveTo>
                  <a:pt x="0" y="0"/>
                </a:moveTo>
                <a:lnTo>
                  <a:pt x="112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0" name="Freeform 33"/>
          <p:cNvSpPr/>
          <p:nvPr/>
        </p:nvSpPr>
        <p:spPr>
          <a:xfrm>
            <a:off x="4865760" y="2413080"/>
            <a:ext cx="442800" cy="1990800"/>
          </a:xfrm>
          <a:custGeom>
            <a:avLst/>
            <a:gdLst>
              <a:gd name="textAreaLeft" fmla="*/ 0 w 442800"/>
              <a:gd name="textAreaRight" fmla="*/ 443160 w 44280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279" h="1254">
                <a:moveTo>
                  <a:pt x="279" y="0"/>
                </a:moveTo>
                <a:lnTo>
                  <a:pt x="0" y="1254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Freeform 34"/>
          <p:cNvSpPr/>
          <p:nvPr/>
        </p:nvSpPr>
        <p:spPr>
          <a:xfrm rot="5400000">
            <a:off x="5022360" y="2495520"/>
            <a:ext cx="1778040" cy="209556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1120" h="1320">
                <a:moveTo>
                  <a:pt x="0" y="0"/>
                </a:moveTo>
                <a:lnTo>
                  <a:pt x="112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4801320" y="4343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Oval 36"/>
          <p:cNvSpPr/>
          <p:nvPr/>
        </p:nvSpPr>
        <p:spPr>
          <a:xfrm rot="3834000">
            <a:off x="4795560" y="4360680"/>
            <a:ext cx="131760" cy="122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167"/>
          <p:cNvGrpSpPr/>
          <p:nvPr/>
        </p:nvGrpSpPr>
        <p:grpSpPr>
          <a:xfrm>
            <a:off x="2019240" y="442440"/>
            <a:ext cx="6420960" cy="5910120"/>
            <a:chOff x="2019240" y="442440"/>
            <a:chExt cx="6420960" cy="5910120"/>
          </a:xfrm>
        </p:grpSpPr>
        <p:sp>
          <p:nvSpPr>
            <p:cNvPr id="375" name="Freeform 168"/>
            <p:cNvSpPr/>
            <p:nvPr/>
          </p:nvSpPr>
          <p:spPr>
            <a:xfrm rot="2398800">
              <a:off x="1492920" y="4481280"/>
              <a:ext cx="5813280" cy="4680"/>
            </a:xfrm>
            <a:custGeom>
              <a:avLst/>
              <a:gdLst>
                <a:gd name="textAreaLeft" fmla="*/ 0 w 5813280"/>
                <a:gd name="textAreaRight" fmla="*/ 5813640 w 5813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554" h="3">
                  <a:moveTo>
                    <a:pt x="4554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6" name="Oval 169"/>
            <p:cNvSpPr/>
            <p:nvPr/>
          </p:nvSpPr>
          <p:spPr>
            <a:xfrm rot="2398800">
              <a:off x="4385160" y="438156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7" name="Text Box 170"/>
            <p:cNvSpPr/>
            <p:nvPr/>
          </p:nvSpPr>
          <p:spPr>
            <a:xfrm rot="2398800">
              <a:off x="6610680" y="5624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8" name="Text Box 171"/>
            <p:cNvSpPr/>
            <p:nvPr/>
          </p:nvSpPr>
          <p:spPr>
            <a:xfrm rot="2398800">
              <a:off x="6688440" y="522432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9" name="Text Box 172"/>
            <p:cNvSpPr/>
            <p:nvPr/>
          </p:nvSpPr>
          <p:spPr>
            <a:xfrm rot="2398800">
              <a:off x="6891840" y="39837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0" name="Text Box 173"/>
            <p:cNvSpPr/>
            <p:nvPr/>
          </p:nvSpPr>
          <p:spPr>
            <a:xfrm rot="2398800">
              <a:off x="6767280" y="35395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1" name="Text Box 174"/>
            <p:cNvSpPr/>
            <p:nvPr/>
          </p:nvSpPr>
          <p:spPr>
            <a:xfrm rot="2398800">
              <a:off x="6592680" y="30679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2" name="Text Box 175"/>
            <p:cNvSpPr/>
            <p:nvPr/>
          </p:nvSpPr>
          <p:spPr>
            <a:xfrm rot="2398800">
              <a:off x="6279840" y="264636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3" name="Text Box 176"/>
            <p:cNvSpPr/>
            <p:nvPr/>
          </p:nvSpPr>
          <p:spPr>
            <a:xfrm rot="2398800">
              <a:off x="5737680" y="256032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4" name="Text Box 177"/>
            <p:cNvSpPr/>
            <p:nvPr/>
          </p:nvSpPr>
          <p:spPr>
            <a:xfrm rot="2398800">
              <a:off x="5553720" y="20124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5" name="Text Box 178"/>
            <p:cNvSpPr/>
            <p:nvPr/>
          </p:nvSpPr>
          <p:spPr>
            <a:xfrm rot="2398800">
              <a:off x="5093640" y="1784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6" name="Text Box 179"/>
            <p:cNvSpPr/>
            <p:nvPr/>
          </p:nvSpPr>
          <p:spPr>
            <a:xfrm rot="2398800">
              <a:off x="4699440" y="1683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7" name="Text Box 180"/>
            <p:cNvSpPr/>
            <p:nvPr/>
          </p:nvSpPr>
          <p:spPr>
            <a:xfrm rot="2398800">
              <a:off x="4200840" y="167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8" name="Text Box 181"/>
            <p:cNvSpPr/>
            <p:nvPr/>
          </p:nvSpPr>
          <p:spPr>
            <a:xfrm rot="2398800">
              <a:off x="3796920" y="1654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89" name="Text Box 182"/>
            <p:cNvSpPr/>
            <p:nvPr/>
          </p:nvSpPr>
          <p:spPr>
            <a:xfrm rot="2398800">
              <a:off x="3356280" y="1773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0" name="Text Box 183"/>
            <p:cNvSpPr/>
            <p:nvPr/>
          </p:nvSpPr>
          <p:spPr>
            <a:xfrm rot="2398800">
              <a:off x="2916360" y="1854360"/>
              <a:ext cx="45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1" name="Text Box 184"/>
            <p:cNvSpPr/>
            <p:nvPr/>
          </p:nvSpPr>
          <p:spPr>
            <a:xfrm rot="2398800">
              <a:off x="2475000" y="221940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2" name="Text Box 185"/>
            <p:cNvSpPr/>
            <p:nvPr/>
          </p:nvSpPr>
          <p:spPr>
            <a:xfrm rot="2398800">
              <a:off x="2044800" y="24534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3" name="Text Box 186"/>
            <p:cNvSpPr/>
            <p:nvPr/>
          </p:nvSpPr>
          <p:spPr>
            <a:xfrm rot="2398800">
              <a:off x="5929920" y="5633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4" name="Text Box 187"/>
            <p:cNvSpPr/>
            <p:nvPr/>
          </p:nvSpPr>
          <p:spPr>
            <a:xfrm rot="2398800">
              <a:off x="6082920" y="5337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5" name="Text Box 188"/>
            <p:cNvSpPr/>
            <p:nvPr/>
          </p:nvSpPr>
          <p:spPr>
            <a:xfrm rot="2398800">
              <a:off x="6183000" y="50230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6" name="Text Box 189"/>
            <p:cNvSpPr/>
            <p:nvPr/>
          </p:nvSpPr>
          <p:spPr>
            <a:xfrm rot="2398800">
              <a:off x="6211800" y="47660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7" name="Text Box 190"/>
            <p:cNvSpPr/>
            <p:nvPr/>
          </p:nvSpPr>
          <p:spPr>
            <a:xfrm rot="2398800">
              <a:off x="6261120" y="4453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8" name="Text Box 191"/>
            <p:cNvSpPr/>
            <p:nvPr/>
          </p:nvSpPr>
          <p:spPr>
            <a:xfrm rot="2398800">
              <a:off x="6239880" y="40600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9" name="Text Box 192"/>
            <p:cNvSpPr/>
            <p:nvPr/>
          </p:nvSpPr>
          <p:spPr>
            <a:xfrm rot="2398800">
              <a:off x="6157080" y="370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0" name="Text Box 193"/>
            <p:cNvSpPr/>
            <p:nvPr/>
          </p:nvSpPr>
          <p:spPr>
            <a:xfrm rot="2398800">
              <a:off x="5970600" y="3341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1" name="Text Box 194"/>
            <p:cNvSpPr/>
            <p:nvPr/>
          </p:nvSpPr>
          <p:spPr>
            <a:xfrm rot="2398800">
              <a:off x="5776920" y="3013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2" name="Text Box 195"/>
            <p:cNvSpPr/>
            <p:nvPr/>
          </p:nvSpPr>
          <p:spPr>
            <a:xfrm rot="2398800">
              <a:off x="5281560" y="26136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3" name="Text Box 196"/>
            <p:cNvSpPr/>
            <p:nvPr/>
          </p:nvSpPr>
          <p:spPr>
            <a:xfrm rot="2398800">
              <a:off x="2711520" y="28958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4" name="Text Box 197"/>
            <p:cNvSpPr/>
            <p:nvPr/>
          </p:nvSpPr>
          <p:spPr>
            <a:xfrm rot="2398800">
              <a:off x="2880360" y="267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5" name="Text Box 198"/>
            <p:cNvSpPr/>
            <p:nvPr/>
          </p:nvSpPr>
          <p:spPr>
            <a:xfrm rot="2398800">
              <a:off x="3209400" y="2510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6" name="Text Box 199"/>
            <p:cNvSpPr/>
            <p:nvPr/>
          </p:nvSpPr>
          <p:spPr>
            <a:xfrm rot="2398800">
              <a:off x="3505680" y="24123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7" name="Text Box 200"/>
            <p:cNvSpPr/>
            <p:nvPr/>
          </p:nvSpPr>
          <p:spPr>
            <a:xfrm rot="2398800">
              <a:off x="3909240" y="23454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8" name="Text Box 201"/>
            <p:cNvSpPr/>
            <p:nvPr/>
          </p:nvSpPr>
          <p:spPr>
            <a:xfrm rot="2398800">
              <a:off x="4213440" y="23184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09" name="Text Box 202"/>
            <p:cNvSpPr/>
            <p:nvPr/>
          </p:nvSpPr>
          <p:spPr>
            <a:xfrm rot="2398800">
              <a:off x="4572360" y="23378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0" name="Text Box 203"/>
            <p:cNvSpPr/>
            <p:nvPr/>
          </p:nvSpPr>
          <p:spPr>
            <a:xfrm rot="2398800">
              <a:off x="4934160" y="2467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1" name="Text Box 204"/>
            <p:cNvSpPr/>
            <p:nvPr/>
          </p:nvSpPr>
          <p:spPr>
            <a:xfrm rot="2398800">
              <a:off x="6438600" y="5959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2" name="Text Box 205"/>
            <p:cNvSpPr/>
            <p:nvPr/>
          </p:nvSpPr>
          <p:spPr>
            <a:xfrm rot="2398800">
              <a:off x="6880680" y="44276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3" name="Text Box 206"/>
            <p:cNvSpPr/>
            <p:nvPr/>
          </p:nvSpPr>
          <p:spPr>
            <a:xfrm rot="2398800">
              <a:off x="6839640" y="48495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4" name="Freeform 207"/>
            <p:cNvSpPr/>
            <p:nvPr/>
          </p:nvSpPr>
          <p:spPr>
            <a:xfrm rot="2398800">
              <a:off x="2422440" y="1962720"/>
              <a:ext cx="5773680" cy="2859120"/>
            </a:xfrm>
            <a:custGeom>
              <a:avLst/>
              <a:gdLst>
                <a:gd name="textAreaLeft" fmla="*/ 0 w 5773680"/>
                <a:gd name="textAreaRight" fmla="*/ 5773680 w 5773680"/>
                <a:gd name="textAreaTop" fmla="*/ 0 h 2859120"/>
                <a:gd name="textAreaBottom" fmla="*/ 2859480 h 2859120"/>
              </a:gdLst>
              <a:ahLst/>
              <a:rect l="textAreaLeft" t="textAreaTop" r="textAreaRight" b="textAreaBottom"/>
              <a:pathLst>
                <a:path w="4524" h="2319">
                  <a:moveTo>
                    <a:pt x="0" y="2313"/>
                  </a:moveTo>
                  <a:cubicBezTo>
                    <a:pt x="13" y="2230"/>
                    <a:pt x="47" y="1958"/>
                    <a:pt x="79" y="1811"/>
                  </a:cubicBezTo>
                  <a:cubicBezTo>
                    <a:pt x="111" y="1664"/>
                    <a:pt x="146" y="1547"/>
                    <a:pt x="192" y="1431"/>
                  </a:cubicBezTo>
                  <a:cubicBezTo>
                    <a:pt x="238" y="1315"/>
                    <a:pt x="285" y="1224"/>
                    <a:pt x="354" y="1113"/>
                  </a:cubicBezTo>
                  <a:cubicBezTo>
                    <a:pt x="423" y="1002"/>
                    <a:pt x="516" y="868"/>
                    <a:pt x="606" y="765"/>
                  </a:cubicBezTo>
                  <a:cubicBezTo>
                    <a:pt x="696" y="662"/>
                    <a:pt x="793" y="578"/>
                    <a:pt x="895" y="496"/>
                  </a:cubicBezTo>
                  <a:cubicBezTo>
                    <a:pt x="997" y="414"/>
                    <a:pt x="1112" y="333"/>
                    <a:pt x="1218" y="273"/>
                  </a:cubicBezTo>
                  <a:cubicBezTo>
                    <a:pt x="1324" y="213"/>
                    <a:pt x="1409" y="174"/>
                    <a:pt x="1530" y="133"/>
                  </a:cubicBezTo>
                  <a:cubicBezTo>
                    <a:pt x="1651" y="92"/>
                    <a:pt x="1814" y="49"/>
                    <a:pt x="1944" y="27"/>
                  </a:cubicBezTo>
                  <a:cubicBezTo>
                    <a:pt x="2074" y="5"/>
                    <a:pt x="2181" y="0"/>
                    <a:pt x="2310" y="3"/>
                  </a:cubicBezTo>
                  <a:cubicBezTo>
                    <a:pt x="2439" y="6"/>
                    <a:pt x="2582" y="16"/>
                    <a:pt x="2718" y="45"/>
                  </a:cubicBezTo>
                  <a:cubicBezTo>
                    <a:pt x="2854" y="74"/>
                    <a:pt x="2991" y="117"/>
                    <a:pt x="3126" y="177"/>
                  </a:cubicBezTo>
                  <a:cubicBezTo>
                    <a:pt x="3261" y="237"/>
                    <a:pt x="3414" y="329"/>
                    <a:pt x="3526" y="405"/>
                  </a:cubicBezTo>
                  <a:cubicBezTo>
                    <a:pt x="3638" y="481"/>
                    <a:pt x="3705" y="540"/>
                    <a:pt x="3798" y="632"/>
                  </a:cubicBezTo>
                  <a:cubicBezTo>
                    <a:pt x="3891" y="724"/>
                    <a:pt x="4007" y="851"/>
                    <a:pt x="4086" y="957"/>
                  </a:cubicBezTo>
                  <a:cubicBezTo>
                    <a:pt x="4165" y="1063"/>
                    <a:pt x="4222" y="1172"/>
                    <a:pt x="4272" y="1269"/>
                  </a:cubicBezTo>
                  <a:cubicBezTo>
                    <a:pt x="4322" y="1366"/>
                    <a:pt x="4353" y="1433"/>
                    <a:pt x="4388" y="1539"/>
                  </a:cubicBezTo>
                  <a:cubicBezTo>
                    <a:pt x="4423" y="1645"/>
                    <a:pt x="4456" y="1772"/>
                    <a:pt x="4479" y="1902"/>
                  </a:cubicBezTo>
                  <a:cubicBezTo>
                    <a:pt x="4502" y="2032"/>
                    <a:pt x="4515" y="2232"/>
                    <a:pt x="4524" y="2319"/>
                  </a:cubicBezTo>
                </a:path>
              </a:pathLst>
            </a:custGeom>
            <a:noFill/>
            <a:ln w="7632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5" name="Freeform 208"/>
            <p:cNvSpPr/>
            <p:nvPr/>
          </p:nvSpPr>
          <p:spPr>
            <a:xfrm rot="2398800">
              <a:off x="2982960" y="2799360"/>
              <a:ext cx="4065480" cy="1944720"/>
            </a:xfrm>
            <a:custGeom>
              <a:avLst/>
              <a:gdLst>
                <a:gd name="textAreaLeft" fmla="*/ 0 w 4065480"/>
                <a:gd name="textAreaRight" fmla="*/ 4065840 w 40654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3186" h="1577">
                  <a:moveTo>
                    <a:pt x="0" y="1577"/>
                  </a:moveTo>
                  <a:cubicBezTo>
                    <a:pt x="23" y="1494"/>
                    <a:pt x="77" y="1223"/>
                    <a:pt x="138" y="1073"/>
                  </a:cubicBezTo>
                  <a:cubicBezTo>
                    <a:pt x="199" y="923"/>
                    <a:pt x="284" y="792"/>
                    <a:pt x="366" y="677"/>
                  </a:cubicBezTo>
                  <a:cubicBezTo>
                    <a:pt x="448" y="562"/>
                    <a:pt x="539" y="467"/>
                    <a:pt x="630" y="383"/>
                  </a:cubicBezTo>
                  <a:cubicBezTo>
                    <a:pt x="721" y="299"/>
                    <a:pt x="799" y="232"/>
                    <a:pt x="912" y="173"/>
                  </a:cubicBezTo>
                  <a:cubicBezTo>
                    <a:pt x="1025" y="114"/>
                    <a:pt x="1187" y="57"/>
                    <a:pt x="1308" y="29"/>
                  </a:cubicBezTo>
                  <a:cubicBezTo>
                    <a:pt x="1429" y="1"/>
                    <a:pt x="1521" y="0"/>
                    <a:pt x="1638" y="5"/>
                  </a:cubicBezTo>
                  <a:cubicBezTo>
                    <a:pt x="1755" y="10"/>
                    <a:pt x="1885" y="21"/>
                    <a:pt x="2010" y="59"/>
                  </a:cubicBezTo>
                  <a:cubicBezTo>
                    <a:pt x="2135" y="97"/>
                    <a:pt x="2270" y="158"/>
                    <a:pt x="2388" y="234"/>
                  </a:cubicBezTo>
                  <a:cubicBezTo>
                    <a:pt x="2506" y="310"/>
                    <a:pt x="2623" y="411"/>
                    <a:pt x="2718" y="515"/>
                  </a:cubicBezTo>
                  <a:cubicBezTo>
                    <a:pt x="2813" y="619"/>
                    <a:pt x="2892" y="742"/>
                    <a:pt x="2958" y="857"/>
                  </a:cubicBezTo>
                  <a:cubicBezTo>
                    <a:pt x="3024" y="972"/>
                    <a:pt x="3076" y="1092"/>
                    <a:pt x="3114" y="1205"/>
                  </a:cubicBezTo>
                  <a:cubicBezTo>
                    <a:pt x="3152" y="1318"/>
                    <a:pt x="3171" y="1466"/>
                    <a:pt x="3186" y="1535"/>
                  </a:cubicBez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6" name="Freeform 209"/>
            <p:cNvSpPr/>
            <p:nvPr/>
          </p:nvSpPr>
          <p:spPr>
            <a:xfrm rot="2398800">
              <a:off x="5842440" y="6061320"/>
              <a:ext cx="895320" cy="32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02" h="3">
                  <a:moveTo>
                    <a:pt x="702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7" name="Freeform 210"/>
            <p:cNvSpPr/>
            <p:nvPr/>
          </p:nvSpPr>
          <p:spPr>
            <a:xfrm rot="2398800">
              <a:off x="5712120" y="2898720"/>
              <a:ext cx="4680" cy="168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" h="106">
                  <a:moveTo>
                    <a:pt x="0" y="0"/>
                  </a:moveTo>
                  <a:lnTo>
                    <a:pt x="3" y="1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8" name="Freeform 211"/>
            <p:cNvSpPr/>
            <p:nvPr/>
          </p:nvSpPr>
          <p:spPr>
            <a:xfrm rot="2398800">
              <a:off x="6206040" y="2306160"/>
              <a:ext cx="2880" cy="174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" h="110">
                  <a:moveTo>
                    <a:pt x="2" y="0"/>
                  </a:moveTo>
                  <a:lnTo>
                    <a:pt x="0" y="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19" name="Freeform 212"/>
            <p:cNvSpPr/>
            <p:nvPr/>
          </p:nvSpPr>
          <p:spPr>
            <a:xfrm rot="2398800">
              <a:off x="6908760" y="5600520"/>
              <a:ext cx="122040" cy="38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7" h="24">
                  <a:moveTo>
                    <a:pt x="0" y="24"/>
                  </a:move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0" name="Freeform 213"/>
            <p:cNvSpPr/>
            <p:nvPr/>
          </p:nvSpPr>
          <p:spPr>
            <a:xfrm rot="2398800">
              <a:off x="7056360" y="5193000"/>
              <a:ext cx="123840" cy="522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33">
                  <a:moveTo>
                    <a:pt x="0" y="33"/>
                  </a:move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1" name="Freeform 214"/>
            <p:cNvSpPr/>
            <p:nvPr/>
          </p:nvSpPr>
          <p:spPr>
            <a:xfrm rot="2398800">
              <a:off x="7125120" y="4775400"/>
              <a:ext cx="99720" cy="619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3" h="39">
                  <a:moveTo>
                    <a:pt x="0" y="39"/>
                  </a:move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2" name="Freeform 215"/>
            <p:cNvSpPr/>
            <p:nvPr/>
          </p:nvSpPr>
          <p:spPr>
            <a:xfrm rot="2398800">
              <a:off x="6662160" y="6000480"/>
              <a:ext cx="139680" cy="25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88" h="16">
                  <a:moveTo>
                    <a:pt x="0" y="16"/>
                  </a:moveTo>
                  <a:lnTo>
                    <a:pt x="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3" name="Freeform 216"/>
            <p:cNvSpPr/>
            <p:nvPr/>
          </p:nvSpPr>
          <p:spPr>
            <a:xfrm rot="2398800">
              <a:off x="7160040" y="4557600"/>
              <a:ext cx="85680" cy="66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4" h="42">
                  <a:moveTo>
                    <a:pt x="0" y="42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4" name="Freeform 217"/>
            <p:cNvSpPr/>
            <p:nvPr/>
          </p:nvSpPr>
          <p:spPr>
            <a:xfrm rot="2398800">
              <a:off x="7106040" y="5012280"/>
              <a:ext cx="85680" cy="42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4" h="27">
                  <a:moveTo>
                    <a:pt x="0" y="27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5" name="Freeform 218"/>
            <p:cNvSpPr/>
            <p:nvPr/>
          </p:nvSpPr>
          <p:spPr>
            <a:xfrm rot="2398800">
              <a:off x="6996600" y="5427000"/>
              <a:ext cx="93960" cy="27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" h="17">
                  <a:moveTo>
                    <a:pt x="0" y="17"/>
                  </a:move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6" name="Freeform 219"/>
            <p:cNvSpPr/>
            <p:nvPr/>
          </p:nvSpPr>
          <p:spPr>
            <a:xfrm rot="2398800">
              <a:off x="6831720" y="5820120"/>
              <a:ext cx="95400" cy="19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0" h="12">
                  <a:moveTo>
                    <a:pt x="0" y="12"/>
                  </a:move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7" name="Freeform 220"/>
            <p:cNvSpPr/>
            <p:nvPr/>
          </p:nvSpPr>
          <p:spPr>
            <a:xfrm rot="2398800">
              <a:off x="7152480" y="4343040"/>
              <a:ext cx="90720" cy="7128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7" h="45">
                  <a:moveTo>
                    <a:pt x="0" y="45"/>
                  </a:moveTo>
                  <a:lnTo>
                    <a:pt x="5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8" name="Freeform 221"/>
            <p:cNvSpPr/>
            <p:nvPr/>
          </p:nvSpPr>
          <p:spPr>
            <a:xfrm rot="2398800">
              <a:off x="7158240" y="4136400"/>
              <a:ext cx="47520" cy="3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" h="25">
                  <a:moveTo>
                    <a:pt x="0" y="25"/>
                  </a:move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29" name="Freeform 222"/>
            <p:cNvSpPr/>
            <p:nvPr/>
          </p:nvSpPr>
          <p:spPr>
            <a:xfrm rot="2398800">
              <a:off x="7094160" y="3896640"/>
              <a:ext cx="45720" cy="6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9" h="41">
                  <a:moveTo>
                    <a:pt x="0" y="41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0" name="Freeform 223"/>
            <p:cNvSpPr/>
            <p:nvPr/>
          </p:nvSpPr>
          <p:spPr>
            <a:xfrm rot="2398800">
              <a:off x="7050600" y="3660480"/>
              <a:ext cx="57240" cy="81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6" h="51">
                  <a:moveTo>
                    <a:pt x="0" y="51"/>
                  </a:move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1" name="Freeform 224"/>
            <p:cNvSpPr/>
            <p:nvPr/>
          </p:nvSpPr>
          <p:spPr>
            <a:xfrm rot="2398800">
              <a:off x="6950880" y="3415680"/>
              <a:ext cx="52200" cy="954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3" h="60">
                  <a:moveTo>
                    <a:pt x="0" y="60"/>
                  </a:move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2" name="Freeform 225"/>
            <p:cNvSpPr/>
            <p:nvPr/>
          </p:nvSpPr>
          <p:spPr>
            <a:xfrm rot="2398800">
              <a:off x="6874200" y="3145680"/>
              <a:ext cx="46080" cy="1047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9" h="66">
                  <a:moveTo>
                    <a:pt x="0" y="66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3" name="Freeform 226"/>
            <p:cNvSpPr/>
            <p:nvPr/>
          </p:nvSpPr>
          <p:spPr>
            <a:xfrm rot="2398800">
              <a:off x="6723720" y="2914560"/>
              <a:ext cx="33480" cy="104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1" h="66">
                  <a:moveTo>
                    <a:pt x="0" y="66"/>
                  </a:moveTo>
                  <a:lnTo>
                    <a:pt x="2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4" name="Freeform 227"/>
            <p:cNvSpPr/>
            <p:nvPr/>
          </p:nvSpPr>
          <p:spPr>
            <a:xfrm rot="2398800">
              <a:off x="6585120" y="2667960"/>
              <a:ext cx="9720" cy="90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" h="57">
                  <a:moveTo>
                    <a:pt x="0" y="57"/>
                  </a:move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5" name="Freeform 228"/>
            <p:cNvSpPr/>
            <p:nvPr/>
          </p:nvSpPr>
          <p:spPr>
            <a:xfrm rot="2398800">
              <a:off x="6386760" y="2457360"/>
              <a:ext cx="5040" cy="1378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" h="87">
                  <a:moveTo>
                    <a:pt x="0" y="87"/>
                  </a:move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6" name="Freeform 229"/>
            <p:cNvSpPr/>
            <p:nvPr/>
          </p:nvSpPr>
          <p:spPr>
            <a:xfrm rot="2398800">
              <a:off x="5604480" y="1927080"/>
              <a:ext cx="28440" cy="123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" h="78">
                  <a:moveTo>
                    <a:pt x="18" y="7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7" name="Freeform 230"/>
            <p:cNvSpPr/>
            <p:nvPr/>
          </p:nvSpPr>
          <p:spPr>
            <a:xfrm rot="2398800">
              <a:off x="5368680" y="1828800"/>
              <a:ext cx="23760" cy="95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60">
                  <a:moveTo>
                    <a:pt x="15" y="6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8" name="Freeform 231"/>
            <p:cNvSpPr/>
            <p:nvPr/>
          </p:nvSpPr>
          <p:spPr>
            <a:xfrm rot="2398800">
              <a:off x="6045480" y="2203920"/>
              <a:ext cx="4680" cy="10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" h="69">
                  <a:moveTo>
                    <a:pt x="3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9" name="Freeform 232"/>
            <p:cNvSpPr/>
            <p:nvPr/>
          </p:nvSpPr>
          <p:spPr>
            <a:xfrm rot="2398800">
              <a:off x="5846760" y="2070720"/>
              <a:ext cx="9720" cy="66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42">
                  <a:moveTo>
                    <a:pt x="6" y="4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0" name="Freeform 233"/>
            <p:cNvSpPr/>
            <p:nvPr/>
          </p:nvSpPr>
          <p:spPr>
            <a:xfrm rot="2398800">
              <a:off x="5115600" y="1765080"/>
              <a:ext cx="33480" cy="73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" h="46">
                  <a:moveTo>
                    <a:pt x="21" y="4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1" name="Freeform 234"/>
            <p:cNvSpPr/>
            <p:nvPr/>
          </p:nvSpPr>
          <p:spPr>
            <a:xfrm rot="2398800">
              <a:off x="4911840" y="16988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24" y="5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2" name="Freeform 235"/>
            <p:cNvSpPr/>
            <p:nvPr/>
          </p:nvSpPr>
          <p:spPr>
            <a:xfrm rot="2398800">
              <a:off x="4629960" y="1660680"/>
              <a:ext cx="70200" cy="1094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4" h="69">
                  <a:moveTo>
                    <a:pt x="44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3" name="Freeform 236"/>
            <p:cNvSpPr/>
            <p:nvPr/>
          </p:nvSpPr>
          <p:spPr>
            <a:xfrm rot="2398800">
              <a:off x="4358880" y="1662480"/>
              <a:ext cx="56880" cy="61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6" h="39">
                  <a:moveTo>
                    <a:pt x="36" y="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4" name="Freeform 237"/>
            <p:cNvSpPr/>
            <p:nvPr/>
          </p:nvSpPr>
          <p:spPr>
            <a:xfrm rot="2398800">
              <a:off x="4159080" y="168084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36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5" name="Freeform 238"/>
            <p:cNvSpPr/>
            <p:nvPr/>
          </p:nvSpPr>
          <p:spPr>
            <a:xfrm rot="2398800">
              <a:off x="3948840" y="1686600"/>
              <a:ext cx="57240" cy="71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6" h="45">
                  <a:moveTo>
                    <a:pt x="36" y="4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6" name="Freeform 239"/>
            <p:cNvSpPr/>
            <p:nvPr/>
          </p:nvSpPr>
          <p:spPr>
            <a:xfrm rot="2398800">
              <a:off x="3732120" y="1748880"/>
              <a:ext cx="76320" cy="558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48" h="35">
                  <a:moveTo>
                    <a:pt x="48" y="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7" name="Freeform 240"/>
            <p:cNvSpPr/>
            <p:nvPr/>
          </p:nvSpPr>
          <p:spPr>
            <a:xfrm rot="2398800">
              <a:off x="3474720" y="1798920"/>
              <a:ext cx="90360" cy="56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8" name="Freeform 241"/>
            <p:cNvSpPr/>
            <p:nvPr/>
          </p:nvSpPr>
          <p:spPr>
            <a:xfrm rot="2398800">
              <a:off x="3232440" y="1900080"/>
              <a:ext cx="90360" cy="57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9" name="Freeform 242"/>
            <p:cNvSpPr/>
            <p:nvPr/>
          </p:nvSpPr>
          <p:spPr>
            <a:xfrm rot="2398800">
              <a:off x="3002400" y="1987560"/>
              <a:ext cx="100080" cy="381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3" h="24">
                  <a:moveTo>
                    <a:pt x="63" y="2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0" name="Freeform 243"/>
            <p:cNvSpPr/>
            <p:nvPr/>
          </p:nvSpPr>
          <p:spPr>
            <a:xfrm rot="2398800">
              <a:off x="2823120" y="2143800"/>
              <a:ext cx="90720" cy="33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7" h="21">
                  <a:moveTo>
                    <a:pt x="57" y="2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1" name="Freeform 244"/>
            <p:cNvSpPr/>
            <p:nvPr/>
          </p:nvSpPr>
          <p:spPr>
            <a:xfrm rot="2398800">
              <a:off x="2610720" y="2271600"/>
              <a:ext cx="125280" cy="288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9" h="18">
                  <a:moveTo>
                    <a:pt x="79" y="1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2" name="Freeform 245"/>
            <p:cNvSpPr/>
            <p:nvPr/>
          </p:nvSpPr>
          <p:spPr>
            <a:xfrm rot="2398800">
              <a:off x="2414160" y="2434320"/>
              <a:ext cx="109440" cy="19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12">
                  <a:moveTo>
                    <a:pt x="69" y="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53" name="Freeform 250"/>
          <p:cNvSpPr/>
          <p:nvPr/>
        </p:nvSpPr>
        <p:spPr>
          <a:xfrm>
            <a:off x="2832120" y="3073320"/>
            <a:ext cx="1790640" cy="16524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128" h="104">
                <a:moveTo>
                  <a:pt x="1128" y="10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Freeform 163"/>
          <p:cNvSpPr/>
          <p:nvPr/>
        </p:nvSpPr>
        <p:spPr>
          <a:xfrm>
            <a:off x="4406760" y="4521240"/>
            <a:ext cx="1511280" cy="12571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257120"/>
              <a:gd name="textAreaBottom" fmla="*/ 1257480 h 1257120"/>
            </a:gdLst>
            <a:ahLst/>
            <a:rect l="textAreaLeft" t="textAreaTop" r="textAreaRight" b="textAreaBottom"/>
            <a:pathLst>
              <a:path w="952" h="792">
                <a:moveTo>
                  <a:pt x="0" y="0"/>
                </a:moveTo>
                <a:lnTo>
                  <a:pt x="952" y="792"/>
                </a:ln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455" name="Group 7"/>
          <p:cNvGrpSpPr/>
          <p:nvPr/>
        </p:nvGrpSpPr>
        <p:grpSpPr>
          <a:xfrm>
            <a:off x="732240" y="891360"/>
            <a:ext cx="6412320" cy="4658760"/>
            <a:chOff x="732240" y="891360"/>
            <a:chExt cx="6412320" cy="4658760"/>
          </a:xfrm>
        </p:grpSpPr>
        <p:sp>
          <p:nvSpPr>
            <p:cNvPr id="456" name="Freeform 8"/>
            <p:cNvSpPr/>
            <p:nvPr/>
          </p:nvSpPr>
          <p:spPr>
            <a:xfrm rot="20463600">
              <a:off x="1484640" y="4520880"/>
              <a:ext cx="5813280" cy="4680"/>
            </a:xfrm>
            <a:custGeom>
              <a:avLst/>
              <a:gdLst>
                <a:gd name="textAreaLeft" fmla="*/ 0 w 5813280"/>
                <a:gd name="textAreaRight" fmla="*/ 5813640 w 5813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554" h="3">
                  <a:moveTo>
                    <a:pt x="4554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7" name="Oval 9"/>
            <p:cNvSpPr/>
            <p:nvPr/>
          </p:nvSpPr>
          <p:spPr>
            <a:xfrm rot="20463600">
              <a:off x="4378680" y="4403880"/>
              <a:ext cx="57240" cy="223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8" name="Text Box 10"/>
            <p:cNvSpPr/>
            <p:nvPr/>
          </p:nvSpPr>
          <p:spPr>
            <a:xfrm rot="20463600">
              <a:off x="6548760" y="2980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 rot="20463600">
              <a:off x="6214680" y="2651040"/>
              <a:ext cx="5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0" name="Text Box 12"/>
            <p:cNvSpPr/>
            <p:nvPr/>
          </p:nvSpPr>
          <p:spPr>
            <a:xfrm rot="20463600">
              <a:off x="5288760" y="18918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1" name="Text Box 13"/>
            <p:cNvSpPr/>
            <p:nvPr/>
          </p:nvSpPr>
          <p:spPr>
            <a:xfrm rot="20463600">
              <a:off x="4844160" y="17690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 rot="20463600">
              <a:off x="4350240" y="16750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3" name="Text Box 15"/>
            <p:cNvSpPr/>
            <p:nvPr/>
          </p:nvSpPr>
          <p:spPr>
            <a:xfrm rot="20463600">
              <a:off x="3787920" y="16552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4" name="Text Box 16"/>
            <p:cNvSpPr/>
            <p:nvPr/>
          </p:nvSpPr>
          <p:spPr>
            <a:xfrm rot="20463600">
              <a:off x="3474720" y="2116080"/>
              <a:ext cx="43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바탕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5" name="Text Box 17"/>
            <p:cNvSpPr/>
            <p:nvPr/>
          </p:nvSpPr>
          <p:spPr>
            <a:xfrm rot="20463600">
              <a:off x="2885040" y="19756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6" name="Text Box 18"/>
            <p:cNvSpPr/>
            <p:nvPr/>
          </p:nvSpPr>
          <p:spPr>
            <a:xfrm rot="20463600">
              <a:off x="2451960" y="2251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7" name="Text Box 19"/>
            <p:cNvSpPr/>
            <p:nvPr/>
          </p:nvSpPr>
          <p:spPr>
            <a:xfrm rot="20463600">
              <a:off x="2162520" y="2537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8" name="Text Box 20"/>
            <p:cNvSpPr/>
            <p:nvPr/>
          </p:nvSpPr>
          <p:spPr>
            <a:xfrm rot="20463600">
              <a:off x="1894680" y="2958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 rot="20463600">
              <a:off x="1671120" y="3295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 rot="20463600">
              <a:off x="1545840" y="37342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1" name="Text Box 23"/>
            <p:cNvSpPr/>
            <p:nvPr/>
          </p:nvSpPr>
          <p:spPr>
            <a:xfrm rot="20463600">
              <a:off x="1487160" y="4115520"/>
              <a:ext cx="45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2" name="Text Box 24"/>
            <p:cNvSpPr/>
            <p:nvPr/>
          </p:nvSpPr>
          <p:spPr>
            <a:xfrm rot="20463600">
              <a:off x="1433160" y="4650120"/>
              <a:ext cx="6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3" name="Text Box 25"/>
            <p:cNvSpPr/>
            <p:nvPr/>
          </p:nvSpPr>
          <p:spPr>
            <a:xfrm rot="20463600">
              <a:off x="1417320" y="5149800"/>
              <a:ext cx="6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4" name="Text Box 26"/>
            <p:cNvSpPr/>
            <p:nvPr/>
          </p:nvSpPr>
          <p:spPr>
            <a:xfrm rot="20463600">
              <a:off x="6180480" y="35236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5" name="Text Box 27"/>
            <p:cNvSpPr/>
            <p:nvPr/>
          </p:nvSpPr>
          <p:spPr>
            <a:xfrm rot="20463600">
              <a:off x="6005880" y="3239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6" name="Text Box 28"/>
            <p:cNvSpPr/>
            <p:nvPr/>
          </p:nvSpPr>
          <p:spPr>
            <a:xfrm rot="20463600">
              <a:off x="5788440" y="29916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7" name="Text Box 29"/>
            <p:cNvSpPr/>
            <p:nvPr/>
          </p:nvSpPr>
          <p:spPr>
            <a:xfrm rot="20463600">
              <a:off x="5583240" y="28342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8" name="Text Box 30"/>
            <p:cNvSpPr/>
            <p:nvPr/>
          </p:nvSpPr>
          <p:spPr>
            <a:xfrm rot="20463600">
              <a:off x="5340240" y="2630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79" name="Text Box 31"/>
            <p:cNvSpPr/>
            <p:nvPr/>
          </p:nvSpPr>
          <p:spPr>
            <a:xfrm rot="20463600">
              <a:off x="4992840" y="2445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0" name="Text Box 32"/>
            <p:cNvSpPr/>
            <p:nvPr/>
          </p:nvSpPr>
          <p:spPr>
            <a:xfrm rot="20463600">
              <a:off x="4649760" y="23353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1" name="Text Box 33"/>
            <p:cNvSpPr/>
            <p:nvPr/>
          </p:nvSpPr>
          <p:spPr>
            <a:xfrm rot="20463600">
              <a:off x="4238280" y="2305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2" name="Text Box 34"/>
            <p:cNvSpPr/>
            <p:nvPr/>
          </p:nvSpPr>
          <p:spPr>
            <a:xfrm rot="20463600">
              <a:off x="3857760" y="2301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3" name="Text Box 35"/>
            <p:cNvSpPr/>
            <p:nvPr/>
          </p:nvSpPr>
          <p:spPr>
            <a:xfrm rot="20463600">
              <a:off x="3283920" y="25632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4" name="Text Box 36"/>
            <p:cNvSpPr/>
            <p:nvPr/>
          </p:nvSpPr>
          <p:spPr>
            <a:xfrm rot="20463600">
              <a:off x="2223000" y="4953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5" name="Text Box 37"/>
            <p:cNvSpPr/>
            <p:nvPr/>
          </p:nvSpPr>
          <p:spPr>
            <a:xfrm rot="20463600">
              <a:off x="2097360" y="46519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6" name="Text Box 38"/>
            <p:cNvSpPr/>
            <p:nvPr/>
          </p:nvSpPr>
          <p:spPr>
            <a:xfrm rot="20463600">
              <a:off x="2125800" y="42847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7" name="Text Box 39"/>
            <p:cNvSpPr/>
            <p:nvPr/>
          </p:nvSpPr>
          <p:spPr>
            <a:xfrm rot="20463600">
              <a:off x="2177280" y="39488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8" name="Text Box 40"/>
            <p:cNvSpPr/>
            <p:nvPr/>
          </p:nvSpPr>
          <p:spPr>
            <a:xfrm rot="20463600">
              <a:off x="2345760" y="3600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89" name="Text Box 41"/>
            <p:cNvSpPr/>
            <p:nvPr/>
          </p:nvSpPr>
          <p:spPr>
            <a:xfrm rot="20463600">
              <a:off x="2479680" y="33256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0" name="Text Box 42"/>
            <p:cNvSpPr/>
            <p:nvPr/>
          </p:nvSpPr>
          <p:spPr>
            <a:xfrm rot="20463600">
              <a:off x="2681640" y="302832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1" name="Text Box 43"/>
            <p:cNvSpPr/>
            <p:nvPr/>
          </p:nvSpPr>
          <p:spPr>
            <a:xfrm rot="20463600">
              <a:off x="2979000" y="27849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2" name="Text Box 44"/>
            <p:cNvSpPr/>
            <p:nvPr/>
          </p:nvSpPr>
          <p:spPr>
            <a:xfrm rot="20463600">
              <a:off x="6771600" y="33440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3" name="Text Box 45"/>
            <p:cNvSpPr/>
            <p:nvPr/>
          </p:nvSpPr>
          <p:spPr>
            <a:xfrm rot="20463600">
              <a:off x="5663160" y="213084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4" name="Text Box 46"/>
            <p:cNvSpPr/>
            <p:nvPr/>
          </p:nvSpPr>
          <p:spPr>
            <a:xfrm rot="20463600">
              <a:off x="6003000" y="238356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onotype Corsiv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5" name="Freeform 47"/>
            <p:cNvSpPr/>
            <p:nvPr/>
          </p:nvSpPr>
          <p:spPr>
            <a:xfrm rot="20463600">
              <a:off x="1039680" y="1751040"/>
              <a:ext cx="5773680" cy="2859120"/>
            </a:xfrm>
            <a:custGeom>
              <a:avLst/>
              <a:gdLst>
                <a:gd name="textAreaLeft" fmla="*/ 0 w 5773680"/>
                <a:gd name="textAreaRight" fmla="*/ 5773680 w 5773680"/>
                <a:gd name="textAreaTop" fmla="*/ 0 h 2859120"/>
                <a:gd name="textAreaBottom" fmla="*/ 2859480 h 2859120"/>
              </a:gdLst>
              <a:ahLst/>
              <a:rect l="textAreaLeft" t="textAreaTop" r="textAreaRight" b="textAreaBottom"/>
              <a:pathLst>
                <a:path w="4524" h="2319">
                  <a:moveTo>
                    <a:pt x="0" y="2313"/>
                  </a:moveTo>
                  <a:cubicBezTo>
                    <a:pt x="13" y="2230"/>
                    <a:pt x="47" y="1958"/>
                    <a:pt x="79" y="1811"/>
                  </a:cubicBezTo>
                  <a:cubicBezTo>
                    <a:pt x="111" y="1664"/>
                    <a:pt x="146" y="1547"/>
                    <a:pt x="192" y="1431"/>
                  </a:cubicBezTo>
                  <a:cubicBezTo>
                    <a:pt x="238" y="1315"/>
                    <a:pt x="285" y="1224"/>
                    <a:pt x="354" y="1113"/>
                  </a:cubicBezTo>
                  <a:cubicBezTo>
                    <a:pt x="423" y="1002"/>
                    <a:pt x="516" y="868"/>
                    <a:pt x="606" y="765"/>
                  </a:cubicBezTo>
                  <a:cubicBezTo>
                    <a:pt x="696" y="662"/>
                    <a:pt x="793" y="578"/>
                    <a:pt x="895" y="496"/>
                  </a:cubicBezTo>
                  <a:cubicBezTo>
                    <a:pt x="997" y="414"/>
                    <a:pt x="1112" y="333"/>
                    <a:pt x="1218" y="273"/>
                  </a:cubicBezTo>
                  <a:cubicBezTo>
                    <a:pt x="1324" y="213"/>
                    <a:pt x="1409" y="174"/>
                    <a:pt x="1530" y="133"/>
                  </a:cubicBezTo>
                  <a:cubicBezTo>
                    <a:pt x="1651" y="92"/>
                    <a:pt x="1814" y="49"/>
                    <a:pt x="1944" y="27"/>
                  </a:cubicBezTo>
                  <a:cubicBezTo>
                    <a:pt x="2074" y="5"/>
                    <a:pt x="2181" y="0"/>
                    <a:pt x="2310" y="3"/>
                  </a:cubicBezTo>
                  <a:cubicBezTo>
                    <a:pt x="2439" y="6"/>
                    <a:pt x="2582" y="16"/>
                    <a:pt x="2718" y="45"/>
                  </a:cubicBezTo>
                  <a:cubicBezTo>
                    <a:pt x="2854" y="74"/>
                    <a:pt x="2991" y="117"/>
                    <a:pt x="3126" y="177"/>
                  </a:cubicBezTo>
                  <a:cubicBezTo>
                    <a:pt x="3261" y="237"/>
                    <a:pt x="3414" y="329"/>
                    <a:pt x="3526" y="405"/>
                  </a:cubicBezTo>
                  <a:cubicBezTo>
                    <a:pt x="3638" y="481"/>
                    <a:pt x="3705" y="540"/>
                    <a:pt x="3798" y="632"/>
                  </a:cubicBezTo>
                  <a:cubicBezTo>
                    <a:pt x="3891" y="724"/>
                    <a:pt x="4007" y="851"/>
                    <a:pt x="4086" y="957"/>
                  </a:cubicBezTo>
                  <a:cubicBezTo>
                    <a:pt x="4165" y="1063"/>
                    <a:pt x="4222" y="1172"/>
                    <a:pt x="4272" y="1269"/>
                  </a:cubicBezTo>
                  <a:cubicBezTo>
                    <a:pt x="4322" y="1366"/>
                    <a:pt x="4353" y="1433"/>
                    <a:pt x="4388" y="1539"/>
                  </a:cubicBezTo>
                  <a:cubicBezTo>
                    <a:pt x="4423" y="1645"/>
                    <a:pt x="4456" y="1772"/>
                    <a:pt x="4479" y="1902"/>
                  </a:cubicBezTo>
                  <a:cubicBezTo>
                    <a:pt x="4502" y="2032"/>
                    <a:pt x="4515" y="2232"/>
                    <a:pt x="4524" y="2319"/>
                  </a:cubicBezTo>
                </a:path>
              </a:pathLst>
            </a:custGeom>
            <a:noFill/>
            <a:ln w="7632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6" name="Freeform 48"/>
            <p:cNvSpPr/>
            <p:nvPr/>
          </p:nvSpPr>
          <p:spPr>
            <a:xfrm rot="20463600">
              <a:off x="2067120" y="2655720"/>
              <a:ext cx="4065480" cy="1944720"/>
            </a:xfrm>
            <a:custGeom>
              <a:avLst/>
              <a:gdLst>
                <a:gd name="textAreaLeft" fmla="*/ 0 w 4065480"/>
                <a:gd name="textAreaRight" fmla="*/ 4065840 w 4065480"/>
                <a:gd name="textAreaTop" fmla="*/ 0 h 1944720"/>
                <a:gd name="textAreaBottom" fmla="*/ 1945080 h 1944720"/>
              </a:gdLst>
              <a:ahLst/>
              <a:rect l="textAreaLeft" t="textAreaTop" r="textAreaRight" b="textAreaBottom"/>
              <a:pathLst>
                <a:path w="3186" h="1577">
                  <a:moveTo>
                    <a:pt x="0" y="1577"/>
                  </a:moveTo>
                  <a:cubicBezTo>
                    <a:pt x="23" y="1494"/>
                    <a:pt x="77" y="1223"/>
                    <a:pt x="138" y="1073"/>
                  </a:cubicBezTo>
                  <a:cubicBezTo>
                    <a:pt x="199" y="923"/>
                    <a:pt x="284" y="792"/>
                    <a:pt x="366" y="677"/>
                  </a:cubicBezTo>
                  <a:cubicBezTo>
                    <a:pt x="448" y="562"/>
                    <a:pt x="539" y="467"/>
                    <a:pt x="630" y="383"/>
                  </a:cubicBezTo>
                  <a:cubicBezTo>
                    <a:pt x="721" y="299"/>
                    <a:pt x="799" y="232"/>
                    <a:pt x="912" y="173"/>
                  </a:cubicBezTo>
                  <a:cubicBezTo>
                    <a:pt x="1025" y="114"/>
                    <a:pt x="1187" y="57"/>
                    <a:pt x="1308" y="29"/>
                  </a:cubicBezTo>
                  <a:cubicBezTo>
                    <a:pt x="1429" y="1"/>
                    <a:pt x="1521" y="0"/>
                    <a:pt x="1638" y="5"/>
                  </a:cubicBezTo>
                  <a:cubicBezTo>
                    <a:pt x="1755" y="10"/>
                    <a:pt x="1885" y="21"/>
                    <a:pt x="2010" y="59"/>
                  </a:cubicBezTo>
                  <a:cubicBezTo>
                    <a:pt x="2135" y="97"/>
                    <a:pt x="2270" y="158"/>
                    <a:pt x="2388" y="234"/>
                  </a:cubicBezTo>
                  <a:cubicBezTo>
                    <a:pt x="2506" y="310"/>
                    <a:pt x="2623" y="411"/>
                    <a:pt x="2718" y="515"/>
                  </a:cubicBezTo>
                  <a:cubicBezTo>
                    <a:pt x="2813" y="619"/>
                    <a:pt x="2892" y="742"/>
                    <a:pt x="2958" y="857"/>
                  </a:cubicBezTo>
                  <a:cubicBezTo>
                    <a:pt x="3024" y="972"/>
                    <a:pt x="3076" y="1092"/>
                    <a:pt x="3114" y="1205"/>
                  </a:cubicBezTo>
                  <a:cubicBezTo>
                    <a:pt x="3152" y="1318"/>
                    <a:pt x="3171" y="1466"/>
                    <a:pt x="3186" y="1535"/>
                  </a:cubicBez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7" name="Freeform 49"/>
            <p:cNvSpPr/>
            <p:nvPr/>
          </p:nvSpPr>
          <p:spPr>
            <a:xfrm rot="20463600">
              <a:off x="6273000" y="3718080"/>
              <a:ext cx="895320" cy="32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02" h="3">
                  <a:moveTo>
                    <a:pt x="702" y="0"/>
                  </a:moveTo>
                  <a:lnTo>
                    <a:pt x="0" y="3"/>
                  </a:lnTo>
                </a:path>
              </a:pathLst>
            </a:custGeom>
            <a:noFill/>
            <a:ln w="57240">
              <a:solidFill>
                <a:srgbClr val="6b687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8" name="Freeform 50"/>
            <p:cNvSpPr/>
            <p:nvPr/>
          </p:nvSpPr>
          <p:spPr>
            <a:xfrm rot="20463600">
              <a:off x="3782880" y="2538000"/>
              <a:ext cx="4680" cy="1681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" h="106">
                  <a:moveTo>
                    <a:pt x="0" y="0"/>
                  </a:moveTo>
                  <a:lnTo>
                    <a:pt x="3" y="1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99" name="Freeform 51"/>
            <p:cNvSpPr/>
            <p:nvPr/>
          </p:nvSpPr>
          <p:spPr>
            <a:xfrm rot="20463600">
              <a:off x="3533760" y="1808280"/>
              <a:ext cx="2880" cy="174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" h="110">
                  <a:moveTo>
                    <a:pt x="2" y="0"/>
                  </a:moveTo>
                  <a:lnTo>
                    <a:pt x="0" y="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0" name="Freeform 52"/>
            <p:cNvSpPr/>
            <p:nvPr/>
          </p:nvSpPr>
          <p:spPr>
            <a:xfrm rot="20463600">
              <a:off x="6630480" y="2890080"/>
              <a:ext cx="122040" cy="38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7" h="24">
                  <a:moveTo>
                    <a:pt x="0" y="24"/>
                  </a:moveTo>
                  <a:lnTo>
                    <a:pt x="7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1" name="Freeform 53"/>
            <p:cNvSpPr/>
            <p:nvPr/>
          </p:nvSpPr>
          <p:spPr>
            <a:xfrm rot="20463600">
              <a:off x="6363360" y="2548800"/>
              <a:ext cx="123840" cy="522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33">
                  <a:moveTo>
                    <a:pt x="0" y="33"/>
                  </a:moveTo>
                  <a:lnTo>
                    <a:pt x="7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2" name="Freeform 54"/>
            <p:cNvSpPr/>
            <p:nvPr/>
          </p:nvSpPr>
          <p:spPr>
            <a:xfrm rot="20463600">
              <a:off x="6051240" y="2282400"/>
              <a:ext cx="99720" cy="619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3" h="39">
                  <a:moveTo>
                    <a:pt x="0" y="39"/>
                  </a:moveTo>
                  <a:lnTo>
                    <a:pt x="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3" name="Freeform 55"/>
            <p:cNvSpPr/>
            <p:nvPr/>
          </p:nvSpPr>
          <p:spPr>
            <a:xfrm rot="20463600">
              <a:off x="6836040" y="3302640"/>
              <a:ext cx="139680" cy="25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88" h="16">
                  <a:moveTo>
                    <a:pt x="0" y="16"/>
                  </a:moveTo>
                  <a:lnTo>
                    <a:pt x="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4" name="Freeform 56"/>
            <p:cNvSpPr/>
            <p:nvPr/>
          </p:nvSpPr>
          <p:spPr>
            <a:xfrm rot="20463600">
              <a:off x="5888160" y="2144520"/>
              <a:ext cx="85680" cy="669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54" h="42">
                  <a:moveTo>
                    <a:pt x="0" y="42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5" name="Freeform 57"/>
            <p:cNvSpPr/>
            <p:nvPr/>
          </p:nvSpPr>
          <p:spPr>
            <a:xfrm rot="20463600">
              <a:off x="6239520" y="2431440"/>
              <a:ext cx="85680" cy="4284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4" h="27">
                  <a:moveTo>
                    <a:pt x="0" y="27"/>
                  </a:move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6" name="Freeform 58"/>
            <p:cNvSpPr/>
            <p:nvPr/>
          </p:nvSpPr>
          <p:spPr>
            <a:xfrm rot="20463600">
              <a:off x="6528960" y="2739600"/>
              <a:ext cx="93960" cy="2700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9" h="17">
                  <a:moveTo>
                    <a:pt x="0" y="17"/>
                  </a:moveTo>
                  <a:lnTo>
                    <a:pt x="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7" name="Freeform 59"/>
            <p:cNvSpPr/>
            <p:nvPr/>
          </p:nvSpPr>
          <p:spPr>
            <a:xfrm rot="20463600">
              <a:off x="6777360" y="3085200"/>
              <a:ext cx="95400" cy="19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0" h="12">
                  <a:moveTo>
                    <a:pt x="0" y="12"/>
                  </a:move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8" name="Freeform 60"/>
            <p:cNvSpPr/>
            <p:nvPr/>
          </p:nvSpPr>
          <p:spPr>
            <a:xfrm rot="20463600">
              <a:off x="5701320" y="2036880"/>
              <a:ext cx="90720" cy="7128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7" h="45">
                  <a:moveTo>
                    <a:pt x="0" y="45"/>
                  </a:moveTo>
                  <a:lnTo>
                    <a:pt x="5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09" name="Freeform 61"/>
            <p:cNvSpPr/>
            <p:nvPr/>
          </p:nvSpPr>
          <p:spPr>
            <a:xfrm rot="20463600">
              <a:off x="5524560" y="1951200"/>
              <a:ext cx="47520" cy="399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" h="25">
                  <a:moveTo>
                    <a:pt x="0" y="25"/>
                  </a:move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0" name="Freeform 62"/>
            <p:cNvSpPr/>
            <p:nvPr/>
          </p:nvSpPr>
          <p:spPr>
            <a:xfrm rot="20463600">
              <a:off x="5297040" y="1877400"/>
              <a:ext cx="45720" cy="6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9" h="41">
                  <a:moveTo>
                    <a:pt x="0" y="41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1" name="Freeform 63"/>
            <p:cNvSpPr/>
            <p:nvPr/>
          </p:nvSpPr>
          <p:spPr>
            <a:xfrm rot="20463600">
              <a:off x="5076720" y="1784160"/>
              <a:ext cx="57240" cy="810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6" h="51">
                  <a:moveTo>
                    <a:pt x="0" y="51"/>
                  </a:moveTo>
                  <a:lnTo>
                    <a:pt x="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2" name="Freeform 64"/>
            <p:cNvSpPr/>
            <p:nvPr/>
          </p:nvSpPr>
          <p:spPr>
            <a:xfrm rot="20463600">
              <a:off x="4822920" y="1741320"/>
              <a:ext cx="52200" cy="954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3" h="60">
                  <a:moveTo>
                    <a:pt x="0" y="60"/>
                  </a:moveTo>
                  <a:lnTo>
                    <a:pt x="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3" name="Freeform 65"/>
            <p:cNvSpPr/>
            <p:nvPr/>
          </p:nvSpPr>
          <p:spPr>
            <a:xfrm rot="20463600">
              <a:off x="4556880" y="1667880"/>
              <a:ext cx="46080" cy="1047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9" h="66">
                  <a:moveTo>
                    <a:pt x="0" y="66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4" name="Freeform 66"/>
            <p:cNvSpPr/>
            <p:nvPr/>
          </p:nvSpPr>
          <p:spPr>
            <a:xfrm rot="20463600">
              <a:off x="4284720" y="1683000"/>
              <a:ext cx="33480" cy="104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1" h="66">
                  <a:moveTo>
                    <a:pt x="0" y="66"/>
                  </a:moveTo>
                  <a:lnTo>
                    <a:pt x="2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5" name="Freeform 67"/>
            <p:cNvSpPr/>
            <p:nvPr/>
          </p:nvSpPr>
          <p:spPr>
            <a:xfrm rot="20463600">
              <a:off x="4001760" y="1688040"/>
              <a:ext cx="9720" cy="903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" h="57">
                  <a:moveTo>
                    <a:pt x="0" y="57"/>
                  </a:move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6" name="Freeform 68"/>
            <p:cNvSpPr/>
            <p:nvPr/>
          </p:nvSpPr>
          <p:spPr>
            <a:xfrm rot="20463600">
              <a:off x="3740040" y="1739520"/>
              <a:ext cx="5040" cy="1378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" h="87">
                  <a:moveTo>
                    <a:pt x="0" y="87"/>
                  </a:move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7" name="Freeform 69"/>
            <p:cNvSpPr/>
            <p:nvPr/>
          </p:nvSpPr>
          <p:spPr>
            <a:xfrm rot="20463600">
              <a:off x="2870280" y="2129040"/>
              <a:ext cx="28440" cy="123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8" h="78">
                  <a:moveTo>
                    <a:pt x="18" y="7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8" name="Freeform 70"/>
            <p:cNvSpPr/>
            <p:nvPr/>
          </p:nvSpPr>
          <p:spPr>
            <a:xfrm rot="20463600">
              <a:off x="2653560" y="2289240"/>
              <a:ext cx="23760" cy="95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5" h="60">
                  <a:moveTo>
                    <a:pt x="15" y="6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19" name="Freeform 71"/>
            <p:cNvSpPr/>
            <p:nvPr/>
          </p:nvSpPr>
          <p:spPr>
            <a:xfrm rot="20463600">
              <a:off x="3335040" y="1908000"/>
              <a:ext cx="4680" cy="109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" h="69">
                  <a:moveTo>
                    <a:pt x="3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0" name="Freeform 72"/>
            <p:cNvSpPr/>
            <p:nvPr/>
          </p:nvSpPr>
          <p:spPr>
            <a:xfrm rot="20463600">
              <a:off x="3098520" y="2017440"/>
              <a:ext cx="9720" cy="66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42">
                  <a:moveTo>
                    <a:pt x="6" y="4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1" name="Freeform 73"/>
            <p:cNvSpPr/>
            <p:nvPr/>
          </p:nvSpPr>
          <p:spPr>
            <a:xfrm rot="20463600">
              <a:off x="2456280" y="2473920"/>
              <a:ext cx="33480" cy="730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1" h="46">
                  <a:moveTo>
                    <a:pt x="21" y="4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2" name="Freeform 74"/>
            <p:cNvSpPr/>
            <p:nvPr/>
          </p:nvSpPr>
          <p:spPr>
            <a:xfrm rot="20463600">
              <a:off x="2298960" y="26096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24" h="54">
                  <a:moveTo>
                    <a:pt x="24" y="5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3" name="Freeform 75"/>
            <p:cNvSpPr/>
            <p:nvPr/>
          </p:nvSpPr>
          <p:spPr>
            <a:xfrm rot="20463600">
              <a:off x="2122920" y="2811600"/>
              <a:ext cx="70200" cy="1094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4" h="69">
                  <a:moveTo>
                    <a:pt x="44" y="6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4" name="Freeform 76"/>
            <p:cNvSpPr/>
            <p:nvPr/>
          </p:nvSpPr>
          <p:spPr>
            <a:xfrm rot="20463600">
              <a:off x="1967400" y="3061800"/>
              <a:ext cx="56880" cy="61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6" h="39">
                  <a:moveTo>
                    <a:pt x="36" y="3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5" name="Freeform 77"/>
            <p:cNvSpPr/>
            <p:nvPr/>
          </p:nvSpPr>
          <p:spPr>
            <a:xfrm rot="20463600">
              <a:off x="1877760" y="3243960"/>
              <a:ext cx="56880" cy="56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6" h="36">
                  <a:moveTo>
                    <a:pt x="36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6" name="Freeform 78"/>
            <p:cNvSpPr/>
            <p:nvPr/>
          </p:nvSpPr>
          <p:spPr>
            <a:xfrm rot="20463600">
              <a:off x="1780200" y="3423240"/>
              <a:ext cx="57240" cy="71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6" h="45">
                  <a:moveTo>
                    <a:pt x="36" y="4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7" name="Freeform 79"/>
            <p:cNvSpPr/>
            <p:nvPr/>
          </p:nvSpPr>
          <p:spPr>
            <a:xfrm rot="20463600">
              <a:off x="1710720" y="3636360"/>
              <a:ext cx="76320" cy="558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48" h="35">
                  <a:moveTo>
                    <a:pt x="48" y="3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8" name="Freeform 80"/>
            <p:cNvSpPr/>
            <p:nvPr/>
          </p:nvSpPr>
          <p:spPr>
            <a:xfrm rot="20463600">
              <a:off x="1617120" y="3876120"/>
              <a:ext cx="90360" cy="56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29" name="Freeform 81"/>
            <p:cNvSpPr/>
            <p:nvPr/>
          </p:nvSpPr>
          <p:spPr>
            <a:xfrm rot="20463600">
              <a:off x="1578960" y="4135680"/>
              <a:ext cx="90360" cy="572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7" h="36">
                  <a:moveTo>
                    <a:pt x="57" y="3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0" name="Freeform 82"/>
            <p:cNvSpPr/>
            <p:nvPr/>
          </p:nvSpPr>
          <p:spPr>
            <a:xfrm rot="20463600">
              <a:off x="1524960" y="4379040"/>
              <a:ext cx="100080" cy="381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3" h="24">
                  <a:moveTo>
                    <a:pt x="63" y="2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1" name="Freeform 83"/>
            <p:cNvSpPr/>
            <p:nvPr/>
          </p:nvSpPr>
          <p:spPr>
            <a:xfrm rot="20463600">
              <a:off x="1565640" y="4618080"/>
              <a:ext cx="90720" cy="33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7" h="21">
                  <a:moveTo>
                    <a:pt x="57" y="2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2" name="Freeform 84"/>
            <p:cNvSpPr/>
            <p:nvPr/>
          </p:nvSpPr>
          <p:spPr>
            <a:xfrm rot="20463600">
              <a:off x="1555560" y="4852080"/>
              <a:ext cx="125280" cy="288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9" h="18">
                  <a:moveTo>
                    <a:pt x="79" y="1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3" name="Freeform 85"/>
            <p:cNvSpPr/>
            <p:nvPr/>
          </p:nvSpPr>
          <p:spPr>
            <a:xfrm rot="20463600">
              <a:off x="1593000" y="5113800"/>
              <a:ext cx="109440" cy="19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9" h="12">
                  <a:moveTo>
                    <a:pt x="69" y="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34" name="Group 89"/>
          <p:cNvGrpSpPr/>
          <p:nvPr/>
        </p:nvGrpSpPr>
        <p:grpSpPr>
          <a:xfrm>
            <a:off x="1932840" y="650520"/>
            <a:ext cx="5390280" cy="4493520"/>
            <a:chOff x="1932840" y="650520"/>
            <a:chExt cx="5390280" cy="4493520"/>
          </a:xfrm>
        </p:grpSpPr>
        <p:sp>
          <p:nvSpPr>
            <p:cNvPr id="535" name="Arc 90"/>
            <p:cNvSpPr/>
            <p:nvPr/>
          </p:nvSpPr>
          <p:spPr>
            <a:xfrm rot="20464200">
              <a:off x="2322000" y="1312920"/>
              <a:ext cx="4611600" cy="31687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3168720"/>
                <a:gd name="textAreaBottom" fmla="*/ 3169080 h 3168720"/>
              </a:gdLst>
              <a:ahLst/>
              <a:rect l="textAreaLeft" t="textAreaTop" r="textAreaRight" b="textAreaBottom"/>
              <a:pathLst>
                <a:path fill="none" w="30727" h="21600">
                  <a:moveTo>
                    <a:pt x="0" y="2030"/>
                  </a:moveTo>
                  <a:cubicBezTo>
                    <a:pt x="2862" y="692"/>
                    <a:pt x="5982" y="-1"/>
                    <a:pt x="9142" y="0"/>
                  </a:cubicBezTo>
                  <a:cubicBezTo>
                    <a:pt x="20758" y="0"/>
                    <a:pt x="30294" y="9187"/>
                    <a:pt x="30727" y="20795"/>
                  </a:cubicBezTo>
                </a:path>
                <a:path stroke="0" w="30727" h="21600">
                  <a:moveTo>
                    <a:pt x="0" y="2030"/>
                  </a:moveTo>
                  <a:cubicBezTo>
                    <a:pt x="2862" y="692"/>
                    <a:pt x="5982" y="-1"/>
                    <a:pt x="9142" y="0"/>
                  </a:cubicBezTo>
                  <a:cubicBezTo>
                    <a:pt x="20758" y="0"/>
                    <a:pt x="30294" y="9187"/>
                    <a:pt x="30727" y="20795"/>
                  </a:cubicBezTo>
                  <a:lnTo>
                    <a:pt x="9142" y="21600"/>
                  </a:lnTo>
                  <a:lnTo>
                    <a:pt x="0" y="203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36" name="Oval 91"/>
            <p:cNvSpPr/>
            <p:nvPr/>
          </p:nvSpPr>
          <p:spPr>
            <a:xfrm rot="20464200">
              <a:off x="6683040" y="3263040"/>
              <a:ext cx="50472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7" name="Text Box 108"/>
          <p:cNvSpPr/>
          <p:nvPr/>
        </p:nvSpPr>
        <p:spPr>
          <a:xfrm>
            <a:off x="4188600" y="449568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8" name="Freeform 110"/>
          <p:cNvSpPr/>
          <p:nvPr/>
        </p:nvSpPr>
        <p:spPr>
          <a:xfrm>
            <a:off x="4419720" y="3340080"/>
            <a:ext cx="3467160" cy="115560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184" h="728">
                <a:moveTo>
                  <a:pt x="0" y="728"/>
                </a:moveTo>
                <a:lnTo>
                  <a:pt x="2184" y="0"/>
                </a:lnTo>
              </a:path>
            </a:pathLst>
          </a:custGeom>
          <a:noFill/>
          <a:ln w="9360">
            <a:solidFill>
              <a:srgbClr val="0099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9" name="Freeform 111"/>
          <p:cNvSpPr/>
          <p:nvPr/>
        </p:nvSpPr>
        <p:spPr>
          <a:xfrm>
            <a:off x="1117440" y="1562040"/>
            <a:ext cx="3314880" cy="295920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2959200"/>
              <a:gd name="textAreaBottom" fmla="*/ 2959560 h 2959200"/>
            </a:gdLst>
            <a:ahLst/>
            <a:rect l="textAreaLeft" t="textAreaTop" r="textAreaRight" b="textAreaBottom"/>
            <a:pathLst>
              <a:path w="2088" h="1864">
                <a:moveTo>
                  <a:pt x="0" y="0"/>
                </a:moveTo>
                <a:lnTo>
                  <a:pt x="2088" y="1864"/>
                </a:lnTo>
              </a:path>
            </a:pathLst>
          </a:custGeom>
          <a:noFill/>
          <a:ln w="9360">
            <a:solidFill>
              <a:srgbClr val="0099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40" name="Group 106"/>
          <p:cNvGrpSpPr/>
          <p:nvPr/>
        </p:nvGrpSpPr>
        <p:grpSpPr>
          <a:xfrm>
            <a:off x="5270760" y="3793680"/>
            <a:ext cx="1192680" cy="1527480"/>
            <a:chOff x="5270760" y="3793680"/>
            <a:chExt cx="1192680" cy="1527480"/>
          </a:xfrm>
        </p:grpSpPr>
        <p:sp>
          <p:nvSpPr>
            <p:cNvPr id="541" name="Line 103"/>
            <p:cNvSpPr/>
            <p:nvPr/>
          </p:nvSpPr>
          <p:spPr>
            <a:xfrm flipH="1">
              <a:off x="5303520" y="3822120"/>
              <a:ext cx="1126080" cy="1473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2" name="Oval 104"/>
            <p:cNvSpPr/>
            <p:nvPr/>
          </p:nvSpPr>
          <p:spPr>
            <a:xfrm flipH="1" flipV="1" rot="16310400">
              <a:off x="5272200" y="5244120"/>
              <a:ext cx="74520" cy="76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43" name="Oval 105"/>
            <p:cNvSpPr/>
            <p:nvPr/>
          </p:nvSpPr>
          <p:spPr>
            <a:xfrm flipH="1" flipV="1" rot="16310400">
              <a:off x="6386040" y="3793680"/>
              <a:ext cx="74520" cy="76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44" name="Text Box 107"/>
          <p:cNvSpPr/>
          <p:nvPr/>
        </p:nvSpPr>
        <p:spPr>
          <a:xfrm>
            <a:off x="5115240" y="52578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5" name="Text Box 109"/>
          <p:cNvSpPr/>
          <p:nvPr/>
        </p:nvSpPr>
        <p:spPr>
          <a:xfrm>
            <a:off x="6383880" y="37339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6" name="Freeform 164"/>
          <p:cNvSpPr/>
          <p:nvPr/>
        </p:nvSpPr>
        <p:spPr>
          <a:xfrm>
            <a:off x="4419720" y="1143000"/>
            <a:ext cx="558720" cy="3390840"/>
          </a:xfrm>
          <a:custGeom>
            <a:avLst/>
            <a:gdLst>
              <a:gd name="textAreaLeft" fmla="*/ 0 w 558720"/>
              <a:gd name="textAreaRight" fmla="*/ 559080 w 558720"/>
              <a:gd name="textAreaTop" fmla="*/ 0 h 3390840"/>
              <a:gd name="textAreaBottom" fmla="*/ 3391200 h 3390840"/>
            </a:gdLst>
            <a:ahLst/>
            <a:rect l="textAreaLeft" t="textAreaTop" r="textAreaRight" b="textAreaBottom"/>
            <a:pathLst>
              <a:path w="352" h="2136">
                <a:moveTo>
                  <a:pt x="0" y="2136"/>
                </a:moveTo>
                <a:lnTo>
                  <a:pt x="352" y="0"/>
                </a:ln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7" name="Oval 165"/>
          <p:cNvSpPr/>
          <p:nvPr/>
        </p:nvSpPr>
        <p:spPr>
          <a:xfrm>
            <a:off x="4381560" y="4483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48" name="Group 246"/>
          <p:cNvGrpSpPr/>
          <p:nvPr/>
        </p:nvGrpSpPr>
        <p:grpSpPr>
          <a:xfrm>
            <a:off x="3158280" y="1155240"/>
            <a:ext cx="5586120" cy="5329440"/>
            <a:chOff x="3158280" y="1155240"/>
            <a:chExt cx="5586120" cy="5329440"/>
          </a:xfrm>
        </p:grpSpPr>
        <p:sp>
          <p:nvSpPr>
            <p:cNvPr id="549" name="Arc 247"/>
            <p:cNvSpPr/>
            <p:nvPr/>
          </p:nvSpPr>
          <p:spPr>
            <a:xfrm rot="2266200">
              <a:off x="3645360" y="2235240"/>
              <a:ext cx="4611600" cy="31687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3168720"/>
                <a:gd name="textAreaBottom" fmla="*/ 3169080 h 3168720"/>
              </a:gdLst>
              <a:ahLst/>
              <a:rect l="textAreaLeft" t="textAreaTop" r="textAreaRight" b="textAreaBottom"/>
              <a:pathLst>
                <a:path fill="none" w="30727" h="21600">
                  <a:moveTo>
                    <a:pt x="0" y="2030"/>
                  </a:moveTo>
                  <a:cubicBezTo>
                    <a:pt x="2862" y="692"/>
                    <a:pt x="5982" y="-1"/>
                    <a:pt x="9142" y="0"/>
                  </a:cubicBezTo>
                  <a:cubicBezTo>
                    <a:pt x="20758" y="0"/>
                    <a:pt x="30294" y="9187"/>
                    <a:pt x="30727" y="20795"/>
                  </a:cubicBezTo>
                </a:path>
                <a:path stroke="0" w="30727" h="21600">
                  <a:moveTo>
                    <a:pt x="0" y="2030"/>
                  </a:moveTo>
                  <a:cubicBezTo>
                    <a:pt x="2862" y="692"/>
                    <a:pt x="5982" y="-1"/>
                    <a:pt x="9142" y="0"/>
                  </a:cubicBezTo>
                  <a:cubicBezTo>
                    <a:pt x="20758" y="0"/>
                    <a:pt x="30294" y="9187"/>
                    <a:pt x="30727" y="20795"/>
                  </a:cubicBezTo>
                  <a:lnTo>
                    <a:pt x="9142" y="21600"/>
                  </a:lnTo>
                  <a:lnTo>
                    <a:pt x="0" y="203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50" name="Oval 248"/>
            <p:cNvSpPr/>
            <p:nvPr/>
          </p:nvSpPr>
          <p:spPr>
            <a:xfrm rot="2266200">
              <a:off x="6448680" y="5835240"/>
              <a:ext cx="50472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551" name="Group 254"/>
          <p:cNvGrpSpPr/>
          <p:nvPr/>
        </p:nvGrpSpPr>
        <p:grpSpPr>
          <a:xfrm>
            <a:off x="2781360" y="3035160"/>
            <a:ext cx="2705040" cy="1231920"/>
            <a:chOff x="2781360" y="3035160"/>
            <a:chExt cx="2705040" cy="1231920"/>
          </a:xfrm>
        </p:grpSpPr>
        <p:sp>
          <p:nvSpPr>
            <p:cNvPr id="552" name="Oval 112"/>
            <p:cNvSpPr/>
            <p:nvPr/>
          </p:nvSpPr>
          <p:spPr>
            <a:xfrm>
              <a:off x="2781360" y="303516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53" name="Group 253"/>
            <p:cNvGrpSpPr/>
            <p:nvPr/>
          </p:nvGrpSpPr>
          <p:grpSpPr>
            <a:xfrm>
              <a:off x="3428640" y="3657600"/>
              <a:ext cx="2057760" cy="609480"/>
              <a:chOff x="3428640" y="3657600"/>
              <a:chExt cx="2057760" cy="609480"/>
            </a:xfrm>
          </p:grpSpPr>
          <p:sp>
            <p:nvSpPr>
              <p:cNvPr id="554" name="Line 251"/>
              <p:cNvSpPr/>
              <p:nvPr/>
            </p:nvSpPr>
            <p:spPr>
              <a:xfrm>
                <a:off x="5334120" y="4038480"/>
                <a:ext cx="152280" cy="228600"/>
              </a:xfrm>
              <a:prstGeom prst="line">
                <a:avLst/>
              </a:prstGeom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55" name="Line 252"/>
              <p:cNvSpPr/>
              <p:nvPr/>
            </p:nvSpPr>
            <p:spPr>
              <a:xfrm flipH="1">
                <a:off x="3428640" y="3657600"/>
                <a:ext cx="228600" cy="152280"/>
              </a:xfrm>
              <a:prstGeom prst="line">
                <a:avLst/>
              </a:prstGeom>
              <a:ln w="936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grpSp>
        <p:nvGrpSpPr>
          <p:cNvPr id="556" name="Group 263"/>
          <p:cNvGrpSpPr/>
          <p:nvPr/>
        </p:nvGrpSpPr>
        <p:grpSpPr>
          <a:xfrm>
            <a:off x="4383000" y="3200400"/>
            <a:ext cx="645840" cy="1828800"/>
            <a:chOff x="4383000" y="3200400"/>
            <a:chExt cx="645840" cy="1828800"/>
          </a:xfrm>
        </p:grpSpPr>
        <p:sp>
          <p:nvSpPr>
            <p:cNvPr id="557" name="Oval 166"/>
            <p:cNvSpPr/>
            <p:nvPr/>
          </p:nvSpPr>
          <p:spPr>
            <a:xfrm>
              <a:off x="4597560" y="3200400"/>
              <a:ext cx="7596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558" name="Group 258"/>
            <p:cNvGrpSpPr/>
            <p:nvPr/>
          </p:nvGrpSpPr>
          <p:grpSpPr>
            <a:xfrm>
              <a:off x="4723920" y="4800600"/>
              <a:ext cx="304920" cy="228600"/>
              <a:chOff x="4723920" y="4800600"/>
              <a:chExt cx="304920" cy="228600"/>
            </a:xfrm>
          </p:grpSpPr>
          <p:sp>
            <p:nvSpPr>
              <p:cNvPr id="559" name="Line 256"/>
              <p:cNvSpPr/>
              <p:nvPr/>
            </p:nvSpPr>
            <p:spPr>
              <a:xfrm flipH="1">
                <a:off x="4723920" y="4800600"/>
                <a:ext cx="228600" cy="228600"/>
              </a:xfrm>
              <a:prstGeom prst="line">
                <a:avLst/>
              </a:prstGeom>
              <a:ln w="1908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0" name="Line 257"/>
              <p:cNvSpPr/>
              <p:nvPr/>
            </p:nvSpPr>
            <p:spPr>
              <a:xfrm flipH="1">
                <a:off x="4800240" y="4800600"/>
                <a:ext cx="228600" cy="228600"/>
              </a:xfrm>
              <a:prstGeom prst="line">
                <a:avLst/>
              </a:prstGeom>
              <a:ln w="1908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61" name="Group 260"/>
            <p:cNvGrpSpPr/>
            <p:nvPr/>
          </p:nvGrpSpPr>
          <p:grpSpPr>
            <a:xfrm>
              <a:off x="4383000" y="3693240"/>
              <a:ext cx="301320" cy="233280"/>
              <a:chOff x="4383000" y="3693240"/>
              <a:chExt cx="301320" cy="233280"/>
            </a:xfrm>
          </p:grpSpPr>
          <p:sp>
            <p:nvSpPr>
              <p:cNvPr id="562" name="Line 261"/>
              <p:cNvSpPr/>
              <p:nvPr/>
            </p:nvSpPr>
            <p:spPr>
              <a:xfrm flipH="1" flipV="1">
                <a:off x="4383000" y="3693240"/>
                <a:ext cx="281160" cy="159480"/>
              </a:xfrm>
              <a:prstGeom prst="line">
                <a:avLst/>
              </a:prstGeom>
              <a:ln w="1908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3" name="Line 262"/>
              <p:cNvSpPr/>
              <p:nvPr/>
            </p:nvSpPr>
            <p:spPr>
              <a:xfrm flipH="1" flipV="1">
                <a:off x="4403160" y="3766680"/>
                <a:ext cx="281160" cy="159840"/>
              </a:xfrm>
              <a:prstGeom prst="line">
                <a:avLst/>
              </a:prstGeom>
              <a:ln w="19080">
                <a:solidFill>
                  <a:srgbClr val="6b68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64" name="Text Box 264"/>
          <p:cNvSpPr/>
          <p:nvPr/>
        </p:nvSpPr>
        <p:spPr>
          <a:xfrm>
            <a:off x="4658760" y="2971800"/>
            <a:ext cx="48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5" name="Text Box 265"/>
          <p:cNvSpPr/>
          <p:nvPr/>
        </p:nvSpPr>
        <p:spPr>
          <a:xfrm>
            <a:off x="2320560" y="2862360"/>
            <a:ext cx="49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6" name="Text Box 266"/>
          <p:cNvSpPr/>
          <p:nvPr/>
        </p:nvSpPr>
        <p:spPr>
          <a:xfrm>
            <a:off x="343440" y="30492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956"/>
                </a:solidFill>
                <a:latin typeface="Monotype Corsiva"/>
              </a:rPr>
              <a:t>Угол поворота 120</a:t>
            </a:r>
            <a:r>
              <a:rPr b="1" lang="ru-RU" sz="2800" spc="-1" strike="noStrike" baseline="30000">
                <a:solidFill>
                  <a:srgbClr val="984956"/>
                </a:solidFill>
                <a:latin typeface="Monotype Corsiv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888840" y="1409760"/>
            <a:ext cx="6807240" cy="4610160"/>
            <a:chOff x="888840" y="1409760"/>
            <a:chExt cx="6807240" cy="4610160"/>
          </a:xfrm>
        </p:grpSpPr>
        <p:grpSp>
          <p:nvGrpSpPr>
            <p:cNvPr id="568" name="Group 3"/>
            <p:cNvGrpSpPr/>
            <p:nvPr/>
          </p:nvGrpSpPr>
          <p:grpSpPr>
            <a:xfrm>
              <a:off x="4292640" y="3720960"/>
              <a:ext cx="3403440" cy="2298960"/>
              <a:chOff x="4292640" y="3720960"/>
              <a:chExt cx="3403440" cy="2298960"/>
            </a:xfrm>
          </p:grpSpPr>
          <p:sp>
            <p:nvSpPr>
              <p:cNvPr id="569" name="Freeform 4"/>
              <p:cNvSpPr/>
              <p:nvPr/>
            </p:nvSpPr>
            <p:spPr>
              <a:xfrm>
                <a:off x="5029200" y="4191120"/>
                <a:ext cx="2666880" cy="1828800"/>
              </a:xfrm>
              <a:custGeom>
                <a:avLst/>
                <a:gdLst>
                  <a:gd name="textAreaLeft" fmla="*/ 0 w 2666880"/>
                  <a:gd name="textAreaRight" fmla="*/ 2666880 w 26668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680" h="1152">
                    <a:moveTo>
                      <a:pt x="896" y="1144"/>
                    </a:moveTo>
                    <a:lnTo>
                      <a:pt x="912" y="1152"/>
                    </a:lnTo>
                    <a:lnTo>
                      <a:pt x="0" y="624"/>
                    </a:lnTo>
                    <a:lnTo>
                      <a:pt x="768" y="0"/>
                    </a:lnTo>
                    <a:lnTo>
                      <a:pt x="1680" y="528"/>
                    </a:lnTo>
                    <a:lnTo>
                      <a:pt x="912" y="1152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0" name="Freeform 5"/>
              <p:cNvSpPr/>
              <p:nvPr/>
            </p:nvSpPr>
            <p:spPr>
              <a:xfrm>
                <a:off x="4292640" y="3720960"/>
                <a:ext cx="736560" cy="1460520"/>
              </a:xfrm>
              <a:custGeom>
                <a:avLst/>
                <a:gdLst>
                  <a:gd name="textAreaLeft" fmla="*/ 0 w 736560"/>
                  <a:gd name="textAreaRight" fmla="*/ 736920 w 736560"/>
                  <a:gd name="textAreaTop" fmla="*/ 0 h 1460520"/>
                  <a:gd name="textAreaBottom" fmla="*/ 1460520 h 1460520"/>
                </a:gdLst>
                <a:ahLst/>
                <a:rect l="textAreaLeft" t="textAreaTop" r="textAreaRight" b="textAreaBottom"/>
                <a:pathLst>
                  <a:path w="464" h="920">
                    <a:moveTo>
                      <a:pt x="464" y="92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71" name="Group 6"/>
            <p:cNvGrpSpPr/>
            <p:nvPr/>
          </p:nvGrpSpPr>
          <p:grpSpPr>
            <a:xfrm>
              <a:off x="888840" y="1409760"/>
              <a:ext cx="3403440" cy="2298240"/>
              <a:chOff x="888840" y="1409760"/>
              <a:chExt cx="3403440" cy="2298240"/>
            </a:xfrm>
          </p:grpSpPr>
          <p:sp>
            <p:nvSpPr>
              <p:cNvPr id="572" name="Freeform 7"/>
              <p:cNvSpPr/>
              <p:nvPr/>
            </p:nvSpPr>
            <p:spPr>
              <a:xfrm flipH="1" flipV="1">
                <a:off x="888480" y="1409400"/>
                <a:ext cx="2666880" cy="1828440"/>
              </a:xfrm>
              <a:custGeom>
                <a:avLst/>
                <a:gdLst>
                  <a:gd name="textAreaLeft" fmla="*/ 0 w 2666880"/>
                  <a:gd name="textAreaRight" fmla="*/ 2666880 w 2666880"/>
                  <a:gd name="textAreaTop" fmla="*/ -360 h 1828440"/>
                  <a:gd name="textAreaBottom" fmla="*/ 1828440 h 1828440"/>
                </a:gdLst>
                <a:ahLst/>
                <a:rect l="textAreaLeft" t="textAreaTop" r="textAreaRight" b="textAreaBottom"/>
                <a:pathLst>
                  <a:path w="1680" h="1152">
                    <a:moveTo>
                      <a:pt x="896" y="1144"/>
                    </a:moveTo>
                    <a:lnTo>
                      <a:pt x="912" y="1152"/>
                    </a:lnTo>
                    <a:lnTo>
                      <a:pt x="0" y="624"/>
                    </a:lnTo>
                    <a:lnTo>
                      <a:pt x="768" y="0"/>
                    </a:lnTo>
                    <a:lnTo>
                      <a:pt x="1680" y="528"/>
                    </a:lnTo>
                    <a:lnTo>
                      <a:pt x="912" y="11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3" name="Freeform 8"/>
              <p:cNvSpPr/>
              <p:nvPr/>
            </p:nvSpPr>
            <p:spPr>
              <a:xfrm flipH="1" flipV="1">
                <a:off x="3555720" y="2247840"/>
                <a:ext cx="736560" cy="1460160"/>
              </a:xfrm>
              <a:custGeom>
                <a:avLst/>
                <a:gdLst>
                  <a:gd name="textAreaLeft" fmla="*/ 360 w 736560"/>
                  <a:gd name="textAreaRight" fmla="*/ 737280 w 736560"/>
                  <a:gd name="textAreaTop" fmla="*/ 360 h 1460160"/>
                  <a:gd name="textAreaBottom" fmla="*/ 1460880 h 1460160"/>
                </a:gdLst>
                <a:ahLst/>
                <a:rect l="textAreaLeft" t="textAreaTop" r="textAreaRight" b="textAreaBottom"/>
                <a:pathLst>
                  <a:path w="464" h="920">
                    <a:moveTo>
                      <a:pt x="464" y="92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grpSp>
        <p:nvGrpSpPr>
          <p:cNvPr id="574" name="Group 19"/>
          <p:cNvGrpSpPr/>
          <p:nvPr/>
        </p:nvGrpSpPr>
        <p:grpSpPr>
          <a:xfrm>
            <a:off x="888840" y="1409760"/>
            <a:ext cx="6807240" cy="4610160"/>
            <a:chOff x="888840" y="1409760"/>
            <a:chExt cx="6807240" cy="4610160"/>
          </a:xfrm>
        </p:grpSpPr>
        <p:grpSp>
          <p:nvGrpSpPr>
            <p:cNvPr id="575" name="Group 20"/>
            <p:cNvGrpSpPr/>
            <p:nvPr/>
          </p:nvGrpSpPr>
          <p:grpSpPr>
            <a:xfrm>
              <a:off x="4292640" y="3720960"/>
              <a:ext cx="3403440" cy="2298960"/>
              <a:chOff x="4292640" y="3720960"/>
              <a:chExt cx="3403440" cy="2298960"/>
            </a:xfrm>
          </p:grpSpPr>
          <p:sp>
            <p:nvSpPr>
              <p:cNvPr id="576" name="Freeform 21"/>
              <p:cNvSpPr/>
              <p:nvPr/>
            </p:nvSpPr>
            <p:spPr>
              <a:xfrm>
                <a:off x="5029200" y="4191120"/>
                <a:ext cx="2666880" cy="1828800"/>
              </a:xfrm>
              <a:custGeom>
                <a:avLst/>
                <a:gdLst>
                  <a:gd name="textAreaLeft" fmla="*/ 0 w 2666880"/>
                  <a:gd name="textAreaRight" fmla="*/ 2666880 w 2666880"/>
                  <a:gd name="textAreaTop" fmla="*/ 0 h 1828800"/>
                  <a:gd name="textAreaBottom" fmla="*/ 1829160 h 1828800"/>
                </a:gdLst>
                <a:ahLst/>
                <a:rect l="textAreaLeft" t="textAreaTop" r="textAreaRight" b="textAreaBottom"/>
                <a:pathLst>
                  <a:path w="1680" h="1152">
                    <a:moveTo>
                      <a:pt x="896" y="1144"/>
                    </a:moveTo>
                    <a:lnTo>
                      <a:pt x="912" y="1152"/>
                    </a:lnTo>
                    <a:lnTo>
                      <a:pt x="0" y="624"/>
                    </a:lnTo>
                    <a:lnTo>
                      <a:pt x="768" y="0"/>
                    </a:lnTo>
                    <a:lnTo>
                      <a:pt x="1680" y="528"/>
                    </a:lnTo>
                    <a:lnTo>
                      <a:pt x="912" y="1152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7" name="Freeform 22"/>
              <p:cNvSpPr/>
              <p:nvPr/>
            </p:nvSpPr>
            <p:spPr>
              <a:xfrm>
                <a:off x="4292640" y="3720960"/>
                <a:ext cx="736560" cy="1460520"/>
              </a:xfrm>
              <a:custGeom>
                <a:avLst/>
                <a:gdLst>
                  <a:gd name="textAreaLeft" fmla="*/ 0 w 736560"/>
                  <a:gd name="textAreaRight" fmla="*/ 736920 w 736560"/>
                  <a:gd name="textAreaTop" fmla="*/ 0 h 1460520"/>
                  <a:gd name="textAreaBottom" fmla="*/ 1460520 h 1460520"/>
                </a:gdLst>
                <a:ahLst/>
                <a:rect l="textAreaLeft" t="textAreaTop" r="textAreaRight" b="textAreaBottom"/>
                <a:pathLst>
                  <a:path w="464" h="920">
                    <a:moveTo>
                      <a:pt x="464" y="92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578" name="Group 23"/>
            <p:cNvGrpSpPr/>
            <p:nvPr/>
          </p:nvGrpSpPr>
          <p:grpSpPr>
            <a:xfrm>
              <a:off x="888840" y="1409760"/>
              <a:ext cx="3403440" cy="2298240"/>
              <a:chOff x="888840" y="1409760"/>
              <a:chExt cx="3403440" cy="2298240"/>
            </a:xfrm>
          </p:grpSpPr>
          <p:sp>
            <p:nvSpPr>
              <p:cNvPr id="579" name="Freeform 24"/>
              <p:cNvSpPr/>
              <p:nvPr/>
            </p:nvSpPr>
            <p:spPr>
              <a:xfrm flipH="1" flipV="1">
                <a:off x="888480" y="1409400"/>
                <a:ext cx="2666880" cy="1828440"/>
              </a:xfrm>
              <a:custGeom>
                <a:avLst/>
                <a:gdLst>
                  <a:gd name="textAreaLeft" fmla="*/ 0 w 2666880"/>
                  <a:gd name="textAreaRight" fmla="*/ 2666880 w 2666880"/>
                  <a:gd name="textAreaTop" fmla="*/ -360 h 1828440"/>
                  <a:gd name="textAreaBottom" fmla="*/ 1828440 h 1828440"/>
                </a:gdLst>
                <a:ahLst/>
                <a:rect l="textAreaLeft" t="textAreaTop" r="textAreaRight" b="textAreaBottom"/>
                <a:pathLst>
                  <a:path w="1680" h="1152">
                    <a:moveTo>
                      <a:pt x="896" y="1144"/>
                    </a:moveTo>
                    <a:lnTo>
                      <a:pt x="912" y="1152"/>
                    </a:lnTo>
                    <a:lnTo>
                      <a:pt x="0" y="624"/>
                    </a:lnTo>
                    <a:lnTo>
                      <a:pt x="768" y="0"/>
                    </a:lnTo>
                    <a:lnTo>
                      <a:pt x="1680" y="528"/>
                    </a:lnTo>
                    <a:lnTo>
                      <a:pt x="912" y="11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0" name="Freeform 25"/>
              <p:cNvSpPr/>
              <p:nvPr/>
            </p:nvSpPr>
            <p:spPr>
              <a:xfrm flipH="1" flipV="1">
                <a:off x="3555720" y="2247840"/>
                <a:ext cx="736560" cy="1460160"/>
              </a:xfrm>
              <a:custGeom>
                <a:avLst/>
                <a:gdLst>
                  <a:gd name="textAreaLeft" fmla="*/ 360 w 736560"/>
                  <a:gd name="textAreaRight" fmla="*/ 737280 w 736560"/>
                  <a:gd name="textAreaTop" fmla="*/ 360 h 1460160"/>
                  <a:gd name="textAreaBottom" fmla="*/ 1460880 h 1460160"/>
                </a:gdLst>
                <a:ahLst/>
                <a:rect l="textAreaLeft" t="textAreaTop" r="textAreaRight" b="textAreaBottom"/>
                <a:pathLst>
                  <a:path w="464" h="920">
                    <a:moveTo>
                      <a:pt x="464" y="92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81" name="Freeform 26"/>
          <p:cNvSpPr/>
          <p:nvPr/>
        </p:nvSpPr>
        <p:spPr>
          <a:xfrm>
            <a:off x="4267080" y="2070000"/>
            <a:ext cx="1981440" cy="21211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2121120"/>
              <a:gd name="textAreaBottom" fmla="*/ 2121120 h 2121120"/>
            </a:gdLst>
            <a:ahLst/>
            <a:rect l="textAreaLeft" t="textAreaTop" r="textAreaRight" b="textAreaBottom"/>
            <a:pathLst>
              <a:path w="1248" h="1336">
                <a:moveTo>
                  <a:pt x="704" y="0"/>
                </a:moveTo>
                <a:lnTo>
                  <a:pt x="0" y="1048"/>
                </a:lnTo>
                <a:lnTo>
                  <a:pt x="1248" y="133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2" name="Freeform 27"/>
          <p:cNvSpPr/>
          <p:nvPr/>
        </p:nvSpPr>
        <p:spPr>
          <a:xfrm>
            <a:off x="4305240" y="2489040"/>
            <a:ext cx="2882880" cy="351792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3517920"/>
              <a:gd name="textAreaBottom" fmla="*/ 3518280 h 3517920"/>
            </a:gdLst>
            <a:ahLst/>
            <a:rect l="textAreaLeft" t="textAreaTop" r="textAreaRight" b="textAreaBottom"/>
            <a:pathLst>
              <a:path w="1816" h="2216">
                <a:moveTo>
                  <a:pt x="1816" y="0"/>
                </a:moveTo>
                <a:lnTo>
                  <a:pt x="0" y="760"/>
                </a:lnTo>
                <a:lnTo>
                  <a:pt x="1360" y="2216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3" name="Freeform 28"/>
          <p:cNvSpPr/>
          <p:nvPr/>
        </p:nvSpPr>
        <p:spPr>
          <a:xfrm>
            <a:off x="4292640" y="3543480"/>
            <a:ext cx="1612800" cy="163800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1638000"/>
              <a:gd name="textAreaBottom" fmla="*/ 1638360 h 1638000"/>
            </a:gdLst>
            <a:ahLst/>
            <a:rect l="textAreaLeft" t="textAreaTop" r="textAreaRight" b="textAreaBottom"/>
            <a:pathLst>
              <a:path w="1016" h="1032">
                <a:moveTo>
                  <a:pt x="464" y="1032"/>
                </a:moveTo>
                <a:lnTo>
                  <a:pt x="0" y="104"/>
                </a:lnTo>
                <a:lnTo>
                  <a:pt x="1016" y="0"/>
                </a:lnTo>
              </a:path>
            </a:pathLst>
          </a:custGeom>
          <a:noFill/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4" name="Freeform 29"/>
          <p:cNvSpPr/>
          <p:nvPr/>
        </p:nvSpPr>
        <p:spPr>
          <a:xfrm>
            <a:off x="4305240" y="977760"/>
            <a:ext cx="3390840" cy="4051440"/>
          </a:xfrm>
          <a:custGeom>
            <a:avLst/>
            <a:gdLst>
              <a:gd name="textAreaLeft" fmla="*/ 0 w 3390840"/>
              <a:gd name="textAreaRight" fmla="*/ 3391200 w 3390840"/>
              <a:gd name="textAreaTop" fmla="*/ 0 h 4051440"/>
              <a:gd name="textAreaBottom" fmla="*/ 4051800 h 4051440"/>
            </a:gdLst>
            <a:ahLst/>
            <a:rect l="textAreaLeft" t="textAreaTop" r="textAreaRight" b="textAreaBottom"/>
            <a:pathLst>
              <a:path w="2136" h="2552">
                <a:moveTo>
                  <a:pt x="2136" y="2552"/>
                </a:moveTo>
                <a:lnTo>
                  <a:pt x="0" y="1728"/>
                </a:lnTo>
                <a:lnTo>
                  <a:pt x="14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85" name="Group 30"/>
          <p:cNvGrpSpPr/>
          <p:nvPr/>
        </p:nvGrpSpPr>
        <p:grpSpPr>
          <a:xfrm>
            <a:off x="3937680" y="3637440"/>
            <a:ext cx="478080" cy="601560"/>
            <a:chOff x="3937680" y="3637440"/>
            <a:chExt cx="478080" cy="601560"/>
          </a:xfrm>
        </p:grpSpPr>
        <p:sp>
          <p:nvSpPr>
            <p:cNvPr id="586" name="Text Box 31"/>
            <p:cNvSpPr/>
            <p:nvPr/>
          </p:nvSpPr>
          <p:spPr>
            <a:xfrm>
              <a:off x="3937680" y="365760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Monotype Corsiva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87" name="Oval 32"/>
            <p:cNvSpPr/>
            <p:nvPr/>
          </p:nvSpPr>
          <p:spPr>
            <a:xfrm rot="3834000">
              <a:off x="4236480" y="3662280"/>
              <a:ext cx="131760" cy="122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6b68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88" name="Text Box 33"/>
          <p:cNvSpPr/>
          <p:nvPr/>
        </p:nvSpPr>
        <p:spPr>
          <a:xfrm>
            <a:off x="609480" y="2286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956"/>
                </a:solidFill>
                <a:latin typeface="Arial"/>
              </a:rPr>
              <a:t>При повороте многоугольника надо повернуть каждую</a:t>
            </a:r>
            <a:r>
              <a:rPr b="1" lang="en-US" sz="2000" spc="-1" strike="noStrike">
                <a:solidFill>
                  <a:srgbClr val="98495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84956"/>
                </a:solidFill>
                <a:latin typeface="Arial"/>
              </a:rPr>
              <a:t>его вершину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200000">
                                      <p:cBhvr>
                                        <p:cTn id="4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9"/>
          <p:cNvGrpSpPr/>
          <p:nvPr/>
        </p:nvGrpSpPr>
        <p:grpSpPr>
          <a:xfrm>
            <a:off x="5638680" y="1371600"/>
            <a:ext cx="2590920" cy="3002040"/>
            <a:chOff x="5638680" y="1371600"/>
            <a:chExt cx="2590920" cy="3002040"/>
          </a:xfrm>
        </p:grpSpPr>
        <p:sp>
          <p:nvSpPr>
            <p:cNvPr id="590" name="AutoShape 22"/>
            <p:cNvSpPr/>
            <p:nvPr/>
          </p:nvSpPr>
          <p:spPr>
            <a:xfrm>
              <a:off x="5638680" y="1371600"/>
              <a:ext cx="2590920" cy="223992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591" name="AutoShape 23"/>
            <p:cNvSpPr/>
            <p:nvPr/>
          </p:nvSpPr>
          <p:spPr>
            <a:xfrm flipV="1">
              <a:off x="5638680" y="2133720"/>
              <a:ext cx="2590920" cy="2239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92" name="Freeform 21"/>
          <p:cNvSpPr/>
          <p:nvPr/>
        </p:nvSpPr>
        <p:spPr>
          <a:xfrm>
            <a:off x="5626080" y="2451240"/>
            <a:ext cx="1917720" cy="115560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208" h="728">
                <a:moveTo>
                  <a:pt x="0" y="728"/>
                </a:moveTo>
                <a:lnTo>
                  <a:pt x="1208" y="0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143000" y="1066680"/>
            <a:ext cx="2133720" cy="2133720"/>
          </a:xfrm>
          <a:prstGeom prst="rect">
            <a:avLst/>
          </a:prstGeom>
          <a:noFill/>
          <a:ln w="1908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1143000" y="1066680"/>
            <a:ext cx="2133720" cy="2133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5" name="Line 7"/>
          <p:cNvSpPr/>
          <p:nvPr/>
        </p:nvSpPr>
        <p:spPr>
          <a:xfrm>
            <a:off x="1143000" y="1066680"/>
            <a:ext cx="2133720" cy="2133720"/>
          </a:xfrm>
          <a:prstGeom prst="line">
            <a:avLst/>
          </a:prstGeom>
          <a:ln w="9360">
            <a:solidFill>
              <a:srgbClr val="6b68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6" name="Line 8"/>
          <p:cNvSpPr/>
          <p:nvPr/>
        </p:nvSpPr>
        <p:spPr>
          <a:xfrm flipH="1">
            <a:off x="1142640" y="1066680"/>
            <a:ext cx="2133720" cy="2133720"/>
          </a:xfrm>
          <a:prstGeom prst="line">
            <a:avLst/>
          </a:prstGeom>
          <a:ln w="9360">
            <a:solidFill>
              <a:srgbClr val="6b68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7" name="Oval 6"/>
          <p:cNvSpPr/>
          <p:nvPr/>
        </p:nvSpPr>
        <p:spPr>
          <a:xfrm>
            <a:off x="2171880" y="20955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8" name="AutoShape 10"/>
          <p:cNvSpPr/>
          <p:nvPr/>
        </p:nvSpPr>
        <p:spPr>
          <a:xfrm>
            <a:off x="5638680" y="1371600"/>
            <a:ext cx="2590920" cy="2239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9" name="AutoShape 11"/>
          <p:cNvSpPr/>
          <p:nvPr/>
        </p:nvSpPr>
        <p:spPr>
          <a:xfrm>
            <a:off x="2743200" y="3733920"/>
            <a:ext cx="2895480" cy="2504880"/>
          </a:xfrm>
          <a:prstGeom prst="hexagon">
            <a:avLst>
              <a:gd name="adj" fmla="val 28898"/>
              <a:gd name="vf" fmla="val 115470"/>
            </a:avLst>
          </a:prstGeom>
          <a:noFill/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Freeform 14"/>
          <p:cNvSpPr/>
          <p:nvPr/>
        </p:nvSpPr>
        <p:spPr>
          <a:xfrm>
            <a:off x="3479760" y="3746520"/>
            <a:ext cx="1447920" cy="25020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502000"/>
              <a:gd name="textAreaBottom" fmla="*/ 2502360 h 2502000"/>
            </a:gdLst>
            <a:ahLst/>
            <a:rect l="textAreaLeft" t="textAreaTop" r="textAreaRight" b="textAreaBottom"/>
            <a:pathLst>
              <a:path w="912" h="1576">
                <a:moveTo>
                  <a:pt x="0" y="0"/>
                </a:moveTo>
                <a:lnTo>
                  <a:pt x="912" y="1576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1" name="Freeform 15"/>
          <p:cNvSpPr/>
          <p:nvPr/>
        </p:nvSpPr>
        <p:spPr>
          <a:xfrm>
            <a:off x="3429000" y="3720960"/>
            <a:ext cx="1511280" cy="25146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952" h="1584">
                <a:moveTo>
                  <a:pt x="952" y="0"/>
                </a:moveTo>
                <a:lnTo>
                  <a:pt x="0" y="1584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2" name="Freeform 16"/>
          <p:cNvSpPr/>
          <p:nvPr/>
        </p:nvSpPr>
        <p:spPr>
          <a:xfrm>
            <a:off x="2755800" y="4965840"/>
            <a:ext cx="2870280" cy="12600"/>
          </a:xfrm>
          <a:custGeom>
            <a:avLst/>
            <a:gdLst>
              <a:gd name="textAreaLeft" fmla="*/ 0 w 2870280"/>
              <a:gd name="textAreaRight" fmla="*/ 2870640 w 28702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808" h="8">
                <a:moveTo>
                  <a:pt x="1808" y="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3" name="Oval 13"/>
          <p:cNvSpPr/>
          <p:nvPr/>
        </p:nvSpPr>
        <p:spPr>
          <a:xfrm>
            <a:off x="4152960" y="4927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4" name="AutoShape 17"/>
          <p:cNvSpPr/>
          <p:nvPr/>
        </p:nvSpPr>
        <p:spPr>
          <a:xfrm>
            <a:off x="2743200" y="3743280"/>
            <a:ext cx="2895480" cy="2505240"/>
          </a:xfrm>
          <a:prstGeom prst="hexagon">
            <a:avLst>
              <a:gd name="adj" fmla="val 28894"/>
              <a:gd name="vf" fmla="val 115470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5" name="Freeform 19"/>
          <p:cNvSpPr/>
          <p:nvPr/>
        </p:nvSpPr>
        <p:spPr>
          <a:xfrm>
            <a:off x="6931080" y="1371600"/>
            <a:ext cx="3240" cy="2209680"/>
          </a:xfrm>
          <a:custGeom>
            <a:avLst/>
            <a:gdLst>
              <a:gd name="textAreaLeft" fmla="*/ 0 w 3240"/>
              <a:gd name="textAreaRight" fmla="*/ 3600 w 324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" h="1392">
                <a:moveTo>
                  <a:pt x="2" y="139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6" name="Freeform 20"/>
          <p:cNvSpPr/>
          <p:nvPr/>
        </p:nvSpPr>
        <p:spPr>
          <a:xfrm>
            <a:off x="6324480" y="2438280"/>
            <a:ext cx="1905120" cy="118116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200" h="744">
                <a:moveTo>
                  <a:pt x="1200" y="7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6b687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7" name="Oval 12"/>
          <p:cNvSpPr/>
          <p:nvPr/>
        </p:nvSpPr>
        <p:spPr>
          <a:xfrm>
            <a:off x="6896160" y="27687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b68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dissolv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43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434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43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6:23:19Z</dcterms:created>
  <dc:creator>First</dc:creator>
  <dc:description/>
  <dc:language>en-US</dc:language>
  <cp:lastModifiedBy>прадо-150</cp:lastModifiedBy>
  <dcterms:modified xsi:type="dcterms:W3CDTF">2017-03-19T10:08:24Z</dcterms:modified>
  <cp:revision>8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49</vt:lpwstr>
  </property>
</Properties>
</file>