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33D7-C1A4-4533-8113-BBAA694B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3477-8F59-4212-8BD8-05D079A8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AA1A-5C19-4E4E-A8B6-309468FC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EF8E-84C0-4A32-8A42-C18F7F85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1967-978D-4325-8A8C-8298BE71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2A7E-01DC-49CF-BC88-B0FFB10F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6942-7081-451B-A7A1-9FA7C23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71D1-C232-4A4F-992B-A2FDF236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4777-0480-48F8-8D3C-A77AB0FA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BDE1-9B13-4500-A38E-CF4C0D4C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D91A-B870-4C36-85D0-77FF61D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ACDC-2D9E-44DC-98CC-CA814C9B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C3D2-60E7-4592-ABA9-D9A265D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486C-4EF8-4423-A285-16CAC45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7C0-C4AA-4A21-B0B6-101D09BB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2EF-39AF-488C-B47D-6A10A63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207C-8AC3-4E77-81D0-015B2921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BA0F-905F-42CA-9DF8-19F0C04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7562-012C-46F0-8DD7-D8FC0C9C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0D10-D9B3-4578-BF39-58DCD836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7B8B-2752-4372-BEB7-5670ABF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E43A-9851-4D39-AA5B-EAE7723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CBFCE-2B1C-46F3-B0CD-B822DDA7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5338-FB38-4C9E-84E3-B48D48CE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F5E9-0E9A-4DBA-A0E0-6E65B9AC2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6D1-DB9C-401C-831D-5265B964F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Times New Roman"/>
              </a:rPr>
              <a:t>Сборка схемы нереверсивного пуска трёхфазного асинхронного двигател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Подготовил:мастер производственного обучения Пожарская Мари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</a:rPr>
              <a:t>Клинцовский филиал Брянского техникума энергомашиностроения и радиоэлектроники имени героя Советскоо Союза М.А. Афанась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08660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257560" y="-1690560"/>
            <a:ext cx="13659120" cy="102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Цель урок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учить студентов собирать принципиальную схему нереверсивного пуска трехфазного асинхронного двигателя, изучить принцип работы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ить у студентов технические знания о различных типах схем нереверсивного пуска асинхрон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вать у будущих электромонтёров умение анализировать, контролировать свои действия; решать проблемные ситуации и применять на практике имеющиеся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Материально-техническое оснащение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с периферийными устройствам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льтимедийный проектор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двигател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гнитный пуска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нопочная станция.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ое рел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актные колод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тажный но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рукционная к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чки –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home_slideshow01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3771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Опрос по карточкам – задан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начение состав и принцип работы магнитного пускателя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значение и устройство кнопок 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хника безопасности при сборке электрических сх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KE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286056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Times New Roman"/>
              </a:rPr>
              <a:t>Нереверсивное управление асинхронным электродвигателем с короткозамкнутым ротором, осуществляется контакторам КМ 1. Сборка схемы проходит в два этапа: сборка цепей управления и сборка силовой це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 1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нтакт И разомкнутой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единяется с контактом Ж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разомкнутым контактом Л блок-контакта магнитного пускателя. Контакт Е кнопк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ключается к фазе В. Контакт М разомкнутой кнопки SBC соединяется с контактом К блок-контакта магнитного пускателя и обмоткой магнитного пускателя. Обмотка магнитного пускателя соединяется с контактом Д теплового реле. Контакт Г теплового реле соединяется с фазой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RN-10-Srednij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0988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ап 2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ловые провода А В С подключаются к контактам магнитного пускателя А Б В. С контактов магнитного пускателя О Р подключаем провода на термоэлементы теплового реле, оставшийся провод (П) подключаем к асинхронному электродвигателю(Т).  Противоположные контакты термоэлементов С и У теплового реле подключаем к двигател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тключения электродвигателя нажимают кнопк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BT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ая тем самым цепь в которую включены обмотка магнитного пускател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При перегрузке нагреваются термоэлементы теплового реле, деформируется биметаллическая пластина теплового реле размыкая тем самым контакты КК. Цепь питания обмотки магнитного пускателя разрывается, пускатель возвращается в исходное положение, электро- двигатель отключ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Задание на 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инструкционную ка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чертить в тетрадь электрическую схему в соответствие с требованиями Г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овать рабоче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схему нереверсивного пуска асинхронного трехфазного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правила техни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отчёт о проделанно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110752-500x500" descr=""/>
          <p:cNvPicPr/>
          <p:nvPr/>
        </p:nvPicPr>
        <p:blipFill>
          <a:blip r:embed="rId1"/>
          <a:stretch/>
        </p:blipFill>
        <p:spPr>
          <a:xfrm>
            <a:off x="6248520" y="411480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123" name="02" descr=""/>
          <p:cNvPicPr/>
          <p:nvPr/>
        </p:nvPicPr>
        <p:blipFill>
          <a:blip r:embed="rId2"/>
          <a:stretch/>
        </p:blipFill>
        <p:spPr>
          <a:xfrm>
            <a:off x="685800" y="4648320"/>
            <a:ext cx="242568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Технология выполнения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ить схему электрическую принципиаль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ить принцип работы, назнач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зуальным осмотром проверить целостность всех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ить на стенд кнопочную станцию тепловое реле, магнитный пуска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езать провода по д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ьзуясь схемой электрической принципиальной собрать схему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ить работоспособность схемы управления (под наблюдением мастера включить в сеть).Устранить неиспра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рать силовую часть сх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наблюдением мастера произвести пуск электродвиг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блюдать технику безопас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Схема нереверсивного пуска трехфазного асинхронного электродвиг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2057400"/>
          <a:ext cx="636264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36264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9-05-07T12:26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