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C5DD-BB6A-491B-A6B0-04554B42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EC38-81E0-4176-9422-D9C45839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935C-6468-44BB-B7A6-651C5A26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907D-71FF-4881-9BB9-140789D8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BC57-CEF9-4864-A9A0-19B8C95A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75F5-EE1E-4E12-9B36-3218924C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615F-4C26-4411-8E33-E84116DB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9597-DE98-4190-9EDE-45F15A56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CE9B-87B2-42A5-AD98-A75D4DB2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B59A-0752-412E-9FB4-F8A8FCB2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FBEC-BC34-4F1D-A90A-EA27DA6E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9FFC5-4EAA-41E4-85DC-72240224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F5C9-A5E8-4D60-8A03-F04A277B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0027-4594-4FB8-BDC7-7F744503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D98B-EBB3-45CB-A20A-6A93F8B2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B814-1DDE-4FD8-B5F1-FAC29578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72F0-4A3E-4FDA-8175-5373B883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516C4-0D6D-49C9-8BD1-0F310AD8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E34CE-827C-44D2-8368-A26B2840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229D6-DFC0-49E9-8058-158AA0DA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7DD5-8A1E-4D36-A216-A7211FE0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04C58-C85C-4F15-9E7C-3427C93F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2D8F-E9B3-4CF6-8CE3-AB8E9E7D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EF45B-8927-4755-8C22-C3D40824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F042-DB2B-414D-8EAE-2679481567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7F20-725E-4AAC-889C-855F982A66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Сборка схемы нереверсивного пуска трёхфазного асинхронного двигател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41144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</a:rPr>
              <a:t>Подготовил:мастер производственного обучения Пожарская Мари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</a:rPr>
              <a:t>Клинцовский филиал Брянского техникума энергомашиностроения и радиоэлектроники имени героя Советскоо Союза М.А. Афанась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2257560" y="-1690560"/>
            <a:ext cx="13659120" cy="102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Цель урока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учить студентов собирать принципиальную схему нереверсивного пуска трехфазного асинхронного двигателя, изучить принцип работы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репить у студентов технические знания о различных типах схем нереверсивного пуска асинхронного электро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в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вать у будущих электромонтёров умение анализировать, контролировать свои действия; решать проблемные ситуации и применять на практике имеющиеся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Материально-техническое оснащение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ональный компьютер с периферийными устройствам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ьтимедийный проектор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двигател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гнитный пуска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опочная станция.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ое рел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актные кол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тажный но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р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рукционная к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чки –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home_slideshow01" descr=""/>
          <p:cNvPicPr/>
          <p:nvPr/>
        </p:nvPicPr>
        <p:blipFill>
          <a:blip r:embed="rId1"/>
          <a:stretch/>
        </p:blipFill>
        <p:spPr>
          <a:xfrm>
            <a:off x="4876920" y="4267080"/>
            <a:ext cx="3771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Опрос по карточкам – зада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начение состав и принцип работы магнитного пускателя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начение и устройство кнопок 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хника безопасности при сборке электрических сх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KE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286056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Нереверсивное управление асинхронным электродвигателем с короткозамкнутым ротором, осуществляется контакторам КМ 1. Сборка схемы проходит в два этапа: сборка цепей управления и сборка силовой це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  1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нтакт И разомкнутой кноп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единяется с контактом Ж кноп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B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разомкнутым контактом Л блок-контакта магнитного пускателя. Контакт Е кноп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B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дключается к фазе В. Контакт М разомкнутой кнопки SBC соединяется с контактом К блок-контакта магнитного пускателя и обмоткой магнитного пускателя. Обмотка магнитного пускателя соединяется с контактом Д теплового реле. Контакт Г теплового реле соединяется с фазой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RN-10-Srednij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20988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 2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ловые провода А В С подключаются к контактам магнитного пускателя А Б В. С контактов магнитного пускателя О Р подключаем провода на термоэлементы теплового реле, оставшийся провод (П) подключаем к асинхронному электродвигателю(Т).  Противоположные контакты термоэлементов С и У теплового реле подключаем к двигател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тключения электродвигателя нажимают кнопк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B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ая тем самым цепь в которую включены обмотка магнитного пускател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При перегрузке нагреваются термоэлементы теплового реле, деформируется биметаллическая пластина теплового реле размыкая тем самым контакты КК. Цепь питания обмотки магнитного пускателя разрывается, пускатель возвращается в исходное положение, электро- двигатель отключ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Задание на уро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инструкционную кар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чертить в тетрадь электрическую схему в соответствие с требованиями Г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овать рабоче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ть схему нереверсивного пуска асинхронного трехфазного электро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ать правила техники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ь отчёт о проделанной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110752-500x500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2247840" cy="2247840"/>
          </a:xfrm>
          <a:prstGeom prst="rect">
            <a:avLst/>
          </a:prstGeom>
          <a:ln w="0">
            <a:noFill/>
          </a:ln>
        </p:spPr>
      </p:pic>
      <p:pic>
        <p:nvPicPr>
          <p:cNvPr id="123" name="02" descr=""/>
          <p:cNvPicPr/>
          <p:nvPr/>
        </p:nvPicPr>
        <p:blipFill>
          <a:blip r:embed="rId2"/>
          <a:stretch/>
        </p:blipFill>
        <p:spPr>
          <a:xfrm>
            <a:off x="685800" y="4648320"/>
            <a:ext cx="242568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Технология выполнения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учить схему электрическую принципиаль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учить принцип работы, назначение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зуальным осмотром проверить целостность все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ановить на стенд кнопочную станцию тепловое реле, магнитный пуска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резать провода по дл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ьзуясь схемой электрической принципиальной собрать схему 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ерить работоспособность схемы управления (под наблюдением мастера включить в сеть).Устранить неиспра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брать силовую часть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 наблюдением мастера произвести пуск электро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блюдать технику безопас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Схема нереверсивного пуска трехфазного асинхронного электродвиг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447920" y="2057400"/>
          <a:ext cx="636264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636264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9-05-07T12:26:4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