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D69-AF6B-4D58-9805-42DE9EFD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BE7-5B6D-4AD3-A23D-C39B7D32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68E-C641-4383-8B88-24568AAC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059-394C-4BB5-A7BD-FD0CAA87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CF9A-8D33-4954-9231-258516AD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F289-21E1-4431-9463-97483E0F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FBAF-FDD2-4F51-8AA0-8B4225DE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7AFC-0FFD-4A5E-A533-5E5F3A9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6984-00D3-4BF6-9667-9674BF5C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BCF9-B741-47D4-97C9-EA4FE518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9343-3EE5-4C60-8141-659010A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380-1CFD-4D9E-BBE4-7081C308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7297-B3C4-49A9-B3C3-50C1470F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E2AC-A33B-42D2-B476-0CC5FCC0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AED0-B060-4471-B9E1-0CF7F88D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8971-F10C-41DF-A45F-82E67045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EC37-F5CE-4976-B778-B4924CD6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3F3A-C027-4A69-9E57-E6A75607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C20B-BEF4-4A01-9DF4-0A4C58AA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CEC9-BC76-4A8A-B0B7-773DF629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0003-2117-40BA-B700-28655722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2857-62B8-4803-9982-1E8FBE9A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4DA-443F-46CB-8106-B62AD2BB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35D9B-2A0D-494B-82B1-FF7CED48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5604-1EDF-4627-9F6F-82F383F8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F23F-93FF-4AF7-8AEC-99BF10E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2C2F-1D67-4684-97E6-7B4DF55A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013C-EF0C-4B39-864E-E0B31CD4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21FC-E23C-40B9-A51A-9972D795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33D4-D53D-4B8B-A7FA-01904C0A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4C939-C77A-44E6-A72E-F75873DA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3DB5D-73C3-4CDD-9B3D-052E615D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8738F-C738-438D-839B-45E76C6D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CF9-8AA1-4560-953A-7958EF79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8BE0-0361-46D0-9BDF-C964E8B7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5B0C-4CCE-407D-97D7-3D395B2E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8B8A3-1371-4CF4-974E-C28D53FE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3319-BA0A-4EBF-A0EA-F555DC5A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84276-209A-4007-8BCE-B9E4B25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1C38B-A449-416C-92CF-5ADE05D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70C60-0298-40A0-B34F-DE6DEBA1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21BBC-82B7-4604-B54B-E8D5AA24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1689B-8B7E-4B4E-9E7B-08747F0E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B0E5A-3424-4AF5-86C0-5D1831D5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5E5-946F-435A-B497-9ADAB6F8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AABCE-12F6-4BFA-86C1-5119DD43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1EDFA-B820-4A35-8755-31101D94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1AD87-0B3D-4CBF-8634-D37CC260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3944D-9078-4900-9DE0-1FCFB7F9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B71F-17C3-4E78-B8D7-FB6C7A03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8A56C-C2CC-4DFC-8F17-CF3CFD3F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22000-9A69-4076-B91D-28D807E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65829-8CC2-4EE1-97A3-DFF2D18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5AED6-C9EB-48DA-96D0-6E7EB639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685E6-CBAF-4ED8-8C54-AD06A689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45C-FE1C-4E9F-8C66-781A2A17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526F-7856-4E2A-8D77-DF675431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84B86-DCBF-4C66-9D16-CB3E8D93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3ED96-3304-4588-8CE3-E4CC24CE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81359-A800-4FC3-A142-FA62F7C4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4038D-7A8A-47DC-AFE6-1EEA3E54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D43BC-0C66-42FF-9687-78AE535F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85EAD-9EC8-4D34-A761-B05B37BA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DBB2F-8CB4-4524-B478-5CBEFC4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F6D5A-C171-4844-AE69-4F706B00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E399A-C127-4DF1-8220-C8C61F95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611-ADF6-490B-9138-13EAE655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DC7EE-2167-483D-A624-9A4E7980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E4E67-3DB8-4159-82D7-9A487078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6A6F2-C29D-4819-8450-6F10ADA0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E1B1-81C7-43C3-B57E-B4055F23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4DC4-7C2A-44D1-9FC6-2046C825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E3FDC-4B80-4FF5-88E2-FE51DDD6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43DF6-A841-44FD-A5A4-ED28FA39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D2E54-6F99-4DA9-BBBA-39C51179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95E62-5A39-458A-AB50-F97E9955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67431-2A9B-491D-817D-E534E3B2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941-4C7B-410A-89D4-2A01EBB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C80AA-4DC2-48E5-8C9A-950F7F8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45E71-034E-46D5-8B13-8956D62D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3FC6F-1D5F-4E92-A87F-4C7AA1AB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53887-16D8-45E4-985B-34381C87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F6E6F-6082-4C9E-A39A-8D941DF1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A0A-B0E5-454D-96E0-73E22291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41B4-0EBE-4E23-8774-D50492E8ABD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1E62-EAC9-46FE-8DCF-6A7FA1EC5A6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CA43-C3F5-46A0-885A-63992EA7A99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128A-A2B1-41CB-B13B-9120A6661FA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AE17-3B56-4D5D-B788-B772EE8EC22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670E-D52A-4BAC-8D0C-50CB306E5B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3CCF-FD3B-4537-8F46-819CCA8FF2E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50pr-erino-school.edusite.ru/images/051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785520"/>
            <a:ext cx="846144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Candara"/>
              </a:rPr>
              <a:t>Для чего нужна</a:t>
            </a:r>
            <a:br>
              <a:rPr sz="7200"/>
            </a:br>
            <a:r>
              <a:rPr b="1" lang="ru-RU" sz="7200" spc="-1" strike="noStrike">
                <a:solidFill>
                  <a:srgbClr val="cc0000"/>
                </a:solidFill>
                <a:latin typeface="Candara"/>
              </a:rPr>
              <a:t> </a:t>
            </a:r>
            <a:r>
              <a:rPr b="1" lang="ru-RU" sz="5400" spc="-1" strike="noStrike">
                <a:solidFill>
                  <a:srgbClr val="cc0000"/>
                </a:solidFill>
                <a:latin typeface="Candara"/>
              </a:rPr>
              <a:t>подготовка к школе?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214280" y="3357720"/>
            <a:ext cx="457200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33399"/>
              </a:solidFill>
              <a:latin typeface="Candara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357120" y="285840"/>
            <a:ext cx="8462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личать одежду, обувь, головные уб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личать зимующих и перелетных пти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личать овощи, фрукты и я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Уметь рассказывать сказки, читать наизусть стих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личать геометрические фигу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8"/>
          <p:cNvSpPr/>
          <p:nvPr/>
        </p:nvSpPr>
        <p:spPr>
          <a:xfrm>
            <a:off x="357120" y="285840"/>
            <a:ext cx="757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Свободно ориентироваться в пространстве (право-лево, верх-низ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Пересказывать прослушанный текст, составить рассказ по картин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C:\Users\user\Desktop\Учебный процесс\картинки о школе\чтение.jpg"/>
          <p:cNvPicPr/>
          <p:nvPr/>
        </p:nvPicPr>
        <p:blipFill>
          <a:blip r:embed="rId2"/>
          <a:stretch/>
        </p:blipFill>
        <p:spPr>
          <a:xfrm>
            <a:off x="5003640" y="3716280"/>
            <a:ext cx="364032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8"/>
          <p:cNvSpPr/>
          <p:nvPr/>
        </p:nvSpPr>
        <p:spPr>
          <a:xfrm>
            <a:off x="357120" y="285840"/>
            <a:ext cx="8462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личать гласные и согласные звуки и букв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делять слова на слоги (при помощи хлопк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Определять количество и последовательность звуков в слов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Владеть карандашом (обводить по контуру предметы, проводить линии без линейки и с линейк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357120" y="285840"/>
            <a:ext cx="757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Аккуратно штриховать карандашом, не выходя за контуры предме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Свободно считать от 1 до 10 и об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6" descr="C:\Users\user\Desktop\Учебный процесс\картинки о школе\проект.jpg"/>
          <p:cNvPicPr/>
          <p:nvPr/>
        </p:nvPicPr>
        <p:blipFill>
          <a:blip r:embed="rId2"/>
          <a:stretch/>
        </p:blipFill>
        <p:spPr>
          <a:xfrm>
            <a:off x="4572000" y="3573360"/>
            <a:ext cx="266076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428760" y="1518480"/>
            <a:ext cx="7497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сихологическая готовность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интеллектуальную готов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тивационную готов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о-волевую готов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     готовность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оммуникативную гото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1643040" y="1571760"/>
            <a:ext cx="6000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нтеллектуальная готов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1428840" y="1785960"/>
            <a:ext cx="664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тивационная готовность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разумевает наличие у ребенка желания принять новую социальную роль — роль школь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рямоугольник 2"/>
          <p:cNvSpPr/>
          <p:nvPr/>
        </p:nvSpPr>
        <p:spPr>
          <a:xfrm>
            <a:off x="1357200" y="1143000"/>
            <a:ext cx="64296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лев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наличие у ребенка: Способностей ставить перед собой цель, Принять решение о начале деятельности, Наметить план действий, Выполнить его, проявив определенные усилия, Оценить результат своей деятельности, А также умения длительно выполнять не очень привлекательную работу. 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1143000" y="1428840"/>
            <a:ext cx="69292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ммуникативная готовность: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ется в умении ребенка подчинять свое поведение законам детских групп и нормам поведения, установленным в обществе. 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"/>
          <p:cNvSpPr/>
          <p:nvPr/>
        </p:nvSpPr>
        <p:spPr>
          <a:xfrm>
            <a:off x="1643040" y="1857240"/>
            <a:ext cx="59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мните, ребёнок должен быть уверен в том, что, отличник или двоечник, он всё равно для вас самый любимый! Поддержите своих детей, проявите к ним максимум внима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395280" y="64296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Уже совсем скоро наступит первый для Вашего ребенка учебный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С большим волнением Вы проводите  таких ещё маленьких и беззащитных малышей в шко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Что их ждет вперед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Как и что нужно сделать, чтобы первые дни в школе не стали самым грустным воспоминанием в жизни ребёнка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7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«Быть готовым к школе не значит уметь читать, писать и считать .Быть готовым к школе –значит быть готовым всему этаму научится»  Венгер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571680" y="78588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4"/>
          <p:cNvSpPr/>
          <p:nvPr/>
        </p:nvSpPr>
        <p:spPr>
          <a:xfrm>
            <a:off x="928800" y="28584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ndar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7" descr="C:\Users\user\Desktop\Учебный процесс\картинки о школе\солнышко.jpeg"/>
          <p:cNvPicPr/>
          <p:nvPr/>
        </p:nvPicPr>
        <p:blipFill>
          <a:blip r:embed="rId2"/>
          <a:stretch/>
        </p:blipFill>
        <p:spPr>
          <a:xfrm>
            <a:off x="1619280" y="1989000"/>
            <a:ext cx="5905440" cy="3854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571680" y="0"/>
            <a:ext cx="81770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Многие считают, что если родители заранее обучали малыша чтению, счету, письму, то их ребенок, готов к 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C:\Users\user\Desktop\Учебный процесс\картинки о школе\165_large.gif"/>
          <p:cNvPicPr/>
          <p:nvPr/>
        </p:nvPicPr>
        <p:blipFill>
          <a:blip r:embed="rId2"/>
          <a:stretch/>
        </p:blipFill>
        <p:spPr>
          <a:xfrm>
            <a:off x="4140360" y="2986200"/>
            <a:ext cx="3213000" cy="3300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"/>
          <p:cNvSpPr/>
          <p:nvPr/>
        </p:nvSpPr>
        <p:spPr>
          <a:xfrm>
            <a:off x="3203640" y="1785960"/>
            <a:ext cx="5440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На самом деле не доигравший ребенок - это большая проблема  для учителя и сплошные учебные проблемы для самого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C:\Users\user\Desktop\Учебный процесс\картинки о школе\ученик и матем.jpg"/>
          <p:cNvPicPr/>
          <p:nvPr/>
        </p:nvPicPr>
        <p:blipFill>
          <a:blip r:embed="rId2"/>
          <a:stretch/>
        </p:blipFill>
        <p:spPr>
          <a:xfrm>
            <a:off x="696960" y="2349360"/>
            <a:ext cx="23623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8"/>
          <p:cNvSpPr/>
          <p:nvPr/>
        </p:nvSpPr>
        <p:spPr>
          <a:xfrm>
            <a:off x="324000" y="35712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Учеба требует систематического напряжения, упорства, силы воли, психологического разви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Чтобы ученики как можно меньше сталкивались в школе с массой трудностей и неудач, и создаются эти занятия, которые мы называем подготовкой к обучению в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8"/>
          <p:cNvSpPr/>
          <p:nvPr/>
        </p:nvSpPr>
        <p:spPr>
          <a:xfrm>
            <a:off x="250920" y="92880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Для готовности к школьному обучению 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не имеет значения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умеет ли ребенок читать или счит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Но есть вещи, </a:t>
            </a:r>
            <a:r>
              <a:rPr b="0" lang="ru-RU" sz="3600" spc="-1" strike="noStrike">
                <a:solidFill>
                  <a:srgbClr val="052e65"/>
                </a:solidFill>
                <a:latin typeface="Arial"/>
                <a:ea typeface="Arial"/>
              </a:rPr>
              <a:t>принципиальные для учебы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в школ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Какие ж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C:\Users\user\Desktop\Учебный процесс\картинки о школе\2655146.gif"/>
          <p:cNvPicPr/>
          <p:nvPr/>
        </p:nvPicPr>
        <p:blipFill>
          <a:blip r:embed="rId2"/>
          <a:stretch/>
        </p:blipFill>
        <p:spPr>
          <a:xfrm>
            <a:off x="5076720" y="2781360"/>
            <a:ext cx="31384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8"/>
          <p:cNvSpPr/>
          <p:nvPr/>
        </p:nvSpPr>
        <p:spPr>
          <a:xfrm>
            <a:off x="324000" y="92880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Учиться управлять своим поведением, знать границы дозволенн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Жить и общаться в детском коллекти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Иметь простейшие навыки самообслужи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Картинка 348 из 9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70520" y="4508640"/>
            <a:ext cx="2487600" cy="234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8"/>
          <p:cNvSpPr/>
          <p:nvPr/>
        </p:nvSpPr>
        <p:spPr>
          <a:xfrm>
            <a:off x="357120" y="285840"/>
            <a:ext cx="7572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зн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1. Свое имя, отчество и фамили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2. Свой возраст (дату рождения, число и месяц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3. Домашний адрес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4.Город, в котором живе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5. Название своей стран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6. Фамилию, имя и отчество родителей и их професс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357120" y="285840"/>
            <a:ext cx="757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зн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7.Простейшие пространственные и временные представления (времена года, месяцы, дни недели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8.Названия домашних и диких животных, их детеныш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9.Транспор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1:57:15Z</dcterms:created>
  <dc:creator>1</dc:creator>
  <dc:description/>
  <dc:language>en-US</dc:language>
  <cp:lastModifiedBy>1</cp:lastModifiedBy>
  <dcterms:modified xsi:type="dcterms:W3CDTF">2017-09-13T05:33:07Z</dcterms:modified>
  <cp:revision>79</cp:revision>
  <dc:subject/>
  <dc:title>Почему не каждому дается грамота?</dc:title>
</cp:coreProperties>
</file>