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4CE-8836-4C53-81D1-A3BB882D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A2C-5340-4507-814D-C8B4A50B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8EE-425B-42DD-B3B0-E80A03DF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7AB-5B96-49EC-81FB-69265CF7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F3B1-5EAF-4C6E-A1FE-525F3ACA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AB5C-655B-4E13-B185-00B4793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4D3F-AA25-4C00-B6B5-0B996CA3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7253-9536-46E6-B3B0-004D4E2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CED8-EA97-4DBF-9D70-4DC0CB52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6C5A-EB4F-47F0-9C07-F4EC7732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1195-130F-4D6E-9679-207C719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2C8-82B7-467A-94C7-E5856126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42A8-E331-44D7-B959-07530D87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DDEF-E41B-4C91-AB6A-2BBC2152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0D0-3FA4-441C-AB10-C5A09AA2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9969-AB57-434D-AB30-4D97977F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19DA-5FD2-4632-8E34-E5E17434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3873-CDD1-4338-9798-58063B92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E29E-32D0-4B0A-BEC6-64DA980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91B6-672E-4924-A921-1F3E0148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00FA8-9F60-43A7-9399-F8F09E6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6123-6097-4307-A995-BDEE3CDD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EF0-BC29-4935-861A-D5068689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C41E-BBA0-471C-8D95-0D65BF6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3234-FBCC-4385-9EE9-7E49E79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40B2-A15A-4691-99D3-6EAD3FDE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5099-791A-42F0-8EB0-8131058D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7DE8-0DF0-406C-A1B0-07008CE6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3B87-75FB-47FA-97B5-F6664F5E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66B6-8D68-42CA-853C-D3C2F12D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4FAD-11BA-47A0-9EE8-71D47DB9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DA5E6-4E7C-40B7-9095-4857818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8E8B-9B33-44E5-92B6-6AE1283E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AB0-87A3-4B1C-8322-D86A10A8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CB5F-EC07-4544-B3FB-4BD9F065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65612-FDDE-4256-8979-21D232D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B6E0-0964-4EFF-A980-D227A2CC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1018D-9F58-4671-B500-AA1CC41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4F3F0-3E12-462A-A63A-2CC69C8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27CF-867E-4F12-980B-84B8B78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D877D-2EDD-42D8-9C31-1958C26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2EB3-66C2-4DD7-9A52-5B207878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A8156-62B8-432D-A587-E9D7740B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32FFE-AA7F-4036-AABD-01E935A6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FA6-C624-4D6B-9A5C-2D8A994D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5622F-7D67-49E6-AF03-EAC97C5B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D1B4C-DB66-4211-93CD-B097D434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D5C6-AEB8-4F27-AE89-4EE42CC4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8EDC-CC00-4C9A-9E9D-41DE5F5E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C3B13-A2C7-435F-8FB7-DA2C8A64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094E8-44C2-4496-8458-962651CE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1376B-3F2B-49F4-9CF3-B1814999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ABD9A-FC68-4824-B03C-9586D7CC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7C7D-4168-4A11-8223-1B16C197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6BC20-05B8-4AC8-A9EE-DB1E5C77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C3D-AC2F-4BC0-BDD4-68366997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36C2F-9D45-4101-87DE-56918AC6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00CB-DC48-48FF-8C56-86A05608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D040-1C48-40AF-902B-A3671C58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A85E-D880-4546-947A-CC301034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4556F-69B8-4C33-9423-B8234B4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02918-733B-4B88-BE33-B2DD83D8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48CAD-558E-4C9F-A095-647E84DF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68576-7BB2-4288-9B9F-B836AD0C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84C9-78D9-4705-A4BA-9F373B0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C4369-23DE-4B47-AAED-6377046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C662-E8F2-40D8-8CDC-5AA98B6F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4EEA3-2277-4D28-B323-A77AF340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1632D-5C98-4152-8635-2E3D6CEB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76E1D-DA7E-410C-8638-D7082EF4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A053B-703E-4495-921B-98E89133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A056F-5B46-4CAB-ABDC-1EB67B4E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E7864-7B5E-4655-864C-7EF42A0D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7F6EF-AC60-4ACA-BCC4-12E330C0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A24B2-94D7-4D4F-BDA3-3909BF10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6432E-B5D8-4EA5-9005-C9AC3457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E83B8-56BB-4681-A21D-D9DE33F8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C6F-4108-4CED-8FCF-8A9CA947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6ABA-06EE-4175-B017-627B158E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536A4-7762-4094-B864-22FE675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06FCC-5604-4E69-9E7D-78C109EB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B6D5C-4E25-435B-9536-7514340A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5EB9-5F15-49F6-8C65-485034D7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DD0-6C42-4F8E-ABCE-A00D40F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B888-7E03-4055-939F-8E3862D7A00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EA1E-553E-40E4-A29E-3C51100D53B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9EC7-7636-4117-A808-DC3894CFA6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7149-23C6-4173-9B26-9E781B7131D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B682-CF51-4A75-A3FE-5BB6E587E18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4E6D-45A1-4BD3-A60E-2570403797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1C11-F548-482A-9C2D-C16C397046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50pr-erino-school.edusite.ru/images/051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785520"/>
            <a:ext cx="846144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Candara"/>
              </a:rPr>
              <a:t>Для чего нужна</a:t>
            </a:r>
            <a:br>
              <a:rPr sz="7200"/>
            </a:br>
            <a:r>
              <a:rPr b="1" lang="ru-RU" sz="7200" spc="-1" strike="noStrike">
                <a:solidFill>
                  <a:srgbClr val="cc0000"/>
                </a:solidFill>
                <a:latin typeface="Candara"/>
              </a:rPr>
              <a:t> </a:t>
            </a:r>
            <a:r>
              <a:rPr b="1" lang="ru-RU" sz="5400" spc="-1" strike="noStrike">
                <a:solidFill>
                  <a:srgbClr val="cc0000"/>
                </a:solidFill>
                <a:latin typeface="Candara"/>
              </a:rPr>
              <a:t>подготовка к школе?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14280" y="3357720"/>
            <a:ext cx="45720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Candara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8"/>
          <p:cNvSpPr/>
          <p:nvPr/>
        </p:nvSpPr>
        <p:spPr>
          <a:xfrm>
            <a:off x="357120" y="285840"/>
            <a:ext cx="8462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одежду, обувь, головные убо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зимующих и перелетных пт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овощи, фрукты и я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Уметь рассказывать сказки, читать наизусть стих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геометрические фигу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357120" y="285840"/>
            <a:ext cx="757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Свободно ориентироваться в пространстве (право-лево, верх-низ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Пересказывать прослушанный текст, составить рассказ по картин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C:\Users\user\Desktop\Учебный процесс\картинки о школе\чтение.jpg"/>
          <p:cNvPicPr/>
          <p:nvPr/>
        </p:nvPicPr>
        <p:blipFill>
          <a:blip r:embed="rId2"/>
          <a:stretch/>
        </p:blipFill>
        <p:spPr>
          <a:xfrm>
            <a:off x="5003640" y="3716280"/>
            <a:ext cx="364032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8"/>
          <p:cNvSpPr/>
          <p:nvPr/>
        </p:nvSpPr>
        <p:spPr>
          <a:xfrm>
            <a:off x="357120" y="285840"/>
            <a:ext cx="8462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личать гласные и согласные звуки и букв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Разделять слова на слоги (при помощи хлопк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Определять количество и последовательность звуков в слова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Владеть карандашом (обводить по контуру предметы, проводить линии без линейки и с линейк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357120" y="285840"/>
            <a:ext cx="75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Аккуратно штриховать карандашом, не выходя за контуры предме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- Свободно считать от 1 до 10 и об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6" descr="C:\Users\user\Desktop\Учебный процесс\картинки о школе\проект.jpg"/>
          <p:cNvPicPr/>
          <p:nvPr/>
        </p:nvPicPr>
        <p:blipFill>
          <a:blip r:embed="rId2"/>
          <a:stretch/>
        </p:blipFill>
        <p:spPr>
          <a:xfrm>
            <a:off x="4572000" y="3573360"/>
            <a:ext cx="2660760" cy="1943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428760" y="1518480"/>
            <a:ext cx="749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сихологическая готовность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интеллектуальную гото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тивационную готов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онально-волевую готов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готовность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оммуникативную готов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1"/>
          <p:cNvSpPr/>
          <p:nvPr/>
        </p:nvSpPr>
        <p:spPr>
          <a:xfrm>
            <a:off x="1643040" y="1571760"/>
            <a:ext cx="6000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теллектуальная готов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1"/>
          <p:cNvSpPr/>
          <p:nvPr/>
        </p:nvSpPr>
        <p:spPr>
          <a:xfrm>
            <a:off x="1428840" y="1785960"/>
            <a:ext cx="664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отивационная готовность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разумевает наличие у ребенка желания принять новую социальную роль — роль шк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2"/>
          <p:cNvSpPr/>
          <p:nvPr/>
        </p:nvSpPr>
        <p:spPr>
          <a:xfrm>
            <a:off x="1357200" y="1143000"/>
            <a:ext cx="64296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олев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наличие у ребенка: Способностей ставить перед собой цель, Принять решение о начале деятельности, Наметить план действий, Выполнить его, проявив определенные усилия, Оценить результат своей деятельности, А также умения длительно выполнять не очень привлекательную работу. 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1143000" y="1428840"/>
            <a:ext cx="69292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оммуникативная готовность: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умении ребенка подчинять свое поведение законам детских групп и нормам поведения, установленным в обществе. 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1643040" y="1857240"/>
            <a:ext cx="5929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мните, ребёнок должен быть уверен в том, что, отличник или двоечник, он всё равно для вас самый любимый! Поддержите своих детей, проявите к ним максимум внима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395280" y="6429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Уже совсем скоро наступит первый для Вашего ребенка учебный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С большим волнением Вы проводите  таких ещё маленьких и беззащитных малышей в шко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Что их ждет вперед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Как и что нужно сделать, чтобы первые дни в школе не стали самым грустным воспоминанием в жизни ребёнка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7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«Быть готовым к школе не значит уметь читать, писать и считать .Быть готовым к школе –значит быть готовым всему этаму научится»  Венгер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571680" y="7858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   </a:t>
            </a: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4"/>
          <p:cNvSpPr/>
          <p:nvPr/>
        </p:nvSpPr>
        <p:spPr>
          <a:xfrm>
            <a:off x="928800" y="2858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ndar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C:\Users\user\Desktop\Учебный процесс\картинки о школе\солнышко.jpeg"/>
          <p:cNvPicPr/>
          <p:nvPr/>
        </p:nvPicPr>
        <p:blipFill>
          <a:blip r:embed="rId2"/>
          <a:stretch/>
        </p:blipFill>
        <p:spPr>
          <a:xfrm>
            <a:off x="1619280" y="1989000"/>
            <a:ext cx="5905440" cy="3854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571680" y="0"/>
            <a:ext cx="81770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Многие считают, что если родители заранее обучали малыша чтению, счету, письму, то их ребенок, готов к 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C:\Users\user\Desktop\Учебный процесс\картинки о школе\165_large.gif"/>
          <p:cNvPicPr/>
          <p:nvPr/>
        </p:nvPicPr>
        <p:blipFill>
          <a:blip r:embed="rId2"/>
          <a:stretch/>
        </p:blipFill>
        <p:spPr>
          <a:xfrm>
            <a:off x="4140360" y="2986200"/>
            <a:ext cx="3213000" cy="3300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"/>
          <p:cNvSpPr/>
          <p:nvPr/>
        </p:nvSpPr>
        <p:spPr>
          <a:xfrm>
            <a:off x="3203640" y="1785960"/>
            <a:ext cx="5440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На самом деле не доигравший ребенок - это большая проблема  для учителя и сплошные учебные проблемы для самого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C:\Users\user\Desktop\Учебный процесс\картинки о школе\ученик и матем.jpg"/>
          <p:cNvPicPr/>
          <p:nvPr/>
        </p:nvPicPr>
        <p:blipFill>
          <a:blip r:embed="rId2"/>
          <a:stretch/>
        </p:blipFill>
        <p:spPr>
          <a:xfrm>
            <a:off x="696960" y="2349360"/>
            <a:ext cx="23623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8"/>
          <p:cNvSpPr/>
          <p:nvPr/>
        </p:nvSpPr>
        <p:spPr>
          <a:xfrm>
            <a:off x="324000" y="35712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ndar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Учеба требует систематического напряжения, упорства, силы воли, психологического разви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Чтобы ученики как можно меньше сталкивались в школе с массой трудностей и неудач, и создаются эти занятия, которые мы называем подготовкой к обучению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8"/>
          <p:cNvSpPr/>
          <p:nvPr/>
        </p:nvSpPr>
        <p:spPr>
          <a:xfrm>
            <a:off x="250920" y="92880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Для готовности к школьному обучению </a:t>
            </a:r>
            <a:r>
              <a:rPr b="0" lang="ru-RU" sz="3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не имеет значения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 умеет ли ребенок читать или счита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Но есть вещи, </a:t>
            </a:r>
            <a:r>
              <a:rPr b="0" lang="ru-RU" sz="3600" spc="-1" strike="noStrike">
                <a:solidFill>
                  <a:srgbClr val="052e65"/>
                </a:solidFill>
                <a:latin typeface="Arial"/>
                <a:ea typeface="Arial"/>
              </a:rPr>
              <a:t>принципиальные для учебы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в шко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Какие ж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7" descr="C:\Users\user\Desktop\Учебный процесс\картинки о школе\2655146.gif"/>
          <p:cNvPicPr/>
          <p:nvPr/>
        </p:nvPicPr>
        <p:blipFill>
          <a:blip r:embed="rId2"/>
          <a:stretch/>
        </p:blipFill>
        <p:spPr>
          <a:xfrm>
            <a:off x="5076720" y="2781360"/>
            <a:ext cx="31384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8"/>
          <p:cNvSpPr/>
          <p:nvPr/>
        </p:nvSpPr>
        <p:spPr>
          <a:xfrm>
            <a:off x="324000" y="92880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Учиться управлять своим поведением, знать границы дозволенн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Жить и общаться в детском коллекти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Иметь простейшие навыки самообслужи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Картинка 348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70520" y="4508640"/>
            <a:ext cx="2487600" cy="234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8"/>
          <p:cNvSpPr/>
          <p:nvPr/>
        </p:nvSpPr>
        <p:spPr>
          <a:xfrm>
            <a:off x="357120" y="285840"/>
            <a:ext cx="7572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зн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1. Свое имя, отчество и фамили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2. Свой возраст (дату рождения, число и месяц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3. Домашний адрес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4.Город, в котором жив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5. Название своей стран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6. Фамилию, имя и отчество родителей и их професс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5"/>
          <p:cNvSpPr/>
          <p:nvPr/>
        </p:nvSpPr>
        <p:spPr>
          <a:xfrm>
            <a:off x="685800" y="3573360"/>
            <a:ext cx="3772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128592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ndar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4000680" y="1785960"/>
            <a:ext cx="464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8"/>
          <p:cNvSpPr/>
          <p:nvPr/>
        </p:nvSpPr>
        <p:spPr>
          <a:xfrm>
            <a:off x="357120" y="285840"/>
            <a:ext cx="757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Ребенок должен зн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7.Простейшие пространственные и временные представления (времена года, месяцы, дни недели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8.Названия домашних и диких животных, их детеныш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  <a:ea typeface="Arial"/>
              </a:rPr>
              <a:t>9.Транспор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1:57:15Z</dcterms:created>
  <dc:creator>1</dc:creator>
  <dc:description/>
  <dc:language>en-US</dc:language>
  <cp:lastModifiedBy>1</cp:lastModifiedBy>
  <dcterms:modified xsi:type="dcterms:W3CDTF">2017-09-13T05:33:07Z</dcterms:modified>
  <cp:revision>79</cp:revision>
  <dc:subject/>
  <dc:title>Почему не каждому дается грамота?</dc:title>
</cp:coreProperties>
</file>