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528-2798-4B2A-91E7-FAE8F5E6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73C-26B5-4F20-BED7-80FBEEDB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D2C-1821-49BF-A6D4-AA2CEDE4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F52-F5C8-4D0D-8604-880EA6B7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2A1-DA81-498D-AAD7-DAFC26D0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22A-3255-40ED-90B4-4F877724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68D-ACB8-449D-B59B-9E22412D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4A0-17F6-4713-BCA5-94B3D4CC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8AB-37C4-462B-B021-5E15234A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854-64B4-40F3-B639-D06C8EF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D92-8731-4E3B-9B5E-93650EC8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6D2-9352-47D0-AE06-D4739CF0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A7DA-F96D-4356-AFAD-4B2D062CF2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Муниципальн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но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общеобразовательн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Средняя общеобразовательная школ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4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33600" y="3740040"/>
          <a:ext cx="6076800" cy="24624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246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7199-8F14-4DA9-8214-4C98F4CEB3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050920" y="4941720"/>
          <a:ext cx="6697800" cy="459000"/>
        </p:xfrm>
        <a:graphic>
          <a:graphicData uri="http://schemas.openxmlformats.org/drawingml/2006/table">
            <a:tbl>
              <a:tblPr/>
              <a:tblGrid>
                <a:gridCol w="2540160"/>
                <a:gridCol w="4157640"/>
              </a:tblGrid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азработчик: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читель технологии Жарков Е.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2"/>
          <p:cNvSpPr/>
          <p:nvPr/>
        </p:nvSpPr>
        <p:spPr>
          <a:xfrm>
            <a:off x="606600" y="161352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ОЕКТНАЯ ДЕЯТЕ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НА УРОКАХ ТЕХНОЛОГИИ В УСЛОВИЯХ 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4"/>
          <p:cNvSpPr/>
          <p:nvPr/>
        </p:nvSpPr>
        <p:spPr>
          <a:xfrm>
            <a:off x="2916360" y="5950080"/>
            <a:ext cx="3456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вокузнецк, 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ные характерис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25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емпературе воздуха 20-25 градусов 0,650 литра воды можно вскипятить (до пузырьков) за 15 мин. двумя таблетками, 0,3 литра – одной таблет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огрева можно использовать мелкие щепки или сосновые шишки, разложив на плите небольшой костерок, за 15 мин. удаётся вскипятить 0,2 литра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грева меньших ёмкостей можно перевернуть изделие и использовать обратную стор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74D4-6C85-491A-8E54-7F8F9B3BB4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 ЗАТРАТ НЕ ТРЕБУЕТСЯ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е простое, но принцип его работы может быть использован для разработки более сложных конструкц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ющих применение большего числа горючих материал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х регулировку интенсивности гор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данном изделии не реализова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E783-A858-4CF5-9A36-5714CB81C2E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9280" y="475920"/>
            <a:ext cx="8147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часто бываем на природе и даже если в наши планы не входит приготовление барбекю или шашлыков, всё равно любим там поесть, но не всегда у нас есть возможность развести костёр для того, чтобы разогреть пищу (банку консервов) или вскипятить воду и приготовить что-либо (продукты быстрого приготовления, ча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реш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портативного (переносного) разогрева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4535-B55D-49BC-B25E-F9893F5921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C586-0156-4C80-A17C-098C8C31ED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55640" y="46080"/>
            <a:ext cx="68119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изделию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е (1 кг) и устойчивое (4 лепестк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ёжное (пластичное, должно неоднократно раскладываться и складываться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опрочное (не должно прогорать и деформироваться, многоразовое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ое (полезное, удобно переноситься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е (не рвать одежду и т.д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чно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1481-7A0B-4A02-985A-83962C5A2D7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роект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езные хозяйственные вещи. Изготовление портативного разогрева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3"/>
          <p:cNvSpPr/>
          <p:nvPr/>
        </p:nvSpPr>
        <p:spPr>
          <a:xfrm>
            <a:off x="6539040" y="64310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9E75-101D-4E89-8D2C-9EFD9C2A70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авильный пятиугольник 11"/>
          <p:cNvSpPr/>
          <p:nvPr/>
        </p:nvSpPr>
        <p:spPr>
          <a:xfrm>
            <a:off x="4624560" y="422280"/>
            <a:ext cx="1881000" cy="147312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араллелограмм 12"/>
          <p:cNvSpPr/>
          <p:nvPr/>
        </p:nvSpPr>
        <p:spPr>
          <a:xfrm>
            <a:off x="4408560" y="1895400"/>
            <a:ext cx="595080" cy="84780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араллелограмм 13"/>
          <p:cNvSpPr/>
          <p:nvPr/>
        </p:nvSpPr>
        <p:spPr>
          <a:xfrm rot="15322800">
            <a:off x="5972040" y="2104560"/>
            <a:ext cx="974520" cy="428400"/>
          </a:xfrm>
          <a:prstGeom prst="parallelogram">
            <a:avLst>
              <a:gd name="adj" fmla="val 25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3025800" y="404640"/>
            <a:ext cx="4854600" cy="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араллелограмм 21"/>
          <p:cNvSpPr/>
          <p:nvPr/>
        </p:nvSpPr>
        <p:spPr>
          <a:xfrm rot="5704800">
            <a:off x="3432960" y="688320"/>
            <a:ext cx="1409760" cy="985680"/>
          </a:xfrm>
          <a:prstGeom prst="parallelogram">
            <a:avLst>
              <a:gd name="adj" fmla="val 1338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араллелограмм 22"/>
          <p:cNvSpPr/>
          <p:nvPr/>
        </p:nvSpPr>
        <p:spPr>
          <a:xfrm rot="9344400">
            <a:off x="6294240" y="685440"/>
            <a:ext cx="1449360" cy="982800"/>
          </a:xfrm>
          <a:prstGeom prst="parallelogram">
            <a:avLst>
              <a:gd name="adj" fmla="val 1337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0"/>
          <p:cNvSpPr/>
          <p:nvPr/>
        </p:nvSpPr>
        <p:spPr>
          <a:xfrm>
            <a:off x="4519440" y="4506840"/>
            <a:ext cx="2054520" cy="1946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авильный пятиугольник 27"/>
          <p:cNvSpPr/>
          <p:nvPr/>
        </p:nvSpPr>
        <p:spPr>
          <a:xfrm>
            <a:off x="4745160" y="2406600"/>
            <a:ext cx="1641240" cy="210024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ерхний лепе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авильный пятиугольник 29"/>
          <p:cNvSpPr/>
          <p:nvPr/>
        </p:nvSpPr>
        <p:spPr>
          <a:xfrm rot="5400000">
            <a:off x="6802200" y="4430880"/>
            <a:ext cx="1641240" cy="209844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0"/>
          <p:cNvSpPr/>
          <p:nvPr/>
        </p:nvSpPr>
        <p:spPr>
          <a:xfrm>
            <a:off x="5583240" y="2406600"/>
            <a:ext cx="3089160" cy="3073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33796"/>
          <p:cNvSpPr/>
          <p:nvPr/>
        </p:nvSpPr>
        <p:spPr>
          <a:xfrm>
            <a:off x="6072120" y="4506840"/>
            <a:ext cx="501840" cy="46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авильный пятиугольник 38"/>
          <p:cNvSpPr/>
          <p:nvPr/>
        </p:nvSpPr>
        <p:spPr>
          <a:xfrm rot="5400000">
            <a:off x="6802200" y="4430880"/>
            <a:ext cx="1641240" cy="209844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авильный пятиугольник 39"/>
          <p:cNvSpPr/>
          <p:nvPr/>
        </p:nvSpPr>
        <p:spPr>
          <a:xfrm rot="16200000">
            <a:off x="2669040" y="4449960"/>
            <a:ext cx="1600200" cy="210024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3799"/>
          <p:cNvSpPr/>
          <p:nvPr/>
        </p:nvSpPr>
        <p:spPr>
          <a:xfrm flipV="1">
            <a:off x="2419200" y="2406240"/>
            <a:ext cx="3146400" cy="309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3822"/>
          <p:cNvSpPr/>
          <p:nvPr/>
        </p:nvSpPr>
        <p:spPr>
          <a:xfrm flipV="1">
            <a:off x="4475160" y="4525560"/>
            <a:ext cx="53820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процесс 35"/>
          <p:cNvSpPr/>
          <p:nvPr/>
        </p:nvSpPr>
        <p:spPr>
          <a:xfrm rot="18855000">
            <a:off x="3749400" y="3890520"/>
            <a:ext cx="988920" cy="620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жний лепе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роцесс 70"/>
          <p:cNvSpPr/>
          <p:nvPr/>
        </p:nvSpPr>
        <p:spPr>
          <a:xfrm rot="2827800">
            <a:off x="6342480" y="3886920"/>
            <a:ext cx="988920" cy="6224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жний лепе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узел 36"/>
          <p:cNvSpPr/>
          <p:nvPr/>
        </p:nvSpPr>
        <p:spPr>
          <a:xfrm flipV="1">
            <a:off x="4449600" y="4950000"/>
            <a:ext cx="123840" cy="1188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узел 72"/>
          <p:cNvSpPr/>
          <p:nvPr/>
        </p:nvSpPr>
        <p:spPr>
          <a:xfrm flipV="1">
            <a:off x="4986360" y="4448160"/>
            <a:ext cx="125280" cy="1173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узел 73"/>
          <p:cNvSpPr/>
          <p:nvPr/>
        </p:nvSpPr>
        <p:spPr>
          <a:xfrm flipV="1">
            <a:off x="6031080" y="4448160"/>
            <a:ext cx="125280" cy="1173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узел 74"/>
          <p:cNvSpPr/>
          <p:nvPr/>
        </p:nvSpPr>
        <p:spPr>
          <a:xfrm flipV="1">
            <a:off x="6510240" y="4906080"/>
            <a:ext cx="125640" cy="1191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узел 75"/>
          <p:cNvSpPr/>
          <p:nvPr/>
        </p:nvSpPr>
        <p:spPr>
          <a:xfrm flipV="1">
            <a:off x="4433760" y="5946840"/>
            <a:ext cx="125640" cy="1173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узел 76"/>
          <p:cNvSpPr/>
          <p:nvPr/>
        </p:nvSpPr>
        <p:spPr>
          <a:xfrm flipV="1">
            <a:off x="6518160" y="5917320"/>
            <a:ext cx="125640" cy="1191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процесс 90"/>
          <p:cNvSpPr/>
          <p:nvPr/>
        </p:nvSpPr>
        <p:spPr>
          <a:xfrm rot="18855000">
            <a:off x="3749400" y="3890520"/>
            <a:ext cx="988920" cy="620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жний лепе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процесс 92"/>
          <p:cNvSpPr/>
          <p:nvPr/>
        </p:nvSpPr>
        <p:spPr>
          <a:xfrm rot="18855000">
            <a:off x="3749400" y="3890520"/>
            <a:ext cx="988920" cy="620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жний лепе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процесс 94"/>
          <p:cNvSpPr/>
          <p:nvPr/>
        </p:nvSpPr>
        <p:spPr>
          <a:xfrm>
            <a:off x="3152880" y="6329520"/>
            <a:ext cx="1765080" cy="377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граничитель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51"/>
          <p:cNvCxnSpPr/>
          <p:nvPr/>
        </p:nvCxnSpPr>
        <p:spPr>
          <a:xfrm flipV="1">
            <a:off x="4408560" y="6063480"/>
            <a:ext cx="4176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53"/>
          <p:cNvCxnSpPr/>
          <p:nvPr/>
        </p:nvCxnSpPr>
        <p:spPr>
          <a:xfrm flipV="1">
            <a:off x="4624560" y="6497280"/>
            <a:ext cx="357840" cy="1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рямоугольник 57"/>
          <p:cNvSpPr/>
          <p:nvPr/>
        </p:nvSpPr>
        <p:spPr>
          <a:xfrm>
            <a:off x="5060880" y="9360"/>
            <a:ext cx="36036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3"/>
          <p:cNvSpPr/>
          <p:nvPr/>
        </p:nvSpPr>
        <p:spPr>
          <a:xfrm>
            <a:off x="7589880" y="1908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6"/>
          <p:cNvSpPr/>
          <p:nvPr/>
        </p:nvSpPr>
        <p:spPr>
          <a:xfrm>
            <a:off x="5200560" y="1927080"/>
            <a:ext cx="360360" cy="4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7"/>
          <p:cNvSpPr/>
          <p:nvPr/>
        </p:nvSpPr>
        <p:spPr>
          <a:xfrm>
            <a:off x="6767640" y="189540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60"/>
          <p:cNvSpPr/>
          <p:nvPr/>
        </p:nvSpPr>
        <p:spPr>
          <a:xfrm flipH="1">
            <a:off x="5565240" y="442800"/>
            <a:ext cx="3240" cy="1452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14"/>
          <p:cNvSpPr/>
          <p:nvPr/>
        </p:nvSpPr>
        <p:spPr>
          <a:xfrm flipH="1">
            <a:off x="5600520" y="441360"/>
            <a:ext cx="1841400" cy="0"/>
          </a:xfrm>
          <a:prstGeom prst="line">
            <a:avLst/>
          </a:prstGeom>
          <a:ln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8"/>
          <p:cNvSpPr/>
          <p:nvPr/>
        </p:nvSpPr>
        <p:spPr>
          <a:xfrm>
            <a:off x="6556320" y="295596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9"/>
          <p:cNvSpPr/>
          <p:nvPr/>
        </p:nvSpPr>
        <p:spPr>
          <a:xfrm>
            <a:off x="8661240" y="490680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0"/>
          <p:cNvSpPr/>
          <p:nvPr/>
        </p:nvSpPr>
        <p:spPr>
          <a:xfrm>
            <a:off x="5388120" y="2624040"/>
            <a:ext cx="360360" cy="4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68"/>
          <p:cNvSpPr/>
          <p:nvPr/>
        </p:nvSpPr>
        <p:spPr>
          <a:xfrm>
            <a:off x="2408400" y="5500800"/>
            <a:ext cx="279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25"/>
          <p:cNvSpPr/>
          <p:nvPr/>
        </p:nvSpPr>
        <p:spPr>
          <a:xfrm>
            <a:off x="5880240" y="5479920"/>
            <a:ext cx="279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26"/>
          <p:cNvSpPr/>
          <p:nvPr/>
        </p:nvSpPr>
        <p:spPr>
          <a:xfrm flipV="1">
            <a:off x="2419200" y="2406240"/>
            <a:ext cx="3146400" cy="309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29"/>
          <p:cNvSpPr/>
          <p:nvPr/>
        </p:nvSpPr>
        <p:spPr>
          <a:xfrm flipV="1">
            <a:off x="6143760" y="6019560"/>
            <a:ext cx="412560" cy="3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31"/>
          <p:cNvSpPr/>
          <p:nvPr/>
        </p:nvSpPr>
        <p:spPr>
          <a:xfrm>
            <a:off x="4557600" y="6054840"/>
            <a:ext cx="447840" cy="39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45"/>
          <p:cNvSpPr/>
          <p:nvPr/>
        </p:nvSpPr>
        <p:spPr>
          <a:xfrm>
            <a:off x="2048040" y="506880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6"/>
          <p:cNvSpPr/>
          <p:nvPr/>
        </p:nvSpPr>
        <p:spPr>
          <a:xfrm>
            <a:off x="7880400" y="421632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99"/>
          <p:cNvSpPr/>
          <p:nvPr/>
        </p:nvSpPr>
        <p:spPr>
          <a:xfrm>
            <a:off x="6386400" y="3209760"/>
            <a:ext cx="1484280" cy="144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авильный пятиугольник 149"/>
          <p:cNvSpPr/>
          <p:nvPr/>
        </p:nvSpPr>
        <p:spPr>
          <a:xfrm rot="10800000">
            <a:off x="4762440" y="6470640"/>
            <a:ext cx="1641600" cy="47304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150"/>
          <p:cNvSpPr/>
          <p:nvPr/>
        </p:nvSpPr>
        <p:spPr>
          <a:xfrm flipV="1">
            <a:off x="6045120" y="6409440"/>
            <a:ext cx="125640" cy="1191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узел 151"/>
          <p:cNvSpPr/>
          <p:nvPr/>
        </p:nvSpPr>
        <p:spPr>
          <a:xfrm flipV="1">
            <a:off x="4986360" y="6427080"/>
            <a:ext cx="125280" cy="1191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08"/>
          <p:cNvSpPr/>
          <p:nvPr/>
        </p:nvSpPr>
        <p:spPr>
          <a:xfrm>
            <a:off x="5587920" y="1895400"/>
            <a:ext cx="10479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11"/>
          <p:cNvSpPr/>
          <p:nvPr/>
        </p:nvSpPr>
        <p:spPr>
          <a:xfrm flipH="1">
            <a:off x="6509880" y="460440"/>
            <a:ext cx="33480" cy="1482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Объект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3024360" cy="63532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4"/>
          <p:cNvSpPr/>
          <p:nvPr/>
        </p:nvSpPr>
        <p:spPr>
          <a:xfrm>
            <a:off x="6129360" y="23760"/>
            <a:ext cx="708120" cy="30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й рисунок издел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C520-6E6D-4F51-8CC6-5CDDE930A90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2340000" y="1197000"/>
            <a:ext cx="5327640" cy="525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V="1">
            <a:off x="2340000" y="1197000"/>
            <a:ext cx="5327640" cy="525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1"/>
          <p:cNvSpPr/>
          <p:nvPr/>
        </p:nvSpPr>
        <p:spPr>
          <a:xfrm>
            <a:off x="2340000" y="1193760"/>
            <a:ext cx="5327640" cy="525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13"/>
          <p:cNvSpPr/>
          <p:nvPr/>
        </p:nvSpPr>
        <p:spPr>
          <a:xfrm>
            <a:off x="4140360" y="1197000"/>
            <a:ext cx="1726920" cy="525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5"/>
          <p:cNvSpPr/>
          <p:nvPr/>
        </p:nvSpPr>
        <p:spPr>
          <a:xfrm flipV="1">
            <a:off x="4140360" y="1196640"/>
            <a:ext cx="1726920" cy="525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7"/>
          <p:cNvSpPr/>
          <p:nvPr/>
        </p:nvSpPr>
        <p:spPr>
          <a:xfrm>
            <a:off x="2340000" y="2997360"/>
            <a:ext cx="5327640" cy="16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1"/>
          <p:cNvSpPr/>
          <p:nvPr/>
        </p:nvSpPr>
        <p:spPr>
          <a:xfrm flipH="1">
            <a:off x="2339640" y="2997360"/>
            <a:ext cx="5327640" cy="16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3"/>
          <p:cNvSpPr/>
          <p:nvPr/>
        </p:nvSpPr>
        <p:spPr>
          <a:xfrm flipH="1">
            <a:off x="1692360" y="1197000"/>
            <a:ext cx="50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5"/>
          <p:cNvSpPr/>
          <p:nvPr/>
        </p:nvSpPr>
        <p:spPr>
          <a:xfrm flipH="1">
            <a:off x="1692360" y="2997360"/>
            <a:ext cx="50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28"/>
          <p:cNvCxnSpPr/>
          <p:nvPr/>
        </p:nvCxnSpPr>
        <p:spPr>
          <a:xfrm>
            <a:off x="1834920" y="1196640"/>
            <a:ext cx="1080" cy="180108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9" name="Прямоугольник 30"/>
          <p:cNvSpPr/>
          <p:nvPr/>
        </p:nvSpPr>
        <p:spPr>
          <a:xfrm>
            <a:off x="2762280" y="4871880"/>
            <a:ext cx="503280" cy="287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4"/>
          <p:cNvSpPr/>
          <p:nvPr/>
        </p:nvSpPr>
        <p:spPr>
          <a:xfrm rot="16200000">
            <a:off x="7848720" y="3678120"/>
            <a:ext cx="50328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5"/>
          <p:cNvSpPr/>
          <p:nvPr/>
        </p:nvSpPr>
        <p:spPr>
          <a:xfrm>
            <a:off x="6480000" y="2478240"/>
            <a:ext cx="50508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6"/>
          <p:cNvSpPr/>
          <p:nvPr/>
        </p:nvSpPr>
        <p:spPr>
          <a:xfrm rot="16200000">
            <a:off x="1437480" y="1953360"/>
            <a:ext cx="50472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37"/>
          <p:cNvSpPr/>
          <p:nvPr/>
        </p:nvSpPr>
        <p:spPr>
          <a:xfrm>
            <a:off x="3743280" y="2570040"/>
            <a:ext cx="2521080" cy="251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Прямая со стрелкой 39"/>
          <p:cNvCxnSpPr/>
          <p:nvPr/>
        </p:nvCxnSpPr>
        <p:spPr>
          <a:xfrm flipV="1">
            <a:off x="5003640" y="2780640"/>
            <a:ext cx="721440" cy="1043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5" name="Прямая соединительная линия 43"/>
          <p:cNvSpPr/>
          <p:nvPr/>
        </p:nvSpPr>
        <p:spPr>
          <a:xfrm flipH="1">
            <a:off x="5724000" y="2781360"/>
            <a:ext cx="1511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51"/>
          <p:cNvSpPr/>
          <p:nvPr/>
        </p:nvSpPr>
        <p:spPr>
          <a:xfrm>
            <a:off x="7812000" y="1197000"/>
            <a:ext cx="576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53"/>
          <p:cNvSpPr/>
          <p:nvPr/>
        </p:nvSpPr>
        <p:spPr>
          <a:xfrm>
            <a:off x="7812000" y="6453360"/>
            <a:ext cx="576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55"/>
          <p:cNvCxnSpPr/>
          <p:nvPr/>
        </p:nvCxnSpPr>
        <p:spPr>
          <a:xfrm>
            <a:off x="8316720" y="1193400"/>
            <a:ext cx="1080" cy="525672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9" name="Прямая соединительная линия 34845"/>
          <p:cNvSpPr/>
          <p:nvPr/>
        </p:nvSpPr>
        <p:spPr>
          <a:xfrm flipV="1">
            <a:off x="2987640" y="1699920"/>
            <a:ext cx="2376360" cy="230508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34847"/>
          <p:cNvSpPr/>
          <p:nvPr/>
        </p:nvSpPr>
        <p:spPr>
          <a:xfrm>
            <a:off x="4721400" y="1700280"/>
            <a:ext cx="2514600" cy="262872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34849"/>
          <p:cNvSpPr/>
          <p:nvPr/>
        </p:nvSpPr>
        <p:spPr>
          <a:xfrm flipV="1">
            <a:off x="4737240" y="3603600"/>
            <a:ext cx="2261880" cy="226224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34851"/>
          <p:cNvSpPr/>
          <p:nvPr/>
        </p:nvSpPr>
        <p:spPr>
          <a:xfrm>
            <a:off x="2987640" y="3587760"/>
            <a:ext cx="2351160" cy="240840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узел 115"/>
          <p:cNvSpPr/>
          <p:nvPr/>
        </p:nvSpPr>
        <p:spPr>
          <a:xfrm flipV="1">
            <a:off x="6300720" y="3369600"/>
            <a:ext cx="123840" cy="11916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узел 117"/>
          <p:cNvSpPr/>
          <p:nvPr/>
        </p:nvSpPr>
        <p:spPr>
          <a:xfrm flipV="1">
            <a:off x="4500720" y="2451240"/>
            <a:ext cx="123840" cy="11880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узел 118"/>
          <p:cNvSpPr/>
          <p:nvPr/>
        </p:nvSpPr>
        <p:spPr>
          <a:xfrm flipV="1">
            <a:off x="3552840" y="4210200"/>
            <a:ext cx="125280" cy="11880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лок-схема: узел 119"/>
          <p:cNvSpPr/>
          <p:nvPr/>
        </p:nvSpPr>
        <p:spPr>
          <a:xfrm flipV="1">
            <a:off x="4498920" y="5157000"/>
            <a:ext cx="125640" cy="11916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лок-схема: узел 120"/>
          <p:cNvSpPr/>
          <p:nvPr/>
        </p:nvSpPr>
        <p:spPr>
          <a:xfrm flipV="1">
            <a:off x="6305400" y="4210200"/>
            <a:ext cx="125640" cy="11880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лок-схема: узел 121"/>
          <p:cNvSpPr/>
          <p:nvPr/>
        </p:nvSpPr>
        <p:spPr>
          <a:xfrm flipV="1">
            <a:off x="5380200" y="2432880"/>
            <a:ext cx="123840" cy="11916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560760" y="3317760"/>
            <a:ext cx="146160" cy="133560"/>
          </a:xfrm>
          <a:prstGeom prst="rect">
            <a:avLst/>
          </a:prstGeom>
          <a:ln w="0">
            <a:noFill/>
          </a:ln>
        </p:spPr>
      </p:pic>
      <p:sp>
        <p:nvSpPr>
          <p:cNvPr id="140" name="Блок-схема: узел 125"/>
          <p:cNvSpPr/>
          <p:nvPr/>
        </p:nvSpPr>
        <p:spPr>
          <a:xfrm flipV="1">
            <a:off x="5380200" y="5114160"/>
            <a:ext cx="123840" cy="11916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34869"/>
          <p:cNvSpPr/>
          <p:nvPr/>
        </p:nvSpPr>
        <p:spPr>
          <a:xfrm>
            <a:off x="4140360" y="1197000"/>
            <a:ext cx="422280" cy="13129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28"/>
          <p:cNvSpPr/>
          <p:nvPr/>
        </p:nvSpPr>
        <p:spPr>
          <a:xfrm flipH="1">
            <a:off x="5425920" y="1197000"/>
            <a:ext cx="441360" cy="13129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30"/>
          <p:cNvSpPr/>
          <p:nvPr/>
        </p:nvSpPr>
        <p:spPr>
          <a:xfrm flipV="1">
            <a:off x="6369120" y="3014280"/>
            <a:ext cx="1298520" cy="4064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31"/>
          <p:cNvSpPr/>
          <p:nvPr/>
        </p:nvSpPr>
        <p:spPr>
          <a:xfrm flipH="1" flipV="1">
            <a:off x="2339640" y="2997360"/>
            <a:ext cx="1290600" cy="387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32"/>
          <p:cNvSpPr/>
          <p:nvPr/>
        </p:nvSpPr>
        <p:spPr>
          <a:xfrm flipH="1">
            <a:off x="2339640" y="4270320"/>
            <a:ext cx="1276200" cy="392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33"/>
          <p:cNvSpPr/>
          <p:nvPr/>
        </p:nvSpPr>
        <p:spPr>
          <a:xfrm>
            <a:off x="6407280" y="4270320"/>
            <a:ext cx="1260360" cy="392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34"/>
          <p:cNvSpPr/>
          <p:nvPr/>
        </p:nvSpPr>
        <p:spPr>
          <a:xfrm flipH="1">
            <a:off x="4140360" y="5213520"/>
            <a:ext cx="420480" cy="12398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35"/>
          <p:cNvSpPr/>
          <p:nvPr/>
        </p:nvSpPr>
        <p:spPr>
          <a:xfrm>
            <a:off x="5445000" y="5167440"/>
            <a:ext cx="422280" cy="13125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04"/>
          <p:cNvSpPr/>
          <p:nvPr/>
        </p:nvSpPr>
        <p:spPr>
          <a:xfrm flipH="1">
            <a:off x="2688840" y="5173560"/>
            <a:ext cx="576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Прямая со стрелкой 108"/>
          <p:cNvCxnSpPr/>
          <p:nvPr/>
        </p:nvCxnSpPr>
        <p:spPr>
          <a:xfrm flipV="1">
            <a:off x="3276360" y="4312800"/>
            <a:ext cx="340200" cy="845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Прямая соединительная линия 110"/>
          <p:cNvSpPr/>
          <p:nvPr/>
        </p:nvSpPr>
        <p:spPr>
          <a:xfrm flipV="1">
            <a:off x="3616200" y="4073400"/>
            <a:ext cx="90720" cy="25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14"/>
          <p:cNvSpPr/>
          <p:nvPr/>
        </p:nvSpPr>
        <p:spPr>
          <a:xfrm flipV="1">
            <a:off x="4624560" y="5173200"/>
            <a:ext cx="739440" cy="1764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26"/>
          <p:cNvSpPr/>
          <p:nvPr/>
        </p:nvSpPr>
        <p:spPr>
          <a:xfrm flipV="1">
            <a:off x="4624560" y="2494080"/>
            <a:ext cx="755640" cy="1584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9"/>
          <p:cNvSpPr/>
          <p:nvPr/>
        </p:nvSpPr>
        <p:spPr>
          <a:xfrm flipV="1">
            <a:off x="3633840" y="3451320"/>
            <a:ext cx="0" cy="75096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38"/>
          <p:cNvSpPr/>
          <p:nvPr/>
        </p:nvSpPr>
        <p:spPr>
          <a:xfrm flipH="1" flipV="1">
            <a:off x="6362640" y="3489480"/>
            <a:ext cx="6480" cy="72072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72"/>
          <p:cNvSpPr/>
          <p:nvPr/>
        </p:nvSpPr>
        <p:spPr>
          <a:xfrm rot="4399200">
            <a:off x="5202720" y="5650200"/>
            <a:ext cx="133020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 разр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и инстр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о листовое оцинкованное (1-2 мм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измерительного и чертёжного; инструмента (угольник, циркуль, карандаш, чертилка, ластик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 по металл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льник, надфил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губц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ёрнер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ль со сверло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ки настольны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E440-D650-48AF-AE8E-0AEDD3F33A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изготовления издел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ряем и вырезаем заготовку (+ 1 мм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атываем заготовку до нужного размера (106 х 106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чаем заготовк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ерняем места ограничительных отверст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лим сквозные отверстия 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4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чиваем линии разрез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ем лепест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ибаем издел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атыва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4D07-45CA-4625-A9F7-A164B42B23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ние изде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6C26-80C6-4989-BFE0-5DAB6759D2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Users\Yana\Desktop\66q4InI8ZB8.jpg"/>
          <p:cNvPicPr/>
          <p:nvPr/>
        </p:nvPicPr>
        <p:blipFill>
          <a:blip r:embed="rId1"/>
          <a:stretch/>
        </p:blipFill>
        <p:spPr>
          <a:xfrm>
            <a:off x="762120" y="171936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9T11:45:45Z</dcterms:created>
  <dc:creator>Ирина</dc:creator>
  <dc:description/>
  <dc:language>en-US</dc:language>
  <cp:lastModifiedBy>Yana</cp:lastModifiedBy>
  <dcterms:modified xsi:type="dcterms:W3CDTF">2019-05-07T10:51:35Z</dcterms:modified>
  <cp:revision>79</cp:revision>
  <dc:subject/>
  <dc:title>Слайд 1</dc:title>
</cp:coreProperties>
</file>