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33C-D1D1-4F03-A653-E233F2DA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488-4C7A-4526-8519-91559F90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816-019E-461C-BEA9-57EEC534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75F-F610-4341-9819-9AB49ED3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5E0-C2E8-45EE-AF2D-1CF39417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589F-B8E7-41F6-AC35-B3F5F816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24F0-4ABA-42C6-901A-1C18E233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66C5-D008-4E11-A6CC-0020983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680-6D0A-4FFA-90F6-F935BA5C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C7D0-067F-4F2C-AB88-D932EAC6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2D38-0ED6-4812-B5B7-00A8D46C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DE1-563A-4D1B-AA29-898F29C6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79F8-0007-4DC8-A014-AD3C1F21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5FFA-7105-4F16-B4F8-9C35F8B2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E192-5237-4736-A6CF-8B7010F2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67F6-8C49-46B6-B2E7-5FB030A4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88FF-2258-4749-9772-35F460E4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D79-8784-4040-A741-41B7B733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E12-6776-4776-BE4C-376A44B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523-204F-4A40-AC6C-8697961D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33F-391C-46F4-9354-72E460C5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10C-F95F-445C-BF93-0EE5DDB8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C6B-2B0B-4300-9BA5-2D9F320B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A74-50EC-4AF5-902D-ACCE2AE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FD80-49D2-4E96-B420-4759BC82A86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6017-638D-404F-83D0-7FDAED5F42F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91" name="Picture 2" descr="http://img-fotki.yandex.ru/get/4906/981986.78/0_8d168_919663e0_ori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48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268360" y="2060640"/>
            <a:ext cx="403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ьское собрание в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А класс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282760" y="4005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иместр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4" descr="http://img1.liveinternet.ru/images/attach/b/4/104/145/104145987_0_90b7c_b4985178_M.png"/>
          <p:cNvPicPr/>
          <p:nvPr/>
        </p:nvPicPr>
        <p:blipFill>
          <a:blip r:embed="rId2"/>
          <a:stretch/>
        </p:blipFill>
        <p:spPr>
          <a:xfrm>
            <a:off x="101520" y="0"/>
            <a:ext cx="2676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501120" y="314280"/>
            <a:ext cx="74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50920" y="134136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ОРОШИСТЫ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5 челове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Прямоугольник 7" descr=""/>
          <p:cNvPicPr/>
          <p:nvPr/>
        </p:nvPicPr>
        <p:blipFill>
          <a:blip r:embed="rId2"/>
          <a:stretch/>
        </p:blipFill>
        <p:spPr>
          <a:xfrm>
            <a:off x="785880" y="1719360"/>
            <a:ext cx="657216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501120" y="314280"/>
            <a:ext cx="74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5092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чили с тройкам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челове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4997520" y="486900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501120" y="314280"/>
            <a:ext cx="74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Диаграмма 2" descr=""/>
          <p:cNvPicPr/>
          <p:nvPr/>
        </p:nvPicPr>
        <p:blipFill>
          <a:blip r:embed="rId2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81080" y="90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Успеваемость- 96%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692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Качество- 72% (средний показатель качества по школе -53%)</a:t>
            </a:r>
            <a:endParaRPr b="0" lang="en-US" sz="5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КОМЕНДАЦИИ ПО ПРИВИВКАМ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Прочитать, ознакомить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Новогодние праздник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1440000" y="1600200"/>
            <a:ext cx="626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Новогодние праздник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1 декабря новогодняя елка в 12.00 (прийти нарядно одетыми, подарки от школы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овогоднее мероприятие в классе провести до 29.12.2017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о 16. 12 украсить класс и хол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онкурс чтецов «Стихи о зиме», конкурс  рисунков «Новогоднее настроение» , формат А3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онкурс новогодних поделок «Авторская новогодняя игрушка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езопасность на каникулах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Берегите себя и своих детей в каникулярное время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Школьный музе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Экспонаты времен СССР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Экскурс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ле 3 урок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колько человек едет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отовим заявк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вестка дн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753e3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триместр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753e3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Мероприятия по подготовке к новому году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753e3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Безопасность на каникулах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753e3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Разное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7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ерновики и тетради по внеурочной деятельности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www.playcast.ru/uploads/2013/09/05/6017185.png"/>
          <p:cNvPicPr/>
          <p:nvPr/>
        </p:nvPicPr>
        <p:blipFill>
          <a:blip r:embed="rId1"/>
          <a:stretch/>
        </p:blipFill>
        <p:spPr>
          <a:xfrm>
            <a:off x="39600" y="307800"/>
            <a:ext cx="9064800" cy="639144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" descr=""/>
          <p:cNvPicPr/>
          <p:nvPr/>
        </p:nvPicPr>
        <p:blipFill>
          <a:blip r:embed="rId2"/>
          <a:stretch/>
        </p:blipFill>
        <p:spPr>
          <a:xfrm>
            <a:off x="2189160" y="1109520"/>
            <a:ext cx="43941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омашнее задание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Будем ли задавать д/з на понедельник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Электронный журна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Отслеживать успеваемость своего ребенк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0680" y="8362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Palatino Linotype"/>
              </a:rPr>
              <a:t>Единый орфографический режим </a:t>
            </a:r>
            <a:r>
              <a:rPr b="0" lang="ru-RU" sz="4400" spc="-1" strike="noStrike">
                <a:solidFill>
                  <a:srgbClr val="ff0000"/>
                </a:solidFill>
                <a:latin typeface="Palatino Linotype"/>
              </a:rPr>
              <a:t>в МОБУ «Кудровский ЦО №1»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1042920" y="3213000"/>
            <a:ext cx="770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3" name="Рисунок 4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25760" cy="44654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"/>
          <p:cNvPicPr/>
          <p:nvPr/>
        </p:nvPicPr>
        <p:blipFill>
          <a:blip r:embed="rId2"/>
          <a:stretch/>
        </p:blipFill>
        <p:spPr>
          <a:xfrm>
            <a:off x="4427640" y="2276640"/>
            <a:ext cx="334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2781000"/>
            <a:ext cx="7643880" cy="5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дение дневника (использование корректора);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традь по математике(краткая запись);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 (работа над ошибками, учим словарные слова, диктанты, критерии оценок) (4-, 4-- -это «3» и «2»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c794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5897"/>
                    </a:gs>
                    <a:gs pos="100000">
                      <a:srgbClr val="6076b4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5897"/>
                  </a:gs>
                  <a:gs pos="100000">
                    <a:srgbClr val="6076b4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2f5897"/>
                </a:solidFill>
                <a:latin typeface="Arial"/>
              </a:rPr>
              <a:t>Успеваемость в классе</a:t>
            </a:r>
            <a:endParaRPr b="0" lang="en-US" sz="39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609480"/>
          <a:ext cx="9144000" cy="5978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ют с одной 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ют н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ют с одной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вумя «3» и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1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539640" y="1844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ЛИТЕРАТУРНОЕ ЧТЕНИ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Picture 2" descr="http://museumshevchenko.org.ua/flash-point/uploads/gallery/2411.jpg"/>
          <p:cNvPicPr/>
          <p:nvPr/>
        </p:nvPicPr>
        <p:blipFill>
          <a:blip r:embed="rId2"/>
          <a:srcRect l="0" t="13416" r="0" b="9342"/>
          <a:stretch/>
        </p:blipFill>
        <p:spPr>
          <a:xfrm>
            <a:off x="539640" y="4641840"/>
            <a:ext cx="2857680" cy="211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16000" y="2708280"/>
          <a:ext cx="6095880" cy="1158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6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539640" y="1844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8" name="Picture 4" descr="http://deti.mail.ru/pic/photolib/2014/02/18/Depositphotos_24928363_s-1.jpg"/>
          <p:cNvPicPr/>
          <p:nvPr/>
        </p:nvPicPr>
        <p:blipFill>
          <a:blip r:embed="rId2"/>
          <a:stretch/>
        </p:blipFill>
        <p:spPr>
          <a:xfrm>
            <a:off x="619200" y="4292640"/>
            <a:ext cx="3628800" cy="22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1187280" y="2924280"/>
          <a:ext cx="6553440" cy="1158840"/>
        </p:xfrm>
        <a:graphic>
          <a:graphicData uri="http://schemas.openxmlformats.org/drawingml/2006/table">
            <a:tbl>
              <a:tblPr/>
              <a:tblGrid>
                <a:gridCol w="2184480"/>
                <a:gridCol w="2184480"/>
                <a:gridCol w="21844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1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539640" y="1844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АНГЛИЙСКИЙ ЯЗЫК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3" name="Picture 2" descr="http://englishblog.ru/wp-content/uploads/2013/02/img2.jpg"/>
          <p:cNvPicPr/>
          <p:nvPr/>
        </p:nvPicPr>
        <p:blipFill>
          <a:blip r:embed="rId2"/>
          <a:stretch/>
        </p:blipFill>
        <p:spPr>
          <a:xfrm>
            <a:off x="611280" y="4414680"/>
            <a:ext cx="2808360" cy="217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200240" y="2997360"/>
          <a:ext cx="6095880" cy="1158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6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539640" y="1844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8" name="Picture 2" descr="http://us.123rf.com/450wm/Krisdog/Krisdog1301/Krisdog130100051/17477057-%E6%9B%B8%E7%B1%8D%E3%81%AE%E3%82%B9%E3%82%BF%E3%83%83%E3%82%AF%E3%81%AB%E8%B3%A2%E6%98%8E%E3%81%AA%E3%83%95%E3%82%AF%E3%83%AD%E3%82%A6%E3%81%AE%E3%82%A4%E3%83%A9%E3%82%B9%E3%83%88%E8%AA%AD%E6%9B%B8%E7%9C%BC%E9%8F%A1%E3%81%A8%E3%83%A2%E3%83%AB%E3%82%BF%E3%83%AB%E6%9D%BF%E3%81%AE%E6%8B%9B%E9%9B%86%C3%A5.jpg"/>
          <p:cNvPicPr/>
          <p:nvPr/>
        </p:nvPicPr>
        <p:blipFill>
          <a:blip r:embed="rId2"/>
          <a:stretch/>
        </p:blipFill>
        <p:spPr>
          <a:xfrm>
            <a:off x="826920" y="4183200"/>
            <a:ext cx="1824120" cy="24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971640" y="2852640"/>
          <a:ext cx="7129440" cy="1158840"/>
        </p:xfrm>
        <a:graphic>
          <a:graphicData uri="http://schemas.openxmlformats.org/drawingml/2006/table">
            <a:tbl>
              <a:tblPr/>
              <a:tblGrid>
                <a:gridCol w="2376360"/>
                <a:gridCol w="2376360"/>
                <a:gridCol w="237672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1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476360" y="1844640"/>
            <a:ext cx="51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3" name="Picture 2" descr="http://i.allday2.com/c4/8b/5c/1375405792_di-2.jpg"/>
          <p:cNvPicPr/>
          <p:nvPr/>
        </p:nvPicPr>
        <p:blipFill>
          <a:blip r:embed="rId2"/>
          <a:stretch/>
        </p:blipFill>
        <p:spPr>
          <a:xfrm>
            <a:off x="395280" y="4533840"/>
            <a:ext cx="2381400" cy="20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2708280"/>
          <a:ext cx="6095880" cy="1158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501120" y="314280"/>
            <a:ext cx="74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50920" y="1341360"/>
            <a:ext cx="75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ЛИЧНИ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опян Мар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икифорова Тами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ябева Поли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ьякова Инесс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Прямоугольник 7" descr=""/>
          <p:cNvPicPr/>
          <p:nvPr/>
        </p:nvPicPr>
        <p:blipFill>
          <a:blip r:embed="rId2"/>
          <a:stretch/>
        </p:blipFill>
        <p:spPr>
          <a:xfrm>
            <a:off x="480960" y="5583240"/>
            <a:ext cx="5267520" cy="156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www.westerndemons.com/.a/6a00d83420ece353ef01a73de54f69970d-pi"/>
          <p:cNvPicPr/>
          <p:nvPr/>
        </p:nvPicPr>
        <p:blipFill>
          <a:blip r:embed="rId3"/>
          <a:stretch/>
        </p:blipFill>
        <p:spPr>
          <a:xfrm rot="20390400">
            <a:off x="5895720" y="1598400"/>
            <a:ext cx="139068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13:48:46Z</dcterms:created>
  <dc:creator>Оля</dc:creator>
  <dc:description/>
  <dc:language>en-US</dc:language>
  <cp:lastModifiedBy>Пользователь Windows</cp:lastModifiedBy>
  <dcterms:modified xsi:type="dcterms:W3CDTF">2018-12-13T13:55:10Z</dcterms:modified>
  <cp:revision>48</cp:revision>
  <dc:subject/>
  <dc:title>Презентация PowerPoint</dc:title>
</cp:coreProperties>
</file>