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42B-D83B-4EC9-B2F7-E66898BF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7CCC-BE91-4419-9379-345F763C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F01-779D-43C4-BED9-6E6E34AD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B3A-D908-4234-89A0-0B06FA7A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C7C0-4D1F-4D18-9E95-79CBFCC1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7296-5ED1-4367-8D9F-684DC68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4505-4461-4348-B473-8677C4E6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E55B-DB9B-4F04-B35E-B9971850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2CF9-8105-4910-8311-AE75708B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BF6D-A225-4874-997F-36539881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2A42-4609-4C8B-89B8-F8408969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B1A-8A82-4245-8FA0-640CF6C1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1D39-535A-44B9-A06A-99BB869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26AF-1E5D-4994-8225-9ECCDBDA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C7B2-3045-4700-81E6-5333779E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480A-7B5B-45E5-931F-D416165F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D9EA-62D0-4A5C-927D-E5776DB7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BDF-5398-42C3-88DD-4BBE5433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83D-62B5-4C27-B299-FFA8580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E17-8DB3-42CF-B2AF-DE5B2B8F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805-9FAA-4C76-A8C9-B9A8728E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7C0-D653-4F6D-9F35-1C23938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32A-00BA-4ECF-9FD9-EFD048AC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775-0C0A-482A-8FFB-42758557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2CBF-2CAA-4D83-96BB-4FD169BA539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0E27-C21F-4C5E-A292-B98740845A6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entury Gothic"/>
            </a:endParaRPr>
          </a:p>
        </p:txBody>
      </p:sp>
      <p:pic>
        <p:nvPicPr>
          <p:cNvPr id="91" name="Picture 2" descr="http://img-fotki.yandex.ru/get/4906/981986.78/0_8d168_919663e0_ori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481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268360" y="2060640"/>
            <a:ext cx="403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тельское собрание в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А классе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2282760" y="4005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иместр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4" descr="http://img1.liveinternet.ru/images/attach/b/4/104/145/104145987_0_90b7c_b4985178_M.png"/>
          <p:cNvPicPr/>
          <p:nvPr/>
        </p:nvPicPr>
        <p:blipFill>
          <a:blip r:embed="rId2"/>
          <a:stretch/>
        </p:blipFill>
        <p:spPr>
          <a:xfrm>
            <a:off x="101520" y="0"/>
            <a:ext cx="2676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501120" y="314280"/>
            <a:ext cx="74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50920" y="1341360"/>
            <a:ext cx="75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ОРОШИСТЫ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5 челове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Прямоугольник 7" descr=""/>
          <p:cNvPicPr/>
          <p:nvPr/>
        </p:nvPicPr>
        <p:blipFill>
          <a:blip r:embed="rId2"/>
          <a:stretch/>
        </p:blipFill>
        <p:spPr>
          <a:xfrm>
            <a:off x="785880" y="1719360"/>
            <a:ext cx="657216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501120" y="314280"/>
            <a:ext cx="74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50920" y="1341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кончили с тройкам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челове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4997520" y="486900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4"/>
          <p:cNvSpPr/>
          <p:nvPr/>
        </p:nvSpPr>
        <p:spPr>
          <a:xfrm>
            <a:off x="501120" y="314280"/>
            <a:ext cx="74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Диаграмма 2" descr=""/>
          <p:cNvPicPr/>
          <p:nvPr/>
        </p:nvPicPr>
        <p:blipFill>
          <a:blip r:embed="rId2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81080" y="907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Успеваемость- 96%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2692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Качество- 72% (средний показатель качества по школе -53%)</a:t>
            </a:r>
            <a:endParaRPr b="0" lang="en-US" sz="5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КОМЕНДАЦИИ ПО ПРИВИВКАМ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Прочитать, ознакомить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Новогодние праздник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1440000" y="1600200"/>
            <a:ext cx="6264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Новогодние праздник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21 декабря новогодняя елка в 12.00 (прийти нарядно одетыми, подарки от школы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овогоднее мероприятие в классе провести до 29.12.2017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о 16. 12 украсить класс и хол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онкурс чтецов «Стихи о зиме», конкурс  рисунков «Новогоднее настроение» , формат А3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онкурс новогодних поделок «Авторская новогодняя игрушка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Безопасность на каникулах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Берегите себя и своих детей в каникулярное время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Школьный музе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Экспонаты времен СССР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Экскурс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ле 3 урока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Сколько человек едет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Готовим заявку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вестка дн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753e3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триместр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753e3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Мероприятия по подготовке к новому году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753e3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Безопасность на каникулах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753e3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Разное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7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ерновики и тетради по внеурочной деятельности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www.playcast.ru/uploads/2013/09/05/6017185.png"/>
          <p:cNvPicPr/>
          <p:nvPr/>
        </p:nvPicPr>
        <p:blipFill>
          <a:blip r:embed="rId1"/>
          <a:stretch/>
        </p:blipFill>
        <p:spPr>
          <a:xfrm>
            <a:off x="39600" y="307800"/>
            <a:ext cx="9064800" cy="639144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" descr=""/>
          <p:cNvPicPr/>
          <p:nvPr/>
        </p:nvPicPr>
        <p:blipFill>
          <a:blip r:embed="rId2"/>
          <a:stretch/>
        </p:blipFill>
        <p:spPr>
          <a:xfrm>
            <a:off x="2189160" y="1109520"/>
            <a:ext cx="43941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омашнее задание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Будем ли задавать д/з на понедельник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Электронный журна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Отслеживать успеваемость своего ребенк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0680" y="8362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5897"/>
                </a:solidFill>
                <a:latin typeface="Palatino Linotype"/>
              </a:rPr>
              <a:t>Единый орфографический режим </a:t>
            </a:r>
            <a:r>
              <a:rPr b="0" lang="ru-RU" sz="4400" spc="-1" strike="noStrike">
                <a:solidFill>
                  <a:srgbClr val="ff0000"/>
                </a:solidFill>
                <a:latin typeface="Palatino Linotype"/>
              </a:rPr>
              <a:t>в МОБУ «Кудровский ЦО №1»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1042920" y="3213000"/>
            <a:ext cx="7705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3" name="Рисунок 4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25760" cy="44654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"/>
          <p:cNvPicPr/>
          <p:nvPr/>
        </p:nvPicPr>
        <p:blipFill>
          <a:blip r:embed="rId2"/>
          <a:stretch/>
        </p:blipFill>
        <p:spPr>
          <a:xfrm>
            <a:off x="4427640" y="2276640"/>
            <a:ext cx="334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2781000"/>
            <a:ext cx="7643880" cy="5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дение дневника (использование корректора);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традь по математике(краткая запись);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 (работа над ошибками, учим словарные слова, диктанты, критерии оценок) (4-, 4-- -это «3» и «2»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c794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f5897"/>
                    </a:gs>
                    <a:gs pos="100000">
                      <a:srgbClr val="6076b4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f5897"/>
                  </a:gs>
                  <a:gs pos="100000">
                    <a:srgbClr val="6076b4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499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2f5897"/>
                </a:solidFill>
                <a:latin typeface="Arial"/>
              </a:rPr>
              <a:t>Успеваемость в классе</a:t>
            </a:r>
            <a:endParaRPr b="0" lang="en-US" sz="39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609480"/>
          <a:ext cx="9144000" cy="59785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9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ют с одной 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ют на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ют с одной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двумя «3» и бол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244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1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539640" y="1844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ЛИТЕРАТУРНОЕ ЧТЕНИЕ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3" name="Picture 2" descr="http://museumshevchenko.org.ua/flash-point/uploads/gallery/2411.jpg"/>
          <p:cNvPicPr/>
          <p:nvPr/>
        </p:nvPicPr>
        <p:blipFill>
          <a:blip r:embed="rId2"/>
          <a:srcRect l="0" t="13416" r="0" b="9342"/>
          <a:stretch/>
        </p:blipFill>
        <p:spPr>
          <a:xfrm>
            <a:off x="539640" y="4641840"/>
            <a:ext cx="2857680" cy="211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16000" y="2708280"/>
          <a:ext cx="6095880" cy="1158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6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539640" y="1844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ОКРУЖАЮЩИЙ МИР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8" name="Picture 4" descr="http://deti.mail.ru/pic/photolib/2014/02/18/Depositphotos_24928363_s-1.jpg"/>
          <p:cNvPicPr/>
          <p:nvPr/>
        </p:nvPicPr>
        <p:blipFill>
          <a:blip r:embed="rId2"/>
          <a:stretch/>
        </p:blipFill>
        <p:spPr>
          <a:xfrm>
            <a:off x="619200" y="4292640"/>
            <a:ext cx="3628800" cy="22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1187280" y="2924280"/>
          <a:ext cx="6553440" cy="1158840"/>
        </p:xfrm>
        <a:graphic>
          <a:graphicData uri="http://schemas.openxmlformats.org/drawingml/2006/table">
            <a:tbl>
              <a:tblPr/>
              <a:tblGrid>
                <a:gridCol w="2184480"/>
                <a:gridCol w="2184480"/>
                <a:gridCol w="21844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1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539640" y="1844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АНГЛИЙСКИЙ ЯЗЫК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3" name="Picture 2" descr="http://englishblog.ru/wp-content/uploads/2013/02/img2.jpg"/>
          <p:cNvPicPr/>
          <p:nvPr/>
        </p:nvPicPr>
        <p:blipFill>
          <a:blip r:embed="rId2"/>
          <a:stretch/>
        </p:blipFill>
        <p:spPr>
          <a:xfrm>
            <a:off x="611280" y="4414680"/>
            <a:ext cx="2808360" cy="217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200240" y="2997360"/>
          <a:ext cx="6095880" cy="1158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6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539640" y="1844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МАТЕМАТИК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8" name="Picture 2" descr="http://us.123rf.com/450wm/Krisdog/Krisdog1301/Krisdog130100051/17477057-%E6%9B%B8%E7%B1%8D%E3%81%AE%E3%82%B9%E3%82%BF%E3%83%83%E3%82%AF%E3%81%AB%E8%B3%A2%E6%98%8E%E3%81%AA%E3%83%95%E3%82%AF%E3%83%AD%E3%82%A6%E3%81%AE%E3%82%A4%E3%83%A9%E3%82%B9%E3%83%88%E8%AA%AD%E6%9B%B8%E7%9C%BC%E9%8F%A1%E3%81%A8%E3%83%A2%E3%83%AB%E3%82%BF%E3%83%AB%E6%9D%BF%E3%81%AE%E6%8B%9B%E9%9B%86%C3%A5.jpg"/>
          <p:cNvPicPr/>
          <p:nvPr/>
        </p:nvPicPr>
        <p:blipFill>
          <a:blip r:embed="rId2"/>
          <a:stretch/>
        </p:blipFill>
        <p:spPr>
          <a:xfrm>
            <a:off x="826920" y="4183200"/>
            <a:ext cx="1824120" cy="24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971640" y="2852640"/>
          <a:ext cx="7129440" cy="1158840"/>
        </p:xfrm>
        <a:graphic>
          <a:graphicData uri="http://schemas.openxmlformats.org/drawingml/2006/table">
            <a:tbl>
              <a:tblPr/>
              <a:tblGrid>
                <a:gridCol w="2376360"/>
                <a:gridCol w="2376360"/>
                <a:gridCol w="237672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тоги </a:t>
            </a:r>
            <a:r>
              <a:rPr b="0" lang="en-US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I </a:t>
            </a: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1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476360" y="1844640"/>
            <a:ext cx="51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3" name="Picture 2" descr="http://i.allday2.com/c4/8b/5c/1375405792_di-2.jpg"/>
          <p:cNvPicPr/>
          <p:nvPr/>
        </p:nvPicPr>
        <p:blipFill>
          <a:blip r:embed="rId2"/>
          <a:stretch/>
        </p:blipFill>
        <p:spPr>
          <a:xfrm>
            <a:off x="395280" y="4533840"/>
            <a:ext cx="2381400" cy="202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2708280"/>
          <a:ext cx="6095880" cy="11588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www.playcast.ru/uploads/2014/09/01/9695239.png"/>
          <p:cNvPicPr/>
          <p:nvPr/>
        </p:nvPicPr>
        <p:blipFill>
          <a:blip r:embed="rId1"/>
          <a:stretch/>
        </p:blipFill>
        <p:spPr>
          <a:xfrm>
            <a:off x="5518080" y="4724280"/>
            <a:ext cx="3471840" cy="1944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501120" y="314280"/>
            <a:ext cx="743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Итоги </a:t>
            </a:r>
            <a:r>
              <a:rPr b="1" lang="en-US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I </a:t>
            </a:r>
            <a:r>
              <a:rPr b="1" lang="ru-RU" sz="4400" spc="-1" strike="noStrike">
                <a:solidFill>
                  <a:srgbClr val="753e3e"/>
                </a:solidFill>
                <a:latin typeface="Times New Roman"/>
                <a:ea typeface="Times New Roman"/>
              </a:rPr>
              <a:t> учебного триместр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250920" y="1341360"/>
            <a:ext cx="75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ЛИЧНИ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опян Мар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икифорова Тами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ябева Поли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ьякова Инесс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Прямоугольник 7" descr=""/>
          <p:cNvPicPr/>
          <p:nvPr/>
        </p:nvPicPr>
        <p:blipFill>
          <a:blip r:embed="rId2"/>
          <a:stretch/>
        </p:blipFill>
        <p:spPr>
          <a:xfrm>
            <a:off x="480960" y="5583240"/>
            <a:ext cx="5267520" cy="1560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ttp://www.westerndemons.com/.a/6a00d83420ece353ef01a73de54f69970d-pi"/>
          <p:cNvPicPr/>
          <p:nvPr/>
        </p:nvPicPr>
        <p:blipFill>
          <a:blip r:embed="rId3"/>
          <a:stretch/>
        </p:blipFill>
        <p:spPr>
          <a:xfrm rot="20390400">
            <a:off x="5895720" y="1598400"/>
            <a:ext cx="139068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13:48:46Z</dcterms:created>
  <dc:creator>Оля</dc:creator>
  <dc:description/>
  <dc:language>en-US</dc:language>
  <cp:lastModifiedBy>Пользователь Windows</cp:lastModifiedBy>
  <dcterms:modified xsi:type="dcterms:W3CDTF">2018-12-13T13:55:10Z</dcterms:modified>
  <cp:revision>48</cp:revision>
  <dc:subject/>
  <dc:title>Презентация PowerPoint</dc:title>
</cp:coreProperties>
</file>