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DC38-E9FF-4195-A403-2B1D7EE5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C43-4945-446D-9A8F-51BD1314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069-C14E-4369-9416-D2B91972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F8E-522E-4780-9554-2076651D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1446-73F6-427A-9D39-CC9FEB3C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9BE-CDD7-4BB9-BDF5-E49B01BB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BF0F-8638-4E6B-980C-280FAF6F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8DC-3FE9-4832-8635-45913774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98C-28C6-40FB-A99F-225647CC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BA77-9AC6-4155-BD0A-FB4040FB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5F49-B806-495B-AC34-07B50865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A9B-A8B1-44EE-86FF-2F8EBFDB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4840-DBDC-409F-833A-510FC787A20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C:\Users\Лаура\Desktop\0_3b49_3be2af75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Лаура\Desktop\6ee13a16.jpg"/>
          <p:cNvPicPr/>
          <p:nvPr/>
        </p:nvPicPr>
        <p:blipFill>
          <a:blip r:embed="rId2"/>
          <a:stretch/>
        </p:blipFill>
        <p:spPr>
          <a:xfrm>
            <a:off x="1619280" y="0"/>
            <a:ext cx="6292800" cy="39337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6"/>
          <p:cNvSpPr/>
          <p:nvPr/>
        </p:nvSpPr>
        <p:spPr>
          <a:xfrm>
            <a:off x="0" y="400536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d0a1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лассный час: </a:t>
            </a:r>
            <a:r>
              <a:rPr b="0" lang="ru-RU" sz="3200" spc="-1" strike="noStrike">
                <a:solidFill>
                  <a:srgbClr val="0d0a10"/>
                </a:solidFill>
                <a:latin typeface="Arial Black"/>
              </a:rPr>
              <a:t>             </a:t>
            </a: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«Терроризм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250920" y="0"/>
            <a:ext cx="84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залах ожидания аэропортов, вокзалов и т.д. старайтесь располагаться подальше от хрупких и тяжелых конструкций. В случае взрыва они могут упасть или разлететься на мелкие кусочки, которые выступят в роли осколков, как правило, именно они могут явиться причиной факторов вторичного поражения и большинства ра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Лаура\Desktop\dc54019b48dfa684c1ebf0c9e85f.jpeg"/>
          <p:cNvPicPr/>
          <p:nvPr/>
        </p:nvPicPr>
        <p:blipFill>
          <a:blip r:embed="rId1"/>
          <a:stretch/>
        </p:blipFill>
        <p:spPr>
          <a:xfrm>
            <a:off x="2050920" y="2708280"/>
            <a:ext cx="511344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539640" y="0"/>
            <a:ext cx="83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вы оказались захвачены нужно настроиться на то, что моментально вас никто не освободит. Нужно психологически настроить себя на длительное пребывание рядом с террористами. При этом необходимо твердо знать, что в конечном итоге вы обязательно будете освобождены. Необходимо также помнить, что для сотрудников спецназа на первом месте стоит жизнь заложников, а не их собственная жизнь. Находясь рядом с террористами, необходимо установить с ними общий психологический контак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Лаура\Desktop\c3738b439cd9acde4aec99bb4e979949.jpg"/>
          <p:cNvPicPr/>
          <p:nvPr/>
        </p:nvPicPr>
        <p:blipFill>
          <a:blip r:embed="rId1"/>
          <a:srcRect l="0" t="16755" r="0" b="13963"/>
          <a:stretch/>
        </p:blipFill>
        <p:spPr>
          <a:xfrm>
            <a:off x="1763640" y="2997360"/>
            <a:ext cx="6007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обязательно с ними разговаривать, но не в коем случае не нужно кричать, высказывать своё возмущение, громко плакать, потому что очень часто террористы находясь под воздействием наркотических средств и в целом очень возбуждены. Поэтому плач и крики действуют на них крайне негативно и вызывают в них лишнюю агрессию. Необходимо настроить себя на то, что достаточно продолжительное время вы будете лишены пищи, воды и возможного движения. Поэтому нужно экономить силы. Если воздуха в помещении мало, необходимо меньше двигаться, чтобы экономнее расходовать кислород. Если вам запрещают передвигаться по антитеррористической деятельности, предлагаются для изучения и руководства в практической рабо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Лаура\Desktop\russia.slide.3.jpg"/>
          <p:cNvPicPr/>
          <p:nvPr/>
        </p:nvPicPr>
        <p:blipFill>
          <a:blip r:embed="rId1"/>
          <a:stretch/>
        </p:blipFill>
        <p:spPr>
          <a:xfrm>
            <a:off x="1403280" y="3068640"/>
            <a:ext cx="6264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6600"/>
                </a:solidFill>
                <a:uFillTx/>
                <a:latin typeface="Arial"/>
                <a:ea typeface="Arial"/>
              </a:rPr>
              <a:t>Что делать, если вы оказались в заложник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4356000" y="90792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можно быстрее взять себя в руки, всеми силами подавить в себе панику и, на сколько это возможно успоко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ться к моральным, физическим и эмоциональным испыт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оворить спокойным ровным гол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Лаура\Desktop\r_4_gallery__550x407.jpg"/>
          <p:cNvPicPr/>
          <p:nvPr/>
        </p:nvPicPr>
        <p:blipFill>
          <a:blip r:embed="rId1"/>
          <a:stretch/>
        </p:blipFill>
        <p:spPr>
          <a:xfrm>
            <a:off x="250920" y="1341360"/>
            <a:ext cx="403380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0" y="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  Ни в коем случае не допускать действий, которые могут спровоцировать нападающих к применению оружия и привести к человеческим жерт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 Переносить лишения, оскорбления и унижения без вызова и возра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  Экономьте и поддерживайте силы, чем угодно используйте любую возмо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Лаура\Desktop\29665-31.jpg"/>
          <p:cNvPicPr/>
          <p:nvPr/>
        </p:nvPicPr>
        <p:blipFill>
          <a:blip r:embed="rId1"/>
          <a:srcRect l="0" t="7559" r="0" b="0"/>
          <a:stretch/>
        </p:blipFill>
        <p:spPr>
          <a:xfrm>
            <a:off x="1979640" y="2711520"/>
            <a:ext cx="57722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4500720" y="189000"/>
            <a:ext cx="446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ьно выполняйте требования преступников, особенно в перв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8. Не совершайте любых действий, спрашивайте раз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9. Меньше двигайт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. Постоянно напоминайте себе, что ваша цель – остаться в жи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1. Помните, что для вашего освобождения делается всё необходимое и возмож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Лаура\Desktop\162656621.jpg"/>
          <p:cNvPicPr/>
          <p:nvPr/>
        </p:nvPicPr>
        <p:blipFill>
          <a:blip r:embed="rId1"/>
          <a:stretch/>
        </p:blipFill>
        <p:spPr>
          <a:xfrm>
            <a:off x="179280" y="189000"/>
            <a:ext cx="431964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5"/>
          <p:cNvSpPr/>
          <p:nvPr/>
        </p:nvSpPr>
        <p:spPr>
          <a:xfrm>
            <a:off x="0" y="47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ы - те, кого хотят запугать и заставить вести себя определённым образом. Будьте бдитель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Будьте осторож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:\Users\Лаура\Desktop\2111470hh7.jpg"/>
          <p:cNvPicPr/>
          <p:nvPr/>
        </p:nvPicPr>
        <p:blipFill>
          <a:blip r:embed="rId1"/>
          <a:stretch/>
        </p:blipFill>
        <p:spPr>
          <a:xfrm>
            <a:off x="1692360" y="2060640"/>
            <a:ext cx="59338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250920" y="0"/>
            <a:ext cx="871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 Black"/>
                <a:ea typeface="Arial"/>
              </a:rPr>
              <a:t>Терроризм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кции, сопряженные с применением насилия или угрозой насилия, сопровождаемые выдвижением конкретных требований. Насилие направлено против гражданских объектов и лиц. Мотивы имеют политический или иной характер. Исполнители малочисленны, оторваны от населения, являются членами организованных групп, берут на себя ответственность  за совершаемые акции. Акции совершаются так, чтобы привлечь максимум внимания и оказать воздействие на власть или определённые группы населения, выходя за рамки причинения непосредственного физического ущер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5990-0E94-401C-9CF0-9371080B0F1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0" y="4005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684360" y="260280"/>
            <a:ext cx="80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Impact"/>
                <a:ea typeface="Arial"/>
              </a:rPr>
              <a:t>Из истории террор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924360" y="981000"/>
            <a:ext cx="50403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С 1986г рост терактов составил до </a:t>
            </a:r>
            <a:r>
              <a:rPr b="0" lang="ru-RU" sz="3600" spc="-1" strike="noStrike">
                <a:solidFill>
                  <a:srgbClr val="cc0000"/>
                </a:solidFill>
                <a:latin typeface="Arial Black"/>
                <a:ea typeface="Arial"/>
              </a:rPr>
              <a:t>6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 Black"/>
                <a:ea typeface="Arial"/>
              </a:rPr>
              <a:t>30% терактов направлены против собственности 70% - против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Лаура\Desktop\2087.jpg"/>
          <p:cNvPicPr/>
          <p:nvPr/>
        </p:nvPicPr>
        <p:blipFill>
          <a:blip r:embed="rId1"/>
          <a:stretch/>
        </p:blipFill>
        <p:spPr>
          <a:xfrm>
            <a:off x="0" y="1484280"/>
            <a:ext cx="388764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B653-1DC9-4ECC-8844-49D47F23328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0" y="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 Black"/>
                <a:ea typeface="Arial"/>
              </a:rPr>
              <a:t>Терроризм – это одна из форм организованного насил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Лаура\Desktop\967c0cd498dacbd905ca3b3eca4.jpg"/>
          <p:cNvPicPr/>
          <p:nvPr/>
        </p:nvPicPr>
        <p:blipFill>
          <a:blip r:embed="rId1"/>
          <a:stretch/>
        </p:blipFill>
        <p:spPr>
          <a:xfrm>
            <a:off x="1476360" y="177336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Лаура\Desktop\0_3b49_3be2af75_XL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8778-DFEA-4629-AB86-F18042B84E1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Терроризм – это использование силы в политических целях, специфическая форма политического насил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Users\Лаура\Desktop\159544519.jpg"/>
          <p:cNvPicPr/>
          <p:nvPr/>
        </p:nvPicPr>
        <p:blipFill>
          <a:blip r:embed="rId2"/>
          <a:stretch/>
        </p:blipFill>
        <p:spPr>
          <a:xfrm>
            <a:off x="1332000" y="2060640"/>
            <a:ext cx="676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0C0B-B7AC-44B2-B5F8-8DDF80B0B08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0" y="189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Террористическая акция рассчитана на определённый эффект: посеять страх, создать угрозу широкому кругу ли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Лаура\Desktop\31597936_beslan2047s.jpg"/>
          <p:cNvPicPr/>
          <p:nvPr/>
        </p:nvPicPr>
        <p:blipFill>
          <a:blip r:embed="rId1"/>
          <a:stretch/>
        </p:blipFill>
        <p:spPr>
          <a:xfrm>
            <a:off x="1476360" y="1773360"/>
            <a:ext cx="63784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0" y="33336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Как не стать жертвой тера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4140360" y="1413000"/>
            <a:ext cx="4572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ррористы выбирают для атак известные и заметные цели, например, крупные города, международные аэропорты, места проведения крупных международных мероприятий,  международные курорты и т.д. Обязательным  условием совершения атаки является возможность избежать пристального внимания правоохранительных структур – например, досмотра до и после совершения теракта. Будьте внимательны находясь в подобных мест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Лаура\Desktop\GetImage.ashx.jpg"/>
          <p:cNvPicPr/>
          <p:nvPr/>
        </p:nvPicPr>
        <p:blipFill>
          <a:blip r:embed="rId1"/>
          <a:stretch/>
        </p:blipFill>
        <p:spPr>
          <a:xfrm>
            <a:off x="179280" y="1484280"/>
            <a:ext cx="40323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78920" y="-360"/>
            <a:ext cx="87138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дьте особо внимательны во время путешествий. Обращайте внимание на подозрительные детали и мелочи - лучше сообщить о них сотрудникам правоохранительных органов. Никогда не принимайте пакеты, вещи и посылки для передачи от незнакомцев и никогда не оставляйте свой багаж без присмотр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Лаура\Desktop\article-1261502-08EB5F2E000005DC-683_634x394_popup.jpg"/>
          <p:cNvPicPr/>
          <p:nvPr/>
        </p:nvPicPr>
        <p:blipFill>
          <a:blip r:embed="rId1"/>
          <a:srcRect l="0" t="0" r="0" b="7782"/>
          <a:stretch/>
        </p:blipFill>
        <p:spPr>
          <a:xfrm>
            <a:off x="971640" y="2752560"/>
            <a:ext cx="712944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3"/>
          <p:cNvSpPr/>
          <p:nvPr/>
        </p:nvSpPr>
        <p:spPr>
          <a:xfrm>
            <a:off x="684360" y="33336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ьмите за правило всегда уточнять, где находиться резервные выходы из помещений. Заранее подумайте, как вы будете покидать здание, если в нем произойдёт ЧП. Никогда не пытайтесь выбраться из горящего здания на лифте. Во-первых, механизм лифта может быть повреждён. Во-вторых, обычно испуганные люди бегут к лифтам. Лифты не рассчитаны на перевозку столь большого количества пассажиров - поэтому драгоценные минуты, необходимые для спасения, могут быть потеря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Лаура\Desktop\1269857873_ria-610720-original-1024x768.jpg"/>
          <p:cNvPicPr/>
          <p:nvPr/>
        </p:nvPicPr>
        <p:blipFill>
          <a:blip r:embed="rId1"/>
          <a:srcRect l="1366" t="0" r="0" b="0"/>
          <a:stretch/>
        </p:blipFill>
        <p:spPr>
          <a:xfrm>
            <a:off x="2268360" y="3965400"/>
            <a:ext cx="46072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3T10:52:35Z</dcterms:created>
  <dc:creator>Учитель</dc:creator>
  <dc:description/>
  <dc:language>en-US</dc:language>
  <cp:lastModifiedBy>Студент</cp:lastModifiedBy>
  <dcterms:modified xsi:type="dcterms:W3CDTF">2017-09-07T10:16:13Z</dcterms:modified>
  <cp:revision>19</cp:revision>
  <dc:subject/>
  <dc:title>Защита населения</dc:title>
</cp:coreProperties>
</file>