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EA9-6A02-4928-9D5A-63268E1A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F05-3669-444A-9B66-96252183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DC5-8F82-462F-8832-C74BFCE9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264-72B8-4F58-91F2-4443100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EDB-FEFC-452F-A0EE-8E7E4300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C16-5E11-41B2-84B2-A6C6406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A09-8AB4-4E95-8711-914F11C4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598-50E7-4547-8E9A-4D5311FD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016-0DF1-4848-838F-9C413ED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AD0-9AFA-4602-B699-E8D22CAD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0EB-228D-4B11-ABD4-56E2089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BE6-E2A0-4088-8C42-9735DC6D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6BE3-DF08-492D-94F6-9407061FA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ор Святого М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://s2.fotokto.ru/photo/full/107/1077981.jpg"/>
          <p:cNvPicPr/>
          <p:nvPr/>
        </p:nvPicPr>
        <p:blipFill>
          <a:blip r:embed="rId1"/>
          <a:stretch/>
        </p:blipFill>
        <p:spPr>
          <a:xfrm>
            <a:off x="324000" y="1125360"/>
            <a:ext cx="345420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s://rusfate.ru/uploads/posts/2018-04/1523473197_870_653_fixedwidth.jpg"/>
          <p:cNvPicPr/>
          <p:nvPr/>
        </p:nvPicPr>
        <p:blipFill>
          <a:blip r:embed="rId2"/>
          <a:stretch/>
        </p:blipFill>
        <p:spPr>
          <a:xfrm>
            <a:off x="4572000" y="1052640"/>
            <a:ext cx="371808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place-fact.com/media/fact/66190/photo/media21610_494x246.jpg"/>
          <p:cNvPicPr/>
          <p:nvPr/>
        </p:nvPicPr>
        <p:blipFill>
          <a:blip r:embed="rId3"/>
          <a:stretch/>
        </p:blipFill>
        <p:spPr>
          <a:xfrm>
            <a:off x="1692360" y="3933720"/>
            <a:ext cx="4481280" cy="2232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4643280" y="3500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дрига Собора Святого М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2556000" y="6308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тетра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цы Вен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Содержимое 3" descr="палаццо.jpg"/>
          <p:cNvPicPr/>
          <p:nvPr/>
        </p:nvPicPr>
        <p:blipFill>
          <a:blip r:embed="rId1"/>
          <a:stretch/>
        </p:blipFill>
        <p:spPr>
          <a:xfrm>
            <a:off x="6227640" y="1052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2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9" descr="деи Турку.jpg"/>
          <p:cNvPicPr/>
          <p:nvPr/>
        </p:nvPicPr>
        <p:blipFill>
          <a:blip r:embed="rId2"/>
          <a:stretch/>
        </p:blipFill>
        <p:spPr>
          <a:xfrm>
            <a:off x="324000" y="4581360"/>
            <a:ext cx="2901960" cy="18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s://putidorogi-nn.ru/images/stories/evropa/dvorec_dozhey_v_venecii_2.jpg"/>
          <p:cNvPicPr/>
          <p:nvPr/>
        </p:nvPicPr>
        <p:blipFill>
          <a:blip r:embed="rId3"/>
          <a:stretch/>
        </p:blipFill>
        <p:spPr>
          <a:xfrm>
            <a:off x="250920" y="981000"/>
            <a:ext cx="2809800" cy="1871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кадоро.jpg"/>
          <p:cNvPicPr/>
          <p:nvPr/>
        </p:nvPicPr>
        <p:blipFill>
          <a:blip r:embed="rId4"/>
          <a:stretch/>
        </p:blipFill>
        <p:spPr>
          <a:xfrm>
            <a:off x="6300720" y="4508640"/>
            <a:ext cx="2374920" cy="2087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2" descr="Каза Фоскари.jpg"/>
          <p:cNvPicPr/>
          <p:nvPr/>
        </p:nvPicPr>
        <p:blipFill>
          <a:blip r:embed="rId5"/>
          <a:stretch/>
        </p:blipFill>
        <p:spPr>
          <a:xfrm>
            <a:off x="3276720" y="2997360"/>
            <a:ext cx="2879640" cy="1800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14"/>
          <p:cNvSpPr/>
          <p:nvPr/>
        </p:nvSpPr>
        <p:spPr>
          <a:xfrm>
            <a:off x="0" y="476280"/>
            <a:ext cx="35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ец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енецианска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932360" y="54936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лацц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рсет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изантийский ст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132000" y="2421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ец Фонда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р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изантийский ст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46836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 д Оро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 flipH="1">
            <a:off x="6372360" y="400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за Фоскари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контарини фазан.jpg"/>
          <p:cNvPicPr/>
          <p:nvPr/>
        </p:nvPicPr>
        <p:blipFill>
          <a:blip r:embed="rId1"/>
          <a:stretch/>
        </p:blipFill>
        <p:spPr>
          <a:xfrm>
            <a:off x="250920" y="260280"/>
            <a:ext cx="2017440" cy="331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церковь санти джованни паоло.jpg"/>
          <p:cNvPicPr/>
          <p:nvPr/>
        </p:nvPicPr>
        <p:blipFill>
          <a:blip r:embed="rId2"/>
          <a:stretch/>
        </p:blipFill>
        <p:spPr>
          <a:xfrm>
            <a:off x="5364000" y="836640"/>
            <a:ext cx="3564000" cy="19843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санта мария глориоза.png"/>
          <p:cNvPicPr/>
          <p:nvPr/>
        </p:nvPicPr>
        <p:blipFill>
          <a:blip r:embed="rId3"/>
          <a:stretch/>
        </p:blipFill>
        <p:spPr>
          <a:xfrm>
            <a:off x="2340000" y="1268280"/>
            <a:ext cx="2879640" cy="2249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санта мария деи мираколи.jpg"/>
          <p:cNvPicPr/>
          <p:nvPr/>
        </p:nvPicPr>
        <p:blipFill>
          <a:blip r:embed="rId4"/>
          <a:stretch/>
        </p:blipFill>
        <p:spPr>
          <a:xfrm>
            <a:off x="395280" y="4211640"/>
            <a:ext cx="1800360" cy="2457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скуола святого марка.jpg"/>
          <p:cNvPicPr/>
          <p:nvPr/>
        </p:nvPicPr>
        <p:blipFill>
          <a:blip r:embed="rId5"/>
          <a:stretch/>
        </p:blipFill>
        <p:spPr>
          <a:xfrm>
            <a:off x="2700360" y="3933720"/>
            <a:ext cx="2633760" cy="2519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палаццо Дарио.jpg"/>
          <p:cNvPicPr/>
          <p:nvPr/>
        </p:nvPicPr>
        <p:blipFill>
          <a:blip r:embed="rId6"/>
          <a:stretch/>
        </p:blipFill>
        <p:spPr>
          <a:xfrm>
            <a:off x="5724360" y="3141720"/>
            <a:ext cx="2814840" cy="3402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0"/>
          <p:cNvSpPr/>
          <p:nvPr/>
        </p:nvSpPr>
        <p:spPr>
          <a:xfrm>
            <a:off x="324000" y="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тарини Фазан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ешанный готический и мавританский ст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547640" y="404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рковь Санта Мария Глорио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и Фрари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5364000" y="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Санти Джованни 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оло- го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324000" y="357336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та Мар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и Мираколи Венецианский ренесса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700360" y="357336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ола святого Марка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Воз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724360" y="29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аццо Дарио - ренесса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40:20Z</dcterms:created>
  <dc:creator>Дернов</dc:creator>
  <dc:description/>
  <dc:language>en-US</dc:language>
  <cp:lastModifiedBy>школа</cp:lastModifiedBy>
  <dcterms:modified xsi:type="dcterms:W3CDTF">2019-05-07T10:28:40Z</dcterms:modified>
  <cp:revision>72</cp:revision>
  <dc:subject/>
  <dc:title>Государственный общеобразовательный центр №195 Адмиралтейского района Санкт-Петербурга                                  Бородинская 11 литера А</dc:title>
</cp:coreProperties>
</file>