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0F3-FF08-4F93-B76F-BB8EF8D3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F86-5042-414B-8046-3B491008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6BD-5A04-4478-AE64-14BD027B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0F9-7C9E-4CD7-A80B-96EA66BD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51A-1BCA-4478-8114-C4044191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063-C508-4DBC-851D-4350A22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A6F-15C1-477D-A771-5CAAF49B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31B-28F0-461D-BA04-3681686A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380-3869-4C17-B01D-AB766C3A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6EE-DEC7-4A43-A0B3-C4A1A9A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CE6-6510-4C94-BC1A-0020506F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40E-5DF0-49B8-8FE0-9BEF8C17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93DF-F74A-4B50-B497-F8B82A41D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р Святого М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s2.fotokto.ru/photo/full/107/1077981.jpg"/>
          <p:cNvPicPr/>
          <p:nvPr/>
        </p:nvPicPr>
        <p:blipFill>
          <a:blip r:embed="rId1"/>
          <a:stretch/>
        </p:blipFill>
        <p:spPr>
          <a:xfrm>
            <a:off x="324000" y="1125360"/>
            <a:ext cx="345420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s://rusfate.ru/uploads/posts/2018-04/1523473197_870_653_fixedwidth.jpg"/>
          <p:cNvPicPr/>
          <p:nvPr/>
        </p:nvPicPr>
        <p:blipFill>
          <a:blip r:embed="rId2"/>
          <a:stretch/>
        </p:blipFill>
        <p:spPr>
          <a:xfrm>
            <a:off x="4572000" y="1052640"/>
            <a:ext cx="3718080" cy="24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place-fact.com/media/fact/66190/photo/media21610_494x246.jpg"/>
          <p:cNvPicPr/>
          <p:nvPr/>
        </p:nvPicPr>
        <p:blipFill>
          <a:blip r:embed="rId3"/>
          <a:stretch/>
        </p:blipFill>
        <p:spPr>
          <a:xfrm>
            <a:off x="1692360" y="3933720"/>
            <a:ext cx="448128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4643280" y="3500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ига Собора Святого М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2556000" y="6308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тетрар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цы Вен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3" descr="палаццо.jpg"/>
          <p:cNvPicPr/>
          <p:nvPr/>
        </p:nvPicPr>
        <p:blipFill>
          <a:blip r:embed="rId1"/>
          <a:stretch/>
        </p:blipFill>
        <p:spPr>
          <a:xfrm>
            <a:off x="6227640" y="1052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9" descr="деи Турку.jpg"/>
          <p:cNvPicPr/>
          <p:nvPr/>
        </p:nvPicPr>
        <p:blipFill>
          <a:blip r:embed="rId2"/>
          <a:stretch/>
        </p:blipFill>
        <p:spPr>
          <a:xfrm>
            <a:off x="324000" y="4581360"/>
            <a:ext cx="2901960" cy="18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s://putidorogi-nn.ru/images/stories/evropa/dvorec_dozhey_v_venecii_2.jpg"/>
          <p:cNvPicPr/>
          <p:nvPr/>
        </p:nvPicPr>
        <p:blipFill>
          <a:blip r:embed="rId3"/>
          <a:stretch/>
        </p:blipFill>
        <p:spPr>
          <a:xfrm>
            <a:off x="250920" y="981000"/>
            <a:ext cx="280980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1" descr="кадоро.jpg"/>
          <p:cNvPicPr/>
          <p:nvPr/>
        </p:nvPicPr>
        <p:blipFill>
          <a:blip r:embed="rId4"/>
          <a:stretch/>
        </p:blipFill>
        <p:spPr>
          <a:xfrm>
            <a:off x="6300720" y="4508640"/>
            <a:ext cx="2374920" cy="2087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2" descr="Каза Фоскари.jpg"/>
          <p:cNvPicPr/>
          <p:nvPr/>
        </p:nvPicPr>
        <p:blipFill>
          <a:blip r:embed="rId5"/>
          <a:stretch/>
        </p:blipFill>
        <p:spPr>
          <a:xfrm>
            <a:off x="3276720" y="2997360"/>
            <a:ext cx="2879640" cy="1800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4"/>
          <p:cNvSpPr/>
          <p:nvPr/>
        </p:nvSpPr>
        <p:spPr>
          <a:xfrm>
            <a:off x="0" y="476280"/>
            <a:ext cx="35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ец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енецианска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4932360" y="54936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лацц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рсетт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изантийский сти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132000" y="2421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ец Фонда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р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изантийский сти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46836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 д Оро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 flipH="1">
            <a:off x="6372360" y="400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 Фоскари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контарини фазан.jpg"/>
          <p:cNvPicPr/>
          <p:nvPr/>
        </p:nvPicPr>
        <p:blipFill>
          <a:blip r:embed="rId1"/>
          <a:stretch/>
        </p:blipFill>
        <p:spPr>
          <a:xfrm>
            <a:off x="250920" y="260280"/>
            <a:ext cx="2017440" cy="3313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церковь санти джованни паоло.jpg"/>
          <p:cNvPicPr/>
          <p:nvPr/>
        </p:nvPicPr>
        <p:blipFill>
          <a:blip r:embed="rId2"/>
          <a:stretch/>
        </p:blipFill>
        <p:spPr>
          <a:xfrm>
            <a:off x="5364000" y="836640"/>
            <a:ext cx="3564000" cy="1984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санта мария глориоза.png"/>
          <p:cNvPicPr/>
          <p:nvPr/>
        </p:nvPicPr>
        <p:blipFill>
          <a:blip r:embed="rId3"/>
          <a:stretch/>
        </p:blipFill>
        <p:spPr>
          <a:xfrm>
            <a:off x="2340000" y="1268280"/>
            <a:ext cx="2879640" cy="2249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санта мария деи мираколи.jpg"/>
          <p:cNvPicPr/>
          <p:nvPr/>
        </p:nvPicPr>
        <p:blipFill>
          <a:blip r:embed="rId4"/>
          <a:stretch/>
        </p:blipFill>
        <p:spPr>
          <a:xfrm>
            <a:off x="395280" y="4211640"/>
            <a:ext cx="1800360" cy="2457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скуола святого марка.jpg"/>
          <p:cNvPicPr/>
          <p:nvPr/>
        </p:nvPicPr>
        <p:blipFill>
          <a:blip r:embed="rId5"/>
          <a:stretch/>
        </p:blipFill>
        <p:spPr>
          <a:xfrm>
            <a:off x="2700360" y="3933720"/>
            <a:ext cx="2633760" cy="2519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палаццо Дарио.jpg"/>
          <p:cNvPicPr/>
          <p:nvPr/>
        </p:nvPicPr>
        <p:blipFill>
          <a:blip r:embed="rId6"/>
          <a:stretch/>
        </p:blipFill>
        <p:spPr>
          <a:xfrm>
            <a:off x="5724360" y="3141720"/>
            <a:ext cx="2814840" cy="3402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324000" y="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арини Фазан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ешанный готический и мавританский ст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547640" y="404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овь Санта Мария Глорио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и Фрари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5364000" y="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Санти Джованни 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оло- г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324000" y="357336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та Мар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и Мираколи Венецианский ренесса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2700360" y="357336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ола святого Марка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Возр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724360" y="29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аццо Дарио - ренесс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1:40:20Z</dcterms:created>
  <dc:creator>Дернов</dc:creator>
  <dc:description/>
  <dc:language>en-US</dc:language>
  <cp:lastModifiedBy>школа</cp:lastModifiedBy>
  <dcterms:modified xsi:type="dcterms:W3CDTF">2019-05-07T10:28:40Z</dcterms:modified>
  <cp:revision>72</cp:revision>
  <dc:subject/>
  <dc:title>Государственный общеобразовательный центр №195 Адмиралтейского района Санкт-Петербурга                                  Бородинская 11 литера А</dc:title>
</cp:coreProperties>
</file>