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7EB-EEE1-41EF-9841-5B1ECFDB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05F-B898-4C07-9E4F-001B01EA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0AB-5647-4EFA-A87D-C7A1DFBF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71C-88B0-4C2E-B1A3-F64DD2F5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6A24-8C3A-429F-83E1-40DDAE46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D545-5292-4F65-93B2-71169092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6C41-B9A2-48E3-9789-C2BCA172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7A98-18FD-4229-8ABA-AC1B9D2C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649A-1183-4BBF-92FF-702E2154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582F-F888-4FE1-A259-AFBF3CB4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F8D5-9A7F-4219-8F2B-1666DAFC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CDB-D425-4149-8DC6-3B945177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2B0E-0906-4575-B036-E772295E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9ACB-D999-4C5F-81CE-CA865135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7585-4BA4-4553-839F-FE85896A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A1F2-391A-4EFA-855E-8073AD91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407F-C1ED-424B-AEA7-F105B5A7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A63-2E55-4FD2-ACA5-F25EE934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5C9-CCB1-47D8-9A46-0F383E3D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191-39F8-4048-87DE-C0E9B621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319-F3E7-497B-8CC9-07C0DDBC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A824-7764-48F9-9CEC-04116F1B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2B5-E153-4B26-A62A-FBE3E8AA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841-5572-4679-85D6-4437A296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ebf7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DA16-FB8D-4BC7-82B8-4116A79FC71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ebf7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426B-7D3E-4757-B982-A0B501BD1A5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шите задач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В одной корзине 38 кг помидоров, а в другой – на 4 кг меньше. Все помидоры надо разложить в ящики, по 12 кг в каждый. Сколько потребуется ящиков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66680" y="4038480"/>
            <a:ext cx="7226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верка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I – 38 кг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II - ? на 4 кг меньше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1)38 – 4 = 34 (кг) – в другом ящике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2)38 + 34 = 72 (кг) – в двух корзинах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3)72 : 12 = 6 (ящиков) – потребуется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               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Ответ: 6 ящиков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Правая фигурная скобка 3"/>
          <p:cNvSpPr/>
          <p:nvPr/>
        </p:nvSpPr>
        <p:spPr>
          <a:xfrm>
            <a:off x="5529240" y="1763640"/>
            <a:ext cx="304920" cy="99072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990720"/>
              <a:gd name="textAreaBottom" fmla="*/ 9828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33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15000"/>
              </a:lnSpc>
              <a:spcBef>
                <a:spcPts val="1001"/>
              </a:spcBef>
              <a:buNone/>
              <a:tabLst>
                <a:tab algn="l" pos="0"/>
                <a:tab algn="l" pos="1636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  <a:ea typeface="Calibri"/>
              </a:rPr>
              <a:t>Запиши и прочитай числа, в которых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376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8сот. 7е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6сот. 9е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  <a:ea typeface="Calibri"/>
              </a:rPr>
              <a:t>5сот. 2 е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7-03-19T11:52:59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