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F58-8A5C-433A-A770-1E16763C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B71-B7F9-4B57-99CF-9D93D58B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B50-4BC1-42F3-87E1-4F3F8007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97D-224B-413C-B421-900D93FE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B716-571A-4414-97AB-C71309F8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40B5-3897-4FE4-BA87-33C06536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BD99-2EE8-48FE-AF15-A9E23FE9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7C8C-8C0A-453F-8A92-18CBC581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D906-89CC-42C3-A8E8-C6BBCF49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3E3D-BED6-4B8E-BA0F-0BADB601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ED79-71F5-4858-9D95-106F5F86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726-4BEC-4B01-9EA6-463ACDED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EFE6-4478-4B30-9C58-F62255B5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F925-4AF3-49B5-8EC4-664E8EDC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C56E-0331-4C93-B881-E0F89472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BCEE-36B0-4656-A36F-41CF6004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2BE5-81D3-4347-9987-B3038194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362-86FF-41B9-AD92-05B42F0C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76C-C28E-4E26-B3D3-FEDEA2C8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2E0-BD90-4096-B397-4002279C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CFD-1635-455E-B81D-5BC54536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D78-4B90-42A1-B387-976B5F3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0E6-4825-4BB4-922B-EBB1BB9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70B-2CF6-4FEC-8E58-05178F2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ebf7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1D37-F62D-4A5E-919C-D228303FFC1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ebf7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A68-3FB0-4F02-827A-D558A2885A2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шите задач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В одной корзине 38 кг помидоров, а в другой – на 4 кг меньше. Все помидоры надо разложить в ящики, по 12 кг в каждый. Сколько потребуется ящиков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66680" y="4038480"/>
            <a:ext cx="7226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верка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I – 38 кг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II - ? на 4 кг меньше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1)38 – 4 = 34 (кг) – в другом ящик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2)38 + 34 = 72 (кг) – в двух корзина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3)72 : 12 = 6 (ящиков) – потребуется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               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Ответ: 6 ящиков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Правая фигурная скобка 3"/>
          <p:cNvSpPr/>
          <p:nvPr/>
        </p:nvSpPr>
        <p:spPr>
          <a:xfrm>
            <a:off x="5529240" y="176364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990720"/>
              <a:gd name="textAreaBottom" fmla="*/ 9828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33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1636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Запиши и прочитай числа, в которых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376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8сот. 7е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6сот. 9е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5сот. 2 е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03-19T11:52:59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