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2C3-103F-4F4A-B838-DFF82764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971-1F9D-4491-A0DB-322A9DF2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472-44D1-41F9-BCB1-39C09825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08B-0371-4C10-B819-9F19A567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A35-66B4-4F28-A54B-39AE57C9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2AF-513E-4F87-B3F8-065CED73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3B4-0F87-4860-A65A-CA6EABBA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13F-5C3B-4E0F-BBD5-BC0771A3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0E8-1245-407E-A875-C4D6A8AD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6AD-791F-419E-A727-AB261EF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107-204F-4894-AD26-88934C20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1C3-ABB1-45A5-AAAA-AAB6CAD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FC2-D2E2-4BB3-B381-55476A1A9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826920" y="692280"/>
            <a:ext cx="74883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тральная Росс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5760" y="549360"/>
            <a:ext cx="3467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ная металлу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692360" y="1052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395280" y="1413000"/>
            <a:ext cx="431640" cy="358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260720" y="14842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619280" y="21337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684360" y="2852640"/>
            <a:ext cx="1942920" cy="936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2"/>
          <p:cNvSpPr/>
          <p:nvPr/>
        </p:nvSpPr>
        <p:spPr>
          <a:xfrm flipV="1">
            <a:off x="1547640" y="386064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635280" y="549360"/>
            <a:ext cx="3168720" cy="825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ксти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5003640" y="141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4099320" y="1747800"/>
            <a:ext cx="15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воз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ы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716360" y="242100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4065120" y="2781360"/>
            <a:ext cx="17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6518520" y="40464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395280" y="4581360"/>
            <a:ext cx="2448000" cy="2276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755640" y="472428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пец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325800" y="5445000"/>
            <a:ext cx="255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рый Ос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внедоменная пл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чуг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5"/>
          <p:cNvSpPr/>
          <p:nvPr/>
        </p:nvSpPr>
        <p:spPr>
          <a:xfrm>
            <a:off x="3635280" y="4365720"/>
            <a:ext cx="2448000" cy="22762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6"/>
          <p:cNvSpPr/>
          <p:nvPr/>
        </p:nvSpPr>
        <p:spPr>
          <a:xfrm flipV="1">
            <a:off x="4788000" y="357300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3781440" y="4724280"/>
            <a:ext cx="25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ехово-Зу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гин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7142040" y="549360"/>
            <a:ext cx="2000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и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м-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9"/>
          <p:cNvSpPr/>
          <p:nvPr/>
        </p:nvSpPr>
        <p:spPr>
          <a:xfrm>
            <a:off x="8244000" y="141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0"/>
          <p:cNvSpPr/>
          <p:nvPr/>
        </p:nvSpPr>
        <p:spPr>
          <a:xfrm>
            <a:off x="7098840" y="170028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учук и 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8244000" y="2133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2"/>
          <p:cNvSpPr/>
          <p:nvPr/>
        </p:nvSpPr>
        <p:spPr>
          <a:xfrm>
            <a:off x="7667640" y="2349360"/>
            <a:ext cx="1152360" cy="100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34"/>
          <p:cNvSpPr txBox="1"/>
          <p:nvPr/>
        </p:nvSpPr>
        <p:spPr>
          <a:xfrm>
            <a:off x="7885080" y="242100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рослав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7596720" y="33577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6"/>
          <p:cNvSpPr/>
          <p:nvPr/>
        </p:nvSpPr>
        <p:spPr>
          <a:xfrm>
            <a:off x="7524720" y="3933720"/>
            <a:ext cx="115272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7"/>
          <p:cNvSpPr/>
          <p:nvPr/>
        </p:nvSpPr>
        <p:spPr>
          <a:xfrm>
            <a:off x="8172360" y="371628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7236720" y="52293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об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0"/>
          <p:cNvSpPr/>
          <p:nvPr/>
        </p:nvSpPr>
        <p:spPr>
          <a:xfrm>
            <a:off x="7164360" y="5850000"/>
            <a:ext cx="1800360" cy="1008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2"/>
          <p:cNvSpPr/>
          <p:nvPr/>
        </p:nvSpPr>
        <p:spPr>
          <a:xfrm>
            <a:off x="7162560" y="5996160"/>
            <a:ext cx="209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ки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омосковс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3"/>
          <p:cNvSpPr/>
          <p:nvPr/>
        </p:nvSpPr>
        <p:spPr>
          <a:xfrm>
            <a:off x="8028000" y="5589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4"/>
          <p:cNvSpPr/>
          <p:nvPr/>
        </p:nvSpPr>
        <p:spPr>
          <a:xfrm>
            <a:off x="70200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5"/>
          <p:cNvSpPr/>
          <p:nvPr/>
        </p:nvSpPr>
        <p:spPr>
          <a:xfrm>
            <a:off x="7093080" y="5373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6"/>
          <p:cNvSpPr/>
          <p:nvPr/>
        </p:nvSpPr>
        <p:spPr>
          <a:xfrm>
            <a:off x="7380360" y="3500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7"/>
          <p:cNvSpPr/>
          <p:nvPr/>
        </p:nvSpPr>
        <p:spPr>
          <a:xfrm>
            <a:off x="2196360" y="404640"/>
            <a:ext cx="58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пливно-энергетически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665640" y="114300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1476360" y="1341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176560" y="11192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127320" y="1125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о отрасль специ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 flipV="1">
            <a:off x="4067280" y="1052640"/>
            <a:ext cx="237636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1989000"/>
            <a:ext cx="57600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987640" y="2565360"/>
            <a:ext cx="21600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619280" y="2133720"/>
            <a:ext cx="115092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 rot="1722000">
            <a:off x="1693080" y="20606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ы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5724360" y="1844640"/>
            <a:ext cx="1224000" cy="1081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П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 flipH="1">
            <a:off x="7920000" y="2421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0"/>
          <p:cNvSpPr/>
          <p:nvPr/>
        </p:nvSpPr>
        <p:spPr>
          <a:xfrm rot="10800000">
            <a:off x="8459640" y="1700280"/>
            <a:ext cx="503280" cy="574560"/>
          </a:xfrm>
          <a:custGeom>
            <a:avLst/>
            <a:gdLst>
              <a:gd name="textAreaLeft" fmla="*/ 104760 w 503280"/>
              <a:gd name="textAreaRight" fmla="*/ 398520 w 503280"/>
              <a:gd name="textAreaTop" fmla="*/ 119520 h 574560"/>
              <a:gd name="textAreaBottom" fmla="*/ 45504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919600" y="285264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энерг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972360" y="3573360"/>
            <a:ext cx="10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325800" y="4149720"/>
            <a:ext cx="22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нако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остром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яз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6660360" y="350028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5"/>
          <p:cNvSpPr/>
          <p:nvPr/>
        </p:nvSpPr>
        <p:spPr>
          <a:xfrm>
            <a:off x="3927600" y="3600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ГЭ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3708720" y="39337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ебольш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091920" y="4076640"/>
            <a:ext cx="304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ин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оворонеж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ле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8"/>
          <p:cNvSpPr/>
          <p:nvPr/>
        </p:nvSpPr>
        <p:spPr>
          <a:xfrm>
            <a:off x="3420360" y="43657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На реках Волг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Свири, Волх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 flipH="1">
            <a:off x="2050920" y="3284640"/>
            <a:ext cx="93672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>
            <a:off x="4356000" y="3213000"/>
            <a:ext cx="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1"/>
          <p:cNvSpPr/>
          <p:nvPr/>
        </p:nvSpPr>
        <p:spPr>
          <a:xfrm>
            <a:off x="5867280" y="3284640"/>
            <a:ext cx="792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5607E-006 L -0.11007 -1.15607E-006 E">
                                      <p:cBhvr>
                                        <p:cTn id="121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31214E-007 L -0.12968 0.00023 E">
                                      <p:cBhvr>
                                        <p:cTn id="1218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 rot="5400000">
            <a:off x="-937800" y="14486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АП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307" name="Arc 9"/>
          <p:cNvSpPr/>
          <p:nvPr/>
        </p:nvSpPr>
        <p:spPr>
          <a:xfrm rot="9900600">
            <a:off x="1496520" y="2193480"/>
            <a:ext cx="4587840" cy="4832280"/>
          </a:xfrm>
          <a:custGeom>
            <a:avLst/>
            <a:gdLst/>
            <a:ahLst/>
            <a:rect l="l" t="t" r="r" b="b"/>
            <a:pathLst>
              <a:path fill="none" w="23485" h="33582">
                <a:moveTo>
                  <a:pt x="0" y="82"/>
                </a:moveTo>
                <a:cubicBezTo>
                  <a:pt x="626" y="27"/>
                  <a:pt x="1255" y="0"/>
                  <a:pt x="1885" y="0"/>
                </a:cubicBezTo>
                <a:cubicBezTo>
                  <a:pt x="13814" y="0"/>
                  <a:pt x="23485" y="9670"/>
                  <a:pt x="23485" y="21600"/>
                </a:cubicBezTo>
                <a:cubicBezTo>
                  <a:pt x="23485" y="25864"/>
                  <a:pt x="22222" y="30033"/>
                  <a:pt x="19856" y="-31955"/>
                </a:cubicBezTo>
              </a:path>
              <a:path stroke="0" w="23485" h="33582">
                <a:moveTo>
                  <a:pt x="0" y="82"/>
                </a:moveTo>
                <a:cubicBezTo>
                  <a:pt x="626" y="27"/>
                  <a:pt x="1255" y="0"/>
                  <a:pt x="1885" y="0"/>
                </a:cubicBezTo>
                <a:cubicBezTo>
                  <a:pt x="13814" y="0"/>
                  <a:pt x="23485" y="9670"/>
                  <a:pt x="23485" y="21600"/>
                </a:cubicBezTo>
                <a:cubicBezTo>
                  <a:pt x="23485" y="25864"/>
                  <a:pt x="22222" y="30033"/>
                  <a:pt x="19856" y="-31955"/>
                </a:cubicBezTo>
                <a:lnTo>
                  <a:pt x="1885" y="21600"/>
                </a:lnTo>
                <a:lnTo>
                  <a:pt x="0" y="82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10"/>
          <p:cNvSpPr/>
          <p:nvPr/>
        </p:nvSpPr>
        <p:spPr>
          <a:xfrm rot="1184400">
            <a:off x="4575240" y="1558800"/>
            <a:ext cx="3968640" cy="4578480"/>
          </a:xfrm>
          <a:custGeom>
            <a:avLst/>
            <a:gdLst/>
            <a:ahLst/>
            <a:rect l="l" t="t" r="r" b="b"/>
            <a:pathLst>
              <a:path fill="none" w="21600" h="32961">
                <a:moveTo>
                  <a:pt x="11685" y="-1"/>
                </a:moveTo>
                <a:cubicBezTo>
                  <a:pt x="17864" y="3974"/>
                  <a:pt x="21600" y="10818"/>
                  <a:pt x="21600" y="18166"/>
                </a:cubicBezTo>
                <a:cubicBezTo>
                  <a:pt x="21600" y="23664"/>
                  <a:pt x="19503" y="28955"/>
                  <a:pt x="15737" y="32961"/>
                </a:cubicBezTo>
              </a:path>
              <a:path stroke="0" w="21600" h="32961">
                <a:moveTo>
                  <a:pt x="11685" y="-1"/>
                </a:moveTo>
                <a:cubicBezTo>
                  <a:pt x="17864" y="3974"/>
                  <a:pt x="21600" y="10818"/>
                  <a:pt x="21600" y="18166"/>
                </a:cubicBezTo>
                <a:cubicBezTo>
                  <a:pt x="21600" y="23664"/>
                  <a:pt x="19503" y="28955"/>
                  <a:pt x="15737" y="32961"/>
                </a:cubicBezTo>
                <a:lnTo>
                  <a:pt x="0" y="18166"/>
                </a:lnTo>
                <a:lnTo>
                  <a:pt x="11685" y="-1"/>
                </a:lnTo>
                <a:close/>
              </a:path>
            </a:pathLst>
          </a:custGeom>
          <a:solidFill>
            <a:srgbClr val="99ffcc"/>
          </a:solidFill>
          <a:ln w="7632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11"/>
          <p:cNvSpPr/>
          <p:nvPr/>
        </p:nvSpPr>
        <p:spPr>
          <a:xfrm rot="15317400">
            <a:off x="3180240" y="-939240"/>
            <a:ext cx="2590920" cy="5999040"/>
          </a:xfrm>
          <a:custGeom>
            <a:avLst/>
            <a:gdLst/>
            <a:ahLst/>
            <a:rect l="l" t="t" r="r" b="b"/>
            <a:pathLst>
              <a:path fill="none" w="21600" h="39201">
                <a:moveTo>
                  <a:pt x="10834" y="0"/>
                </a:moveTo>
                <a:cubicBezTo>
                  <a:pt x="17498" y="3863"/>
                  <a:pt x="21600" y="10983"/>
                  <a:pt x="21600" y="18686"/>
                </a:cubicBezTo>
                <a:cubicBezTo>
                  <a:pt x="21600" y="28010"/>
                  <a:pt x="15616" y="-29254"/>
                  <a:pt x="6759" y="-26336"/>
                </a:cubicBezTo>
              </a:path>
              <a:path stroke="0" w="21600" h="39201">
                <a:moveTo>
                  <a:pt x="10834" y="0"/>
                </a:moveTo>
                <a:cubicBezTo>
                  <a:pt x="17498" y="3863"/>
                  <a:pt x="21600" y="10983"/>
                  <a:pt x="21600" y="18686"/>
                </a:cubicBezTo>
                <a:cubicBezTo>
                  <a:pt x="21600" y="28010"/>
                  <a:pt x="15616" y="-29254"/>
                  <a:pt x="6759" y="-26336"/>
                </a:cubicBezTo>
                <a:lnTo>
                  <a:pt x="0" y="18686"/>
                </a:lnTo>
                <a:lnTo>
                  <a:pt x="10834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 flipH="1">
            <a:off x="1403280" y="2997360"/>
            <a:ext cx="33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837800" y="2997360"/>
            <a:ext cx="67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1979640" y="33577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2484360" y="3068640"/>
            <a:ext cx="217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офель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2195280" y="364500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олнечник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9"/>
          <p:cNvSpPr/>
          <p:nvPr/>
        </p:nvSpPr>
        <p:spPr>
          <a:xfrm>
            <a:off x="1403280" y="4076640"/>
            <a:ext cx="19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со, моло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о 8-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1617480" y="386064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харная свекла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1"/>
          <p:cNvSpPr/>
          <p:nvPr/>
        </p:nvSpPr>
        <p:spPr>
          <a:xfrm rot="4177800">
            <a:off x="3291480" y="3331080"/>
            <a:ext cx="352440" cy="2300400"/>
          </a:xfrm>
          <a:custGeom>
            <a:avLst/>
            <a:gdLst>
              <a:gd name="textAreaLeft" fmla="*/ 0 w 352440"/>
              <a:gd name="textAreaRight" fmla="*/ 127080 w 352440"/>
              <a:gd name="textAreaTop" fmla="*/ 59760 h 2300400"/>
              <a:gd name="textAreaBottom" fmla="*/ 2240640 h 23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87"/>
                </a:lnTo>
                <a:cubicBezTo>
                  <a:pt x="10800" y="9687"/>
                  <a:pt x="16200" y="10587"/>
                  <a:pt x="21600" y="10587"/>
                </a:cubicBezTo>
                <a:cubicBezTo>
                  <a:pt x="16200" y="10587"/>
                  <a:pt x="10800" y="11487"/>
                  <a:pt x="10800" y="123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2556720" y="4653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щевая пром-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3277440" y="4940280"/>
            <a:ext cx="245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лобой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комо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 flipH="1">
            <a:off x="4858920" y="1773360"/>
            <a:ext cx="2592360" cy="143964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 rot="19613400">
            <a:off x="6086520" y="227628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8"/>
          <p:cNvSpPr/>
          <p:nvPr/>
        </p:nvSpPr>
        <p:spPr>
          <a:xfrm rot="17682600">
            <a:off x="7322400" y="449604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Arial"/>
              </a:rPr>
              <a:t>В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3"/>
          <p:cNvSpPr/>
          <p:nvPr/>
        </p:nvSpPr>
        <p:spPr>
          <a:xfrm>
            <a:off x="5509440" y="2781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 го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6588000" y="3213000"/>
            <a:ext cx="0" cy="2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5"/>
          <p:cNvSpPr/>
          <p:nvPr/>
        </p:nvSpPr>
        <p:spPr>
          <a:xfrm>
            <a:off x="5218560" y="3475080"/>
            <a:ext cx="32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город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6"/>
          <p:cNvSpPr/>
          <p:nvPr/>
        </p:nvSpPr>
        <p:spPr>
          <a:xfrm>
            <a:off x="6443640" y="37893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7"/>
          <p:cNvSpPr/>
          <p:nvPr/>
        </p:nvSpPr>
        <p:spPr>
          <a:xfrm>
            <a:off x="5505480" y="407664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ая пром-ть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2916000" y="1197000"/>
            <a:ext cx="43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но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чное животно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0"/>
          <p:cNvSpPr/>
          <p:nvPr/>
        </p:nvSpPr>
        <p:spPr>
          <a:xfrm rot="5400000">
            <a:off x="4321800" y="1014840"/>
            <a:ext cx="352440" cy="2300400"/>
          </a:xfrm>
          <a:custGeom>
            <a:avLst/>
            <a:gdLst>
              <a:gd name="textAreaLeft" fmla="*/ 0 w 352440"/>
              <a:gd name="textAreaRight" fmla="*/ 127080 w 352440"/>
              <a:gd name="textAreaTop" fmla="*/ 59760 h 2300400"/>
              <a:gd name="textAreaBottom" fmla="*/ 2240640 h 23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87"/>
                </a:lnTo>
                <a:cubicBezTo>
                  <a:pt x="10800" y="9687"/>
                  <a:pt x="16200" y="10587"/>
                  <a:pt x="21600" y="10587"/>
                </a:cubicBezTo>
                <a:cubicBezTo>
                  <a:pt x="16200" y="10587"/>
                  <a:pt x="10800" y="11487"/>
                  <a:pt x="10800" y="1238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4142160" y="2421000"/>
            <a:ext cx="7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2"/>
          <p:cNvSpPr/>
          <p:nvPr/>
        </p:nvSpPr>
        <p:spPr>
          <a:xfrm rot="3447000">
            <a:off x="1131840" y="5277960"/>
            <a:ext cx="10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Ч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 rot="20643000">
            <a:off x="3132360" y="333360"/>
            <a:ext cx="18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-З Ц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1695240" y="0"/>
            <a:ext cx="59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Транспорт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044360" y="88272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/Д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4764960" y="90000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моби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7"/>
          <p:cNvSpPr/>
          <p:nvPr/>
        </p:nvSpPr>
        <p:spPr>
          <a:xfrm>
            <a:off x="2843280" y="1916280"/>
            <a:ext cx="1368360" cy="122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8"/>
          <p:cNvSpPr/>
          <p:nvPr/>
        </p:nvSpPr>
        <p:spPr>
          <a:xfrm>
            <a:off x="3059280" y="2133720"/>
            <a:ext cx="86508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9"/>
          <p:cNvSpPr/>
          <p:nvPr/>
        </p:nvSpPr>
        <p:spPr>
          <a:xfrm>
            <a:off x="3348000" y="2349360"/>
            <a:ext cx="287280" cy="2876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3492360" y="1700280"/>
            <a:ext cx="71640" cy="15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262692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2"/>
          <p:cNvSpPr/>
          <p:nvPr/>
        </p:nvSpPr>
        <p:spPr>
          <a:xfrm flipH="1" flipV="1">
            <a:off x="2771280" y="2133360"/>
            <a:ext cx="151308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3"/>
          <p:cNvSpPr/>
          <p:nvPr/>
        </p:nvSpPr>
        <p:spPr>
          <a:xfrm flipH="1">
            <a:off x="2771640" y="2060640"/>
            <a:ext cx="1368720" cy="93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4"/>
          <p:cNvSpPr/>
          <p:nvPr/>
        </p:nvSpPr>
        <p:spPr>
          <a:xfrm flipH="1">
            <a:off x="3131640" y="2565360"/>
            <a:ext cx="36036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 flipH="1" flipV="1">
            <a:off x="2987280" y="1844280"/>
            <a:ext cx="107964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1692360" y="1557360"/>
            <a:ext cx="100800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 flipH="1">
            <a:off x="4356000" y="1484280"/>
            <a:ext cx="72072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0" y="3573360"/>
            <a:ext cx="5148360" cy="32846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1189080" y="3643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375840" y="4287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469800" y="544500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~~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9"/>
          <p:cNvSpPr/>
          <p:nvPr/>
        </p:nvSpPr>
        <p:spPr>
          <a:xfrm>
            <a:off x="2266560" y="4292640"/>
            <a:ext cx="251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го-Балтий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971640" y="4724280"/>
            <a:ext cx="0" cy="720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1"/>
          <p:cNvSpPr/>
          <p:nvPr/>
        </p:nvSpPr>
        <p:spPr>
          <a:xfrm>
            <a:off x="1979640" y="4292640"/>
            <a:ext cx="216000" cy="17287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575"/>
                </a:lnTo>
                <a:cubicBezTo>
                  <a:pt x="10800" y="4475"/>
                  <a:pt x="16200" y="5375"/>
                  <a:pt x="21600" y="5375"/>
                </a:cubicBezTo>
                <a:cubicBezTo>
                  <a:pt x="16200" y="5375"/>
                  <a:pt x="10800" y="6275"/>
                  <a:pt x="10800" y="7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2"/>
          <p:cNvSpPr/>
          <p:nvPr/>
        </p:nvSpPr>
        <p:spPr>
          <a:xfrm>
            <a:off x="2337120" y="5950080"/>
            <a:ext cx="240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л им.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ка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~~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3"/>
          <p:cNvSpPr/>
          <p:nvPr/>
        </p:nvSpPr>
        <p:spPr>
          <a:xfrm flipV="1">
            <a:off x="3492360" y="558936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4"/>
          <p:cNvSpPr/>
          <p:nvPr/>
        </p:nvSpPr>
        <p:spPr>
          <a:xfrm>
            <a:off x="2916360" y="53006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5"/>
          <p:cNvSpPr/>
          <p:nvPr/>
        </p:nvSpPr>
        <p:spPr>
          <a:xfrm flipV="1">
            <a:off x="3492360" y="501300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6"/>
          <p:cNvSpPr/>
          <p:nvPr/>
        </p:nvSpPr>
        <p:spPr>
          <a:xfrm>
            <a:off x="6375600" y="292428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душ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7"/>
          <p:cNvSpPr/>
          <p:nvPr/>
        </p:nvSpPr>
        <p:spPr>
          <a:xfrm>
            <a:off x="5653080" y="4292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8"/>
          <p:cNvSpPr/>
          <p:nvPr/>
        </p:nvSpPr>
        <p:spPr>
          <a:xfrm flipV="1">
            <a:off x="6948360" y="4508640"/>
            <a:ext cx="43200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7504560" y="421164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ел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0" descr="j0233070"/>
          <p:cNvPicPr/>
          <p:nvPr/>
        </p:nvPicPr>
        <p:blipFill>
          <a:blip r:embed="rId1"/>
          <a:stretch/>
        </p:blipFill>
        <p:spPr>
          <a:xfrm>
            <a:off x="7451640" y="3789360"/>
            <a:ext cx="1513080" cy="5256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41"/>
          <p:cNvSpPr/>
          <p:nvPr/>
        </p:nvSpPr>
        <p:spPr>
          <a:xfrm>
            <a:off x="6137640" y="46720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аэро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2"/>
          <p:cNvSpPr/>
          <p:nvPr/>
        </p:nvSpPr>
        <p:spPr>
          <a:xfrm>
            <a:off x="6010200" y="5084640"/>
            <a:ext cx="203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ук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Шереметь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модед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ыко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2843280" y="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альн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95280" y="549360"/>
            <a:ext cx="1655640" cy="64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Центр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348000" y="620640"/>
            <a:ext cx="208764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Центр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ерноз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6372360" y="692280"/>
            <a:ext cx="1871640" cy="64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Волго-Вя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2558160" y="6922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5582160" y="69228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2195640" y="404640"/>
            <a:ext cx="7920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4427640" y="40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084720" y="333360"/>
            <a:ext cx="648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7"/>
          <p:cNvSpPr/>
          <p:nvPr/>
        </p:nvSpPr>
        <p:spPr>
          <a:xfrm>
            <a:off x="395280" y="1197000"/>
            <a:ext cx="1655640" cy="5032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9"/>
          <p:cNvSpPr/>
          <p:nvPr/>
        </p:nvSpPr>
        <p:spPr>
          <a:xfrm>
            <a:off x="3348000" y="1484280"/>
            <a:ext cx="2087640" cy="43200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об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6372360" y="1341360"/>
            <a:ext cx="1871640" cy="50328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респ-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179280" y="2060640"/>
            <a:ext cx="1584360" cy="194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2050920" y="2060640"/>
            <a:ext cx="108108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"/>
          <p:cNvSpPr/>
          <p:nvPr/>
        </p:nvSpPr>
        <p:spPr>
          <a:xfrm rot="5400000">
            <a:off x="7454160" y="3572640"/>
            <a:ext cx="79056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 rot="5400000">
            <a:off x="7235280" y="4508280"/>
            <a:ext cx="865440" cy="20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611280" y="4292640"/>
            <a:ext cx="1800000" cy="1657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3276720" y="4508640"/>
            <a:ext cx="13665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5364000" y="4437000"/>
            <a:ext cx="863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3203640" y="1989000"/>
            <a:ext cx="2232000" cy="2376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"/>
          <p:cNvSpPr/>
          <p:nvPr/>
        </p:nvSpPr>
        <p:spPr>
          <a:xfrm rot="5400000">
            <a:off x="4606920" y="2889000"/>
            <a:ext cx="216036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аши, Морд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й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948360" y="2205000"/>
            <a:ext cx="158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4"/>
          <p:cNvSpPr/>
          <p:nvPr/>
        </p:nvSpPr>
        <p:spPr>
          <a:xfrm>
            <a:off x="612000" y="1989000"/>
            <a:ext cx="83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ЭГП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5"/>
          <p:cNvSpPr/>
          <p:nvPr/>
        </p:nvSpPr>
        <p:spPr>
          <a:xfrm>
            <a:off x="325800" y="2276640"/>
            <a:ext cx="137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центр-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6"/>
          <p:cNvSpPr/>
          <p:nvPr/>
        </p:nvSpPr>
        <p:spPr>
          <a:xfrm>
            <a:off x="233640" y="2513160"/>
            <a:ext cx="155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ед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7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233280" y="33764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-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4"/>
          <p:cNvSpPr/>
          <p:nvPr/>
        </p:nvSpPr>
        <p:spPr>
          <a:xfrm>
            <a:off x="2486160" y="59500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родные 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5"/>
          <p:cNvSpPr/>
          <p:nvPr/>
        </p:nvSpPr>
        <p:spPr>
          <a:xfrm>
            <a:off x="5003640" y="6165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6"/>
          <p:cNvSpPr/>
          <p:nvPr/>
        </p:nvSpPr>
        <p:spPr>
          <a:xfrm>
            <a:off x="5437440" y="595008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7"/>
          <p:cNvSpPr/>
          <p:nvPr/>
        </p:nvSpPr>
        <p:spPr>
          <a:xfrm>
            <a:off x="179280" y="6308640"/>
            <a:ext cx="360360" cy="289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8"/>
          <p:cNvSpPr/>
          <p:nvPr/>
        </p:nvSpPr>
        <p:spPr>
          <a:xfrm>
            <a:off x="593640" y="625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М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ree"/>
          <p:cNvSpPr/>
          <p:nvPr/>
        </p:nvSpPr>
        <p:spPr>
          <a:xfrm>
            <a:off x="6877080" y="6237360"/>
            <a:ext cx="689040" cy="473040"/>
          </a:xfrm>
          <a:custGeom>
            <a:avLst/>
            <a:gdLst>
              <a:gd name="textAreaLeft" fmla="*/ 24120 w 689040"/>
              <a:gd name="textAreaRight" fmla="*/ 672120 w 689040"/>
              <a:gd name="textAreaTop" fmla="*/ 491760 h 473040"/>
              <a:gd name="textAreaBottom" fmla="*/ 61956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0"/>
          <p:cNvSpPr/>
          <p:nvPr/>
        </p:nvSpPr>
        <p:spPr>
          <a:xfrm>
            <a:off x="7670160" y="62373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е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1"/>
          <p:cNvSpPr/>
          <p:nvPr/>
        </p:nvSpPr>
        <p:spPr>
          <a:xfrm>
            <a:off x="1403280" y="6308640"/>
            <a:ext cx="360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6"/>
          <p:cNvSpPr/>
          <p:nvPr/>
        </p:nvSpPr>
        <p:spPr>
          <a:xfrm flipH="1">
            <a:off x="1403280" y="6308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7"/>
          <p:cNvSpPr/>
          <p:nvPr/>
        </p:nvSpPr>
        <p:spPr>
          <a:xfrm flipH="1">
            <a:off x="1402920" y="6308640"/>
            <a:ext cx="360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8"/>
          <p:cNvSpPr/>
          <p:nvPr/>
        </p:nvSpPr>
        <p:spPr>
          <a:xfrm flipH="1">
            <a:off x="1547640" y="6453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9"/>
          <p:cNvSpPr/>
          <p:nvPr/>
        </p:nvSpPr>
        <p:spPr>
          <a:xfrm>
            <a:off x="1766160" y="621648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моск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0"/>
          <p:cNvSpPr/>
          <p:nvPr/>
        </p:nvSpPr>
        <p:spPr>
          <a:xfrm>
            <a:off x="306720" y="2800440"/>
            <a:ext cx="134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о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тег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2"/>
          <p:cNvSpPr/>
          <p:nvPr/>
        </p:nvSpPr>
        <p:spPr>
          <a:xfrm>
            <a:off x="3422520" y="191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3"/>
          <p:cNvSpPr/>
          <p:nvPr/>
        </p:nvSpPr>
        <p:spPr>
          <a:xfrm>
            <a:off x="3255840" y="2152800"/>
            <a:ext cx="21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родск. на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4"/>
          <p:cNvSpPr/>
          <p:nvPr/>
        </p:nvSpPr>
        <p:spPr>
          <a:xfrm>
            <a:off x="3495240" y="2421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, Н.Нов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85"/>
          <p:cNvSpPr/>
          <p:nvPr/>
        </p:nvSpPr>
        <p:spPr>
          <a:xfrm>
            <a:off x="3276720" y="2492280"/>
            <a:ext cx="215640" cy="216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6"/>
          <p:cNvSpPr/>
          <p:nvPr/>
        </p:nvSpPr>
        <p:spPr>
          <a:xfrm>
            <a:off x="3420720" y="2637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87"/>
          <p:cNvSpPr/>
          <p:nvPr/>
        </p:nvSpPr>
        <p:spPr>
          <a:xfrm>
            <a:off x="3419640" y="3068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8"/>
          <p:cNvSpPr/>
          <p:nvPr/>
        </p:nvSpPr>
        <p:spPr>
          <a:xfrm>
            <a:off x="3420000" y="299736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9"/>
          <p:cNvSpPr/>
          <p:nvPr/>
        </p:nvSpPr>
        <p:spPr>
          <a:xfrm>
            <a:off x="3419640" y="321300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0"/>
          <p:cNvSpPr/>
          <p:nvPr/>
        </p:nvSpPr>
        <p:spPr>
          <a:xfrm>
            <a:off x="3135600" y="357336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оквалиф-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1"/>
          <p:cNvSpPr/>
          <p:nvPr/>
        </p:nvSpPr>
        <p:spPr>
          <a:xfrm>
            <a:off x="1983600" y="21337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иф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ж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2"/>
          <p:cNvSpPr/>
          <p:nvPr/>
        </p:nvSpPr>
        <p:spPr>
          <a:xfrm rot="5400000">
            <a:off x="5219640" y="2787120"/>
            <a:ext cx="237060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мково, Хох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-е матр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4"/>
          <p:cNvSpPr/>
          <p:nvPr/>
        </p:nvSpPr>
        <p:spPr>
          <a:xfrm>
            <a:off x="973080" y="42926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5"/>
          <p:cNvSpPr/>
          <p:nvPr/>
        </p:nvSpPr>
        <p:spPr>
          <a:xfrm>
            <a:off x="612720" y="4508640"/>
            <a:ext cx="185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коем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ерг.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/д тран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nodeType="clickEffect" fill="hold">
                      <p:stCondLst>
                        <p:cond delay="indefinite"/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nodeType="clickEffect" fill="hold">
                      <p:stCondLst>
                        <p:cond delay="indefinite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nodeType="clickEffect" fill="hold">
                      <p:stCondLst>
                        <p:cond delay="indefinite"/>
                      </p:stCondLst>
                      <p:childTnLst>
                        <p:par>
                          <p:cTn id="1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nodeType="clickEffect" fill="hold">
                      <p:stCondLst>
                        <p:cond delay="indefinite"/>
                      </p:stCondLst>
                      <p:childTnLst>
                        <p:par>
                          <p:cTn id="1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4"/>
          <p:cNvSpPr/>
          <p:nvPr/>
        </p:nvSpPr>
        <p:spPr>
          <a:xfrm>
            <a:off x="1403280" y="189000"/>
            <a:ext cx="58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ы и перспектив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ентральн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-5760" y="1197000"/>
            <a:ext cx="381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носительная бед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ественными ресур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79280" y="2060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1769400" y="18900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Природные ресурсы и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468360" y="1197000"/>
            <a:ext cx="0" cy="863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 flipH="1">
            <a:off x="468000" y="1197000"/>
            <a:ext cx="647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1116000" y="1197000"/>
            <a:ext cx="0" cy="8636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41080" y="1268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 flipH="1">
            <a:off x="755640" y="1341360"/>
            <a:ext cx="21600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 flipH="1">
            <a:off x="684000" y="1341360"/>
            <a:ext cx="21564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1476360" y="162864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/>
          <p:cNvSpPr/>
          <p:nvPr/>
        </p:nvSpPr>
        <p:spPr>
          <a:xfrm>
            <a:off x="2195640" y="1413000"/>
            <a:ext cx="503280" cy="358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2846160" y="1197000"/>
            <a:ext cx="12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4211640" y="148428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0"/>
          <p:cNvSpPr/>
          <p:nvPr/>
        </p:nvSpPr>
        <p:spPr>
          <a:xfrm>
            <a:off x="4932360" y="1125360"/>
            <a:ext cx="1944720" cy="935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4934520" y="12682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bOvalCallout"/>
          <p:cNvSpPr/>
          <p:nvPr/>
        </p:nvSpPr>
        <p:spPr>
          <a:xfrm rot="10800000">
            <a:off x="468360" y="2349360"/>
            <a:ext cx="409680" cy="944640"/>
          </a:xfrm>
          <a:custGeom>
            <a:avLst/>
            <a:gdLst>
              <a:gd name="textAreaLeft" fmla="*/ 59760 w 409680"/>
              <a:gd name="textAreaRight" fmla="*/ 349920 w 409680"/>
              <a:gd name="textAreaTop" fmla="*/ 103680 h 944640"/>
              <a:gd name="textAreaBottom" fmla="*/ 605160 h 9446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0" y="10568"/>
                  <a:pt x="1493" y="12898"/>
                  <a:pt x="4057" y="14436"/>
                </a:cubicBezTo>
                <a:lnTo>
                  <a:pt x="10766" y="216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1"/>
          <p:cNvSpPr/>
          <p:nvPr/>
        </p:nvSpPr>
        <p:spPr>
          <a:xfrm>
            <a:off x="1258920" y="2997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1981800" y="2708280"/>
            <a:ext cx="7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С-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2845440" y="2708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е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4500720" y="2924280"/>
            <a:ext cx="502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5273280" y="2583000"/>
            <a:ext cx="243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н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одопров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ree"/>
          <p:cNvSpPr/>
          <p:nvPr/>
        </p:nvSpPr>
        <p:spPr>
          <a:xfrm>
            <a:off x="395280" y="4797360"/>
            <a:ext cx="936720" cy="935280"/>
          </a:xfrm>
          <a:custGeom>
            <a:avLst/>
            <a:gdLst>
              <a:gd name="textAreaLeft" fmla="*/ 32760 w 936720"/>
              <a:gd name="textAreaRight" fmla="*/ 914040 w 936720"/>
              <a:gd name="textAreaTop" fmla="*/ 972360 h 935280"/>
              <a:gd name="textAreaBottom" fmla="*/ 1225080 h 9352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826920" y="407664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613080" y="35002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0"/>
          <p:cNvSpPr/>
          <p:nvPr/>
        </p:nvSpPr>
        <p:spPr>
          <a:xfrm>
            <a:off x="1116000" y="378936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2"/>
          <p:cNvSpPr/>
          <p:nvPr/>
        </p:nvSpPr>
        <p:spPr>
          <a:xfrm>
            <a:off x="5796000" y="422100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3" descr="j0187423"/>
          <p:cNvPicPr/>
          <p:nvPr/>
        </p:nvPicPr>
        <p:blipFill>
          <a:blip r:embed="rId1"/>
          <a:stretch/>
        </p:blipFill>
        <p:spPr>
          <a:xfrm>
            <a:off x="1692360" y="3357720"/>
            <a:ext cx="1319040" cy="863280"/>
          </a:xfrm>
          <a:prstGeom prst="rect">
            <a:avLst/>
          </a:prstGeom>
          <a:ln w="0">
            <a:noFill/>
          </a:ln>
        </p:spPr>
      </p:pic>
      <p:sp>
        <p:nvSpPr>
          <p:cNvPr id="67" name="Line 44"/>
          <p:cNvSpPr/>
          <p:nvPr/>
        </p:nvSpPr>
        <p:spPr>
          <a:xfrm>
            <a:off x="900000" y="6021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5"/>
          <p:cNvSpPr/>
          <p:nvPr/>
        </p:nvSpPr>
        <p:spPr>
          <a:xfrm>
            <a:off x="1403280" y="5373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6"/>
          <p:cNvSpPr/>
          <p:nvPr/>
        </p:nvSpPr>
        <p:spPr>
          <a:xfrm>
            <a:off x="1260360" y="5516640"/>
            <a:ext cx="203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охра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ита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7"/>
          <p:cNvSpPr/>
          <p:nvPr/>
        </p:nvSpPr>
        <p:spPr>
          <a:xfrm>
            <a:off x="5076720" y="3860640"/>
            <a:ext cx="0" cy="7923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8"/>
          <p:cNvSpPr/>
          <p:nvPr/>
        </p:nvSpPr>
        <p:spPr>
          <a:xfrm>
            <a:off x="5076720" y="3860640"/>
            <a:ext cx="574920" cy="576360"/>
          </a:xfrm>
          <a:custGeom>
            <a:avLst/>
            <a:gdLst>
              <a:gd name="textAreaLeft" fmla="*/ 28080 w 574920"/>
              <a:gd name="textAreaRight" fmla="*/ 546840 w 574920"/>
              <a:gd name="textAreaTop" fmla="*/ 28080 h 576360"/>
              <a:gd name="textAreaBottom" fmla="*/ 548280 h 57636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5148360" y="422100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1"/>
          <p:cNvSpPr/>
          <p:nvPr/>
        </p:nvSpPr>
        <p:spPr>
          <a:xfrm>
            <a:off x="5148360" y="4365720"/>
            <a:ext cx="43164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3"/>
          <p:cNvSpPr/>
          <p:nvPr/>
        </p:nvSpPr>
        <p:spPr>
          <a:xfrm>
            <a:off x="6426000" y="39006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00"/>
                </a:solidFill>
                <a:latin typeface="Arial"/>
              </a:rPr>
              <a:t>! с/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4"/>
          <p:cNvSpPr/>
          <p:nvPr/>
        </p:nvSpPr>
        <p:spPr>
          <a:xfrm>
            <a:off x="4069080" y="4508640"/>
            <a:ext cx="94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5"/>
          <p:cNvSpPr/>
          <p:nvPr/>
        </p:nvSpPr>
        <p:spPr>
          <a:xfrm>
            <a:off x="4429080" y="4869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6"/>
          <p:cNvSpPr/>
          <p:nvPr/>
        </p:nvSpPr>
        <p:spPr>
          <a:xfrm>
            <a:off x="5007240" y="4653000"/>
            <a:ext cx="214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cc00"/>
                </a:solidFill>
                <a:latin typeface="Arial"/>
              </a:rPr>
              <a:t>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(к=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7"/>
          <p:cNvSpPr/>
          <p:nvPr/>
        </p:nvSpPr>
        <p:spPr>
          <a:xfrm>
            <a:off x="7164360" y="5157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8"/>
          <p:cNvSpPr/>
          <p:nvPr/>
        </p:nvSpPr>
        <p:spPr>
          <a:xfrm>
            <a:off x="7725960" y="4869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Урож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>
            <a:off x="3834000" y="589608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Зем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5724360" y="6381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2"/>
          <p:cNvSpPr/>
          <p:nvPr/>
        </p:nvSpPr>
        <p:spPr>
          <a:xfrm>
            <a:off x="6445080" y="56689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3"/>
          <p:cNvSpPr/>
          <p:nvPr/>
        </p:nvSpPr>
        <p:spPr>
          <a:xfrm>
            <a:off x="1116000" y="189000"/>
            <a:ext cx="503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Arial"/>
                <a:ea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7"/>
          <p:cNvSpPr/>
          <p:nvPr/>
        </p:nvSpPr>
        <p:spPr>
          <a:xfrm flipH="1">
            <a:off x="1258920" y="260280"/>
            <a:ext cx="21600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8"/>
          <p:cNvSpPr/>
          <p:nvPr/>
        </p:nvSpPr>
        <p:spPr>
          <a:xfrm flipH="1">
            <a:off x="1331640" y="260280"/>
            <a:ext cx="215640" cy="50328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9"/>
          <p:cNvSpPr/>
          <p:nvPr/>
        </p:nvSpPr>
        <p:spPr>
          <a:xfrm>
            <a:off x="826920" y="0"/>
            <a:ext cx="936720" cy="981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0"/>
          <p:cNvSpPr/>
          <p:nvPr/>
        </p:nvSpPr>
        <p:spPr>
          <a:xfrm>
            <a:off x="2195640" y="2060640"/>
            <a:ext cx="431640" cy="35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1"/>
          <p:cNvSpPr/>
          <p:nvPr/>
        </p:nvSpPr>
        <p:spPr>
          <a:xfrm flipH="1">
            <a:off x="2195280" y="206064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2"/>
          <p:cNvSpPr/>
          <p:nvPr/>
        </p:nvSpPr>
        <p:spPr>
          <a:xfrm flipH="1">
            <a:off x="2268000" y="2060640"/>
            <a:ext cx="28764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3"/>
          <p:cNvSpPr/>
          <p:nvPr/>
        </p:nvSpPr>
        <p:spPr>
          <a:xfrm flipH="1">
            <a:off x="2484000" y="2205000"/>
            <a:ext cx="1429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4"/>
          <p:cNvSpPr/>
          <p:nvPr/>
        </p:nvSpPr>
        <p:spPr>
          <a:xfrm>
            <a:off x="2826000" y="1963800"/>
            <a:ext cx="220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моско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сс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186560" y="333360"/>
            <a:ext cx="683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5050"/>
                </a:solidFill>
                <a:latin typeface="Arial"/>
              </a:rPr>
              <a:t>Население и трудов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250920" y="1046160"/>
          <a:ext cx="388944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46160"/>
                    <a:ext cx="388944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4427640" y="1052640"/>
          <a:ext cx="4176720" cy="342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052640"/>
                    <a:ext cx="417672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Object 32"/>
          <p:cNvGraphicFramePr/>
          <p:nvPr/>
        </p:nvGraphicFramePr>
        <p:xfrm>
          <a:off x="539640" y="4508640"/>
          <a:ext cx="7272360" cy="213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1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508640"/>
                    <a:ext cx="727236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3"/>
          <p:cNvSpPr/>
          <p:nvPr/>
        </p:nvSpPr>
        <p:spPr>
          <a:xfrm>
            <a:off x="253440" y="333360"/>
            <a:ext cx="28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087240" y="5493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ль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755640" y="1557360"/>
            <a:ext cx="100800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9"/>
          <p:cNvSpPr txBox="1"/>
          <p:nvPr/>
        </p:nvSpPr>
        <p:spPr>
          <a:xfrm>
            <a:off x="0" y="1125360"/>
            <a:ext cx="273672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гломераци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Oval 20"/>
          <p:cNvSpPr/>
          <p:nvPr/>
        </p:nvSpPr>
        <p:spPr>
          <a:xfrm>
            <a:off x="3492360" y="1557360"/>
            <a:ext cx="100836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21"/>
          <p:cNvSpPr txBox="1"/>
          <p:nvPr/>
        </p:nvSpPr>
        <p:spPr>
          <a:xfrm>
            <a:off x="2700360" y="1052640"/>
            <a:ext cx="2736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гломерация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800" y="5516640"/>
            <a:ext cx="10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901800" y="59436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403280" y="6216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 flipV="1">
            <a:off x="1979640" y="5877000"/>
            <a:ext cx="57636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0"/>
          <p:cNvSpPr/>
          <p:nvPr/>
        </p:nvSpPr>
        <p:spPr>
          <a:xfrm>
            <a:off x="1979640" y="6453360"/>
            <a:ext cx="64764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"/>
          <p:cNvSpPr/>
          <p:nvPr/>
        </p:nvSpPr>
        <p:spPr>
          <a:xfrm>
            <a:off x="2773800" y="551664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2701800" y="64008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3"/>
          <p:cNvSpPr/>
          <p:nvPr/>
        </p:nvSpPr>
        <p:spPr>
          <a:xfrm>
            <a:off x="2919600" y="3860640"/>
            <a:ext cx="247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40 древ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4213440" y="0"/>
            <a:ext cx="83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5"/>
          <p:cNvSpPr/>
          <p:nvPr/>
        </p:nvSpPr>
        <p:spPr>
          <a:xfrm>
            <a:off x="5724360" y="1268280"/>
            <a:ext cx="0" cy="532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6"/>
          <p:cNvSpPr/>
          <p:nvPr/>
        </p:nvSpPr>
        <p:spPr>
          <a:xfrm>
            <a:off x="6372360" y="141300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6426000" y="1119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6445080" y="234936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6858720" y="12160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878880" y="215280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1"/>
          <p:cNvSpPr/>
          <p:nvPr/>
        </p:nvSpPr>
        <p:spPr>
          <a:xfrm>
            <a:off x="6659640" y="4005360"/>
            <a:ext cx="1150920" cy="1079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7596360" y="4581360"/>
            <a:ext cx="936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3"/>
          <p:cNvSpPr/>
          <p:nvPr/>
        </p:nvSpPr>
        <p:spPr>
          <a:xfrm>
            <a:off x="7236000" y="3357720"/>
            <a:ext cx="0" cy="792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4"/>
          <p:cNvSpPr/>
          <p:nvPr/>
        </p:nvSpPr>
        <p:spPr>
          <a:xfrm flipV="1">
            <a:off x="6012000" y="4797000"/>
            <a:ext cx="86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6877080" y="4076640"/>
            <a:ext cx="9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7"/>
          <p:cNvSpPr/>
          <p:nvPr/>
        </p:nvSpPr>
        <p:spPr>
          <a:xfrm>
            <a:off x="6660720" y="3043080"/>
            <a:ext cx="17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она Сев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 rot="19327200">
            <a:off x="5580720" y="479700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же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523280" y="422100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1"/>
          <p:cNvSpPr/>
          <p:nvPr/>
        </p:nvSpPr>
        <p:spPr>
          <a:xfrm>
            <a:off x="179280" y="3284640"/>
            <a:ext cx="0" cy="18730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2"/>
          <p:cNvSpPr/>
          <p:nvPr/>
        </p:nvSpPr>
        <p:spPr>
          <a:xfrm flipH="1">
            <a:off x="178920" y="3284640"/>
            <a:ext cx="107964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3"/>
          <p:cNvSpPr/>
          <p:nvPr/>
        </p:nvSpPr>
        <p:spPr>
          <a:xfrm>
            <a:off x="1258920" y="3284640"/>
            <a:ext cx="0" cy="187308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 rot="5400000">
            <a:off x="-242280" y="3852360"/>
            <a:ext cx="190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Электрост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елезногор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овомосков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5"/>
          <p:cNvSpPr/>
          <p:nvPr/>
        </p:nvSpPr>
        <p:spPr>
          <a:xfrm>
            <a:off x="1403280" y="3284640"/>
            <a:ext cx="0" cy="1873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6"/>
          <p:cNvSpPr/>
          <p:nvPr/>
        </p:nvSpPr>
        <p:spPr>
          <a:xfrm flipH="1">
            <a:off x="1402920" y="4221000"/>
            <a:ext cx="12258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7"/>
          <p:cNvSpPr/>
          <p:nvPr/>
        </p:nvSpPr>
        <p:spPr>
          <a:xfrm>
            <a:off x="2627280" y="3284640"/>
            <a:ext cx="0" cy="187308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8"/>
          <p:cNvSpPr/>
          <p:nvPr/>
        </p:nvSpPr>
        <p:spPr>
          <a:xfrm>
            <a:off x="1405800" y="335772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уб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бнин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роиц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тв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у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2991960" y="3429000"/>
            <a:ext cx="26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420 го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4"/>
          <p:cNvSpPr/>
          <p:nvPr/>
        </p:nvSpPr>
        <p:spPr>
          <a:xfrm>
            <a:off x="395280" y="2997360"/>
            <a:ext cx="2592360" cy="2160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5"/>
          <p:cNvSpPr/>
          <p:nvPr/>
        </p:nvSpPr>
        <p:spPr>
          <a:xfrm rot="4305600">
            <a:off x="1552680" y="3499560"/>
            <a:ext cx="1687680" cy="1260360"/>
          </a:xfrm>
          <a:custGeom>
            <a:avLst/>
            <a:gdLst/>
            <a:ahLst/>
            <a:rect l="l" t="t" r="r" b="b"/>
            <a:pathLst>
              <a:path fill="none" w="35360" h="21600">
                <a:moveTo>
                  <a:pt x="-1" y="4951"/>
                </a:moveTo>
                <a:cubicBezTo>
                  <a:pt x="3871" y="1751"/>
                  <a:pt x="8738" y="0"/>
                  <a:pt x="13762" y="0"/>
                </a:cubicBezTo>
                <a:cubicBezTo>
                  <a:pt x="25569" y="0"/>
                  <a:pt x="35188" y="9480"/>
                  <a:pt x="35359" y="21287"/>
                </a:cubicBezTo>
              </a:path>
              <a:path stroke="0" w="35360" h="21600">
                <a:moveTo>
                  <a:pt x="-1" y="4951"/>
                </a:moveTo>
                <a:cubicBezTo>
                  <a:pt x="3871" y="1751"/>
                  <a:pt x="8738" y="0"/>
                  <a:pt x="13762" y="0"/>
                </a:cubicBezTo>
                <a:cubicBezTo>
                  <a:pt x="25569" y="0"/>
                  <a:pt x="35188" y="9480"/>
                  <a:pt x="35359" y="21287"/>
                </a:cubicBezTo>
                <a:lnTo>
                  <a:pt x="13762" y="21600"/>
                </a:lnTo>
                <a:lnTo>
                  <a:pt x="-1" y="4951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838160" y="357336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ва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рд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йц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68360" y="3789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1116000" y="27079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6760" y="1844640"/>
            <a:ext cx="19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11"/>
          <p:cNvSpPr txBox="1"/>
          <p:nvPr/>
        </p:nvSpPr>
        <p:spPr>
          <a:xfrm>
            <a:off x="2700360" y="0"/>
            <a:ext cx="47908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циональный соста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Line 12"/>
          <p:cNvSpPr/>
          <p:nvPr/>
        </p:nvSpPr>
        <p:spPr>
          <a:xfrm flipV="1">
            <a:off x="2771640" y="3284280"/>
            <a:ext cx="720720" cy="36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2843280" y="4076640"/>
            <a:ext cx="86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484360" y="4437000"/>
            <a:ext cx="719280" cy="647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4211640" y="2852640"/>
            <a:ext cx="18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ваш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4211640" y="4869000"/>
            <a:ext cx="17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4572000" y="3860640"/>
            <a:ext cx="173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д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9"/>
          <p:cNvSpPr/>
          <p:nvPr/>
        </p:nvSpPr>
        <p:spPr>
          <a:xfrm>
            <a:off x="6227640" y="2852640"/>
            <a:ext cx="216000" cy="2808360"/>
          </a:xfrm>
          <a:custGeom>
            <a:avLst/>
            <a:gdLst>
              <a:gd name="textAreaLeft" fmla="*/ 0 w 216000"/>
              <a:gd name="textAreaRight" fmla="*/ 78120 w 21600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 rot="5400000">
            <a:off x="5888160" y="3838680"/>
            <a:ext cx="25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лго-Вят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494520" y="2995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710520" y="3860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276720" y="4869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3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404880" y="157320"/>
            <a:ext cx="35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</a:rPr>
              <a:t>Трудов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j0195384"/>
          <p:cNvPicPr/>
          <p:nvPr/>
        </p:nvPicPr>
        <p:blipFill>
          <a:blip r:embed="rId1"/>
          <a:stretch/>
        </p:blipFill>
        <p:spPr>
          <a:xfrm>
            <a:off x="611280" y="1341360"/>
            <a:ext cx="1762200" cy="15112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>
            <a:off x="2556000" y="2205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990160" y="1916280"/>
            <a:ext cx="46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оквалифицир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204720" y="306864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% инженеры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684360" y="4149720"/>
            <a:ext cx="129528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481840" y="4005360"/>
            <a:ext cx="481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ституты Академии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раслевые 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но-конструкторские орг-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1908000" y="4221000"/>
            <a:ext cx="576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1979640" y="4508640"/>
            <a:ext cx="50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1979640" y="4581360"/>
            <a:ext cx="5047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826920" y="5589720"/>
            <a:ext cx="1224000" cy="1008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050920" y="609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2918880" y="5877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 ВУ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4643280" y="6093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563080" y="5824440"/>
            <a:ext cx="29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специ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340720" y="2602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Экономика Центральной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1052640"/>
            <a:ext cx="9144000" cy="611964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5640" y="105264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Факторы развития хозяйства Центральной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539640" y="191628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 flipH="1" rot="10762200">
            <a:off x="2048400" y="1770840"/>
            <a:ext cx="217440" cy="36036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 flipH="1" rot="10762200">
            <a:off x="1614960" y="2134800"/>
            <a:ext cx="432000" cy="4302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619280" y="1773360"/>
            <a:ext cx="43164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2268360" y="2060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898360" y="174132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И, ВУ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539640" y="306864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539640" y="558972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539640" y="494172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3"/>
          <p:cNvSpPr/>
          <p:nvPr/>
        </p:nvSpPr>
        <p:spPr>
          <a:xfrm>
            <a:off x="539640" y="450864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4"/>
          <p:cNvSpPr/>
          <p:nvPr/>
        </p:nvSpPr>
        <p:spPr>
          <a:xfrm>
            <a:off x="539640" y="400536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8" descr="j0299125"/>
          <p:cNvPicPr/>
          <p:nvPr/>
        </p:nvPicPr>
        <p:blipFill>
          <a:blip r:embed="rId1"/>
          <a:stretch/>
        </p:blipFill>
        <p:spPr>
          <a:xfrm>
            <a:off x="1332000" y="292428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9" descr="j0240695"/>
          <p:cNvPicPr/>
          <p:nvPr/>
        </p:nvPicPr>
        <p:blipFill>
          <a:blip r:embed="rId2"/>
          <a:stretch/>
        </p:blipFill>
        <p:spPr>
          <a:xfrm>
            <a:off x="3635280" y="2781360"/>
            <a:ext cx="1079640" cy="649080"/>
          </a:xfrm>
          <a:prstGeom prst="rect">
            <a:avLst/>
          </a:prstGeom>
          <a:ln w="0">
            <a:noFill/>
          </a:ln>
        </p:spPr>
      </p:pic>
      <p:sp>
        <p:nvSpPr>
          <p:cNvPr id="189" name="Line 30"/>
          <p:cNvSpPr/>
          <p:nvPr/>
        </p:nvSpPr>
        <p:spPr>
          <a:xfrm>
            <a:off x="2195640" y="314172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1241280" y="38084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ЭГ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2"/>
          <p:cNvSpPr/>
          <p:nvPr/>
        </p:nvSpPr>
        <p:spPr>
          <a:xfrm>
            <a:off x="2700360" y="3789360"/>
            <a:ext cx="431640" cy="431640"/>
          </a:xfrm>
          <a:prstGeom prst="ellipse">
            <a:avLst/>
          </a:prstGeom>
          <a:solidFill>
            <a:srgbClr val="00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3"/>
          <p:cNvSpPr/>
          <p:nvPr/>
        </p:nvSpPr>
        <p:spPr>
          <a:xfrm>
            <a:off x="2771640" y="3860640"/>
            <a:ext cx="28764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1260720" y="43657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2124000" y="4437000"/>
            <a:ext cx="289080" cy="216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2700360" y="4581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7"/>
          <p:cNvSpPr/>
          <p:nvPr/>
        </p:nvSpPr>
        <p:spPr>
          <a:xfrm>
            <a:off x="3851280" y="4221000"/>
            <a:ext cx="136836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.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1043280" y="47973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Транспортные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4"/>
          <p:cNvSpPr/>
          <p:nvPr/>
        </p:nvSpPr>
        <p:spPr>
          <a:xfrm>
            <a:off x="2627280" y="5445000"/>
            <a:ext cx="865080" cy="765360"/>
          </a:xfrm>
          <a:prstGeom prst="ellips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Э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6"/>
          <p:cNvSpPr/>
          <p:nvPr/>
        </p:nvSpPr>
        <p:spPr>
          <a:xfrm flipH="1">
            <a:off x="3995640" y="6021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7"/>
          <p:cNvSpPr/>
          <p:nvPr/>
        </p:nvSpPr>
        <p:spPr>
          <a:xfrm>
            <a:off x="971640" y="58770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8"/>
          <p:cNvSpPr/>
          <p:nvPr/>
        </p:nvSpPr>
        <p:spPr>
          <a:xfrm>
            <a:off x="826920" y="5445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ыр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3924360" y="5661000"/>
            <a:ext cx="11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0"/>
          <p:cNvSpPr/>
          <p:nvPr/>
        </p:nvSpPr>
        <p:spPr>
          <a:xfrm>
            <a:off x="611280" y="6308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1"/>
          <p:cNvSpPr/>
          <p:nvPr/>
        </p:nvSpPr>
        <p:spPr>
          <a:xfrm>
            <a:off x="1457640" y="61833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2"/>
          <p:cNvSpPr/>
          <p:nvPr/>
        </p:nvSpPr>
        <p:spPr>
          <a:xfrm>
            <a:off x="5364000" y="2997360"/>
            <a:ext cx="3780000" cy="316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3"/>
          <p:cNvSpPr/>
          <p:nvPr/>
        </p:nvSpPr>
        <p:spPr>
          <a:xfrm>
            <a:off x="543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5"/>
          <p:cNvSpPr/>
          <p:nvPr/>
        </p:nvSpPr>
        <p:spPr>
          <a:xfrm>
            <a:off x="5646240" y="3403440"/>
            <a:ext cx="32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редитно-финанс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ф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6"/>
          <p:cNvSpPr/>
          <p:nvPr/>
        </p:nvSpPr>
        <p:spPr>
          <a:xfrm>
            <a:off x="5508720" y="429264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508720" y="5013360"/>
            <a:ext cx="21564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8"/>
          <p:cNvSpPr/>
          <p:nvPr/>
        </p:nvSpPr>
        <p:spPr>
          <a:xfrm>
            <a:off x="5808240" y="4143240"/>
            <a:ext cx="243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ый и сре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з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9"/>
          <p:cNvSpPr/>
          <p:nvPr/>
        </p:nvSpPr>
        <p:spPr>
          <a:xfrm>
            <a:off x="5844600" y="493560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ейшие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>
            <a:off x="7236000" y="5229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1"/>
          <p:cNvSpPr/>
          <p:nvPr/>
        </p:nvSpPr>
        <p:spPr>
          <a:xfrm>
            <a:off x="6878520" y="5661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3.75723E-006 L 0.07882 -3.75723E-006 E">
                                      <p:cBhvr>
                                        <p:cTn id="74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0254 L 0.07083 0.00254 E">
                                      <p:cBhvr>
                                        <p:cTn id="74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2 -0.02081 L -0.06284 -0.02081 E">
                                      <p:cBhvr>
                                        <p:cTn id="75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29 -0.0289 L -0.06475 -0.0289 E">
                                      <p:cBhvr>
                                        <p:cTn id="755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196280" y="26028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Машиностроительный 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84360" y="1700280"/>
            <a:ext cx="1798560" cy="1584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284720" y="1484280"/>
            <a:ext cx="1798560" cy="15843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3419640" y="2924280"/>
            <a:ext cx="17985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3492360" y="1989000"/>
            <a:ext cx="1798920" cy="1584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С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4860000" y="1700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561840" y="335772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ру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р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484360" y="184464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ек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ит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2627280" y="2924280"/>
            <a:ext cx="136836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H="1">
            <a:off x="4643280" y="2492280"/>
            <a:ext cx="1368720" cy="280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8"/>
          <p:cNvSpPr/>
          <p:nvPr/>
        </p:nvSpPr>
        <p:spPr>
          <a:xfrm>
            <a:off x="2268360" y="5300640"/>
            <a:ext cx="3959280" cy="1295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2787840" y="53737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971280" y="765000"/>
            <a:ext cx="93636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516720" y="765000"/>
            <a:ext cx="57636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4"/>
          <p:cNvSpPr/>
          <p:nvPr/>
        </p:nvSpPr>
        <p:spPr>
          <a:xfrm>
            <a:off x="0" y="2565360"/>
            <a:ext cx="2376360" cy="8254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4284720" y="4437000"/>
            <a:ext cx="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7"/>
          <p:cNvSpPr/>
          <p:nvPr/>
        </p:nvSpPr>
        <p:spPr>
          <a:xfrm>
            <a:off x="1908000" y="76500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6546960" y="2637000"/>
            <a:ext cx="2317320" cy="8254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к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917000" y="18900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99"/>
                </a:solidFill>
                <a:uFillTx/>
                <a:latin typeface="Arial"/>
              </a:rPr>
              <a:t>Машиностроительный</a:t>
            </a:r>
            <a:r>
              <a:rPr b="1" i="1" lang="ru-RU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cc0099"/>
                </a:solidFill>
                <a:uFillTx/>
                <a:latin typeface="Arial"/>
              </a:rPr>
              <a:t>компл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 flipH="1">
            <a:off x="2050920" y="6206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00960" y="927000"/>
            <a:ext cx="216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укоемкое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50200" y="1890720"/>
            <a:ext cx="264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иоэлектро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ор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ите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 rot="5400000">
            <a:off x="1330560" y="2637360"/>
            <a:ext cx="216000" cy="2087640"/>
          </a:xfrm>
          <a:custGeom>
            <a:avLst/>
            <a:gdLst>
              <a:gd name="textAreaLeft" fmla="*/ 0 w 216000"/>
              <a:gd name="textAreaRight" fmla="*/ 78120 w 21600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80720" y="3981600"/>
            <a:ext cx="249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Вороне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Ива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Ряза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4427640" y="62064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130560" y="981000"/>
            <a:ext cx="219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59280" y="1700280"/>
          <a:ext cx="2377800" cy="3779640"/>
        </p:xfrm>
        <a:graphic>
          <a:graphicData uri="http://schemas.openxmlformats.org/drawingml/2006/table">
            <a:tbl>
              <a:tblPr/>
              <a:tblGrid>
                <a:gridCol w="2377800"/>
              </a:tblGrid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з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Ниж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Нов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ма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АЭ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Колпи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овые кот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ff"/>
                          </a:solidFill>
                          <a:latin typeface="Arial"/>
                        </a:rPr>
                        <a:t>Белг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Line 36"/>
          <p:cNvSpPr/>
          <p:nvPr/>
        </p:nvSpPr>
        <p:spPr>
          <a:xfrm>
            <a:off x="6372360" y="620640"/>
            <a:ext cx="86364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6009840" y="98100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нспорт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5650560" y="1700280"/>
            <a:ext cx="18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моб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ол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7453080" y="1628640"/>
            <a:ext cx="150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иж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овгор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Воронеж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Моск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Смолен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4"/>
          <p:cNvSpPr/>
          <p:nvPr/>
        </p:nvSpPr>
        <p:spPr>
          <a:xfrm>
            <a:off x="7308720" y="1773360"/>
            <a:ext cx="216000" cy="1079280"/>
          </a:xfrm>
          <a:custGeom>
            <a:avLst/>
            <a:gdLst>
              <a:gd name="textAreaLeft" fmla="*/ 0 w 216000"/>
              <a:gd name="textAreaRight" fmla="*/ 78120 w 21600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5540400" y="3403440"/>
            <a:ext cx="448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ные суда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иж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                          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омотивы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Коло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гоны     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Тверь,Мыт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ички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Демихо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                       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Торж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8T10:53:52Z</dcterms:created>
  <dc:creator>й</dc:creator>
  <dc:description/>
  <dc:language>en-US</dc:language>
  <cp:lastModifiedBy>Оксана А. Жамбалова</cp:lastModifiedBy>
  <dcterms:modified xsi:type="dcterms:W3CDTF">2019-05-08T08:35:11Z</dcterms:modified>
  <cp:revision>33</cp:revision>
  <dc:subject/>
  <dc:title>Слайд 1</dc:title>
</cp:coreProperties>
</file>