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6495-3B99-40DE-A0E3-9F75D66E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7E6-C423-48F0-8D40-104C7DF3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BD0E-2AF7-4747-A83E-EB150D06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9BE-1C2F-4CF0-8E10-5A1A6A98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80A-3B1F-4423-9AC5-D5AADA3B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393-264A-4F15-BD89-E2C4ACE3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CFA-8E6B-404F-81CD-9F4240EE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2D4-B256-4373-9706-6F63379B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116-47B5-4863-A5E1-6EEB8EFE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4B6-7C68-4107-8975-972F73DF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3011-C7F8-4FA5-8292-40B74F50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B57-6355-4638-800E-291A5423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348A-3CC1-40B4-A894-4DC70AA51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2172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Задача по физ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Акимов Е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орском д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ла улитка по имени Герри. Решил он прогуляться и увидел, что за ним плывет хищник. Герри испугался и пополз домой. С какой минимальной средней скоростью должен ползти Герри, если средняя скорость хищника – 5 м/с. Успеет ли Герри домой, если в начальный момент времени домик был в состоянии закрывания, каждое состояние (открывание и закрывание, открыт и закрыт) длиться 3 с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6500880" y="3929040"/>
            <a:ext cx="2392200" cy="2102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6267600" y="3929040"/>
            <a:ext cx="2876400" cy="1857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000160" y="5072040"/>
            <a:ext cx="1047960" cy="857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5"/>
          <a:stretch/>
        </p:blipFill>
        <p:spPr>
          <a:xfrm>
            <a:off x="0" y="2214720"/>
            <a:ext cx="18860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31 0.00232 L 0.28698 0.00232 E">
                                      <p:cBhvr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56 0.00394 L 0.68039 -0.00648 E">
                                      <p:cBhvr>
                                        <p:cTn id="6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698 0.00232 L 0.51528 -0.01852 E">
                                      <p:cBhvr>
                                        <p:cTn id="6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8039 -0.00648 L 0.68039 0.14051 E">
                                      <p:cBhvr>
                                        <p:cTn id="8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8039 0.14051 L 0.4757 0.14051 E">
                                      <p:cBhvr>
                                        <p:cTn id="8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57 0.14051 L 1.07414 -0.57337 E">
                                      <p:cBhvr>
                                        <p:cTn id="91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4920" y="1341360"/>
            <a:ext cx="792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о:             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- 90см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5см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35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1,9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:        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90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-?                             5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268360" y="1341360"/>
            <a:ext cx="0" cy="43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250920" y="4149720"/>
            <a:ext cx="201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14280" y="428760"/>
            <a:ext cx="854424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м принимает 6 состоя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- закры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- 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- откры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-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- закры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- 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состояние продолжаетс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с. У Герри всего 18с. Та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м, когда он подползёт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у, дом будет в состоя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вания. Он успеет попасть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ик, до того как его настиг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щни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7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77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7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7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77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77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77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77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6:23:42Z</dcterms:created>
  <dc:creator>pupil</dc:creator>
  <dc:description/>
  <dc:language>en-US</dc:language>
  <cp:lastModifiedBy>Марина</cp:lastModifiedBy>
  <dcterms:modified xsi:type="dcterms:W3CDTF">2019-05-08T14:07:06Z</dcterms:modified>
  <cp:revision>23</cp:revision>
  <dc:subject/>
  <dc:title>Слайд 1</dc:title>
</cp:coreProperties>
</file>