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386-E808-4325-992D-54EEB337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923-2C3B-427D-BAD0-CCD61E62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09D-CAA4-4483-ACF5-C0F88A7B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3D7-AE66-4395-9249-9B58006A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B99-3108-4C96-9566-DED854C6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823-B03A-4E12-AA77-2CC8397A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141-7325-4277-8580-DB92BF25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28F-9170-49CB-9058-27B80C87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0DE-82E7-44FD-8A0E-BE275F9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7E1-B4A7-4BBC-9FEA-3CEB3723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663-76F7-4787-A7FA-FB6E49A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467-E577-4A25-BFF4-3247E9A8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6538-57DE-41C5-82B4-196499942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72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Задача по физ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Акимов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орском д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ла улитка по имени Герри. Решил он прогуляться и увидел, что за ним плывет хищник. Герри испугался и пополз домой. С какой минимальной средней скоростью должен ползти Герри, если средняя скорость хищника – 5 м/с. Успеет ли Герри домой, если в начальный момент времени домик был в состоянии закрывания, каждое состояние (открывание и закрывание, открыт и закрыт) длиться 3 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6500880" y="3929040"/>
            <a:ext cx="2392200" cy="210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6267600" y="3929040"/>
            <a:ext cx="2876400" cy="185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4"/>
          <a:stretch/>
        </p:blipFill>
        <p:spPr>
          <a:xfrm>
            <a:off x="2000160" y="5072040"/>
            <a:ext cx="1047960" cy="857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tretch/>
        </p:blipFill>
        <p:spPr>
          <a:xfrm>
            <a:off x="0" y="2214720"/>
            <a:ext cx="18860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0232 L 0.28698 0.00232 E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56 0.00394 L 0.68039 -0.00648 E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698 0.00232 L 0.51528 -0.01852 E">
                                      <p:cBhvr>
                                        <p:cTn id="6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039 -0.00648 L 0.68039 0.14051 E">
                                      <p:cBhvr>
                                        <p:cTn id="8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039 0.14051 L 0.4757 0.14051 E">
                                      <p:cBhvr>
                                        <p:cTn id="8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57 0.14051 L 1.07414 -0.57337 E">
                                      <p:cBhvr>
                                        <p:cTn id="9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341360"/>
            <a:ext cx="792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о:            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 90см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см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,9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: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90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-?                             5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268360" y="1341360"/>
            <a:ext cx="0" cy="439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250920" y="4149720"/>
            <a:ext cx="201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4280" y="428760"/>
            <a:ext cx="854424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м принимает 6 состоя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 зак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- отк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 от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- закры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- зак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остояние продолжает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с. У Герри всего 18с. Та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м, когда он подползёт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у, дом будет в состоя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вания. Он успеет попаст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ик, до того как его настиг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щни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23:42Z</dcterms:created>
  <dc:creator>pupil</dc:creator>
  <dc:description/>
  <dc:language>en-US</dc:language>
  <cp:lastModifiedBy>Марина</cp:lastModifiedBy>
  <dcterms:modified xsi:type="dcterms:W3CDTF">2019-05-08T14:07:06Z</dcterms:modified>
  <cp:revision>23</cp:revision>
  <dc:subject/>
  <dc:title>Слайд 1</dc:title>
</cp:coreProperties>
</file>