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720-7433-416E-9A65-0B1841BF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8C4-528E-4AB0-A124-2C04A50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37C-8940-4780-B4E6-84E72F6E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3B2-6CED-471A-B4B3-C975E04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BEE9-BAD6-4F58-A4FC-F6C6387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AF2-76D5-4CF4-8482-91A7654C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0740-CD60-4015-AFE4-1410EA9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DBAD-692E-4CFB-9994-4BEFAA9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ABC4-E6AA-448F-BE75-55E5A72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BD5-39B6-44D0-9B33-DAC5527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6B1C-E047-41E2-8B18-64C8EEC5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087-5272-42A8-B2F9-85B56CF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01E-37C7-41D2-B6EF-8DB4946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10A-36BE-4A6B-8D5A-E8CD3A1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B23E-58CB-4EDB-A8AF-EB1B89E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D7B9-C071-41E1-9ED0-FBEE514F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5C1D-3FA8-489E-A359-FA3605FE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89CCF-7757-4CD9-BA08-363D074F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39277-9AF5-4E0A-A542-2FD5799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D014F-A2D9-4FF6-8B98-7B8B274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F7446-6305-4AF1-9130-AD05F715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79CE2-775E-4E0D-8F07-83EEFADF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E74-F92C-4D3C-A320-802D591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2DF72-993D-45A7-8BF1-CC22F46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2BE9E-2D49-4D70-B3C1-8A65D79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AC25E-B565-40AF-9C00-D6732F3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1A905-29DA-4D24-9C50-57733D3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1E9A7-3026-46BA-9BE0-BA302873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5626A-04AC-43D1-8ABE-4796FC2D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A0EDC-0AB7-44CC-A88A-CF0A2AE3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EECF-55EF-47A6-ADF9-20DCDBB3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E379-523F-4476-95B7-5A7772CD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BAB8-4AF3-423B-A531-86AE85B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A82-BDD1-44AF-B6D2-FD034AF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9888-4433-4557-A5BE-E1A2437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9A46-DB3F-468B-BE9D-BDDC5E72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A1E8-8DAD-4BA7-8EA8-671034C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1983-5A07-4C24-AF82-59297EA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CB66-7AD5-4D35-9175-F041AE0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3F302-4A8E-4380-B308-A872C62E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B7DF-4B88-4735-ACD0-DE983CA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8334-A7E0-4E28-B1FF-981B14B6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6C7F-EEC2-4A5A-A315-F7E7EC75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767-357A-41E9-B28F-51B9452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85A-6315-499E-B036-7954ABCF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B7F-82A9-4185-B7AA-A35B235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F36-DEC4-4699-A1D4-C51768C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D9B-BDF4-4438-A2CB-F66C938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FD7-8B2B-4E46-A225-9A9C6372F93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DAD-32D1-450A-AAF6-FA2946ED03C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2A6-C1F9-48BC-871F-A3A79F3F65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99B-529F-47DF-9A59-03A8112DDCB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дагог дополнительного образования МАОУ СОШ №1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.В. Гецман</a:t>
            </a:r>
            <a:br>
              <a:rPr sz="25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Trebuchet MS"/>
              </a:rPr>
              <a:t>Баскетбо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Тема урока: Технико-тактические действия в игровых ситуация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Заключительная часть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ведение итогов (рефлексия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ованный уход из за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: 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Совершенствование навыков ведения и передачи мяча в игровых упражнения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Совершенствование комбинирования ведения и бросков в командных действ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Способствовать развитию координационных способнос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Воспитывать чувства коллективизма и взаимопомощ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здорови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Формирование правильной осан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ронтальн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овой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ьн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ово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ектиров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Подготовительная часть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ение, приветств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общение задач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оевые упражнения (повороты на месте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г с выполнением зад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У с б/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Основная часть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C:\Users\Вова\Desktop\Захаров В.Н\картинки\C44-12.jpg"/>
          <p:cNvPicPr/>
          <p:nvPr/>
        </p:nvPicPr>
        <p:blipFill>
          <a:blip r:embed="rId1"/>
          <a:stretch/>
        </p:blipFill>
        <p:spPr>
          <a:xfrm>
            <a:off x="3214800" y="1643040"/>
            <a:ext cx="2882880" cy="36162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1. Каждая колонна получила карточку с игровыми упражнениями.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гра «Рыбак»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се дети (рыбы) выстраиваются в линейку за боковой линией (у каждого игрока мяч), а один находится в центре площадки(рыбак). По сигналу инструктора игроки начинают ведение мяча, стараясь достичь противоположной боковой линии и не позволяя рыбаку осалить себя. Тот, кого он осалит, становится рыбаком. В начале игры не обязательно обращать внимание на нарушения правил ведения мяча: важнее сформировать умение быстро перемещаться и выбирать способ ведения мяч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«Мяч капитану»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ти делятся на две команды. В каждой команде выбирается капитан, который становится в кружок, нарисованный в конце чужой площадке. Дети бросают мяч своему капитану, а противники стараются перехватить мяч и передать его своему капитану. Мяч можно вести, передавать товарищу по игре, нельзя бежать с ни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18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18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5437080" y="1109520"/>
            <a:ext cx="592200" cy="468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kze.docdat.com/tw_files2/urls_3/470/d-469598/469598_html_m448c7cca.png"/>
          <p:cNvPicPr/>
          <p:nvPr/>
        </p:nvPicPr>
        <p:blipFill>
          <a:blip r:embed="rId2"/>
          <a:stretch/>
        </p:blipFill>
        <p:spPr>
          <a:xfrm>
            <a:off x="1700280" y="792000"/>
            <a:ext cx="1328760" cy="1481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3920" y="4714920"/>
            <a:ext cx="7464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езентация  подвижных иг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Приемы игры в баскетболе"/>
          <p:cNvPicPr/>
          <p:nvPr/>
        </p:nvPicPr>
        <p:blipFill>
          <a:blip r:embed="rId3"/>
          <a:srcRect l="17861" t="0" r="68758" b="73693"/>
          <a:stretch/>
        </p:blipFill>
        <p:spPr>
          <a:xfrm>
            <a:off x="3214800" y="1143000"/>
            <a:ext cx="782640" cy="1044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Приемы игры в баскетболе"/>
          <p:cNvPicPr/>
          <p:nvPr/>
        </p:nvPicPr>
        <p:blipFill>
          <a:blip r:embed="rId4"/>
          <a:srcRect l="53782" t="33275" r="20756" b="33368"/>
          <a:stretch/>
        </p:blipFill>
        <p:spPr>
          <a:xfrm>
            <a:off x="4857840" y="928800"/>
            <a:ext cx="1538280" cy="1368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Приемы игры в баскетболе"/>
          <p:cNvPicPr/>
          <p:nvPr/>
        </p:nvPicPr>
        <p:blipFill>
          <a:blip r:embed="rId5"/>
          <a:srcRect l="-1776" t="0" r="81255" b="73693"/>
          <a:stretch/>
        </p:blipFill>
        <p:spPr>
          <a:xfrm>
            <a:off x="1643040" y="2714760"/>
            <a:ext cx="1200240" cy="104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Приемы игры в баскетболе"/>
          <p:cNvPicPr/>
          <p:nvPr/>
        </p:nvPicPr>
        <p:blipFill>
          <a:blip r:embed="rId6"/>
          <a:srcRect l="50005" t="0" r="39293" b="69748"/>
          <a:stretch/>
        </p:blipFill>
        <p:spPr>
          <a:xfrm>
            <a:off x="4929120" y="2714760"/>
            <a:ext cx="601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rebuchet MS"/>
              </a:rPr>
              <a:t>2. Две колонны  получают карточки  - схемы с технико-тактическими ситуациями в нападении, которые они разбирают, апробируют самостоятельно и демонстрируют  для другой команды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едачи мяча в тройках в движении на половине площадки или по всей площадк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едачи мяча в тройках в движении на половине площадки и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всей площадк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Рисунок 28" descr=""/>
          <p:cNvPicPr/>
          <p:nvPr/>
        </p:nvPicPr>
        <p:blipFill>
          <a:blip r:embed="rId1"/>
          <a:stretch/>
        </p:blipFill>
        <p:spPr>
          <a:xfrm>
            <a:off x="-17640" y="2214720"/>
            <a:ext cx="460728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9" descr=""/>
          <p:cNvPicPr/>
          <p:nvPr/>
        </p:nvPicPr>
        <p:blipFill>
          <a:blip r:embed="rId2"/>
          <a:stretch/>
        </p:blipFill>
        <p:spPr>
          <a:xfrm>
            <a:off x="4564080" y="2357280"/>
            <a:ext cx="4579920" cy="3143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 комбинац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Учащиеся выполняют комбинацию, строго по схем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Учащиеся делятся на группы защитников и нападающих, выполняют задания по схеме, с добавлением  защи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00:08Z</dcterms:created>
  <dc:creator>Физкультура</dc:creator>
  <dc:description/>
  <dc:language>en-US</dc:language>
  <cp:lastModifiedBy>Антон Гецман</cp:lastModifiedBy>
  <dcterms:modified xsi:type="dcterms:W3CDTF">2019-05-08T02:58:58Z</dcterms:modified>
  <cp:revision>35</cp:revision>
  <dc:subject/>
  <dc:title> Тема урока: Раздел «Баскетбол».  </dc:title>
</cp:coreProperties>
</file>