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5EA-C433-47F7-8D51-06AEA676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430-2FA2-46BE-A86F-BDB13A6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30B-6F8A-4CD7-8977-4250BC26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DDF-BC2C-4295-A1C3-76F48BA2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C480-214B-4093-8E6A-227A6B55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4D7-FC19-4E4E-95B2-215449C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6C9E-9E87-46CA-A610-34556C3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8CB1-F400-400C-B02D-A9868419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8B7-4671-40EA-BE87-4219D374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945-99FF-4433-B05F-6BE7FC94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22FF-3C98-4B9F-B128-1B501C5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036-98D5-4355-85B0-40E7ACA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0A7-E33B-4816-B528-FAFA14D7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72C-3373-48D3-8161-0F12B805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643D-9112-48EE-B1B3-27113642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3E6-5AD8-4CC7-A2C7-E2BEE2E9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9676-71C6-4900-A789-7916E125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D252B-3B78-4BF0-BB58-282A5CBA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794B4-44DE-45FF-B565-F23302F2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F287E-D24E-42EC-9083-E2624C9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439D8-D8E7-4312-8AFF-C734FEE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23887-B0C6-428B-8946-9ABB7FFC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2A1-A14C-4BBC-84E2-C6D6BFA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15FC5-049F-426C-81B9-0D01BA6B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E61E9-2BAD-47D6-9199-11388BD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72E3B-DA89-4FFC-8F91-159140B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E60BB-27F1-4173-BDAC-FE6F490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5ACE7-8741-4D03-B05F-761294A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44498-1D51-4906-8C34-815065D2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F6BB7-DA77-454B-B263-2FFFEE31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8DB7A-E323-4A9A-B10B-B8C38EA7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557B0-4682-48A5-8DFA-5FD72899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C2190-330C-4EFF-94A0-88107B43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430-5941-481C-9EC8-98933B1B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3F1E-FCF8-469C-935B-8E0A141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0855-7C4E-4F1F-A3B6-7403958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615D-C281-4311-B8EB-4FEFA713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A4ACC-E303-4832-BA14-3717FE96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A26D-3F04-4F69-B105-A892C34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284D-B36D-4DDD-9956-2765666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7E25-D2FB-4B8B-92A7-5B3A4F9F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C36C-7C1B-46CB-AD21-18345510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2FE5-30D3-4813-B94C-10ABD65E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CCE-23CA-465F-A609-08AEA88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75F-018C-4E31-AB00-05E2C50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2D9-E6A1-449F-B426-F36DE03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ABA-095A-4768-ADB7-A6EC7AA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06C-776C-4E93-8B5A-1BAC2220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D3EB-E906-440B-B774-A7A0057126B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E88A-91E5-4BE4-B878-4A05FA2E714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8ED-E230-4187-B4C0-34C2BE82E8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AECA-D82D-40DD-A5FB-BEB66099D73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Педагог дополнительного образования МАОУ СОШ №1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Л.В. Гецман</a:t>
            </a:r>
            <a:br>
              <a:rPr sz="25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Trebuchet MS"/>
              </a:rPr>
              <a:t>Баскетбо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Тема урока: Технико-тактические действия в игровых ситуация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Заключительная часть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ведение итогов (рефлексия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ованный уход из за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: 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Совершенствование навыков ведения и передачи мяча в игровых упражнения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Совершенствование комбинирования ведения и бросков в командных действ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Способствовать развитию координационных способнос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оспита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Воспитывать чувства коллективизма и взаимопомощ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здоровительны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Формирование правильной осан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етод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ронтальн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упповой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ьны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гровой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ектиров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Подготовительная часть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троение, приветств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общение задач уро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оевые упражнения (повороты на месте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г с выполнением зада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У с б/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24456"/>
                </a:solidFill>
                <a:latin typeface="Trebuchet MS"/>
              </a:rPr>
              <a:t>Основная часть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Picture 2" descr="C:\Users\Вова\Desktop\Захаров В.Н\картинки\C44-12.jpg"/>
          <p:cNvPicPr/>
          <p:nvPr/>
        </p:nvPicPr>
        <p:blipFill>
          <a:blip r:embed="rId1"/>
          <a:stretch/>
        </p:blipFill>
        <p:spPr>
          <a:xfrm>
            <a:off x="3214800" y="1643040"/>
            <a:ext cx="2882880" cy="36162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1. Каждая колонна получила карточку с игровыми упражнениями.</a:t>
            </a:r>
            <a:br>
              <a:rPr sz="25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гра «Рыбак»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се дети (рыбы) выстраиваются в линейку за боковой линией (у каждого игрока мяч), а один находится в центре площадки(рыбак). По сигналу инструктора игроки начинают ведение мяча, стараясь достичь противоположной боковой линии и не позволяя рыбаку осалить себя. Тот, кого он осалит, становится рыбаком. В начале игры не обязательно обращать внимание на нарушения правил ведения мяча: важнее сформировать умение быстро перемещаться и выбирать способ ведения мяч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«Мяч капитану»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ети делятся на две команды. В каждой команде выбирается капитан, который становится в кружок, нарисованный в конце чужой площадке. Дети бросают мяч своему капитану, а противники стараются перехватить мяч и передать его своему капитану. Мяч можно вести, передавать товарищу по игре, нельзя бежать с ним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18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0" y="18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5437080" y="1109520"/>
            <a:ext cx="592200" cy="468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kze.docdat.com/tw_files2/urls_3/470/d-469598/469598_html_m448c7cca.png"/>
          <p:cNvPicPr/>
          <p:nvPr/>
        </p:nvPicPr>
        <p:blipFill>
          <a:blip r:embed="rId2"/>
          <a:stretch/>
        </p:blipFill>
        <p:spPr>
          <a:xfrm>
            <a:off x="1700280" y="792000"/>
            <a:ext cx="1328760" cy="1481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3920" y="4714920"/>
            <a:ext cx="74646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езентация  подвижных иг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2" descr="Приемы игры в баскетболе"/>
          <p:cNvPicPr/>
          <p:nvPr/>
        </p:nvPicPr>
        <p:blipFill>
          <a:blip r:embed="rId3"/>
          <a:srcRect l="17861" t="0" r="68758" b="73693"/>
          <a:stretch/>
        </p:blipFill>
        <p:spPr>
          <a:xfrm>
            <a:off x="3214800" y="1143000"/>
            <a:ext cx="782640" cy="1044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Приемы игры в баскетболе"/>
          <p:cNvPicPr/>
          <p:nvPr/>
        </p:nvPicPr>
        <p:blipFill>
          <a:blip r:embed="rId4"/>
          <a:srcRect l="53782" t="33275" r="20756" b="33368"/>
          <a:stretch/>
        </p:blipFill>
        <p:spPr>
          <a:xfrm>
            <a:off x="4857840" y="928800"/>
            <a:ext cx="1538280" cy="1368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Приемы игры в баскетболе"/>
          <p:cNvPicPr/>
          <p:nvPr/>
        </p:nvPicPr>
        <p:blipFill>
          <a:blip r:embed="rId5"/>
          <a:srcRect l="-1776" t="0" r="81255" b="73693"/>
          <a:stretch/>
        </p:blipFill>
        <p:spPr>
          <a:xfrm>
            <a:off x="1643040" y="2714760"/>
            <a:ext cx="1200240" cy="104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Приемы игры в баскетболе"/>
          <p:cNvPicPr/>
          <p:nvPr/>
        </p:nvPicPr>
        <p:blipFill>
          <a:blip r:embed="rId6"/>
          <a:srcRect l="50005" t="0" r="39293" b="69748"/>
          <a:stretch/>
        </p:blipFill>
        <p:spPr>
          <a:xfrm>
            <a:off x="4929120" y="2714760"/>
            <a:ext cx="601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rebuchet MS"/>
              </a:rPr>
              <a:t>2. Две колонны  получают карточки  - схемы с технико-тактическими ситуациями в нападении, которые они разбирают, апробируют самостоятельно и демонстрируют  для другой команды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едачи мяча в тройках в движении на половине площадки или по всей площадк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ередачи мяча в тройках в движении на половине площадки и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всей площадк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Рисунок 28" descr=""/>
          <p:cNvPicPr/>
          <p:nvPr/>
        </p:nvPicPr>
        <p:blipFill>
          <a:blip r:embed="rId1"/>
          <a:stretch/>
        </p:blipFill>
        <p:spPr>
          <a:xfrm>
            <a:off x="-17640" y="2214720"/>
            <a:ext cx="460728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9" descr=""/>
          <p:cNvPicPr/>
          <p:nvPr/>
        </p:nvPicPr>
        <p:blipFill>
          <a:blip r:embed="rId2"/>
          <a:stretch/>
        </p:blipFill>
        <p:spPr>
          <a:xfrm>
            <a:off x="4564080" y="2357280"/>
            <a:ext cx="4579920" cy="31435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езентация комбинаци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Учащиеся выполняют комбинацию, строго по схем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Учащиеся делятся на группы защитников и нападающих, выполняют задания по схеме, с добавлением  защи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00:08Z</dcterms:created>
  <dc:creator>Физкультура</dc:creator>
  <dc:description/>
  <dc:language>en-US</dc:language>
  <cp:lastModifiedBy>Антон Гецман</cp:lastModifiedBy>
  <dcterms:modified xsi:type="dcterms:W3CDTF">2019-05-08T02:58:58Z</dcterms:modified>
  <cp:revision>35</cp:revision>
  <dc:subject/>
  <dc:title> Тема урока: Раздел «Баскетбол».  </dc:title>
</cp:coreProperties>
</file>