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F8F5-C786-4968-96A2-04C921974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1C11-A6BB-4874-B1EF-80EE2CC4C5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9263D-8513-4BA2-8D8E-8DCC672A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90BFA-8271-482F-A7EE-3301D39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1D0A7-2D5F-4CAA-9D04-37009DF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6F1E2-C3BE-443D-8DBD-E35EFDA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8720C-4C6F-41ED-944F-56651D0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1D62D-0A3A-4736-90ED-BA7E116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BA221-9255-4508-B21E-5B1E1D9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DBF68-F4A2-41DE-B9AF-BCD81BE1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2B3CA-FF02-42E3-A174-E105AD22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0617F-55DB-46F7-894B-45F4BBBD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0537-EB56-4EDA-B59D-4296D05CF0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E0BF7-E071-46A4-83CB-8663C58B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CB989-B7CE-4E7E-84C6-119BA33C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12D65-636D-4D8E-B184-2544165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91805-AD44-4421-A494-37605B79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A7126-9DF4-4A90-998D-DFE52366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69117-47E6-45A5-86E1-CD89F38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E2F36-D6F2-457D-B07B-0FE8A82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6F665-E1C5-4C9E-9FA0-F602636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7B5C4-4A3C-4E8F-9AD5-9A20AC7B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A4CB6-15E2-466B-9267-7D8A026F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E3D3-438E-4503-A33E-C59DDEECBDB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29EA2-FAE9-4CF7-8235-524FCAF9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D7094-8D7F-4DA3-BB33-B60FF959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5190A2-E575-4721-8C76-3D09A16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E995E3-C1BB-4CF2-AAD4-F1B5C0F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D21C90-3029-4D25-B5F6-7E0ED6BC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48FB1-2FE7-4520-B69F-A280BA1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7AF289-9377-462F-9FF5-822C9A42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5432B5-4BB8-4E32-9155-9A1392B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8E3E45-810A-4900-9A37-95458C2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092CB8-51CC-4987-BE61-4DA67BC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59F7F-0B94-44DD-8449-2C3ABB94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9F0169-D1C3-457B-85DE-C6B6D60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6E42DF-4464-46C9-996D-354991B7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A1755A-7AE6-4BC3-A815-D708968F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13FD7-B948-4D74-878B-3D430052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5B883-789A-4C36-AD5A-1C8BDD5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F182E-8FC9-42F5-9445-F7658B9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139AA-2ACC-4271-98A1-61EB4A6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36EBC-EDF1-4AED-81A7-E533CFC4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1F214-FED5-4A13-842F-99BB3290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168CD-32AF-4011-AD1A-BE1088A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A12F8-2F04-4419-A377-E4E1524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B7CEE-14C4-4B44-93CA-E12604B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8A5D3-B502-4125-ADC7-ADE5652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80DD5-AB3B-4A92-8242-70AC58A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06D68-58F3-43AF-B825-89C6CC2B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BD7BE-91E2-4445-8488-12D1E077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0F76C6-2A7C-440E-9BC2-D88D21B7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28C5B4-EBF7-45C4-8112-6186569A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6CCC3D-51C5-4B2C-9840-2141E78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56860F-5547-474A-AC01-1473AA0F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2F1690-3509-4D2C-AFAF-80F70F34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BA3E0-5781-4B8F-BE85-D560F9E5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4728DA-C4AD-46F3-ABA4-DBDED0BD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832A97-B99D-4653-9632-C34E82F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3B431-6D76-4294-8966-A6ED90D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CA8985-4948-4319-A003-0F95BA3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67D76A-A99D-4872-8B0B-448E5D4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EF71A1-9327-49FA-A6C8-03E7CB5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929617-BCE3-40F3-89FE-6B8DF730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02A90-6B75-4C98-A34B-16D879D5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1B4B-194C-48EB-BAEE-26CC939B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04B18-8254-446A-857D-127C50D3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EA9C0-1433-4904-A561-1492E34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DC49-FA59-4A61-9C16-25D3C40A0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106A-F315-4F7A-BD43-C23A731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AC71C-E9C8-45C3-A1B5-430D714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BBDA0-AAB5-4AAF-85CF-342DCAC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F6134-E9CE-4D5A-AC6E-DF26122C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5F9F8-4011-4C39-8C65-939F559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FC070-6289-4CDB-92F2-6C6BEF58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F676C-CD94-4A26-B94C-330C4B1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E9263-4ECF-4238-864A-17DF95A6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D38CE-A8CF-4379-89EF-CBD4BDBB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84B32-43E9-44FA-9517-2CD97BBA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56D5-0630-4CBF-AE73-C0E7B24FA3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41A98-F262-473E-AA65-A2F810A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CA0E9-596A-4798-B5A7-927DEB2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8388C-D94D-404E-964A-C1DDE79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E4782-DBD8-461F-B99B-3CD01F4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1FDD9F-554A-4696-8814-549165CA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EAFF8-CD83-4412-AE54-0462ED6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5A932-158E-4075-90B2-89D71922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7B09B-A7E5-4C45-A941-04DCC59A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5D6DC-8AF8-4CC9-8C86-33A79E9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01ABB-E93A-4701-9E76-C30FA1D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8BA2-D122-46F4-98B6-FC5A3757A9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9E73F-FAE6-4D5F-9AED-C4BE9FE1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1FD1B-D585-42D7-A55B-FA2FDC70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83CF6-E058-4471-9A57-8C6F4A15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63AF3-44B0-4532-A54A-1062BE94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E4551-33CB-4AF4-828B-9D07AE2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FF12E-5B29-4A7E-B67C-CBAB5D9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6A79E-AAE1-453C-83B7-EB44CE7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18B6B-267C-42C2-8E5C-1BB52AEE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ECFA7-347D-4205-8CF3-59173BD7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41822-6920-4BC8-BF6B-EA9E11FB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D083-FA70-4287-A3A0-334D368D72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78D35-55A7-4916-ACE3-D301243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E441C-62A4-4120-9080-72B389E8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C5794-1A60-4BE8-98B6-48C82815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CC5EC-2693-4EE6-AC9B-4EC4A7CC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CF2B6-9F97-4430-A0AE-37B4B1A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1F4BF-CFFD-4162-8E90-243C8302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8A94E-EF1A-42B7-8F3B-62115B6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71E63-01A4-4190-8795-1477DA7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547C9-9CDD-4C1C-A462-711A144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9159F6-8358-4B73-9055-E8C47AE0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2EBE-D58A-4295-A52A-CA5193D241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B1615-1006-464A-B99B-4CFCB3B2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5F84A-0903-4414-BD59-51B66EC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496DF-4E5D-4114-88E6-308F6CD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266D4-1040-4787-8EDF-30A1D68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872191-E2AB-443F-823C-A62F725D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3EAE3-6840-4571-A3D2-E2157E5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41D27-7F26-4218-855E-BDEC9D8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66B552-9D59-4645-A8C3-32A0F9E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7C41D-829F-46CC-98F9-D4BC863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9565D-A286-4FB7-83FC-E3E6F9F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8A9C-894E-4FA0-B912-BDD681549A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55BD4-7337-4607-B6FC-D80EBE7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E14AF-257B-4230-BECC-4A3E38CB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672EE5-0C5F-4A26-9E6B-D08D444A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D94DF-1106-4EDB-917D-0301760B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6BB78-AAB7-4949-8A48-E48E30C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9D0875-B1B6-4A83-8812-A714BADB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28B95-050F-4D87-862C-10C9D22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7E679-2772-4882-A3C8-C4514CB4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17DBC-A43C-49CC-9954-39B2000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E62ECC-CAE5-4A3B-841B-8797AC0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CF5-6B3D-4B4B-B02B-418FFAC9B3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0A1104-A686-40B9-8E28-5650236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36EF3-19B6-450C-B626-CC7D197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03482D-698F-4A10-A0CB-B4EFF9BE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66E989-333F-41B0-8CE5-00524E8B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11B65-96F0-45F8-B7AC-68ADA439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36CB9-E04D-4A3A-9F3E-85B067A8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8EC14A-72D9-4D29-9AB8-6D80634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D072B3-D4B0-4718-9F2D-33C71A4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B62DA1-295C-404D-B0AD-9BD7210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DD062-E2AB-4147-B690-F44AEACC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B9A2-14C0-474F-903C-F968C5AC80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DB68B8-C5D5-4094-969B-7BD70A58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5FD41-3211-4EE5-B584-E108121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1AC02C-F4F1-4979-A604-933D56A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601BA-A7AC-4E3D-9BE0-E828CB53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93EFC3-F8DC-4368-9BFD-8F317CCC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45D4E9-0B98-4EC0-9CB4-5121C0F5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DE907-D6AC-4A7A-B6ED-DE07C6D5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CA78E-539C-435B-A644-130D92B8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CB421-C4BD-4780-B084-8F7D7170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B454A-FFEF-4174-8601-70B2B9A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0AB9FE-B803-4FC3-A314-1AD39852B23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F117C2-B9AA-4F6D-A5DF-C98634A07E2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ECFD2A-65A8-475A-BDC2-9A1C0427E1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8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123BA0-8DF8-4A77-A9C2-B683D56E66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29E421-AE86-4F4E-BB86-94ECDDFFD7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AE7DBB-EB7A-4E17-84B6-835B5D5857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432974-FD81-4082-A33E-24B3F976C15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650176-29A6-40C8-A542-51779467F4A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5B7553-2EE6-4346-8B21-47184F176DF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FBBA30-10B6-4122-A7DC-FF2935C18E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03CD0B-0273-45B3-A2EF-E7F1204AD4D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60C96D-1104-42C7-AE42-281B9683C19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CD3A97-1BCC-4934-89CE-551FED61679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3559320" y="35712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755640" y="1413000"/>
            <a:ext cx="7929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WordArt 3"/>
          <p:cNvSpPr txBox="1"/>
          <p:nvPr/>
        </p:nvSpPr>
        <p:spPr>
          <a:xfrm>
            <a:off x="360360" y="1297080"/>
            <a:ext cx="8215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«  Использование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игровых технологий на уроках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физической культуры»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4572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457200" y="1905120"/>
            <a:ext cx="742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вития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Courier New"/>
              <a:buChar char="o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ктивизации и совершенствовании основных психических проце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овая деятельность использу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"/>
          <p:cNvSpPr/>
          <p:nvPr/>
        </p:nvSpPr>
        <p:spPr>
          <a:xfrm>
            <a:off x="503280" y="2004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элементы более обширной техн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урока или его ч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проведении игры необходимо соблюдать следующи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755640" y="1916280"/>
            <a:ext cx="641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ота и доступ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 -  активный участник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используемого инвент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не должна унижать достоинства игр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3:51:47Z</dcterms:created>
  <dc:creator>User</dc:creator>
  <dc:description/>
  <dc:language>en-US</dc:language>
  <cp:lastModifiedBy>1808</cp:lastModifiedBy>
  <dcterms:modified xsi:type="dcterms:W3CDTF">2019-05-08T18:57:30Z</dcterms:modified>
  <cp:revision>74</cp:revision>
  <dc:subject/>
  <dc:title>Слайд 1</dc:title>
</cp:coreProperties>
</file>