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3AFD-BF8F-4A47-B809-81248F1E4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19B5-6C3A-4BEA-8806-31B61E6659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333FA-E639-49C9-AB50-F6D87023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31EE6-83B7-4651-B9B3-6BF83F01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76177-C9AA-4CE1-8731-F76C480D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75FFC-BDAF-461C-B1F7-977CD5A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1E344-A7A1-4C6D-9EBF-8430CB34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E857A-7531-41BF-AD01-F28DC8A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146D5-A751-49E5-A514-27389EC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ADC6F-4325-40DE-A6B7-BC39CD24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F8F36-DB89-4F3C-B157-7C6971D4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044E4E-F988-405A-88FF-6BDE9D2B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066A-4C16-4D31-8670-3E36689B635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E50C82-36DF-4AF5-8AEE-0005C12F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AD86E-9B38-444E-8613-D0AFBBEB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D1ECE7-BCF4-4D21-9023-99CC657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05E2B-AC1B-4A50-B3A3-79A5E888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099C6-B947-4A4E-9A48-7296113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036BE-F83C-4BD0-BC66-BA93613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8CA1E-D866-4EEB-92AE-4D791894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E4CE5-A1AA-4345-A44F-8EDBE49E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603F9-63FE-4BAF-BBA3-C1976487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01D44-7B8E-40DA-BFC0-9CDA4015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317A-2FB6-4DDD-A2FD-05ED69A60E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4A2E9-F391-4D34-AABF-A689CAA4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8B4B71-461E-4DAD-9DB8-E240632F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0293B-63DE-476F-BBC9-462718F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98C773-54DE-4227-8F8C-10A9853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D5179A-DDD2-4C6D-AFE9-DC6BBE1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2BA86D-8F28-4992-8CC3-75C7B6E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BBCE79-1B83-4660-B115-FEFAEEE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17132F-1FDF-4FA6-9857-7C9F1C3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331F91-DED2-462B-95D9-3218D24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52CA83-17DD-4B05-8925-B98D212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6BDD9-CE5E-432C-8908-F7751EEB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355CBA-1391-4B42-9B38-EC819AD0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0AC618-9277-44D6-960F-A1157A6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22585-E8F9-404F-9B35-690CD7C8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ACD81-C32B-4E6B-BDF4-137E39B4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FA72F-E12C-437D-9D78-16B9923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CDCCD-B840-4CB8-B4A4-2AE8875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4C4DB-9728-48A4-9957-91E9FF2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AD031-0671-4DA6-A1B1-632BC862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96327-A37E-4AAA-BE07-73CC09D2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349FF-B2BB-477E-90A2-98BE488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9626-DA30-467A-B6A6-C9D1250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57E11-B989-4E15-A82F-22828739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DB035-7190-4493-98CB-C61E1D4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59892-899F-4629-A8E1-7D0D679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80FB0-3E4A-4856-B76F-2DF43A8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8C406-C194-47DC-9184-C003529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F60316-7ADB-4631-A680-E5677F61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BC4783-072B-43F0-895A-A8B3FB8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03D8AA-E9EA-4BE7-A3D3-2F001279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3B7232-D49B-4AE9-9A0A-D4B5B073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A6F0E8-7625-4D82-941D-35B0AF2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FD9B0-76C4-41E3-9B54-6617B602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3AA362-CAD2-4C73-8997-EFD022D4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39886D-8F97-4516-9825-755EA90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6AF18C-6951-4F47-BD46-AF29030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BEEEC4-9E18-4595-8BBD-7FB647D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E032814-6E8B-459D-906D-4CA23F9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F26F62-C62C-4808-8161-1B7459FB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0D9B54-A5DC-48B1-84A0-B682FE07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1EF42-F74C-4ADF-BAF7-16A6757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4961B-F666-429E-82EC-7FB3D396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A9987-9E92-4561-B72E-20105C51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39AC8-22B6-40B6-96F1-BF8FFDF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313-CEFC-4918-AC77-BFFD094E9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36CA3-553A-47E8-A964-A1A4F96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AD2D-D7EE-4138-9A56-F97C8D93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35F98-5D73-450B-8923-82B3F057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11120-2542-44B4-BC1D-BEAC3F22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42B18-9404-45A1-BD69-272931AB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DA0E7-A48B-4DCF-B2E8-050CBC4E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A45B4-DAB8-4772-89AC-38C22708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97682-11BA-4A4A-BBAC-DAA7CD94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E1A1A-7DDF-470A-81D6-61D73805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9BD8B-E3C0-49C2-B54A-DAFA03E8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0C35-9A03-4855-8517-5F1FD6E6EE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CD990-203B-4511-A4C4-5BC047BF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3AF26-A7FA-4AAB-86B2-3EA7EF54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55BFD0-1928-42A0-A958-16BEA2E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E12B1-5D4A-4BF8-BAC5-B1EBC587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B148C-E6DD-4595-9026-7990DFC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2687C-D3A4-430C-B102-420F649F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6FA10D-2269-46D8-B589-0CD0BFC2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28D76-E8BF-4566-BA8D-A76C8722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3FE12-4C34-4027-B733-6DDF0C6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69E73E-5C0F-4BFF-8CCF-EBFA5B11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58D3-CA01-418B-8C10-0DC2AF2354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661DB-B821-4E2D-A2E0-411F2A4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32CDB-8C20-4070-95B5-5B8C676A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ED849-CF1B-4CB3-83AC-325CED86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955D6-B455-4A73-8133-8A21F52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166CE-3732-4D13-BFF1-93272798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93AFDC-97EE-4701-A248-2A611C9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7E7EFF-7850-45FB-98E5-D85B2FDB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3E898-F2FD-4C8D-969F-6C4B50B9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98FC3-31EF-46F5-A45A-52053687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23F07-C841-4FB0-A049-AD0A7773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8C23-351C-4427-A379-DC2E7E66D2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C4738-ECD7-4B65-9FE7-E359E47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3F26F4-5C00-4EE3-84AE-2315242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DBFF3-6AF9-4847-B3D7-C568D0E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5CC08-B566-4C76-865E-18C36C01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506F4-7267-4214-B9DF-9C7B51B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FEBACA-BA1E-4639-899A-B202BBEF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6C5C8-C180-4FD5-9456-44BC6192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C5906-5AB5-4135-9800-191AFE4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7EC1B-63E8-4E64-92A5-E00BE0D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37F8CB-321F-4F63-9882-E0DBE185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31CE-13E4-4391-9E65-673F0D5068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F49C3-2897-4533-A47D-8C82030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8B5584-3E79-4C45-B823-2196B1FC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EEEF0A-C53D-44F1-A907-2C0DE395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9BDC5B-5D80-4EB5-A73A-EA696419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86DA0-1066-498F-8A8B-35C5C54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5A395-4888-40E6-9A95-F9F50F81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F2310B-D048-4C3C-86FA-31CD20A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1658A0-017E-42B2-AEB9-0CC691E3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6271E-053B-4EC3-9C05-1EB86A61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F32E2-0F4F-410E-BC96-559A1C62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7F2C-7B28-4095-8E29-549DBA0A31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716830-F709-4F72-92A7-0DE48AD7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937C9-239B-420C-BED5-3D807446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7CBF6-89AF-46E5-8028-986E2B3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89776B-8C11-4E51-A3A5-615C024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245677-24DD-4450-95EF-BC5882AB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132F4-7F0D-46DF-A93C-65F4BE63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1D74E2-64C6-4470-B661-470CB57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50DB4F-E270-4E91-B5E4-E26C538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CB0F04-8A31-422B-A4AC-C27610ED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4921D8-70B6-460B-B63D-E46216E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9AE0-5D69-413C-827E-9BA1150EA1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287AD-7C92-4B11-AC27-3D1330C9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3F7600-B8D0-4504-8A06-F24819E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8ED139-490A-4E42-BFD3-FA25E5F2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64731-3383-43C9-8D62-98FFCB9F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047F4D-A1F9-4F73-AEDA-1F8A4928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EF8FD6-484A-45F9-A7A8-3F88B34B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8614B6-5894-4E50-B7E0-1CCE00F8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9AE5E4-A65A-42A9-A918-BA2FB71A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332B3-85FC-453A-9D38-76C4B70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7F8F57-BCEA-419D-83B7-C9E732B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0A64-62B0-4A48-8A34-DA373099CCE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DC6CA-7179-4AF2-B895-11B34C4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109E5F-0F0B-4542-BB98-3391CB9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6EB64B-D0D3-47A3-A079-F078F5E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01648-1C26-4744-AA1F-05CC0C22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A58B10-263F-4A9A-8C1A-C9B5961E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24BE8B-3111-452D-A988-FE167B19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DC447C-E1A8-4B93-BC81-F0447274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05BC5F-E827-4C31-9AE7-14EDC3F8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CF56C2-4F71-400B-BF03-5B9C01E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B5931-A521-4609-90EC-59AB4A2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D350C5-FF75-4C04-9533-76433601A74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20FC7A-BDD7-4FBC-AFC1-4A878C9020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F0C7E9-C3DC-484C-8CE1-95D30A2576C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8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9CB5BC-E593-4CD0-9102-D6159F74DC7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FF6573-9EFA-4331-97BD-BA862F0D663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CC9F93-BBEB-4666-9AB5-74194DC66B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037730-7A0E-4683-BA22-024A581E35C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3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44AB17-34AF-4DC2-BFF9-B1B2F9BD2A1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5AB085-3939-4027-BAF2-E182344570F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4DC141-E2AC-404E-BAFC-6AF0963E0ED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BF753C-ADAE-4D12-A6E6-54449781CBC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BE590E-9DC9-442D-8954-93202731603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84BAE2-5058-4A7B-BCBB-DE6EE1D20A7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3559320" y="35712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755640" y="1413000"/>
            <a:ext cx="7929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WordArt 3"/>
          <p:cNvSpPr txBox="1"/>
          <p:nvPr/>
        </p:nvSpPr>
        <p:spPr>
          <a:xfrm>
            <a:off x="360360" y="1297080"/>
            <a:ext cx="82152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1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«  Использование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игровых технологий на уроках 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физической культуры»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45720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гровые технологии используются дл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"/>
          <p:cNvSpPr/>
          <p:nvPr/>
        </p:nvSpPr>
        <p:spPr>
          <a:xfrm>
            <a:off x="457200" y="1905120"/>
            <a:ext cx="742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азвития физических качест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ормирования умений и навыков в выполнении физических упраж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Courier New"/>
              <a:buChar char="o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ктивизации и совершенствовании основных психических проце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овая деятельность используе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"/>
          <p:cNvSpPr/>
          <p:nvPr/>
        </p:nvSpPr>
        <p:spPr>
          <a:xfrm>
            <a:off x="503280" y="20048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самостоятельных технологий для освоения понятия темы и даже раз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элементы более обширной технолог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честве урока или его ча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технология внеклассной раб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проведении игры необходимо соблюдать следующие прави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755640" y="1916280"/>
            <a:ext cx="641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ота и доступ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 -  активный участник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опасность используемого инвентар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не должна унижать достоинства игра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ывать принцип: от трудного к легкому; от сложного, к прост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3:51:47Z</dcterms:created>
  <dc:creator>User</dc:creator>
  <dc:description/>
  <dc:language>en-US</dc:language>
  <cp:lastModifiedBy>1808</cp:lastModifiedBy>
  <dcterms:modified xsi:type="dcterms:W3CDTF">2019-05-08T18:57:30Z</dcterms:modified>
  <cp:revision>74</cp:revision>
  <dc:subject/>
  <dc:title>Слайд 1</dc:title>
</cp:coreProperties>
</file>