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camera.wav" ContentType="audio/x-wav"/>
  <Override PartName="/ppt/media/image6.png" ContentType="image/png"/>
  <Override PartName="/ppt/media/type.wav" ContentType="audio/x-wav"/>
  <Override PartName="/ppt/media/carbrake.wav" ContentType="audio/x-wav"/>
  <Override PartName="/ppt/media/image3.gif" ContentType="image/gif"/>
  <Override PartName="/ppt/media/laser.wav" ContentType="audio/x-wav"/>
  <Override PartName="/ppt/media/image4.gif" ContentType="image/gif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540-06B1-4EA3-961C-942A3DF5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02E-B4BA-4ABF-A39B-DE28EC19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373-1AE5-4E39-92CB-909CDD86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5B0-4DF9-4A0F-A3BF-B4995E55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4B4-35BE-4E2B-80EB-8477AD3D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C56-83F0-43FB-B1F6-A273D6AE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0BD-7AAB-4637-9E4F-C0EA3A3E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B45-908F-43BA-B1E9-4B1933D9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892-5997-4363-BA58-EA7C993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EEA-619F-4739-B9AE-713B31C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BD3-ACF5-43CE-AA80-74F90DBB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263-AABC-486E-B449-BAA33AB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12E2-89A8-408E-945C-A761A50D48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cc"/>
            </a:gs>
            <a:gs pos="100000">
              <a:srgbClr val="eca2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оненты арифметических действий и нахождение неизвестных компонент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и сложе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и вычит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и умножении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и дел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ные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рь себ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200400" y="457200"/>
            <a:ext cx="26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одержание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5" descr="bs00554_"/>
          <p:cNvPicPr/>
          <p:nvPr/>
        </p:nvPicPr>
        <p:blipFill>
          <a:blip r:embed="rId1"/>
          <a:stretch/>
        </p:blipFill>
        <p:spPr>
          <a:xfrm>
            <a:off x="5715000" y="3809880"/>
            <a:ext cx="2673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е – равенство, содержащее неизвестное числ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ень уравнения – найденное значение неизвестного 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 – значит найти все его кор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666880" y="304920"/>
            <a:ext cx="4162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</a:t>
            </a: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Основные понятия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Picture 5" descr="A_5odie"/>
          <p:cNvPicPr/>
          <p:nvPr/>
        </p:nvPicPr>
        <p:blipFill>
          <a:blip r:embed="rId1"/>
          <a:stretch/>
        </p:blipFill>
        <p:spPr>
          <a:xfrm>
            <a:off x="5181480" y="4495680"/>
            <a:ext cx="1889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лагаемо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лагаемо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ум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ое слагаемое, надо из суммы вычесть известное слагаем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+55 = 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95 – 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276720" y="160020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5715000" y="1523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7009920" y="14479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3657600" y="380880"/>
            <a:ext cx="3048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сложении: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 вычитании:</a:t>
            </a: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меньшаемое, вычитаемое, раз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ое уменьшаемое, надо сложить вычитаемое и раз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ое вычитаемое, надо из уменьшаемого вычесть раз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– 67 = 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67 +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 –Z =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86 –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124080" y="175248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334120" y="17524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6705360" y="18288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75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 умножении:</a:t>
            </a:r>
            <a:br>
              <a:rPr sz="44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ножитель, множитель, произвед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 найти неизвестный множитель, надо произведение разделить на известный множите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 =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108 :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* 3 =1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183 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6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590920" y="167652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>
            <a:off x="4419720" y="1752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6553080" y="16765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2" descr="dogwag"/>
          <p:cNvPicPr/>
          <p:nvPr/>
        </p:nvPicPr>
        <p:blipFill>
          <a:blip r:embed="rId1"/>
          <a:stretch/>
        </p:blipFill>
        <p:spPr>
          <a:xfrm>
            <a:off x="7315200" y="3733920"/>
            <a:ext cx="15112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7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7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275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75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325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75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75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8225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75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75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125"/>
                            </p:stCondLst>
                            <p:childTnLst>
                              <p:par>
                                <p:cTn id="2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625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125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 делении: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делимое, делитель, частно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ое делимое, надо частное умножить на делите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ый делитель, надо делимое разделить на частн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: 12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5*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6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 : y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64 :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24m5"/>
          <p:cNvPicPr/>
          <p:nvPr/>
        </p:nvPicPr>
        <p:blipFill>
          <a:blip r:embed="rId1"/>
          <a:stretch/>
        </p:blipFill>
        <p:spPr>
          <a:xfrm>
            <a:off x="6553080" y="4800600"/>
            <a:ext cx="22640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уравн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значит решить уравн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корень уравн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йти компоненты при сложен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йти компоненты при вычитан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йти компоненты при умножен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йти компоненты при делен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905120" y="762120"/>
            <a:ext cx="4619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трольные вопросы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7" descr="as1225tn"/>
          <p:cNvPicPr/>
          <p:nvPr/>
        </p:nvPicPr>
        <p:blipFill>
          <a:blip r:embed="rId1"/>
          <a:stretch/>
        </p:blipFill>
        <p:spPr>
          <a:xfrm>
            <a:off x="7238880" y="1447920"/>
            <a:ext cx="114300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6400"/>
                            </p:stCondLst>
                            <p:childTnLst>
                              <p:par>
                                <p:cTn id="3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и урав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+256 = 9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8 + z = 8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–2901 = 4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703 – c = 3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* 45 = 9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: y =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 23 =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91 – 3 z ) : 4 =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 :( 69 – 4 x ) =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3124080" y="533520"/>
            <a:ext cx="25909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cc00cc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оверь себя !</a:t>
            </a:r>
            <a:endParaRPr b="0" lang="en-US" sz="5400" spc="1" strike="noStrike">
              <a:ln w="9360">
                <a:solidFill>
                  <a:srgbClr val="3333cc"/>
                </a:solidFill>
                <a:miter/>
              </a:ln>
              <a:solidFill>
                <a:srgbClr val="cc00cc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475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3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75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75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825"/>
                            </p:stCondLst>
                            <p:childTnLst>
                              <p:par>
                                <p:cTn id="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75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3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75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925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75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75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3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75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75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975"/>
                            </p:stCondLst>
                            <p:childTnLst>
                              <p:par>
                                <p:cTn id="3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6875"/>
                            </p:stCondLst>
                            <p:childTnLst>
                              <p:par>
                                <p:cTn id="3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75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75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6"/>
          <p:cNvSpPr txBox="1"/>
          <p:nvPr/>
        </p:nvSpPr>
        <p:spPr>
          <a:xfrm>
            <a:off x="2286000" y="838080"/>
            <a:ext cx="44956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елаю удачи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7" name="Picture 8" descr="A_6mdoll"/>
          <p:cNvPicPr/>
          <p:nvPr/>
        </p:nvPicPr>
        <p:blipFill>
          <a:blip r:embed="rId2"/>
          <a:stretch/>
        </p:blipFill>
        <p:spPr>
          <a:xfrm>
            <a:off x="6324480" y="3200400"/>
            <a:ext cx="21178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8:33:20Z</dcterms:created>
  <dc:creator>user15</dc:creator>
  <dc:description/>
  <dc:language>en-US</dc:language>
  <cp:lastModifiedBy>Дмитрий Каленюк</cp:lastModifiedBy>
  <dcterms:modified xsi:type="dcterms:W3CDTF">2007-01-01T03:25:39Z</dcterms:modified>
  <cp:revision>15</cp:revision>
  <dc:subject/>
  <dc:title>Презентация PowerPoint</dc:title>
</cp:coreProperties>
</file>