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camera.wav" ContentType="audio/x-wav"/>
  <Override PartName="/ppt/media/image6.png" ContentType="image/png"/>
  <Override PartName="/ppt/media/type.wav" ContentType="audio/x-wav"/>
  <Override PartName="/ppt/media/carbrake.wav" ContentType="audio/x-wav"/>
  <Override PartName="/ppt/media/image3.gif" ContentType="image/gif"/>
  <Override PartName="/ppt/media/laser.wav" ContentType="audio/x-wav"/>
  <Override PartName="/ppt/media/image4.gif" ContentType="image/gif"/>
  <Override PartName="/ppt/media/image5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7DA-67EB-4F3A-B5D4-1911310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E57-D03E-45C8-B855-DCB937EF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9C8-F29F-4FC6-B580-ECD2261B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361-1108-4427-ACA2-623B2C8A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046-BA41-42B2-A682-769BA68F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0F6-8B72-4840-9054-04BDE13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D55-EA55-4470-950C-2BB7C14A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4FB-E40E-445B-A2F7-6037FFC6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5C9-F9CD-4161-B4C2-CBAC5D9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96D-EAA8-4143-93BA-F2D65200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F1E-E61C-419A-A58A-DE3F320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45A-1EF4-4A7B-B5BC-A96F68F2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959B-68EC-421D-BD7A-2B970571B4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cc"/>
            </a:gs>
            <a:gs pos="100000">
              <a:srgbClr val="eca2e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оненты арифметических действий и нахождение неизвестных компонент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сложе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вычита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умножении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и деле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ные воп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200400" y="457200"/>
            <a:ext cx="26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одержание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bs00554_"/>
          <p:cNvPicPr/>
          <p:nvPr/>
        </p:nvPicPr>
        <p:blipFill>
          <a:blip r:embed="rId1"/>
          <a:stretch/>
        </p:blipFill>
        <p:spPr>
          <a:xfrm>
            <a:off x="5715000" y="3809880"/>
            <a:ext cx="2673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е – равенство, содержащее неизвестное числ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ень уравнения – найденное значение неизвестного 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– значит найти все его кор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2666880" y="304920"/>
            <a:ext cx="4162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</a:t>
            </a: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сновные понятия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" name="Picture 5" descr="A_5odie"/>
          <p:cNvPicPr/>
          <p:nvPr/>
        </p:nvPicPr>
        <p:blipFill>
          <a:blip r:embed="rId1"/>
          <a:stretch/>
        </p:blipFill>
        <p:spPr>
          <a:xfrm>
            <a:off x="5181480" y="4495680"/>
            <a:ext cx="1889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лагаемо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лагаемо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сумм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слагаемое, надо из суммы вычесть известное слагаем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55 = 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95 – 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276720" y="1600200"/>
            <a:ext cx="1904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5715000" y="15238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009920" y="144792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3657600" y="380880"/>
            <a:ext cx="3048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сложении: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вычитании:</a:t>
            </a:r>
            <a:br>
              <a:rPr sz="44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меньшаемое, вычитаемое, раз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уменьшаемое, надо сложить вычитаемое и раз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вычитаемое, надо из уменьшаемого вычесть раз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– 67 = 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67 +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 –Z =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 86 – 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 =5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24080" y="17524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334120" y="17524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6705360" y="18288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7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умножении:</a:t>
            </a:r>
            <a:br>
              <a:rPr sz="44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ножитель, множитель, произвед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 найти неизвестный множитель, надо произведение разделить на известный множит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 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 =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108 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* 3 =1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183 :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6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2590920" y="1676520"/>
            <a:ext cx="2514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>
            <a:off x="4419720" y="1752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553080" y="16765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" descr="dogwag"/>
          <p:cNvPicPr/>
          <p:nvPr/>
        </p:nvPicPr>
        <p:blipFill>
          <a:blip r:embed="rId1"/>
          <a:stretch/>
        </p:blipFill>
        <p:spPr>
          <a:xfrm>
            <a:off x="7315200" y="3733920"/>
            <a:ext cx="151128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75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325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8225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75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75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125"/>
                            </p:stCondLst>
                            <p:childTnLst>
                              <p:par>
                                <p:cTn id="2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625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125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 делении: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делимое, делитель, частно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ое делимое, надо частное умножить на делител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бы найти неизвестный делитель, надо делимое разделить на частн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: 12 =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5*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6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 : y =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64 :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=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24m5"/>
          <p:cNvPicPr/>
          <p:nvPr/>
        </p:nvPicPr>
        <p:blipFill>
          <a:blip r:embed="rId1"/>
          <a:stretch/>
        </p:blipFill>
        <p:spPr>
          <a:xfrm>
            <a:off x="6553080" y="4800600"/>
            <a:ext cx="22640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уравн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значит решить уравн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корень уравне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слож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вычита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умнож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айти компоненты при делен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905120" y="762120"/>
            <a:ext cx="4619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трольные вопросы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7" descr="as1225tn"/>
          <p:cNvPicPr/>
          <p:nvPr/>
        </p:nvPicPr>
        <p:blipFill>
          <a:blip r:embed="rId1"/>
          <a:stretch/>
        </p:blipFill>
        <p:spPr>
          <a:xfrm>
            <a:off x="7238880" y="1447920"/>
            <a:ext cx="114300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6400"/>
                            </p:stCondLst>
                            <p:childTnLst>
                              <p:par>
                                <p:cTn id="3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ши 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+256 = 9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38 + z = 8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–2901 = 4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703 – c = 3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* 45 = 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: y =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: 23 =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91 – 3 z ) : 4 =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 :( 69 – 4 x ) =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3124080" y="533520"/>
            <a:ext cx="25909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cc00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Проверь себя !</a:t>
            </a:r>
            <a:endParaRPr b="0" lang="en-US" sz="5400" spc="1" strike="noStrike">
              <a:ln w="9360">
                <a:solidFill>
                  <a:srgbClr val="3333cc"/>
                </a:solidFill>
                <a:miter/>
              </a:ln>
              <a:solidFill>
                <a:srgbClr val="cc00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75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475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3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75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75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5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3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75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925"/>
                            </p:stCondLst>
                            <p:childTnLst>
                              <p:par>
                                <p:cTn id="3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75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75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3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75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975"/>
                            </p:stCondLst>
                            <p:childTnLst>
                              <p:par>
                                <p:cTn id="3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75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875"/>
                            </p:stCondLst>
                            <p:childTnLst>
                              <p:par>
                                <p:cTn id="3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75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6"/>
          <p:cNvSpPr txBox="1"/>
          <p:nvPr/>
        </p:nvSpPr>
        <p:spPr>
          <a:xfrm>
            <a:off x="2286000" y="838080"/>
            <a:ext cx="44956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елаю удачи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" name="Picture 8" descr="A_6mdoll"/>
          <p:cNvPicPr/>
          <p:nvPr/>
        </p:nvPicPr>
        <p:blipFill>
          <a:blip r:embed="rId2"/>
          <a:stretch/>
        </p:blipFill>
        <p:spPr>
          <a:xfrm>
            <a:off x="6324480" y="3200400"/>
            <a:ext cx="21178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08:33:20Z</dcterms:created>
  <dc:creator>user15</dc:creator>
  <dc:description/>
  <dc:language>en-US</dc:language>
  <cp:lastModifiedBy>Дмитрий Каленюк</cp:lastModifiedBy>
  <dcterms:modified xsi:type="dcterms:W3CDTF">2007-01-01T03:25:39Z</dcterms:modified>
  <cp:revision>15</cp:revision>
  <dc:subject/>
  <dc:title>Презентация PowerPoint</dc:title>
</cp:coreProperties>
</file>