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4DF-1F12-4E09-836F-8C5310FE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8E4-D79D-4F81-A612-9B1E09A4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ECCEA-EB91-4041-A192-C70EDC08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91467-A6EA-4F03-9E84-C7F62C7A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108C4-5E96-4381-9C38-DC26AB70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16BE6-431C-4407-9B81-1935BF4B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5A16B-3CEE-4B9E-8B86-C832FC1C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431CC-A981-4C35-A06B-F3114C6D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CE4FC-50A9-4F54-9518-813D554E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1BBEB-B1CA-429F-A2E6-7AC76091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3F687-8399-4699-A144-1F61B45E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B3C24-DB11-4E44-A3AC-E575FDD3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E8B-6857-46D2-A299-D2785766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70D80-E836-4FCD-8952-CB242F4E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E308A-3225-4F08-AE47-0FF7FACA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CBF19-75E1-4F45-B627-B2497344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56718-8572-4022-BAD8-9EF8BBA5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D016A-C6FB-42A5-800D-BA681C8C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A966A-196D-44B9-AC45-98EAE3D9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FF940-7EFF-4AFD-AA07-4F83D6EB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1CD39-D24A-491F-A18E-C342DD6F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D9144-8DF8-429C-A9F6-B435029B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3957B-A548-45DA-BCD0-44316BBA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073-CB22-401D-9FFB-923B3EDB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479F1-64C6-43EB-91B1-535C3EDF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F5EB2-E8EE-42E3-803B-FCBA33C8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A163E-CC39-41E4-B4B9-229128FD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36276-5793-4781-ABF6-F3CED570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42BE9-B4BD-4896-8A20-3030627B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6110E-138E-4B37-920B-56A910FE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96DDC-DA1B-4F43-A23F-9ADBF3D1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AEEAF-8158-4EC3-ACF0-28A3F392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6B3B9-2DD8-4B24-AE17-E5FB952C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8F71D-1534-4648-801F-3A2A7C8F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FAC6-B208-4B46-A33D-621086A8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03A4A-D666-4199-874A-9610C363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9939C-DA79-4ADE-B6E5-B7E53AFA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EE823-DC71-4CC4-9013-354DFF3F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9B92-A673-43AB-B0C0-FF5C12A1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9124-72EA-4F2D-A84A-C0FAF69C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5643-842A-435C-8D94-D4A8BA3C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D274-C5E8-4D39-8484-92F6A312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F735-9A22-4667-9895-4265D5AB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F1D2-05AB-4E42-979B-BB424CEA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A4D-930A-40DE-BD2B-D3BB7C62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DE72-E774-42C3-909A-0D5774E1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8A6B-A027-4FE4-8968-2DEFCF32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44F7-552F-48A7-904C-9B64223E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B1F2-8A18-42F5-B8F3-AB71CE18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F159-CDD5-42A0-80C2-BADB5D67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12427-FA64-48B5-9D7F-2B2EB475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7FF64-6E77-45BF-9CE0-40B4C341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E55A7-69E6-4F2B-AF8C-08E7A722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F8D35-946C-40BF-B376-7BD430C7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CE699-3645-4871-AAFC-961F59FC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B7F-49FE-4F30-BD6B-FF0C3A37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161F6-2A75-4F32-AF1F-2FC71386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E0473-BF55-4EDB-9D49-9D41E26D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09265-D5CA-4FF6-B116-6FF3238B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AEE9C-4BF3-41D5-8C3C-2E68E377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0DA14-2BF4-4A7F-A248-AB778A7C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49E60-5F16-48B5-8C6F-E8F6E6D8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FA30-AFD9-465A-B636-788E4FBE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2F0D7D-21EB-4E5B-BFBF-4334F4FD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5DCE0-6FF0-4A31-88FF-AB23741F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D1DD7-51A7-4251-A094-4DE0264E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02A-E3F9-492E-A1C3-90462688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716A9B-303D-4293-AD21-262EFF60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73F519-C7A8-448B-8C68-783AFA08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C445B-A025-4E9B-B1A3-4684CBB9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7A4D8-6421-4234-9B09-52AC0393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F74C69-D5CD-4E50-B358-CCB96C23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BEA793-1EF2-43E7-972A-54DB9F96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A7294F-1F90-4E84-9340-615D6A63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E1E0D8-B3A2-4862-8089-D6A6B321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A02791-720F-4528-8CF8-40B7A2F0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48358-C1AD-4364-83F3-BEC6519F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6DF-44E5-4129-BA8C-C9EF34A8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E6429-CB55-4AB3-A27F-B1E00F96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E98F1-5B42-44DC-B15A-5F698C6D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83B6C-58F0-47BB-8085-76C5934E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5C57B-5505-4519-B7E4-95701E4E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BA19F-B110-4700-BAA0-B5E665CA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2AF17-D135-4DA9-8B7B-3C05D04D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2322F-EA31-44E8-98AD-03862FFD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85D21-D69B-42C0-BEE3-AFBB98D2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C98C0-3F14-4530-AC88-2BAED5A3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B90C3-8294-4342-B95E-F02DCC5F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A7B-5E20-4893-999C-7E1AFE6C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6CD0E-D4CF-4923-B939-94AC73B4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40A21-D363-4FBA-A952-434A7929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9B7F9-BE86-4559-B04B-0FE94098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43A8D-2C19-4C23-B075-1C2ECE20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49D49-D0EC-4AB5-ADF4-52FCE661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F6A23-BB80-4B20-8D51-3EA7A1A2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3E754-FF3B-4CD7-9397-3DC716C0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A942B-C8B8-4B49-BF58-F29439A9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287F9-E469-4488-BD19-FAB63841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ADEF3-8BC0-46A4-A7CF-D493E9E2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3AE-3AD9-4AE5-8749-FC09AFB9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10D94-163B-474E-95C7-762D9932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52E69-552B-4621-9DAC-EDC43108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4AC67-E8BC-44A0-B84E-2C660F09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15325-DF54-4A67-8B0B-F6EEE7BA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77B7A-04DB-488C-858E-EF21F192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917B1-35DA-4112-B30A-1E36E85F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2FF81-1C54-468C-A973-A8A5A5DE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A6B87-E56B-4604-B091-3990A0D2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17181-E089-4A90-B054-5B09CBE6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E3560-17DB-4978-AFAE-3312E337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2FE-71A3-4BBF-90B1-CA886907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A9DA6-8193-4AE9-988A-180F3C38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A544F-31E6-43E7-9165-9CF49344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53476-078E-4FB1-B0AE-5437ACC9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B2E99-64AC-449E-957F-63F6369F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F97F0-AEA7-434A-BA6F-D6F3A78B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665CB-BCC6-40AF-93EF-825852C3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10CFB-1F4A-4232-87A1-3AE4BF3F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A3D48-4048-43D3-B5F3-37EB832A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53488-F76D-432D-B352-75BD58FB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73D98-4659-48CB-85F0-D8078959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B09-DCAD-4515-80CA-7182FBAF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F2160-5843-4FAB-8831-627E336B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68D2D-02D6-485A-BBCA-62A1C8B5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39EC8-4A54-4295-8966-D74F8EA1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40FEC-DF29-4217-AF56-72DC2238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16C7A-ADCA-463A-BFC7-08785B4E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5925C-1875-4212-98C9-50202BE6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E5729-AF06-45A2-844C-C31D8EE6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B66ED-7FC6-4664-A3B4-DCC6EB0F7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7F755-6678-4C27-9EEA-0C629379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6DD49-4E7C-4A5E-9C91-107758AA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A12B36-2BDE-4563-907D-A010CDBF839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24618D-036A-4D7B-9240-EEAB1DBAE69C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530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3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534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7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538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1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2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3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4BFBE4-7139-44E3-8D97-20662AE6BC30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EC4639-FDF5-402F-8AB0-A5812F7E1378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63D0D0-DBC0-4F01-9892-F37EDF1305E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8F8677-D7DF-4032-959F-C7567E2DE79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D4881E-E666-4C5C-8C04-775E31A7955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97E10C-07DF-4748-B5C3-4056EC4B7186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D7BCA6-B9ED-4108-8368-C79450840ED4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0273CB-9892-44B7-A503-CA20A0BFB074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6ec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1E8EC9-C00D-40E4-9085-A524783BEE1D}" type="slidenum">
              <a:rPr b="0" lang="ru-RU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1"/>
          <p:cNvSpPr/>
          <p:nvPr/>
        </p:nvSpPr>
        <p:spPr>
          <a:xfrm>
            <a:off x="892080" y="504720"/>
            <a:ext cx="7431120" cy="30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ческая культур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учащихся 1-11класс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редакцией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 И. Лях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WordArt 2" descr=""/>
          <p:cNvPicPr/>
          <p:nvPr/>
        </p:nvPicPr>
        <p:blipFill>
          <a:blip r:embed="rId1"/>
          <a:stretch/>
        </p:blipFill>
        <p:spPr>
          <a:xfrm>
            <a:off x="1828800" y="5297400"/>
            <a:ext cx="5559480" cy="785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"/>
          <p:cNvSpPr/>
          <p:nvPr/>
        </p:nvSpPr>
        <p:spPr>
          <a:xfrm>
            <a:off x="684360" y="549360"/>
            <a:ext cx="82803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зического воспитания в школе состоит в том, чтобы содействовать формированию всесторонне развитой личнос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средство достижения этой цели – овладение школьниками основами личной физической культуры, под которой понимается органическое единство знаний, потребностей и мотивов, оптимальный уровень здоровья, физического развития, разностороннее развитие двигательных (координационных и кондиционных) способностей, умения осуществлять собственно двигательную, физкультурно-оздоровительную и спортивную деятельность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Концепция физического воспитания и здоровья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ей и подростков»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-289080" y="331920"/>
            <a:ext cx="9433080" cy="1512720"/>
          </a:xfrm>
          <a:prstGeom prst="rect">
            <a:avLst/>
          </a:prstGeom>
          <a:solidFill>
            <a:srgbClr val="def6f1">
              <a:alpha val="70000"/>
            </a:srgbClr>
          </a:solidFill>
          <a:ln cap="sq" w="25560">
            <a:solidFill>
              <a:srgbClr val="8dc6ff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250920" y="189000"/>
            <a:ext cx="84247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сновные отличия и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еимущества программы физического воспитания   В. И. Лях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250920" y="2205000"/>
            <a:ext cx="88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ый под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базовой и вариативной ча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для 2-х и 3-х уроко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культуры в недел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робное описание содержания и методов физического воспитания как для урочной, так и внеклассной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ная форма изложения материала, позволяющая легко планировать рабо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0:44:21Z</dcterms:created>
  <dc:creator>Lena</dc:creator>
  <dc:description/>
  <dc:language>en-US</dc:language>
  <cp:lastModifiedBy>1808</cp:lastModifiedBy>
  <dcterms:modified xsi:type="dcterms:W3CDTF">2019-05-08T18:50:43Z</dcterms:modified>
  <cp:revision>44</cp:revision>
  <dc:subject/>
  <dc:title>Издательство «Просвещение» представляет</dc:title>
</cp:coreProperties>
</file>