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A3F-81DF-4320-9260-1AAA32DE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03B-4823-4498-8F6B-82ECEEB8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11F91-EA9F-4905-8342-1389BFB8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48F48-1B01-4B50-90D5-3F965F6D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F47E9-D7AC-4449-8AB3-2CF4D75D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3E944-1EA2-4039-96E3-2DFC33E4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D1138-4B87-42A2-8FCF-4587E6C5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8D00F-AA73-4C3F-B8C0-84FE6BF3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38E27-3C8B-40A2-8B03-80552FD8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35E9F-7C32-4D00-90B9-53BD2113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C82D7-7C5F-4F46-884D-9E1F776C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70875-3CAA-4CB2-98B4-99488380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6A0-A035-45F8-880A-A30DE1C1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E9296-B8B2-4AB1-AB4A-3C968D7A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ECC81-158B-401F-A5C0-139BF2AB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D4D81-B058-4F59-B067-65057441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13C7C-64A1-438D-97B9-E2C740A9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8D2C6-3096-401C-97DB-F31A8924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5CCE1-1AAF-4C33-958C-C1268CAB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384CA-8680-4CE7-A143-A9AE53AE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B90D0-74A9-4F8A-8E89-F2E260DF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2ADDB-105A-411D-A275-92C64981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7CEAB-6006-4CFF-A94B-83B879BB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38D-5FA1-475D-94E4-49D38B05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3AF23-E6B8-4784-B140-13B1EEF2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EB59D-F0BB-4B4A-989A-E0E8C8B6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EFBD4-1C2F-4D4A-BD48-F1441B81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6CADB-BD12-42C2-B69B-CE1E2099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4529A-2142-4EE1-A4A2-8E095B27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24C4A-FCA0-4929-9ACA-0EB466DD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935C3-9C65-44EC-8B19-7E6FC058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FBFCF-7AB7-46CB-8C7C-5DF75127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B871E-98A8-4F14-A6A1-A7360B1C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E906A-3C0E-4D02-AD30-0A8C085C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AB17-A928-4D83-A99C-2DA86B83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B0084-E293-425C-BD78-2566AAE5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2BDB0-4B6A-4D8A-AB58-A70BA1B1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F90DF-1606-415D-ADE5-93254AA3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9830-87B2-40B8-B46A-C82F7AB2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E5B6-E9EF-4AC4-8AC2-3FED0715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EBEF-83AC-463C-85FD-18E5026C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8E57-B674-4A0E-9B68-0189C2C2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6A32-1BE6-43FF-9751-AD9ED3D4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0FE2-E113-4230-BCDB-D4933A72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1AA-F86C-4DB2-8EA4-DC6FAA15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1D3F-E571-4A12-989A-E3FFF378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7EFB-3622-4EF6-B5CB-2059DBE6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DDFC-F7D4-4BB2-BAC2-0B29752E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0C3D-0F3B-465D-A456-C4221D18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7525-F4FA-4487-88F3-26A78DDA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66C4-FA75-454E-A20C-4A3CD8D4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1E9C1-CE4C-4B0E-B698-9358B398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FB7BE-B2FF-4FC9-8FC0-FCC5A35D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BD03B-1796-4CC6-8319-FC5CF80E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7B494-AFBB-438D-89F2-11A59A06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B40-C68B-4C30-BD17-9FAB23EF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7961A-98BB-4DAC-9F21-2173337E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D75A-1EA3-4CF2-8240-F7A2E4AB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2966B-F57D-4042-A385-9446D9F1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F6735-71FA-40D2-BD5D-32DEC5A9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9F459-F54A-4F1A-94B8-F5F1D21E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38EAF-65BD-4FCE-AE71-D2F46668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4BF9E-A748-4823-B38E-11BED007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6FBAF-6CC0-40A9-B563-7BE2BA24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A0BF4-EDB0-4EE2-9F94-6EB5BFC2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C796C7-CF60-4738-B306-D0B4B948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5CF-338C-4368-90B8-19C53EC5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C0C967-499A-4BF9-AE7A-C0B5B15D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1AEA2-D19F-4562-831D-F3C8F18C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57B95-2E58-4415-AA6A-54FF83B1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27AD2-9B00-4C2F-9A36-6259F5BA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2A733-75F5-4164-AF1D-3B53A4B5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FD43C-FB44-49E2-88FB-21186AFF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6F2F50-05F9-4208-A8AC-A559F6F9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D13AD-D6EE-447D-AC00-96032B71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CA98D-7570-4432-9ED4-428431ED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66A42-5568-4827-801D-198EFB45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EAA-4DB9-46FF-B7CE-43E81EB5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9E348-0664-4970-B816-CF91E1BE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451D4-1EAB-4B18-9FAE-501D2D40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3B3EB-D994-4B82-AC19-2B22CA50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87794-0760-429D-A189-1CD83DAC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9FB64-9D0D-4594-AC36-7F250C05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0096A-7F4B-46A5-BFAB-3B92B7A7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02DAE-E17D-4A6E-9686-34A50487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5CEFB-C5CD-45F3-8BD4-3EB5ED31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0F6A1-D0AC-445F-8D8D-7E86C18C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2F959-E6C5-4F03-BF4A-C02BFB62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23B-E1FA-4618-937A-4136399E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FE9B4-2ECF-44AB-974B-A2C071C5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EA8D3-8560-43D3-B698-CB21D210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8E559-103B-4192-9132-BEF0D53D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F3CF1-8643-408A-BA5A-EADAA832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695EF-676B-4913-A017-81020427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5BE9F-E201-46FA-8D51-D26F7114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43ED9-0FE4-4C6A-8095-2233DA82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C28D4-2FFD-4A99-8F76-37698C2F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43B47-F821-4DB4-BD51-37311C4A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19B80-88B8-4413-9FA6-4BE349F4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DBC-F305-424C-8B7A-5394FB88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2F2F0-082A-4A24-880F-CA86CCD9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CA086-4E4E-4EE6-B090-867EF36C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7D2F6-3DA2-4345-9DE1-6E29E69D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18F7F-1863-4506-B949-493F68CF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EF5CA-A251-44AD-8E63-25C60CC0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917DF-7382-4057-89AE-D7D86526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85542-802B-4870-8904-EDBFF013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E4E33-B24B-4D01-8B33-E2C7BF64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9401F-C1CA-4B88-958D-6FC406E1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0EA12-269A-4270-810C-A99343A5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5C9-5334-4CBE-AE05-F6E429DD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4390B-9FD2-4DDA-BC22-99B886C0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4F832-8047-4647-8253-82BFBBA8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D9921-061C-4675-91D7-CFA498E9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26829-A8F3-43BB-8D81-9AF6279F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70298-2865-4744-B2B2-E940E507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FDDCA-BC72-4170-A5FE-41403F95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C1CB6-338B-4719-AA1D-D2479803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9504C-56D9-4BA6-8F7D-512B76F8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7D951-E15A-4F47-A86D-F8C220E1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BF316-72B9-4246-9932-A51B9BEC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0F1-330B-47FB-A696-942DA824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B123F-269C-496A-8C3B-83DEFCCA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039AD-6CFF-4A9C-AC30-92F94C42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3EE2D-DBAE-4FFB-9804-31C704BB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F7AD8-5F05-4390-9C68-8EE37FFC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26CBC-3AA4-4AF8-818E-7CB6DA22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2E7D8-D4A9-4117-B70A-CE7ED390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83FD5-5775-4253-B1EC-B0846EC9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ACBE9-A4C2-449A-9301-0E1204C7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1BF5C-66F2-47B1-B97B-18F7FC5B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B8479-FDE4-458E-AD32-1CCAD0FC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4F0920-04DD-4F8E-B0A7-BD7EB5B330A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048997-5CB1-4938-8F0F-50C4085D8C94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530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3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534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7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538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1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2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3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4E39B0-2E3F-4818-B644-F8BB310C8AE6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3EF565-28CB-48F2-B46A-902FE11D17FF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EF1B04-DB1E-4EF6-8C5C-9862F135DF6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4D56C0-D11E-45D7-8B5D-638D706A849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4D5C4B-69C0-4FCA-9FAC-22C0758FB3A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1F1090-EF35-46C8-8EE9-8111A85297F1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367D4C-32E7-48F1-9389-93A922A41A2E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543A27-03CF-49E8-B0C7-BC8A0DB80B21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8D0530-EB0F-49A9-8A55-9080725D2362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1"/>
          <p:cNvSpPr/>
          <p:nvPr/>
        </p:nvSpPr>
        <p:spPr>
          <a:xfrm>
            <a:off x="892080" y="504720"/>
            <a:ext cx="7431120" cy="30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ческая культур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учащихся 1-11класс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редакцией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И. Лях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WordArt 2" descr=""/>
          <p:cNvPicPr/>
          <p:nvPr/>
        </p:nvPicPr>
        <p:blipFill>
          <a:blip r:embed="rId1"/>
          <a:stretch/>
        </p:blipFill>
        <p:spPr>
          <a:xfrm>
            <a:off x="1828800" y="5297400"/>
            <a:ext cx="5559480" cy="785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"/>
          <p:cNvSpPr/>
          <p:nvPr/>
        </p:nvSpPr>
        <p:spPr>
          <a:xfrm>
            <a:off x="684360" y="549360"/>
            <a:ext cx="82803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зического воспитания в школе состоит в том, чтобы содействовать формированию всесторонне развитой личнос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средство достижения этой цели – овладение школьниками основами личной физической культуры, под которой понимается органическое единство знаний, потребностей и мотивов, оптимальный уровень здоровья, физического развития, разностороннее развитие двигательных (координационных и кондиционных) способностей, умения осуществлять собственно двигательную, физкультурно-оздоровительную и спортивную деятельность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Концепция физического воспитания и здоровья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ей и подростков»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-289080" y="331920"/>
            <a:ext cx="9433080" cy="1512720"/>
          </a:xfrm>
          <a:prstGeom prst="rect">
            <a:avLst/>
          </a:prstGeom>
          <a:solidFill>
            <a:srgbClr val="def6f1">
              <a:alpha val="70000"/>
            </a:srgbClr>
          </a:solidFill>
          <a:ln cap="sq" w="25560">
            <a:solidFill>
              <a:srgbClr val="8dc6ff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250920" y="189000"/>
            <a:ext cx="84247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сновные отличия и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еимущества программы физического воспитания   В. И. Лях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250920" y="2205000"/>
            <a:ext cx="88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ый под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базовой и вариативной ча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для 2-х и 3-х урок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ы в недел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робное описание содержания и методов физического воспитания как для урочной, так и внеклассной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ная форма изложения материала, позволяющая легко планировать рабо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0:44:21Z</dcterms:created>
  <dc:creator>Lena</dc:creator>
  <dc:description/>
  <dc:language>en-US</dc:language>
  <cp:lastModifiedBy>1808</cp:lastModifiedBy>
  <dcterms:modified xsi:type="dcterms:W3CDTF">2019-05-08T18:50:43Z</dcterms:modified>
  <cp:revision>44</cp:revision>
  <dc:subject/>
  <dc:title>Издательство «Просвещение» представляет</dc:title>
</cp:coreProperties>
</file>