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41.png" ContentType="image/png"/>
  <Override PartName="/ppt/media/image1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30.jpeg" ContentType="image/jpeg"/>
  <Override PartName="/ppt/media/image43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45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C08-BBE5-4CAD-8B8C-727500B9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9BA-73F1-4732-8CAE-B1D62F9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D61-FF8C-4852-B351-826D63F8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C6C-86D0-4963-886C-2C6D9B2D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BB3-4368-4E35-9EB2-8035535B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0C1-5D14-4F12-B6FD-13315577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1C8-41A0-4B93-BD77-06DFD42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E1A-6025-4D9D-ACEE-A3B285B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A6B-C527-45B3-A38C-77E284B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C0F-8CDF-4BE5-8FE6-2C266CF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61A-C55C-4BB2-A884-119BCE37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2D5-4DDC-423B-8A93-94A7281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913794-10AA-4B9C-A116-4829D0E179AA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596360" y="692280"/>
            <a:ext cx="1296720" cy="879120"/>
          </a:xfrm>
          <a:prstGeom prst="rect">
            <a:avLst/>
          </a:prstGeom>
          <a:ln w="127000">
            <a:noFill/>
          </a:ln>
        </p:spPr>
      </p:pic>
      <p:sp>
        <p:nvSpPr>
          <p:cNvPr id="47" name="Picture 3"/>
          <p:cNvSpPr/>
          <p:nvPr/>
        </p:nvSpPr>
        <p:spPr>
          <a:xfrm>
            <a:off x="251640" y="836640"/>
            <a:ext cx="8509680" cy="6021000"/>
          </a:xfrm>
          <a:prstGeom prst="wave">
            <a:avLst>
              <a:gd name="adj1" fmla="val 12500"/>
              <a:gd name="adj2" fmla="val 0"/>
            </a:avLst>
          </a:prstGeom>
          <a:blipFill rotWithShape="0">
            <a:blip r:embed="rId2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132000" y="2924280"/>
            <a:ext cx="4572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899640" y="404640"/>
            <a:ext cx="6795360" cy="1416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рганизация питани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МБДОУ «Детский сад№</a:t>
            </a: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28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»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C:\Users\SAD134\Desktop\пит\DSCN3904.JPG"/>
          <p:cNvPicPr/>
          <p:nvPr/>
        </p:nvPicPr>
        <p:blipFill>
          <a:blip r:embed="rId1"/>
          <a:stretch/>
        </p:blipFill>
        <p:spPr>
          <a:xfrm>
            <a:off x="428760" y="928800"/>
            <a:ext cx="3239640" cy="22856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pic>
        <p:nvPicPr>
          <p:cNvPr id="97" name="Picture 2" descr="F:\2014-2015\КУХНЯ\DSCN3888.JPG"/>
          <p:cNvPicPr/>
          <p:nvPr/>
        </p:nvPicPr>
        <p:blipFill>
          <a:blip r:embed="rId2"/>
          <a:stretch/>
        </p:blipFill>
        <p:spPr>
          <a:xfrm>
            <a:off x="5548320" y="857160"/>
            <a:ext cx="3335040" cy="24998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pic>
        <p:nvPicPr>
          <p:cNvPr id="98" name="Рисунок 3" descr="C:\Users\SAD134\Desktop\пит\10.jpg"/>
          <p:cNvPicPr/>
          <p:nvPr/>
        </p:nvPicPr>
        <p:blipFill>
          <a:blip r:embed="rId3"/>
          <a:stretch/>
        </p:blipFill>
        <p:spPr>
          <a:xfrm>
            <a:off x="3643200" y="2571840"/>
            <a:ext cx="1928520" cy="1928520"/>
          </a:xfrm>
          <a:prstGeom prst="rect">
            <a:avLst/>
          </a:prstGeom>
          <a:ln cap="sq" w="38100">
            <a:solidFill>
              <a:srgbClr val="0bd0d9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99" name="Рисунок 4" descr="C:\Users\SAD134\Desktop\пит\14.jpg"/>
          <p:cNvPicPr/>
          <p:nvPr/>
        </p:nvPicPr>
        <p:blipFill>
          <a:blip r:embed="rId4"/>
          <a:stretch/>
        </p:blipFill>
        <p:spPr>
          <a:xfrm>
            <a:off x="428760" y="3857760"/>
            <a:ext cx="3239640" cy="2160360"/>
          </a:xfrm>
          <a:prstGeom prst="rect">
            <a:avLst/>
          </a:prstGeom>
          <a:ln cap="sq" w="38100">
            <a:solidFill>
              <a:srgbClr val="0bd0d9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00" name="Рисунок 5" descr="C:\Users\SAD134\Desktop\пит\11.jpg"/>
          <p:cNvPicPr/>
          <p:nvPr/>
        </p:nvPicPr>
        <p:blipFill>
          <a:blip r:embed="rId5"/>
          <a:stretch/>
        </p:blipFill>
        <p:spPr>
          <a:xfrm>
            <a:off x="5643720" y="3857760"/>
            <a:ext cx="3239640" cy="2160360"/>
          </a:xfrm>
          <a:prstGeom prst="rect">
            <a:avLst/>
          </a:prstGeom>
          <a:ln cap="sq" w="38100">
            <a:solidFill>
              <a:srgbClr val="0bd0d9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01" name="Рисунок 7" descr="Описание: E:\жемчужинка\1.jpg"/>
          <p:cNvPicPr/>
          <p:nvPr/>
        </p:nvPicPr>
        <p:blipFill>
          <a:blip r:embed="rId6"/>
          <a:stretch/>
        </p:blipFill>
        <p:spPr>
          <a:xfrm>
            <a:off x="3929040" y="1357200"/>
            <a:ext cx="1380600" cy="93636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1022040" cy="13996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7380360" y="5791320"/>
            <a:ext cx="1496520" cy="836280"/>
          </a:xfrm>
          <a:prstGeom prst="rect">
            <a:avLst/>
          </a:prstGeom>
          <a:ln w="9525">
            <a:noFill/>
          </a:ln>
        </p:spPr>
      </p:pic>
      <p:pic>
        <p:nvPicPr>
          <p:cNvPr id="104" name="Picture 12" descr="http://t3.gstatic.com/images?q=tbn:ANd9GcQDpz4khBXmJFZSDIcYBu599I7eUKzkUYZPRNQ_BLiEMsnZjRpA"/>
          <p:cNvPicPr/>
          <p:nvPr/>
        </p:nvPicPr>
        <p:blipFill>
          <a:blip r:embed="rId3"/>
          <a:stretch/>
        </p:blipFill>
        <p:spPr>
          <a:xfrm>
            <a:off x="4932360" y="5548320"/>
            <a:ext cx="2020680" cy="130932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3492360" y="5857920"/>
            <a:ext cx="993240" cy="78372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284720" y="907920"/>
            <a:ext cx="1482480" cy="88704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6"/>
          <a:stretch/>
        </p:blipFill>
        <p:spPr>
          <a:xfrm>
            <a:off x="6875640" y="981000"/>
            <a:ext cx="1174320" cy="78696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7"/>
          <a:stretch/>
        </p:blipFill>
        <p:spPr>
          <a:xfrm>
            <a:off x="539640" y="836640"/>
            <a:ext cx="1471320" cy="98064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8"/>
          <a:stretch/>
        </p:blipFill>
        <p:spPr>
          <a:xfrm>
            <a:off x="1042920" y="5707080"/>
            <a:ext cx="1714320" cy="1150560"/>
          </a:xfrm>
          <a:prstGeom prst="rect">
            <a:avLst/>
          </a:prstGeom>
          <a:ln w="9525">
            <a:noFill/>
          </a:ln>
        </p:spPr>
      </p:pic>
      <p:sp>
        <p:nvSpPr>
          <p:cNvPr id="110" name="Горизонтальный свиток 1"/>
          <p:cNvSpPr/>
          <p:nvPr/>
        </p:nvSpPr>
        <p:spPr>
          <a:xfrm>
            <a:off x="324000" y="1772640"/>
            <a:ext cx="8604000" cy="4305600"/>
          </a:xfrm>
          <a:prstGeom prst="horizontalScroll">
            <a:avLst>
              <a:gd name="adj" fmla="val 12500"/>
            </a:avLst>
          </a:prstGeom>
          <a:solidFill>
            <a:schemeClr val="accent3">
              <a:lumMod val="40000"/>
              <a:lumOff val="60000"/>
            </a:schemeClr>
          </a:soli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На каждое блюдо разработана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технологическая карта.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В технологической карте Вы сможете увидеть, из каких продуктов и как готовится то или иное блюдо, какие витамины и микроэлементы оно содержит. Если Вы захотите приготовить такое блюдо дома своему ребенку - это возможно, ведь в технологической карте описан весь процесс пригото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57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804760" cy="396504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miter/>
          </a:ln>
        </p:spPr>
      </p:pic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952360" cy="2158560"/>
          </a:xfrm>
          <a:prstGeom prst="rect">
            <a:avLst/>
          </a:prstGeom>
          <a:ln w="9525">
            <a:solidFill>
              <a:srgbClr val="009dd9">
                <a:lumMod val="40000"/>
                <a:lumOff val="60000"/>
              </a:srgbClr>
            </a:solidFill>
            <a:miter/>
          </a:ln>
        </p:spPr>
      </p:pic>
      <p:sp>
        <p:nvSpPr>
          <p:cNvPr id="113" name="WordArt 8"/>
          <p:cNvSpPr txBox="1"/>
          <p:nvPr/>
        </p:nvSpPr>
        <p:spPr>
          <a:xfrm>
            <a:off x="1547640" y="4046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Правила поведения за столом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114" name="Рисунок 7" descr="Описание: E:\жемчужинка\1.jpg"/>
          <p:cNvPicPr/>
          <p:nvPr/>
        </p:nvPicPr>
        <p:blipFill>
          <a:blip r:embed="rId3"/>
          <a:stretch/>
        </p:blipFill>
        <p:spPr>
          <a:xfrm>
            <a:off x="7737480" y="692280"/>
            <a:ext cx="1272960" cy="864720"/>
          </a:xfrm>
          <a:prstGeom prst="rect">
            <a:avLst/>
          </a:prstGeom>
          <a:ln w="12700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tretch/>
        </p:blipFill>
        <p:spPr>
          <a:xfrm>
            <a:off x="2843280" y="2205000"/>
            <a:ext cx="2750760" cy="193176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miter/>
          </a:ln>
        </p:spPr>
      </p:pic>
      <p:pic>
        <p:nvPicPr>
          <p:cNvPr id="116" name="Picture 9" descr="C:\Users\Наталия\Desktop\фото  питание\DSC02081.JPG"/>
          <p:cNvPicPr/>
          <p:nvPr/>
        </p:nvPicPr>
        <p:blipFill>
          <a:blip r:embed="rId5"/>
          <a:stretch/>
        </p:blipFill>
        <p:spPr>
          <a:xfrm>
            <a:off x="395280" y="4005360"/>
            <a:ext cx="2814120" cy="223164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9640" y="1208520"/>
            <a:ext cx="8286480" cy="179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создание условий, направленных на обеспечение воспитанников рациональным и сбалансированным пит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гарантирование качества и безопасности питания, пищевых продуктов, используемых в приготовлении блю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создание бытовых условий для приема пищи детьми в груп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опаганда принципов здорового и полноценного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1043640" y="476640"/>
            <a:ext cx="7717680" cy="856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сновные задачи организации питани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39640" y="3716280"/>
            <a:ext cx="8208720" cy="243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оответствие энергетической ценности рациона энергозатратам ребенк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балансированность в рационе всех заменимых и незаменимых пищевых веществ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Максимальное разнообразие продуктов и блюд, обеспечивающих сбалансированность рациона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Правильная технологическая и кулинарная обработка продуктов, направленная на сохранность их исходной пищевой ценности, а также высокие вкусовые качества блюд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Оптимальный режим питания, обстановка, формирующая у детей навыки культуры приема пи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облюдение гигиенических требования к питанию (безопасность пита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Мы понимаем, что правильное, сбалансированное питание, отвечающее физиологическим потребностям растущего организма, повышает устойчивость к различным неблагоприятным воздействиям, поэтому очень важно соблюдать принципы рационального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187640" y="2925000"/>
            <a:ext cx="742932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сновные принципы организаци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 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питания 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54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308720" y="2205000"/>
            <a:ext cx="1191960" cy="80784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Вертикальный свиток 1"/>
          <p:cNvSpPr/>
          <p:nvPr/>
        </p:nvSpPr>
        <p:spPr>
          <a:xfrm>
            <a:off x="0" y="1785960"/>
            <a:ext cx="2928600" cy="4295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29599"/>
              </a:gs>
              <a:gs pos="100000">
                <a:srgbClr val="76d4d8"/>
              </a:gs>
            </a:gsLst>
            <a:lin ang="5400000"/>
          </a:gra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ся жизнь человека свя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с пит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ща является единственным источни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энергии для жизнедеятельности человеческого организма, дает ему материал для построения всех клеток и тканей,  их постоянного об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ертикальный свиток 2"/>
          <p:cNvSpPr/>
          <p:nvPr/>
        </p:nvSpPr>
        <p:spPr>
          <a:xfrm>
            <a:off x="5500800" y="1571760"/>
            <a:ext cx="3214440" cy="4592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c869c"/>
              </a:gs>
              <a:gs pos="100000">
                <a:srgbClr val="6dbedd"/>
              </a:gs>
            </a:gsLst>
            <a:lin ang="2700000"/>
          </a:gra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ацион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тание, при кот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ща содерж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се необходимые пищевые веществ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соответствую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количеств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рави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соотношен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беспечивает челове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птимальный уро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здоровья и высок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аботоспособ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собенно важна 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равильного питан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детском возра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Вертикальный свиток 3"/>
          <p:cNvSpPr/>
          <p:nvPr/>
        </p:nvSpPr>
        <p:spPr>
          <a:xfrm>
            <a:off x="2571840" y="1214280"/>
            <a:ext cx="3285720" cy="4362480"/>
          </a:xfrm>
          <a:prstGeom prst="verticalScroll">
            <a:avLst>
              <a:gd name="adj" fmla="val 12500"/>
            </a:avLst>
          </a:prstGeom>
          <a:solidFill>
            <a:schemeClr val="accent3">
              <a:lumMod val="40000"/>
              <a:lumOff val="60000"/>
            </a:schemeClr>
          </a:soli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Если взросл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рганизм нуждае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ще в основном только как в источнике энергии и средств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оддержания об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еществ, то ребен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нужна для обеспе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интенсивных проце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оста и разви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оэтому в плане работы детского сада вопрос о правильном питании занимает одно из важнейших ме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945560" y="692280"/>
            <a:ext cx="1198080" cy="812520"/>
          </a:xfrm>
          <a:prstGeom prst="rect">
            <a:avLst/>
          </a:prstGeom>
          <a:ln w="127000">
            <a:noFill/>
          </a:ln>
        </p:spPr>
      </p:pic>
      <p:sp>
        <p:nvSpPr>
          <p:cNvPr id="59" name="WordArt 8"/>
          <p:cNvSpPr txBox="1"/>
          <p:nvPr/>
        </p:nvSpPr>
        <p:spPr>
          <a:xfrm>
            <a:off x="1043640" y="260640"/>
            <a:ext cx="7128360" cy="1320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Правильное питание – залог здоровь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2087640"/>
            <a:ext cx="1907640" cy="2012760"/>
          </a:xfrm>
          <a:prstGeom prst="rect">
            <a:avLst/>
          </a:prstGeom>
          <a:ln w="9525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1908000" y="1916280"/>
            <a:ext cx="676728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итьевой режим проводится в соответствии с требованиями СанП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азмеры потребления воды ребёнком зависят от времени года и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итьевая вода доступна воспитанникам в течение всего времени нахождения в с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1475640" y="7646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рганизация питьевого режима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63" name="Рисунок 7" descr="Описание: E:\жемчужинка\1.jpg"/>
          <p:cNvPicPr/>
          <p:nvPr/>
        </p:nvPicPr>
        <p:blipFill>
          <a:blip r:embed="rId2"/>
          <a:stretch/>
        </p:blipFill>
        <p:spPr>
          <a:xfrm>
            <a:off x="7524720" y="692280"/>
            <a:ext cx="1414080" cy="95832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F:\2014-2015\КУХНЯ\DSCN3820.JPG"/>
          <p:cNvPicPr/>
          <p:nvPr/>
        </p:nvPicPr>
        <p:blipFill>
          <a:blip r:embed="rId1"/>
          <a:stretch/>
        </p:blipFill>
        <p:spPr>
          <a:xfrm>
            <a:off x="250920" y="3357720"/>
            <a:ext cx="1936440" cy="258264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2627640" y="620640"/>
            <a:ext cx="5000400" cy="843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Режим питания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66" name="Рисунок 7" descr="Описание: E:\жемчужинка\1.jpg"/>
          <p:cNvPicPr/>
          <p:nvPr/>
        </p:nvPicPr>
        <p:blipFill>
          <a:blip r:embed="rId2"/>
          <a:stretch/>
        </p:blipFill>
        <p:spPr>
          <a:xfrm>
            <a:off x="7572240" y="714240"/>
            <a:ext cx="1414080" cy="958320"/>
          </a:xfrm>
          <a:prstGeom prst="rect">
            <a:avLst/>
          </a:prstGeom>
          <a:ln w="12700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2340000" y="1577520"/>
            <a:ext cx="666072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Выдача пищи для групп осуществляется строго по утвержденному графику только после проведения приемочного контроля бракеражной комиссией в составе повара, заведующего, медицинского работника. Результаты контроля регистрируются в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журнале</a:t>
            </a:r>
            <a:r>
              <a:rPr b="0" lang="ru-RU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бракеража готовой кулинарной проду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357280" y="2714760"/>
            <a:ext cx="6786360" cy="349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Учреждение обеспечивает </a:t>
            </a:r>
            <a:r>
              <a:rPr b="0" lang="en-US" sz="1400" spc="-1" strike="noStrike">
                <a:solidFill>
                  <a:srgbClr val="7030a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-х разовое сбалансированное питание детей в соответствии с их возрастом и временем пребывания в Учреждении по нормам в соответствии с технологическими картами 10-ти дневного меню: завтрак, второй завтрак, обед, полдник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В меню каждый день включены продукты: молоко, сливочное и растительно</a:t>
            </a:r>
            <a:r>
              <a:rPr b="0" lang="en-US" sz="1400" spc="-1" strike="noStrike">
                <a:solidFill>
                  <a:srgbClr val="7030a0"/>
                </a:solidFill>
                <a:latin typeface="Times New Roman"/>
              </a:rPr>
              <a:t>e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масло, сахар, хлеб, мясо. Продукты, богатые белком (рыба, мясо), включаются в меню первой половины дня. Во второй половине дня детям предлагаются молочные и овощные блюда. Ежедневно в меню включены овощи, как в свежем, так и вареном и тушеном виде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В рацион питания ДОУ включены все основные группы продуктов – мясо, рыба, молоко и молочные продукты, яйца, пищевые жиры, овощи и фрукты, сахар, кондитерские изделия, хлеб, крупа и др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На основании утвержденного примерного меню ежедневно составляется меню-требование установленного образца с указанием выхода блюд для детей разного возраста, которое утверждается заведующим Учреждения. Для детей разного возраста должны соблюдаться объемы порций приготавливаемых блюд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Users\Наталия\Desktop\фото  питание\DSC02122.JPG"/>
          <p:cNvPicPr/>
          <p:nvPr/>
        </p:nvPicPr>
        <p:blipFill>
          <a:blip r:embed="rId3"/>
          <a:stretch/>
        </p:blipFill>
        <p:spPr>
          <a:xfrm>
            <a:off x="250920" y="223920"/>
            <a:ext cx="1944360" cy="2920680"/>
          </a:xfrm>
          <a:prstGeom prst="rect">
            <a:avLst/>
          </a:prstGeom>
          <a:ln w="38100">
            <a:solidFill>
              <a:srgbClr val="5ef0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:\Users\Наталия\Desktop\фото  питание\DSC02173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403640" y="4725000"/>
            <a:ext cx="2880000" cy="18720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1" name="Picture 2" descr="C:\Users\Наталия\Desktop\фото  питание\DSC02072.JPG"/>
          <p:cNvPicPr/>
          <p:nvPr/>
        </p:nvPicPr>
        <p:blipFill>
          <a:blip r:embed="rId2">
            <a:lum bright="10000"/>
          </a:blip>
          <a:stretch/>
        </p:blipFill>
        <p:spPr>
          <a:xfrm rot="5400000">
            <a:off x="1995480" y="1684800"/>
            <a:ext cx="2920320" cy="19440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2" name="Picture 3" descr="C:\Users\Наталия\Desktop\фото  питание\DSC02114.JPG"/>
          <p:cNvPicPr/>
          <p:nvPr/>
        </p:nvPicPr>
        <p:blipFill>
          <a:blip r:embed="rId3"/>
          <a:stretch/>
        </p:blipFill>
        <p:spPr>
          <a:xfrm rot="5400000">
            <a:off x="4422240" y="1850400"/>
            <a:ext cx="2891880" cy="20160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3" name="Picture 4" descr="C:\Users\Наталия\Desktop\фото  питание\DSC02152.JPG"/>
          <p:cNvPicPr/>
          <p:nvPr/>
        </p:nvPicPr>
        <p:blipFill>
          <a:blip r:embed="rId4"/>
          <a:stretch/>
        </p:blipFill>
        <p:spPr>
          <a:xfrm rot="16200000">
            <a:off x="6630840" y="1586520"/>
            <a:ext cx="2736000" cy="181296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4" name="Picture 5" descr="C:\Users\Наталия\Desktop\фото  питание\DSC02190.JPG"/>
          <p:cNvPicPr/>
          <p:nvPr/>
        </p:nvPicPr>
        <p:blipFill>
          <a:blip r:embed="rId5"/>
          <a:stretch/>
        </p:blipFill>
        <p:spPr>
          <a:xfrm rot="5400000">
            <a:off x="-158040" y="2038680"/>
            <a:ext cx="2884680" cy="192024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5" name="Picture 6" descr="C:\Users\Наталия\Desktop\фото  питание\DSC02038.JPG"/>
          <p:cNvPicPr/>
          <p:nvPr/>
        </p:nvPicPr>
        <p:blipFill>
          <a:blip r:embed="rId6"/>
          <a:stretch/>
        </p:blipFill>
        <p:spPr>
          <a:xfrm>
            <a:off x="5076000" y="4581000"/>
            <a:ext cx="2880000" cy="19944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76" name="Прямоугольник 7"/>
          <p:cNvSpPr/>
          <p:nvPr/>
        </p:nvSpPr>
        <p:spPr>
          <a:xfrm>
            <a:off x="755640" y="0"/>
            <a:ext cx="8137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Для обеспечения преемственности питания родителей информируют об ассортименте питания ребенка: меню с указанием полного наименования блюд, их выхода, стоимости дневного рациона вывешивают на раздаче и в приемных всех возрастных груп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icture 2"/>
          <p:cNvSpPr/>
          <p:nvPr/>
        </p:nvSpPr>
        <p:spPr>
          <a:xfrm rot="5400000">
            <a:off x="163800" y="2004840"/>
            <a:ext cx="1976040" cy="1511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icture 3"/>
          <p:cNvSpPr/>
          <p:nvPr/>
        </p:nvSpPr>
        <p:spPr>
          <a:xfrm rot="5400000">
            <a:off x="3596040" y="1668600"/>
            <a:ext cx="1944000" cy="15757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icture 4"/>
          <p:cNvSpPr/>
          <p:nvPr/>
        </p:nvSpPr>
        <p:spPr>
          <a:xfrm rot="5400000">
            <a:off x="5439600" y="1625400"/>
            <a:ext cx="1933920" cy="16524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icture 6"/>
          <p:cNvSpPr/>
          <p:nvPr/>
        </p:nvSpPr>
        <p:spPr>
          <a:xfrm rot="16200000">
            <a:off x="7207920" y="1873440"/>
            <a:ext cx="2016000" cy="15271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4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icture 7"/>
          <p:cNvSpPr/>
          <p:nvPr/>
        </p:nvSpPr>
        <p:spPr>
          <a:xfrm>
            <a:off x="6012000" y="4437000"/>
            <a:ext cx="2627280" cy="19152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5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cture 9"/>
          <p:cNvSpPr/>
          <p:nvPr/>
        </p:nvSpPr>
        <p:spPr>
          <a:xfrm>
            <a:off x="251640" y="4365000"/>
            <a:ext cx="2983680" cy="19861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6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icture 10"/>
          <p:cNvSpPr/>
          <p:nvPr/>
        </p:nvSpPr>
        <p:spPr>
          <a:xfrm rot="16200000">
            <a:off x="3421080" y="4076280"/>
            <a:ext cx="2664000" cy="20901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7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icture 11"/>
          <p:cNvSpPr/>
          <p:nvPr/>
        </p:nvSpPr>
        <p:spPr>
          <a:xfrm rot="5400000">
            <a:off x="1787760" y="1820520"/>
            <a:ext cx="2088000" cy="14158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8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1500120" y="5000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Уголки дежурных по столовым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945560" y="692280"/>
            <a:ext cx="1198080" cy="812520"/>
          </a:xfrm>
          <a:prstGeom prst="rect">
            <a:avLst/>
          </a:prstGeom>
          <a:ln w="127000">
            <a:noFill/>
          </a:ln>
        </p:spPr>
      </p:pic>
      <p:pic>
        <p:nvPicPr>
          <p:cNvPr id="87" name="Picture 7" descr="F:\2014-2015\КУХНЯ\6.jpg"/>
          <p:cNvPicPr/>
          <p:nvPr/>
        </p:nvPicPr>
        <p:blipFill>
          <a:blip r:embed="rId2"/>
          <a:stretch/>
        </p:blipFill>
        <p:spPr>
          <a:xfrm>
            <a:off x="642960" y="1785960"/>
            <a:ext cx="2958840" cy="2852280"/>
          </a:xfrm>
          <a:prstGeom prst="rect">
            <a:avLst/>
          </a:prstGeom>
          <a:ln w="0">
            <a:solidFill>
              <a:srgbClr val="0bd0d9">
                <a:lumMod val="60000"/>
                <a:lumOff val="40000"/>
              </a:srgbClr>
            </a:solidFill>
          </a:ln>
        </p:spPr>
      </p:pic>
      <p:pic>
        <p:nvPicPr>
          <p:cNvPr id="88" name="Рисунок 5" descr="C:\Users\SAD134\Desktop\пит\9.jpg"/>
          <p:cNvPicPr/>
          <p:nvPr/>
        </p:nvPicPr>
        <p:blipFill>
          <a:blip r:embed="rId3"/>
          <a:stretch/>
        </p:blipFill>
        <p:spPr>
          <a:xfrm>
            <a:off x="5929200" y="1714680"/>
            <a:ext cx="2999880" cy="278568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round/>
          </a:ln>
        </p:spPr>
      </p:pic>
      <p:sp>
        <p:nvSpPr>
          <p:cNvPr id="89" name="WordArt 8"/>
          <p:cNvSpPr txBox="1"/>
          <p:nvPr/>
        </p:nvSpPr>
        <p:spPr>
          <a:xfrm>
            <a:off x="1500120" y="5000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Работники  пищеблока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250920" y="5738400"/>
            <a:ext cx="864360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Организация питания детей (получение, хранение и учет продуктов питания, производство кулинарной продукции на пищеблоке, создание условий для приема пищи детьми в группах и пр.) осуществляется работниками учреждения в соответствии со штатным расписанием и функциональными обязанностями (кладовщик, шеф-повар, повара, работники пищеблока, воспитатели, младшие воспитател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C:\Users\Наталия\Desktop\фото  питание\DSC02176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3635280" y="2205000"/>
            <a:ext cx="2271240" cy="3411000"/>
          </a:xfrm>
          <a:prstGeom prst="rect">
            <a:avLst/>
          </a:prstGeom>
          <a:ln w="9525">
            <a:solidFill>
              <a:srgbClr val="5ef0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10" descr="C:\Users\Владимир\Downloads\питание в дс.jpg"/>
          <p:cNvPicPr/>
          <p:nvPr/>
        </p:nvPicPr>
        <p:blipFill>
          <a:blip r:embed="rId1"/>
          <a:stretch/>
        </p:blipFill>
        <p:spPr>
          <a:xfrm>
            <a:off x="755640" y="1484280"/>
            <a:ext cx="3311280" cy="44654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pic>
        <p:nvPicPr>
          <p:cNvPr id="93" name="Объект 8" descr="C:\Users\Владимир\Downloads\игры по питанию.jpg"/>
          <p:cNvPicPr/>
          <p:nvPr/>
        </p:nvPicPr>
        <p:blipFill>
          <a:blip r:embed="rId2"/>
          <a:stretch/>
        </p:blipFill>
        <p:spPr>
          <a:xfrm>
            <a:off x="4284720" y="1700280"/>
            <a:ext cx="3311280" cy="44654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sp>
        <p:nvSpPr>
          <p:cNvPr id="94" name="WordArt 8"/>
          <p:cNvSpPr txBox="1"/>
          <p:nvPr/>
        </p:nvSpPr>
        <p:spPr>
          <a:xfrm>
            <a:off x="1619640" y="6206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Информация для родителей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95" name="Рисунок 7" descr="Описание: E:\жемчужинка\1.jpg"/>
          <p:cNvPicPr/>
          <p:nvPr/>
        </p:nvPicPr>
        <p:blipFill>
          <a:blip r:embed="rId3"/>
          <a:stretch/>
        </p:blipFill>
        <p:spPr>
          <a:xfrm>
            <a:off x="7763040" y="620640"/>
            <a:ext cx="1380600" cy="93636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387</TotalTime>
  <Application>LibreOffice/7.4.7.2$Linux_X86_64 LibreOffice_project/40$Build-2</Application>
  <AppVersion>15.0000</AppVersion>
  <Words>464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6:28:45Z</dcterms:created>
  <dc:creator>ККК</dc:creator>
  <dc:description/>
  <dc:language>en-US</dc:language>
  <cp:lastModifiedBy>галина</cp:lastModifiedBy>
  <dcterms:modified xsi:type="dcterms:W3CDTF">2019-05-08T07:58:29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