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png" ContentType="image/png"/>
  <Override PartName="/ppt/media/image10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D20C-E1FF-43B9-A899-D65EF75F7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FE89-F785-46CB-BA4E-48BF1000C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7656-D130-4199-A635-8F1B05F5B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93D0-715D-47D9-9C91-0DC099399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51EA1-977D-4BCD-A279-32A3B04D7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5885C-4C2A-400D-8991-657814C5F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9F00E-85C8-4F6C-AA39-9EDEA4F6F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963EE-BBE5-4D6F-AE15-BEC3B7DE7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F2F05-E86F-4D5B-80AB-ADEF9DDEB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EFA0C-141E-419C-9DAD-CDC6EB69B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FED26-39BF-4EB8-9BC0-988B6515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94F2-8E28-4F1E-9B66-B1F813948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87F34-3D2F-4BD1-B370-6B5B54A1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2E263-3D6D-4213-AD71-9205E223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12C0D-339B-4F84-A123-D9D2994DB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BF46C-4581-4089-AC25-0F510D993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788F4-3308-421A-960C-262C3F762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C957-EA7E-477B-8B8B-0778F03E8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5BFC-7B10-4A34-81C3-732B617E1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735E-F534-4057-A88D-0EFC86445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1697-5E1B-4577-9714-FEACF0BC8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EBEE-97F7-4C76-812A-43DDF0DE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883B-8899-49C1-B916-3618E08D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9845-D6A4-4A86-BFD3-6A4975C2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8CB91-BF92-45EB-86E3-1B3F5D699AE3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5C622-FA4A-4BC5-B3E1-EC8C58292B49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818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76000" y="1484280"/>
            <a:ext cx="6335640" cy="18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2000"/>
                </a:solidFill>
                <a:latin typeface="Times New Roman"/>
              </a:rPr>
              <a:t>Психологическое занятие с элементами тренинга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402000"/>
                </a:solidFill>
                <a:latin typeface="Times New Roman"/>
              </a:rPr>
              <a:t>«Формула успеха при подготовке и сдаче ГИА и ЕГЭ »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2000"/>
                </a:solidFill>
                <a:latin typeface="Times New Roman"/>
              </a:rPr>
              <a:t>(для обучающихся и педагогов)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91" name="Object 7"/>
          <p:cNvGraphicFramePr/>
          <p:nvPr/>
        </p:nvGraphicFramePr>
        <p:xfrm>
          <a:off x="1079640" y="549360"/>
          <a:ext cx="1906560" cy="40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9640" y="549360"/>
                    <a:ext cx="1906560" cy="40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3" name="Picture 8" descr=""/>
          <p:cNvPicPr/>
          <p:nvPr/>
        </p:nvPicPr>
        <p:blipFill>
          <a:blip r:embed="rId3"/>
          <a:stretch/>
        </p:blipFill>
        <p:spPr>
          <a:xfrm>
            <a:off x="1619280" y="4653000"/>
            <a:ext cx="2728800" cy="18082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2"/>
          <p:cNvSpPr/>
          <p:nvPr/>
        </p:nvSpPr>
        <p:spPr>
          <a:xfrm>
            <a:off x="2556000" y="1413000"/>
            <a:ext cx="5832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5" name="Rectangle 13"/>
          <p:cNvSpPr/>
          <p:nvPr/>
        </p:nvSpPr>
        <p:spPr>
          <a:xfrm>
            <a:off x="1258920" y="4221000"/>
            <a:ext cx="727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2000"/>
                </a:solidFill>
                <a:latin typeface="Times New Roman"/>
              </a:rPr>
              <a:t>Работу выполнила: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2000"/>
                </a:solidFill>
                <a:latin typeface="Times New Roman"/>
              </a:rPr>
              <a:t>Педагог-психолог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2000"/>
                </a:solidFill>
                <a:latin typeface="Times New Roman"/>
              </a:rPr>
              <a:t>Кадуцкая  Татьяна Михайловна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2000"/>
                </a:solidFill>
                <a:latin typeface="Times New Roman"/>
              </a:rPr>
              <a:t>2017 г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6" name="Text Box 17"/>
          <p:cNvSpPr/>
          <p:nvPr/>
        </p:nvSpPr>
        <p:spPr>
          <a:xfrm>
            <a:off x="2843280" y="549360"/>
            <a:ext cx="576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2000"/>
                </a:solidFill>
                <a:latin typeface="Times New Roman"/>
              </a:rPr>
              <a:t>МКОУ «Звериноголовская СОШ им.Дважды Героя Советского Союза Г.П.Кравченко»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971640" y="387864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684360" y="2401560"/>
            <a:ext cx="806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Продолжите высказывание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«Для меня ГИА  это…»,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0" name="Picture 6" descr="i"/>
          <p:cNvPicPr/>
          <p:nvPr/>
        </p:nvPicPr>
        <p:blipFill>
          <a:blip r:embed="rId1"/>
          <a:stretch/>
        </p:blipFill>
        <p:spPr>
          <a:xfrm>
            <a:off x="971640" y="404640"/>
            <a:ext cx="2232000" cy="2054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mItOGM1Mi"/>
          <p:cNvPicPr/>
          <p:nvPr/>
        </p:nvPicPr>
        <p:blipFill>
          <a:blip r:embed="rId2"/>
          <a:stretch/>
        </p:blipFill>
        <p:spPr>
          <a:xfrm>
            <a:off x="4067280" y="3789360"/>
            <a:ext cx="479880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71640" y="475920"/>
            <a:ext cx="77724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Арт – терапия «Моя цель»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539640" y="2374920"/>
            <a:ext cx="8280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5" name="Picture 6" descr="04-07-12-2"/>
          <p:cNvPicPr/>
          <p:nvPr/>
        </p:nvPicPr>
        <p:blipFill>
          <a:blip r:embed="rId1"/>
          <a:stretch/>
        </p:blipFill>
        <p:spPr>
          <a:xfrm>
            <a:off x="1763640" y="1700280"/>
            <a:ext cx="571500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7" name="Picture 4" descr="20101020_regen4_1-483x36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Times New Roman"/>
              </a:rPr>
              <a:t>Упражнение «Дождь в джунглях»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09" name="музыка к упражнению «Дождь в джунглях».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62684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Times New Roman"/>
              </a:rPr>
              <a:t>Сказка «Страус»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       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Коррекция страхов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12" name="Рисунок 3" descr=""/>
          <p:cNvPicPr/>
          <p:nvPr/>
        </p:nvPicPr>
        <p:blipFill>
          <a:blip r:embed="rId1"/>
          <a:stretch/>
        </p:blipFill>
        <p:spPr>
          <a:xfrm>
            <a:off x="2124000" y="1700280"/>
            <a:ext cx="5040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15" name="Picture 5" descr="zvezdnoe_nebo_600"/>
          <p:cNvPicPr/>
          <p:nvPr/>
        </p:nvPicPr>
        <p:blipFill>
          <a:blip r:embed="rId1"/>
          <a:stretch/>
        </p:blipFill>
        <p:spPr>
          <a:xfrm>
            <a:off x="0" y="0"/>
            <a:ext cx="9396360" cy="7101000"/>
          </a:xfrm>
          <a:prstGeom prst="rect">
            <a:avLst/>
          </a:prstGeom>
          <a:ln w="0">
            <a:noFill/>
          </a:ln>
        </p:spPr>
      </p:pic>
      <p:pic>
        <p:nvPicPr>
          <p:cNvPr id="116" name="музыка к упражнению «Найди свою звезду»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65977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WordArt 4"/>
          <p:cNvSpPr txBox="1"/>
          <p:nvPr/>
        </p:nvSpPr>
        <p:spPr>
          <a:xfrm>
            <a:off x="1252440" y="1413000"/>
            <a:ext cx="7496280" cy="37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АСИБО  ЗА  ВНИМАНИЕ  !!!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5T12:30:35Z</dcterms:created>
  <dc:creator>Мельникова</dc:creator>
  <dc:description/>
  <dc:language>en-US</dc:language>
  <cp:lastModifiedBy>Школа</cp:lastModifiedBy>
  <dcterms:modified xsi:type="dcterms:W3CDTF">2017-05-18T10:22:43Z</dcterms:modified>
  <cp:revision>73</cp:revision>
  <dc:subject/>
  <dc:title>    ПРОБЛЕМНО-ДИАЛОГИЧЕСКОЕ ОБУЧЕНИЕ:  понятие и технология </dc:title>
</cp:coreProperties>
</file>