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171-FD22-4EC3-99F8-44F0C585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D56-2917-46E8-BD9D-9C87098B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256-2ABE-4778-BB98-AFF4997A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E3D-AA57-4359-AE04-F229DB25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AC37-B6B8-4E4D-B686-79E12D1A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B2F7-6710-4C56-98F8-A77041C6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14A6-3328-4EB1-A948-4BE8847C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A540-ECAC-476C-A562-65D9D7DC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93F5-3220-460E-A29F-13943A17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CE31-5AA5-464A-9B7F-D71C1F75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9AFF-3FE8-4E13-BBEA-C0C23985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7BD-172B-499D-A367-C12BA10E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6631-3DBE-4404-B13C-790305B0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4E4D-6051-44B1-B55C-F1D7BF63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AC44-3909-403C-843F-5CB85438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A9EE-9D99-4A85-B239-CEA9DF7A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9E64-7CE1-473F-AD01-B3099FC0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688-9098-47A5-AFF7-5FC830C5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4E3-AC11-4953-ABEF-650FC8E8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9D3-7757-48EC-8477-B6BC944B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ECF-FF0F-49B2-AC27-FC48FE0B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448-1659-433C-A8B6-EB2F5DDB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72E-1599-4A51-9A41-70E4FD23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F63-6AD8-45C7-92E3-07D5D2F0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AEDF-EC8D-4B2F-9650-15A1B46EF45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02CD-0DCE-419E-8725-D095106AE8B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818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6000" y="1484280"/>
            <a:ext cx="633564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Психологическое занятие с элементами тренинга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«Формула успеха при подготовке и сдаче ГИА и ЕГЭ »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(для обучающихся и педагогов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1" name="Object 7"/>
          <p:cNvGraphicFramePr/>
          <p:nvPr/>
        </p:nvGraphicFramePr>
        <p:xfrm>
          <a:off x="1079640" y="549360"/>
          <a:ext cx="19065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549360"/>
                    <a:ext cx="19065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1619280" y="4653000"/>
            <a:ext cx="2728800" cy="1808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2"/>
          <p:cNvSpPr/>
          <p:nvPr/>
        </p:nvSpPr>
        <p:spPr>
          <a:xfrm>
            <a:off x="2556000" y="1413000"/>
            <a:ext cx="583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1258920" y="4221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Работу выполнила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Педагог-психолог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Кадуцкая  Татьяна Михайловн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2017 г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2843280" y="549360"/>
            <a:ext cx="57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2000"/>
                </a:solidFill>
                <a:latin typeface="Times New Roman"/>
              </a:rPr>
              <a:t>МКОУ «Звериноголовская СОШ им.Дважды Героя Советского Союза Г.П.Кравченко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71640" y="3878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84360" y="24015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Продолжите высказывани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«Для меня ГИА  это…»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Picture 6" descr="i"/>
          <p:cNvPicPr/>
          <p:nvPr/>
        </p:nvPicPr>
        <p:blipFill>
          <a:blip r:embed="rId1"/>
          <a:stretch/>
        </p:blipFill>
        <p:spPr>
          <a:xfrm>
            <a:off x="971640" y="404640"/>
            <a:ext cx="2232000" cy="2054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mItOGM1Mi"/>
          <p:cNvPicPr/>
          <p:nvPr/>
        </p:nvPicPr>
        <p:blipFill>
          <a:blip r:embed="rId2"/>
          <a:stretch/>
        </p:blipFill>
        <p:spPr>
          <a:xfrm>
            <a:off x="4067280" y="3789360"/>
            <a:ext cx="47988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475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Арт – терапия «Моя цель»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39640" y="2374920"/>
            <a:ext cx="828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Picture 6" descr="04-07-12-2"/>
          <p:cNvPicPr/>
          <p:nvPr/>
        </p:nvPicPr>
        <p:blipFill>
          <a:blip r:embed="rId1"/>
          <a:stretch/>
        </p:blipFill>
        <p:spPr>
          <a:xfrm>
            <a:off x="1763640" y="1700280"/>
            <a:ext cx="5715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4" descr="20101020_regen4_1-483x3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Упражнение «Дождь в джунглях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9" name="музыка к упражнению «Дождь в джунглях».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68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Сказка «Страус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оррекция страхов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04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5" name="Picture 5" descr="zvezdnoe_nebo_600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pic>
        <p:nvPicPr>
          <p:cNvPr id="116" name="музыка к упражнению «Найди свою звезду»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597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252440" y="1413000"/>
            <a:ext cx="74962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 ЗА  ВНИМАНИЕ  !!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2:30:35Z</dcterms:created>
  <dc:creator>Мельникова</dc:creator>
  <dc:description/>
  <dc:language>en-US</dc:language>
  <cp:lastModifiedBy>Школа</cp:lastModifiedBy>
  <dcterms:modified xsi:type="dcterms:W3CDTF">2017-05-18T10:22:43Z</dcterms:modified>
  <cp:revision>73</cp:revision>
  <dc:subject/>
  <dc:title>    ПРОБЛЕМНО-ДИАЛОГИЧЕСКОЕ ОБУЧЕНИЕ:  понятие и технология </dc:title>
</cp:coreProperties>
</file>