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6.wmf" ContentType="image/x-wmf"/>
  <Override PartName="/ppt/media/image12.png" ContentType="image/png"/>
  <Override PartName="/ppt/media/image7.jpeg" ContentType="image/jpeg"/>
  <Override PartName="/ppt/media/image11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5CEA0-DDC4-470D-897E-0051AD6A01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BD1A8-17C6-47BC-AC15-C9BE6F8737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FDC5-942B-4045-9566-D8A52479E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AAEA-A07C-490E-8DAC-0238C1941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AC21-DC8D-4329-892E-0E32E33FD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3895-4520-4C28-B130-EE3116A0F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3921-39B8-4503-9CE9-CC017DD91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8998-6AFC-4615-97BD-7EB3B16A6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4B16-8652-41C0-8CCC-BB0FBB979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FED2-625A-40AD-B7D1-A0535EBB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23DB-FD8F-48E0-9648-B3D5F40CB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92B1-1535-477E-A743-CDF0F6B6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8D41-855D-4CC2-80A6-735ADC41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181C-F5DE-449A-B6BF-66181D90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62116-71DB-430E-AD5D-68EF684F6EC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5" descr="683125CCF8AA4FF3DD6EC39E6B05D5A7_chivircy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600" spc="-1" strike="noStrike">
                <a:solidFill>
                  <a:srgbClr val="0d0d0d"/>
                </a:solidFill>
                <a:latin typeface="Calibri"/>
              </a:rPr>
              <a:t>Республика Бурятия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9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2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2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родные зоны. Выв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6c31"/>
                </a:solidFill>
                <a:latin typeface="Calibri"/>
              </a:rPr>
              <a:t>Лесостеп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3200" spc="-1" strike="noStrike">
                <a:solidFill>
                  <a:srgbClr val="006c31"/>
                </a:solidFill>
                <a:latin typeface="Calibri"/>
              </a:rPr>
              <a:t>Тайг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тличаются своим климатом, т.к </a:t>
            </a:r>
            <a:r>
              <a:rPr b="0" lang="ru-RU" sz="3200" spc="-1" strike="noStrike">
                <a:solidFill>
                  <a:srgbClr val="006c31"/>
                </a:solidFill>
                <a:latin typeface="Calibri"/>
              </a:rPr>
              <a:t>Лесостеп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находятся выше </a:t>
            </a:r>
            <a:r>
              <a:rPr b="0" lang="ru-RU" sz="3200" spc="-1" strike="noStrike">
                <a:solidFill>
                  <a:srgbClr val="006c31"/>
                </a:solidFill>
                <a:latin typeface="Calibri"/>
              </a:rPr>
              <a:t>Тайг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Они по разному используются человекам.  У них разная почва, значит и разная растительность, значит и разные животны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500" spc="-1" strike="noStrike" u="sng">
                <a:solidFill>
                  <a:srgbClr val="000000"/>
                </a:solidFill>
                <a:uFillTx/>
                <a:latin typeface="Calibri"/>
              </a:rPr>
              <a:t>ФГП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</a:rPr>
              <a:t>S=351300 </a:t>
            </a:r>
            <a:r>
              <a:rPr b="0" lang="ru-RU" sz="2400" spc="-1" strike="noStrike">
                <a:solidFill>
                  <a:srgbClr val="800000"/>
                </a:solidFill>
                <a:latin typeface="Calibri"/>
              </a:rPr>
              <a:t>кв.км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центре Азии. На юге Росси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alibri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Line 25"/>
          <p:cNvSpPr/>
          <p:nvPr/>
        </p:nvSpPr>
        <p:spPr>
          <a:xfrm>
            <a:off x="1828800" y="53341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6" descr="ANd9GcS25Xgc5BDjWHglJ6L68QSjCQONzF-QLdtoO2q8qHFcq2xF5KTxUA"/>
          <p:cNvPicPr/>
          <p:nvPr/>
        </p:nvPicPr>
        <p:blipFill>
          <a:blip r:embed="rId1"/>
          <a:stretch/>
        </p:blipFill>
        <p:spPr>
          <a:xfrm>
            <a:off x="3048120" y="3352680"/>
            <a:ext cx="2562120" cy="1781280"/>
          </a:xfrm>
          <a:prstGeom prst="rect">
            <a:avLst/>
          </a:prstGeom>
          <a:ln w="0">
            <a:noFill/>
          </a:ln>
        </p:spPr>
      </p:pic>
      <p:sp>
        <p:nvSpPr>
          <p:cNvPr id="65" name="Freeform 38"/>
          <p:cNvSpPr/>
          <p:nvPr/>
        </p:nvSpPr>
        <p:spPr>
          <a:xfrm>
            <a:off x="5257800" y="2743200"/>
            <a:ext cx="380880" cy="3276720"/>
          </a:xfrm>
          <a:custGeom>
            <a:avLst/>
            <a:gdLst>
              <a:gd name="textAreaLeft" fmla="*/ 0 w 380880"/>
              <a:gd name="textAreaRight" fmla="*/ 381240 w 380880"/>
              <a:gd name="textAreaTop" fmla="*/ 0 h 3276720"/>
              <a:gd name="textAreaBottom" fmla="*/ 3277080 h 3276720"/>
            </a:gdLst>
            <a:ahLst/>
            <a:rect l="textAreaLeft" t="textAreaTop" r="textAreaRight" b="textAreaBottom"/>
            <a:pathLst>
              <a:path w="240" h="2064">
                <a:moveTo>
                  <a:pt x="0" y="0"/>
                </a:moveTo>
                <a:cubicBezTo>
                  <a:pt x="120" y="332"/>
                  <a:pt x="240" y="664"/>
                  <a:pt x="240" y="1008"/>
                </a:cubicBezTo>
                <a:cubicBezTo>
                  <a:pt x="240" y="1352"/>
                  <a:pt x="40" y="1896"/>
                  <a:pt x="0" y="20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39"/>
          <p:cNvSpPr/>
          <p:nvPr/>
        </p:nvSpPr>
        <p:spPr>
          <a:xfrm rot="10800000">
            <a:off x="3048120" y="2819160"/>
            <a:ext cx="380880" cy="3276360"/>
          </a:xfrm>
          <a:custGeom>
            <a:avLst/>
            <a:gdLst>
              <a:gd name="textAreaLeft" fmla="*/ 0 w 380880"/>
              <a:gd name="textAreaRight" fmla="*/ 381240 w 380880"/>
              <a:gd name="textAreaTop" fmla="*/ 0 h 3276360"/>
              <a:gd name="textAreaBottom" fmla="*/ 3276720 h 3276360"/>
            </a:gdLst>
            <a:ahLst/>
            <a:rect l="textAreaLeft" t="textAreaTop" r="textAreaRight" b="textAreaBottom"/>
            <a:pathLst>
              <a:path w="240" h="2064">
                <a:moveTo>
                  <a:pt x="0" y="0"/>
                </a:moveTo>
                <a:cubicBezTo>
                  <a:pt x="120" y="332"/>
                  <a:pt x="240" y="664"/>
                  <a:pt x="240" y="1008"/>
                </a:cubicBezTo>
                <a:cubicBezTo>
                  <a:pt x="240" y="1352"/>
                  <a:pt x="40" y="1896"/>
                  <a:pt x="0" y="20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40"/>
          <p:cNvSpPr/>
          <p:nvPr/>
        </p:nvSpPr>
        <p:spPr>
          <a:xfrm rot="5400000">
            <a:off x="4114440" y="1676160"/>
            <a:ext cx="381240" cy="3276720"/>
          </a:xfrm>
          <a:custGeom>
            <a:avLst/>
            <a:gdLst>
              <a:gd name="textAreaLeft" fmla="*/ 0 w 381240"/>
              <a:gd name="textAreaRight" fmla="*/ 381600 w 381240"/>
              <a:gd name="textAreaTop" fmla="*/ 0 h 3276720"/>
              <a:gd name="textAreaBottom" fmla="*/ 3277080 h 3276720"/>
            </a:gdLst>
            <a:ahLst/>
            <a:rect l="textAreaLeft" t="textAreaTop" r="textAreaRight" b="textAreaBottom"/>
            <a:pathLst>
              <a:path w="240" h="2064">
                <a:moveTo>
                  <a:pt x="0" y="0"/>
                </a:moveTo>
                <a:cubicBezTo>
                  <a:pt x="120" y="332"/>
                  <a:pt x="240" y="664"/>
                  <a:pt x="240" y="1008"/>
                </a:cubicBezTo>
                <a:cubicBezTo>
                  <a:pt x="240" y="1352"/>
                  <a:pt x="40" y="1896"/>
                  <a:pt x="0" y="20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41"/>
          <p:cNvSpPr/>
          <p:nvPr/>
        </p:nvSpPr>
        <p:spPr>
          <a:xfrm rot="5400000">
            <a:off x="4038120" y="3352680"/>
            <a:ext cx="380880" cy="3276360"/>
          </a:xfrm>
          <a:custGeom>
            <a:avLst/>
            <a:gdLst>
              <a:gd name="textAreaLeft" fmla="*/ 0 w 380880"/>
              <a:gd name="textAreaRight" fmla="*/ 381240 w 380880"/>
              <a:gd name="textAreaTop" fmla="*/ 0 h 3276360"/>
              <a:gd name="textAreaBottom" fmla="*/ 3276720 h 3276360"/>
            </a:gdLst>
            <a:ahLst/>
            <a:rect l="textAreaLeft" t="textAreaTop" r="textAreaRight" b="textAreaBottom"/>
            <a:pathLst>
              <a:path w="240" h="2064">
                <a:moveTo>
                  <a:pt x="0" y="0"/>
                </a:moveTo>
                <a:cubicBezTo>
                  <a:pt x="120" y="332"/>
                  <a:pt x="240" y="664"/>
                  <a:pt x="240" y="1008"/>
                </a:cubicBezTo>
                <a:cubicBezTo>
                  <a:pt x="240" y="1352"/>
                  <a:pt x="40" y="1896"/>
                  <a:pt x="0" y="20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2"/>
          <p:cNvSpPr/>
          <p:nvPr/>
        </p:nvSpPr>
        <p:spPr>
          <a:xfrm>
            <a:off x="1525320" y="2895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7 с.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5869440" y="4575240"/>
            <a:ext cx="10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9с.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4"/>
          <p:cNvSpPr/>
          <p:nvPr/>
        </p:nvSpPr>
        <p:spPr>
          <a:xfrm>
            <a:off x="4725720" y="602280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6 в.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3"/>
          <p:cNvSpPr/>
          <p:nvPr/>
        </p:nvSpPr>
        <p:spPr>
          <a:xfrm>
            <a:off x="2825280" y="228600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8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6" descr=""/>
          <p:cNvPicPr/>
          <p:nvPr/>
        </p:nvPicPr>
        <p:blipFill>
          <a:blip r:embed="rId1"/>
          <a:stretch/>
        </p:blipFill>
        <p:spPr>
          <a:xfrm>
            <a:off x="76320" y="1219320"/>
            <a:ext cx="4271760" cy="2315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2" descr=""/>
          <p:cNvPicPr/>
          <p:nvPr/>
        </p:nvPicPr>
        <p:blipFill>
          <a:blip r:embed="rId2"/>
          <a:stretch/>
        </p:blipFill>
        <p:spPr>
          <a:xfrm>
            <a:off x="2514600" y="3305160"/>
            <a:ext cx="2666880" cy="18511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-3808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лье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8305560" y="5867280"/>
            <a:ext cx="533160" cy="41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Oval 43"/>
          <p:cNvSpPr/>
          <p:nvPr/>
        </p:nvSpPr>
        <p:spPr>
          <a:xfrm>
            <a:off x="2295360" y="5959440"/>
            <a:ext cx="457200" cy="7621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4"/>
          <p:cNvSpPr/>
          <p:nvPr/>
        </p:nvSpPr>
        <p:spPr>
          <a:xfrm>
            <a:off x="2296800" y="626436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</a:rPr>
              <a:t>P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47"/>
          <p:cNvSpPr/>
          <p:nvPr/>
        </p:nvSpPr>
        <p:spPr>
          <a:xfrm>
            <a:off x="2295360" y="6340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48"/>
          <p:cNvSpPr/>
          <p:nvPr/>
        </p:nvSpPr>
        <p:spPr>
          <a:xfrm>
            <a:off x="2295360" y="6188040"/>
            <a:ext cx="228600" cy="152280"/>
          </a:xfrm>
          <a:custGeom>
            <a:avLst/>
            <a:gdLst>
              <a:gd name="textAreaLeft" fmla="*/ 0 w 228600"/>
              <a:gd name="textAreaRight" fmla="*/ 228960 w 228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44" h="96">
                <a:moveTo>
                  <a:pt x="0" y="96"/>
                </a:moveTo>
                <a:cubicBezTo>
                  <a:pt x="12" y="48"/>
                  <a:pt x="24" y="0"/>
                  <a:pt x="48" y="0"/>
                </a:cubicBezTo>
                <a:cubicBezTo>
                  <a:pt x="72" y="0"/>
                  <a:pt x="104" y="88"/>
                  <a:pt x="144" y="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49"/>
          <p:cNvSpPr/>
          <p:nvPr/>
        </p:nvSpPr>
        <p:spPr>
          <a:xfrm>
            <a:off x="2448000" y="6099120"/>
            <a:ext cx="152280" cy="241200"/>
          </a:xfrm>
          <a:custGeom>
            <a:avLst/>
            <a:gdLst>
              <a:gd name="textAreaLeft" fmla="*/ 0 w 152280"/>
              <a:gd name="textAreaRight" fmla="*/ 152640 w 15228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96" h="152">
                <a:moveTo>
                  <a:pt x="0" y="104"/>
                </a:moveTo>
                <a:cubicBezTo>
                  <a:pt x="16" y="52"/>
                  <a:pt x="32" y="0"/>
                  <a:pt x="48" y="8"/>
                </a:cubicBezTo>
                <a:cubicBezTo>
                  <a:pt x="64" y="16"/>
                  <a:pt x="80" y="84"/>
                  <a:pt x="96" y="1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52"/>
          <p:cNvSpPr/>
          <p:nvPr/>
        </p:nvSpPr>
        <p:spPr>
          <a:xfrm>
            <a:off x="2600280" y="6111720"/>
            <a:ext cx="152280" cy="228600"/>
          </a:xfrm>
          <a:custGeom>
            <a:avLst/>
            <a:gdLst>
              <a:gd name="textAreaLeft" fmla="*/ 0 w 152280"/>
              <a:gd name="textAreaRight" fmla="*/ 152640 w 1522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96" h="144">
                <a:moveTo>
                  <a:pt x="0" y="144"/>
                </a:moveTo>
                <a:cubicBezTo>
                  <a:pt x="16" y="72"/>
                  <a:pt x="32" y="0"/>
                  <a:pt x="48" y="0"/>
                </a:cubicBezTo>
                <a:cubicBezTo>
                  <a:pt x="64" y="0"/>
                  <a:pt x="80" y="72"/>
                  <a:pt x="96" y="1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54"/>
          <p:cNvSpPr/>
          <p:nvPr/>
        </p:nvSpPr>
        <p:spPr>
          <a:xfrm>
            <a:off x="22860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0" descr=""/>
          <p:cNvPicPr/>
          <p:nvPr/>
        </p:nvPicPr>
        <p:blipFill>
          <a:blip r:embed="rId3"/>
          <a:stretch/>
        </p:blipFill>
        <p:spPr>
          <a:xfrm>
            <a:off x="304920" y="3352680"/>
            <a:ext cx="2047680" cy="198144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50"/>
          <p:cNvSpPr/>
          <p:nvPr/>
        </p:nvSpPr>
        <p:spPr>
          <a:xfrm>
            <a:off x="1324080" y="352260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 P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51"/>
          <p:cNvSpPr/>
          <p:nvPr/>
        </p:nvSpPr>
        <p:spPr>
          <a:xfrm>
            <a:off x="1477440" y="44118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Прямая со стрелкой 53"/>
          <p:cNvCxnSpPr>
            <a:endCxn id="78" idx="1"/>
          </p:cNvCxnSpPr>
          <p:nvPr/>
        </p:nvCxnSpPr>
        <p:spPr>
          <a:xfrm>
            <a:off x="1809360" y="4994280"/>
            <a:ext cx="553320" cy="107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9" name="Прямоугольник 55"/>
          <p:cNvSpPr/>
          <p:nvPr/>
        </p:nvSpPr>
        <p:spPr>
          <a:xfrm>
            <a:off x="686520" y="441468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56"/>
          <p:cNvSpPr/>
          <p:nvPr/>
        </p:nvSpPr>
        <p:spPr>
          <a:xfrm>
            <a:off x="715680" y="370692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Прямая со стрелкой 58"/>
          <p:cNvCxnSpPr>
            <a:stCxn id="78" idx="6"/>
          </p:cNvCxnSpPr>
          <p:nvPr/>
        </p:nvCxnSpPr>
        <p:spPr>
          <a:xfrm flipV="1">
            <a:off x="2752200" y="5138640"/>
            <a:ext cx="799560" cy="120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2" name="Прямая со стрелкой 14"/>
          <p:cNvCxnSpPr/>
          <p:nvPr/>
        </p:nvCxnSpPr>
        <p:spPr>
          <a:xfrm flipV="1">
            <a:off x="6781320" y="2057040"/>
            <a:ext cx="1080" cy="180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3" name="Прямая соединительная линия 16"/>
          <p:cNvSpPr/>
          <p:nvPr/>
        </p:nvSpPr>
        <p:spPr>
          <a:xfrm>
            <a:off x="6781680" y="38862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Прямая со стрелкой 18"/>
          <p:cNvCxnSpPr/>
          <p:nvPr/>
        </p:nvCxnSpPr>
        <p:spPr>
          <a:xfrm>
            <a:off x="7848360" y="3886200"/>
            <a:ext cx="1080" cy="139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5" name="Прямоугольник 20"/>
          <p:cNvSpPr/>
          <p:nvPr/>
        </p:nvSpPr>
        <p:spPr>
          <a:xfrm>
            <a:off x="4800960" y="1447920"/>
            <a:ext cx="377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. Мунку-Сардык (3491 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21"/>
          <p:cNvSpPr/>
          <p:nvPr/>
        </p:nvSpPr>
        <p:spPr>
          <a:xfrm>
            <a:off x="5883840" y="5410080"/>
            <a:ext cx="29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. Байкал (-1642 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лезные ископаемы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280" y="1447920"/>
          <a:ext cx="8204400" cy="3884400"/>
        </p:xfrm>
        <a:graphic>
          <a:graphicData uri="http://schemas.openxmlformats.org/drawingml/2006/table">
            <a:tbl>
              <a:tblPr/>
              <a:tblGrid>
                <a:gridCol w="3975120"/>
                <a:gridCol w="4229280"/>
              </a:tblGrid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езные ископаем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я в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ин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ине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либден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люорит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сбес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" name="Object 21"/>
          <p:cNvGraphicFramePr/>
          <p:nvPr/>
        </p:nvGraphicFramePr>
        <p:xfrm>
          <a:off x="2562120" y="1511280"/>
          <a:ext cx="4030920" cy="45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62120" y="1511280"/>
                    <a:ext cx="403092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1" name="Picture 80" descr="Asbestos2USGOV.jpg"/>
          <p:cNvPicPr/>
          <p:nvPr/>
        </p:nvPicPr>
        <p:blipFill>
          <a:blip r:embed="rId3"/>
          <a:stretch/>
        </p:blipFill>
        <p:spPr>
          <a:xfrm>
            <a:off x="3124080" y="4724280"/>
            <a:ext cx="990720" cy="5986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3" descr="9104 - Milano - Museo storia naturale - Fluorite - Foto Giovanni Dall'Orto 22-Apr-2007.jpg"/>
          <p:cNvPicPr/>
          <p:nvPr/>
        </p:nvPicPr>
        <p:blipFill>
          <a:blip r:embed="rId4"/>
          <a:stretch/>
        </p:blipFill>
        <p:spPr>
          <a:xfrm>
            <a:off x="3124080" y="4038480"/>
            <a:ext cx="1019160" cy="676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0" descr="Molybdenum crystaline fragment and 1cm3 cube.jpg"/>
          <p:cNvPicPr/>
          <p:nvPr/>
        </p:nvPicPr>
        <p:blipFill>
          <a:blip r:embed="rId5"/>
          <a:stretch/>
        </p:blipFill>
        <p:spPr>
          <a:xfrm>
            <a:off x="3124080" y="3405240"/>
            <a:ext cx="990720" cy="628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2" descr="Lead electrolytic and 1cm3 cube.jpg"/>
          <p:cNvPicPr/>
          <p:nvPr/>
        </p:nvPicPr>
        <p:blipFill>
          <a:blip r:embed="rId6"/>
          <a:stretch/>
        </p:blipFill>
        <p:spPr>
          <a:xfrm>
            <a:off x="3124080" y="2770200"/>
            <a:ext cx="952560" cy="606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4" descr="Zinc fragment sublimed and 1cm3 cube.jpg"/>
          <p:cNvPicPr/>
          <p:nvPr/>
        </p:nvPicPr>
        <p:blipFill>
          <a:blip r:embed="rId7"/>
          <a:stretch/>
        </p:blipFill>
        <p:spPr>
          <a:xfrm>
            <a:off x="3124080" y="2133720"/>
            <a:ext cx="990720" cy="60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43"/>
          <p:cNvSpPr/>
          <p:nvPr/>
        </p:nvSpPr>
        <p:spPr>
          <a:xfrm>
            <a:off x="3809880" y="2819520"/>
            <a:ext cx="91440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876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alibri"/>
              </a:rPr>
              <a:t>Клима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3738600" y="26622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800000"/>
                </a:solidFill>
                <a:latin typeface="Arial"/>
              </a:rPr>
              <a:t>К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5416920" y="2890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5"/>
          <p:cNvSpPr/>
          <p:nvPr/>
        </p:nvSpPr>
        <p:spPr>
          <a:xfrm flipH="1">
            <a:off x="4881240" y="4262400"/>
            <a:ext cx="15228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6"/>
          <p:cNvSpPr/>
          <p:nvPr/>
        </p:nvSpPr>
        <p:spPr>
          <a:xfrm>
            <a:off x="5033880" y="4262400"/>
            <a:ext cx="15264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17"/>
          <p:cNvSpPr/>
          <p:nvPr/>
        </p:nvSpPr>
        <p:spPr>
          <a:xfrm>
            <a:off x="4869000" y="4338720"/>
            <a:ext cx="241200" cy="177840"/>
          </a:xfrm>
          <a:custGeom>
            <a:avLst/>
            <a:gdLst>
              <a:gd name="textAreaLeft" fmla="*/ 0 w 241200"/>
              <a:gd name="textAreaRight" fmla="*/ 241560 w 241200"/>
              <a:gd name="textAreaTop" fmla="*/ 0 h 177840"/>
              <a:gd name="textAreaBottom" fmla="*/ 177840 h 177840"/>
            </a:gdLst>
            <a:ahLst/>
            <a:rect l="textAreaLeft" t="textAreaTop" r="textAreaRight" b="textAreaBottom"/>
            <a:pathLst>
              <a:path w="152" h="112">
                <a:moveTo>
                  <a:pt x="152" y="96"/>
                </a:moveTo>
                <a:cubicBezTo>
                  <a:pt x="84" y="104"/>
                  <a:pt x="16" y="112"/>
                  <a:pt x="8" y="96"/>
                </a:cubicBezTo>
                <a:cubicBezTo>
                  <a:pt x="0" y="80"/>
                  <a:pt x="96" y="16"/>
                  <a:pt x="104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8"/>
          <p:cNvSpPr/>
          <p:nvPr/>
        </p:nvSpPr>
        <p:spPr>
          <a:xfrm>
            <a:off x="2668680" y="281952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504d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0"/>
          <p:cNvSpPr/>
          <p:nvPr/>
        </p:nvSpPr>
        <p:spPr>
          <a:xfrm>
            <a:off x="3052800" y="4186080"/>
            <a:ext cx="8380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1"/>
          <p:cNvSpPr/>
          <p:nvPr/>
        </p:nvSpPr>
        <p:spPr>
          <a:xfrm>
            <a:off x="3205080" y="4338720"/>
            <a:ext cx="53352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2"/>
          <p:cNvSpPr/>
          <p:nvPr/>
        </p:nvSpPr>
        <p:spPr>
          <a:xfrm>
            <a:off x="3357720" y="4414680"/>
            <a:ext cx="228600" cy="76320"/>
          </a:xfrm>
          <a:prstGeom prst="rect">
            <a:avLst/>
          </a:prstGeom>
          <a:solidFill>
            <a:srgbClr val="1e1c1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Группа 51"/>
          <p:cNvGrpSpPr/>
          <p:nvPr/>
        </p:nvGrpSpPr>
        <p:grpSpPr>
          <a:xfrm>
            <a:off x="4039920" y="1523880"/>
            <a:ext cx="3534120" cy="472320"/>
            <a:chOff x="4039920" y="1523880"/>
            <a:chExt cx="3534120" cy="472320"/>
          </a:xfrm>
        </p:grpSpPr>
        <p:sp>
          <p:nvSpPr>
            <p:cNvPr id="118" name="Rectangle 12"/>
            <p:cNvSpPr/>
            <p:nvPr/>
          </p:nvSpPr>
          <p:spPr>
            <a:xfrm>
              <a:off x="4039920" y="1528560"/>
              <a:ext cx="62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800000"/>
                  </a:solidFill>
                  <a:latin typeface="Arial"/>
                </a:rPr>
                <a:t>г.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9" name="Прямая со стрелкой 2"/>
            <p:cNvCxnSpPr/>
            <p:nvPr/>
          </p:nvCxnSpPr>
          <p:spPr>
            <a:xfrm>
              <a:off x="4782960" y="1766520"/>
              <a:ext cx="519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20" name="Прямоугольник 3"/>
            <p:cNvSpPr/>
            <p:nvPr/>
          </p:nvSpPr>
          <p:spPr>
            <a:xfrm>
              <a:off x="5306040" y="1536480"/>
              <a:ext cx="67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УП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1" name="Прямая со стрелкой 5"/>
            <p:cNvCxnSpPr/>
            <p:nvPr/>
          </p:nvCxnSpPr>
          <p:spPr>
            <a:xfrm>
              <a:off x="5921280" y="1756800"/>
              <a:ext cx="527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22" name="Прямоугольник 6"/>
            <p:cNvSpPr/>
            <p:nvPr/>
          </p:nvSpPr>
          <p:spPr>
            <a:xfrm>
              <a:off x="6587280" y="1523880"/>
              <a:ext cx="98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Тайг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Прямая со стрелкой 8"/>
          <p:cNvCxnSpPr>
            <a:stCxn id="109" idx="3"/>
          </p:cNvCxnSpPr>
          <p:nvPr/>
        </p:nvCxnSpPr>
        <p:spPr>
          <a:xfrm>
            <a:off x="5802480" y="3119040"/>
            <a:ext cx="52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4" name="Прямая со стрелкой 12"/>
          <p:cNvCxnSpPr>
            <a:endCxn id="108" idx="3"/>
          </p:cNvCxnSpPr>
          <p:nvPr/>
        </p:nvCxnSpPr>
        <p:spPr>
          <a:xfrm>
            <a:off x="4868640" y="3119040"/>
            <a:ext cx="470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5" name="Прямая со стрелкой 16"/>
          <p:cNvCxnSpPr/>
          <p:nvPr/>
        </p:nvCxnSpPr>
        <p:spPr>
          <a:xfrm flipH="1">
            <a:off x="3737880" y="3516120"/>
            <a:ext cx="153000" cy="518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6" name="Прямая со стрелкой 20"/>
          <p:cNvCxnSpPr>
            <a:stCxn id="108" idx="2"/>
          </p:cNvCxnSpPr>
          <p:nvPr/>
        </p:nvCxnSpPr>
        <p:spPr>
          <a:xfrm>
            <a:off x="4538520" y="3576240"/>
            <a:ext cx="3312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7" name="Прямая со стрелкой 22"/>
          <p:cNvCxnSpPr>
            <a:stCxn id="108" idx="1"/>
          </p:cNvCxnSpPr>
          <p:nvPr/>
        </p:nvCxnSpPr>
        <p:spPr>
          <a:xfrm flipH="1">
            <a:off x="3204720" y="311904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8" name="Прямая со стрелкой 24"/>
          <p:cNvCxnSpPr/>
          <p:nvPr/>
        </p:nvCxnSpPr>
        <p:spPr>
          <a:xfrm flipH="1" flipV="1">
            <a:off x="4266720" y="2057040"/>
            <a:ext cx="1368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9" name="Прямая соединительная линия 30"/>
          <p:cNvSpPr/>
          <p:nvPr/>
        </p:nvSpPr>
        <p:spPr>
          <a:xfrm>
            <a:off x="6472080" y="3119400"/>
            <a:ext cx="84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ая соединительная линия 11264"/>
          <p:cNvSpPr/>
          <p:nvPr/>
        </p:nvSpPr>
        <p:spPr>
          <a:xfrm>
            <a:off x="6683400" y="2890800"/>
            <a:ext cx="2127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ая соединительная линия 11277"/>
          <p:cNvSpPr/>
          <p:nvPr/>
        </p:nvSpPr>
        <p:spPr>
          <a:xfrm flipV="1">
            <a:off x="6472080" y="2890440"/>
            <a:ext cx="211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ая соединительная линия 11287"/>
          <p:cNvSpPr/>
          <p:nvPr/>
        </p:nvSpPr>
        <p:spPr>
          <a:xfrm flipV="1">
            <a:off x="6789600" y="2814480"/>
            <a:ext cx="171720" cy="19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11290"/>
          <p:cNvSpPr/>
          <p:nvPr/>
        </p:nvSpPr>
        <p:spPr>
          <a:xfrm>
            <a:off x="6961320" y="2814480"/>
            <a:ext cx="206280" cy="35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ая соединительная линия 11292"/>
          <p:cNvSpPr/>
          <p:nvPr/>
        </p:nvSpPr>
        <p:spPr>
          <a:xfrm flipH="1" flipV="1">
            <a:off x="7167240" y="266220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ая соединительная линия 11294"/>
          <p:cNvSpPr/>
          <p:nvPr/>
        </p:nvSpPr>
        <p:spPr>
          <a:xfrm flipV="1">
            <a:off x="7064280" y="2662200"/>
            <a:ext cx="10332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11296"/>
          <p:cNvSpPr/>
          <p:nvPr/>
        </p:nvSpPr>
        <p:spPr>
          <a:xfrm>
            <a:off x="6095880" y="3251160"/>
            <a:ext cx="1559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чти на всей площад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Прямая со стрелкой 11298"/>
          <p:cNvCxnSpPr/>
          <p:nvPr/>
        </p:nvCxnSpPr>
        <p:spPr>
          <a:xfrm>
            <a:off x="7450200" y="3119040"/>
            <a:ext cx="40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8" name="Прямоугольник 11299"/>
          <p:cNvSpPr/>
          <p:nvPr/>
        </p:nvSpPr>
        <p:spPr>
          <a:xfrm>
            <a:off x="7873920" y="2514600"/>
            <a:ext cx="1270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Бурятии много хвойных и листопадн-ых лесов в гор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Прямая со стрелкой 11301"/>
          <p:cNvCxnSpPr>
            <a:stCxn id="113" idx="1"/>
          </p:cNvCxnSpPr>
          <p:nvPr/>
        </p:nvCxnSpPr>
        <p:spPr>
          <a:xfrm flipH="1" flipV="1">
            <a:off x="2209320" y="316944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0" name="Прямоугольник 11302"/>
          <p:cNvSpPr/>
          <p:nvPr/>
        </p:nvSpPr>
        <p:spPr>
          <a:xfrm>
            <a:off x="0" y="2552760"/>
            <a:ext cx="227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урятия находится в центре материка, значит течения никак не влияют из-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Прямая со стрелкой 11304"/>
          <p:cNvCxnSpPr/>
          <p:nvPr/>
        </p:nvCxnSpPr>
        <p:spPr>
          <a:xfrm>
            <a:off x="690120" y="3512880"/>
            <a:ext cx="2229480" cy="82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142" name="Группа 45"/>
          <p:cNvGrpSpPr/>
          <p:nvPr/>
        </p:nvGrpSpPr>
        <p:grpSpPr>
          <a:xfrm>
            <a:off x="380880" y="5105520"/>
            <a:ext cx="8488440" cy="1557000"/>
            <a:chOff x="380880" y="5105520"/>
            <a:chExt cx="8488440" cy="1557000"/>
          </a:xfrm>
        </p:grpSpPr>
        <p:sp>
          <p:nvSpPr>
            <p:cNvPr id="143" name="Выноска-облако 11305"/>
            <p:cNvSpPr/>
            <p:nvPr/>
          </p:nvSpPr>
          <p:spPr>
            <a:xfrm>
              <a:off x="380880" y="5405400"/>
              <a:ext cx="1442880" cy="900000"/>
            </a:xfrm>
            <a:prstGeom prst="cloudCallout">
              <a:avLst>
                <a:gd name="adj1" fmla="val -20833"/>
                <a:gd name="adj2" fmla="val 625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Прямоугольник 11310"/>
            <p:cNvSpPr/>
            <p:nvPr/>
          </p:nvSpPr>
          <p:spPr>
            <a:xfrm>
              <a:off x="756360" y="562464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Прямоугольник 11312"/>
            <p:cNvSpPr/>
            <p:nvPr/>
          </p:nvSpPr>
          <p:spPr>
            <a:xfrm>
              <a:off x="2739600" y="5373720"/>
              <a:ext cx="122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Arial"/>
                </a:rPr>
                <a:t>л: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t=+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Прямоугольник 11313"/>
            <p:cNvSpPr/>
            <p:nvPr/>
          </p:nvSpPr>
          <p:spPr>
            <a:xfrm>
              <a:off x="2679840" y="5837400"/>
              <a:ext cx="111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558ed5"/>
                  </a:solidFill>
                  <a:latin typeface="Arial"/>
                </a:rPr>
                <a:t>з:</a:t>
              </a:r>
              <a:r>
                <a:rPr b="0" lang="en-US" sz="2400" spc="-1" strike="noStrike">
                  <a:solidFill>
                    <a:srgbClr val="558ed5"/>
                  </a:solidFill>
                  <a:latin typeface="Arial"/>
                </a:rPr>
                <a:t>t=-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Прямоугольник 11314"/>
            <p:cNvSpPr/>
            <p:nvPr/>
          </p:nvSpPr>
          <p:spPr>
            <a:xfrm>
              <a:off x="4004280" y="5657760"/>
              <a:ext cx="90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Arial"/>
                </a:rPr>
                <a:t>А=3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Правая фигурная скобка 11315"/>
            <p:cNvSpPr/>
            <p:nvPr/>
          </p:nvSpPr>
          <p:spPr>
            <a:xfrm>
              <a:off x="5024520" y="5253120"/>
              <a:ext cx="350640" cy="1400400"/>
            </a:xfrm>
            <a:custGeom>
              <a:avLst/>
              <a:gdLst>
                <a:gd name="textAreaLeft" fmla="*/ 0 w 350640"/>
                <a:gd name="textAreaRight" fmla="*/ 126720 w 350640"/>
                <a:gd name="textAreaTop" fmla="*/ 44280 h 1400400"/>
                <a:gd name="textAreaBottom" fmla="*/ 1356120 h 140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097"/>
                    <a:pt x="10800" y="2194"/>
                  </a:cubicBezTo>
                  <a:lnTo>
                    <a:pt x="10800" y="8423"/>
                  </a:lnTo>
                  <a:cubicBezTo>
                    <a:pt x="10800" y="9520"/>
                    <a:pt x="16200" y="10617"/>
                    <a:pt x="21600" y="10617"/>
                  </a:cubicBezTo>
                  <a:cubicBezTo>
                    <a:pt x="16200" y="10617"/>
                    <a:pt x="10800" y="11714"/>
                    <a:pt x="10800" y="12811"/>
                  </a:cubicBezTo>
                  <a:lnTo>
                    <a:pt x="10800" y="19406"/>
                  </a:lnTo>
                  <a:cubicBezTo>
                    <a:pt x="10800" y="20503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Прямоугольник 11316"/>
            <p:cNvSpPr/>
            <p:nvPr/>
          </p:nvSpPr>
          <p:spPr>
            <a:xfrm>
              <a:off x="5411880" y="5105520"/>
              <a:ext cx="34574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 Бурятии сухо и холодно или жарко(в зависимости от времён года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Прямоугольник 44"/>
          <p:cNvSpPr/>
          <p:nvPr/>
        </p:nvSpPr>
        <p:spPr>
          <a:xfrm>
            <a:off x="5638680" y="4114800"/>
            <a:ext cx="2514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Arial"/>
              </a:rPr>
              <a:t>Господствуют Западные ветра и приносят континентальные В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" name="Прямая со стрелкой 47"/>
          <p:cNvCxnSpPr/>
          <p:nvPr/>
        </p:nvCxnSpPr>
        <p:spPr>
          <a:xfrm>
            <a:off x="5257440" y="4572000"/>
            <a:ext cx="305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2" name="Прямая со стрелкой 49"/>
          <p:cNvCxnSpPr/>
          <p:nvPr/>
        </p:nvCxnSpPr>
        <p:spPr>
          <a:xfrm flipV="1">
            <a:off x="5637600" y="2666880"/>
            <a:ext cx="183240" cy="30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3" name="Прямоугольник 50"/>
          <p:cNvSpPr/>
          <p:nvPr/>
        </p:nvSpPr>
        <p:spPr>
          <a:xfrm>
            <a:off x="4876920" y="21337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Arial"/>
              </a:rPr>
              <a:t>Горы мешают прохождения В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нутренние воды. Селенг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8610480" y="6080040"/>
            <a:ext cx="76320" cy="46080"/>
          </a:xfrm>
          <a:prstGeom prst="rect">
            <a:avLst/>
          </a:prstGeom>
          <a:ln w="0">
            <a:noFill/>
          </a:ln>
        </p:spPr>
      </p:pic>
      <p:sp>
        <p:nvSpPr>
          <p:cNvPr id="156" name="Овал 4"/>
          <p:cNvSpPr/>
          <p:nvPr/>
        </p:nvSpPr>
        <p:spPr>
          <a:xfrm>
            <a:off x="122400" y="1728720"/>
            <a:ext cx="5029200" cy="4953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6"/>
          <p:cNvSpPr/>
          <p:nvPr/>
        </p:nvSpPr>
        <p:spPr>
          <a:xfrm>
            <a:off x="2637000" y="1728720"/>
            <a:ext cx="0" cy="495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8"/>
          <p:cNvSpPr/>
          <p:nvPr/>
        </p:nvSpPr>
        <p:spPr>
          <a:xfrm>
            <a:off x="122400" y="420516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10"/>
          <p:cNvSpPr/>
          <p:nvPr/>
        </p:nvSpPr>
        <p:spPr>
          <a:xfrm flipV="1">
            <a:off x="858960" y="2454120"/>
            <a:ext cx="3555720" cy="3502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ая соединительная линия 12"/>
          <p:cNvSpPr/>
          <p:nvPr/>
        </p:nvSpPr>
        <p:spPr>
          <a:xfrm>
            <a:off x="858960" y="2454120"/>
            <a:ext cx="1778040" cy="175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13"/>
          <p:cNvSpPr/>
          <p:nvPr/>
        </p:nvSpPr>
        <p:spPr>
          <a:xfrm>
            <a:off x="2698920" y="1905120"/>
            <a:ext cx="131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южн. части Бурят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14"/>
          <p:cNvSpPr/>
          <p:nvPr/>
        </p:nvSpPr>
        <p:spPr>
          <a:xfrm>
            <a:off x="3614760" y="3200400"/>
            <a:ext cx="127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4 с.ш 88 в.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1"/>
          <p:cNvSpPr/>
          <p:nvPr/>
        </p:nvSpPr>
        <p:spPr>
          <a:xfrm>
            <a:off x="1697040" y="2173320"/>
            <a:ext cx="758880" cy="3808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22"/>
          <p:cNvSpPr/>
          <p:nvPr/>
        </p:nvSpPr>
        <p:spPr>
          <a:xfrm>
            <a:off x="1429920" y="1905120"/>
            <a:ext cx="122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з. Байк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олилиния 23"/>
          <p:cNvSpPr/>
          <p:nvPr/>
        </p:nvSpPr>
        <p:spPr>
          <a:xfrm>
            <a:off x="3186000" y="5102280"/>
            <a:ext cx="457200" cy="885600"/>
          </a:xfrm>
          <a:custGeom>
            <a:avLst/>
            <a:gdLst/>
            <a:ahLst/>
            <a:rect l="l" t="t" r="r" b="b"/>
            <a:pathLst>
              <a:path w="457200" h="884903">
                <a:moveTo>
                  <a:pt x="368709" y="0"/>
                </a:moveTo>
                <a:cubicBezTo>
                  <a:pt x="378541" y="24581"/>
                  <a:pt x="389834" y="48626"/>
                  <a:pt x="398206" y="73742"/>
                </a:cubicBezTo>
                <a:cubicBezTo>
                  <a:pt x="404616" y="92971"/>
                  <a:pt x="408707" y="112915"/>
                  <a:pt x="412954" y="132735"/>
                </a:cubicBezTo>
                <a:cubicBezTo>
                  <a:pt x="463157" y="367015"/>
                  <a:pt x="423527" y="204525"/>
                  <a:pt x="457200" y="339213"/>
                </a:cubicBezTo>
                <a:cubicBezTo>
                  <a:pt x="452284" y="368710"/>
                  <a:pt x="449704" y="398692"/>
                  <a:pt x="442451" y="427703"/>
                </a:cubicBezTo>
                <a:cubicBezTo>
                  <a:pt x="430254" y="476488"/>
                  <a:pt x="417142" y="522544"/>
                  <a:pt x="383458" y="560439"/>
                </a:cubicBezTo>
                <a:cubicBezTo>
                  <a:pt x="355744" y="591617"/>
                  <a:pt x="324464" y="619432"/>
                  <a:pt x="294967" y="648929"/>
                </a:cubicBezTo>
                <a:cubicBezTo>
                  <a:pt x="269900" y="673996"/>
                  <a:pt x="255638" y="707922"/>
                  <a:pt x="235974" y="737419"/>
                </a:cubicBezTo>
                <a:cubicBezTo>
                  <a:pt x="227351" y="750354"/>
                  <a:pt x="232218" y="770671"/>
                  <a:pt x="221225" y="781664"/>
                </a:cubicBezTo>
                <a:cubicBezTo>
                  <a:pt x="210232" y="792657"/>
                  <a:pt x="190885" y="789460"/>
                  <a:pt x="176980" y="796413"/>
                </a:cubicBezTo>
                <a:cubicBezTo>
                  <a:pt x="69668" y="850070"/>
                  <a:pt x="217243" y="813838"/>
                  <a:pt x="29496" y="840658"/>
                </a:cubicBezTo>
                <a:lnTo>
                  <a:pt x="0" y="88490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" name="Прямая со стрелкой 25"/>
          <p:cNvCxnSpPr/>
          <p:nvPr/>
        </p:nvCxnSpPr>
        <p:spPr>
          <a:xfrm flipV="1">
            <a:off x="3154320" y="5714280"/>
            <a:ext cx="202320" cy="1134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167" name="Прямая со стрелкой 27"/>
          <p:cNvCxnSpPr/>
          <p:nvPr/>
        </p:nvCxnSpPr>
        <p:spPr>
          <a:xfrm flipV="1">
            <a:off x="3414240" y="5544720"/>
            <a:ext cx="119880" cy="1706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168" name="Прямая со стрелкой 29"/>
          <p:cNvCxnSpPr/>
          <p:nvPr/>
        </p:nvCxnSpPr>
        <p:spPr>
          <a:xfrm flipH="1" flipV="1">
            <a:off x="3472920" y="5180760"/>
            <a:ext cx="61200" cy="22932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sp>
        <p:nvSpPr>
          <p:cNvPr id="169" name="Прямоугольник 30"/>
          <p:cNvSpPr/>
          <p:nvPr/>
        </p:nvSpPr>
        <p:spPr>
          <a:xfrm rot="17932200">
            <a:off x="3344400" y="5601600"/>
            <a:ext cx="7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b050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1"/>
          <p:cNvSpPr/>
          <p:nvPr/>
        </p:nvSpPr>
        <p:spPr>
          <a:xfrm rot="17066400">
            <a:off x="3419640" y="5081040"/>
            <a:ext cx="90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b050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2"/>
          <p:cNvSpPr/>
          <p:nvPr/>
        </p:nvSpPr>
        <p:spPr>
          <a:xfrm>
            <a:off x="1487520" y="5167440"/>
            <a:ext cx="11764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ка равнинная, т.к. протекает по равнин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3"/>
          <p:cNvSpPr/>
          <p:nvPr/>
        </p:nvSpPr>
        <p:spPr>
          <a:xfrm>
            <a:off x="380880" y="4151160"/>
            <a:ext cx="1219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ка более полноводна весной, т.к. находится в </a:t>
            </a: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УП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а там снеговое пита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40"/>
          <p:cNvSpPr/>
          <p:nvPr/>
        </p:nvSpPr>
        <p:spPr>
          <a:xfrm>
            <a:off x="380880" y="2865600"/>
            <a:ext cx="1947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еет множество мелких прито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2"/>
          <a:stretch/>
        </p:blipFill>
        <p:spPr>
          <a:xfrm>
            <a:off x="1762200" y="2516040"/>
            <a:ext cx="358560" cy="684360"/>
          </a:xfrm>
          <a:prstGeom prst="rect">
            <a:avLst/>
          </a:prstGeom>
          <a:ln w="0">
            <a:noFill/>
          </a:ln>
        </p:spPr>
      </p:pic>
      <p:sp>
        <p:nvSpPr>
          <p:cNvPr id="175" name="Овал 45"/>
          <p:cNvSpPr/>
          <p:nvPr/>
        </p:nvSpPr>
        <p:spPr>
          <a:xfrm>
            <a:off x="1941480" y="2438280"/>
            <a:ext cx="179280" cy="22860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46"/>
          <p:cNvSpPr/>
          <p:nvPr/>
        </p:nvSpPr>
        <p:spPr>
          <a:xfrm>
            <a:off x="1909800" y="3144960"/>
            <a:ext cx="83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1 с.ш 109 в.д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3"/>
          <a:stretch/>
        </p:blipFill>
        <p:spPr>
          <a:xfrm>
            <a:off x="3186000" y="4694400"/>
            <a:ext cx="785880" cy="407880"/>
          </a:xfrm>
          <a:prstGeom prst="rect">
            <a:avLst/>
          </a:prstGeom>
          <a:ln w="0">
            <a:noFill/>
          </a:ln>
        </p:spPr>
      </p:pic>
      <p:sp>
        <p:nvSpPr>
          <p:cNvPr id="178" name="Прямоугольник 47"/>
          <p:cNvSpPr/>
          <p:nvPr/>
        </p:nvSpPr>
        <p:spPr>
          <a:xfrm>
            <a:off x="2916360" y="4376880"/>
            <a:ext cx="122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з. Байк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48"/>
          <p:cNvSpPr/>
          <p:nvPr/>
        </p:nvSpPr>
        <p:spPr>
          <a:xfrm>
            <a:off x="5486400" y="2022480"/>
            <a:ext cx="298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ленга Река используется для судоходства и рыболов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нутренние воды. Выв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457200" y="1600200"/>
            <a:ext cx="754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се реки в Бурятии полноводны весной , т.к. там </a:t>
            </a:r>
            <a:r>
              <a:rPr b="0" lang="ru-RU" sz="3600" spc="-1" strike="noStrike">
                <a:solidFill>
                  <a:srgbClr val="1f497d"/>
                </a:solidFill>
                <a:latin typeface="Arial"/>
              </a:rPr>
              <a:t>УП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а там снеговое питание рек, и летом, т.к в Бурятии      , а в горах питание рек ледниковое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Также повлиял и на направление рек. Направление идёт с гор и ммноггие реки впадают в Байк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7" descr=""/>
          <p:cNvPicPr/>
          <p:nvPr/>
        </p:nvPicPr>
        <p:blipFill>
          <a:blip r:embed="rId1"/>
          <a:stretch/>
        </p:blipFill>
        <p:spPr>
          <a:xfrm>
            <a:off x="2819520" y="3200400"/>
            <a:ext cx="392040" cy="8380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"/>
          <p:cNvPicPr/>
          <p:nvPr/>
        </p:nvPicPr>
        <p:blipFill>
          <a:blip r:embed="rId2"/>
          <a:stretch/>
        </p:blipFill>
        <p:spPr>
          <a:xfrm>
            <a:off x="4114800" y="3733920"/>
            <a:ext cx="3920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366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иродные зоны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айг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-2133720" y="1633680"/>
            <a:ext cx="228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Прямая соединительная линия 14"/>
          <p:cNvSpPr/>
          <p:nvPr/>
        </p:nvSpPr>
        <p:spPr>
          <a:xfrm>
            <a:off x="457200" y="50292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ая соединительная линия 17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ая соединительная линия 19"/>
          <p:cNvSpPr/>
          <p:nvPr/>
        </p:nvSpPr>
        <p:spPr>
          <a:xfrm flipV="1">
            <a:off x="8686800" y="50288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ая соединительная линия 21"/>
          <p:cNvSpPr/>
          <p:nvPr/>
        </p:nvSpPr>
        <p:spPr>
          <a:xfrm>
            <a:off x="457200" y="50292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ая соединительная линия 24"/>
          <p:cNvSpPr/>
          <p:nvPr/>
        </p:nvSpPr>
        <p:spPr>
          <a:xfrm flipH="1">
            <a:off x="391680" y="2819520"/>
            <a:ext cx="1800" cy="17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ая соединительная линия 27"/>
          <p:cNvSpPr/>
          <p:nvPr/>
        </p:nvSpPr>
        <p:spPr>
          <a:xfrm flipV="1">
            <a:off x="372960" y="4521240"/>
            <a:ext cx="1455840" cy="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ая соединительная линия 29"/>
          <p:cNvSpPr/>
          <p:nvPr/>
        </p:nvSpPr>
        <p:spPr>
          <a:xfrm flipV="1">
            <a:off x="1828800" y="2835000"/>
            <a:ext cx="0" cy="223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ая соединительная линия 33"/>
          <p:cNvSpPr/>
          <p:nvPr/>
        </p:nvSpPr>
        <p:spPr>
          <a:xfrm>
            <a:off x="6629400" y="28195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ая соединительная линия 35"/>
          <p:cNvSpPr/>
          <p:nvPr/>
        </p:nvSpPr>
        <p:spPr>
          <a:xfrm>
            <a:off x="6629400" y="28195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Группа 64"/>
          <p:cNvGrpSpPr/>
          <p:nvPr/>
        </p:nvGrpSpPr>
        <p:grpSpPr>
          <a:xfrm>
            <a:off x="3581280" y="3048120"/>
            <a:ext cx="1828800" cy="1523880"/>
            <a:chOff x="3581280" y="3048120"/>
            <a:chExt cx="1828800" cy="1523880"/>
          </a:xfrm>
        </p:grpSpPr>
        <p:sp>
          <p:nvSpPr>
            <p:cNvPr id="196" name="Прямая соединительная линия 39"/>
            <p:cNvSpPr/>
            <p:nvPr/>
          </p:nvSpPr>
          <p:spPr>
            <a:xfrm>
              <a:off x="4267080" y="30481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Прямая соединительная линия 43"/>
            <p:cNvSpPr/>
            <p:nvPr/>
          </p:nvSpPr>
          <p:spPr>
            <a:xfrm flipH="1">
              <a:off x="5181120" y="3048120"/>
              <a:ext cx="22860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Прямая соединительная линия 45"/>
            <p:cNvSpPr/>
            <p:nvPr/>
          </p:nvSpPr>
          <p:spPr>
            <a:xfrm>
              <a:off x="4267080" y="3048120"/>
              <a:ext cx="304560" cy="81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Прямая соединительная линия 47"/>
            <p:cNvSpPr/>
            <p:nvPr/>
          </p:nvSpPr>
          <p:spPr>
            <a:xfrm flipH="1">
              <a:off x="3961800" y="3863880"/>
              <a:ext cx="609480" cy="32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Прямая соединительная линия 49"/>
            <p:cNvSpPr/>
            <p:nvPr/>
          </p:nvSpPr>
          <p:spPr>
            <a:xfrm flipH="1">
              <a:off x="3581280" y="4191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Прямая соединительная линия 51"/>
            <p:cNvSpPr/>
            <p:nvPr/>
          </p:nvSpPr>
          <p:spPr>
            <a:xfrm>
              <a:off x="3581280" y="4191120"/>
              <a:ext cx="1522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Прямая соединительная линия 53"/>
            <p:cNvSpPr/>
            <p:nvPr/>
          </p:nvSpPr>
          <p:spPr>
            <a:xfrm>
              <a:off x="3733560" y="457200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Box 32"/>
          <p:cNvSpPr/>
          <p:nvPr/>
        </p:nvSpPr>
        <p:spPr>
          <a:xfrm>
            <a:off x="-92160" y="487692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Группа 90"/>
          <p:cNvGrpSpPr/>
          <p:nvPr/>
        </p:nvGrpSpPr>
        <p:grpSpPr>
          <a:xfrm>
            <a:off x="436680" y="1600200"/>
            <a:ext cx="8251560" cy="990720"/>
            <a:chOff x="436680" y="1600200"/>
            <a:chExt cx="8251560" cy="990720"/>
          </a:xfrm>
        </p:grpSpPr>
        <p:sp>
          <p:nvSpPr>
            <p:cNvPr id="205" name="Прямая соединительная линия 4"/>
            <p:cNvSpPr/>
            <p:nvPr/>
          </p:nvSpPr>
          <p:spPr>
            <a:xfrm>
              <a:off x="457200" y="160020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Прямая соединительная линия 6"/>
            <p:cNvSpPr/>
            <p:nvPr/>
          </p:nvSpPr>
          <p:spPr>
            <a:xfrm>
              <a:off x="458640" y="2590920"/>
              <a:ext cx="822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Прямая соединительная линия 8"/>
            <p:cNvSpPr/>
            <p:nvPr/>
          </p:nvSpPr>
          <p:spPr>
            <a:xfrm flipV="1">
              <a:off x="8686800" y="160020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Прямая соединительная линия 11"/>
            <p:cNvSpPr/>
            <p:nvPr/>
          </p:nvSpPr>
          <p:spPr>
            <a:xfrm>
              <a:off x="436680" y="1600200"/>
              <a:ext cx="822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Солнце 34"/>
            <p:cNvSpPr/>
            <p:nvPr/>
          </p:nvSpPr>
          <p:spPr>
            <a:xfrm>
              <a:off x="554040" y="1657080"/>
              <a:ext cx="796680" cy="933840"/>
            </a:xfrm>
            <a:prstGeom prst="sun">
              <a:avLst>
                <a:gd name="adj" fmla="val 25000"/>
              </a:avLst>
            </a:prstGeom>
            <a:solidFill>
              <a:srgbClr val="c0504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Овал 36"/>
            <p:cNvSpPr/>
            <p:nvPr/>
          </p:nvSpPr>
          <p:spPr>
            <a:xfrm>
              <a:off x="1600200" y="1981080"/>
              <a:ext cx="228600" cy="304920"/>
            </a:xfrm>
            <a:prstGeom prst="ellipse">
              <a:avLst/>
            </a:prstGeom>
            <a:solidFill>
              <a:srgbClr val="c0504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" name="Группа 63"/>
            <p:cNvGrpSpPr/>
            <p:nvPr/>
          </p:nvGrpSpPr>
          <p:grpSpPr>
            <a:xfrm>
              <a:off x="2015280" y="1717560"/>
              <a:ext cx="2998800" cy="867960"/>
              <a:chOff x="2015280" y="1717560"/>
              <a:chExt cx="2998800" cy="867960"/>
            </a:xfrm>
          </p:grpSpPr>
          <p:sp>
            <p:nvSpPr>
              <p:cNvPr id="212" name="Прямоугольник 38"/>
              <p:cNvSpPr/>
              <p:nvPr/>
            </p:nvSpPr>
            <p:spPr>
              <a:xfrm>
                <a:off x="2015280" y="1717560"/>
                <a:ext cx="10065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800" spc="-1" strike="noStrike">
                    <a:solidFill>
                      <a:srgbClr val="00b0f0"/>
                    </a:solidFill>
                    <a:latin typeface="Arial"/>
                  </a:rPr>
                  <a:t>УП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Овал 40"/>
              <p:cNvSpPr/>
              <p:nvPr/>
            </p:nvSpPr>
            <p:spPr>
              <a:xfrm>
                <a:off x="3031920" y="1981080"/>
                <a:ext cx="409320" cy="304920"/>
              </a:xfrm>
              <a:prstGeom prst="ellipse">
                <a:avLst/>
              </a:prstGeom>
              <a:solidFill>
                <a:srgbClr val="c0504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Прямоугольник 41"/>
              <p:cNvSpPr/>
              <p:nvPr/>
            </p:nvSpPr>
            <p:spPr>
              <a:xfrm>
                <a:off x="3531960" y="1760400"/>
                <a:ext cx="14821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800" spc="-1" strike="noStrike">
                    <a:solidFill>
                      <a:srgbClr val="00b0f0"/>
                    </a:solidFill>
                    <a:latin typeface="Arial"/>
                  </a:rPr>
                  <a:t>УВМ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" name="Овал 42"/>
            <p:cNvSpPr/>
            <p:nvPr/>
          </p:nvSpPr>
          <p:spPr>
            <a:xfrm>
              <a:off x="5029200" y="1981080"/>
              <a:ext cx="380880" cy="304920"/>
            </a:xfrm>
            <a:prstGeom prst="ellipse">
              <a:avLst/>
            </a:prstGeom>
            <a:solidFill>
              <a:srgbClr val="c0504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Прямоугольник 44"/>
            <p:cNvSpPr/>
            <p:nvPr/>
          </p:nvSpPr>
          <p:spPr>
            <a:xfrm>
              <a:off x="5445360" y="1670040"/>
              <a:ext cx="96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t=+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Прямоугольник 46"/>
            <p:cNvSpPr/>
            <p:nvPr/>
          </p:nvSpPr>
          <p:spPr>
            <a:xfrm>
              <a:off x="5410080" y="2055960"/>
              <a:ext cx="89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0c0"/>
                  </a:solidFill>
                  <a:latin typeface="Arial"/>
                </a:rPr>
                <a:t>t=-2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Прямоугольник 48"/>
            <p:cNvSpPr/>
            <p:nvPr/>
          </p:nvSpPr>
          <p:spPr>
            <a:xfrm>
              <a:off x="6417360" y="1811160"/>
              <a:ext cx="90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c00000"/>
                  </a:solidFill>
                  <a:latin typeface="Arial"/>
                </a:rPr>
                <a:t>А=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Овал 50"/>
            <p:cNvSpPr/>
            <p:nvPr/>
          </p:nvSpPr>
          <p:spPr>
            <a:xfrm>
              <a:off x="7323120" y="1981080"/>
              <a:ext cx="334800" cy="304920"/>
            </a:xfrm>
            <a:prstGeom prst="ellipse">
              <a:avLst/>
            </a:prstGeom>
            <a:solidFill>
              <a:srgbClr val="c0504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Облако 52"/>
            <p:cNvSpPr/>
            <p:nvPr/>
          </p:nvSpPr>
          <p:spPr>
            <a:xfrm>
              <a:off x="7734240" y="1676160"/>
              <a:ext cx="952200" cy="762120"/>
            </a:xfrm>
            <a:custGeom>
              <a:avLst/>
              <a:gdLst>
                <a:gd name="textAreaLeft" fmla="*/ 131040 w 952200"/>
                <a:gd name="textAreaRight" fmla="*/ 753480 w 952200"/>
                <a:gd name="textAreaTop" fmla="*/ 114840 h 762120"/>
                <a:gd name="textAreaBottom" fmla="*/ 611640 h 762120"/>
              </a:gdLst>
              <a:ahLst/>
              <a:rect l="textAreaLeft" t="textAreaTop" r="textAreaRight" b="textAreaBottom"/>
              <a:pathLst>
                <a:path w="43200" h="43200">
                  <a:moveTo>
                    <a:pt x="3900" y="14370"/>
                  </a:moveTo>
                  <a:lnTo>
                    <a:pt x="3900" y="14370"/>
                  </a:lnTo>
                  <a:arcTo wR="6753" hR="9190" stAng="10170548" swAng="7427171"/>
                  <a:lnTo>
                    <a:pt x="14005" y="5202"/>
                  </a:lnTo>
                  <a:arcTo wR="5333" hR="7267" stAng="-8646226" swAng="5396752"/>
                  <a:lnTo>
                    <a:pt x="22456" y="3432"/>
                  </a:lnTo>
                  <a:arcTo wR="4365" hR="5945" stAng="-8748310" swAng="5983216"/>
                  <a:lnTo>
                    <a:pt x="29833" y="2481"/>
                  </a:lnTo>
                  <a:arcTo wR="4857" hR="6595" stAng="-7859247" swAng="7034694"/>
                  <a:lnTo>
                    <a:pt x="38318" y="5576"/>
                  </a:lnTo>
                  <a:arcTo wR="5333" hR="7273" stAng="-4722629" swAng="6541720"/>
                  <a:lnTo>
                    <a:pt x="41818" y="15460"/>
                  </a:lnTo>
                  <a:arcTo wR="6775" hR="9220" stAng="-2776007" swAng="7816113"/>
                  <a:lnTo>
                    <a:pt x="37404" y="30203"/>
                  </a:lnTo>
                  <a:arcTo wR="5785" hR="7867" stAng="37436" swAng="6841911"/>
                  <a:lnTo>
                    <a:pt x="28556" y="36813"/>
                  </a:lnTo>
                  <a:arcTo wR="6752" hR="9215" stAng="1346980" swAng="6910786"/>
                  <a:lnTo>
                    <a:pt x="16480" y="39264"/>
                  </a:lnTo>
                  <a:arcTo wR="7720" hR="10543" stAng="3974661" swAng="4542738"/>
                  <a:lnTo>
                    <a:pt x="5804" y="35470"/>
                  </a:lnTo>
                  <a:arcTo wR="4360" hR="5918" stAng="5103633" swAng="8804007"/>
                  <a:lnTo>
                    <a:pt x="2113" y="25548"/>
                  </a:lnTo>
                  <a:arcTo wR="4345" hR="5945" stAng="6790459" swAng="9150775"/>
                  <a:close/>
                </a:path>
                <a:path fill="none" w="43200" h="43200">
                  <a:moveTo>
                    <a:pt x="4693" y="26177"/>
                  </a:moveTo>
                  <a:lnTo>
                    <a:pt x="4693" y="26177"/>
                  </a:lnTo>
                  <a:arcTo wR="4345" hR="5945" stAng="5204745" swAng="1585714"/>
                  <a:moveTo>
                    <a:pt x="6928" y="34899"/>
                  </a:moveTo>
                  <a:lnTo>
                    <a:pt x="6928" y="34899"/>
                  </a:lnTo>
                  <a:arcTo wR="4360" hR="5918" stAng="4416323" swAng="686679"/>
                  <a:moveTo>
                    <a:pt x="16478" y="39090"/>
                  </a:moveTo>
                  <a:lnTo>
                    <a:pt x="16478" y="39090"/>
                  </a:lnTo>
                  <a:arcTo wR="6752" hR="9215" stAng="8257461" swAng="844950"/>
                  <a:moveTo>
                    <a:pt x="28827" y="34751"/>
                  </a:moveTo>
                  <a:lnTo>
                    <a:pt x="28827" y="34751"/>
                  </a:lnTo>
                  <a:arcTo wR="6752" hR="9215" stAng="387139" swAng="959841"/>
                  <a:moveTo>
                    <a:pt x="34129" y="22954"/>
                  </a:moveTo>
                  <a:lnTo>
                    <a:pt x="34129" y="22954"/>
                  </a:lnTo>
                  <a:arcTo wR="5785" hR="7867" stAng="-4217785" swAng="4255228"/>
                  <a:moveTo>
                    <a:pt x="41798" y="15354"/>
                  </a:moveTo>
                  <a:lnTo>
                    <a:pt x="41798" y="15354"/>
                  </a:lnTo>
                  <a:arcTo wR="5333" hR="7273" stAng="1819091" swAng="1665385"/>
                  <a:moveTo>
                    <a:pt x="38324" y="5426"/>
                  </a:moveTo>
                  <a:lnTo>
                    <a:pt x="38324" y="5426"/>
                  </a:lnTo>
                  <a:arcTo wR="4857" hR="6595" stAng="-824553" swAng="891799"/>
                  <a:moveTo>
                    <a:pt x="29078" y="3952"/>
                  </a:moveTo>
                  <a:lnTo>
                    <a:pt x="29078" y="3952"/>
                  </a:lnTo>
                  <a:arcTo wR="4857" hR="6595" stAng="-8950828" swAng="1091979"/>
                  <a:moveTo>
                    <a:pt x="22141" y="4720"/>
                  </a:moveTo>
                  <a:lnTo>
                    <a:pt x="22141" y="4720"/>
                  </a:lnTo>
                  <a:arcTo wR="4365" hR="5945" stAng="-9809519" swAng="1061209"/>
                  <a:moveTo>
                    <a:pt x="14000" y="5192"/>
                  </a:moveTo>
                  <a:lnTo>
                    <a:pt x="14000" y="5192"/>
                  </a:lnTo>
                  <a:arcTo wR="6753" hR="9190" stAng="-4002280" swAng="739132"/>
                  <a:moveTo>
                    <a:pt x="4127" y="15789"/>
                  </a:moveTo>
                  <a:lnTo>
                    <a:pt x="4127" y="15789"/>
                  </a:lnTo>
                  <a:arcTo wR="6753" hR="9190" stAng="9459493" swAng="711644"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Прямоугольник 55"/>
          <p:cNvSpPr/>
          <p:nvPr/>
        </p:nvSpPr>
        <p:spPr>
          <a:xfrm>
            <a:off x="7866360" y="183204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Группа 89"/>
          <p:cNvGrpSpPr/>
          <p:nvPr/>
        </p:nvGrpSpPr>
        <p:grpSpPr>
          <a:xfrm>
            <a:off x="6629400" y="2819520"/>
            <a:ext cx="2095560" cy="2057400"/>
            <a:chOff x="6629400" y="2819520"/>
            <a:chExt cx="2095560" cy="2057400"/>
          </a:xfrm>
        </p:grpSpPr>
        <p:sp>
          <p:nvSpPr>
            <p:cNvPr id="223" name="Прямая соединительная линия 37"/>
            <p:cNvSpPr/>
            <p:nvPr/>
          </p:nvSpPr>
          <p:spPr>
            <a:xfrm>
              <a:off x="8676000" y="281952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Прямоугольник 56"/>
            <p:cNvSpPr/>
            <p:nvPr/>
          </p:nvSpPr>
          <p:spPr>
            <a:xfrm>
              <a:off x="6629400" y="2819520"/>
              <a:ext cx="209556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Почва  дёрно-  подзолистая, неплодородная. Растут: пихта, кедр, сибирская сосна, ел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Прямоугольник 57"/>
          <p:cNvSpPr/>
          <p:nvPr/>
        </p:nvSpPr>
        <p:spPr>
          <a:xfrm>
            <a:off x="457200" y="5033880"/>
            <a:ext cx="375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итают: рысь, росомаха, бурундук, соболь, бел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ая соединительная линия 59"/>
          <p:cNvSpPr/>
          <p:nvPr/>
        </p:nvSpPr>
        <p:spPr>
          <a:xfrm>
            <a:off x="3505320" y="50292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60"/>
          <p:cNvSpPr/>
          <p:nvPr/>
        </p:nvSpPr>
        <p:spPr>
          <a:xfrm>
            <a:off x="3505320" y="5010120"/>
            <a:ext cx="4572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се они приспособились к суровому климату с помощью толстого меха, и многие из обитателей хищники, т.к там мало пищи для травояд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61"/>
          <p:cNvSpPr/>
          <p:nvPr/>
        </p:nvSpPr>
        <p:spPr>
          <a:xfrm>
            <a:off x="449280" y="2719440"/>
            <a:ext cx="12193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бывают древесину, охотятся, используется в сельском хозяйств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Группа 88"/>
          <p:cNvGrpSpPr/>
          <p:nvPr/>
        </p:nvGrpSpPr>
        <p:grpSpPr>
          <a:xfrm>
            <a:off x="2514240" y="3352680"/>
            <a:ext cx="457560" cy="916200"/>
            <a:chOff x="2514240" y="3352680"/>
            <a:chExt cx="457560" cy="916200"/>
          </a:xfrm>
        </p:grpSpPr>
        <p:sp>
          <p:nvSpPr>
            <p:cNvPr id="230" name="Прямая соединительная линия 73"/>
            <p:cNvSpPr/>
            <p:nvPr/>
          </p:nvSpPr>
          <p:spPr>
            <a:xfrm flipH="1">
              <a:off x="2741760" y="3354120"/>
              <a:ext cx="2880" cy="913320"/>
            </a:xfrm>
            <a:prstGeom prst="line">
              <a:avLst/>
            </a:prstGeom>
            <a:ln w="9360">
              <a:solidFill>
                <a:srgbClr val="006c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Прямая соединительная линия 75"/>
            <p:cNvSpPr/>
            <p:nvPr/>
          </p:nvSpPr>
          <p:spPr>
            <a:xfrm>
              <a:off x="2743200" y="4267440"/>
              <a:ext cx="228600" cy="1440"/>
            </a:xfrm>
            <a:prstGeom prst="line">
              <a:avLst/>
            </a:prstGeom>
            <a:ln w="9360">
              <a:solidFill>
                <a:srgbClr val="006c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Прямая соединительная линия 77"/>
            <p:cNvSpPr/>
            <p:nvPr/>
          </p:nvSpPr>
          <p:spPr>
            <a:xfrm>
              <a:off x="2742480" y="3352680"/>
              <a:ext cx="228600" cy="304920"/>
            </a:xfrm>
            <a:prstGeom prst="line">
              <a:avLst/>
            </a:prstGeom>
            <a:ln w="9360">
              <a:solidFill>
                <a:srgbClr val="006c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Прямая соединительная линия 79"/>
            <p:cNvSpPr/>
            <p:nvPr/>
          </p:nvSpPr>
          <p:spPr>
            <a:xfrm flipH="1">
              <a:off x="2514240" y="3352680"/>
              <a:ext cx="228600" cy="304920"/>
            </a:xfrm>
            <a:prstGeom prst="line">
              <a:avLst/>
            </a:prstGeom>
            <a:ln w="9360">
              <a:solidFill>
                <a:srgbClr val="006c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Прямая соединительная линия 81"/>
            <p:cNvSpPr/>
            <p:nvPr/>
          </p:nvSpPr>
          <p:spPr>
            <a:xfrm>
              <a:off x="2742480" y="3657600"/>
              <a:ext cx="228600" cy="304920"/>
            </a:xfrm>
            <a:prstGeom prst="line">
              <a:avLst/>
            </a:prstGeom>
            <a:ln w="9360">
              <a:solidFill>
                <a:srgbClr val="006c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Прямая соединительная линия 83"/>
            <p:cNvSpPr/>
            <p:nvPr/>
          </p:nvSpPr>
          <p:spPr>
            <a:xfrm flipH="1">
              <a:off x="2514240" y="3657600"/>
              <a:ext cx="228600" cy="304920"/>
            </a:xfrm>
            <a:prstGeom prst="line">
              <a:avLst/>
            </a:prstGeom>
            <a:ln w="9360">
              <a:solidFill>
                <a:srgbClr val="006c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Прямая соединительная линия 85"/>
            <p:cNvSpPr/>
            <p:nvPr/>
          </p:nvSpPr>
          <p:spPr>
            <a:xfrm>
              <a:off x="2742480" y="3962520"/>
              <a:ext cx="152280" cy="228600"/>
            </a:xfrm>
            <a:prstGeom prst="line">
              <a:avLst/>
            </a:prstGeom>
            <a:ln w="9360">
              <a:solidFill>
                <a:srgbClr val="006c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Прямая соединительная линия 87"/>
            <p:cNvSpPr/>
            <p:nvPr/>
          </p:nvSpPr>
          <p:spPr>
            <a:xfrm flipH="1">
              <a:off x="2590200" y="3962520"/>
              <a:ext cx="152280" cy="228600"/>
            </a:xfrm>
            <a:prstGeom prst="line">
              <a:avLst/>
            </a:prstGeom>
            <a:ln w="9360">
              <a:solidFill>
                <a:srgbClr val="006c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Овал 92"/>
          <p:cNvSpPr/>
          <p:nvPr/>
        </p:nvSpPr>
        <p:spPr>
          <a:xfrm rot="19891800">
            <a:off x="3894120" y="3978360"/>
            <a:ext cx="762120" cy="2286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олилиния 61"/>
          <p:cNvSpPr/>
          <p:nvPr/>
        </p:nvSpPr>
        <p:spPr>
          <a:xfrm>
            <a:off x="4286160" y="4224240"/>
            <a:ext cx="657360" cy="397080"/>
          </a:xfrm>
          <a:custGeom>
            <a:avLst/>
            <a:gdLst/>
            <a:ahLst/>
            <a:rect l="l" t="t" r="r" b="b"/>
            <a:pathLst>
              <a:path w="657479" h="397172">
                <a:moveTo>
                  <a:pt x="28887" y="347223"/>
                </a:moveTo>
                <a:cubicBezTo>
                  <a:pt x="41472" y="208790"/>
                  <a:pt x="0" y="212092"/>
                  <a:pt x="118097" y="235711"/>
                </a:cubicBezTo>
                <a:cubicBezTo>
                  <a:pt x="129623" y="238016"/>
                  <a:pt x="140399" y="243145"/>
                  <a:pt x="151550" y="246862"/>
                </a:cubicBezTo>
                <a:cubicBezTo>
                  <a:pt x="166418" y="243145"/>
                  <a:pt x="181475" y="240115"/>
                  <a:pt x="196155" y="235711"/>
                </a:cubicBezTo>
                <a:cubicBezTo>
                  <a:pt x="218673" y="228956"/>
                  <a:pt x="239650" y="215536"/>
                  <a:pt x="263063" y="213408"/>
                </a:cubicBezTo>
                <a:lnTo>
                  <a:pt x="385726" y="202257"/>
                </a:lnTo>
                <a:cubicBezTo>
                  <a:pt x="412266" y="122635"/>
                  <a:pt x="394988" y="154910"/>
                  <a:pt x="430331" y="101896"/>
                </a:cubicBezTo>
                <a:cubicBezTo>
                  <a:pt x="434048" y="87028"/>
                  <a:pt x="432981" y="70043"/>
                  <a:pt x="441482" y="57291"/>
                </a:cubicBezTo>
                <a:cubicBezTo>
                  <a:pt x="448916" y="46140"/>
                  <a:pt x="464471" y="43361"/>
                  <a:pt x="474936" y="34989"/>
                </a:cubicBezTo>
                <a:cubicBezTo>
                  <a:pt x="518672" y="0"/>
                  <a:pt x="472593" y="20901"/>
                  <a:pt x="530692" y="1535"/>
                </a:cubicBezTo>
                <a:cubicBezTo>
                  <a:pt x="538126" y="8969"/>
                  <a:pt x="544784" y="17270"/>
                  <a:pt x="552994" y="23838"/>
                </a:cubicBezTo>
                <a:cubicBezTo>
                  <a:pt x="563459" y="32210"/>
                  <a:pt x="579345" y="34775"/>
                  <a:pt x="586448" y="46140"/>
                </a:cubicBezTo>
                <a:cubicBezTo>
                  <a:pt x="598908" y="66075"/>
                  <a:pt x="608750" y="113047"/>
                  <a:pt x="608750" y="113047"/>
                </a:cubicBezTo>
                <a:cubicBezTo>
                  <a:pt x="612467" y="139067"/>
                  <a:pt x="616642" y="165025"/>
                  <a:pt x="619902" y="191106"/>
                </a:cubicBezTo>
                <a:cubicBezTo>
                  <a:pt x="624077" y="224506"/>
                  <a:pt x="622890" y="258812"/>
                  <a:pt x="631053" y="291467"/>
                </a:cubicBezTo>
                <a:cubicBezTo>
                  <a:pt x="657479" y="397172"/>
                  <a:pt x="653355" y="274873"/>
                  <a:pt x="653355" y="347223"/>
                </a:cubicBezTo>
              </a:path>
            </a:pathLst>
          </a:custGeom>
          <a:solidFill>
            <a:srgbClr val="c0504d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олилиния 62"/>
          <p:cNvSpPr/>
          <p:nvPr/>
        </p:nvSpPr>
        <p:spPr>
          <a:xfrm>
            <a:off x="3551400" y="3033720"/>
            <a:ext cx="1823760" cy="1571760"/>
          </a:xfrm>
          <a:custGeom>
            <a:avLst/>
            <a:gdLst/>
            <a:ahLst/>
            <a:rect l="l" t="t" r="r" b="b"/>
            <a:pathLst>
              <a:path w="1823672" h="1572322">
                <a:moveTo>
                  <a:pt x="17174" y="1159727"/>
                </a:moveTo>
                <a:cubicBezTo>
                  <a:pt x="74712" y="1274798"/>
                  <a:pt x="0" y="1113627"/>
                  <a:pt x="50628" y="1282390"/>
                </a:cubicBezTo>
                <a:cubicBezTo>
                  <a:pt x="56657" y="1302489"/>
                  <a:pt x="80793" y="1323707"/>
                  <a:pt x="95233" y="1338146"/>
                </a:cubicBezTo>
                <a:cubicBezTo>
                  <a:pt x="98950" y="1360448"/>
                  <a:pt x="98445" y="1383883"/>
                  <a:pt x="106384" y="1405053"/>
                </a:cubicBezTo>
                <a:cubicBezTo>
                  <a:pt x="110075" y="1414897"/>
                  <a:pt x="123984" y="1417952"/>
                  <a:pt x="128686" y="1427356"/>
                </a:cubicBezTo>
                <a:cubicBezTo>
                  <a:pt x="128691" y="1427366"/>
                  <a:pt x="156563" y="1510985"/>
                  <a:pt x="162140" y="1527717"/>
                </a:cubicBezTo>
                <a:cubicBezTo>
                  <a:pt x="165857" y="1538868"/>
                  <a:pt x="162140" y="1557453"/>
                  <a:pt x="173291" y="1561170"/>
                </a:cubicBezTo>
                <a:lnTo>
                  <a:pt x="206745" y="1572322"/>
                </a:lnTo>
                <a:cubicBezTo>
                  <a:pt x="292238" y="1568605"/>
                  <a:pt x="377902" y="1567733"/>
                  <a:pt x="463223" y="1561170"/>
                </a:cubicBezTo>
                <a:cubicBezTo>
                  <a:pt x="474943" y="1560268"/>
                  <a:pt x="485059" y="1551806"/>
                  <a:pt x="496677" y="1550019"/>
                </a:cubicBezTo>
                <a:cubicBezTo>
                  <a:pt x="533599" y="1544339"/>
                  <a:pt x="571018" y="1542585"/>
                  <a:pt x="608189" y="1538868"/>
                </a:cubicBezTo>
                <a:cubicBezTo>
                  <a:pt x="747634" y="1504008"/>
                  <a:pt x="574263" y="1538868"/>
                  <a:pt x="686247" y="1538868"/>
                </a:cubicBezTo>
                <a:cubicBezTo>
                  <a:pt x="708857" y="1538868"/>
                  <a:pt x="730852" y="1531434"/>
                  <a:pt x="753155" y="1527717"/>
                </a:cubicBezTo>
                <a:cubicBezTo>
                  <a:pt x="756872" y="1512849"/>
                  <a:pt x="760096" y="1497848"/>
                  <a:pt x="764306" y="1483112"/>
                </a:cubicBezTo>
                <a:cubicBezTo>
                  <a:pt x="784900" y="1411030"/>
                  <a:pt x="776114" y="1449598"/>
                  <a:pt x="898121" y="1438507"/>
                </a:cubicBezTo>
                <a:cubicBezTo>
                  <a:pt x="973703" y="1413313"/>
                  <a:pt x="881490" y="1441834"/>
                  <a:pt x="1009633" y="1416205"/>
                </a:cubicBezTo>
                <a:cubicBezTo>
                  <a:pt x="1021159" y="1413900"/>
                  <a:pt x="1031683" y="1407904"/>
                  <a:pt x="1043086" y="1405053"/>
                </a:cubicBezTo>
                <a:cubicBezTo>
                  <a:pt x="1061474" y="1400456"/>
                  <a:pt x="1080257" y="1397619"/>
                  <a:pt x="1098843" y="1393902"/>
                </a:cubicBezTo>
                <a:cubicBezTo>
                  <a:pt x="1106277" y="1382751"/>
                  <a:pt x="1111668" y="1369925"/>
                  <a:pt x="1121145" y="1360448"/>
                </a:cubicBezTo>
                <a:cubicBezTo>
                  <a:pt x="1130622" y="1350971"/>
                  <a:pt x="1147496" y="1349511"/>
                  <a:pt x="1154599" y="1338146"/>
                </a:cubicBezTo>
                <a:cubicBezTo>
                  <a:pt x="1187583" y="1285373"/>
                  <a:pt x="1156988" y="1277080"/>
                  <a:pt x="1199204" y="1248936"/>
                </a:cubicBezTo>
                <a:cubicBezTo>
                  <a:pt x="1213035" y="1239715"/>
                  <a:pt x="1228940" y="1234068"/>
                  <a:pt x="1243808" y="1226634"/>
                </a:cubicBezTo>
                <a:cubicBezTo>
                  <a:pt x="1251242" y="1234068"/>
                  <a:pt x="1257901" y="1242368"/>
                  <a:pt x="1266111" y="1248936"/>
                </a:cubicBezTo>
                <a:cubicBezTo>
                  <a:pt x="1276576" y="1257308"/>
                  <a:pt x="1292461" y="1259874"/>
                  <a:pt x="1299564" y="1271239"/>
                </a:cubicBezTo>
                <a:cubicBezTo>
                  <a:pt x="1312024" y="1291174"/>
                  <a:pt x="1308827" y="1318585"/>
                  <a:pt x="1321867" y="1338146"/>
                </a:cubicBezTo>
                <a:cubicBezTo>
                  <a:pt x="1350689" y="1381380"/>
                  <a:pt x="1339931" y="1358886"/>
                  <a:pt x="1355321" y="1405053"/>
                </a:cubicBezTo>
                <a:cubicBezTo>
                  <a:pt x="1359038" y="1427356"/>
                  <a:pt x="1361567" y="1449889"/>
                  <a:pt x="1366472" y="1471961"/>
                </a:cubicBezTo>
                <a:cubicBezTo>
                  <a:pt x="1369022" y="1483435"/>
                  <a:pt x="1369312" y="1497103"/>
                  <a:pt x="1377623" y="1505414"/>
                </a:cubicBezTo>
                <a:cubicBezTo>
                  <a:pt x="1385935" y="1513726"/>
                  <a:pt x="1399926" y="1512849"/>
                  <a:pt x="1411077" y="1516566"/>
                </a:cubicBezTo>
                <a:cubicBezTo>
                  <a:pt x="1422228" y="1512849"/>
                  <a:pt x="1432879" y="1506968"/>
                  <a:pt x="1444530" y="1505414"/>
                </a:cubicBezTo>
                <a:cubicBezTo>
                  <a:pt x="1488897" y="1499498"/>
                  <a:pt x="1534455" y="1503041"/>
                  <a:pt x="1578345" y="1494263"/>
                </a:cubicBezTo>
                <a:cubicBezTo>
                  <a:pt x="1591487" y="1491635"/>
                  <a:pt x="1601623" y="1480683"/>
                  <a:pt x="1611799" y="1471961"/>
                </a:cubicBezTo>
                <a:cubicBezTo>
                  <a:pt x="1627764" y="1458277"/>
                  <a:pt x="1656404" y="1427356"/>
                  <a:pt x="1656404" y="1427356"/>
                </a:cubicBezTo>
                <a:cubicBezTo>
                  <a:pt x="1681977" y="1350634"/>
                  <a:pt x="1656404" y="1443394"/>
                  <a:pt x="1656404" y="1304692"/>
                </a:cubicBezTo>
                <a:cubicBezTo>
                  <a:pt x="1656404" y="1259933"/>
                  <a:pt x="1661640" y="1215245"/>
                  <a:pt x="1667555" y="1170878"/>
                </a:cubicBezTo>
                <a:cubicBezTo>
                  <a:pt x="1672651" y="1132658"/>
                  <a:pt x="1683922" y="1138142"/>
                  <a:pt x="1701008" y="1103970"/>
                </a:cubicBezTo>
                <a:cubicBezTo>
                  <a:pt x="1706265" y="1093457"/>
                  <a:pt x="1708443" y="1081668"/>
                  <a:pt x="1712160" y="1070517"/>
                </a:cubicBezTo>
                <a:cubicBezTo>
                  <a:pt x="1715877" y="947854"/>
                  <a:pt x="1713899" y="824885"/>
                  <a:pt x="1723311" y="702527"/>
                </a:cubicBezTo>
                <a:cubicBezTo>
                  <a:pt x="1725114" y="679087"/>
                  <a:pt x="1728989" y="652242"/>
                  <a:pt x="1745613" y="635619"/>
                </a:cubicBezTo>
                <a:lnTo>
                  <a:pt x="1767916" y="613317"/>
                </a:lnTo>
                <a:cubicBezTo>
                  <a:pt x="1771633" y="512956"/>
                  <a:pt x="1772802" y="412468"/>
                  <a:pt x="1779067" y="312234"/>
                </a:cubicBezTo>
                <a:cubicBezTo>
                  <a:pt x="1781492" y="273434"/>
                  <a:pt x="1800766" y="224833"/>
                  <a:pt x="1812521" y="189570"/>
                </a:cubicBezTo>
                <a:lnTo>
                  <a:pt x="1823672" y="156117"/>
                </a:lnTo>
                <a:cubicBezTo>
                  <a:pt x="1819955" y="126380"/>
                  <a:pt x="1821132" y="95611"/>
                  <a:pt x="1812521" y="66907"/>
                </a:cubicBezTo>
                <a:cubicBezTo>
                  <a:pt x="1804731" y="40941"/>
                  <a:pt x="1763463" y="36699"/>
                  <a:pt x="1745613" y="33453"/>
                </a:cubicBezTo>
                <a:cubicBezTo>
                  <a:pt x="1719753" y="28751"/>
                  <a:pt x="1693415" y="27004"/>
                  <a:pt x="1667555" y="22302"/>
                </a:cubicBezTo>
                <a:cubicBezTo>
                  <a:pt x="1636750" y="16701"/>
                  <a:pt x="1618159" y="9554"/>
                  <a:pt x="1589496" y="0"/>
                </a:cubicBezTo>
                <a:cubicBezTo>
                  <a:pt x="1318485" y="27101"/>
                  <a:pt x="1638150" y="0"/>
                  <a:pt x="1109994" y="0"/>
                </a:cubicBezTo>
                <a:cubicBezTo>
                  <a:pt x="1009564" y="0"/>
                  <a:pt x="909272" y="7434"/>
                  <a:pt x="808911" y="11151"/>
                </a:cubicBezTo>
                <a:cubicBezTo>
                  <a:pt x="790326" y="14868"/>
                  <a:pt x="766557" y="8900"/>
                  <a:pt x="753155" y="22302"/>
                </a:cubicBezTo>
                <a:cubicBezTo>
                  <a:pt x="726243" y="49214"/>
                  <a:pt x="744356" y="85114"/>
                  <a:pt x="753155" y="111512"/>
                </a:cubicBezTo>
                <a:cubicBezTo>
                  <a:pt x="756872" y="163551"/>
                  <a:pt x="752357" y="216844"/>
                  <a:pt x="764306" y="267629"/>
                </a:cubicBezTo>
                <a:cubicBezTo>
                  <a:pt x="767918" y="282980"/>
                  <a:pt x="787664" y="288968"/>
                  <a:pt x="797760" y="301083"/>
                </a:cubicBezTo>
                <a:cubicBezTo>
                  <a:pt x="844224" y="356839"/>
                  <a:pt x="792183" y="315950"/>
                  <a:pt x="853516" y="356839"/>
                </a:cubicBezTo>
                <a:cubicBezTo>
                  <a:pt x="884440" y="449612"/>
                  <a:pt x="837375" y="301768"/>
                  <a:pt x="875818" y="468351"/>
                </a:cubicBezTo>
                <a:cubicBezTo>
                  <a:pt x="909265" y="613287"/>
                  <a:pt x="886974" y="479517"/>
                  <a:pt x="909272" y="568712"/>
                </a:cubicBezTo>
                <a:cubicBezTo>
                  <a:pt x="923274" y="624720"/>
                  <a:pt x="915577" y="598778"/>
                  <a:pt x="931574" y="646770"/>
                </a:cubicBezTo>
                <a:cubicBezTo>
                  <a:pt x="940916" y="702824"/>
                  <a:pt x="949382" y="759279"/>
                  <a:pt x="965028" y="814039"/>
                </a:cubicBezTo>
                <a:cubicBezTo>
                  <a:pt x="968257" y="825341"/>
                  <a:pt x="967001" y="840149"/>
                  <a:pt x="976179" y="847492"/>
                </a:cubicBezTo>
                <a:cubicBezTo>
                  <a:pt x="988147" y="857066"/>
                  <a:pt x="1006048" y="854434"/>
                  <a:pt x="1020784" y="858644"/>
                </a:cubicBezTo>
                <a:cubicBezTo>
                  <a:pt x="1032086" y="861873"/>
                  <a:pt x="1043087" y="866078"/>
                  <a:pt x="1054238" y="869795"/>
                </a:cubicBezTo>
                <a:cubicBezTo>
                  <a:pt x="1055930" y="870923"/>
                  <a:pt x="1109994" y="903807"/>
                  <a:pt x="1109994" y="914400"/>
                </a:cubicBezTo>
                <a:cubicBezTo>
                  <a:pt x="1109994" y="928464"/>
                  <a:pt x="1075096" y="960448"/>
                  <a:pt x="1065389" y="970156"/>
                </a:cubicBezTo>
                <a:cubicBezTo>
                  <a:pt x="1046023" y="1028253"/>
                  <a:pt x="1066923" y="982176"/>
                  <a:pt x="1031935" y="1025912"/>
                </a:cubicBezTo>
                <a:cubicBezTo>
                  <a:pt x="1021428" y="1039046"/>
                  <a:pt x="1005283" y="1072692"/>
                  <a:pt x="987330" y="1081668"/>
                </a:cubicBezTo>
                <a:cubicBezTo>
                  <a:pt x="949604" y="1100530"/>
                  <a:pt x="905451" y="1106965"/>
                  <a:pt x="864667" y="1115122"/>
                </a:cubicBezTo>
                <a:cubicBezTo>
                  <a:pt x="857233" y="1122556"/>
                  <a:pt x="848672" y="1129013"/>
                  <a:pt x="842364" y="1137424"/>
                </a:cubicBezTo>
                <a:cubicBezTo>
                  <a:pt x="815606" y="1173101"/>
                  <a:pt x="807426" y="1201059"/>
                  <a:pt x="775457" y="1226634"/>
                </a:cubicBezTo>
                <a:cubicBezTo>
                  <a:pt x="764992" y="1235006"/>
                  <a:pt x="754718" y="1244698"/>
                  <a:pt x="742004" y="1248936"/>
                </a:cubicBezTo>
                <a:cubicBezTo>
                  <a:pt x="720554" y="1256086"/>
                  <a:pt x="697168" y="1255183"/>
                  <a:pt x="675096" y="1260088"/>
                </a:cubicBezTo>
                <a:cubicBezTo>
                  <a:pt x="663622" y="1262638"/>
                  <a:pt x="652794" y="1267522"/>
                  <a:pt x="641643" y="1271239"/>
                </a:cubicBezTo>
                <a:cubicBezTo>
                  <a:pt x="571018" y="1267522"/>
                  <a:pt x="499781" y="1270090"/>
                  <a:pt x="429769" y="1260088"/>
                </a:cubicBezTo>
                <a:cubicBezTo>
                  <a:pt x="419361" y="1258601"/>
                  <a:pt x="415677" y="1244353"/>
                  <a:pt x="407467" y="1237785"/>
                </a:cubicBezTo>
                <a:cubicBezTo>
                  <a:pt x="397002" y="1229413"/>
                  <a:pt x="384478" y="1223855"/>
                  <a:pt x="374013" y="1215483"/>
                </a:cubicBezTo>
                <a:cubicBezTo>
                  <a:pt x="365803" y="1208915"/>
                  <a:pt x="362044" y="1195118"/>
                  <a:pt x="351711" y="1193180"/>
                </a:cubicBezTo>
                <a:cubicBezTo>
                  <a:pt x="300433" y="1183565"/>
                  <a:pt x="247633" y="1185746"/>
                  <a:pt x="195594" y="1182029"/>
                </a:cubicBezTo>
                <a:cubicBezTo>
                  <a:pt x="173291" y="1178312"/>
                  <a:pt x="150758" y="1175783"/>
                  <a:pt x="128686" y="1170878"/>
                </a:cubicBezTo>
                <a:cubicBezTo>
                  <a:pt x="117212" y="1168328"/>
                  <a:pt x="106987" y="1159727"/>
                  <a:pt x="95233" y="1159727"/>
                </a:cubicBezTo>
                <a:cubicBezTo>
                  <a:pt x="76280" y="1159727"/>
                  <a:pt x="58062" y="1167161"/>
                  <a:pt x="39477" y="1170878"/>
                </a:cubicBezTo>
                <a:cubicBezTo>
                  <a:pt x="21272" y="1225489"/>
                  <a:pt x="28325" y="1192577"/>
                  <a:pt x="28325" y="1271239"/>
                </a:cubicBezTo>
              </a:path>
            </a:pathLst>
          </a:custGeom>
          <a:solidFill>
            <a:srgbClr val="006c31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Облако 95"/>
          <p:cNvSpPr/>
          <p:nvPr/>
        </p:nvSpPr>
        <p:spPr>
          <a:xfrm>
            <a:off x="6934320" y="1600200"/>
            <a:ext cx="1523880" cy="762120"/>
          </a:xfrm>
          <a:custGeom>
            <a:avLst/>
            <a:gdLst>
              <a:gd name="textAreaLeft" fmla="*/ 209880 w 1523880"/>
              <a:gd name="textAreaRight" fmla="*/ 1205640 w 1523880"/>
              <a:gd name="textAreaTop" fmla="*/ 114840 h 762120"/>
              <a:gd name="textAreaBottom" fmla="*/ 611640 h 76212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есостеп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4000" spc="-1" strike="noStrike">
                <a:solidFill>
                  <a:srgbClr val="0070c0"/>
                </a:solidFill>
                <a:latin typeface="Calibri"/>
              </a:rPr>
              <a:t>УП      УВМ     </a:t>
            </a: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t=</a:t>
            </a: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-30</a:t>
            </a: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  </a:t>
            </a: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t=+10   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50</a:t>
            </a: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4" name="Группа 11"/>
          <p:cNvGrpSpPr/>
          <p:nvPr/>
        </p:nvGrpSpPr>
        <p:grpSpPr>
          <a:xfrm>
            <a:off x="455760" y="1600200"/>
            <a:ext cx="8232480" cy="763560"/>
            <a:chOff x="455760" y="1600200"/>
            <a:chExt cx="8232480" cy="763560"/>
          </a:xfrm>
        </p:grpSpPr>
        <p:sp>
          <p:nvSpPr>
            <p:cNvPr id="245" name="Прямая соединительная линия 4"/>
            <p:cNvSpPr/>
            <p:nvPr/>
          </p:nvSpPr>
          <p:spPr>
            <a:xfrm flipH="1">
              <a:off x="455760" y="1601640"/>
              <a:ext cx="1440" cy="76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Прямая соединительная линия 6"/>
            <p:cNvSpPr/>
            <p:nvPr/>
          </p:nvSpPr>
          <p:spPr>
            <a:xfrm>
              <a:off x="457200" y="2362320"/>
              <a:ext cx="8229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Прямая соединительная линия 8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Прямая соединительная линия 10"/>
            <p:cNvSpPr/>
            <p:nvPr/>
          </p:nvSpPr>
          <p:spPr>
            <a:xfrm flipV="1">
              <a:off x="8686800" y="1601280"/>
              <a:ext cx="1440" cy="76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Группа 20"/>
          <p:cNvGrpSpPr/>
          <p:nvPr/>
        </p:nvGrpSpPr>
        <p:grpSpPr>
          <a:xfrm>
            <a:off x="455760" y="2514600"/>
            <a:ext cx="1144440" cy="2363760"/>
            <a:chOff x="455760" y="2514600"/>
            <a:chExt cx="1144440" cy="2363760"/>
          </a:xfrm>
        </p:grpSpPr>
        <p:sp>
          <p:nvSpPr>
            <p:cNvPr id="250" name="Прямая соединительная линия 13"/>
            <p:cNvSpPr/>
            <p:nvPr/>
          </p:nvSpPr>
          <p:spPr>
            <a:xfrm flipH="1">
              <a:off x="455760" y="2516040"/>
              <a:ext cx="1440" cy="157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Прямая соединительная линия 15"/>
            <p:cNvSpPr/>
            <p:nvPr/>
          </p:nvSpPr>
          <p:spPr>
            <a:xfrm>
              <a:off x="457200" y="4038480"/>
              <a:ext cx="1143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Прямая соединительная линия 17"/>
            <p:cNvSpPr/>
            <p:nvPr/>
          </p:nvSpPr>
          <p:spPr>
            <a:xfrm flipH="1">
              <a:off x="1598760" y="2514600"/>
              <a:ext cx="1440" cy="236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Группа 27"/>
          <p:cNvGrpSpPr/>
          <p:nvPr/>
        </p:nvGrpSpPr>
        <p:grpSpPr>
          <a:xfrm>
            <a:off x="6553080" y="2514600"/>
            <a:ext cx="2135160" cy="2440080"/>
            <a:chOff x="6553080" y="2514600"/>
            <a:chExt cx="2135160" cy="2440080"/>
          </a:xfrm>
        </p:grpSpPr>
        <p:sp>
          <p:nvSpPr>
            <p:cNvPr id="254" name="Прямая соединительная линия 22"/>
            <p:cNvSpPr/>
            <p:nvPr/>
          </p:nvSpPr>
          <p:spPr>
            <a:xfrm flipH="1">
              <a:off x="8686800" y="2516040"/>
              <a:ext cx="1440" cy="243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Прямая соединительная линия 24"/>
            <p:cNvSpPr/>
            <p:nvPr/>
          </p:nvSpPr>
          <p:spPr>
            <a:xfrm flipH="1" flipV="1">
              <a:off x="6554160" y="2514600"/>
              <a:ext cx="2132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Прямая соединительная линия 26"/>
            <p:cNvSpPr/>
            <p:nvPr/>
          </p:nvSpPr>
          <p:spPr>
            <a:xfrm flipH="1">
              <a:off x="6553080" y="2516040"/>
              <a:ext cx="1440" cy="236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Группа 36"/>
          <p:cNvGrpSpPr/>
          <p:nvPr/>
        </p:nvGrpSpPr>
        <p:grpSpPr>
          <a:xfrm>
            <a:off x="457200" y="5181480"/>
            <a:ext cx="8231040" cy="1449360"/>
            <a:chOff x="457200" y="5181480"/>
            <a:chExt cx="8231040" cy="1449360"/>
          </a:xfrm>
        </p:grpSpPr>
        <p:sp>
          <p:nvSpPr>
            <p:cNvPr id="258" name="Прямая соединительная линия 29"/>
            <p:cNvSpPr/>
            <p:nvPr/>
          </p:nvSpPr>
          <p:spPr>
            <a:xfrm flipH="1">
              <a:off x="457200" y="5182920"/>
              <a:ext cx="1440" cy="144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Прямая соединительная линия 31"/>
            <p:cNvSpPr/>
            <p:nvPr/>
          </p:nvSpPr>
          <p:spPr>
            <a:xfrm>
              <a:off x="458640" y="5181480"/>
              <a:ext cx="8228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Прямая соединительная линия 33"/>
            <p:cNvSpPr/>
            <p:nvPr/>
          </p:nvSpPr>
          <p:spPr>
            <a:xfrm>
              <a:off x="458640" y="6629400"/>
              <a:ext cx="8228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Прямая соединительная линия 35"/>
            <p:cNvSpPr/>
            <p:nvPr/>
          </p:nvSpPr>
          <p:spPr>
            <a:xfrm flipV="1">
              <a:off x="8686800" y="5182920"/>
              <a:ext cx="1440" cy="144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Группа 37"/>
          <p:cNvGrpSpPr/>
          <p:nvPr/>
        </p:nvGrpSpPr>
        <p:grpSpPr>
          <a:xfrm>
            <a:off x="3581280" y="3048120"/>
            <a:ext cx="1828800" cy="1523880"/>
            <a:chOff x="3581280" y="3048120"/>
            <a:chExt cx="1828800" cy="1523880"/>
          </a:xfrm>
        </p:grpSpPr>
        <p:sp>
          <p:nvSpPr>
            <p:cNvPr id="263" name="Прямая соединительная линия 38"/>
            <p:cNvSpPr/>
            <p:nvPr/>
          </p:nvSpPr>
          <p:spPr>
            <a:xfrm>
              <a:off x="4267080" y="30481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Прямая соединительная линия 39"/>
            <p:cNvSpPr/>
            <p:nvPr/>
          </p:nvSpPr>
          <p:spPr>
            <a:xfrm flipH="1">
              <a:off x="5181120" y="3048120"/>
              <a:ext cx="22860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Прямая соединительная линия 40"/>
            <p:cNvSpPr/>
            <p:nvPr/>
          </p:nvSpPr>
          <p:spPr>
            <a:xfrm>
              <a:off x="4267080" y="3048120"/>
              <a:ext cx="304560" cy="81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Прямая соединительная линия 41"/>
            <p:cNvSpPr/>
            <p:nvPr/>
          </p:nvSpPr>
          <p:spPr>
            <a:xfrm flipH="1">
              <a:off x="3961800" y="3863880"/>
              <a:ext cx="609480" cy="32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Прямая соединительная линия 42"/>
            <p:cNvSpPr/>
            <p:nvPr/>
          </p:nvSpPr>
          <p:spPr>
            <a:xfrm flipH="1">
              <a:off x="3581280" y="4191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Прямая соединительная линия 43"/>
            <p:cNvSpPr/>
            <p:nvPr/>
          </p:nvSpPr>
          <p:spPr>
            <a:xfrm>
              <a:off x="3581280" y="4191120"/>
              <a:ext cx="1522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Прямая соединительная линия 44"/>
            <p:cNvSpPr/>
            <p:nvPr/>
          </p:nvSpPr>
          <p:spPr>
            <a:xfrm>
              <a:off x="3733560" y="457200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Прямая соединительная линия 46"/>
          <p:cNvSpPr/>
          <p:nvPr/>
        </p:nvSpPr>
        <p:spPr>
          <a:xfrm>
            <a:off x="2057400" y="4572000"/>
            <a:ext cx="1143000" cy="1440"/>
          </a:xfrm>
          <a:prstGeom prst="line">
            <a:avLst/>
          </a:prstGeom>
          <a:ln w="9360">
            <a:solidFill>
              <a:srgbClr val="006c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ая соединительная линия 48"/>
          <p:cNvSpPr/>
          <p:nvPr/>
        </p:nvSpPr>
        <p:spPr>
          <a:xfrm flipV="1">
            <a:off x="2588400" y="3659040"/>
            <a:ext cx="3240" cy="914400"/>
          </a:xfrm>
          <a:prstGeom prst="line">
            <a:avLst/>
          </a:prstGeom>
          <a:ln w="9360">
            <a:solidFill>
              <a:srgbClr val="006c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ая соединительная линия 50"/>
          <p:cNvSpPr/>
          <p:nvPr/>
        </p:nvSpPr>
        <p:spPr>
          <a:xfrm flipV="1">
            <a:off x="2055960" y="4344480"/>
            <a:ext cx="2880" cy="228600"/>
          </a:xfrm>
          <a:prstGeom prst="line">
            <a:avLst/>
          </a:prstGeom>
          <a:ln w="9360">
            <a:solidFill>
              <a:srgbClr val="006c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ая соединительная линия 52"/>
          <p:cNvSpPr/>
          <p:nvPr/>
        </p:nvSpPr>
        <p:spPr>
          <a:xfrm flipV="1">
            <a:off x="2131200" y="4344480"/>
            <a:ext cx="3240" cy="228600"/>
          </a:xfrm>
          <a:prstGeom prst="line">
            <a:avLst/>
          </a:prstGeom>
          <a:ln w="9360">
            <a:solidFill>
              <a:srgbClr val="006c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ая соединительная линия 54"/>
          <p:cNvSpPr/>
          <p:nvPr/>
        </p:nvSpPr>
        <p:spPr>
          <a:xfrm flipV="1">
            <a:off x="2207520" y="4344480"/>
            <a:ext cx="3240" cy="228600"/>
          </a:xfrm>
          <a:prstGeom prst="line">
            <a:avLst/>
          </a:prstGeom>
          <a:ln w="9360">
            <a:solidFill>
              <a:srgbClr val="006c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ая соединительная линия 56"/>
          <p:cNvSpPr/>
          <p:nvPr/>
        </p:nvSpPr>
        <p:spPr>
          <a:xfrm flipV="1">
            <a:off x="2359800" y="4268880"/>
            <a:ext cx="3240" cy="304560"/>
          </a:xfrm>
          <a:prstGeom prst="line">
            <a:avLst/>
          </a:prstGeom>
          <a:ln w="9360">
            <a:solidFill>
              <a:srgbClr val="006c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ая соединительная линия 58"/>
          <p:cNvSpPr/>
          <p:nvPr/>
        </p:nvSpPr>
        <p:spPr>
          <a:xfrm flipV="1">
            <a:off x="2284560" y="4268880"/>
            <a:ext cx="2880" cy="304560"/>
          </a:xfrm>
          <a:prstGeom prst="line">
            <a:avLst/>
          </a:prstGeom>
          <a:ln w="9360">
            <a:solidFill>
              <a:srgbClr val="006c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ая соединительная линия 60"/>
          <p:cNvSpPr/>
          <p:nvPr/>
        </p:nvSpPr>
        <p:spPr>
          <a:xfrm flipV="1">
            <a:off x="2436120" y="4344480"/>
            <a:ext cx="3240" cy="228600"/>
          </a:xfrm>
          <a:prstGeom prst="line">
            <a:avLst/>
          </a:prstGeom>
          <a:ln w="9360">
            <a:solidFill>
              <a:srgbClr val="006c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ая соединительная линия 62"/>
          <p:cNvSpPr/>
          <p:nvPr/>
        </p:nvSpPr>
        <p:spPr>
          <a:xfrm flipV="1">
            <a:off x="2513160" y="4344480"/>
            <a:ext cx="2880" cy="228600"/>
          </a:xfrm>
          <a:prstGeom prst="line">
            <a:avLst/>
          </a:prstGeom>
          <a:ln w="9360">
            <a:solidFill>
              <a:srgbClr val="006c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ая соединительная линия 64"/>
          <p:cNvSpPr/>
          <p:nvPr/>
        </p:nvSpPr>
        <p:spPr>
          <a:xfrm flipV="1">
            <a:off x="3198960" y="4268880"/>
            <a:ext cx="2880" cy="304560"/>
          </a:xfrm>
          <a:prstGeom prst="line">
            <a:avLst/>
          </a:prstGeom>
          <a:ln w="9360">
            <a:solidFill>
              <a:srgbClr val="006c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ая соединительная линия 66"/>
          <p:cNvSpPr/>
          <p:nvPr/>
        </p:nvSpPr>
        <p:spPr>
          <a:xfrm flipH="1">
            <a:off x="2665080" y="4344840"/>
            <a:ext cx="3240" cy="228600"/>
          </a:xfrm>
          <a:prstGeom prst="line">
            <a:avLst/>
          </a:prstGeom>
          <a:ln w="9360">
            <a:solidFill>
              <a:srgbClr val="006c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ая соединительная линия 68"/>
          <p:cNvSpPr/>
          <p:nvPr/>
        </p:nvSpPr>
        <p:spPr>
          <a:xfrm flipH="1">
            <a:off x="2817360" y="4344840"/>
            <a:ext cx="3240" cy="228600"/>
          </a:xfrm>
          <a:prstGeom prst="line">
            <a:avLst/>
          </a:prstGeom>
          <a:ln w="9360">
            <a:solidFill>
              <a:srgbClr val="006c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ая соединительная линия 70"/>
          <p:cNvSpPr/>
          <p:nvPr/>
        </p:nvSpPr>
        <p:spPr>
          <a:xfrm flipH="1">
            <a:off x="2741760" y="4344840"/>
            <a:ext cx="2880" cy="228600"/>
          </a:xfrm>
          <a:prstGeom prst="line">
            <a:avLst/>
          </a:prstGeom>
          <a:ln w="9360">
            <a:solidFill>
              <a:srgbClr val="006c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ая соединительная линия 72"/>
          <p:cNvSpPr/>
          <p:nvPr/>
        </p:nvSpPr>
        <p:spPr>
          <a:xfrm flipH="1">
            <a:off x="2970360" y="4344840"/>
            <a:ext cx="2880" cy="228600"/>
          </a:xfrm>
          <a:prstGeom prst="line">
            <a:avLst/>
          </a:prstGeom>
          <a:ln w="9360">
            <a:solidFill>
              <a:srgbClr val="006c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ая соединительная линия 74"/>
          <p:cNvSpPr/>
          <p:nvPr/>
        </p:nvSpPr>
        <p:spPr>
          <a:xfrm flipH="1">
            <a:off x="3045960" y="4344840"/>
            <a:ext cx="3240" cy="228600"/>
          </a:xfrm>
          <a:prstGeom prst="line">
            <a:avLst/>
          </a:prstGeom>
          <a:ln w="9360">
            <a:solidFill>
              <a:srgbClr val="006c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ая соединительная линия 76"/>
          <p:cNvSpPr/>
          <p:nvPr/>
        </p:nvSpPr>
        <p:spPr>
          <a:xfrm flipV="1">
            <a:off x="2893320" y="4344480"/>
            <a:ext cx="3240" cy="228600"/>
          </a:xfrm>
          <a:prstGeom prst="line">
            <a:avLst/>
          </a:prstGeom>
          <a:ln w="9360">
            <a:solidFill>
              <a:srgbClr val="006c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олилиния 77"/>
          <p:cNvSpPr/>
          <p:nvPr/>
        </p:nvSpPr>
        <p:spPr>
          <a:xfrm>
            <a:off x="2263680" y="3214800"/>
            <a:ext cx="627120" cy="852480"/>
          </a:xfrm>
          <a:custGeom>
            <a:avLst/>
            <a:gdLst/>
            <a:ahLst/>
            <a:rect l="l" t="t" r="r" b="b"/>
            <a:pathLst>
              <a:path w="627534" h="852781">
                <a:moveTo>
                  <a:pt x="321502" y="849018"/>
                </a:moveTo>
                <a:cubicBezTo>
                  <a:pt x="370421" y="845255"/>
                  <a:pt x="403764" y="852409"/>
                  <a:pt x="445679" y="815151"/>
                </a:cubicBezTo>
                <a:cubicBezTo>
                  <a:pt x="469544" y="793938"/>
                  <a:pt x="513413" y="747418"/>
                  <a:pt x="513413" y="747418"/>
                </a:cubicBezTo>
                <a:cubicBezTo>
                  <a:pt x="517176" y="736129"/>
                  <a:pt x="522368" y="725220"/>
                  <a:pt x="524702" y="713551"/>
                </a:cubicBezTo>
                <a:cubicBezTo>
                  <a:pt x="529920" y="687460"/>
                  <a:pt x="525184" y="658844"/>
                  <a:pt x="535990" y="634529"/>
                </a:cubicBezTo>
                <a:cubicBezTo>
                  <a:pt x="541500" y="622131"/>
                  <a:pt x="558568" y="619477"/>
                  <a:pt x="569857" y="611951"/>
                </a:cubicBezTo>
                <a:cubicBezTo>
                  <a:pt x="584909" y="589373"/>
                  <a:pt x="617266" y="571259"/>
                  <a:pt x="615013" y="544218"/>
                </a:cubicBezTo>
                <a:cubicBezTo>
                  <a:pt x="607023" y="448343"/>
                  <a:pt x="627534" y="430550"/>
                  <a:pt x="581146" y="374885"/>
                </a:cubicBezTo>
                <a:cubicBezTo>
                  <a:pt x="570925" y="362620"/>
                  <a:pt x="558568" y="352307"/>
                  <a:pt x="547279" y="341018"/>
                </a:cubicBezTo>
                <a:cubicBezTo>
                  <a:pt x="562331" y="318440"/>
                  <a:pt x="596272" y="300147"/>
                  <a:pt x="592435" y="273285"/>
                </a:cubicBezTo>
                <a:cubicBezTo>
                  <a:pt x="591479" y="266592"/>
                  <a:pt x="584187" y="181891"/>
                  <a:pt x="569857" y="160396"/>
                </a:cubicBezTo>
                <a:cubicBezTo>
                  <a:pt x="561001" y="147112"/>
                  <a:pt x="546380" y="138651"/>
                  <a:pt x="535990" y="126529"/>
                </a:cubicBezTo>
                <a:cubicBezTo>
                  <a:pt x="523746" y="112244"/>
                  <a:pt x="516578" y="93419"/>
                  <a:pt x="502124" y="81374"/>
                </a:cubicBezTo>
                <a:cubicBezTo>
                  <a:pt x="495184" y="75590"/>
                  <a:pt x="425504" y="59396"/>
                  <a:pt x="423102" y="58796"/>
                </a:cubicBezTo>
                <a:cubicBezTo>
                  <a:pt x="411813" y="47507"/>
                  <a:pt x="405091" y="26794"/>
                  <a:pt x="389235" y="24929"/>
                </a:cubicBezTo>
                <a:cubicBezTo>
                  <a:pt x="237711" y="7103"/>
                  <a:pt x="255335" y="0"/>
                  <a:pt x="208613" y="70085"/>
                </a:cubicBezTo>
                <a:cubicBezTo>
                  <a:pt x="112098" y="37913"/>
                  <a:pt x="164495" y="44555"/>
                  <a:pt x="50568" y="58796"/>
                </a:cubicBezTo>
                <a:cubicBezTo>
                  <a:pt x="46805" y="70085"/>
                  <a:pt x="39279" y="80763"/>
                  <a:pt x="39279" y="92662"/>
                </a:cubicBezTo>
                <a:cubicBezTo>
                  <a:pt x="39279" y="156488"/>
                  <a:pt x="45981" y="169212"/>
                  <a:pt x="61857" y="216840"/>
                </a:cubicBezTo>
                <a:cubicBezTo>
                  <a:pt x="50568" y="224366"/>
                  <a:pt x="30933" y="226173"/>
                  <a:pt x="27990" y="239418"/>
                </a:cubicBezTo>
                <a:cubicBezTo>
                  <a:pt x="11800" y="312273"/>
                  <a:pt x="32130" y="313674"/>
                  <a:pt x="73146" y="341018"/>
                </a:cubicBezTo>
                <a:cubicBezTo>
                  <a:pt x="69383" y="356070"/>
                  <a:pt x="67969" y="371913"/>
                  <a:pt x="61857" y="386174"/>
                </a:cubicBezTo>
                <a:cubicBezTo>
                  <a:pt x="31909" y="456052"/>
                  <a:pt x="0" y="393867"/>
                  <a:pt x="50568" y="532929"/>
                </a:cubicBezTo>
                <a:cubicBezTo>
                  <a:pt x="54635" y="544112"/>
                  <a:pt x="73146" y="540455"/>
                  <a:pt x="84435" y="544218"/>
                </a:cubicBezTo>
                <a:cubicBezTo>
                  <a:pt x="15373" y="567239"/>
                  <a:pt x="70711" y="536249"/>
                  <a:pt x="61857" y="589374"/>
                </a:cubicBezTo>
                <a:cubicBezTo>
                  <a:pt x="59626" y="602757"/>
                  <a:pt x="46805" y="611951"/>
                  <a:pt x="39279" y="623240"/>
                </a:cubicBezTo>
                <a:cubicBezTo>
                  <a:pt x="43042" y="645818"/>
                  <a:pt x="52846" y="668198"/>
                  <a:pt x="50568" y="690974"/>
                </a:cubicBezTo>
                <a:cubicBezTo>
                  <a:pt x="41850" y="778156"/>
                  <a:pt x="2589" y="698027"/>
                  <a:pt x="50568" y="769996"/>
                </a:cubicBezTo>
                <a:cubicBezTo>
                  <a:pt x="54331" y="785048"/>
                  <a:pt x="49938" y="805219"/>
                  <a:pt x="61857" y="815151"/>
                </a:cubicBezTo>
                <a:cubicBezTo>
                  <a:pt x="76597" y="827434"/>
                  <a:pt x="99687" y="821786"/>
                  <a:pt x="118302" y="826440"/>
                </a:cubicBezTo>
                <a:cubicBezTo>
                  <a:pt x="129846" y="829326"/>
                  <a:pt x="140350" y="836339"/>
                  <a:pt x="152168" y="837729"/>
                </a:cubicBezTo>
                <a:cubicBezTo>
                  <a:pt x="252681" y="849554"/>
                  <a:pt x="272583" y="852781"/>
                  <a:pt x="321502" y="849018"/>
                </a:cubicBezTo>
                <a:close/>
              </a:path>
            </a:pathLst>
          </a:custGeom>
          <a:solidFill>
            <a:srgbClr val="006c31"/>
          </a:solidFill>
          <a:ln w="25560">
            <a:solidFill>
              <a:srgbClr val="006c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ая соединительная линия 79"/>
          <p:cNvSpPr/>
          <p:nvPr/>
        </p:nvSpPr>
        <p:spPr>
          <a:xfrm>
            <a:off x="2584440" y="4064040"/>
            <a:ext cx="6480" cy="507960"/>
          </a:xfrm>
          <a:prstGeom prst="line">
            <a:avLst/>
          </a:prstGeom>
          <a:ln w="9360">
            <a:solidFill>
              <a:srgbClr val="006c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ая соединительная линия 81"/>
          <p:cNvSpPr/>
          <p:nvPr/>
        </p:nvSpPr>
        <p:spPr>
          <a:xfrm flipV="1">
            <a:off x="2513160" y="3811680"/>
            <a:ext cx="2880" cy="761760"/>
          </a:xfrm>
          <a:prstGeom prst="line">
            <a:avLst/>
          </a:prstGeom>
          <a:ln w="9360">
            <a:solidFill>
              <a:srgbClr val="006c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Солнце 84"/>
          <p:cNvSpPr/>
          <p:nvPr/>
        </p:nvSpPr>
        <p:spPr>
          <a:xfrm>
            <a:off x="457200" y="1676520"/>
            <a:ext cx="609480" cy="628560"/>
          </a:xfrm>
          <a:prstGeom prst="sun">
            <a:avLst>
              <a:gd name="adj" fmla="val 25000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Овал 86"/>
          <p:cNvSpPr/>
          <p:nvPr/>
        </p:nvSpPr>
        <p:spPr>
          <a:xfrm>
            <a:off x="1219320" y="1828800"/>
            <a:ext cx="228600" cy="30492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Овал 92"/>
          <p:cNvSpPr/>
          <p:nvPr/>
        </p:nvSpPr>
        <p:spPr>
          <a:xfrm>
            <a:off x="2438280" y="1828800"/>
            <a:ext cx="333360" cy="30492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Овал 93"/>
          <p:cNvSpPr/>
          <p:nvPr/>
        </p:nvSpPr>
        <p:spPr>
          <a:xfrm>
            <a:off x="3962520" y="1828800"/>
            <a:ext cx="380880" cy="30492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Левая фигурная скобка 96"/>
          <p:cNvSpPr/>
          <p:nvPr/>
        </p:nvSpPr>
        <p:spPr>
          <a:xfrm rot="5400000">
            <a:off x="6210000" y="-495360"/>
            <a:ext cx="533160" cy="3962520"/>
          </a:xfrm>
          <a:custGeom>
            <a:avLst/>
            <a:gdLst>
              <a:gd name="textAreaLeft" fmla="*/ 340560 w 533160"/>
              <a:gd name="textAreaRight" fmla="*/ 533520 w 533160"/>
              <a:gd name="textAreaTop" fmla="*/ 13680 h 3962520"/>
              <a:gd name="textAreaBottom" fmla="*/ 3948840 h 3962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1"/>
                  <a:pt x="10800" y="242"/>
                </a:cubicBezTo>
                <a:lnTo>
                  <a:pt x="10800" y="10558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1"/>
                  <a:pt x="10800" y="11042"/>
                </a:cubicBezTo>
                <a:lnTo>
                  <a:pt x="10800" y="21358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Группа 101"/>
          <p:cNvGrpSpPr/>
          <p:nvPr/>
        </p:nvGrpSpPr>
        <p:grpSpPr>
          <a:xfrm>
            <a:off x="6248520" y="533520"/>
            <a:ext cx="533160" cy="761760"/>
            <a:chOff x="6248520" y="533520"/>
            <a:chExt cx="533160" cy="761760"/>
          </a:xfrm>
        </p:grpSpPr>
        <p:sp>
          <p:nvSpPr>
            <p:cNvPr id="295" name="Прямая соединительная линия 98"/>
            <p:cNvSpPr/>
            <p:nvPr/>
          </p:nvSpPr>
          <p:spPr>
            <a:xfrm flipH="1">
              <a:off x="6248520" y="534960"/>
              <a:ext cx="1440" cy="76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Скругленный прямоугольник 99"/>
            <p:cNvSpPr/>
            <p:nvPr/>
          </p:nvSpPr>
          <p:spPr>
            <a:xfrm>
              <a:off x="6248520" y="533520"/>
              <a:ext cx="533160" cy="380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Группа 116"/>
          <p:cNvGrpSpPr/>
          <p:nvPr/>
        </p:nvGrpSpPr>
        <p:grpSpPr>
          <a:xfrm>
            <a:off x="6247800" y="609120"/>
            <a:ext cx="533160" cy="305280"/>
            <a:chOff x="6247800" y="609120"/>
            <a:chExt cx="533160" cy="305280"/>
          </a:xfrm>
        </p:grpSpPr>
        <p:sp>
          <p:nvSpPr>
            <p:cNvPr id="298" name="Прямая соединительная линия 103"/>
            <p:cNvSpPr/>
            <p:nvPr/>
          </p:nvSpPr>
          <p:spPr>
            <a:xfrm flipV="1">
              <a:off x="6247800" y="685440"/>
              <a:ext cx="152280" cy="228600"/>
            </a:xfrm>
            <a:prstGeom prst="line">
              <a:avLst/>
            </a:prstGeom>
            <a:ln w="936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Прямая соединительная линия 105"/>
            <p:cNvSpPr/>
            <p:nvPr/>
          </p:nvSpPr>
          <p:spPr>
            <a:xfrm>
              <a:off x="6400080" y="685800"/>
              <a:ext cx="114120" cy="228600"/>
            </a:xfrm>
            <a:prstGeom prst="line">
              <a:avLst/>
            </a:prstGeom>
            <a:ln w="936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Прямая соединительная линия 107"/>
            <p:cNvSpPr/>
            <p:nvPr/>
          </p:nvSpPr>
          <p:spPr>
            <a:xfrm flipV="1">
              <a:off x="6476400" y="685440"/>
              <a:ext cx="75960" cy="152280"/>
            </a:xfrm>
            <a:prstGeom prst="line">
              <a:avLst/>
            </a:prstGeom>
            <a:ln w="936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Прямая соединительная линия 110"/>
            <p:cNvSpPr/>
            <p:nvPr/>
          </p:nvSpPr>
          <p:spPr>
            <a:xfrm>
              <a:off x="6552360" y="685800"/>
              <a:ext cx="75960" cy="228600"/>
            </a:xfrm>
            <a:prstGeom prst="line">
              <a:avLst/>
            </a:prstGeom>
            <a:ln w="936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Прямая соединительная линия 112"/>
            <p:cNvSpPr/>
            <p:nvPr/>
          </p:nvSpPr>
          <p:spPr>
            <a:xfrm flipV="1">
              <a:off x="6628680" y="609120"/>
              <a:ext cx="75960" cy="304920"/>
            </a:xfrm>
            <a:prstGeom prst="line">
              <a:avLst/>
            </a:prstGeom>
            <a:ln w="936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Прямая соединительная линия 114"/>
            <p:cNvSpPr/>
            <p:nvPr/>
          </p:nvSpPr>
          <p:spPr>
            <a:xfrm>
              <a:off x="6705000" y="609480"/>
              <a:ext cx="75960" cy="114120"/>
            </a:xfrm>
            <a:prstGeom prst="line">
              <a:avLst/>
            </a:prstGeom>
            <a:ln w="936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4" name="Прямая со стрелкой 118"/>
          <p:cNvCxnSpPr>
            <a:endCxn id="286" idx="14"/>
          </p:cNvCxnSpPr>
          <p:nvPr/>
        </p:nvCxnSpPr>
        <p:spPr>
          <a:xfrm flipH="1">
            <a:off x="2652480" y="2362320"/>
            <a:ext cx="243360" cy="878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5" name="Прямая со стрелкой 120"/>
          <p:cNvCxnSpPr>
            <a:endCxn id="286" idx="11"/>
          </p:cNvCxnSpPr>
          <p:nvPr/>
        </p:nvCxnSpPr>
        <p:spPr>
          <a:xfrm flipH="1">
            <a:off x="2800080" y="2362320"/>
            <a:ext cx="248400" cy="97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6" name="Прямая со стрелкой 122"/>
          <p:cNvCxnSpPr>
            <a:endCxn id="286" idx="15"/>
          </p:cNvCxnSpPr>
          <p:nvPr/>
        </p:nvCxnSpPr>
        <p:spPr>
          <a:xfrm flipH="1">
            <a:off x="2471400" y="2362320"/>
            <a:ext cx="272160" cy="923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7" name="Полилиния 126"/>
          <p:cNvSpPr/>
          <p:nvPr/>
        </p:nvSpPr>
        <p:spPr>
          <a:xfrm>
            <a:off x="4191120" y="4114800"/>
            <a:ext cx="738000" cy="463680"/>
          </a:xfrm>
          <a:custGeom>
            <a:avLst/>
            <a:gdLst/>
            <a:ahLst/>
            <a:rect l="l" t="t" r="r" b="b"/>
            <a:pathLst>
              <a:path w="1231206" h="1310572">
                <a:moveTo>
                  <a:pt x="800006" y="287976"/>
                </a:moveTo>
                <a:cubicBezTo>
                  <a:pt x="796243" y="276687"/>
                  <a:pt x="788717" y="266009"/>
                  <a:pt x="788717" y="254109"/>
                </a:cubicBezTo>
                <a:cubicBezTo>
                  <a:pt x="788717" y="212546"/>
                  <a:pt x="788588" y="169896"/>
                  <a:pt x="800006" y="129932"/>
                </a:cubicBezTo>
                <a:cubicBezTo>
                  <a:pt x="804392" y="114581"/>
                  <a:pt x="821608" y="106286"/>
                  <a:pt x="833873" y="96065"/>
                </a:cubicBezTo>
                <a:cubicBezTo>
                  <a:pt x="869652" y="66249"/>
                  <a:pt x="886249" y="67317"/>
                  <a:pt x="935473" y="50909"/>
                </a:cubicBezTo>
                <a:cubicBezTo>
                  <a:pt x="991053" y="32382"/>
                  <a:pt x="957604" y="41576"/>
                  <a:pt x="1037073" y="28332"/>
                </a:cubicBezTo>
                <a:cubicBezTo>
                  <a:pt x="1101278" y="6930"/>
                  <a:pt x="1107245" y="0"/>
                  <a:pt x="1206406" y="28332"/>
                </a:cubicBezTo>
                <a:cubicBezTo>
                  <a:pt x="1219451" y="32059"/>
                  <a:pt x="1221458" y="50909"/>
                  <a:pt x="1228984" y="62198"/>
                </a:cubicBezTo>
                <a:cubicBezTo>
                  <a:pt x="1225221" y="160035"/>
                  <a:pt x="1221858" y="257888"/>
                  <a:pt x="1217695" y="355709"/>
                </a:cubicBezTo>
                <a:cubicBezTo>
                  <a:pt x="1207286" y="600325"/>
                  <a:pt x="1231206" y="518376"/>
                  <a:pt x="1195117" y="626643"/>
                </a:cubicBezTo>
                <a:cubicBezTo>
                  <a:pt x="1191354" y="686850"/>
                  <a:pt x="1190143" y="747272"/>
                  <a:pt x="1183828" y="807265"/>
                </a:cubicBezTo>
                <a:cubicBezTo>
                  <a:pt x="1182582" y="819099"/>
                  <a:pt x="1173930" y="829314"/>
                  <a:pt x="1172540" y="841132"/>
                </a:cubicBezTo>
                <a:cubicBezTo>
                  <a:pt x="1150656" y="1027152"/>
                  <a:pt x="1193021" y="951521"/>
                  <a:pt x="1138673" y="1033043"/>
                </a:cubicBezTo>
                <a:cubicBezTo>
                  <a:pt x="1134910" y="1070673"/>
                  <a:pt x="1140308" y="1110392"/>
                  <a:pt x="1127384" y="1145932"/>
                </a:cubicBezTo>
                <a:cubicBezTo>
                  <a:pt x="1123317" y="1157115"/>
                  <a:pt x="1101931" y="1148806"/>
                  <a:pt x="1093517" y="1157220"/>
                </a:cubicBezTo>
                <a:cubicBezTo>
                  <a:pt x="1048657" y="1202080"/>
                  <a:pt x="1062166" y="1227040"/>
                  <a:pt x="1014495" y="1258820"/>
                </a:cubicBezTo>
                <a:cubicBezTo>
                  <a:pt x="1004594" y="1265421"/>
                  <a:pt x="992522" y="1269743"/>
                  <a:pt x="980628" y="1270109"/>
                </a:cubicBezTo>
                <a:cubicBezTo>
                  <a:pt x="747404" y="1277285"/>
                  <a:pt x="514021" y="1277635"/>
                  <a:pt x="280717" y="1281398"/>
                </a:cubicBezTo>
                <a:cubicBezTo>
                  <a:pt x="193197" y="1310572"/>
                  <a:pt x="220287" y="1306200"/>
                  <a:pt x="54940" y="1281398"/>
                </a:cubicBezTo>
                <a:cubicBezTo>
                  <a:pt x="41522" y="1279385"/>
                  <a:pt x="32362" y="1266346"/>
                  <a:pt x="21073" y="1258820"/>
                </a:cubicBezTo>
                <a:cubicBezTo>
                  <a:pt x="0" y="1195604"/>
                  <a:pt x="12042" y="1254304"/>
                  <a:pt x="21073" y="1191087"/>
                </a:cubicBezTo>
                <a:cubicBezTo>
                  <a:pt x="26951" y="1149941"/>
                  <a:pt x="12657" y="1103504"/>
                  <a:pt x="32362" y="1066909"/>
                </a:cubicBezTo>
                <a:cubicBezTo>
                  <a:pt x="43645" y="1045955"/>
                  <a:pt x="76319" y="1045366"/>
                  <a:pt x="100095" y="1044332"/>
                </a:cubicBezTo>
                <a:lnTo>
                  <a:pt x="359740" y="1033043"/>
                </a:lnTo>
                <a:cubicBezTo>
                  <a:pt x="394774" y="1021365"/>
                  <a:pt x="403889" y="1020100"/>
                  <a:pt x="438762" y="999176"/>
                </a:cubicBezTo>
                <a:cubicBezTo>
                  <a:pt x="482533" y="972913"/>
                  <a:pt x="505768" y="948649"/>
                  <a:pt x="551651" y="931443"/>
                </a:cubicBezTo>
                <a:cubicBezTo>
                  <a:pt x="602576" y="912346"/>
                  <a:pt x="692878" y="912148"/>
                  <a:pt x="732273" y="908865"/>
                </a:cubicBezTo>
                <a:cubicBezTo>
                  <a:pt x="816365" y="852803"/>
                  <a:pt x="713078" y="924860"/>
                  <a:pt x="800006" y="852420"/>
                </a:cubicBezTo>
                <a:cubicBezTo>
                  <a:pt x="810429" y="843734"/>
                  <a:pt x="822584" y="837369"/>
                  <a:pt x="833873" y="829843"/>
                </a:cubicBezTo>
                <a:cubicBezTo>
                  <a:pt x="837636" y="814791"/>
                  <a:pt x="845162" y="800202"/>
                  <a:pt x="845162" y="784687"/>
                </a:cubicBezTo>
                <a:cubicBezTo>
                  <a:pt x="845162" y="772787"/>
                  <a:pt x="836759" y="762364"/>
                  <a:pt x="833873" y="750820"/>
                </a:cubicBezTo>
                <a:cubicBezTo>
                  <a:pt x="829219" y="732206"/>
                  <a:pt x="826016" y="713254"/>
                  <a:pt x="822584" y="694376"/>
                </a:cubicBezTo>
                <a:cubicBezTo>
                  <a:pt x="817890" y="668562"/>
                  <a:pt x="807611" y="598082"/>
                  <a:pt x="800006" y="570198"/>
                </a:cubicBezTo>
                <a:cubicBezTo>
                  <a:pt x="793744" y="547238"/>
                  <a:pt x="777428" y="526264"/>
                  <a:pt x="777428" y="502465"/>
                </a:cubicBezTo>
                <a:lnTo>
                  <a:pt x="777428" y="242820"/>
                </a:lnTo>
              </a:path>
            </a:pathLst>
          </a:custGeom>
          <a:solidFill>
            <a:srgbClr val="00b050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Содержимое 2"/>
          <p:cNvSpPr/>
          <p:nvPr/>
        </p:nvSpPr>
        <p:spPr>
          <a:xfrm>
            <a:off x="6095880" y="1828800"/>
            <a:ext cx="27432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Содержимое 2"/>
          <p:cNvSpPr/>
          <p:nvPr/>
        </p:nvSpPr>
        <p:spPr>
          <a:xfrm>
            <a:off x="6172200" y="2514600"/>
            <a:ext cx="25146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ерые  лесные  почв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лодородные, т.к выпадает мало осадков. Растут: берёза, рябина, волчья ягодка, облепиха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Содержимое 2"/>
          <p:cNvSpPr/>
          <p:nvPr/>
        </p:nvSpPr>
        <p:spPr>
          <a:xfrm>
            <a:off x="152280" y="5181480"/>
            <a:ext cx="85345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итают: заяц-толай, тушканчик,дрофа, манул и др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132"/>
          <p:cNvSpPr/>
          <p:nvPr/>
        </p:nvSpPr>
        <p:spPr>
          <a:xfrm>
            <a:off x="457200" y="5715000"/>
            <a:ext cx="8229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Содержимое 2"/>
          <p:cNvSpPr/>
          <p:nvPr/>
        </p:nvSpPr>
        <p:spPr>
          <a:xfrm>
            <a:off x="457200" y="5715000"/>
            <a:ext cx="85345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ни приспособились к степям благодаря своему размеру (маленькому) и способу питания ( насекомоядные и травоядны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Содержимое 2"/>
          <p:cNvSpPr/>
          <p:nvPr/>
        </p:nvSpPr>
        <p:spPr>
          <a:xfrm>
            <a:off x="152280" y="2514600"/>
            <a:ext cx="16765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ется человеком, как пастбище дл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С, для добывания некоторых полезных ископаем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вета</dc:creator>
  <dc:description/>
  <dc:language>en-US</dc:language>
  <cp:lastModifiedBy>Света</cp:lastModifiedBy>
  <dcterms:modified xsi:type="dcterms:W3CDTF">2013-12-11T12:46:08Z</dcterms:modified>
  <cp:revision>8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