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66B24-0AA3-45EE-9FA5-DBB3DD59C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C43C-78A3-4E37-9C1C-929F13B1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CC98-6FA3-4454-8F2F-59009E0E4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51EED-E790-4E45-B3F0-D52EAB01E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D9F8-F0D8-4C2E-8BAC-FCE9E8F2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12B4-A45A-419B-8B68-A7094AC4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ED77-F153-401F-A77A-3765BAA94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B0E8A-9E74-4177-A798-54C60ECDA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3305A-45F7-46C2-AD40-AB444304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6C662-3457-45FD-A119-41C4AE36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6BAE-96FC-47A6-A047-96ED255E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8E90-4F8E-4154-8FFE-449460BC1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9C51-E96C-4AFF-84CF-D29FD54C729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auditory.ru/&#1048;&#1079;&#1086;&#1073;&#1088;&#1072;&#1078;&#1077;&#1085;&#1080;&#1077;:Db_old_scheme.p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нятие данных. Предшественники баз данных. Назначение и основные компоненты среды базы данных. Системы управления базами данных (СУБД).</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еимущества и недостатки СУБД</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еимуществ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нтроль за избыточностью данных</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диционные файловые системы хранят одинаковые данные в нескольких файлах. Базы данных максимально ограничивают степень избыточности данных за счет интеграции файлов.</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противоречивость данных</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транение избыточности данных или контроль над ней позволяет уменьшить риск возникновения противоречивых состояний. Изменение одного значения элемента данных требует выполнить только одну операцию обновления, причем новое значение станет доступным сразу всем пользователям базы данных.</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е полезной информации при том же объеме хранимых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лагодаря интеграции рабочих данных организации, на основе тех же данных можно получать дополнительную информацию.</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вместное использование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ее количество пользователей может работать с большим объемом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держка целостности данных</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остность базы данных означает корректность и непротиворечивость хранимых в ней данных, и, обычно, описывается с помощью ограничений, которые не должны нарушаться в базе данных. Ограничения можно применять к элементам данных внутри одной записи или к связям между запися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вышенная безопасность</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з привлечения соответствующих мер безопасности интегрированные данные становятся более уязвимыми для несанкционированного доступа со стороны пользователей, чем данные в файловой системе. Однако интеграция позволяет АБД определить требуемую систему безопасности базы данных, а СУБД привести ее в действие.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вышение доступности данных и их готовности к работе</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анные, которые пересекают границы отделов, в результате интеграции становятся непосредственно доступными конечным пользователям. Потенциально это повышает функциональность системы, что, например, может быть использовано для более качественного обслуживания конечных пользователей или клиентов организаци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Недостатки</a:t>
            </a:r>
            <a:br>
              <a:rPr sz="4000"/>
            </a:br>
            <a:endParaRPr b="0" lang="en-US" sz="4000" spc="-1" strike="noStrike">
              <a:solidFill>
                <a:srgbClr val="000000"/>
              </a:solidFill>
              <a:latin typeface="Calibri"/>
            </a:endParaRPr>
          </a:p>
        </p:txBody>
      </p:sp>
      <p:sp>
        <p:nvSpPr>
          <p:cNvPr id="64" name=""/>
          <p:cNvSpPr txBox="1"/>
          <p:nvPr/>
        </p:nvSpPr>
        <p:spPr>
          <a:xfrm>
            <a:off x="457200" y="907560"/>
            <a:ext cx="8229600" cy="5218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ложность</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ение необходимой функциональности СУБД влечет за собой усложнение проектирования и усложнение программного обеспечения СУБД, а также необходимость понимания принципов работы СУБД всеми сотрудниками, работающими с не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азмер</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ложность и широта функциональных возможностей СУБД, превращает ее в чрезвычайно сложный программный продукт, требующий много места на диске и нуждающийся в большом объеме оперативной памяти для эффективной работ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тоимость СУБД</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зависимости от имеющейся вычислительной среды и требуемых функциональных возможностей стоимость СУБД может изменяться в очень широких пределах. Кроме того, сопровождение системы составляет некоторый процент от ее общей стоимост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ополнительные затраты на аппаратное обеспечение</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ля удовлетворения требований, предъявляемых СУБД и базой данных, может понадобиться приобрести дополнительные устройства хранения информации или более мощный компьютер.</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ункции СУБД</a:t>
            </a:r>
            <a:endParaRPr b="0" lang="en-US" sz="4400" spc="-1" strike="noStrike">
              <a:solidFill>
                <a:srgbClr val="000000"/>
              </a:solidFill>
              <a:latin typeface="Calibri"/>
            </a:endParaRPr>
          </a:p>
        </p:txBody>
      </p:sp>
      <p:sp>
        <p:nvSpPr>
          <p:cNvPr id="67" name=""/>
          <p:cNvSpPr txBox="1"/>
          <p:nvPr/>
        </p:nvSpPr>
        <p:spPr>
          <a:xfrm>
            <a:off x="0" y="1143000"/>
            <a:ext cx="9144000" cy="557208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нение, извлечение и обновление данных</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пользователям возможность сохранять, извлекать и обновлять данные в базе данных (самая фундаментальная функция СУБД).</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особ реализации этой функции в СУБД должен позволять скрывать от конечного пользователя внутренние детали физической реализации системы (например, файловую организацию или используемые структуры хранения).</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талог, доступный конечным пользователям</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доступный конечным пользователям каталог, в котором хранится описание элементов данных (системный катало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15560"/>
            <a:ext cx="8229600" cy="6010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База Данных </a:t>
            </a:r>
            <a:r>
              <a:rPr b="0" lang="ru-RU" sz="3200" spc="-1" strike="noStrike">
                <a:solidFill>
                  <a:srgbClr val="000000"/>
                </a:solidFill>
                <a:latin typeface="Calibri"/>
              </a:rPr>
              <a:t>— совместно используемый набор логически связанных данных (и их описание!), предназначенных для удовлетворения информационных потребностей организации.</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Файловая система</a:t>
            </a:r>
            <a:r>
              <a:rPr b="0" lang="ru-RU" sz="3200" spc="-1" strike="noStrike">
                <a:solidFill>
                  <a:srgbClr val="000000"/>
                </a:solidFill>
                <a:latin typeface="Calibri"/>
              </a:rPr>
              <a:t> (картотека) - набор программ, которые выполняют для пользователей некоторые операции, каждая программа определяет свои собственные данные и управляет им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управления параллельной работ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механизм, который гарантирует корректное обновление баз данных при параллельном выполнении операций обновления многими пользователям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42920" y="928440"/>
            <a:ext cx="8572320" cy="578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восстановле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средства восстановления базы данных на случай какого-либо ее повреждения или разруше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контроля доступа к данны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механизм, гарантирующий возможность доступа к базе данных только санкционированных пользовател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поддержки целостности данны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обладать инструментами контроля за тем, чтобы данные и их изменения соответствовали заданным правилам (еще один тип защиты базы данных). Целостность базы данных означает корректность и непротиворечивость хранимых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поддержки независимости от данны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обладать инструментами поддержки независимости программ от фактической структуры базы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помогательные служб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некоторый набор различных вспомогательных служб, предназначенных для оказания помощи АБД в эффективном администрировании базы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9000"/>
            <a:ext cx="8229600" cy="5937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 простой набор записей, содержащих логически связанные данны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ле - некая характеристика моделируемого объек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1 (поле 1, поле 2, поле 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2 (поле 4, поле 5, поле 6)</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аждый отдел работает со своими данными с помощью своего специализированного приложения, которое в коде жестко определяет физическую структуру и методы хранение записей в файл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3" descr="Схема работы картотеки">
            <a:hlinkClick r:id="rId1"/>
          </p:cNvPr>
          <p:cNvPicPr/>
          <p:nvPr/>
        </p:nvPicPr>
        <p:blipFill>
          <a:blip r:embed="rId2"/>
          <a:stretch/>
        </p:blipFill>
        <p:spPr>
          <a:xfrm>
            <a:off x="611280" y="620640"/>
            <a:ext cx="792144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истема управления базами данных</a:t>
            </a:r>
            <a:r>
              <a:rPr b="0" lang="ru-RU" sz="3200" spc="-1" strike="noStrike">
                <a:solidFill>
                  <a:srgbClr val="000000"/>
                </a:solidFill>
                <a:latin typeface="Calibri"/>
              </a:rPr>
              <a:t> - программное обеспечение, с помощью которого пользователи могут определять, создавать и поддерживать базу данных, а также осуществлять к ней контролируемый досту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260280"/>
            <a:ext cx="8229600" cy="58658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Аппаратное обеспечение</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зависимости от требований поставленной задачи, конкретной СУБД и ОС аппаратные средства могут варьироваться от одного ПК  до сети многих компьютеров. СУБД требует определенной минимальной конфигурации аппаратных средств, но для приемлемой производительности системы этого может не хватить.</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Программное обеспечение</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ключает в себя ПО:</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амой СУБД</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кладных программ</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С</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5560"/>
            <a:ext cx="8229600" cy="60102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анные</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иболее важный компонент СУБД для конечных пользователей. В системном каталоге содержатс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типы и размеры элементов данных;</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связей;</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граничения целостности данных;</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зарегистрированных пользователей, которым предоставлены некоторые права доступа к данным;</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уемые индексы и структуры хран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33000"/>
            <a:ext cx="8229600" cy="579276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оцедуры</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 процедурам относятся инструкции и правила, которые должны учитываться при проектировании и использовании базы данных. Описание процедур — инструкции о правилах выполн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гистрация в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ование отдельного инструмента СУБД или прилож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уск и остановка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здание резервных копий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04280"/>
            <a:ext cx="8229600" cy="57214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Пользователи</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служивание информационных потребностей пользователей — цель проектирования, создания и поддерживания базы данных. По способу использования пользователями системы:</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ядовые пользователи, обычно не знающие о наличии СУБД (обращающиеся к базе данных с помощью специальных приложений, позволяющих в максимальной степени упростить выполняемые ими операции).</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пытные пользователи, знакомые со структурой базы данных и возможностями СУБД (для выполнения требуемых операций могут использовать язык запросов высокого уровня, например SQL, и даже способны создавать собственные прикладные программы).</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4:54:21Z</dcterms:created>
  <dc:creator>Пользователь</dc:creator>
  <dc:description/>
  <dc:language>en-US</dc:language>
  <cp:lastModifiedBy>ivashow@dnevnik.ru</cp:lastModifiedBy>
  <cp:lastPrinted>2018-09-03T05:43:47Z</cp:lastPrinted>
  <dcterms:modified xsi:type="dcterms:W3CDTF">2019-05-08T15:15:10Z</dcterms:modified>
  <cp:revision>12</cp:revision>
  <dc:subject/>
  <dc:title>Вводная лекция. Понятие данных. Предшественники баз данных. Назначение и основные компоненты среды базы данных. Системы управления базами данных (СУБД).</dc:title>
</cp:coreProperties>
</file>