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0150D-1774-4D04-B1CB-BB200249E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C37E7-C3F7-48E0-9389-4CB579E44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A2BFF-C399-46E6-924A-4725F7037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96BFD-A052-489C-84AF-B97BF621D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02EE6-D6BC-431C-8441-03683A84D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BD34D-815C-43D2-908D-3DD884808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28FE5-78FF-41E9-867E-F69F10999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AC502-F5B3-4CA8-8B75-2BF694A1B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B7B52-6C38-4CFB-8943-1D5A3F012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F1ADC-CBAD-4547-BF1C-3FD9C9FAF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C7C20-267D-4396-8AB5-408408A12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C5006-EBB1-4A18-9911-394E45F5D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6E2E-15B4-428F-8F82-EBDB9DE4B890}"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iki.auditory.ru/&#1048;&#1079;&#1086;&#1073;&#1088;&#1072;&#1078;&#1077;&#1085;&#1080;&#1077;:Db_old_scheme.png"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онятие данных. Предшественники баз данных. Назначение и основные компоненты среды базы данных. Системы управления базами данных (СУБД).</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реимущества и недостатки СУБД</a:t>
            </a: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реимущества</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нтроль за избыточностью данных</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радиционные файловые системы хранят одинаковые данные в нескольких файлах. Базы данных максимально ограничивают степень избыточности данных за счет интеграции файлов.</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епротиворечивость данных</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странение избыточности данных или контроль над ней позволяет уменьшить риск возникновения противоречивых состояний. Изменение одного значения элемента данных требует выполнить только одну операцию обновления, причем новое значение станет доступным сразу всем пользователям базы данных.</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ольше полезной информации при том же объеме хранимых данных</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лагодаря интеграции рабочих данных организации, на основе тех же данных можно получать дополнительную информацию.</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овместное использование данных</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ольшее количество пользователей может работать с большим объемом данных.</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ддержка целостности данных</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Целостность базы данных означает корректность и непротиворечивость хранимых в ней данных, и, обычно, описывается с помощью ограничений, которые не должны нарушаться в базе данных. Ограничения можно применять к элементам данных внутри одной записи или к связям между записям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овышенная безопасность</a:t>
            </a:r>
            <a:endParaRPr b="0" lang="en-US" sz="3200" spc="-1" strike="noStrike">
              <a:solidFill>
                <a:srgbClr val="000000"/>
              </a:solidFill>
              <a:latin typeface="Calibri"/>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ез привлечения соответствующих мер безопасности интегрированные данные становятся более уязвимыми для несанкционированного доступа со стороны пользователей, чем данные в файловой системе. Однако интеграция позволяет АБД определить требуемую систему безопасности базы данных, а СУБД привести ее в действие.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вышение доступности данных и их готовности к работе</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Данные, которые пересекают границы отделов, в результате интеграции становятся непосредственно доступными конечным пользователям. Потенциально это повышает функциональность системы, что, например, может быть использовано для более качественного обслуживания конечных пользователей или клиентов организации.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Недостатки</a:t>
            </a:r>
            <a:br>
              <a:rPr sz="4000"/>
            </a:br>
            <a:endParaRPr b="0" lang="en-US" sz="4000" spc="-1" strike="noStrike">
              <a:solidFill>
                <a:srgbClr val="000000"/>
              </a:solidFill>
              <a:latin typeface="Calibri"/>
            </a:endParaRPr>
          </a:p>
        </p:txBody>
      </p:sp>
      <p:sp>
        <p:nvSpPr>
          <p:cNvPr id="64" name=""/>
          <p:cNvSpPr txBox="1"/>
          <p:nvPr/>
        </p:nvSpPr>
        <p:spPr>
          <a:xfrm>
            <a:off x="457200" y="907560"/>
            <a:ext cx="8229600" cy="52182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Сложность</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беспечение необходимой функциональности СУБД влечет за собой усложнение проектирования и усложнение программного обеспечения СУБД, а также необходимость понимания принципов работы СУБД всеми сотрудниками, работающими с ней.</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Размер</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Сложность и широта функциональных возможностей СУБД, превращает ее в чрезвычайно сложный программный продукт, требующий много места на диске и нуждающийся в большом объеме оперативной памяти для эффективной работы.</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260280"/>
            <a:ext cx="8229600" cy="58658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Стоимость СУБД</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 зависимости от имеющейся вычислительной среды и требуемых функциональных возможностей стоимость СУБД может изменяться в очень широких пределах. Кроме того, сопровождение системы составляет некоторый процент от ее общей стоимости.</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Дополнительные затраты на аппаратное обеспечение</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Для удовлетворения требований, предъявляемых СУБД и базой данных, может понадобиться приобрести дополнительные устройства хранения информации или более мощный компьютер.</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Функции СУБД</a:t>
            </a:r>
            <a:endParaRPr b="0" lang="en-US" sz="4400" spc="-1" strike="noStrike">
              <a:solidFill>
                <a:srgbClr val="000000"/>
              </a:solidFill>
              <a:latin typeface="Calibri"/>
            </a:endParaRPr>
          </a:p>
        </p:txBody>
      </p:sp>
      <p:sp>
        <p:nvSpPr>
          <p:cNvPr id="67" name=""/>
          <p:cNvSpPr txBox="1"/>
          <p:nvPr/>
        </p:nvSpPr>
        <p:spPr>
          <a:xfrm>
            <a:off x="0" y="1143000"/>
            <a:ext cx="9144000" cy="5572080"/>
          </a:xfrm>
          <a:prstGeom prst="rect">
            <a:avLst/>
          </a:prstGeom>
          <a:noFill/>
          <a:ln w="0">
            <a:noFill/>
          </a:ln>
        </p:spPr>
        <p:txBody>
          <a:bodyPr anchor="t">
            <a:normAutofit/>
          </a:bodyPr>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анение, извлечение и обновление данных</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БД должна предоставлять пользователям возможность сохранять, извлекать и обновлять данные в базе данных (самая фундаментальная функция СУБД).</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пособ реализации этой функции в СУБД должен позволять скрывать от конечного пользователя внутренние детали физической реализации системы (например, файловую организацию или используемые структуры хранения).</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аталог, доступный конечным пользователям</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БД должна иметь доступный конечным пользователям каталог, в котором хранится описание элементов данных (системный каталог).</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115560"/>
            <a:ext cx="8229600" cy="60102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ff0000"/>
                </a:solidFill>
                <a:uFillTx/>
                <a:latin typeface="Calibri"/>
              </a:rPr>
              <a:t>База Данных </a:t>
            </a:r>
            <a:r>
              <a:rPr b="0" lang="ru-RU" sz="3200" spc="-1" strike="noStrike">
                <a:solidFill>
                  <a:srgbClr val="000000"/>
                </a:solidFill>
                <a:latin typeface="Calibri"/>
              </a:rPr>
              <a:t>— совместно используемый набор логически связанных данных (и их описание!), предназначенных для удовлетворения информационных потребностей организации.</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Файловая система</a:t>
            </a:r>
            <a:r>
              <a:rPr b="0" lang="ru-RU" sz="3200" spc="-1" strike="noStrike">
                <a:solidFill>
                  <a:srgbClr val="000000"/>
                </a:solidFill>
                <a:latin typeface="Calibri"/>
              </a:rPr>
              <a:t> (картотека) - набор программ, которые выполняют для пользователей некоторые операции, каждая программа определяет свои собственные данные и управляет им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лужбы управления параллельной работой</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БД должна иметь механизм, который гарантирует корректное обновление баз данных при параллельном выполнении операций обновления многими пользователям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142920" y="928440"/>
            <a:ext cx="8572320" cy="578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лужбы восстановления</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БД должна предоставлять средства восстановления базы данных на случай какого-либо ее повреждения или разрушени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лужбы контроля доступа к данным</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БД должна иметь механизм, гарантирующий возможность доступа к базе данных только санкционированных пользователе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лужбы поддержки целостности данных</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БД должна обладать инструментами контроля за тем, чтобы данные и их изменения соответствовали заданным правилам (еще один тип защиты базы данных). Целостность базы данных означает корректность и непротиворечивость хранимых данны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лужбы поддержки независимости от данных</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БД должна обладать инструментами поддержки независимости программ от фактической структуры базы данны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спомогательные службы</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БД должна предоставлять некоторый набор различных вспомогательных служб, предназначенных для оказания помощи АБД в эффективном администрировании базы данны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189000"/>
            <a:ext cx="8229600" cy="5937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Файл - простой набор записей, содержащих логически связанные данные.</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ле - некая характеристика моделируемого объекта.</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Т.е.:</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Файл 1 (поле 1, поле 2, поле 3)</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Файл 2 (поле 4, поле 5, поле 6)</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Каждый отдел работает со своими данными с помощью своего специализированного приложения, которое в коде жестко определяет физическую структуру и методы хранение записей в файле.</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Рисунок 3" descr="Схема работы картотеки">
            <a:hlinkClick r:id="rId1"/>
          </p:cNvPr>
          <p:cNvPicPr/>
          <p:nvPr/>
        </p:nvPicPr>
        <p:blipFill>
          <a:blip r:embed="rId2"/>
          <a:stretch/>
        </p:blipFill>
        <p:spPr>
          <a:xfrm>
            <a:off x="611280" y="620640"/>
            <a:ext cx="7921440" cy="604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Система управления базами данных</a:t>
            </a:r>
            <a:r>
              <a:rPr b="0" lang="ru-RU" sz="3200" spc="-1" strike="noStrike">
                <a:solidFill>
                  <a:srgbClr val="000000"/>
                </a:solidFill>
                <a:latin typeface="Calibri"/>
              </a:rPr>
              <a:t> - программное обеспечение, с помощью которого пользователи могут определять, создавать и поддерживать базу данных, а также осуществлять к ней контролируемый доступ.</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260280"/>
            <a:ext cx="8229600" cy="586584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Аппаратное обеспечение</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 зависимости от требований поставленной задачи, конкретной СУБД и ОС аппаратные средства могут варьироваться от одного ПК  до сети многих компьютеров. СУБД требует определенной минимальной конфигурации аппаратных средств, но для приемлемой производительности системы этого может не хватить.</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Программное обеспечение</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Включает в себя ПО:</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самой СУБД</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рикладных программ</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ОС</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15560"/>
            <a:ext cx="8229600" cy="60102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Данные</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аиболее важный компонент СУБД для конечных пользователей. В системном каталоге содержатся:</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мена, типы и размеры элементов данных;</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мена связей;</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граничения целостности данных;</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мена зарегистрированных пользователей, которым предоставлены некоторые права доступа к данным;</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спользуемые индексы и структуры хранения.</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333000"/>
            <a:ext cx="8229600" cy="579276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Процедуры</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 процедурам относятся инструкции и правила, которые должны учитываться при проектировании и использовании базы данных. Описание процедур — инструкции о правилах выполнения:</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егистрация в СУБД;</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спользование отдельного инструмента СУБД или приложения;</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запуск и остановка СУБД;</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оздание резервных копий СУБД;</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404280"/>
            <a:ext cx="8229600" cy="57214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Пользователи</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бслуживание информационных потребностей пользователей — цель проектирования, создания и поддерживания базы данных. По способу использования пользователями системы:</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Рядовые пользователи, обычно не знающие о наличии СУБД (обращающиеся к базе данных с помощью специальных приложений, позволяющих в максимальной степени упростить выполняемые ими операции).</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пытные пользователи, знакомые со структурой базы данных и возможностями СУБД (для выполнения требуемых операций могут использовать язык запросов высокого уровня, например SQL, и даже способны создавать собственные прикладные программы).</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5T04:54:21Z</dcterms:created>
  <dc:creator>Пользователь</dc:creator>
  <dc:description/>
  <dc:language>en-US</dc:language>
  <cp:lastModifiedBy>ivashow@dnevnik.ru</cp:lastModifiedBy>
  <cp:lastPrinted>2018-09-03T05:43:47Z</cp:lastPrinted>
  <dcterms:modified xsi:type="dcterms:W3CDTF">2019-05-08T15:15:10Z</dcterms:modified>
  <cp:revision>12</cp:revision>
  <dc:subject/>
  <dc:title>Вводная лекция. Понятие данных. Предшественники баз данных. Назначение и основные компоненты среды базы данных. Системы управления базами данных (СУБД).</dc:title>
</cp:coreProperties>
</file>