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D1D-5A26-4C72-8410-3A0B5DD7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861-A287-405C-94C2-3559DCB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A59-3DE6-4D8B-9B1C-13FBB2E2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E10-7019-4352-92AB-4A088C67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CB8-6A81-49F6-BB9A-E1384D92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D37-AC3D-4AF1-B40C-C7FBC8A0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574-7B0A-4B05-8CAF-4916FC52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5C0-1F9E-438F-A26B-39B673EF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68B-7C36-40B8-9790-52D8F246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E41-355E-444C-8F2B-59493F6D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24E-4AE2-4551-B5BE-9FDF4114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CA4-99F9-4947-A655-4EC54D1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648F-12C0-41C0-921C-5D7B508DCD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9;&#1072;&#1089;&#1090;&#1072;&#1074;&#1082;&#1080;%20&#1076;&#1083;&#1103;%20&#1092;&#1086;&#1090;&#1086;%20&#1076;&#1077;&#1090;&#1089;&#1082;&#1086;&#1075;&#1086;%20&#1089;&#1072;&#1076;&#1072;&amp;pos=24&amp;uinfo=sw-1423-sh-783-fw-1198-fh-577-pd-1&amp;rpt=simage&amp;img_url=http://www.rastut-goda.ru/images/stories/flexicontent/m_0e87c80bf733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rastut-goda.ru/images/stories/flexicontent/l_0e87c80bf7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950760" y="-96840"/>
            <a:ext cx="6924960" cy="1144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4"/>
          <a:stretch/>
        </p:blipFill>
        <p:spPr>
          <a:xfrm>
            <a:off x="1852560" y="5589720"/>
            <a:ext cx="541332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SAM_2194"/>
          <p:cNvPicPr/>
          <p:nvPr/>
        </p:nvPicPr>
        <p:blipFill>
          <a:blip r:embed="rId1"/>
          <a:stretch/>
        </p:blipFill>
        <p:spPr>
          <a:xfrm>
            <a:off x="395280" y="1844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SAM_2197"/>
          <p:cNvPicPr/>
          <p:nvPr/>
        </p:nvPicPr>
        <p:blipFill>
          <a:blip r:embed="rId2"/>
          <a:stretch/>
        </p:blipFill>
        <p:spPr>
          <a:xfrm>
            <a:off x="6156360" y="191628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SAM_2211"/>
          <p:cNvPicPr/>
          <p:nvPr/>
        </p:nvPicPr>
        <p:blipFill>
          <a:blip r:embed="rId3"/>
          <a:stretch/>
        </p:blipFill>
        <p:spPr>
          <a:xfrm>
            <a:off x="395280" y="407664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SAM_2214"/>
          <p:cNvPicPr/>
          <p:nvPr/>
        </p:nvPicPr>
        <p:blipFill>
          <a:blip r:embed="rId4"/>
          <a:stretch/>
        </p:blipFill>
        <p:spPr>
          <a:xfrm>
            <a:off x="6156360" y="4365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SAM_2213"/>
          <p:cNvPicPr/>
          <p:nvPr/>
        </p:nvPicPr>
        <p:blipFill>
          <a:blip r:embed="rId5"/>
          <a:stretch/>
        </p:blipFill>
        <p:spPr>
          <a:xfrm>
            <a:off x="2987640" y="256536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492360" y="5515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рт - тера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Users\admin\Desktop\Новая папка (2)\для баннера\SAM_0319.JPG"/>
          <p:cNvPicPr/>
          <p:nvPr/>
        </p:nvPicPr>
        <p:blipFill>
          <a:blip r:embed="rId1"/>
          <a:stretch/>
        </p:blipFill>
        <p:spPr>
          <a:xfrm>
            <a:off x="324000" y="1989000"/>
            <a:ext cx="3902040" cy="292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admin\Desktop\Новая папка (2)\для баннера\SAM_0318.JPG"/>
          <p:cNvPicPr/>
          <p:nvPr/>
        </p:nvPicPr>
        <p:blipFill>
          <a:blip r:embed="rId2"/>
          <a:stretch/>
        </p:blipFill>
        <p:spPr>
          <a:xfrm>
            <a:off x="5003640" y="1989000"/>
            <a:ext cx="3902400" cy="2926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2700360" y="5300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т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C:\Users\admin\Desktop\Новая папка (2)\для баннера\SAM_0356.JPG"/>
          <p:cNvPicPr/>
          <p:nvPr/>
        </p:nvPicPr>
        <p:blipFill>
          <a:blip r:embed="rId1"/>
          <a:stretch/>
        </p:blipFill>
        <p:spPr>
          <a:xfrm>
            <a:off x="684360" y="1969920"/>
            <a:ext cx="316692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admin\Desktop\Новая папка (2)\для баннера\SAM_0357.JPG"/>
          <p:cNvPicPr/>
          <p:nvPr/>
        </p:nvPicPr>
        <p:blipFill>
          <a:blip r:embed="rId2"/>
          <a:stretch/>
        </p:blipFill>
        <p:spPr>
          <a:xfrm>
            <a:off x="5508720" y="198900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admin\Desktop\Новая папка (2)\для баннера\SAM_0360.JPG"/>
          <p:cNvPicPr/>
          <p:nvPr/>
        </p:nvPicPr>
        <p:blipFill>
          <a:blip r:embed="rId3"/>
          <a:stretch/>
        </p:blipFill>
        <p:spPr>
          <a:xfrm>
            <a:off x="2556000" y="4653000"/>
            <a:ext cx="2663640" cy="1996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5940360" y="47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атерап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Users\admin\Desktop\новый стол\все документы\рабочий стол 2\Новая папка (2)\SAM_0489.JPG"/>
          <p:cNvPicPr/>
          <p:nvPr/>
        </p:nvPicPr>
        <p:blipFill>
          <a:blip r:embed="rId1"/>
          <a:stretch/>
        </p:blipFill>
        <p:spPr>
          <a:xfrm>
            <a:off x="324000" y="1989000"/>
            <a:ext cx="3228840" cy="242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admin\Desktop\новый стол\все документы\рабочий стол 2\Новая папка (2)\SAM_0456.JPG"/>
          <p:cNvPicPr/>
          <p:nvPr/>
        </p:nvPicPr>
        <p:blipFill>
          <a:blip r:embed="rId2"/>
          <a:stretch/>
        </p:blipFill>
        <p:spPr>
          <a:xfrm>
            <a:off x="5003640" y="1989000"/>
            <a:ext cx="3326040" cy="249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admin\Desktop\новый стол\все документы\рабочий стол 2\Новая папка (2)\SAM_0475.JPG"/>
          <p:cNvPicPr/>
          <p:nvPr/>
        </p:nvPicPr>
        <p:blipFill>
          <a:blip r:embed="rId3"/>
          <a:stretch/>
        </p:blipFill>
        <p:spPr>
          <a:xfrm>
            <a:off x="2700360" y="4537080"/>
            <a:ext cx="2735280" cy="2052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5796000" y="4797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ртивные соревн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SAM_1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1332000" y="981000"/>
            <a:ext cx="6553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a50021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i="1" lang="en-US" sz="2400" spc="1" strike="noStrike">
              <a:ln cap="rnd" w="9360">
                <a:solidFill>
                  <a:srgbClr val="a50021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a50021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i="1" lang="en-US" sz="2400" spc="1" strike="noStrike">
              <a:ln cap="rnd" w="9360">
                <a:solidFill>
                  <a:srgbClr val="a50021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a50021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!!</a:t>
            </a:r>
            <a:endParaRPr b="0" i="1" lang="en-US" sz="2400" spc="1" strike="noStrike">
              <a:ln cap="rnd" w="9360">
                <a:solidFill>
                  <a:srgbClr val="a50021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AM_165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25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БДО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«Бальзинский детский сад «Василе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лад на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доровый малыш – будущее Росс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хранение и укрепление здоровья детей, улучшение их двигательного статуса с учетом индивидуальных возможностей и способностей; формирование у родителей, педагогов, воспитанников ответственности в деле сохранения собственного здоровь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846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средством конкретной практической деятельности педагогов создать условия для развития у детей системного мировоззрения, реальной компетентности, образованности, готовности к основному выбору своих поступков и ответственности за них перед соб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Определить модель двигательного режима в ДОУ, комплексно подходить к отбору программного содержания и методике проведения занятий по физической культуре. Также приемов руководств организованной и самостоятельной деятельности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Организовать профилактическую, оздоровительно - лечебную работу, обеспечить рациональное пит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Воспитание устойчивого интереса к спорту, физической культуре, расширение творческого потенциала родителей в процессе работы с педагогами ДО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SAM_2183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250920" y="1989000"/>
            <a:ext cx="5113080" cy="3834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421080" y="6020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теопатическая гимнаст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SAM_2223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24000" y="206064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012000" y="5659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тб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SAM_2166"/>
          <p:cNvPicPr/>
          <p:nvPr/>
        </p:nvPicPr>
        <p:blipFill>
          <a:blip r:embed="rId1"/>
          <a:stretch/>
        </p:blipFill>
        <p:spPr>
          <a:xfrm>
            <a:off x="324000" y="1989000"/>
            <a:ext cx="5400360" cy="4050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5937120" y="544392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SAM_2226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324000" y="1844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SAM_2228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5076720" y="37893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256680" y="565992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вижные и спортивные иг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SAM_223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1916280"/>
            <a:ext cx="5256000" cy="3941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006520" y="587592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ьчиковая гимнаст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9-05-08T05:36:10Z</dcterms:modified>
  <cp:revision>5</cp:revision>
  <dc:subject/>
  <dc:title>PowerPoint Presentation</dc:title>
</cp:coreProperties>
</file>