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2F7-5784-45F5-8EA0-14DD310D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B2B-61CF-4624-B2DE-DC1C2BEC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EF2-1632-445D-8387-DD2ED1F8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D52-5E2A-4A77-9001-9A6A80F9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A1F-1926-4CC9-9D84-37D7E2DE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AF4-0ABF-46AC-9530-A08269E9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0FB-C89F-4E09-A524-74757740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C2D-8015-47A2-9348-ACC4D1E6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DCF-3813-45D0-84F8-F3A10187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01C-F2E0-40E4-8DE7-67D7287B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BE9-F801-41FA-A414-CD83BC4B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FD1-20BD-4A52-9FB1-64EF04AE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2FC4-F4D1-4A58-A83A-7F53B7EBEE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9;&#1072;&#1089;&#1090;&#1072;&#1074;&#1082;&#1080;%20&#1076;&#1083;&#1103;%20&#1092;&#1086;&#1090;&#1086;%20&#1076;&#1077;&#1090;&#1089;&#1082;&#1086;&#1075;&#1086;%20&#1089;&#1072;&#1076;&#1072;&amp;pos=24&amp;uinfo=sw-1423-sh-783-fw-1198-fh-577-pd-1&amp;rpt=simage&amp;img_url=http://www.rastut-goda.ru/images/stories/flexicontent/m_0e87c80bf733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rastut-goda.ru/images/stories/flexicontent/l_0e87c80bf7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950760" y="-96840"/>
            <a:ext cx="6924960" cy="1144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4"/>
          <a:stretch/>
        </p:blipFill>
        <p:spPr>
          <a:xfrm>
            <a:off x="1852560" y="5589720"/>
            <a:ext cx="541332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SAM_2194"/>
          <p:cNvPicPr/>
          <p:nvPr/>
        </p:nvPicPr>
        <p:blipFill>
          <a:blip r:embed="rId1"/>
          <a:stretch/>
        </p:blipFill>
        <p:spPr>
          <a:xfrm>
            <a:off x="395280" y="184464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SAM_2197"/>
          <p:cNvPicPr/>
          <p:nvPr/>
        </p:nvPicPr>
        <p:blipFill>
          <a:blip r:embed="rId2"/>
          <a:stretch/>
        </p:blipFill>
        <p:spPr>
          <a:xfrm>
            <a:off x="6156360" y="191628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SAM_2211"/>
          <p:cNvPicPr/>
          <p:nvPr/>
        </p:nvPicPr>
        <p:blipFill>
          <a:blip r:embed="rId3"/>
          <a:stretch/>
        </p:blipFill>
        <p:spPr>
          <a:xfrm>
            <a:off x="395280" y="407664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SAM_2214"/>
          <p:cNvPicPr/>
          <p:nvPr/>
        </p:nvPicPr>
        <p:blipFill>
          <a:blip r:embed="rId4"/>
          <a:stretch/>
        </p:blipFill>
        <p:spPr>
          <a:xfrm>
            <a:off x="6156360" y="43657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SAM_2213"/>
          <p:cNvPicPr/>
          <p:nvPr/>
        </p:nvPicPr>
        <p:blipFill>
          <a:blip r:embed="rId5"/>
          <a:stretch/>
        </p:blipFill>
        <p:spPr>
          <a:xfrm>
            <a:off x="2987640" y="256536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492360" y="5515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рт - тера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Users\admin\Desktop\Новая папка (2)\для баннера\SAM_0319.JPG"/>
          <p:cNvPicPr/>
          <p:nvPr/>
        </p:nvPicPr>
        <p:blipFill>
          <a:blip r:embed="rId1"/>
          <a:stretch/>
        </p:blipFill>
        <p:spPr>
          <a:xfrm>
            <a:off x="324000" y="1989000"/>
            <a:ext cx="3902040" cy="2926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admin\Desktop\Новая папка (2)\для баннера\SAM_0318.JPG"/>
          <p:cNvPicPr/>
          <p:nvPr/>
        </p:nvPicPr>
        <p:blipFill>
          <a:blip r:embed="rId2"/>
          <a:stretch/>
        </p:blipFill>
        <p:spPr>
          <a:xfrm>
            <a:off x="5003640" y="1989000"/>
            <a:ext cx="3902400" cy="2926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2700360" y="5300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т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C:\Users\admin\Desktop\Новая папка (2)\для баннера\SAM_0356.JPG"/>
          <p:cNvPicPr/>
          <p:nvPr/>
        </p:nvPicPr>
        <p:blipFill>
          <a:blip r:embed="rId1"/>
          <a:stretch/>
        </p:blipFill>
        <p:spPr>
          <a:xfrm>
            <a:off x="684360" y="1969920"/>
            <a:ext cx="316692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admin\Desktop\Новая папка (2)\для баннера\SAM_0357.JPG"/>
          <p:cNvPicPr/>
          <p:nvPr/>
        </p:nvPicPr>
        <p:blipFill>
          <a:blip r:embed="rId2"/>
          <a:stretch/>
        </p:blipFill>
        <p:spPr>
          <a:xfrm>
            <a:off x="5508720" y="198900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admin\Desktop\Новая папка (2)\для баннера\SAM_0360.JPG"/>
          <p:cNvPicPr/>
          <p:nvPr/>
        </p:nvPicPr>
        <p:blipFill>
          <a:blip r:embed="rId3"/>
          <a:stretch/>
        </p:blipFill>
        <p:spPr>
          <a:xfrm>
            <a:off x="2556000" y="4653000"/>
            <a:ext cx="2663640" cy="1996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5940360" y="47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азкатерап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Users\admin\Desktop\новый стол\все документы\рабочий стол 2\Новая папка (2)\SAM_0489.JPG"/>
          <p:cNvPicPr/>
          <p:nvPr/>
        </p:nvPicPr>
        <p:blipFill>
          <a:blip r:embed="rId1"/>
          <a:stretch/>
        </p:blipFill>
        <p:spPr>
          <a:xfrm>
            <a:off x="324000" y="1989000"/>
            <a:ext cx="3228840" cy="242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admin\Desktop\новый стол\все документы\рабочий стол 2\Новая папка (2)\SAM_0456.JPG"/>
          <p:cNvPicPr/>
          <p:nvPr/>
        </p:nvPicPr>
        <p:blipFill>
          <a:blip r:embed="rId2"/>
          <a:stretch/>
        </p:blipFill>
        <p:spPr>
          <a:xfrm>
            <a:off x="5003640" y="1989000"/>
            <a:ext cx="3326040" cy="2494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admin\Desktop\новый стол\все документы\рабочий стол 2\Новая папка (2)\SAM_0475.JPG"/>
          <p:cNvPicPr/>
          <p:nvPr/>
        </p:nvPicPr>
        <p:blipFill>
          <a:blip r:embed="rId3"/>
          <a:stretch/>
        </p:blipFill>
        <p:spPr>
          <a:xfrm>
            <a:off x="2700360" y="4537080"/>
            <a:ext cx="2735280" cy="205272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5796000" y="4797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ртивные соревн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SAM_18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1332000" y="981000"/>
            <a:ext cx="655308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a50021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i="1" lang="en-US" sz="2400" spc="1" strike="noStrike">
              <a:ln cap="rnd" w="9360">
                <a:solidFill>
                  <a:srgbClr val="a50021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a50021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0" i="1" lang="en-US" sz="2400" spc="1" strike="noStrike">
              <a:ln cap="rnd" w="9360">
                <a:solidFill>
                  <a:srgbClr val="a50021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rnd" w="9360">
                  <a:solidFill>
                    <a:srgbClr val="a50021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ИМАНИЕ!!!</a:t>
            </a:r>
            <a:endParaRPr b="0" i="1" lang="en-US" sz="2400" spc="1" strike="noStrike">
              <a:ln cap="rnd" w="9360">
                <a:solidFill>
                  <a:srgbClr val="a50021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AM_165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25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БДО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«Бальзинский детский сад «Василе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092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лад на т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доровый малыш – будущее Росс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хранение и укрепление здоровья детей, улучшение их двигательного статуса с учетом индивидуальных возможностей и способностей; формирование у родителей, педагогов, воспитанников ответственности в деле сохранения собственного здоровь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846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осредством конкретной практической деятельности педагогов создать условия для развития у детей системного мировоззрения, реальной компетентности, образованности, готовности к основному выбору своих поступков и ответственности за них перед соб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Определить модель двигательного режима в ДОУ, комплексно подходить к отбору программного содержания и методике проведения занятий по физической культуре. Также приемов руководств организованной и самостоятельной деятельности де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Организовать профилактическую, оздоровительно - лечебную работу, обеспечить рациональное пит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Воспитание устойчивого интереса к спорту, физической культуре, расширение творческого потенциала родителей в процессе работы с педагогами ДО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SAM_2183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250920" y="1989000"/>
            <a:ext cx="5113080" cy="3834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421080" y="6020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теопатическая гимнаст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SAM_2223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24000" y="206064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6012000" y="5659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тб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SAM_2166"/>
          <p:cNvPicPr/>
          <p:nvPr/>
        </p:nvPicPr>
        <p:blipFill>
          <a:blip r:embed="rId1"/>
          <a:stretch/>
        </p:blipFill>
        <p:spPr>
          <a:xfrm>
            <a:off x="324000" y="1989000"/>
            <a:ext cx="5400360" cy="4050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5937120" y="5443920"/>
            <a:ext cx="22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SAM_2226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324000" y="1844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SAM_2228"/>
          <p:cNvPicPr/>
          <p:nvPr/>
        </p:nvPicPr>
        <p:blipFill>
          <a:blip r:embed="rId2">
            <a:lum bright="-14000"/>
          </a:blip>
          <a:stretch/>
        </p:blipFill>
        <p:spPr>
          <a:xfrm>
            <a:off x="5076720" y="37893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256680" y="5659920"/>
            <a:ext cx="43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вижные и спортивные иг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доровьесберегающие педагогические технолог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SAM_223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24000" y="1916280"/>
            <a:ext cx="5256000" cy="3941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006520" y="587592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ьчиковая гимнаст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9-05-08T05:36:10Z</dcterms:modified>
  <cp:revision>5</cp:revision>
  <dc:subject/>
  <dc:title>PowerPoint Presentation</dc:title>
</cp:coreProperties>
</file>