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1BB8-694C-43AF-B418-7A087E424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7746-5D95-4D01-82D4-8198FFCC2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E67A-0165-4B97-9784-7315CC8C0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39A1-50C5-4D8E-9CF2-28651DDB5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F549-769E-44BB-BF35-206A0FDD2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C343-50D1-4A1C-BDD4-298EF9AAEA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F8D0-5164-449E-927D-C3B7F3CC07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DA28-7C5D-4CB9-9562-A5E5D4F9E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89DD-FBD1-4FF1-A36A-F1C0A8906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5B9B-ECEE-4F9E-9D84-D7522197C1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8A8F-9F56-4411-91C1-859EEB49EC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51AC-0181-4826-9F42-E9CD05612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E349-3FCD-4217-9539-CBAE2E8AB7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AA9D-AD2B-4B47-B707-098150B3A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B826-21A3-45AC-B32C-7EAA14FF5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5ED4-49A7-4B22-B989-E33BF40E74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76A1-0F91-4A6E-8B04-6C5BD70210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56E-BB74-47FB-AE1C-98BC63692E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E3C-4336-46B6-B38F-8047E9B40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A30-2A4E-413E-AEDB-DB8A72D1F8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ADA-CD4C-4962-81AB-99192A6649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5E2-C3EA-483F-8242-A94F9B0E0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CB5A-4220-49BE-94AA-05ED4E675E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3C3-8E07-41CC-B813-1D34C5978A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758-EA4A-45D1-9848-B82C62D9E1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4B6-5DAF-4E2D-84B8-FDEE7C61D7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86D-8BFE-4F7A-8E70-D7F6A5DCDD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89F-B793-43B9-9E8A-2B5FF6C5B6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F96-1B2E-42BA-911B-17BD2AC558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B56-EFC5-46D7-8008-87A24DBADD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1F37D-07AE-4A39-8951-424AD6BD65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C231-BB08-489B-B7C6-D4DB79AE82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30E77-958B-4530-9A84-78A6D7640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87B3-D05F-4EB4-96D8-8BFD04838F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8FEEE-0084-4B57-BEB7-805CECBB4E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01582-88FD-4268-B0F4-A19485FB8E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AE2C3-D166-4A5E-8EB1-3E73BDC22D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CB43C-A1FA-4FB6-91BF-D3882FE7F9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FB8A9-0F4D-40F4-9064-DF6EE3E028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CADFB-B465-4104-9E3A-87B315BB0A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A48E1-4FB9-4EBC-9FB0-A83BB697B5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64BCF-F188-4BDA-84EC-40EE47F4BD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86352-3BB2-4F6B-AE9E-CABC3A291AC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00343-E9D0-40AF-9FE3-D2D0AFCED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00E3-6A89-4EAE-9D4C-E1091DCF49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8B480-0FB0-4D76-B444-441066F54C8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ADAB-A997-4C0C-8E9A-65FD696F03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9BDFC-A09D-4B02-8DF3-9FE7D27505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7CC4E-C08A-46F0-BA75-BA92BD5904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5E677-D207-4A50-B6E1-CAC6DCF59F6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E316-11F0-4C1A-8F55-01104EEEA5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C8623-2340-4CD4-ACD8-502B44D5E1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C51C-8D29-4812-8F98-B55E87B5B0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68C64-60B9-40E5-A99A-78F0B15E52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0FC3C-2912-49FA-9BEC-5A0874347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78EE-C9C3-4796-B0B2-886892D3F8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4F497-B8F8-47D0-A93A-2BB370133D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8BAB-DE3B-45FC-9CA9-E66F233550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6536-1C00-4563-87AA-B450E2626A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B608-2066-455D-8227-0C6ED1BE03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E4FB-8699-429F-96F4-3499BCF542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504-0A78-4D9B-8C05-F46491FDB7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5B3-8FD4-419E-B06C-86165DF3F5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6319-5DE6-4098-AA19-1BAFC26C0A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0182-756D-482B-8F39-04EDB4772A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31D-69BA-48BB-90F3-7ABB2854A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6CFA-2BBA-4558-B261-5F9F9BF547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6EE-CC53-4950-B932-ED831805DF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830F-53F8-4CE9-BF67-5A09D32156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A176-CA9B-47D3-AC7B-0B457224D1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D2EF-3D02-4B9D-94C3-1DFD612F8F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E6C6-D594-43CF-B3CE-94F52C5183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D2F567-26BA-4373-93A4-BE0CD2C6718F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49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3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00B82D-21B4-41DA-A25A-CD49FDE8945C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97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98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01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4761BC-BA97-48AB-81E5-2A064A0537E7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45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146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49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8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152" name="Rectangle 9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1"/>
          <p:cNvGrpSpPr/>
          <p:nvPr/>
        </p:nvGrpSpPr>
        <p:grpSpPr>
          <a:xfrm>
            <a:off x="3630600" y="4889520"/>
            <a:ext cx="4876920" cy="317520"/>
            <a:chOff x="3630600" y="4889520"/>
            <a:chExt cx="4876920" cy="317520"/>
          </a:xfrm>
        </p:grpSpPr>
        <p:sp>
          <p:nvSpPr>
            <p:cNvPr id="155" name="AutoShape 12"/>
            <p:cNvSpPr/>
            <p:nvPr/>
          </p:nvSpPr>
          <p:spPr>
            <a:xfrm flipH="1">
              <a:off x="3630600" y="4889520"/>
              <a:ext cx="4624560" cy="31572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3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81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4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C8FC3E-1B19-4966-A95C-579CC54DCD24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99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00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03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5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573042-ADED-487A-B681-E839C5F05C24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247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48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51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091C85-DCB5-4711-9898-ACD3FABD0897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295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96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99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Text Box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342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343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346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Text Box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755640" y="333360"/>
            <a:ext cx="7920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Здоровьесберег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технологи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уроках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ых и спортивно-массовых мероприят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835280" y="189000"/>
            <a:ext cx="64818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роприятия здоровьесберегающей деятельности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"/>
          <p:cNvSpPr/>
          <p:nvPr/>
        </p:nvSpPr>
        <p:spPr>
          <a:xfrm>
            <a:off x="539640" y="2357280"/>
            <a:ext cx="79200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учение по темам: Лёгкая атлетика, лыжный спорт, баскетбол, волейбол, футбол, гимнас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методики чередования интенсивности и релаксации в обуч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ёт физической подготовленности детей и развития физических кач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"/>
          <p:cNvSpPr/>
          <p:nvPr/>
        </p:nvSpPr>
        <p:spPr>
          <a:xfrm>
            <a:off x="216000" y="366840"/>
            <a:ext cx="857232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876240" y="1317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316080" y="1989000"/>
            <a:ext cx="86040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оздание эмоционально- положи-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285840" y="428760"/>
            <a:ext cx="850104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682560" y="1125360"/>
            <a:ext cx="7993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щита от влияния неблагоприятных условий внешней среды, а также ТБ, проверка инвентаря и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е сопротивляемости орга-низма к неблагоприятным условиям путём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заимосвязь с медицинским персо-налом и использование их методи-ческих рекомендаций (распределение школьников на медицинские  группы: основная, подготовительная, спе-циальна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"/>
          <p:cNvSpPr/>
          <p:nvPr/>
        </p:nvSpPr>
        <p:spPr>
          <a:xfrm>
            <a:off x="428760" y="360360"/>
            <a:ext cx="850104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684360" y="2421000"/>
            <a:ext cx="77770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наличие туалетов и умывальников в раздевалках девочек и маль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ответствующее освещение, наличие аптеч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бования к спортивному оборуд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воздушно-тепл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личная гигиена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наличие у каждого учащегося сменной спортивной обуви и спортивной формы для занятий на уроке физической культуры в зале и соответствующей формы при уроках на свежем воздухе (осень-весна, зи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бования к расписанию ур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"/>
          <p:cNvSpPr/>
          <p:nvPr/>
        </p:nvSpPr>
        <p:spPr>
          <a:xfrm>
            <a:off x="428760" y="428760"/>
            <a:ext cx="850104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гиенический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4-26T18:24:23Z</dcterms:modified>
  <cp:revision>2</cp:revision>
  <dc:subject/>
  <dc:title>Презентация PowerPoint</dc:title>
</cp:coreProperties>
</file>