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1E7C-C588-4929-B9A2-ED158910C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F341-5D73-4149-BF20-E57E4F559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7DA5-A138-46EE-AF60-74290EA2A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EB4E-85D1-4AA2-936F-2BC03D84A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7CBB8-3603-4D77-84A8-4AE7DD3F9B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0652-5391-470D-9126-474B3F7B0E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816D-EA1D-4B78-ACD4-D8A7C4B553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2ACB1-9F97-4F9A-B005-B48225E815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28E93-5035-4C81-B0C5-C3F303999D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879D-2DCF-4CC8-83A5-22C09F9913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149B5-1A95-4A00-A95E-E374FB4E6B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989F-F40E-48B7-9322-2AA842B9E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78B8E-E9F7-4CBE-82CA-BEA033E5BA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FBA9-AC4F-4BD6-87EC-838AF5017C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89873-00D9-427F-AD79-BC1F835859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488E-211C-4114-AEE7-6A76D30628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DEC5B-D7E3-47DA-BEFA-76A03F4161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472-5E30-4327-9AA7-2C8566912E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061-A065-4D08-BEDF-13C56F9E0E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32F-0FC5-4AE3-8F4A-6C8CA1403F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E5E-4301-4654-8C9D-E11C7C461C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563-6834-4728-8D50-E3743763C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58AE-6CFC-4529-B573-566B1C74CC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0A6-85D5-439C-885B-58CB704CA7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20E-9E21-45EC-BB69-28AFBC9B9E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058-7B42-4429-B578-640E3394FF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1504-1B2C-4A50-8C34-A55BC0769B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F81-61B2-487A-AA9F-8B41B988F5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4DD-9CC0-4378-88A2-A4DF6F8D16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6EE-F94C-47D7-9700-F970C94280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776A1-9DA7-4BAE-82FA-D3DB26C010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6AC5F-D3DB-4F98-A2A1-343A1EEAFF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58790-5799-4BFA-9318-32DB76B56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FB79-0F0F-4359-A330-6504AD4E33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F67D2-9FBA-40CF-A9AB-220E03DE5D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83096-22B0-4106-A4C7-729BF999AD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AF4A5-DBCC-4648-BBCA-4061C611D2F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90A9C-A016-47EC-8326-DD5FA2A638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DB996-5053-4C76-990C-DA12CE6B11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E9F3E-4C4A-4201-8083-6708E60233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CD8E3-C60C-4F28-B9A3-DBAFE78936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C9270-39B6-4C70-B6D4-5B31A709FB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BAD0C-9449-4ABC-BFD5-E0DD3A10B6B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37130-91E0-4180-BCE6-5862B056D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0902-8EEE-44E0-B483-E67DD008D0D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16BAA-A23F-4CFB-AAF6-6A63DF594B6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81D2C-070E-40FD-B816-C18E90AAA9F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B947B-EC30-4773-A57C-79118E10EE2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B18E9-C4DA-45F5-9CC5-3FFF10EEA51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D363F-2A45-41BC-817C-FB6ED35FDC0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11217-EA53-4E0B-95CA-680C81A0CBD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C21BC-43AB-4ED2-8EE2-C1A20AE7126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1B04E-EF50-4C68-8D5B-B452155628E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24F6B-F480-4CC7-B6D6-68D1F09880A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771DB-CA0A-4AE0-B5D8-0065CF9EC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A4DF-F6AB-4E42-9248-632C939CB18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3C91D-8D34-46AE-9A73-FC64CEB310F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EE19-E47C-48A8-9C9E-5A1229EA021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B84B-4258-42BF-9863-76445051AA7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DEFB-0EC1-47B7-A2D5-7A78D24289A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D924-A67B-4029-9DBF-9D15F303CA8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3D41-16DE-4977-A4B1-2EC74249B1B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D3A0-78A7-40E9-A182-7D1D39C365B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9550-0A13-411C-B9CE-16ADC75E0E9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1DCD-DA40-4C20-90AB-263DC7A53DA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01E7-4C6C-41C7-9535-183322B07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6C81-BF8E-476F-975B-7D0B2036F82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BC17-18A4-4953-A5F2-EA04D20D0B2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C785-437D-4FB2-A9BA-2BB8A8CCE5D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88F0-7DA4-4B3B-8A39-F193A14A117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E6DC-A307-4F0B-B772-8D595BC70AE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58F6-E81E-4553-ADE9-EB00B0CF983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376884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40F30B-138D-4D4F-A668-A4D9A128E010}" type="slidenum">
              <a: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49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53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376884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BD2143-9C0D-4807-AD2D-DC6D004E8A6D}" type="slidenum">
              <a: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97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98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101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48774D-E589-4367-833F-4EF2B912ED1F}" type="slidenum">
              <a: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145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146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149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Group 8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152" name="Rectangle 9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0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1"/>
          <p:cNvGrpSpPr/>
          <p:nvPr/>
        </p:nvGrpSpPr>
        <p:grpSpPr>
          <a:xfrm>
            <a:off x="3630600" y="4889520"/>
            <a:ext cx="4876920" cy="317520"/>
            <a:chOff x="3630600" y="4889520"/>
            <a:chExt cx="4876920" cy="317520"/>
          </a:xfrm>
        </p:grpSpPr>
        <p:sp>
          <p:nvSpPr>
            <p:cNvPr id="155" name="AutoShape 12"/>
            <p:cNvSpPr/>
            <p:nvPr/>
          </p:nvSpPr>
          <p:spPr>
            <a:xfrm flipH="1">
              <a:off x="3630600" y="4889520"/>
              <a:ext cx="4624560" cy="31572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3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81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Num" idx="4"/>
          </p:nvPr>
        </p:nvSpPr>
        <p:spPr>
          <a:xfrm>
            <a:off x="75960" y="6248160"/>
            <a:ext cx="585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E24C0E-31D2-478C-9121-8539959BD16B}" type="slidenum">
              <a: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199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00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203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376884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469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46960" indent="-246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5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BC29F2-0533-49F4-95C7-D992F15C521F}" type="slidenum">
              <a: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247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48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251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Text Box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F69510-53AD-47DD-A989-037F3B285FEA}" type="slidenum">
              <a:rPr b="0" lang="ru-RU" sz="2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295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96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299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Text Box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"/>
          <p:cNvGrpSpPr/>
          <p:nvPr/>
        </p:nvGrpSpPr>
        <p:grpSpPr>
          <a:xfrm>
            <a:off x="0" y="0"/>
            <a:ext cx="7617600" cy="6856560"/>
            <a:chOff x="0" y="0"/>
            <a:chExt cx="7617600" cy="6856560"/>
          </a:xfrm>
        </p:grpSpPr>
        <p:grpSp>
          <p:nvGrpSpPr>
            <p:cNvPr id="342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343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5"/>
            <p:cNvGrpSpPr/>
            <p:nvPr/>
          </p:nvGrpSpPr>
          <p:grpSpPr>
            <a:xfrm>
              <a:off x="227160" y="1981080"/>
              <a:ext cx="7390440" cy="317520"/>
              <a:chOff x="227160" y="1981080"/>
              <a:chExt cx="7390440" cy="317520"/>
            </a:xfrm>
          </p:grpSpPr>
          <p:sp>
            <p:nvSpPr>
              <p:cNvPr id="346" name="AutoShape 6"/>
              <p:cNvSpPr/>
              <p:nvPr/>
            </p:nvSpPr>
            <p:spPr>
              <a:xfrm>
                <a:off x="609120" y="1981080"/>
                <a:ext cx="7008480" cy="316080"/>
              </a:xfrm>
              <a:prstGeom prst="roundRect">
                <a:avLst>
                  <a:gd name="adj" fmla="val 16667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7"/>
              <p:cNvSpPr/>
              <p:nvPr/>
            </p:nvSpPr>
            <p:spPr>
              <a:xfrm flipH="1">
                <a:off x="227160" y="1981080"/>
                <a:ext cx="3916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Text Box 8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755640" y="333360"/>
            <a:ext cx="79200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Здоровьесберегающ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технологии 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111111"/>
                </a:solidFill>
                <a:latin typeface="Arial"/>
              </a:rPr>
              <a:t>уроках физической куль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10920" y="234900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физкультурно-оздоровительных и спортивно-массовых мероприятий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 системы просветительской работы с учениками по формированию у учащихся культуры отношения к своему здоровь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ышение уровня образованности в области физической культуры, спорта и здорового образа жизн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у школьников устойчивого интереса и потребности в регулярных занятиях физической культурой и спортом и навыков здорового образа жизн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Прямоугольник 1"/>
          <p:cNvSpPr/>
          <p:nvPr/>
        </p:nvSpPr>
        <p:spPr>
          <a:xfrm>
            <a:off x="1835280" y="189000"/>
            <a:ext cx="64818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мероприятия здоровьесберегающей деятельности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"/>
          <p:cNvSpPr/>
          <p:nvPr/>
        </p:nvSpPr>
        <p:spPr>
          <a:xfrm>
            <a:off x="539640" y="2357280"/>
            <a:ext cx="79200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учение по темам: Лёгкая атлетика, лыжный спорт, баскетбол, волейбол, футбол, гимнаст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ование принципа наглядности, постепенности, доступности нагрузки с учётом возрастных особенностей учащихс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ование методики чередования интенсивности и релаксации в обучен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чёт физической подготовленности детей и развития физических кач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"/>
          <p:cNvSpPr/>
          <p:nvPr/>
        </p:nvSpPr>
        <p:spPr>
          <a:xfrm>
            <a:off x="216000" y="366840"/>
            <a:ext cx="8572320" cy="8571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876240" y="13176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316080" y="1989000"/>
            <a:ext cx="86040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учет психологических особенностей учащихся согласно их возрастным особенностя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создание эмоционально- положи-тельного фона в обучении и общении (спортивные, подвижные игры и игровые упражн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стимулирование мотивации на успешность в обучении, оказание поддержки и помощи ребенку в выполнении упраж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развитие речи, психических процессов (восприятие, внимание, представление, мышление, память, воображение), а также умственных способностей (наблюдение, сравнение, обобще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получение знаний в различных видах спортив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285840" y="428760"/>
            <a:ext cx="8501040" cy="8571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"/>
          <p:cNvSpPr/>
          <p:nvPr/>
        </p:nvSpPr>
        <p:spPr>
          <a:xfrm>
            <a:off x="682560" y="1125360"/>
            <a:ext cx="799308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щита от влияния неблагоприятных условий внешней среды, а также ТБ, проверка инвентаря и оборуд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крепление здоровья (развитие и укрепление дыхательной, сердечно-сосудистой, мышечной, нервной  систем). Создание условий для нормальной работы всех органов и систем организ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вышение сопротивляемости орга-низма к неблагоприятным условиям путём закали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заимосвязь с медицинским персо-налом и использование их методи-ческих рекомендаций (распределение школьников на медицинские  группы: основная, подготовительная, спе-циальная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"/>
          <p:cNvSpPr/>
          <p:nvPr/>
        </p:nvSpPr>
        <p:spPr>
          <a:xfrm>
            <a:off x="428760" y="360360"/>
            <a:ext cx="8501040" cy="8571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доровительная 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"/>
          <p:cNvSpPr/>
          <p:nvPr/>
        </p:nvSpPr>
        <p:spPr>
          <a:xfrm>
            <a:off x="684360" y="2421000"/>
            <a:ext cx="777708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наличие туалетов и умывальников в раздевалках девочек и мальчи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соответствующее освещение, наличие аптеч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требования к спортивному оборудовани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воздушно-тепловой реж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личная гигиена уча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наличие у каждого учащегося сменной спортивной обуви и спортивной формы для занятий на уроке физической культуры в зале и соответствующей формы при уроках на свежем воздухе (осень-весна, зим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lnSpc>
                <a:spcPct val="80000"/>
              </a:lnSpc>
              <a:spcBef>
                <a:spcPts val="363"/>
              </a:spcBef>
              <a:buClr>
                <a:srgbClr val="003366"/>
              </a:buClr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требования к расписанию уро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63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2"/>
          <p:cNvSpPr/>
          <p:nvPr/>
        </p:nvSpPr>
        <p:spPr>
          <a:xfrm>
            <a:off x="428760" y="428760"/>
            <a:ext cx="8501040" cy="8571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гиенический реж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9-04-26T18:24:23Z</dcterms:modified>
  <cp:revision>2</cp:revision>
  <dc:subject/>
  <dc:title>Презентация PowerPoint</dc:title>
</cp:coreProperties>
</file>