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click.wav" ContentType="audio/x-wav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537F-D8DC-44F7-8FD9-1BC1CE760E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072B-BA08-40DA-A6A0-9FA3D74FD40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CFAD-7AED-4986-B518-EAE1A2845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52B8-32B0-4CCE-9652-B9441A14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697D-DD8C-43A1-92A9-A85F47208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FA24-D0BC-430A-9388-6DBDF3EAC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A0B3-9FAF-4296-B1C0-F19734B3C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363A-77B0-48A5-9E2A-D5155B74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ADE0-8F27-4985-BA7C-C6F54E29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B7F0-4ECA-4763-A258-2FB6A452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F3DD-F766-46BA-B29B-7DA71958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844D-9FC0-4DDC-829F-EDBF9EF1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A358-2023-4292-A411-B60FD19E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B007-0B70-4139-9823-D469510C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8BA3-C66C-4556-B692-AC0BAC6F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DC4D-977D-4725-AEE5-5C7CBA6D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ACFA-A366-4CBA-8933-E8059FCB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346E-95C6-4746-ACAC-0316E9874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493F-83A2-4EAA-BEE8-7AF9AFB82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1EC5-C456-48CC-A488-74FA7498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040F-FE89-4AA0-A7D6-48949015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A441-40E3-439F-8871-EACF907A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D8C3-69CD-4F6C-9B30-77275670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1DB1-F704-4A5B-84E9-D7F84FAF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CD47-CBF0-4AC4-A700-FFD13830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D389-52CC-4F47-81A0-5B5937BF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D317-2068-45C7-BDC4-9D08B575EA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2F77-177B-4DA1-8F6D-A3FE4CF3490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6000" y="907920"/>
            <a:ext cx="824364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Физкультура спорт и я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неразлучные друзья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med" advTm="3000">
    <p:circle/>
    <p:sndAc>
      <p:stSnd>
        <p:snd r:embed="rId1" name="click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IMG_4576"/>
          <p:cNvPicPr/>
          <p:nvPr/>
        </p:nvPicPr>
        <p:blipFill>
          <a:blip r:embed="rId1"/>
          <a:stretch/>
        </p:blipFill>
        <p:spPr>
          <a:xfrm>
            <a:off x="888840" y="444600"/>
            <a:ext cx="3162600" cy="23749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2592360" y="2889360"/>
            <a:ext cx="38098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icrosoft Sans Serif"/>
              </a:rPr>
              <a:t>сильные смелые быстрые умел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IMG_4549"/>
          <p:cNvPicPr/>
          <p:nvPr/>
        </p:nvPicPr>
        <p:blipFill>
          <a:blip r:embed="rId2"/>
          <a:stretch/>
        </p:blipFill>
        <p:spPr>
          <a:xfrm>
            <a:off x="5079960" y="444600"/>
            <a:ext cx="3162240" cy="2374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IMG_4552"/>
          <p:cNvPicPr/>
          <p:nvPr/>
        </p:nvPicPr>
        <p:blipFill>
          <a:blip r:embed="rId3"/>
          <a:stretch/>
        </p:blipFill>
        <p:spPr>
          <a:xfrm>
            <a:off x="888840" y="3619440"/>
            <a:ext cx="3162600" cy="2374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IMG_4553"/>
          <p:cNvPicPr/>
          <p:nvPr/>
        </p:nvPicPr>
        <p:blipFill>
          <a:blip r:embed="rId4"/>
          <a:stretch/>
        </p:blipFill>
        <p:spPr>
          <a:xfrm>
            <a:off x="5079960" y="3619440"/>
            <a:ext cx="3162240" cy="2374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ircle/>
    <p:sndAc>
      <p:stSnd>
        <p:snd r:embed="rId5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IMG_4554"/>
          <p:cNvPicPr/>
          <p:nvPr/>
        </p:nvPicPr>
        <p:blipFill>
          <a:blip r:embed="rId1"/>
          <a:stretch/>
        </p:blipFill>
        <p:spPr>
          <a:xfrm>
            <a:off x="888840" y="444600"/>
            <a:ext cx="3162600" cy="23749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2843280" y="2924280"/>
            <a:ext cx="38098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icrosoft Sans Serif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Microsoft Sans Serif"/>
              </a:rPr>
              <a:t>будем мы тренировать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IMG_4555"/>
          <p:cNvPicPr/>
          <p:nvPr/>
        </p:nvPicPr>
        <p:blipFill>
          <a:blip r:embed="rId2"/>
          <a:stretch/>
        </p:blipFill>
        <p:spPr>
          <a:xfrm>
            <a:off x="5079960" y="444600"/>
            <a:ext cx="3162240" cy="237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IMG_4556"/>
          <p:cNvPicPr/>
          <p:nvPr/>
        </p:nvPicPr>
        <p:blipFill>
          <a:blip r:embed="rId3"/>
          <a:stretch/>
        </p:blipFill>
        <p:spPr>
          <a:xfrm>
            <a:off x="888840" y="3619440"/>
            <a:ext cx="3162600" cy="2374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IMG_4557"/>
          <p:cNvPicPr/>
          <p:nvPr/>
        </p:nvPicPr>
        <p:blipFill>
          <a:blip r:embed="rId4"/>
          <a:stretch/>
        </p:blipFill>
        <p:spPr>
          <a:xfrm>
            <a:off x="5079960" y="3619440"/>
            <a:ext cx="3162240" cy="2374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ircle/>
    <p:sndAc>
      <p:stSnd>
        <p:snd r:embed="rId5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IMG_4558"/>
          <p:cNvPicPr/>
          <p:nvPr/>
        </p:nvPicPr>
        <p:blipFill>
          <a:blip r:embed="rId1"/>
          <a:stretch/>
        </p:blipFill>
        <p:spPr>
          <a:xfrm>
            <a:off x="888840" y="444600"/>
            <a:ext cx="3162600" cy="2374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2735280" y="2889360"/>
            <a:ext cx="38098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icrosoft Sans Serif"/>
              </a:rPr>
              <a:t>Будем мы соревновать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IMG_4559"/>
          <p:cNvPicPr/>
          <p:nvPr/>
        </p:nvPicPr>
        <p:blipFill>
          <a:blip r:embed="rId2"/>
          <a:stretch/>
        </p:blipFill>
        <p:spPr>
          <a:xfrm>
            <a:off x="5079960" y="444600"/>
            <a:ext cx="3162240" cy="2374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IMG_4561"/>
          <p:cNvPicPr/>
          <p:nvPr/>
        </p:nvPicPr>
        <p:blipFill>
          <a:blip r:embed="rId3"/>
          <a:stretch/>
        </p:blipFill>
        <p:spPr>
          <a:xfrm>
            <a:off x="888840" y="3619440"/>
            <a:ext cx="3162600" cy="2374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IMG_4562"/>
          <p:cNvPicPr/>
          <p:nvPr/>
        </p:nvPicPr>
        <p:blipFill>
          <a:blip r:embed="rId4"/>
          <a:stretch/>
        </p:blipFill>
        <p:spPr>
          <a:xfrm>
            <a:off x="5079960" y="3619440"/>
            <a:ext cx="3162240" cy="2374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ircle/>
    <p:sndAc>
      <p:stSnd>
        <p:snd r:embed="rId5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IMG_4563"/>
          <p:cNvPicPr/>
          <p:nvPr/>
        </p:nvPicPr>
        <p:blipFill>
          <a:blip r:embed="rId1"/>
          <a:stretch/>
        </p:blipFill>
        <p:spPr>
          <a:xfrm>
            <a:off x="888840" y="444600"/>
            <a:ext cx="3162600" cy="23749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2808360" y="2852640"/>
            <a:ext cx="38098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icrosoft Sans Serif"/>
              </a:rPr>
              <a:t>сильные смелые быстрые умел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IMG_4575"/>
          <p:cNvPicPr/>
          <p:nvPr/>
        </p:nvPicPr>
        <p:blipFill>
          <a:blip r:embed="rId2"/>
          <a:stretch/>
        </p:blipFill>
        <p:spPr>
          <a:xfrm>
            <a:off x="5079960" y="444600"/>
            <a:ext cx="3162240" cy="2374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IMG_4577"/>
          <p:cNvPicPr/>
          <p:nvPr/>
        </p:nvPicPr>
        <p:blipFill>
          <a:blip r:embed="rId3"/>
          <a:stretch/>
        </p:blipFill>
        <p:spPr>
          <a:xfrm>
            <a:off x="888840" y="3619440"/>
            <a:ext cx="3162600" cy="2374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IMG_4579"/>
          <p:cNvPicPr/>
          <p:nvPr/>
        </p:nvPicPr>
        <p:blipFill>
          <a:blip r:embed="rId4"/>
          <a:stretch/>
        </p:blipFill>
        <p:spPr>
          <a:xfrm>
            <a:off x="5079960" y="3619440"/>
            <a:ext cx="3162240" cy="2374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ircle/>
    <p:sndAc>
      <p:stSnd>
        <p:snd r:embed="rId5" name="click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IMG_4580"/>
          <p:cNvPicPr/>
          <p:nvPr/>
        </p:nvPicPr>
        <p:blipFill>
          <a:blip r:embed="rId1"/>
          <a:stretch/>
        </p:blipFill>
        <p:spPr>
          <a:xfrm>
            <a:off x="888840" y="444600"/>
            <a:ext cx="3162600" cy="23749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2700360" y="2816280"/>
            <a:ext cx="38098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icrosoft Sans Serif"/>
              </a:rPr>
              <a:t>сильные смелые быстрые умел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4" descr="IMG_4581"/>
          <p:cNvPicPr/>
          <p:nvPr/>
        </p:nvPicPr>
        <p:blipFill>
          <a:blip r:embed="rId2"/>
          <a:stretch/>
        </p:blipFill>
        <p:spPr>
          <a:xfrm>
            <a:off x="5079960" y="444600"/>
            <a:ext cx="3162240" cy="2374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IMG_4584"/>
          <p:cNvPicPr/>
          <p:nvPr/>
        </p:nvPicPr>
        <p:blipFill>
          <a:blip r:embed="rId3"/>
          <a:stretch/>
        </p:blipFill>
        <p:spPr>
          <a:xfrm>
            <a:off x="888840" y="3619440"/>
            <a:ext cx="3162600" cy="2374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IMG_4585"/>
          <p:cNvPicPr/>
          <p:nvPr/>
        </p:nvPicPr>
        <p:blipFill>
          <a:blip r:embed="rId4"/>
          <a:stretch/>
        </p:blipFill>
        <p:spPr>
          <a:xfrm>
            <a:off x="5079960" y="3619440"/>
            <a:ext cx="3162240" cy="2374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ircle/>
    <p:sndAc>
      <p:stSnd>
        <p:snd r:embed="rId5" name="click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IMG_4586"/>
          <p:cNvPicPr/>
          <p:nvPr/>
        </p:nvPicPr>
        <p:blipFill>
          <a:blip r:embed="rId1"/>
          <a:stretch/>
        </p:blipFill>
        <p:spPr>
          <a:xfrm>
            <a:off x="888840" y="444600"/>
            <a:ext cx="3162600" cy="2374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IMG_4593"/>
          <p:cNvPicPr/>
          <p:nvPr/>
        </p:nvPicPr>
        <p:blipFill>
          <a:blip r:embed="rId2"/>
          <a:stretch/>
        </p:blipFill>
        <p:spPr>
          <a:xfrm>
            <a:off x="5079960" y="444600"/>
            <a:ext cx="3162240" cy="2374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IMG_4596"/>
          <p:cNvPicPr/>
          <p:nvPr/>
        </p:nvPicPr>
        <p:blipFill>
          <a:blip r:embed="rId3"/>
          <a:stretch/>
        </p:blipFill>
        <p:spPr>
          <a:xfrm>
            <a:off x="2951280" y="3716280"/>
            <a:ext cx="3162240" cy="23749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7"/>
          <p:cNvSpPr/>
          <p:nvPr/>
        </p:nvSpPr>
        <p:spPr>
          <a:xfrm>
            <a:off x="2627280" y="3033720"/>
            <a:ext cx="38098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icrosoft Sans Serif"/>
              </a:rPr>
              <a:t>сильные смелые быстрые умел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circle/>
    <p:sndAc>
      <p:stSnd>
        <p:snd r:embed="rId4" name="click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ксана Владимировна</cp:lastModifiedBy>
  <dcterms:modified xsi:type="dcterms:W3CDTF">2019-05-09T17:09:4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