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click.wav" ContentType="audio/x-wav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294A-6742-4B8E-9EF6-925B7D99FB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451B-31B2-4162-BF0D-04A22A65C1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200B-74C0-4C7F-B075-8C7CB013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B2E5-210B-499C-83B1-023A371B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D21-3FC7-4725-BB6C-3969055A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6A1E-380C-4FF3-AF57-90E85016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E7CA-2777-4490-BA9F-6630109D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A638-C31F-4D74-8C1C-F3EA8F45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11A8-9188-4596-8D9B-CF6C5604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60A9-C83E-44ED-8B79-31D109D4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935E-332C-4CE7-A929-7F59B44D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8F98-4913-486E-9946-CBAFE5AC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EB27-1F56-4E7D-9BC6-14D0BE63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7BFA-3A8A-4674-A268-DE2346F0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AD35-CE78-4813-8669-B5132533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1DE6-5F42-4743-9039-7E75633D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6B14-667E-4185-94AD-DB1580E9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E6C9-1FCF-4A82-BCDD-F89F1637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0633-0A9D-4E56-8415-50EF9AC6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48E-B9B5-4523-BAA1-933A63B2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30F5-E856-4DF9-B424-CD1A95BE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325-6340-43A3-87C0-D3FE68CA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DC89-964A-4728-9FD5-9735611A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254C-BDEC-455D-B6CC-106D3C5A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E303-A930-413E-8878-2F6B30C9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CF68-51AD-448C-B5CC-14649682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8E45-1F57-42AF-88A2-B00F9C0CD5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32E6-39E3-4604-B4BE-37AEC80D9D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6000" y="907920"/>
            <a:ext cx="824364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Физкультура спорт и я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неразлучные друзья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med" advTm="3000">
    <p:circle/>
    <p:sndAc>
      <p:stSnd>
        <p:snd r:embed="rId1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IMG_4576"/>
          <p:cNvPicPr/>
          <p:nvPr/>
        </p:nvPicPr>
        <p:blipFill>
          <a:blip r:embed="rId1"/>
          <a:stretch/>
        </p:blipFill>
        <p:spPr>
          <a:xfrm>
            <a:off x="888840" y="444600"/>
            <a:ext cx="3162600" cy="2374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2592360" y="2889360"/>
            <a:ext cx="3809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icrosoft Sans Serif"/>
              </a:rPr>
              <a:t>сильные смелые быстрые умел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IMG_4549"/>
          <p:cNvPicPr/>
          <p:nvPr/>
        </p:nvPicPr>
        <p:blipFill>
          <a:blip r:embed="rId2"/>
          <a:stretch/>
        </p:blipFill>
        <p:spPr>
          <a:xfrm>
            <a:off x="5079960" y="444600"/>
            <a:ext cx="3162240" cy="2374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IMG_4552"/>
          <p:cNvPicPr/>
          <p:nvPr/>
        </p:nvPicPr>
        <p:blipFill>
          <a:blip r:embed="rId3"/>
          <a:stretch/>
        </p:blipFill>
        <p:spPr>
          <a:xfrm>
            <a:off x="888840" y="3619440"/>
            <a:ext cx="3162600" cy="2374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IMG_4553"/>
          <p:cNvPicPr/>
          <p:nvPr/>
        </p:nvPicPr>
        <p:blipFill>
          <a:blip r:embed="rId4"/>
          <a:stretch/>
        </p:blipFill>
        <p:spPr>
          <a:xfrm>
            <a:off x="5079960" y="3619440"/>
            <a:ext cx="3162240" cy="237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ircle/>
    <p:sndAc>
      <p:stSnd>
        <p:snd r:embed="rId5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IMG_4554"/>
          <p:cNvPicPr/>
          <p:nvPr/>
        </p:nvPicPr>
        <p:blipFill>
          <a:blip r:embed="rId1"/>
          <a:stretch/>
        </p:blipFill>
        <p:spPr>
          <a:xfrm>
            <a:off x="888840" y="444600"/>
            <a:ext cx="3162600" cy="2374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2843280" y="2924280"/>
            <a:ext cx="38098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icrosoft Sans Serif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Microsoft Sans Serif"/>
              </a:rPr>
              <a:t>будем мы тренировать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IMG_4555"/>
          <p:cNvPicPr/>
          <p:nvPr/>
        </p:nvPicPr>
        <p:blipFill>
          <a:blip r:embed="rId2"/>
          <a:stretch/>
        </p:blipFill>
        <p:spPr>
          <a:xfrm>
            <a:off x="5079960" y="444600"/>
            <a:ext cx="3162240" cy="237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IMG_4556"/>
          <p:cNvPicPr/>
          <p:nvPr/>
        </p:nvPicPr>
        <p:blipFill>
          <a:blip r:embed="rId3"/>
          <a:stretch/>
        </p:blipFill>
        <p:spPr>
          <a:xfrm>
            <a:off x="888840" y="3619440"/>
            <a:ext cx="3162600" cy="237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IMG_4557"/>
          <p:cNvPicPr/>
          <p:nvPr/>
        </p:nvPicPr>
        <p:blipFill>
          <a:blip r:embed="rId4"/>
          <a:stretch/>
        </p:blipFill>
        <p:spPr>
          <a:xfrm>
            <a:off x="5079960" y="3619440"/>
            <a:ext cx="3162240" cy="237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ircle/>
    <p:sndAc>
      <p:stSnd>
        <p:snd r:embed="rId5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IMG_4558"/>
          <p:cNvPicPr/>
          <p:nvPr/>
        </p:nvPicPr>
        <p:blipFill>
          <a:blip r:embed="rId1"/>
          <a:stretch/>
        </p:blipFill>
        <p:spPr>
          <a:xfrm>
            <a:off x="888840" y="444600"/>
            <a:ext cx="3162600" cy="2374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2735280" y="2889360"/>
            <a:ext cx="38098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icrosoft Sans Serif"/>
              </a:rPr>
              <a:t>Будем мы соревновать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IMG_4559"/>
          <p:cNvPicPr/>
          <p:nvPr/>
        </p:nvPicPr>
        <p:blipFill>
          <a:blip r:embed="rId2"/>
          <a:stretch/>
        </p:blipFill>
        <p:spPr>
          <a:xfrm>
            <a:off x="5079960" y="444600"/>
            <a:ext cx="3162240" cy="2374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IMG_4561"/>
          <p:cNvPicPr/>
          <p:nvPr/>
        </p:nvPicPr>
        <p:blipFill>
          <a:blip r:embed="rId3"/>
          <a:stretch/>
        </p:blipFill>
        <p:spPr>
          <a:xfrm>
            <a:off x="888840" y="3619440"/>
            <a:ext cx="3162600" cy="2374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IMG_4562"/>
          <p:cNvPicPr/>
          <p:nvPr/>
        </p:nvPicPr>
        <p:blipFill>
          <a:blip r:embed="rId4"/>
          <a:stretch/>
        </p:blipFill>
        <p:spPr>
          <a:xfrm>
            <a:off x="5079960" y="3619440"/>
            <a:ext cx="3162240" cy="237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ircle/>
    <p:sndAc>
      <p:stSnd>
        <p:snd r:embed="rId5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IMG_4563"/>
          <p:cNvPicPr/>
          <p:nvPr/>
        </p:nvPicPr>
        <p:blipFill>
          <a:blip r:embed="rId1"/>
          <a:stretch/>
        </p:blipFill>
        <p:spPr>
          <a:xfrm>
            <a:off x="888840" y="444600"/>
            <a:ext cx="3162600" cy="2374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2808360" y="2852640"/>
            <a:ext cx="3809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icrosoft Sans Serif"/>
              </a:rPr>
              <a:t>сильные смелые быстрые умел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IMG_4575"/>
          <p:cNvPicPr/>
          <p:nvPr/>
        </p:nvPicPr>
        <p:blipFill>
          <a:blip r:embed="rId2"/>
          <a:stretch/>
        </p:blipFill>
        <p:spPr>
          <a:xfrm>
            <a:off x="5079960" y="444600"/>
            <a:ext cx="3162240" cy="2374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IMG_4577"/>
          <p:cNvPicPr/>
          <p:nvPr/>
        </p:nvPicPr>
        <p:blipFill>
          <a:blip r:embed="rId3"/>
          <a:stretch/>
        </p:blipFill>
        <p:spPr>
          <a:xfrm>
            <a:off x="888840" y="3619440"/>
            <a:ext cx="3162600" cy="237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IMG_4579"/>
          <p:cNvPicPr/>
          <p:nvPr/>
        </p:nvPicPr>
        <p:blipFill>
          <a:blip r:embed="rId4"/>
          <a:stretch/>
        </p:blipFill>
        <p:spPr>
          <a:xfrm>
            <a:off x="5079960" y="3619440"/>
            <a:ext cx="3162240" cy="237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ircle/>
    <p:sndAc>
      <p:stSnd>
        <p:snd r:embed="rId5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IMG_4580"/>
          <p:cNvPicPr/>
          <p:nvPr/>
        </p:nvPicPr>
        <p:blipFill>
          <a:blip r:embed="rId1"/>
          <a:stretch/>
        </p:blipFill>
        <p:spPr>
          <a:xfrm>
            <a:off x="888840" y="444600"/>
            <a:ext cx="3162600" cy="2374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2700360" y="2816280"/>
            <a:ext cx="3809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icrosoft Sans Serif"/>
              </a:rPr>
              <a:t>сильные смелые быстрые умел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IMG_4581"/>
          <p:cNvPicPr/>
          <p:nvPr/>
        </p:nvPicPr>
        <p:blipFill>
          <a:blip r:embed="rId2"/>
          <a:stretch/>
        </p:blipFill>
        <p:spPr>
          <a:xfrm>
            <a:off x="5079960" y="444600"/>
            <a:ext cx="3162240" cy="2374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MG_4584"/>
          <p:cNvPicPr/>
          <p:nvPr/>
        </p:nvPicPr>
        <p:blipFill>
          <a:blip r:embed="rId3"/>
          <a:stretch/>
        </p:blipFill>
        <p:spPr>
          <a:xfrm>
            <a:off x="888840" y="3619440"/>
            <a:ext cx="3162600" cy="2374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IMG_4585"/>
          <p:cNvPicPr/>
          <p:nvPr/>
        </p:nvPicPr>
        <p:blipFill>
          <a:blip r:embed="rId4"/>
          <a:stretch/>
        </p:blipFill>
        <p:spPr>
          <a:xfrm>
            <a:off x="5079960" y="3619440"/>
            <a:ext cx="3162240" cy="237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ircle/>
    <p:sndAc>
      <p:stSnd>
        <p:snd r:embed="rId5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IMG_4586"/>
          <p:cNvPicPr/>
          <p:nvPr/>
        </p:nvPicPr>
        <p:blipFill>
          <a:blip r:embed="rId1"/>
          <a:stretch/>
        </p:blipFill>
        <p:spPr>
          <a:xfrm>
            <a:off x="888840" y="444600"/>
            <a:ext cx="3162600" cy="237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IMG_4593"/>
          <p:cNvPicPr/>
          <p:nvPr/>
        </p:nvPicPr>
        <p:blipFill>
          <a:blip r:embed="rId2"/>
          <a:stretch/>
        </p:blipFill>
        <p:spPr>
          <a:xfrm>
            <a:off x="5079960" y="444600"/>
            <a:ext cx="3162240" cy="237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IMG_4596"/>
          <p:cNvPicPr/>
          <p:nvPr/>
        </p:nvPicPr>
        <p:blipFill>
          <a:blip r:embed="rId3"/>
          <a:stretch/>
        </p:blipFill>
        <p:spPr>
          <a:xfrm>
            <a:off x="2951280" y="3716280"/>
            <a:ext cx="3162240" cy="23749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2627280" y="3033720"/>
            <a:ext cx="3809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icrosoft Sans Serif"/>
              </a:rPr>
              <a:t>сильные смелые быстрые умел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circle/>
    <p:sndAc>
      <p:stSnd>
        <p:snd r:embed="rId4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ксана Владимировна</cp:lastModifiedBy>
  <dcterms:modified xsi:type="dcterms:W3CDTF">2019-05-09T17:09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