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2290-38BE-4BD0-87A3-6F9F8417AB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3A57-851A-4277-829B-862794FD0E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C79D-D6E6-43A9-9483-EC0E6F622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2581-74C0-407C-B824-E848DD8CB8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1FB3-D037-4294-A9D5-BA71F4892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971E-C903-44C0-AD2D-3A62ECE71A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6847-E354-4F4F-B267-906FB8019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0B1-1ACD-4D65-BFEB-33195E18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AF2-E792-4ACB-ACD5-018D2616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033-0B9B-49D0-B75C-1E30A5E0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08D-4452-44CE-B59A-05CA1794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EC2-A183-46DD-A00A-0069B30F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1357-DAC8-4595-B1AE-40381EB0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B0C7-04B4-44DA-A7BA-E3837AD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0AC-2E82-4705-A0DE-76241181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C1A8-A891-48E7-8341-283AAE2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E4C6-18E3-4A51-BA10-A5C860D6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FA6-FFEC-4380-9D1E-64DF3D9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7A2C-A249-4C10-ACDC-8AEC802E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A3B0-5B9B-4B5B-AEDD-4B7D3D8F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382C-91AA-43F6-B30C-0B62B1B5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E172-942A-4A4A-939E-AA327EC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F578-78DA-49EB-BA91-13CC3408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DD9-D239-47FF-AF55-CC41885A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2C87-3AE2-4E40-9BB4-0D22C64F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AA09-3CFD-44AA-9874-A0694874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FB9-E273-4541-8D95-79C5B61E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4C8-07C5-4997-847C-D4349995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0C3-6195-4BB8-B605-1B86DED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531-89FF-4735-97E1-BED911E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CF3-AE8B-47DB-9CC2-F59A0A32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C1F0-185F-424A-A7CC-566DFCDF6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D:\фоны и шаблоны\93e9c2ceda6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BC2-B9AB-42B4-9B86-F39FF3C87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Илирская СОШ №1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лассный руководит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0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юбовь Николаевна Кожухарё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Заголовок 1"/>
          <p:cNvSpPr/>
          <p:nvPr/>
        </p:nvSpPr>
        <p:spPr>
          <a:xfrm>
            <a:off x="38088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mbr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379440" y="990720"/>
            <a:ext cx="739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18880" algn="just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Игровые технолог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ают достаточно обширную группу методов и приемов организации педагогического про­цесса в форме различных педагогических игр. В отличие от игр вообще, педагогическая игра обладает существенным признаком -четко поставленной целью обучения и соответствующим ей пе­дагогическим результатом, которые могут быть обоснованы, выделены в явном виде и характеризуются учебно-познаватель­ной направленностью. Игровые технологии используются при прове­дении классных часов и семейных праздников, новогодние пред­ставления и праздники к 8 Марта совместно с родителя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Заголовок 1"/>
          <p:cNvSpPr/>
          <p:nvPr/>
        </p:nvSpPr>
        <p:spPr>
          <a:xfrm>
            <a:off x="380880" y="15228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76320" y="380880"/>
            <a:ext cx="80769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. Технологии КТ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П. Иванова (коллективные творче­ские дела).        Это эффективный метод воспитания и развития уча­щегося, основанный на позитивной деятельности, активности, коллективном авторстве и положительных эмоциях. Что же является надежным результатом грамотного осуществления творческих дел независимо от их ориентации? Это позитивная активность школьников, причем не зрительская, а деятельностная, сопровождающаяся в той или иной мере чувством коллек­тивного авторства. Постулаты КТ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лективное творче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диное дело и добровольное участие в 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бода выбора форм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дружество взрослых и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коллектива под влиянием творчески одаренных лид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ТД не нова и сегодня находит применение в нашей школе и моей работе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6320" y="1066680"/>
            <a:ext cx="7696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6. Технологии проектного мет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вид технологии обучения, реализующей целостную проект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етода проектов лежит развитие познавательных навыков обучающихся, умений самостоятельно конструировать свои знания и ориентироваться в информационном простран­стве, развитие критического и творческого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м достоинством метода проектов является то, что ученики видят конечный результат - продукт, которую они сдела­ли сами, вложили душ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1"/>
          <p:cNvSpPr/>
          <p:nvPr/>
        </p:nvSpPr>
        <p:spPr>
          <a:xfrm>
            <a:off x="38088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152280" y="1332000"/>
            <a:ext cx="8305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3360" indent="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7. Технология и методика ситуационного классно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хнологии и методики индивидуального воспитания используется такая форма, ка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й классный час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любого человека в целом состоит из ситуаций, то есть из таких событий, явлений, факторов, которые оказывают влияние на его поведение и в которых проявляются характер, привычки, культура поведения. Предлагаемая методика позволяет анализировать собственное поведение в ситуациях «после событий», чтобы учиться на собственном опыте или разрабатывать стратегию поведения на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304920" y="1582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8. Здоровьесберегающия технолог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304920" y="199692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здоровьесберегающих технологий – обеспечить ребёнку возможность сохранения здоровья, сформировать у него необходимые знания, умения и навыки по здоровому образу жизни, научить использовать полученные знания в повседневной жизни. Здоровьесберегающие технологии применяются в различных видах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"/>
          <p:cNvSpPr/>
          <p:nvPr/>
        </p:nvSpPr>
        <p:spPr>
          <a:xfrm>
            <a:off x="380880" y="6858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9. Информационно-коммуникационные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838080" y="1676520"/>
            <a:ext cx="640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 (информационно-коммуникационные технологии) – это процессы и методы взаимодействия с информацией, которые осуществляются с применением устройств вычислительной техники, а также средств теле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97956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63" name="Rectangle 3"/>
          <p:cNvSpPr/>
          <p:nvPr/>
        </p:nvSpPr>
        <p:spPr>
          <a:xfrm>
            <a:off x="457200" y="1066320"/>
            <a:ext cx="6940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mbria"/>
              </a:rPr>
              <a:t>Каждый классный руководитель -  творец, мастер интересных форм раб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mbria"/>
              </a:rPr>
              <a:t>Мастер своего де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6095880" y="3048120"/>
            <a:ext cx="304812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560" y="533160"/>
            <a:ext cx="7334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о хорошее владение педагогом системой обучающих и воспитательных умений и навыков позволяют ему осуществлять учебно-воспитательную деятельность на грамотном профессиональном уровне и добиваться более или менее успешного обучения и воспитания учащихся</a:t>
            </a:r>
            <a:endParaRPr b="0" lang="en-US" sz="2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66" name="Picture 7" descr="HOMEWORK"/>
          <p:cNvPicPr/>
          <p:nvPr/>
        </p:nvPicPr>
        <p:blipFill>
          <a:blip r:embed="rId1"/>
          <a:stretch/>
        </p:blipFill>
        <p:spPr>
          <a:xfrm>
            <a:off x="6324480" y="2590920"/>
            <a:ext cx="242892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228600" y="457200"/>
            <a:ext cx="8610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33"/>
                </a:solidFill>
                <a:latin typeface="Cambria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84600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32" name="Rectangle 3"/>
          <p:cNvSpPr/>
          <p:nvPr/>
        </p:nvSpPr>
        <p:spPr>
          <a:xfrm>
            <a:off x="22320" y="10000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Творчески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mbria"/>
              </a:rPr>
              <a:t>«Инновационная деятельность классного руководителя в системе воспитательной работы образовательного учреж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80172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34" name="Прямоугольник 1"/>
          <p:cNvSpPr/>
          <p:nvPr/>
        </p:nvSpPr>
        <p:spPr>
          <a:xfrm>
            <a:off x="674640" y="1263600"/>
            <a:ext cx="740268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ие никогда не было простым делом, и в каждый исторический период возникали соответствующие ему проблемы и 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ая ситуация обострила целый ряд проблем и усилила трудности воспитания как педагогического процесса.  Это связано с тем, что в последние годы в России произошли экономические и политические изменения, которые привели к социальной дифференциации населения и потере общих духовных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2224440" y="339840"/>
            <a:ext cx="293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990720"/>
            <a:ext cx="7315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не вызывает сомнений, что инновационные процессы в школе – это не дань моде, а насущная необходимость, поскольку школа призвана готовить учеников к жизни в реально существующих условиях, а значит, она должна постоянно развиваться в русле происходящих в мире перемен. Поэтому эффективность инноваций напрямую зависит от того, насколько правильно определены и созданы организационно-педагогические условия для этих нововве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762120" y="1219320"/>
            <a:ext cx="66294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инновационном режиме предъявляет повышенные требования к классному руководству. Классный руководитель не только не может оставаться в стороне от осуществляемых в школе инноваций, он должен активно участвовать в инновационной деятельности, быть проводником и инициатором реализации инновационных  идей среди учащихся своего класса и их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89064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39" name="Rectangle 3"/>
          <p:cNvSpPr/>
          <p:nvPr/>
        </p:nvSpPr>
        <p:spPr>
          <a:xfrm>
            <a:off x="304920" y="9144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90720" y="2057400"/>
            <a:ext cx="69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различные источники, побывав на курсах повышения квалификации для классных руководителей, я для себя определила применения следующих инновационн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523880" cy="89064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42" name="Rectangle 4"/>
          <p:cNvSpPr/>
          <p:nvPr/>
        </p:nvSpPr>
        <p:spPr>
          <a:xfrm>
            <a:off x="1371600" y="606600"/>
            <a:ext cx="7121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2557440"/>
            <a:ext cx="8839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3990960"/>
            <a:ext cx="9144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371600" y="4141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17120" y="53784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457200" y="166356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Социальное проек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хнология социального воспитания детей. Главный педагогический смысл этой техно­логии - создание условий для социальных проб личности. Именно социальное проектирование позволяет воспитаннику решать основные задачи социализации: формировать свою Я-концепцию и мировоззрение, устанавливать новые способы социального взаимодействия с миром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712800"/>
          </a:xfrm>
          <a:prstGeom prst="rect">
            <a:avLst/>
          </a:prstGeom>
          <a:ln w="9360">
            <a:solidFill>
              <a:srgbClr val="823634"/>
            </a:solidFill>
            <a:miter/>
          </a:ln>
        </p:spPr>
      </p:pic>
      <p:sp>
        <p:nvSpPr>
          <p:cNvPr id="149" name="Прямоугольник 1"/>
          <p:cNvSpPr/>
          <p:nvPr/>
        </p:nvSpPr>
        <p:spPr>
          <a:xfrm>
            <a:off x="838080" y="723960"/>
            <a:ext cx="8153640" cy="38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Технология сотрудниче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а кажд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а состоит не только в том, чтобы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вместе, а в том, чтобы познать что-то вмес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аждый участник команды овладел необходим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ми, сформировал нужные навы­ки, и при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ся команда знала, чего достиг каждый уче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работа проходит в команде, дети отвечают не толь­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ебя, но и болеют за честь своей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тся ра­ботать вместе, оценивая свою работу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463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2"/>
          <p:cNvSpPr/>
          <p:nvPr/>
        </p:nvSpPr>
        <p:spPr>
          <a:xfrm>
            <a:off x="304920" y="1066680"/>
            <a:ext cx="84582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>
              <a:lnSpc>
                <a:spcPct val="100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Личностно ориентированное воспит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                                                     это такая воспитательная система, где ребенок является высшей цен­ностью и ставится в центр воспитательного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algn="just">
              <a:lnSpc>
                <a:spcPct val="100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современной школы каждый ребенок имеет возможность разви­вать свои способности. Сейчас множество конкурсов, проектов на уровне  области, федерации, где дети нашей школы  принимают активное участие и занимают призовые м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algn="just">
              <a:lnSpc>
                <a:spcPct val="100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остижения  высоких результатов классными руководителями используется личностно ориентированный подход к каждому уче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 Кожухарёва</dc:creator>
  <dc:description/>
  <dc:language>en-US</dc:language>
  <cp:lastModifiedBy>Любовь Кожухарёва</cp:lastModifiedBy>
  <dcterms:modified xsi:type="dcterms:W3CDTF">2019-03-03T15:03:28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