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6602-5DFD-4DE8-BE8A-2CC45079BC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45F1-0CE9-4079-9F09-B94AE2211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5FB4-4F4A-4003-9B31-F73BBA0F7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2F82-181B-4929-8FAC-624E0B0D9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2D17-5C79-414B-80D8-BD007A3DB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7F17-2946-4645-AA5C-6CD7A5E5D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DF7F-73F9-4544-A137-28DE661E4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717-0EF4-4473-B409-5929CA68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5EB-4673-456E-B374-7971760D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A06-D7A2-4AD8-96D4-CAE6DD67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E95-2161-4B8B-944D-1DB4F7DC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128-DCE7-4BDF-99F4-5893C106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6532-DD63-462C-B573-6BA78B49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57E8-EA9A-43F2-B851-C9A481A6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C34C-3E00-40E7-896E-C6A4E186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09B0-2FF8-41EB-B9DB-840DDBAE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0A7F-EF90-4BDC-8A60-0197D75B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0C1-CBA6-4B77-8D42-EE27078E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1BAD-D32B-482D-B8D7-500F1886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5372-44C4-4A75-A1DD-F9879C95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6B11-26AD-42A3-8D48-17A132C0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B4D9-7AED-4CA0-963B-50461C77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85E6-A874-423F-BD59-0CB44B68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0502-CEEB-41F5-98FB-67DCB3AD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AE2D-5DE8-49AF-9B60-F1AE948C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5A0-D80C-4B78-A39E-70DA6E83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D01-0D20-4219-934D-0DE0D0A7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D82-1E5D-4DEC-9512-BF256E14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5B7-8433-42AC-9905-30590D77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543-CF4B-44BF-933B-202B64C4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4FD-BA85-4F8B-85B7-8FF2916F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421D-2632-4BE9-853A-2C247A4C33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D:\фоны и шаблоны\93e9c2ceda6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1ED6-42C7-46D3-8473-B1F5589BD2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Илирская СОШ №1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лассный руководите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0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юбовь Николаевна Кожухарё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Заголовок 1"/>
          <p:cNvSpPr/>
          <p:nvPr/>
        </p:nvSpPr>
        <p:spPr>
          <a:xfrm>
            <a:off x="38088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mbri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379440" y="990720"/>
            <a:ext cx="7391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18880" algn="just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. Игровые технолог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ают достаточно обширную группу методов и приемов организации педагогического про­цесса в форме различных педагогических игр. В отличие от игр вообще, педагогическая игра обладает существенным признаком -четко поставленной целью обучения и соответствующим ей пе­дагогическим результатом, которые могут быть обоснованы, выделены в явном виде и характеризуются учебно-познаватель­ной направленностью. Игровые технологии используются при прове­дении классных часов и семейных праздников, новогодние пред­ставления и праздники к 8 Марта совместно с родител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Заголовок 1"/>
          <p:cNvSpPr/>
          <p:nvPr/>
        </p:nvSpPr>
        <p:spPr>
          <a:xfrm>
            <a:off x="380880" y="1522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76320" y="380880"/>
            <a:ext cx="807696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. Технологии КТД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П. Иванова (коллективные творче­ские дела).        Это эффективный метод воспитания и развития уча­щегося, основанный на позитивной деятельности, активности, коллективном авторстве и положительных эмоциях. Что же является надежным результатом грамотного осуществления творческих дел независимо от их ориентации? Это позитивная активность школьников, причем не зрительская, а деятельностная, сопровождающаяся в той или иной мере чувством коллек­тивного авторства. Постулаты КТ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лективное творче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диное дело и добровольное участие в 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бода выбора форм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дружество взрослых 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 algn="just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коллектива под влиянием творчески одаренных лид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КТД не нова и сегодня находит применение в нашей школе и моей работе с кла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6320" y="1066680"/>
            <a:ext cx="7696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. Технологии проектного мет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вид технологии обучения, реализующей целостную проект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метода проектов лежит развитие познавательных навыков обучающихся, умений самостоятельно конструировать свои знания и ориентироваться в информационном простран­стве, развитие критического и творческого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м достоинством метода проектов является то, что ученики видят конечный результат - продукт, которую они сдела­ли сами, вложили ду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1"/>
          <p:cNvSpPr/>
          <p:nvPr/>
        </p:nvSpPr>
        <p:spPr>
          <a:xfrm>
            <a:off x="38088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"/>
          <p:cNvSpPr/>
          <p:nvPr/>
        </p:nvSpPr>
        <p:spPr>
          <a:xfrm>
            <a:off x="152280" y="1332000"/>
            <a:ext cx="8305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3360" indent="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. Технология и методика ситуационного классно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ехнологии и методики индивидуального воспитания используется такая форма, ка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й классный час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любого человека в целом состоит из ситуаций, то есть из таких событий, явлений, факторов, которые оказывают влияние на его поведение и в которых проявляются характер, привычки, культура поведения. Предлагаемая методика позволяет анализировать собственное поведение в ситуациях «после событий», чтобы учиться на собственном опыте или разрабатывать стратегию поведения на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304920" y="15825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. Здоровьесберегающия технолог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304920" y="1996920"/>
            <a:ext cx="655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здоровьесберегающих технологий – обеспечить ребёнку возможность сохранения здоровья, сформировать у него необходимые знания, умения и навыки по здоровому образу жизни, научить использовать полученные знания в повседневной жизни. Здоровьесберегающие технологии применяются в различных видах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"/>
          <p:cNvSpPr/>
          <p:nvPr/>
        </p:nvSpPr>
        <p:spPr>
          <a:xfrm>
            <a:off x="380880" y="6858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9. Информационно-коммуникационные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838080" y="1676520"/>
            <a:ext cx="640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 (информационно-коммуникационные технологии) – это процессы и методы взаимодействия с информацией, которые осуществляются с применением устройств вычислительной техники, а также средств телекоммун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97956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63" name="Rectangle 3"/>
          <p:cNvSpPr/>
          <p:nvPr/>
        </p:nvSpPr>
        <p:spPr>
          <a:xfrm>
            <a:off x="457200" y="1066320"/>
            <a:ext cx="6940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mbria"/>
              </a:rPr>
              <a:t>Каждый классный руководитель -  творец, мастер интересных форм раб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mbria"/>
              </a:rPr>
              <a:t>Мастер своего де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6095880" y="3048120"/>
            <a:ext cx="304812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560" y="533160"/>
            <a:ext cx="7334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хорошее владение педагогом системой обучающих и воспитательных умений и навыков позволяют ему осуществлять учебно-воспитательную деятельность на грамотном профессиональном уровне и добиваться более или менее успешного обучения и воспитания учащихся</a:t>
            </a:r>
            <a:endParaRPr b="0" lang="en-US" sz="26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166" name="Picture 7" descr="HOMEWORK"/>
          <p:cNvPicPr/>
          <p:nvPr/>
        </p:nvPicPr>
        <p:blipFill>
          <a:blip r:embed="rId1"/>
          <a:stretch/>
        </p:blipFill>
        <p:spPr>
          <a:xfrm>
            <a:off x="6324480" y="2590920"/>
            <a:ext cx="242892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228600" y="457200"/>
            <a:ext cx="8610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33"/>
                </a:solidFill>
                <a:latin typeface="Cambri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84600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32" name="Rectangle 3"/>
          <p:cNvSpPr/>
          <p:nvPr/>
        </p:nvSpPr>
        <p:spPr>
          <a:xfrm>
            <a:off x="22320" y="10000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mbria"/>
              </a:rPr>
              <a:t>Творческий про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mbria"/>
              </a:rPr>
              <a:t>«Инновационная деятельность классного руководителя в системе воспитательной работы образовательного учреж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0172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34" name="Прямоугольник 1"/>
          <p:cNvSpPr/>
          <p:nvPr/>
        </p:nvSpPr>
        <p:spPr>
          <a:xfrm>
            <a:off x="674640" y="1263600"/>
            <a:ext cx="740268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никогда не было простым делом, и в каждый исторический период возникали соответствующие ему проблемы и тру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ременная ситуация обострила целый ряд проблем и усилила трудности воспитания как педагогического процесса.  Это связано с тем, что в последние годы в России произошли экономические и политические изменения, которые привели к социальной дифференциации населения и потере общих духовны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2224440" y="339840"/>
            <a:ext cx="29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990720"/>
            <a:ext cx="7315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не вызывает сомнений, что инновационные процессы в школе – это не дань моде, а насущная необходимость, поскольку школа призвана готовить учеников к жизни в реально существующих условиях, а значит, она должна постоянно развиваться в русле происходящих в мире перемен. Поэтому эффективность инноваций напрямую зависит от того, насколько правильно определены и созданы организационно-педагогические условия для этих новов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762120" y="1219320"/>
            <a:ext cx="66294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в инновационном режиме предъявляет повышенные требования к классному руководству. Классный руководитель не только не может оставаться в стороне от осуществляемых в школе инноваций, он должен активно участвовать в инновационной деятельности, быть проводником и инициатором реализации инновационных  идей среди учащихся своего класса и их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89064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39" name="Rectangle 3"/>
          <p:cNvSpPr/>
          <p:nvPr/>
        </p:nvSpPr>
        <p:spPr>
          <a:xfrm>
            <a:off x="304920" y="91440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990720" y="2057400"/>
            <a:ext cx="69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различные источники, побывав на курсах повышения квалификации для классных руководителей, я для себя определила применения следующих инновационн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89064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42" name="Rectangle 4"/>
          <p:cNvSpPr/>
          <p:nvPr/>
        </p:nvSpPr>
        <p:spPr>
          <a:xfrm>
            <a:off x="1371600" y="606600"/>
            <a:ext cx="7121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2557440"/>
            <a:ext cx="8839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3990960"/>
            <a:ext cx="914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371600" y="4141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517120" y="53784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"/>
          <p:cNvSpPr/>
          <p:nvPr/>
        </p:nvSpPr>
        <p:spPr>
          <a:xfrm>
            <a:off x="457200" y="1663560"/>
            <a:ext cx="739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Социальное проек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 социального воспитания детей. Главный педагогический смысл этой техно­логии - создание условий для социальных проб личности. Именно социальное проектирование позволяет воспитаннику решать основные задачи социализации: формировать свою Я-концепцию и мировоззрение, устанавливать новые способы социального взаимодействия с миром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71280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49" name="Прямоугольник 1"/>
          <p:cNvSpPr/>
          <p:nvPr/>
        </p:nvSpPr>
        <p:spPr>
          <a:xfrm>
            <a:off x="838080" y="723960"/>
            <a:ext cx="815364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Технология сотрудничест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кажд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а состоит не только в том, чтобы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вместе, а в том, чтобы познать что-то вмес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каждый участник команды овладел необходим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ми, сформировал нужные навы­ки, и при э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ся команда знала, чего достиг каждый уче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работа проходит в команде, дети отвечают не толь­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ебя, но и болеют за честь своей коман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чатся ра­ботать вместе, оценивая свою работу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коман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2"/>
          <p:cNvSpPr/>
          <p:nvPr/>
        </p:nvSpPr>
        <p:spPr>
          <a:xfrm>
            <a:off x="304920" y="1066680"/>
            <a:ext cx="84582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>
              <a:lnSpc>
                <a:spcPct val="100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 Личностно ориентированное воспита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                                                     это такая воспитательная система, где ребенок является высшей цен­ностью и ставится в центр воспитательного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algn="just">
              <a:lnSpc>
                <a:spcPct val="100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современной школы каждый ребенок имеет возможность разви­вать свои способности. Сейчас множество конкурсов, проектов на уровне  области, федерации, где дети нашей школы  принимают активное участие и занимают призовые м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algn="just">
              <a:lnSpc>
                <a:spcPct val="100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тижения  высоких результатов классными руководителями используется личностно ориентированный подход к каждому уче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бовь Кожухарёва</dc:creator>
  <dc:description/>
  <dc:language>en-US</dc:language>
  <cp:lastModifiedBy>Любовь Кожухарёва</cp:lastModifiedBy>
  <dcterms:modified xsi:type="dcterms:W3CDTF">2019-03-03T15:03:28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