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706-E033-45E2-942A-CDFCC2E2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A38-F859-4E98-9A26-AC5A47C7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C04-DE8B-45C6-9FC2-BFE79850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DB4-9C59-46DA-96F2-42863D13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10BB-F62F-4EAC-AB31-C51812A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84A9-4A25-4D6C-9F8C-4D988DF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3956-C70D-4666-AD75-35A53845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C06-C550-48EB-859A-DE6D5A7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1749-6FDA-4CCE-A264-737740F6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3300-2F70-4E77-A387-F6F63EB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D816-B453-4D35-AF3D-5F9F0025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C20-6B76-418B-AC3A-88438C99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081D-2461-4596-BB2F-571C468B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84CB-74A6-4DBD-8B0F-5D726C2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6529-DE69-4421-839A-3E5A4D98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F490-ABAE-4CD7-B532-FCE3EE76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4AA-3C93-4D51-9CD5-2709EFE3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98A-9A73-436B-A44A-8FBAF78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FD1-9068-404E-9DC6-0A3AE32E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6D9-D325-4E39-9688-69799F08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7D2-EBBA-439C-AB13-A56FA0FC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0C6-1836-4632-B63E-DD3CA675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CC1-9BF0-49C8-AF36-1817D3C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6C6-37BF-491C-9576-E15CF8B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58A1-F769-470A-8348-A3E46E606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879B-B661-4243-873F-504DABA79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680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Виртуальная экскурсия по Праг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202080" y="4350960"/>
            <a:ext cx="294156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аяся 9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гимназии №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ь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рунова Антонина Васильевна, учитель немец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alrosa-hotels.ru/wp-content/uploads/2015/07/%D0%BF%D1%80%D0%B0%D0%B3%D0%B0-3.jpg"/>
          <p:cNvPicPr/>
          <p:nvPr/>
        </p:nvPicPr>
        <p:blipFill>
          <a:blip r:embed="rId1"/>
          <a:stretch/>
        </p:blipFill>
        <p:spPr>
          <a:xfrm>
            <a:off x="236520" y="2038320"/>
            <a:ext cx="6081840" cy="406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8760" y="782640"/>
            <a:ext cx="3076560" cy="292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роховая баш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4548240"/>
            <a:ext cx="91440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ховые ворота, или Пороховая башня (Prašná brána), находится в историческом центре чешской столицы. Это мощное готическое здание, безусловно, является одной из популярнейших достопримечательностей Праги и отправной точкой множества туристических маршр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https://avatars.mds.yandex.net/get-pdb/234183/768096bf-9003-4e32-af06-d6324814d67b/s1200?webp=false"/>
          <p:cNvPicPr/>
          <p:nvPr/>
        </p:nvPicPr>
        <p:blipFill>
          <a:blip r:embed="rId1"/>
          <a:stretch/>
        </p:blipFill>
        <p:spPr>
          <a:xfrm>
            <a:off x="3147840" y="219240"/>
            <a:ext cx="5794560" cy="43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84040" y="110880"/>
            <a:ext cx="50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алая площад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http://www.praga-praha.ru/wp-content/uploads/2014/04/%D0%9C%D0%B0%D0%BB%D0%B0%D1%8F-%D0%BF%D0%BB%D0%BE%D1%89%D0%B0%D0%B4%D1%8C-3.jpg"/>
          <p:cNvPicPr/>
          <p:nvPr/>
        </p:nvPicPr>
        <p:blipFill>
          <a:blip r:embed="rId1"/>
          <a:stretch/>
        </p:blipFill>
        <p:spPr>
          <a:xfrm>
            <a:off x="474840" y="1197000"/>
            <a:ext cx="7995960" cy="527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1000" y="155520"/>
            <a:ext cx="50799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тароместская площ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5313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лощади можно увидеть памятник Яну Гусу, несколько дворцов и рату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s://avatars.mds.yandex.net/get-pdb/770122/cbbb2585-5a6c-483f-b646-36bab9880ed8/s1200?webp=false"/>
          <p:cNvPicPr/>
          <p:nvPr/>
        </p:nvPicPr>
        <p:blipFill>
          <a:blip r:embed="rId1"/>
          <a:stretch/>
        </p:blipFill>
        <p:spPr>
          <a:xfrm>
            <a:off x="281160" y="985680"/>
            <a:ext cx="5109840" cy="383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1\Desktop\Безымянный'.png"/>
          <p:cNvPicPr/>
          <p:nvPr/>
        </p:nvPicPr>
        <p:blipFill>
          <a:blip r:embed="rId2"/>
          <a:stretch/>
        </p:blipFill>
        <p:spPr>
          <a:xfrm>
            <a:off x="5538960" y="973080"/>
            <a:ext cx="3363840" cy="386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studyland74.ru/sites/default/files/shutterstock_103948190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250920" y="163440"/>
            <a:ext cx="873756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га – столица Чехии, всегда загадочна и прекрасна, независимо от времени года. Приезжая сюда, возникает ощущение, что она продолжает до сих пор жить своей средневековой жизнью, позволяя любознательным путешественникам лишь краешком глаза заглянуть в ее великое, а порой и мистическое прошлое. Это уникальный город, который точно стоит того, чтобы его посе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обро пожаловать в город меч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914400"/>
            <a:ext cx="4398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пожаловать в Прагу! Прага - один из красивейших городов Центральной Европы, исторический центр которого включён в список объектов Всемирного наследия ЮНЕСКО. Сегодня я попробую помочь Вам прогуляться улочками Праги, которая не только является столицей Чехии, но и сохранила все средневековое очар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img.lookmytrips.com/images/look5ji4/big-56fa1526ff9367448b0d7040-572b9bd8b7d19-1bin6uo.jpg"/>
          <p:cNvPicPr/>
          <p:nvPr/>
        </p:nvPicPr>
        <p:blipFill>
          <a:blip r:embed="rId1"/>
          <a:stretch/>
        </p:blipFill>
        <p:spPr>
          <a:xfrm>
            <a:off x="4273560" y="1773360"/>
            <a:ext cx="477828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жский Гра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9400" y="4787640"/>
            <a:ext cx="829764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мство с Чехией лучше всего начинать с Пражского Града — древнего центра города, символа чешской государственности и самой большой крепости в Чех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pianorusse.ru/wp-content/uploads/2018/10/c6ea60c8a3bf6ec266007727bff42873.jpg"/>
          <p:cNvPicPr/>
          <p:nvPr/>
        </p:nvPicPr>
        <p:blipFill>
          <a:blip r:embed="rId1"/>
          <a:stretch/>
        </p:blipFill>
        <p:spPr>
          <a:xfrm>
            <a:off x="1303200" y="892080"/>
            <a:ext cx="6537600" cy="38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4365720"/>
            <a:ext cx="822168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идеть здесь можно многое: и роскошный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олевский двор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или Шварцбургский дворец), и мало в чем уступающий ему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 Святого Ви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оскошны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летни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т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многое-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guruturizma.ru/wp-content/uploads/2016/04/Korolevskiy-dvorec.jpg"/>
          <p:cNvPicPr/>
          <p:nvPr/>
        </p:nvPicPr>
        <p:blipFill>
          <a:blip r:embed="rId1"/>
          <a:stretch/>
        </p:blipFill>
        <p:spPr>
          <a:xfrm>
            <a:off x="190440" y="206280"/>
            <a:ext cx="4525920" cy="33958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198360" y="3467160"/>
            <a:ext cx="4503960" cy="44136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ый королевский дв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5573880" y="185760"/>
            <a:ext cx="3216240" cy="4230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5581800" y="195120"/>
            <a:ext cx="3217680" cy="43992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 Святого В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36600" y="282600"/>
            <a:ext cx="3295440" cy="32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федральный собор Святого Вита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36240" y="3855960"/>
            <a:ext cx="83502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мчужиной Пражского Града несомненно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собор Святого В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 массивное сооружение в готическом стиле, которое строили более 600 лет назад. Переоценить его значение для чешского народа невозможно. Например, именно здесь хранится главное сокровище Чехии. За семью хитроумными замками хранится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онационный набор и корона Св. Вацлав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сть ключей находятся у наиболее уважаемых чешским народом людей. Их называют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тел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едьмого хранителя выбирает лично президент. Его имя знает только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s://avatars.mds.yandex.net/get-pdb/27625/3ef85bfd-49fc-435d-84ca-92762727afda/s1200"/>
          <p:cNvPicPr/>
          <p:nvPr/>
        </p:nvPicPr>
        <p:blipFill>
          <a:blip r:embed="rId1"/>
          <a:stretch/>
        </p:blipFill>
        <p:spPr>
          <a:xfrm>
            <a:off x="3652920" y="182520"/>
            <a:ext cx="518940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5080" y="274680"/>
            <a:ext cx="2435400" cy="25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Карлов Мос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4408560"/>
            <a:ext cx="82296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визитная карточка го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Карлов мост. Называется он так потому, что достроили его во время правления Карла IV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т был построен еще в XIV веке (1357 — 1407 гг.) и украшен скульпту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https://avatars.mds.yandex.net/get-pdb/49816/4127f354-a042-4cf9-a6b6-b814035d8286/s1200"/>
          <p:cNvPicPr/>
          <p:nvPr/>
        </p:nvPicPr>
        <p:blipFill>
          <a:blip r:embed="rId1"/>
          <a:stretch/>
        </p:blipFill>
        <p:spPr>
          <a:xfrm>
            <a:off x="2819520" y="204840"/>
            <a:ext cx="60958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45924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да приходит множество туристов и отдыхающих, здесь продают сувениры и картины, а по вечерам слышны довольные возгласы катающихся на кораблике по Влтаве люд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осту можно загадывать жел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ть два наиболее популярные места, к которым необходимо прикоснуться: статуя Яна Непомуцкого и святого Иоанна Крест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os1.i.ua/3/1/2640653_3b38a3c8.jpg"/>
          <p:cNvPicPr/>
          <p:nvPr/>
        </p:nvPicPr>
        <p:blipFill>
          <a:blip r:embed="rId1"/>
          <a:stretch/>
        </p:blipFill>
        <p:spPr>
          <a:xfrm>
            <a:off x="1733400" y="112680"/>
            <a:ext cx="5599440" cy="33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58480" y="4408560"/>
            <a:ext cx="866124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ге можно найти как облагороженные придворцовы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ки в классическом английском сти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 фонтанами и роскошными газонами, так и места, почти не тронутые людьми, создающие впечатление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зданного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s://banana.by/uploads/posts/2013-04/1364977479_valdshteynskiy-dvorec-praga2.jpg"/>
          <p:cNvPicPr/>
          <p:nvPr/>
        </p:nvPicPr>
        <p:blipFill>
          <a:blip r:embed="rId1"/>
          <a:stretch/>
        </p:blipFill>
        <p:spPr>
          <a:xfrm>
            <a:off x="268200" y="228600"/>
            <a:ext cx="5550120" cy="4162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s://www.vinegret.cz/wp-content/uploads/2014/03/%D0%BF%D0%B0%D1%80%D0%BA-%D0%9A%D0%BB%D0%B0%D0%BC%D0%BE%D0%B2%D0%BA%D0%B0.jpg"/>
          <p:cNvPicPr/>
          <p:nvPr/>
        </p:nvPicPr>
        <p:blipFill>
          <a:blip r:embed="rId2"/>
          <a:stretch/>
        </p:blipFill>
        <p:spPr>
          <a:xfrm>
            <a:off x="4106880" y="590400"/>
            <a:ext cx="4718160" cy="31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80720"/>
            <a:ext cx="391644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5120" y="4476240"/>
            <a:ext cx="8229600" cy="21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ющая остановка — астрономические часы. Если спросить чехов, то именно эти часы они назовут не только символом нации, но и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м залогом выживания чешского нар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https://avatars.mds.yandex.net/get-pdb/163339/602a6224-a9a0-485e-9583-4091168221fe/s1200?webp=false"/>
          <p:cNvPicPr/>
          <p:nvPr/>
        </p:nvPicPr>
        <p:blipFill>
          <a:blip r:embed="rId1"/>
          <a:stretch/>
        </p:blipFill>
        <p:spPr>
          <a:xfrm>
            <a:off x="3286080" y="371520"/>
            <a:ext cx="5640480" cy="4079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233280" y="500040"/>
            <a:ext cx="4140360" cy="91440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Астрономические ч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250920" y="1811160"/>
            <a:ext cx="2881080" cy="2424240"/>
          </a:xfrm>
          <a:prstGeom prst="rect">
            <a:avLst/>
          </a:prstGeom>
          <a:solidFill>
            <a:srgbClr val="ffc110"/>
          </a:solidFill>
          <a:ln w="25560">
            <a:solidFill>
              <a:srgbClr val="bc8d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часах можно увиде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е только время суток, но и положение созвездий Зодиака, Солнца, Луны и Полярной звез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41:29Z</dcterms:created>
  <dc:creator>ppsworld.ru</dc:creator>
  <dc:description/>
  <cp:keywords>фон для power point</cp:keywords>
  <dc:language>en-US</dc:language>
  <cp:lastModifiedBy>User</cp:lastModifiedBy>
  <dcterms:modified xsi:type="dcterms:W3CDTF">2019-05-09T10:50:43Z</dcterms:modified>
  <cp:revision>15</cp:revision>
  <dc:subject/>
  <dc:title>Слайд 1</dc:title>
</cp:coreProperties>
</file>