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6A5-9C4E-4D0B-9D2C-9CC505BD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522-E8CB-450E-9A98-737A446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DE8-DA61-497F-862D-BECBC230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21A-9107-4D05-BD33-9078ADA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8C0-0CE2-437D-BFDD-006F104C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23D-6FC9-485C-B9A3-559AC3E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AB6-D1DF-4D18-BA44-54A95063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B2B-FBF2-4D93-844E-966CBD8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CA5-BFDC-420C-8582-AF52103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5852-77A8-46D8-B028-9124643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BDBC-0329-4CBC-9A4B-0E072B3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EC2-2260-4D07-A16E-32FDB14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EFB0-B30B-4FAD-B333-1BA1A6E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CF44-E086-4106-A058-038BB7E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AD3-120C-4121-AE64-B54A04C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AA6C-FA47-4012-AE0B-2CCB9061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50C-08EB-417D-B113-D41F50C5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B83-2480-4437-89BE-619F57B5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F6C-007B-4B38-9C1C-50A881C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0BA-9CFE-49C7-B840-6C3D041D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441-644F-4759-B096-92EC907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BF3-B2C0-4DF0-A68B-DF2EDA7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1B1-D6F7-4CEE-B96D-60DE4737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632-A4E5-423A-A6E4-536291D9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272-B3D7-4057-A5B1-B829794ED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273-E90B-4871-AE6B-A099E78C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Виртуальная экскурсия по Праг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02080" y="4350960"/>
            <a:ext cx="294156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аяся 9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гимназии №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ь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нова Антонина Васильевна, 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alrosa-hotels.ru/wp-content/uploads/2015/07/%D0%BF%D1%80%D0%B0%D0%B3%D0%B0-3.jpg"/>
          <p:cNvPicPr/>
          <p:nvPr/>
        </p:nvPicPr>
        <p:blipFill>
          <a:blip r:embed="rId1"/>
          <a:stretch/>
        </p:blipFill>
        <p:spPr>
          <a:xfrm>
            <a:off x="236520" y="2038320"/>
            <a:ext cx="6081840" cy="40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760" y="782640"/>
            <a:ext cx="307656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роховая баш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548240"/>
            <a:ext cx="91440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ховые ворота, или Пороховая башня (Prašná brána), находится в историческом центре чешской столицы. Это мощное готическое здание, безусловно, является одной из популярнейших достопримечательностей Праги и отправной точкой множества туристических маршр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s://avatars.mds.yandex.net/get-pdb/234183/768096bf-9003-4e32-af06-d6324814d67b/s1200?webp=false"/>
          <p:cNvPicPr/>
          <p:nvPr/>
        </p:nvPicPr>
        <p:blipFill>
          <a:blip r:embed="rId1"/>
          <a:stretch/>
        </p:blipFill>
        <p:spPr>
          <a:xfrm>
            <a:off x="3147840" y="219240"/>
            <a:ext cx="5794560" cy="43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84040" y="110880"/>
            <a:ext cx="50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алая площа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www.praga-praha.ru/wp-content/uploads/2014/04/%D0%9C%D0%B0%D0%BB%D0%B0%D1%8F-%D0%BF%D0%BB%D0%BE%D1%89%D0%B0%D0%B4%D1%8C-3.jpg"/>
          <p:cNvPicPr/>
          <p:nvPr/>
        </p:nvPicPr>
        <p:blipFill>
          <a:blip r:embed="rId1"/>
          <a:stretch/>
        </p:blipFill>
        <p:spPr>
          <a:xfrm>
            <a:off x="474840" y="1197000"/>
            <a:ext cx="7995960" cy="52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1000" y="155520"/>
            <a:ext cx="50799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ароместская площ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5313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ощади можно увидеть памятник Яну Гусу, несколько дворцов и рату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s://avatars.mds.yandex.net/get-pdb/770122/cbbb2585-5a6c-483f-b646-36bab9880ed8/s1200?webp=false"/>
          <p:cNvPicPr/>
          <p:nvPr/>
        </p:nvPicPr>
        <p:blipFill>
          <a:blip r:embed="rId1"/>
          <a:stretch/>
        </p:blipFill>
        <p:spPr>
          <a:xfrm>
            <a:off x="281160" y="985680"/>
            <a:ext cx="5109840" cy="383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Безымянный'.png"/>
          <p:cNvPicPr/>
          <p:nvPr/>
        </p:nvPicPr>
        <p:blipFill>
          <a:blip r:embed="rId2"/>
          <a:stretch/>
        </p:blipFill>
        <p:spPr>
          <a:xfrm>
            <a:off x="5538960" y="973080"/>
            <a:ext cx="3363840" cy="38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studyland74.ru/sites/default/files/shutterstock_103948190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250920" y="163440"/>
            <a:ext cx="873756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га – столица Чехии, всегда загадочна и прекрасна, независимо от времени года. Приезжая сюда, возникает ощущение, что она продолжает до сих пор жить своей средневековой жизнью, позволяя любознательным путешественникам лишь краешком глаза заглянуть в ее великое, а порой и мистическое прошлое. Это уникальный город, который точно стоит того, чтобы его посе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обро пожаловать в город меч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914400"/>
            <a:ext cx="4398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пожаловать в Прагу! Прага - один из красивейших городов Центральной Европы, исторический центр которого включён в список объектов Всемирного наследия ЮНЕСКО. Сегодня я попробую помочь Вам прогуляться улочками Праги, которая не только является столицей Чехии, но и сохранила все средневековое оча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img.lookmytrips.com/images/look5ji4/big-56fa1526ff9367448b0d7040-572b9bd8b7d19-1bin6uo.jpg"/>
          <p:cNvPicPr/>
          <p:nvPr/>
        </p:nvPicPr>
        <p:blipFill>
          <a:blip r:embed="rId1"/>
          <a:stretch/>
        </p:blipFill>
        <p:spPr>
          <a:xfrm>
            <a:off x="4273560" y="1773360"/>
            <a:ext cx="477828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жский Гра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9400" y="4787640"/>
            <a:ext cx="829764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Чехией лучше всего начинать с Пражского Града — древнего центра города, символа чешской государственности и самой большой крепости в Чех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pianorusse.ru/wp-content/uploads/2018/10/c6ea60c8a3bf6ec266007727bff42873.jpg"/>
          <p:cNvPicPr/>
          <p:nvPr/>
        </p:nvPicPr>
        <p:blipFill>
          <a:blip r:embed="rId1"/>
          <a:stretch/>
        </p:blipFill>
        <p:spPr>
          <a:xfrm>
            <a:off x="1303200" y="892080"/>
            <a:ext cx="6537600" cy="38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365720"/>
            <a:ext cx="822168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идеть здесь можно многое: и роскошный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ский двор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ли Шварцбургский дворец), и мало в чем уступающий ему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 Святого В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скошны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етни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т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многое-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guruturizma.ru/wp-content/uploads/2016/04/Korolevskiy-dvorec.jpg"/>
          <p:cNvPicPr/>
          <p:nvPr/>
        </p:nvPicPr>
        <p:blipFill>
          <a:blip r:embed="rId1"/>
          <a:stretch/>
        </p:blipFill>
        <p:spPr>
          <a:xfrm>
            <a:off x="190440" y="206280"/>
            <a:ext cx="4525920" cy="3395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98360" y="3467160"/>
            <a:ext cx="4503960" cy="44136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ый короле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5573880" y="185760"/>
            <a:ext cx="3216240" cy="4230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5581800" y="195120"/>
            <a:ext cx="3217680" cy="43992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 Святого В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600" y="282600"/>
            <a:ext cx="3295440" cy="32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федральный собор Святого Вит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36240" y="3855960"/>
            <a:ext cx="83502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мчужиной Пражского Града несомненно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собор Святого В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массивное сооружение в готическом стиле, которое строили более 600 лет назад. Переоценить его значение для чешского народа невозможно. Например, именно здесь хранится главное сокровище Чехии. За семью хитроумными замками хранится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онационный набор и корона Св. Вацлав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 ключей находятся у наиболее уважаемых чешским народом людей. Их называют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тел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едьмого хранителя выбирает лично президент. Его имя знает только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avatars.mds.yandex.net/get-pdb/27625/3ef85bfd-49fc-435d-84ca-92762727afda/s1200"/>
          <p:cNvPicPr/>
          <p:nvPr/>
        </p:nvPicPr>
        <p:blipFill>
          <a:blip r:embed="rId1"/>
          <a:stretch/>
        </p:blipFill>
        <p:spPr>
          <a:xfrm>
            <a:off x="3652920" y="182520"/>
            <a:ext cx="518940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5080" y="274680"/>
            <a:ext cx="2435400" cy="25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рлов Мос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440856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визитная карточка г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Карлов мост. Называется он так потому, что достроили его во время правления Карла IV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 был построен еще в XIV веке (1357 — 1407 гг.) и украшен скульпту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s://avatars.mds.yandex.net/get-pdb/49816/4127f354-a042-4cf9-a6b6-b814035d8286/s1200"/>
          <p:cNvPicPr/>
          <p:nvPr/>
        </p:nvPicPr>
        <p:blipFill>
          <a:blip r:embed="rId1"/>
          <a:stretch/>
        </p:blipFill>
        <p:spPr>
          <a:xfrm>
            <a:off x="2819520" y="20484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45924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да приходит множество туристов и отдыхающих, здесь продают сувениры и картины, а по вечерам слышны довольные возгласы катающихся на кораблике по Влтаве люд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осту можно загадывать жел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ть два наиболее популярные места, к которым необходимо прикоснуться: статуя Яна Непомуцкого и святого Иоанна Крест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os1.i.ua/3/1/2640653_3b38a3c8.jpg"/>
          <p:cNvPicPr/>
          <p:nvPr/>
        </p:nvPicPr>
        <p:blipFill>
          <a:blip r:embed="rId1"/>
          <a:stretch/>
        </p:blipFill>
        <p:spPr>
          <a:xfrm>
            <a:off x="1733400" y="112680"/>
            <a:ext cx="5599440" cy="33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8480" y="4408560"/>
            <a:ext cx="866124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ге можно найти как облагороженные придворцовы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ки в классическом английск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 фонтанами и роскошными газонами, так и места, почти не тронутые людьми, создающие впечатлени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зданного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s://banana.by/uploads/posts/2013-04/1364977479_valdshteynskiy-dvorec-praga2.jpg"/>
          <p:cNvPicPr/>
          <p:nvPr/>
        </p:nvPicPr>
        <p:blipFill>
          <a:blip r:embed="rId1"/>
          <a:stretch/>
        </p:blipFill>
        <p:spPr>
          <a:xfrm>
            <a:off x="268200" y="228600"/>
            <a:ext cx="5550120" cy="41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s://www.vinegret.cz/wp-content/uploads/2014/03/%D0%BF%D0%B0%D1%80%D0%BA-%D0%9A%D0%BB%D0%B0%D0%BC%D0%BE%D0%B2%D0%BA%D0%B0.jpg"/>
          <p:cNvPicPr/>
          <p:nvPr/>
        </p:nvPicPr>
        <p:blipFill>
          <a:blip r:embed="rId2"/>
          <a:stretch/>
        </p:blipFill>
        <p:spPr>
          <a:xfrm>
            <a:off x="4106880" y="590400"/>
            <a:ext cx="471816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80720"/>
            <a:ext cx="391644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5120" y="4476240"/>
            <a:ext cx="8229600" cy="21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остановка — астрономические часы. Если спросить чехов, то именно эти часы они назовут не только символом нации, но 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м залогом выживания чешского на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s://avatars.mds.yandex.net/get-pdb/163339/602a6224-a9a0-485e-9583-4091168221fe/s1200?webp=false"/>
          <p:cNvPicPr/>
          <p:nvPr/>
        </p:nvPicPr>
        <p:blipFill>
          <a:blip r:embed="rId1"/>
          <a:stretch/>
        </p:blipFill>
        <p:spPr>
          <a:xfrm>
            <a:off x="3286080" y="371520"/>
            <a:ext cx="5640480" cy="4079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233280" y="500040"/>
            <a:ext cx="4140360" cy="91440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строномические 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250920" y="1811160"/>
            <a:ext cx="2881080" cy="242424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часах можно увид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е только время суток, но и положение созвездий Зодиака, Солнца, Луны и Полярной звез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User</cp:lastModifiedBy>
  <dcterms:modified xsi:type="dcterms:W3CDTF">2019-05-09T10:50:43Z</dcterms:modified>
  <cp:revision>15</cp:revision>
  <dc:subject/>
  <dc:title>Слайд 1</dc:title>
</cp:coreProperties>
</file>