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5.gif" ContentType="image/gif"/>
  <Override PartName="/ppt/media/image9.jpeg" ContentType="image/jpeg"/>
  <Override PartName="/ppt/media/image11.jpeg" ContentType="image/jpeg"/>
  <Override PartName="/ppt/media/image7.gif" ContentType="image/gif"/>
  <Override PartName="/ppt/media/image12.wmf" ContentType="image/x-wmf"/>
  <Override PartName="/ppt/media/image6.jpeg" ContentType="image/jpeg"/>
  <Override PartName="/ppt/media/image28.wmf" ContentType="image/x-wmf"/>
  <Override PartName="/ppt/media/image5.gif" ContentType="image/gif"/>
  <Override PartName="/ppt/media/image13.gif" ContentType="image/gif"/>
  <Override PartName="/ppt/media/image16.png" ContentType="image/png"/>
  <Override PartName="/ppt/media/image4.jpeg" ContentType="image/jpeg"/>
  <Override PartName="/ppt/media/image22.gif" ContentType="image/gif"/>
  <Override PartName="/ppt/media/image3.jpeg" ContentType="image/jpeg"/>
  <Override PartName="/ppt/media/image26.gif" ContentType="image/gif"/>
  <Override PartName="/ppt/media/image14.gif" ContentType="image/gif"/>
  <Override PartName="/ppt/media/image24.wmf" ContentType="image/x-wmf"/>
  <Override PartName="/ppt/media/image23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wmf" ContentType="image/x-wmf"/>
  <Override PartName="/ppt/media/image15.gif" ContentType="image/gif"/>
  <Override PartName="/ppt/media/image1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F90-A39C-446E-8C58-6AE405B8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6FA-1A0F-4812-8E0D-93D0E614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62A-4CCE-4809-A64B-C5AA0BC8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17C-9632-4D6A-AC75-C353EC94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AB8-E6DE-440A-85D3-CC62EDFF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6E3-5040-42C6-AC23-3F5D4A08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A9D-0D1F-4062-8161-70EEB790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59E-3527-4151-8E93-BBE83A08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5EB-F72A-449C-9F28-16518447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D82-A70D-4D9E-8BEF-477C28ED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493-EC12-4B4B-9C88-247B9756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2CF-39B4-464C-845A-094E288E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B202-EC57-4F4C-A393-3165CC25EA3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0560" y="1628280"/>
            <a:ext cx="66358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ематику, друзь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 любить никак нельз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чень строгая нау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нтересная наука,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а МАТЕМАТИ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9" descr="авто1"/>
          <p:cNvPicPr/>
          <p:nvPr/>
        </p:nvPicPr>
        <p:blipFill>
          <a:blip r:embed="rId1"/>
          <a:stretch/>
        </p:blipFill>
        <p:spPr>
          <a:xfrm>
            <a:off x="971640" y="3789360"/>
            <a:ext cx="3241440" cy="129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0920" y="189000"/>
            <a:ext cx="61214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рок математики в 4 классе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программе «Начальная школа 21 века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0" y="5950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автобус1"/>
          <p:cNvPicPr/>
          <p:nvPr/>
        </p:nvPicPr>
        <p:blipFill>
          <a:blip r:embed="rId2"/>
          <a:stretch/>
        </p:blipFill>
        <p:spPr>
          <a:xfrm>
            <a:off x="5904000" y="3789360"/>
            <a:ext cx="3240000" cy="2111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Air"/>
          <p:cNvPicPr/>
          <p:nvPr/>
        </p:nvPicPr>
        <p:blipFill>
          <a:blip r:embed="rId3"/>
          <a:stretch/>
        </p:blipFill>
        <p:spPr>
          <a:xfrm>
            <a:off x="250920" y="549360"/>
            <a:ext cx="1793880" cy="957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motorcycle_clipart_3"/>
          <p:cNvPicPr/>
          <p:nvPr/>
        </p:nvPicPr>
        <p:blipFill>
          <a:blip r:embed="rId4"/>
          <a:stretch/>
        </p:blipFill>
        <p:spPr>
          <a:xfrm>
            <a:off x="3492360" y="5589720"/>
            <a:ext cx="889200" cy="1184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Horse17"/>
          <p:cNvPicPr/>
          <p:nvPr/>
        </p:nvPicPr>
        <p:blipFill>
          <a:blip r:embed="rId5"/>
          <a:stretch/>
        </p:blipFill>
        <p:spPr>
          <a:xfrm>
            <a:off x="3851280" y="2708280"/>
            <a:ext cx="2581200" cy="1790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Chicken_20[1]"/>
          <p:cNvPicPr/>
          <p:nvPr/>
        </p:nvPicPr>
        <p:blipFill>
          <a:blip r:embed="rId6"/>
          <a:stretch/>
        </p:blipFill>
        <p:spPr>
          <a:xfrm>
            <a:off x="6372360" y="5950080"/>
            <a:ext cx="1589040" cy="664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doggy_97"/>
          <p:cNvPicPr/>
          <p:nvPr/>
        </p:nvPicPr>
        <p:blipFill>
          <a:blip r:embed="rId7"/>
          <a:stretch/>
        </p:blipFill>
        <p:spPr>
          <a:xfrm>
            <a:off x="0" y="30686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bird26"/>
          <p:cNvPicPr/>
          <p:nvPr/>
        </p:nvPicPr>
        <p:blipFill>
          <a:blip r:embed="rId8"/>
          <a:stretch/>
        </p:blipFill>
        <p:spPr>
          <a:xfrm>
            <a:off x="7451640" y="80496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бегун"/>
          <p:cNvPicPr/>
          <p:nvPr/>
        </p:nvPicPr>
        <p:blipFill>
          <a:blip r:embed="rId9"/>
          <a:stretch/>
        </p:blipFill>
        <p:spPr>
          <a:xfrm>
            <a:off x="250920" y="4508640"/>
            <a:ext cx="753840" cy="2070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2409840" y="2347920"/>
            <a:ext cx="64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чи на движение. Нахождение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2"/>
          <p:cNvSpPr/>
          <p:nvPr/>
        </p:nvSpPr>
        <p:spPr>
          <a:xfrm>
            <a:off x="500040" y="379440"/>
            <a:ext cx="801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Какие величины не использу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          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в   задачах на движ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28760" y="1785960"/>
          <a:ext cx="8143920" cy="1357200"/>
        </p:xfrm>
        <a:graphic>
          <a:graphicData uri="http://schemas.openxmlformats.org/drawingml/2006/table">
            <a:tbl>
              <a:tblPr/>
              <a:tblGrid>
                <a:gridCol w="865080"/>
                <a:gridCol w="1946160"/>
                <a:gridCol w="1152720"/>
                <a:gridCol w="1081080"/>
                <a:gridCol w="1081080"/>
                <a:gridCol w="2017800"/>
              </a:tblGrid>
              <a:tr h="13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Box 7"/>
          <p:cNvSpPr/>
          <p:nvPr/>
        </p:nvSpPr>
        <p:spPr>
          <a:xfrm>
            <a:off x="357120" y="1785960"/>
            <a:ext cx="10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285920" y="1785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286080" y="1785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4429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5572080" y="178596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6572160" y="17859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28760" y="3643200"/>
          <a:ext cx="8143920" cy="1285920"/>
        </p:xfrm>
        <a:graphic>
          <a:graphicData uri="http://schemas.openxmlformats.org/drawingml/2006/table">
            <a:tbl>
              <a:tblPr/>
              <a:tblGrid>
                <a:gridCol w="642960"/>
                <a:gridCol w="1071360"/>
                <a:gridCol w="1285920"/>
                <a:gridCol w="1143000"/>
                <a:gridCol w="714240"/>
                <a:gridCol w="928800"/>
                <a:gridCol w="785880"/>
                <a:gridCol w="157176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Box 17"/>
          <p:cNvSpPr/>
          <p:nvPr/>
        </p:nvSpPr>
        <p:spPr>
          <a:xfrm>
            <a:off x="42876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1071720" y="3643200"/>
            <a:ext cx="10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9"/>
          <p:cNvSpPr/>
          <p:nvPr/>
        </p:nvSpPr>
        <p:spPr>
          <a:xfrm>
            <a:off x="2143080" y="364320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0"/>
          <p:cNvSpPr/>
          <p:nvPr/>
        </p:nvSpPr>
        <p:spPr>
          <a:xfrm>
            <a:off x="5286240" y="3643200"/>
            <a:ext cx="10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1"/>
          <p:cNvSpPr/>
          <p:nvPr/>
        </p:nvSpPr>
        <p:spPr>
          <a:xfrm>
            <a:off x="6215040" y="364320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2"/>
          <p:cNvSpPr/>
          <p:nvPr/>
        </p:nvSpPr>
        <p:spPr>
          <a:xfrm>
            <a:off x="4643280" y="364320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3"/>
          <p:cNvSpPr/>
          <p:nvPr/>
        </p:nvSpPr>
        <p:spPr>
          <a:xfrm>
            <a:off x="3429000" y="3643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4"/>
          <p:cNvSpPr/>
          <p:nvPr/>
        </p:nvSpPr>
        <p:spPr>
          <a:xfrm>
            <a:off x="7072200" y="364320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4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4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5"/>
          <p:cNvSpPr/>
          <p:nvPr/>
        </p:nvSpPr>
        <p:spPr>
          <a:xfrm>
            <a:off x="625320" y="5043600"/>
            <a:ext cx="821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По какому признаку можно разделить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         </a:t>
            </a:r>
            <a:r>
              <a:rPr b="1" i="1" lang="ru-RU" sz="3200" spc="-1" strike="noStrike">
                <a:solidFill>
                  <a:srgbClr val="c00000"/>
                </a:solidFill>
                <a:latin typeface="Cambria"/>
              </a:rPr>
              <a:t>данные величины на 3 группы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2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0221-541C-4F08-873C-748A7FB79C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071720" y="428760"/>
          <a:ext cx="6858000" cy="4960800"/>
        </p:xfrm>
        <a:graphic>
          <a:graphicData uri="http://schemas.openxmlformats.org/drawingml/2006/table">
            <a:tbl>
              <a:tblPr/>
              <a:tblGrid>
                <a:gridCol w="2143080"/>
                <a:gridCol w="1928880"/>
                <a:gridCol w="2786040"/>
              </a:tblGrid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Box 2"/>
          <p:cNvSpPr/>
          <p:nvPr/>
        </p:nvSpPr>
        <p:spPr>
          <a:xfrm>
            <a:off x="1214280" y="379440"/>
            <a:ext cx="2281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скорость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Rockwell"/>
              </a:rPr>
              <a:t>      </a:t>
            </a: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3143160" y="379440"/>
            <a:ext cx="200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Rockwel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5286240" y="379440"/>
            <a:ext cx="24289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Rockwel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1143000" y="2571840"/>
            <a:ext cx="13572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214280" y="3429000"/>
            <a:ext cx="121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429000" y="257184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3429000" y="3286080"/>
            <a:ext cx="9288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1214280" y="1785960"/>
            <a:ext cx="17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1214280" y="2857680"/>
            <a:ext cx="21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3214800" y="178596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3214800" y="328608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ед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5214960" y="1785960"/>
            <a:ext cx="142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5214960" y="39290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1000080" y="5581800"/>
            <a:ext cx="53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Дополните таблиц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1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D0CF-7C2C-4B86-9A84-786A112015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34936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корость = Расстояние :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11280" y="18900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Расстояние = Скорость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  <a:ea typeface="Arial"/>
              </a:rPr>
              <a:t>∙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11280" y="4508640"/>
            <a:ext cx="7921440" cy="7034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Время = Расстояние : 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132000" y="126828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 = v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3492360" y="558972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 = S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492360" y="3429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 = S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250920" y="127080"/>
            <a:ext cx="8893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ачу, леч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 весь опо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ыполняют ходьбу на месте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Я сам - шоф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митируют управление автомобильным руле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 сам - мото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руговые движения плечами вперед-наза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жимаю на педаль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митируют нажимание на педаль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 машина мчится вдаль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ег на месте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Рисунок8"/>
          <p:cNvPicPr/>
          <p:nvPr/>
        </p:nvPicPr>
        <p:blipFill>
          <a:blip r:embed="rId1"/>
          <a:stretch/>
        </p:blipFill>
        <p:spPr>
          <a:xfrm>
            <a:off x="0" y="0"/>
            <a:ext cx="2160720" cy="1647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n1"/>
          <p:cNvPicPr/>
          <p:nvPr/>
        </p:nvPicPr>
        <p:blipFill>
          <a:blip r:embed="rId2"/>
          <a:stretch/>
        </p:blipFill>
        <p:spPr>
          <a:xfrm>
            <a:off x="7343640" y="4629240"/>
            <a:ext cx="18003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35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какое время можно пройти   30 км со скоростью 5 км/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Рисунок13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15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Рисунок15"/>
          <p:cNvPicPr/>
          <p:nvPr/>
        </p:nvPicPr>
        <p:blipFill>
          <a:blip r:embed="rId2"/>
          <a:stretch/>
        </p:blipFill>
        <p:spPr>
          <a:xfrm>
            <a:off x="971640" y="1628640"/>
            <a:ext cx="1255680" cy="2071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дерево"/>
          <p:cNvPicPr/>
          <p:nvPr/>
        </p:nvPicPr>
        <p:blipFill>
          <a:blip r:embed="rId3"/>
          <a:stretch/>
        </p:blipFill>
        <p:spPr>
          <a:xfrm>
            <a:off x="6732720" y="189000"/>
            <a:ext cx="2666880" cy="1904760"/>
          </a:xfrm>
          <a:prstGeom prst="rect">
            <a:avLst/>
          </a:prstGeom>
          <a:ln w="0">
            <a:noFill/>
          </a:ln>
        </p:spPr>
      </p:pic>
      <p:sp>
        <p:nvSpPr>
          <p:cNvPr id="212" name="Line 7"/>
          <p:cNvSpPr/>
          <p:nvPr/>
        </p:nvSpPr>
        <p:spPr>
          <a:xfrm flipV="1">
            <a:off x="0" y="3789360"/>
            <a:ext cx="8893080" cy="1440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 rot="15644400">
            <a:off x="3836880" y="979200"/>
            <a:ext cx="1355760" cy="8588520"/>
          </a:xfrm>
          <a:custGeom>
            <a:avLst/>
            <a:gdLst>
              <a:gd name="textAreaLeft" fmla="*/ 866160 w 1355760"/>
              <a:gd name="textAreaRight" fmla="*/ 1355760 w 1355760"/>
              <a:gd name="textAreaTop" fmla="*/ 223920 h 8588520"/>
              <a:gd name="textAreaBottom" fmla="*/ 8364600 h 858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24"/>
                </a:lnTo>
                <a:cubicBezTo>
                  <a:pt x="10800" y="9424"/>
                  <a:pt x="5400" y="10324"/>
                  <a:pt x="0" y="10324"/>
                </a:cubicBezTo>
                <a:cubicBezTo>
                  <a:pt x="5400" y="10324"/>
                  <a:pt x="10800" y="11224"/>
                  <a:pt x="10800" y="1212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 rot="21042000">
            <a:off x="4932360" y="522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3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250920" y="4149360"/>
            <a:ext cx="3960720" cy="7174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 rot="20916000">
            <a:off x="611280" y="4149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– 5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 rot="20997000">
            <a:off x="6733080" y="306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 -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? 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2411280" y="162864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 : 5 = 6 (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07407E-006 L 0.56145 -0.09838 E">
                                      <p:cBhvr>
                                        <p:cTn id="326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ня пробежала 30 м за 6 с. С какой  скоростью она бежал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92000" y="1600200"/>
            <a:ext cx="51944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 : 6 = 5 (м/с)- скор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7" descr="Рисунок13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1498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туристёнок"/>
          <p:cNvPicPr/>
          <p:nvPr/>
        </p:nvPicPr>
        <p:blipFill>
          <a:blip r:embed="rId2"/>
          <a:stretch/>
        </p:blipFill>
        <p:spPr>
          <a:xfrm>
            <a:off x="250920" y="2349360"/>
            <a:ext cx="1311120" cy="1959120"/>
          </a:xfrm>
          <a:prstGeom prst="rect">
            <a:avLst/>
          </a:prstGeom>
          <a:ln w="0">
            <a:noFill/>
          </a:ln>
        </p:spPr>
      </p:pic>
      <p:sp>
        <p:nvSpPr>
          <p:cNvPr id="223" name="Line 9"/>
          <p:cNvSpPr/>
          <p:nvPr/>
        </p:nvSpPr>
        <p:spPr>
          <a:xfrm flipV="1">
            <a:off x="0" y="4508640"/>
            <a:ext cx="9144000" cy="10792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 rot="21255000">
            <a:off x="3132000" y="5229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1"/>
          <p:cNvGrpSpPr/>
          <p:nvPr/>
        </p:nvGrpSpPr>
        <p:grpSpPr>
          <a:xfrm>
            <a:off x="7093080" y="5186160"/>
            <a:ext cx="1797120" cy="1249920"/>
            <a:chOff x="7093080" y="5186160"/>
            <a:chExt cx="1797120" cy="1249920"/>
          </a:xfrm>
        </p:grpSpPr>
        <p:grpSp>
          <p:nvGrpSpPr>
            <p:cNvPr id="226" name="Group 12"/>
            <p:cNvGrpSpPr/>
            <p:nvPr/>
          </p:nvGrpSpPr>
          <p:grpSpPr>
            <a:xfrm>
              <a:off x="7093080" y="5232240"/>
              <a:ext cx="1503000" cy="1203840"/>
              <a:chOff x="7093080" y="5232240"/>
              <a:chExt cx="1503000" cy="1203840"/>
            </a:xfrm>
          </p:grpSpPr>
          <p:grpSp>
            <p:nvGrpSpPr>
              <p:cNvPr id="227" name="Group 13"/>
              <p:cNvGrpSpPr/>
              <p:nvPr/>
            </p:nvGrpSpPr>
            <p:grpSpPr>
              <a:xfrm>
                <a:off x="7093080" y="6224040"/>
                <a:ext cx="657000" cy="212040"/>
                <a:chOff x="7093080" y="6224040"/>
                <a:chExt cx="657000" cy="212040"/>
              </a:xfrm>
            </p:grpSpPr>
            <p:sp>
              <p:nvSpPr>
                <p:cNvPr id="228" name="Oval 14"/>
                <p:cNvSpPr/>
                <p:nvPr/>
              </p:nvSpPr>
              <p:spPr>
                <a:xfrm>
                  <a:off x="7093080" y="6266520"/>
                  <a:ext cx="657000" cy="16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5"/>
                <p:cNvSpPr/>
                <p:nvPr/>
              </p:nvSpPr>
              <p:spPr>
                <a:xfrm>
                  <a:off x="7183080" y="6244560"/>
                  <a:ext cx="506160" cy="12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6"/>
                <p:cNvSpPr/>
                <p:nvPr/>
              </p:nvSpPr>
              <p:spPr>
                <a:xfrm>
                  <a:off x="7241400" y="6224040"/>
                  <a:ext cx="36000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7"/>
              <p:cNvSpPr/>
              <p:nvPr/>
            </p:nvSpPr>
            <p:spPr>
              <a:xfrm>
                <a:off x="7358760" y="5232240"/>
                <a:ext cx="1237320" cy="99180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991800"/>
                  <a:gd name="textAreaBottom" fmla="*/ 992160 h 99180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 Box 18"/>
            <p:cNvSpPr/>
            <p:nvPr/>
          </p:nvSpPr>
          <p:spPr>
            <a:xfrm rot="21406800">
              <a:off x="7320240" y="5229360"/>
              <a:ext cx="155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250920" y="4869000"/>
            <a:ext cx="633240" cy="685800"/>
            <a:chOff x="250920" y="4869000"/>
            <a:chExt cx="633240" cy="685800"/>
          </a:xfrm>
        </p:grpSpPr>
        <p:grpSp>
          <p:nvGrpSpPr>
            <p:cNvPr id="234" name="Group 22"/>
            <p:cNvGrpSpPr/>
            <p:nvPr/>
          </p:nvGrpSpPr>
          <p:grpSpPr>
            <a:xfrm>
              <a:off x="250920" y="5326200"/>
              <a:ext cx="533160" cy="228600"/>
              <a:chOff x="250920" y="5326200"/>
              <a:chExt cx="533160" cy="228600"/>
            </a:xfrm>
          </p:grpSpPr>
          <p:sp>
            <p:nvSpPr>
              <p:cNvPr id="235" name="Oval 23"/>
              <p:cNvSpPr/>
              <p:nvPr/>
            </p:nvSpPr>
            <p:spPr>
              <a:xfrm>
                <a:off x="250920" y="5371920"/>
                <a:ext cx="53316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4"/>
              <p:cNvSpPr/>
              <p:nvPr/>
            </p:nvSpPr>
            <p:spPr>
              <a:xfrm>
                <a:off x="323640" y="5348880"/>
                <a:ext cx="411840" cy="13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25"/>
              <p:cNvSpPr/>
              <p:nvPr/>
            </p:nvSpPr>
            <p:spPr>
              <a:xfrm>
                <a:off x="371880" y="5326200"/>
                <a:ext cx="290880" cy="68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Freeform 26"/>
            <p:cNvSpPr/>
            <p:nvPr/>
          </p:nvSpPr>
          <p:spPr>
            <a:xfrm>
              <a:off x="517320" y="4869000"/>
              <a:ext cx="366840" cy="50472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7"/>
          <p:cNvGrpSpPr/>
          <p:nvPr/>
        </p:nvGrpSpPr>
        <p:grpSpPr>
          <a:xfrm>
            <a:off x="8172360" y="3789360"/>
            <a:ext cx="633240" cy="718560"/>
            <a:chOff x="8172360" y="3789360"/>
            <a:chExt cx="633240" cy="718560"/>
          </a:xfrm>
        </p:grpSpPr>
        <p:grpSp>
          <p:nvGrpSpPr>
            <p:cNvPr id="240" name="Group 28"/>
            <p:cNvGrpSpPr/>
            <p:nvPr/>
          </p:nvGrpSpPr>
          <p:grpSpPr>
            <a:xfrm>
              <a:off x="8172360" y="4268520"/>
              <a:ext cx="533160" cy="239400"/>
              <a:chOff x="8172360" y="4268520"/>
              <a:chExt cx="533160" cy="239400"/>
            </a:xfrm>
          </p:grpSpPr>
          <p:sp>
            <p:nvSpPr>
              <p:cNvPr id="241" name="Oval 29"/>
              <p:cNvSpPr/>
              <p:nvPr/>
            </p:nvSpPr>
            <p:spPr>
              <a:xfrm>
                <a:off x="8172360" y="4316400"/>
                <a:ext cx="5331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0"/>
              <p:cNvSpPr/>
              <p:nvPr/>
            </p:nvSpPr>
            <p:spPr>
              <a:xfrm>
                <a:off x="8245080" y="4292280"/>
                <a:ext cx="4118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1"/>
              <p:cNvSpPr/>
              <p:nvPr/>
            </p:nvSpPr>
            <p:spPr>
              <a:xfrm>
                <a:off x="8293320" y="4268520"/>
                <a:ext cx="29088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Freeform 32"/>
            <p:cNvSpPr/>
            <p:nvPr/>
          </p:nvSpPr>
          <p:spPr>
            <a:xfrm>
              <a:off x="8438760" y="3789360"/>
              <a:ext cx="366840" cy="5292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454" h="544">
                  <a:moveTo>
                    <a:pt x="0" y="318"/>
                  </a:moveTo>
                  <a:lnTo>
                    <a:pt x="454" y="318"/>
                  </a:lnTo>
                  <a:lnTo>
                    <a:pt x="0" y="0"/>
                  </a:lnTo>
                  <a:lnTo>
                    <a:pt x="0" y="544"/>
                  </a:lnTo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33"/>
          <p:cNvSpPr/>
          <p:nvPr/>
        </p:nvSpPr>
        <p:spPr>
          <a:xfrm>
            <a:off x="1332000" y="450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? 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0"/>
          <p:cNvGrpSpPr/>
          <p:nvPr/>
        </p:nvGrpSpPr>
        <p:grpSpPr>
          <a:xfrm>
            <a:off x="971640" y="4149720"/>
            <a:ext cx="7200720" cy="1440000"/>
            <a:chOff x="971640" y="4149720"/>
            <a:chExt cx="7200720" cy="1440000"/>
          </a:xfrm>
        </p:grpSpPr>
        <p:sp>
          <p:nvSpPr>
            <p:cNvPr id="247" name="Line 34"/>
            <p:cNvSpPr/>
            <p:nvPr/>
          </p:nvSpPr>
          <p:spPr>
            <a:xfrm>
              <a:off x="971640" y="522936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35"/>
            <p:cNvSpPr/>
            <p:nvPr/>
          </p:nvSpPr>
          <p:spPr>
            <a:xfrm>
              <a:off x="2411280" y="4869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6"/>
            <p:cNvSpPr/>
            <p:nvPr/>
          </p:nvSpPr>
          <p:spPr>
            <a:xfrm>
              <a:off x="3851280" y="486900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7"/>
            <p:cNvSpPr/>
            <p:nvPr/>
          </p:nvSpPr>
          <p:spPr>
            <a:xfrm>
              <a:off x="5292720" y="450864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8"/>
            <p:cNvSpPr/>
            <p:nvPr/>
          </p:nvSpPr>
          <p:spPr>
            <a:xfrm>
              <a:off x="6732720" y="450864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9"/>
            <p:cNvSpPr/>
            <p:nvPr/>
          </p:nvSpPr>
          <p:spPr>
            <a:xfrm>
              <a:off x="8172360" y="4149720"/>
              <a:ext cx="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 L 0.82691 -0.10509 E">
                                      <p:cBhvr>
                                        <p:cTn id="361" dur="5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9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.т. с.31 № 102, с.32 № 107, с. 63 - форм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BF53-B236-4A56-BD6E-A4F292E269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446040" y="2711520"/>
            <a:ext cx="843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пасибо за работу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7093080" y="4329000"/>
            <a:ext cx="137772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ц, когда ему угрожает опасность, пробега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6 секун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2 метра. С какой скоростью бежит заяц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C:\Users\2014\Desktop\загруженное.jpg"/>
          <p:cNvPicPr/>
          <p:nvPr/>
        </p:nvPicPr>
        <p:blipFill>
          <a:blip r:embed="rId1"/>
          <a:stretch/>
        </p:blipFill>
        <p:spPr>
          <a:xfrm>
            <a:off x="7664400" y="1627200"/>
            <a:ext cx="14796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08000" y="-65160"/>
            <a:ext cx="9252000" cy="6923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412360" y="5949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11280" y="486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ОР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4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Cambria"/>
              </a:rPr>
              <a:t>Укажите соответствующие скоро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6" descr="0000005596-preview.jpg"/>
          <p:cNvPicPr/>
          <p:nvPr/>
        </p:nvPicPr>
        <p:blipFill>
          <a:blip r:embed="rId1"/>
          <a:stretch/>
        </p:blipFill>
        <p:spPr>
          <a:xfrm>
            <a:off x="625320" y="1276200"/>
            <a:ext cx="2335320" cy="157176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21" descr="iCAC59FF5.jpg"/>
          <p:cNvPicPr/>
          <p:nvPr/>
        </p:nvPicPr>
        <p:blipFill>
          <a:blip r:embed="rId2"/>
          <a:stretch/>
        </p:blipFill>
        <p:spPr>
          <a:xfrm>
            <a:off x="3571920" y="2714760"/>
            <a:ext cx="2214360" cy="188568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8FCC-4094-4D24-921A-5CBADA48920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8" descr="35.gif"/>
          <p:cNvPicPr/>
          <p:nvPr/>
        </p:nvPicPr>
        <p:blipFill>
          <a:blip r:embed="rId3"/>
          <a:stretch/>
        </p:blipFill>
        <p:spPr>
          <a:xfrm>
            <a:off x="3675240" y="1276200"/>
            <a:ext cx="2643120" cy="114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Елена\Local Settings\Temporary Internet Files\Content.IE5\49UZ8XYF\MPj02012960000[1].jpg"/>
          <p:cNvPicPr/>
          <p:nvPr/>
        </p:nvPicPr>
        <p:blipFill>
          <a:blip r:embed="rId4"/>
          <a:stretch/>
        </p:blipFill>
        <p:spPr>
          <a:xfrm>
            <a:off x="428760" y="4643280"/>
            <a:ext cx="2757240" cy="1811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Елена\Local Settings\Temporary Internet Files\Content.IE5\45YJGDEZ\MMj03004900000[1].gif"/>
          <p:cNvPicPr/>
          <p:nvPr/>
        </p:nvPicPr>
        <p:blipFill>
          <a:blip r:embed="rId5"/>
          <a:stretch/>
        </p:blipFill>
        <p:spPr>
          <a:xfrm>
            <a:off x="428760" y="3143160"/>
            <a:ext cx="2733480" cy="13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Елена\Local Settings\Temporary Internet Files\Content.IE5\49UZ8XYF\MPj04010800000[1].jpg"/>
          <p:cNvPicPr/>
          <p:nvPr/>
        </p:nvPicPr>
        <p:blipFill>
          <a:blip r:embed="rId6"/>
          <a:stretch/>
        </p:blipFill>
        <p:spPr>
          <a:xfrm>
            <a:off x="3429000" y="4714920"/>
            <a:ext cx="2486160" cy="1657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6186600" y="142884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30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6365880" y="235260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2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6365880" y="3249720"/>
            <a:ext cx="25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8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6365880" y="3967200"/>
            <a:ext cx="277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15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6186600" y="4684680"/>
            <a:ext cx="252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Cambria"/>
              </a:rPr>
              <a:t>       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4 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6904080" y="558180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50 км</a:t>
            </a:r>
            <a:r>
              <a:rPr b="1" lang="en-US" sz="3200" spc="-1" strike="noStrike">
                <a:solidFill>
                  <a:srgbClr val="ff0066"/>
                </a:solidFill>
                <a:latin typeface="Rockwell"/>
              </a:rPr>
              <a:t>/</a:t>
            </a:r>
            <a:r>
              <a:rPr b="1" lang="ru-RU" sz="3200" spc="-1" strike="noStrike">
                <a:solidFill>
                  <a:srgbClr val="ff0066"/>
                </a:solidFill>
                <a:latin typeface="Cambri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4 0.01272 L -0.39271 0.49145 E">
                                      <p:cBhvr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19288 L -0.66823 0.56059 E">
                                      <p:cBhvr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0.06221 L -0.17604 -0.14755 E">
                                      <p:cBhvr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95837E-006 L -0.63003 -0.12604 E">
                                      <p:cBhvr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42461E-006 L -0.66944 -0.57701 E">
                                      <p:cBhvr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21415 L -0.3974 -0.43478 E">
                                      <p:cBhvr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положи числа  в порядке возрастания и составь слово из слогов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11280" y="1268280"/>
            <a:ext cx="1035000" cy="113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05092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85128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651640" y="126828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7451640" y="1628640"/>
            <a:ext cx="108108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ист может лететь со  скоростью 40 м/с. Какое расстояние он может пролететь за 4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11280" y="1628280"/>
            <a:ext cx="48560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∙ 4 = 160 (м)- расстоя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а"/>
          <p:cNvPicPr/>
          <p:nvPr/>
        </p:nvPicPr>
        <p:blipFill>
          <a:blip r:embed="rId1"/>
          <a:stretch/>
        </p:blipFill>
        <p:spPr>
          <a:xfrm>
            <a:off x="250920" y="1628640"/>
            <a:ext cx="3600360" cy="24004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1"/>
          <p:cNvGrpSpPr/>
          <p:nvPr/>
        </p:nvGrpSpPr>
        <p:grpSpPr>
          <a:xfrm>
            <a:off x="250920" y="3752280"/>
            <a:ext cx="8909280" cy="3016080"/>
            <a:chOff x="250920" y="3752280"/>
            <a:chExt cx="8909280" cy="3016080"/>
          </a:xfrm>
        </p:grpSpPr>
        <p:sp>
          <p:nvSpPr>
            <p:cNvPr id="74" name="Line 13"/>
            <p:cNvSpPr/>
            <p:nvPr/>
          </p:nvSpPr>
          <p:spPr>
            <a:xfrm>
              <a:off x="250920" y="52293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9"/>
            <p:cNvGrpSpPr/>
            <p:nvPr/>
          </p:nvGrpSpPr>
          <p:grpSpPr>
            <a:xfrm>
              <a:off x="250920" y="3752280"/>
              <a:ext cx="8909280" cy="3016080"/>
              <a:chOff x="250920" y="3752280"/>
              <a:chExt cx="8909280" cy="3016080"/>
            </a:xfrm>
          </p:grpSpPr>
          <p:sp>
            <p:nvSpPr>
              <p:cNvPr id="76" name="Line 12"/>
              <p:cNvSpPr/>
              <p:nvPr/>
            </p:nvSpPr>
            <p:spPr>
              <a:xfrm>
                <a:off x="250920" y="5589720"/>
                <a:ext cx="812664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5"/>
              <p:cNvSpPr/>
              <p:nvPr/>
            </p:nvSpPr>
            <p:spPr>
              <a:xfrm rot="16200000">
                <a:off x="934200" y="4906440"/>
                <a:ext cx="474480" cy="1841040"/>
              </a:xfrm>
              <a:custGeom>
                <a:avLst/>
                <a:gdLst>
                  <a:gd name="textAreaLeft" fmla="*/ 303120 w 474480"/>
                  <a:gd name="textAreaRight" fmla="*/ 474840 w 474480"/>
                  <a:gd name="textAreaTop" fmla="*/ 47880 h 1841040"/>
                  <a:gd name="textAreaBottom" fmla="*/ 1793160 h 184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19"/>
              <p:cNvSpPr/>
              <p:nvPr/>
            </p:nvSpPr>
            <p:spPr>
              <a:xfrm rot="16200000">
                <a:off x="3702960" y="2136960"/>
                <a:ext cx="834840" cy="7739280"/>
              </a:xfrm>
              <a:custGeom>
                <a:avLst/>
                <a:gdLst>
                  <a:gd name="textAreaLeft" fmla="*/ 533520 w 834840"/>
                  <a:gd name="textAreaRight" fmla="*/ 835200 w 834840"/>
                  <a:gd name="textAreaTop" fmla="*/ 201600 h 7739280"/>
                  <a:gd name="textAreaBottom" fmla="*/ 7537680 h 773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33"/>
              <p:cNvGrpSpPr/>
              <p:nvPr/>
            </p:nvGrpSpPr>
            <p:grpSpPr>
              <a:xfrm>
                <a:off x="7605000" y="3752280"/>
                <a:ext cx="1555200" cy="1244160"/>
                <a:chOff x="7605000" y="3752280"/>
                <a:chExt cx="1555200" cy="1244160"/>
              </a:xfrm>
            </p:grpSpPr>
            <p:grpSp>
              <p:nvGrpSpPr>
                <p:cNvPr id="80" name="Group 34"/>
                <p:cNvGrpSpPr/>
                <p:nvPr/>
              </p:nvGrpSpPr>
              <p:grpSpPr>
                <a:xfrm>
                  <a:off x="7605000" y="3792240"/>
                  <a:ext cx="1290960" cy="1204200"/>
                  <a:chOff x="7605000" y="3792240"/>
                  <a:chExt cx="1290960" cy="1204200"/>
                </a:xfrm>
              </p:grpSpPr>
              <p:grpSp>
                <p:nvGrpSpPr>
                  <p:cNvPr id="81" name="Group 35"/>
                  <p:cNvGrpSpPr/>
                  <p:nvPr/>
                </p:nvGrpSpPr>
                <p:grpSpPr>
                  <a:xfrm>
                    <a:off x="7605000" y="4784400"/>
                    <a:ext cx="564120" cy="212040"/>
                    <a:chOff x="7605000" y="4784400"/>
                    <a:chExt cx="564120" cy="212040"/>
                  </a:xfrm>
                </p:grpSpPr>
                <p:sp>
                  <p:nvSpPr>
                    <p:cNvPr id="82" name="Oval 36"/>
                    <p:cNvSpPr/>
                    <p:nvPr/>
                  </p:nvSpPr>
                  <p:spPr>
                    <a:xfrm>
                      <a:off x="7605000" y="4826880"/>
                      <a:ext cx="564120" cy="16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37"/>
                    <p:cNvSpPr/>
                    <p:nvPr/>
                  </p:nvSpPr>
                  <p:spPr>
                    <a:xfrm>
                      <a:off x="7682040" y="4804920"/>
                      <a:ext cx="434880" cy="127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Oval 38"/>
                    <p:cNvSpPr/>
                    <p:nvPr/>
                  </p:nvSpPr>
                  <p:spPr>
                    <a:xfrm>
                      <a:off x="7732440" y="4784400"/>
                      <a:ext cx="309240" cy="63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" name="Freeform 39"/>
                  <p:cNvSpPr/>
                  <p:nvPr/>
                </p:nvSpPr>
                <p:spPr>
                  <a:xfrm>
                    <a:off x="7833240" y="3792240"/>
                    <a:ext cx="1062720" cy="992160"/>
                  </a:xfrm>
                  <a:custGeom>
                    <a:avLst/>
                    <a:gdLst>
                      <a:gd name="textAreaLeft" fmla="*/ 0 w 1062720"/>
                      <a:gd name="textAreaRight" fmla="*/ 1063080 w 1062720"/>
                      <a:gd name="textAreaTop" fmla="*/ 0 h 992160"/>
                      <a:gd name="textAreaBottom" fmla="*/ 992520 h 992160"/>
                    </a:gdLst>
                    <a:ahLst/>
                    <a:rect l="textAreaLeft" t="textAreaTop" r="textAreaRight" b="textAreaBottom"/>
                    <a:pathLst>
                      <a:path w="1009" h="664">
                        <a:moveTo>
                          <a:pt x="20" y="419"/>
                        </a:moveTo>
                        <a:lnTo>
                          <a:pt x="176" y="415"/>
                        </a:lnTo>
                        <a:lnTo>
                          <a:pt x="1009" y="394"/>
                        </a:lnTo>
                        <a:lnTo>
                          <a:pt x="830" y="208"/>
                        </a:lnTo>
                        <a:lnTo>
                          <a:pt x="944" y="0"/>
                        </a:lnTo>
                        <a:lnTo>
                          <a:pt x="0" y="38"/>
                        </a:lnTo>
                        <a:lnTo>
                          <a:pt x="33" y="664"/>
                        </a:lnTo>
                      </a:path>
                    </a:pathLst>
                  </a:custGeom>
                  <a:solidFill>
                    <a:srgbClr val="ff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" name="Text Box 40"/>
                <p:cNvSpPr/>
                <p:nvPr/>
              </p:nvSpPr>
              <p:spPr>
                <a:xfrm rot="21406800">
                  <a:off x="7806960" y="3789360"/>
                  <a:ext cx="1336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 с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41"/>
              <p:cNvGrpSpPr/>
              <p:nvPr/>
            </p:nvGrpSpPr>
            <p:grpSpPr>
              <a:xfrm>
                <a:off x="250920" y="4508640"/>
                <a:ext cx="1934280" cy="764280"/>
                <a:chOff x="250920" y="4508640"/>
                <a:chExt cx="1934280" cy="764280"/>
              </a:xfrm>
            </p:grpSpPr>
            <p:sp>
              <p:nvSpPr>
                <p:cNvPr id="88" name="Rectangle 42"/>
                <p:cNvSpPr/>
                <p:nvPr/>
              </p:nvSpPr>
              <p:spPr>
                <a:xfrm>
                  <a:off x="252720" y="4508640"/>
                  <a:ext cx="18374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400" spc="-1" strike="noStrike">
                      <a:solidFill>
                        <a:srgbClr val="0033cc"/>
                      </a:solidFill>
                      <a:latin typeface="Arial"/>
                      <a:ea typeface="Arial"/>
                    </a:rPr>
                    <a:t>40 м/с</a:t>
                  </a:r>
                  <a:endParaRPr b="0" lang="en-US" sz="4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3"/>
                <p:cNvSpPr/>
                <p:nvPr/>
              </p:nvSpPr>
              <p:spPr>
                <a:xfrm>
                  <a:off x="250920" y="5226840"/>
                  <a:ext cx="1934280" cy="1080"/>
                </a:xfrm>
                <a:custGeom>
                  <a:avLst/>
                  <a:gdLst>
                    <a:gd name="textAreaLeft" fmla="*/ 0 w 1934280"/>
                    <a:gd name="textAreaRight" fmla="*/ 1934640 w 19342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160" h="1">
                      <a:moveTo>
                        <a:pt x="0" y="0"/>
                      </a:moveTo>
                      <a:lnTo>
                        <a:pt x="1160" y="0"/>
                      </a:lnTo>
                    </a:path>
                  </a:pathLst>
                </a:custGeom>
                <a:noFill/>
                <a:ln w="7632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Line 44"/>
              <p:cNvSpPr/>
              <p:nvPr/>
            </p:nvSpPr>
            <p:spPr>
              <a:xfrm flipV="1">
                <a:off x="2185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5"/>
              <p:cNvSpPr/>
              <p:nvPr/>
            </p:nvSpPr>
            <p:spPr>
              <a:xfrm flipV="1">
                <a:off x="4120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46"/>
              <p:cNvSpPr/>
              <p:nvPr/>
            </p:nvSpPr>
            <p:spPr>
              <a:xfrm flipV="1">
                <a:off x="60555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47"/>
              <p:cNvSpPr/>
              <p:nvPr/>
            </p:nvSpPr>
            <p:spPr>
              <a:xfrm flipV="1">
                <a:off x="79902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48"/>
              <p:cNvSpPr/>
              <p:nvPr/>
            </p:nvSpPr>
            <p:spPr>
              <a:xfrm>
                <a:off x="3347280" y="6308640"/>
                <a:ext cx="116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Arial"/>
                  </a:rPr>
                  <a:t>? 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 Box 50"/>
            <p:cNvSpPr/>
            <p:nvPr/>
          </p:nvSpPr>
          <p:spPr>
            <a:xfrm>
              <a:off x="611280" y="5589720"/>
              <a:ext cx="10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=1 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двигалась со  скоростью 5 м/мин. Какое расстояние прошла она за 3 м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0920" y="1628280"/>
            <a:ext cx="6840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∙ 3 = 15 (м)- расстоя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0"/>
          <p:cNvSpPr/>
          <p:nvPr/>
        </p:nvSpPr>
        <p:spPr>
          <a:xfrm>
            <a:off x="0" y="3429000"/>
            <a:ext cx="9156600" cy="630360"/>
          </a:xfrm>
          <a:custGeom>
            <a:avLst/>
            <a:gdLst/>
            <a:ahLst/>
            <a:rect l="l" t="t" r="r" b="b"/>
            <a:pathLst>
              <a:path w="5768" h="397">
                <a:moveTo>
                  <a:pt x="5768" y="397"/>
                </a:moveTo>
                <a:cubicBezTo>
                  <a:pt x="5722" y="382"/>
                  <a:pt x="5680" y="359"/>
                  <a:pt x="5635" y="342"/>
                </a:cubicBezTo>
                <a:cubicBezTo>
                  <a:pt x="5577" y="320"/>
                  <a:pt x="5516" y="307"/>
                  <a:pt x="5456" y="288"/>
                </a:cubicBezTo>
                <a:cubicBezTo>
                  <a:pt x="5380" y="264"/>
                  <a:pt x="5491" y="300"/>
                  <a:pt x="5410" y="264"/>
                </a:cubicBezTo>
                <a:cubicBezTo>
                  <a:pt x="5364" y="243"/>
                  <a:pt x="5297" y="236"/>
                  <a:pt x="5246" y="225"/>
                </a:cubicBezTo>
                <a:cubicBezTo>
                  <a:pt x="5184" y="195"/>
                  <a:pt x="5120" y="185"/>
                  <a:pt x="5052" y="179"/>
                </a:cubicBezTo>
                <a:cubicBezTo>
                  <a:pt x="4954" y="154"/>
                  <a:pt x="5011" y="161"/>
                  <a:pt x="4880" y="171"/>
                </a:cubicBezTo>
                <a:cubicBezTo>
                  <a:pt x="4835" y="201"/>
                  <a:pt x="4789" y="232"/>
                  <a:pt x="4740" y="256"/>
                </a:cubicBezTo>
                <a:cubicBezTo>
                  <a:pt x="4724" y="281"/>
                  <a:pt x="4724" y="288"/>
                  <a:pt x="4694" y="303"/>
                </a:cubicBezTo>
                <a:cubicBezTo>
                  <a:pt x="4679" y="310"/>
                  <a:pt x="4647" y="319"/>
                  <a:pt x="4647" y="319"/>
                </a:cubicBezTo>
                <a:cubicBezTo>
                  <a:pt x="4480" y="314"/>
                  <a:pt x="4378" y="348"/>
                  <a:pt x="4258" y="264"/>
                </a:cubicBezTo>
                <a:cubicBezTo>
                  <a:pt x="4030" y="267"/>
                  <a:pt x="3801" y="267"/>
                  <a:pt x="3573" y="272"/>
                </a:cubicBezTo>
                <a:cubicBezTo>
                  <a:pt x="3532" y="273"/>
                  <a:pt x="3494" y="307"/>
                  <a:pt x="3456" y="319"/>
                </a:cubicBezTo>
                <a:cubicBezTo>
                  <a:pt x="3400" y="337"/>
                  <a:pt x="3343" y="345"/>
                  <a:pt x="3285" y="350"/>
                </a:cubicBezTo>
                <a:cubicBezTo>
                  <a:pt x="2616" y="340"/>
                  <a:pt x="2930" y="376"/>
                  <a:pt x="2678" y="319"/>
                </a:cubicBezTo>
                <a:cubicBezTo>
                  <a:pt x="2644" y="296"/>
                  <a:pt x="2603" y="296"/>
                  <a:pt x="2569" y="272"/>
                </a:cubicBezTo>
                <a:cubicBezTo>
                  <a:pt x="2535" y="248"/>
                  <a:pt x="2508" y="222"/>
                  <a:pt x="2467" y="210"/>
                </a:cubicBezTo>
                <a:cubicBezTo>
                  <a:pt x="2406" y="169"/>
                  <a:pt x="2344" y="145"/>
                  <a:pt x="2273" y="124"/>
                </a:cubicBezTo>
                <a:cubicBezTo>
                  <a:pt x="2241" y="114"/>
                  <a:pt x="2211" y="102"/>
                  <a:pt x="2179" y="93"/>
                </a:cubicBezTo>
                <a:cubicBezTo>
                  <a:pt x="2143" y="83"/>
                  <a:pt x="2106" y="72"/>
                  <a:pt x="2070" y="62"/>
                </a:cubicBezTo>
                <a:cubicBezTo>
                  <a:pt x="2035" y="52"/>
                  <a:pt x="2004" y="30"/>
                  <a:pt x="1969" y="23"/>
                </a:cubicBezTo>
                <a:cubicBezTo>
                  <a:pt x="1931" y="15"/>
                  <a:pt x="1897" y="11"/>
                  <a:pt x="1860" y="0"/>
                </a:cubicBezTo>
                <a:cubicBezTo>
                  <a:pt x="1741" y="2"/>
                  <a:pt x="1621" y="2"/>
                  <a:pt x="1502" y="7"/>
                </a:cubicBezTo>
                <a:cubicBezTo>
                  <a:pt x="1488" y="8"/>
                  <a:pt x="1458" y="27"/>
                  <a:pt x="1448" y="31"/>
                </a:cubicBezTo>
                <a:cubicBezTo>
                  <a:pt x="1382" y="56"/>
                  <a:pt x="1307" y="61"/>
                  <a:pt x="1238" y="77"/>
                </a:cubicBezTo>
                <a:cubicBezTo>
                  <a:pt x="1200" y="86"/>
                  <a:pt x="1176" y="109"/>
                  <a:pt x="1136" y="116"/>
                </a:cubicBezTo>
                <a:cubicBezTo>
                  <a:pt x="1087" y="141"/>
                  <a:pt x="1033" y="185"/>
                  <a:pt x="981" y="202"/>
                </a:cubicBezTo>
                <a:cubicBezTo>
                  <a:pt x="811" y="258"/>
                  <a:pt x="604" y="252"/>
                  <a:pt x="436" y="256"/>
                </a:cubicBezTo>
                <a:cubicBezTo>
                  <a:pt x="407" y="254"/>
                  <a:pt x="378" y="253"/>
                  <a:pt x="350" y="249"/>
                </a:cubicBezTo>
                <a:cubicBezTo>
                  <a:pt x="325" y="246"/>
                  <a:pt x="298" y="226"/>
                  <a:pt x="272" y="225"/>
                </a:cubicBezTo>
                <a:cubicBezTo>
                  <a:pt x="181" y="223"/>
                  <a:pt x="91" y="225"/>
                  <a:pt x="0" y="225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herep32"/>
          <p:cNvPicPr/>
          <p:nvPr/>
        </p:nvPicPr>
        <p:blipFill>
          <a:blip r:embed="rId1"/>
          <a:stretch/>
        </p:blipFill>
        <p:spPr>
          <a:xfrm>
            <a:off x="3851280" y="3068640"/>
            <a:ext cx="2540160" cy="1650960"/>
          </a:xfrm>
          <a:prstGeom prst="rect">
            <a:avLst/>
          </a:prstGeom>
          <a:ln w="0">
            <a:noFill/>
          </a:ln>
        </p:spPr>
      </p:pic>
      <p:sp>
        <p:nvSpPr>
          <p:cNvPr id="100" name="Line 11"/>
          <p:cNvSpPr/>
          <p:nvPr/>
        </p:nvSpPr>
        <p:spPr>
          <a:xfrm>
            <a:off x="0" y="5229360"/>
            <a:ext cx="9144000" cy="0"/>
          </a:xfrm>
          <a:prstGeom prst="line">
            <a:avLst/>
          </a:prstGeom>
          <a:ln w="76320">
            <a:solidFill>
              <a:srgbClr val="00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V="1">
            <a:off x="889308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601200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V="1">
            <a:off x="61128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V="1">
            <a:off x="3132000" y="486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 flipH="1">
            <a:off x="6011640" y="4869000"/>
            <a:ext cx="28810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 rot="16200000">
            <a:off x="4334760" y="1505520"/>
            <a:ext cx="834840" cy="8281800"/>
          </a:xfrm>
          <a:custGeom>
            <a:avLst/>
            <a:gdLst>
              <a:gd name="textAreaLeft" fmla="*/ 533520 w 834840"/>
              <a:gd name="textAreaRight" fmla="*/ 835200 w 834840"/>
              <a:gd name="textAreaTop" fmla="*/ 215640 h 8281800"/>
              <a:gd name="textAreaBottom" fmla="*/ 8066160 h 828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6732720" y="4149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м/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250920" y="3385080"/>
            <a:ext cx="1811160" cy="1338480"/>
            <a:chOff x="250920" y="3385080"/>
            <a:chExt cx="1811160" cy="1338480"/>
          </a:xfrm>
        </p:grpSpPr>
        <p:grpSp>
          <p:nvGrpSpPr>
            <p:cNvPr id="109" name="Group 20"/>
            <p:cNvGrpSpPr/>
            <p:nvPr/>
          </p:nvGrpSpPr>
          <p:grpSpPr>
            <a:xfrm>
              <a:off x="250920" y="3429000"/>
              <a:ext cx="1522080" cy="1294560"/>
              <a:chOff x="250920" y="3429000"/>
              <a:chExt cx="1522080" cy="1294560"/>
            </a:xfrm>
          </p:grpSpPr>
          <p:grpSp>
            <p:nvGrpSpPr>
              <p:cNvPr id="110" name="Group 21"/>
              <p:cNvGrpSpPr/>
              <p:nvPr/>
            </p:nvGrpSpPr>
            <p:grpSpPr>
              <a:xfrm>
                <a:off x="250920" y="4495680"/>
                <a:ext cx="665280" cy="227880"/>
                <a:chOff x="250920" y="4495680"/>
                <a:chExt cx="665280" cy="227880"/>
              </a:xfrm>
            </p:grpSpPr>
            <p:sp>
              <p:nvSpPr>
                <p:cNvPr id="111" name="Oval 22"/>
                <p:cNvSpPr/>
                <p:nvPr/>
              </p:nvSpPr>
              <p:spPr>
                <a:xfrm>
                  <a:off x="250920" y="4541400"/>
                  <a:ext cx="665280" cy="18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23"/>
                <p:cNvSpPr/>
                <p:nvPr/>
              </p:nvSpPr>
              <p:spPr>
                <a:xfrm>
                  <a:off x="342000" y="4517640"/>
                  <a:ext cx="512640" cy="13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24"/>
                <p:cNvSpPr/>
                <p:nvPr/>
              </p:nvSpPr>
              <p:spPr>
                <a:xfrm>
                  <a:off x="401040" y="4495680"/>
                  <a:ext cx="3643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Freeform 25"/>
              <p:cNvSpPr/>
              <p:nvPr/>
            </p:nvSpPr>
            <p:spPr>
              <a:xfrm>
                <a:off x="520200" y="3429000"/>
                <a:ext cx="1252800" cy="1066680"/>
              </a:xfrm>
              <a:custGeom>
                <a:avLst/>
                <a:gdLst>
                  <a:gd name="textAreaLeft" fmla="*/ 0 w 1252800"/>
                  <a:gd name="textAreaRight" fmla="*/ 1253160 w 1252800"/>
                  <a:gd name="textAreaTop" fmla="*/ 0 h 1066680"/>
                  <a:gd name="textAreaBottom" fmla="*/ 1067040 h 1066680"/>
                </a:gdLst>
                <a:ahLst/>
                <a:rect l="textAreaLeft" t="textAreaTop" r="textAreaRight" b="textAreaBottom"/>
                <a:pathLst>
                  <a:path w="1009" h="664">
                    <a:moveTo>
                      <a:pt x="20" y="419"/>
                    </a:moveTo>
                    <a:lnTo>
                      <a:pt x="176" y="415"/>
                    </a:lnTo>
                    <a:lnTo>
                      <a:pt x="1009" y="394"/>
                    </a:lnTo>
                    <a:lnTo>
                      <a:pt x="830" y="208"/>
                    </a:lnTo>
                    <a:lnTo>
                      <a:pt x="944" y="0"/>
                    </a:lnTo>
                    <a:lnTo>
                      <a:pt x="0" y="38"/>
                    </a:lnTo>
                    <a:lnTo>
                      <a:pt x="33" y="664"/>
                    </a:lnTo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26"/>
            <p:cNvSpPr/>
            <p:nvPr/>
          </p:nvSpPr>
          <p:spPr>
            <a:xfrm rot="21406800">
              <a:off x="472680" y="3428640"/>
              <a:ext cx="157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м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27"/>
          <p:cNvSpPr/>
          <p:nvPr/>
        </p:nvSpPr>
        <p:spPr>
          <a:xfrm>
            <a:off x="3851280" y="59500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н двигался со  скоростью 100 м/мин. Какое расстояние он прошёл за 10 ми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32000" y="1599840"/>
            <a:ext cx="55548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∙ 10 = 1000 (м)- расстоя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8" descr="slon12"/>
          <p:cNvPicPr/>
          <p:nvPr/>
        </p:nvPicPr>
        <p:blipFill>
          <a:blip r:embed="rId1"/>
          <a:stretch/>
        </p:blipFill>
        <p:spPr>
          <a:xfrm>
            <a:off x="611280" y="162864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Line 9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0"/>
          <p:cNvGrpSpPr/>
          <p:nvPr/>
        </p:nvGrpSpPr>
        <p:grpSpPr>
          <a:xfrm>
            <a:off x="0" y="4106160"/>
            <a:ext cx="9155520" cy="2662200"/>
            <a:chOff x="0" y="4106160"/>
            <a:chExt cx="9155520" cy="2662200"/>
          </a:xfrm>
        </p:grpSpPr>
        <p:sp>
          <p:nvSpPr>
            <p:cNvPr id="122" name="Line 29"/>
            <p:cNvSpPr/>
            <p:nvPr/>
          </p:nvSpPr>
          <p:spPr>
            <a:xfrm flipV="1">
              <a:off x="7451640" y="5229000"/>
              <a:ext cx="0" cy="360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9"/>
            <p:cNvGrpSpPr/>
            <p:nvPr/>
          </p:nvGrpSpPr>
          <p:grpSpPr>
            <a:xfrm>
              <a:off x="0" y="4106160"/>
              <a:ext cx="9155520" cy="2662200"/>
              <a:chOff x="0" y="4106160"/>
              <a:chExt cx="9155520" cy="2662200"/>
            </a:xfrm>
          </p:grpSpPr>
          <p:sp>
            <p:nvSpPr>
              <p:cNvPr id="124" name="Line 12"/>
              <p:cNvSpPr/>
              <p:nvPr/>
            </p:nvSpPr>
            <p:spPr>
              <a:xfrm>
                <a:off x="250920" y="5589720"/>
                <a:ext cx="8893080" cy="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13"/>
              <p:cNvSpPr/>
              <p:nvPr/>
            </p:nvSpPr>
            <p:spPr>
              <a:xfrm rot="16200000">
                <a:off x="374040" y="5466600"/>
                <a:ext cx="474480" cy="720720"/>
              </a:xfrm>
              <a:custGeom>
                <a:avLst/>
                <a:gdLst>
                  <a:gd name="textAreaLeft" fmla="*/ 303120 w 474480"/>
                  <a:gd name="textAreaRight" fmla="*/ 474840 w 474480"/>
                  <a:gd name="textAreaTop" fmla="*/ 18720 h 720720"/>
                  <a:gd name="textAreaBottom" fmla="*/ 70200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4"/>
              <p:cNvSpPr/>
              <p:nvPr/>
            </p:nvSpPr>
            <p:spPr>
              <a:xfrm rot="16200000">
                <a:off x="3433680" y="2406240"/>
                <a:ext cx="834840" cy="7200720"/>
              </a:xfrm>
              <a:custGeom>
                <a:avLst/>
                <a:gdLst>
                  <a:gd name="textAreaLeft" fmla="*/ 533520 w 834840"/>
                  <a:gd name="textAreaRight" fmla="*/ 835200 w 834840"/>
                  <a:gd name="textAreaTop" fmla="*/ 187560 h 7200720"/>
                  <a:gd name="textAreaBottom" fmla="*/ 7013160 h 720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15"/>
              <p:cNvGrpSpPr/>
              <p:nvPr/>
            </p:nvGrpSpPr>
            <p:grpSpPr>
              <a:xfrm>
                <a:off x="7359480" y="4106160"/>
                <a:ext cx="1796040" cy="1250640"/>
                <a:chOff x="7359480" y="4106160"/>
                <a:chExt cx="1796040" cy="1250640"/>
              </a:xfrm>
            </p:grpSpPr>
            <p:grpSp>
              <p:nvGrpSpPr>
                <p:cNvPr id="128" name="Group 16"/>
                <p:cNvGrpSpPr/>
                <p:nvPr/>
              </p:nvGrpSpPr>
              <p:grpSpPr>
                <a:xfrm>
                  <a:off x="7359480" y="4152600"/>
                  <a:ext cx="1503720" cy="1204200"/>
                  <a:chOff x="7359480" y="4152600"/>
                  <a:chExt cx="1503720" cy="1204200"/>
                </a:xfrm>
              </p:grpSpPr>
              <p:grpSp>
                <p:nvGrpSpPr>
                  <p:cNvPr id="129" name="Group 17"/>
                  <p:cNvGrpSpPr/>
                  <p:nvPr/>
                </p:nvGrpSpPr>
                <p:grpSpPr>
                  <a:xfrm>
                    <a:off x="7359480" y="5144760"/>
                    <a:ext cx="657360" cy="212040"/>
                    <a:chOff x="7359480" y="5144760"/>
                    <a:chExt cx="657360" cy="212040"/>
                  </a:xfrm>
                </p:grpSpPr>
                <p:sp>
                  <p:nvSpPr>
                    <p:cNvPr id="130" name="Oval 18"/>
                    <p:cNvSpPr/>
                    <p:nvPr/>
                  </p:nvSpPr>
                  <p:spPr>
                    <a:xfrm>
                      <a:off x="7359480" y="5187240"/>
                      <a:ext cx="657360" cy="169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9"/>
                    <p:cNvSpPr/>
                    <p:nvPr/>
                  </p:nvSpPr>
                  <p:spPr>
                    <a:xfrm>
                      <a:off x="7449480" y="5165280"/>
                      <a:ext cx="506520" cy="127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560" bIns="43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Oval 20"/>
                    <p:cNvSpPr/>
                    <p:nvPr/>
                  </p:nvSpPr>
                  <p:spPr>
                    <a:xfrm>
                      <a:off x="7507800" y="5144760"/>
                      <a:ext cx="360000" cy="63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" bIns="-1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" name="Freeform 21"/>
                  <p:cNvSpPr/>
                  <p:nvPr/>
                </p:nvSpPr>
                <p:spPr>
                  <a:xfrm>
                    <a:off x="7625520" y="4152600"/>
                    <a:ext cx="1237680" cy="992160"/>
                  </a:xfrm>
                  <a:custGeom>
                    <a:avLst/>
                    <a:gdLst>
                      <a:gd name="textAreaLeft" fmla="*/ 0 w 1237680"/>
                      <a:gd name="textAreaRight" fmla="*/ 1238040 w 1237680"/>
                      <a:gd name="textAreaTop" fmla="*/ 0 h 992160"/>
                      <a:gd name="textAreaBottom" fmla="*/ 992520 h 992160"/>
                    </a:gdLst>
                    <a:ahLst/>
                    <a:rect l="textAreaLeft" t="textAreaTop" r="textAreaRight" b="textAreaBottom"/>
                    <a:pathLst>
                      <a:path w="1009" h="664">
                        <a:moveTo>
                          <a:pt x="20" y="419"/>
                        </a:moveTo>
                        <a:lnTo>
                          <a:pt x="176" y="415"/>
                        </a:lnTo>
                        <a:lnTo>
                          <a:pt x="1009" y="394"/>
                        </a:lnTo>
                        <a:lnTo>
                          <a:pt x="830" y="208"/>
                        </a:lnTo>
                        <a:lnTo>
                          <a:pt x="944" y="0"/>
                        </a:lnTo>
                        <a:lnTo>
                          <a:pt x="0" y="38"/>
                        </a:lnTo>
                        <a:lnTo>
                          <a:pt x="33" y="664"/>
                        </a:lnTo>
                      </a:path>
                    </a:pathLst>
                  </a:custGeom>
                  <a:solidFill>
                    <a:srgbClr val="ff0000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Text Box 22"/>
                <p:cNvSpPr/>
                <p:nvPr/>
              </p:nvSpPr>
              <p:spPr>
                <a:xfrm rot="21406800">
                  <a:off x="7586640" y="4149360"/>
                  <a:ext cx="155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 мин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4"/>
              <p:cNvSpPr/>
              <p:nvPr/>
            </p:nvSpPr>
            <p:spPr>
              <a:xfrm>
                <a:off x="0" y="4149720"/>
                <a:ext cx="218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33cc"/>
                    </a:solidFill>
                    <a:latin typeface="Arial"/>
                    <a:ea typeface="Arial"/>
                  </a:rPr>
                  <a:t>100 м/мин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5"/>
              <p:cNvSpPr/>
              <p:nvPr/>
            </p:nvSpPr>
            <p:spPr>
              <a:xfrm>
                <a:off x="250920" y="4869000"/>
                <a:ext cx="720720" cy="3618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1160" h="1">
                    <a:moveTo>
                      <a:pt x="0" y="0"/>
                    </a:moveTo>
                    <a:lnTo>
                      <a:pt x="1160" y="0"/>
                    </a:ln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26"/>
              <p:cNvSpPr/>
              <p:nvPr/>
            </p:nvSpPr>
            <p:spPr>
              <a:xfrm flipV="1">
                <a:off x="97164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7"/>
              <p:cNvSpPr/>
              <p:nvPr/>
            </p:nvSpPr>
            <p:spPr>
              <a:xfrm flipV="1">
                <a:off x="313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8"/>
              <p:cNvSpPr/>
              <p:nvPr/>
            </p:nvSpPr>
            <p:spPr>
              <a:xfrm flipV="1">
                <a:off x="457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30"/>
              <p:cNvSpPr/>
              <p:nvPr/>
            </p:nvSpPr>
            <p:spPr>
              <a:xfrm>
                <a:off x="3132000" y="6308640"/>
                <a:ext cx="107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00"/>
                    </a:solidFill>
                    <a:latin typeface="Arial"/>
                  </a:rPr>
                  <a:t>? 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 flipV="1">
                <a:off x="169236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32"/>
              <p:cNvSpPr/>
              <p:nvPr/>
            </p:nvSpPr>
            <p:spPr>
              <a:xfrm flipV="1">
                <a:off x="241128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3"/>
              <p:cNvSpPr/>
              <p:nvPr/>
            </p:nvSpPr>
            <p:spPr>
              <a:xfrm flipV="1">
                <a:off x="385128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34"/>
              <p:cNvSpPr/>
              <p:nvPr/>
            </p:nvSpPr>
            <p:spPr>
              <a:xfrm flipV="1">
                <a:off x="52927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5"/>
              <p:cNvSpPr/>
              <p:nvPr/>
            </p:nvSpPr>
            <p:spPr>
              <a:xfrm flipV="1">
                <a:off x="601200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6"/>
              <p:cNvSpPr/>
              <p:nvPr/>
            </p:nvSpPr>
            <p:spPr>
              <a:xfrm flipV="1">
                <a:off x="67327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7"/>
              <p:cNvSpPr/>
              <p:nvPr/>
            </p:nvSpPr>
            <p:spPr>
              <a:xfrm flipV="1">
                <a:off x="250920" y="5229000"/>
                <a:ext cx="0" cy="360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68040" y="4510080"/>
            <a:ext cx="3035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7:45:28Z</dcterms:created>
  <dc:creator>Наташа</dc:creator>
  <dc:description/>
  <dc:language>en-US</dc:language>
  <cp:lastModifiedBy>юдбимдж</cp:lastModifiedBy>
  <dcterms:modified xsi:type="dcterms:W3CDTF">2018-10-14T16:01:41Z</dcterms:modified>
  <cp:revision>88</cp:revision>
  <dc:subject/>
  <dc:title>Урок математики в 4 классе</dc:title>
</cp:coreProperties>
</file>