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14501-796E-4CDD-B9DC-659D1AEDE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0FE47-16F7-4E41-9719-AF9CE31A1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69784-FFD3-4290-A041-C3131FEEB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FEA1F-E724-4756-A546-E526A02F8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993B3-DAE7-40FC-82DC-A45BB76EF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8AF09-4245-4C11-AC71-9703EEB2C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ED05A-0C5D-4F9A-AC4D-FE6954105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249DD-9C38-4BEE-8291-B9BC215AC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B4C81-0FE7-4A92-B6B2-D43584DD1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4C45B-2831-41BB-A7DD-1EE4A568E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8F3DB-B7A4-427A-A025-552636136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5F900-80B4-48A7-AF3B-3D9138298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7FC9E-FAC7-45E4-B8C8-82C292DF858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28760" y="4357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Блощицын Иван Михайлович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856880" y="5429160"/>
            <a:ext cx="5000760" cy="69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4.07.1924 – 30.09.199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5" descr="C:\Documents and Settings\Константин\Рабочий стол\Все файлы из Никона 003.jpg"/>
          <p:cNvPicPr/>
          <p:nvPr/>
        </p:nvPicPr>
        <p:blipFill>
          <a:blip r:embed="rId1"/>
          <a:stretch/>
        </p:blipFill>
        <p:spPr>
          <a:xfrm>
            <a:off x="2857680" y="214200"/>
            <a:ext cx="332244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-540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ВОВ был командиром отделения телефонного взвода связи. Участвовал в освобождении Крыма и Севастопол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частвовал в освобождении Латвии и Литвы, в ликвидации немецко-курлянской группировк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Наград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рден Отечественной Войны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II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степен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рден Красной Звезд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едаль за победу над Германие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рден Отечественной Войны, как участнику ВОВ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06T19:17:31Z</dcterms:created>
  <dc:creator>Константин</dc:creator>
  <dc:description/>
  <dc:language>en-US</dc:language>
  <cp:lastModifiedBy>Константин</cp:lastModifiedBy>
  <dcterms:modified xsi:type="dcterms:W3CDTF">2019-05-06T20:12:04Z</dcterms:modified>
  <cp:revision>6</cp:revision>
  <dc:subject/>
  <dc:title>Кавалер Иван Харитонович</dc:title>
</cp:coreProperties>
</file>