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AB3D-AEFC-4514-B371-4E1D37D0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8807-9FCF-49BA-B513-C6E53A27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AA97-9BB5-4662-B1FA-0B21DE5A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F253-C11E-4377-B6BC-CC6B4F42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945-787C-4846-AC7E-C63D1310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DBE5-6F7A-4DBC-A041-BC9EC84F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C2CB-8C6D-4399-8103-5F71CE33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0DB0-9C66-4099-9E35-DA76E604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E2CB-C68E-4993-8370-95A4EE37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A688-ED20-4981-989F-91141748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3239-16AF-44B1-98A8-EBC9AFD6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BA00-87AF-4CAF-82D7-2709CA16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9A17-56C5-46DD-980A-999F72209B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43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лощицын Иван Михайло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56880" y="5429160"/>
            <a:ext cx="500076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4.07.1924 – 30.09.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C:\Documents and Settings\Константин\Рабочий стол\Все файлы из Никона 003.jpg"/>
          <p:cNvPicPr/>
          <p:nvPr/>
        </p:nvPicPr>
        <p:blipFill>
          <a:blip r:embed="rId1"/>
          <a:stretch/>
        </p:blipFill>
        <p:spPr>
          <a:xfrm>
            <a:off x="2857680" y="214200"/>
            <a:ext cx="33224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54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ВОВ был командиром отделения телефонного взвода связи. Участвовал в освобождении Крыма и Севастопо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аствовал в освобождении Латвии и Литвы, в ликвидации немецко-курлянской группиров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гра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ден Отечественной Войны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тепе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ден Красной Звез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аль за победу над Германи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ден Отечественной Войны, как участнику В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06T19:17:31Z</dcterms:created>
  <dc:creator>Константин</dc:creator>
  <dc:description/>
  <dc:language>en-US</dc:language>
  <cp:lastModifiedBy>Константин</cp:lastModifiedBy>
  <dcterms:modified xsi:type="dcterms:W3CDTF">2019-05-06T20:12:04Z</dcterms:modified>
  <cp:revision>6</cp:revision>
  <dc:subject/>
  <dc:title>Кавалер Иван Харитонович</dc:title>
</cp:coreProperties>
</file>