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F7F5-4D17-4B82-B2C0-3756B3B62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07A5-FA81-430C-8E59-646CD598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1E86-F965-4C67-993D-FBBF200C3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E4FE-98C5-4C2E-9082-77B0BB368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159C-7B35-4A4B-9AC6-F6A69F37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43D3-ED9C-4CDE-A249-09050B64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AB21-1D14-4D47-A128-7698C305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56A5-627C-4E1B-AA1A-F814FDAC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80E6-D4DF-4A0A-B290-D6535A71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6B23-3314-4C77-BE24-509AEB0B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02C5-7C5E-49F4-AEBE-6A2FB44B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3FD1-88CA-478A-90FE-F8DDB42A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0D7F-B241-45DF-B3B6-D1C054142B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71640" y="2565360"/>
            <a:ext cx="7920000" cy="1752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тегрированная непосредственно образовательная деятельность для детей 4-5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971640" y="836640"/>
            <a:ext cx="7921440" cy="1736640"/>
          </a:xfrm>
          <a:prstGeom prst="rect">
            <a:avLst/>
          </a:pr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Государственный флаг Росс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971640" y="4292640"/>
            <a:ext cx="7920000" cy="1752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БДОУ «Детский сад № 1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шехонова Екатерина Анатолье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3825720" cy="2870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45" name="Picture 10" descr=""/>
          <p:cNvPicPr/>
          <p:nvPr/>
        </p:nvPicPr>
        <p:blipFill>
          <a:blip r:embed="rId2"/>
          <a:stretch/>
        </p:blipFill>
        <p:spPr>
          <a:xfrm>
            <a:off x="5003640" y="260280"/>
            <a:ext cx="3792600" cy="2844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46" name="Picture 11" descr=""/>
          <p:cNvPicPr/>
          <p:nvPr/>
        </p:nvPicPr>
        <p:blipFill>
          <a:blip r:embed="rId3"/>
          <a:stretch/>
        </p:blipFill>
        <p:spPr>
          <a:xfrm>
            <a:off x="395280" y="3789360"/>
            <a:ext cx="3959280" cy="28465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47" name="Picture 12" descr=""/>
          <p:cNvPicPr/>
          <p:nvPr/>
        </p:nvPicPr>
        <p:blipFill>
          <a:blip r:embed="rId4"/>
          <a:stretch/>
        </p:blipFill>
        <p:spPr>
          <a:xfrm>
            <a:off x="5003640" y="3789360"/>
            <a:ext cx="3792600" cy="2852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48" name="WordArt 13"/>
          <p:cNvSpPr txBox="1"/>
          <p:nvPr/>
        </p:nvSpPr>
        <p:spPr>
          <a:xfrm>
            <a:off x="2987640" y="3141720"/>
            <a:ext cx="31719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елая полоса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743280" cy="2808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50" name="Picture 9" descr=""/>
          <p:cNvPicPr/>
          <p:nvPr/>
        </p:nvPicPr>
        <p:blipFill>
          <a:blip r:embed="rId2"/>
          <a:stretch/>
        </p:blipFill>
        <p:spPr>
          <a:xfrm>
            <a:off x="4932360" y="260280"/>
            <a:ext cx="3699000" cy="27748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51" name="Picture 10" descr=""/>
          <p:cNvPicPr/>
          <p:nvPr/>
        </p:nvPicPr>
        <p:blipFill>
          <a:blip r:embed="rId3"/>
          <a:stretch/>
        </p:blipFill>
        <p:spPr>
          <a:xfrm>
            <a:off x="2843280" y="3860640"/>
            <a:ext cx="3719520" cy="27910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52" name="WordArt 11"/>
          <p:cNvSpPr txBox="1"/>
          <p:nvPr/>
        </p:nvSpPr>
        <p:spPr>
          <a:xfrm>
            <a:off x="2987640" y="3213000"/>
            <a:ext cx="31719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иняя полоса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898880" cy="27529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54" name="Picture 9" descr=""/>
          <p:cNvPicPr/>
          <p:nvPr/>
        </p:nvPicPr>
        <p:blipFill>
          <a:blip r:embed="rId2"/>
          <a:stretch/>
        </p:blipFill>
        <p:spPr>
          <a:xfrm>
            <a:off x="5435640" y="2205000"/>
            <a:ext cx="3219480" cy="4292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55" name="WordArt 10"/>
          <p:cNvSpPr txBox="1"/>
          <p:nvPr/>
        </p:nvSpPr>
        <p:spPr>
          <a:xfrm>
            <a:off x="1547640" y="4149720"/>
            <a:ext cx="31719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расная полос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>
            <a:off x="2124000" y="404640"/>
            <a:ext cx="540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йди флаг России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2374920" cy="14400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58" name="Picture 7" descr=""/>
          <p:cNvPicPr/>
          <p:nvPr/>
        </p:nvPicPr>
        <p:blipFill>
          <a:blip r:embed="rId2"/>
          <a:stretch/>
        </p:blipFill>
        <p:spPr>
          <a:xfrm>
            <a:off x="3348000" y="1557360"/>
            <a:ext cx="2303640" cy="14191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59" name="Picture 8" descr=""/>
          <p:cNvPicPr/>
          <p:nvPr/>
        </p:nvPicPr>
        <p:blipFill>
          <a:blip r:embed="rId3"/>
          <a:stretch/>
        </p:blipFill>
        <p:spPr>
          <a:xfrm>
            <a:off x="6156360" y="1484280"/>
            <a:ext cx="2519280" cy="15130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60" name="Picture 9" descr=""/>
          <p:cNvPicPr/>
          <p:nvPr/>
        </p:nvPicPr>
        <p:blipFill>
          <a:blip r:embed="rId4"/>
          <a:stretch/>
        </p:blipFill>
        <p:spPr>
          <a:xfrm>
            <a:off x="324000" y="4292640"/>
            <a:ext cx="2447640" cy="15634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61" name="Picture 10" descr=""/>
          <p:cNvPicPr/>
          <p:nvPr/>
        </p:nvPicPr>
        <p:blipFill>
          <a:blip r:embed="rId5"/>
          <a:stretch/>
        </p:blipFill>
        <p:spPr>
          <a:xfrm>
            <a:off x="3276720" y="4221000"/>
            <a:ext cx="2447640" cy="16243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62" name="Picture 11" descr=""/>
          <p:cNvPicPr/>
          <p:nvPr/>
        </p:nvPicPr>
        <p:blipFill>
          <a:blip r:embed="rId6"/>
          <a:stretch/>
        </p:blipFill>
        <p:spPr>
          <a:xfrm>
            <a:off x="6300720" y="4292640"/>
            <a:ext cx="2398680" cy="15984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63" name="WordArt 12"/>
          <p:cNvSpPr txBox="1"/>
          <p:nvPr/>
        </p:nvSpPr>
        <p:spPr>
          <a:xfrm>
            <a:off x="1258920" y="314172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4" name="WordArt 13"/>
          <p:cNvSpPr txBox="1"/>
          <p:nvPr/>
        </p:nvSpPr>
        <p:spPr>
          <a:xfrm>
            <a:off x="4211640" y="314172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5" name="WordArt 14"/>
          <p:cNvSpPr txBox="1"/>
          <p:nvPr/>
        </p:nvSpPr>
        <p:spPr>
          <a:xfrm>
            <a:off x="7236000" y="321300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6" name="WordArt 15"/>
          <p:cNvSpPr txBox="1"/>
          <p:nvPr/>
        </p:nvSpPr>
        <p:spPr>
          <a:xfrm>
            <a:off x="1403280" y="609300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7" name="WordArt 16"/>
          <p:cNvSpPr txBox="1"/>
          <p:nvPr/>
        </p:nvSpPr>
        <p:spPr>
          <a:xfrm>
            <a:off x="4427640" y="602136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8" name="WordArt 17"/>
          <p:cNvSpPr txBox="1"/>
          <p:nvPr/>
        </p:nvSpPr>
        <p:spPr>
          <a:xfrm>
            <a:off x="7380360" y="602136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69" name="Picture 18" descr=""/>
          <p:cNvPicPr/>
          <p:nvPr/>
        </p:nvPicPr>
        <p:blipFill>
          <a:blip r:embed="rId7"/>
          <a:stretch/>
        </p:blipFill>
        <p:spPr>
          <a:xfrm>
            <a:off x="838836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2124000" y="404640"/>
            <a:ext cx="540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обери флаг России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24000" y="2133720"/>
            <a:ext cx="216036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324000" y="3500280"/>
            <a:ext cx="2160360" cy="505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24000" y="5877000"/>
            <a:ext cx="216036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324000" y="2852640"/>
            <a:ext cx="2160360" cy="50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324000" y="5084640"/>
            <a:ext cx="2160360" cy="505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324000" y="4292640"/>
            <a:ext cx="2160360" cy="504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1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745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5087E-006 L 0.56702 -0.00531 E">
                                      <p:cBhvr>
                                        <p:cTn id="47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04624E-007 L 0.56702 -0.1311 E">
                                      <p:cBhvr>
                                        <p:cTn id="57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23699E-006 L 0.56702 -0.41434 E">
                                      <p:cBhvr>
                                        <p:cTn id="72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604000" cy="53006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5:48:27Z</dcterms:created>
  <dc:creator>компьютер</dc:creator>
  <dc:description/>
  <dc:language>en-US</dc:language>
  <cp:lastModifiedBy>маша</cp:lastModifiedBy>
  <dcterms:modified xsi:type="dcterms:W3CDTF">2019-05-10T11:38:37Z</dcterms:modified>
  <cp:revision>15</cp:revision>
  <dc:subject/>
  <dc:title>Государственные символы Росс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0040000000000010250600207f3200358026400</vt:lpwstr>
  </property>
</Properties>
</file>