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081-214A-4C0A-9B29-5D18DF43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C32-5199-4951-9805-E83D5677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71C-FA9C-4E26-8174-6D01A3BA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D07-1016-4523-B123-17EB371B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5F7-5F6E-4DD2-98B1-F4791DE7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C43-F79E-431D-AE18-AACAABA9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9316-AE6D-4F58-B4FC-6EC01662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1EC-19B7-4E02-9FEC-A4863C7E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EC6-CF2F-4346-B542-F2C1EF88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812-60E1-47B5-B062-B3321F12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7EA-DE60-439D-BE95-0BABE121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532-EC47-4852-9842-CE46CB1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CEBB-1FF7-47C2-9ED8-8C88D0D27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7920000" cy="1752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грированная непосредственно образовательная деятельность для детей 4-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71640" y="836640"/>
            <a:ext cx="7921440" cy="173664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Государственный флаг 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71640" y="4292640"/>
            <a:ext cx="7920000" cy="1752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ДОУ «Детский сад № 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шехонова Екатерина Анатоль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825720" cy="2870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792600" cy="284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959280" cy="2846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5003640" y="3789360"/>
            <a:ext cx="3792600" cy="2852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8" name="WordArt 13"/>
          <p:cNvSpPr txBox="1"/>
          <p:nvPr/>
        </p:nvSpPr>
        <p:spPr>
          <a:xfrm>
            <a:off x="2987640" y="3141720"/>
            <a:ext cx="3171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лая полос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743280" cy="2808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699000" cy="2774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1" name="Picture 10" descr=""/>
          <p:cNvPicPr/>
          <p:nvPr/>
        </p:nvPicPr>
        <p:blipFill>
          <a:blip r:embed="rId3"/>
          <a:stretch/>
        </p:blipFill>
        <p:spPr>
          <a:xfrm>
            <a:off x="2843280" y="3860640"/>
            <a:ext cx="3719520" cy="2791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2" name="WordArt 11"/>
          <p:cNvSpPr txBox="1"/>
          <p:nvPr/>
        </p:nvSpPr>
        <p:spPr>
          <a:xfrm>
            <a:off x="2987640" y="3213000"/>
            <a:ext cx="3171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иняя полос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898880" cy="2752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435640" y="2205000"/>
            <a:ext cx="3219480" cy="4292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5" name="WordArt 10"/>
          <p:cNvSpPr txBox="1"/>
          <p:nvPr/>
        </p:nvSpPr>
        <p:spPr>
          <a:xfrm>
            <a:off x="1547640" y="4149720"/>
            <a:ext cx="3171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асная полос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2124000" y="404640"/>
            <a:ext cx="54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йди флаг Росси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374920" cy="1440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3348000" y="1557360"/>
            <a:ext cx="2303640" cy="14191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6156360" y="1484280"/>
            <a:ext cx="2519280" cy="1513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0" name="Picture 9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2447640" cy="15634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1" name="Picture 10" descr=""/>
          <p:cNvPicPr/>
          <p:nvPr/>
        </p:nvPicPr>
        <p:blipFill>
          <a:blip r:embed="rId5"/>
          <a:stretch/>
        </p:blipFill>
        <p:spPr>
          <a:xfrm>
            <a:off x="3276720" y="4221000"/>
            <a:ext cx="2447640" cy="1624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2" name="Picture 11" descr=""/>
          <p:cNvPicPr/>
          <p:nvPr/>
        </p:nvPicPr>
        <p:blipFill>
          <a:blip r:embed="rId6"/>
          <a:stretch/>
        </p:blipFill>
        <p:spPr>
          <a:xfrm>
            <a:off x="6300720" y="4292640"/>
            <a:ext cx="2398680" cy="15984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63" name="WordArt 12"/>
          <p:cNvSpPr txBox="1"/>
          <p:nvPr/>
        </p:nvSpPr>
        <p:spPr>
          <a:xfrm>
            <a:off x="1258920" y="3141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4" name="WordArt 13"/>
          <p:cNvSpPr txBox="1"/>
          <p:nvPr/>
        </p:nvSpPr>
        <p:spPr>
          <a:xfrm>
            <a:off x="4211640" y="3141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5" name="WordArt 14"/>
          <p:cNvSpPr txBox="1"/>
          <p:nvPr/>
        </p:nvSpPr>
        <p:spPr>
          <a:xfrm>
            <a:off x="7236000" y="321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6" name="WordArt 15"/>
          <p:cNvSpPr txBox="1"/>
          <p:nvPr/>
        </p:nvSpPr>
        <p:spPr>
          <a:xfrm>
            <a:off x="1403280" y="6093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" name="WordArt 16"/>
          <p:cNvSpPr txBox="1"/>
          <p:nvPr/>
        </p:nvSpPr>
        <p:spPr>
          <a:xfrm>
            <a:off x="4427640" y="6021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8" name="WordArt 17"/>
          <p:cNvSpPr txBox="1"/>
          <p:nvPr/>
        </p:nvSpPr>
        <p:spPr>
          <a:xfrm>
            <a:off x="7380360" y="6021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69" name="Picture 18" descr=""/>
          <p:cNvPicPr/>
          <p:nvPr/>
        </p:nvPicPr>
        <p:blipFill>
          <a:blip r:embed="rId7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2124000" y="404640"/>
            <a:ext cx="54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бери флаг Росси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4000" y="2133720"/>
            <a:ext cx="2160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24000" y="3500280"/>
            <a:ext cx="2160360" cy="505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24000" y="5877000"/>
            <a:ext cx="216036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24000" y="2852640"/>
            <a:ext cx="216036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24000" y="5084640"/>
            <a:ext cx="2160360" cy="50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324000" y="4292640"/>
            <a:ext cx="216036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5087E-006 L 0.56702 -0.00531 E">
                                      <p:cBhvr>
                                        <p:cTn id="4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4624E-007 L 0.56702 -0.1311 E">
                                      <p:cBhvr>
                                        <p:cTn id="5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23699E-006 L 0.56702 -0.41434 E">
                                      <p:cBhvr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604000" cy="5300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5:48:27Z</dcterms:created>
  <dc:creator>компьютер</dc:creator>
  <dc:description/>
  <dc:language>en-US</dc:language>
  <cp:lastModifiedBy>маша</cp:lastModifiedBy>
  <dcterms:modified xsi:type="dcterms:W3CDTF">2019-05-10T11:38:37Z</dcterms:modified>
  <cp:revision>15</cp:revision>
  <dc:subject/>
  <dc:title>Государственные символы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040000000000010250600207f3200358026400</vt:lpwstr>
  </property>
</Properties>
</file>