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C6C-4758-4790-A595-15B9E98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3B2-3147-40A7-AAEB-DEA113A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4F4-E6FC-46D4-9842-EEF3775F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FC5-A43E-4885-A17E-38022C86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675-F0DC-46E9-9021-A1C11EB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417-74C5-485E-BCB7-73083CE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E5B-5987-4DE3-8B18-8FB17951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6F7-C342-4433-B7D5-5073600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7F-7AF1-4214-8E32-4719D7B0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0ED-0343-45FE-8B74-F20F7BB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399-0257-43F4-85E1-F5A0268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720-A77B-4FEB-81F5-66FFE9F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ABBD-F3AF-438A-BCCE-B02CC9CB2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72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валер Иван Харито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56880" y="5661000"/>
            <a:ext cx="60994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2.01.1910г. –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.01.1998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Константин\Рабочий стол\1.JPG"/>
          <p:cNvPicPr/>
          <p:nvPr/>
        </p:nvPicPr>
        <p:blipFill>
          <a:blip r:embed="rId1"/>
          <a:stretch/>
        </p:blipFill>
        <p:spPr>
          <a:xfrm>
            <a:off x="4459320" y="333360"/>
            <a:ext cx="348300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:\Users\Пользователь\Desktop\0_8ca46_1199f1c2_orig.png"/>
          <p:cNvPicPr/>
          <p:nvPr/>
        </p:nvPicPr>
        <p:blipFill>
          <a:blip r:embed="rId2"/>
          <a:stretch/>
        </p:blipFill>
        <p:spPr>
          <a:xfrm rot="19310400">
            <a:off x="-344520" y="1155600"/>
            <a:ext cx="4768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ужил в железнодорожных войсках машинис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шел три вой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фликт на Дальнем востоке с Японией (озеро Хас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том направили на Северо-западную  жд Октябрьскую. Прошел финскую вой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ремя ВОВ всю блокаду пробыл в Ленинграде, доставлял продовольствие и боеприпасы. После прорыва блокады двигался с войсками на запад, дошел до Варша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оборону Ленинграда в 1943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победу над Германией в 1945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билей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6T19:17:31Z</dcterms:created>
  <dc:creator>Константин</dc:creator>
  <dc:description/>
  <dc:language>en-US</dc:language>
  <cp:lastModifiedBy>User</cp:lastModifiedBy>
  <cp:lastPrinted>2019-05-07T07:06:12Z</cp:lastPrinted>
  <dcterms:modified xsi:type="dcterms:W3CDTF">2019-05-07T07:06:18Z</dcterms:modified>
  <cp:revision>6</cp:revision>
  <dc:subject/>
  <dc:title>Кавалер Иван Харитонович</dc:title>
</cp:coreProperties>
</file>