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60C0-8D58-474D-B6DA-CB0A5EB4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5CD9-84D1-4C15-AFD9-555260C0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294A-354C-4BBA-9D2D-532A17FD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395-4146-4ADB-9D77-3E543CE7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75B4-B9EA-4ABE-9392-10488997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FC8A-DD92-48C0-8091-26F9B7CC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D57-9C6A-4BA5-94EB-28A38FF2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D12-5579-4FBD-BE6B-AA5D5267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11E0-73A3-47CF-8343-1BB2D749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DFC8-6611-41ED-AE06-8CA7FB67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A41B-4EAC-446B-9246-BEB36E09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547-9AA4-44C9-AD25-D9AC1677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AD89-4E95-44FA-BB2F-50E2662633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4723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валер Иван Харитон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56880" y="5661000"/>
            <a:ext cx="60994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22.01.1910г. –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1.01.1998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C:\Documents and Settings\Константин\Рабочий стол\1.JPG"/>
          <p:cNvPicPr/>
          <p:nvPr/>
        </p:nvPicPr>
        <p:blipFill>
          <a:blip r:embed="rId1"/>
          <a:stretch/>
        </p:blipFill>
        <p:spPr>
          <a:xfrm>
            <a:off x="4459320" y="333360"/>
            <a:ext cx="3483000" cy="44956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C:\Users\Пользователь\Desktop\0_8ca46_1199f1c2_orig.png"/>
          <p:cNvPicPr/>
          <p:nvPr/>
        </p:nvPicPr>
        <p:blipFill>
          <a:blip r:embed="rId2"/>
          <a:stretch/>
        </p:blipFill>
        <p:spPr>
          <a:xfrm rot="19310400">
            <a:off x="-344520" y="1155600"/>
            <a:ext cx="47689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ужил в железнодорожных войсках машинист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шел три войн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нфликт на Дальнем востоке с Японией (озеро Хаса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том направили на Северо-западную  жд Октябрьскую. Прошел финскую вой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 время ВОВ всю блокаду пробыл в Ленинграде, доставлял продовольствие и боеприпасы. После прорыва блокады двигался с войсками на запад, дошел до Варшав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гра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 оборону Ленинграда в 1943 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 победу над Германией в 1945 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Юбилей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06T19:17:31Z</dcterms:created>
  <dc:creator>Константин</dc:creator>
  <dc:description/>
  <dc:language>en-US</dc:language>
  <cp:lastModifiedBy>User</cp:lastModifiedBy>
  <cp:lastPrinted>2019-05-07T07:06:12Z</cp:lastPrinted>
  <dcterms:modified xsi:type="dcterms:W3CDTF">2019-05-07T07:06:18Z</dcterms:modified>
  <cp:revision>6</cp:revision>
  <dc:subject/>
  <dc:title>Кавалер Иван Харитонович</dc:title>
</cp:coreProperties>
</file>