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0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11.gif" ContentType="image/gif"/>
  <Override PartName="/ppt/media/image14.png" ContentType="image/png"/>
  <Override PartName="/ppt/media/image8.png" ContentType="image/png"/>
  <Override PartName="/ppt/media/image5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0E0-8CC3-4359-92F8-A39BB9CD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313-4B57-4C4B-AC9F-A1A86CAC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782-8968-4994-AAD4-6A547A37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5A4-AE78-43C0-81DF-C705F5E6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837-7598-42F7-99C6-606B57D9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788-DBE8-4B54-9715-61F4197B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CEB-AC22-4E36-96FA-AB049680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00D-BD8A-4721-B29E-D0855F6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FF7-EFDE-4347-A60E-49DAD79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512-2D9A-43BC-93A1-22DF0CC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27E-F905-433C-A75F-A9B2E62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DFA-8EDC-4E33-BB25-8F512DD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9AE-E8E9-4A3A-8FAE-1DCEE17AB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ttp://egov-buryatia.ru/upload/iblock/63a/63a1c0f404d0cac7376ef0c4066d01bb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578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4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теперь проверим Ваше чувство юмора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жды Дж. Свифт спросил своего слуг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Том, что это значит? Мои сапоги не вычищен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Нет, сэр – ответил Том – Вы же собираетесь идти гулять, так я подумал: они всё равно станут грязн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Хорошо, собирайся, Том, пойдёшь со мн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Но, сэр, я ещё не завтракал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c00000"/>
                </a:solidFill>
                <a:uFillTx/>
                <a:latin typeface="Calibri"/>
              </a:rPr>
              <a:t>Вопрос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ru-RU" sz="3000" spc="-1" strike="noStrike">
                <a:solidFill>
                  <a:srgbClr val="c00000"/>
                </a:solidFill>
                <a:latin typeface="Calibri"/>
              </a:rPr>
              <a:t>Что же ответил Дж. Свифт?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Овал 3"/>
          <p:cNvGrpSpPr/>
          <p:nvPr/>
        </p:nvGrpSpPr>
        <p:grpSpPr>
          <a:xfrm>
            <a:off x="6168960" y="5919840"/>
            <a:ext cx="2127240" cy="1219320"/>
            <a:chOff x="6168960" y="5919840"/>
            <a:chExt cx="2127240" cy="1219320"/>
          </a:xfrm>
        </p:grpSpPr>
        <p:pic>
          <p:nvPicPr>
            <p:cNvPr id="84" name="Овал 3" descr=""/>
            <p:cNvPicPr/>
            <p:nvPr/>
          </p:nvPicPr>
          <p:blipFill>
            <a:blip r:embed="rId1"/>
            <a:stretch/>
          </p:blipFill>
          <p:spPr>
            <a:xfrm>
              <a:off x="6168960" y="5919840"/>
              <a:ext cx="2127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521400" y="6060960"/>
              <a:ext cx="14256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1640" y="160020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Не беда, всё равно опять проголодаеш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jswift.ru/wcmfiles/svift_djonatan_resized.jpg"/>
          <p:cNvPicPr/>
          <p:nvPr/>
        </p:nvPicPr>
        <p:blipFill>
          <a:blip r:embed="rId1"/>
          <a:stretch/>
        </p:blipFill>
        <p:spPr>
          <a:xfrm>
            <a:off x="857160" y="1285920"/>
            <a:ext cx="2935440" cy="4387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</a:t>
            </a:r>
            <a:r>
              <a:rPr b="0" i="1" lang="ru-RU" sz="2700" spc="-1" strike="noStrike">
                <a:solidFill>
                  <a:srgbClr val="c00000"/>
                </a:solidFill>
                <a:latin typeface="Calibri"/>
              </a:rPr>
              <a:t>ЗАДАНИЕ №5</a:t>
            </a:r>
            <a:br>
              <a:rPr sz="27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одолжи пословиц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5840" y="157176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пропадай -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одежке встречают 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ь раз отмерь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за страшатся,   …….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е учиться -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шь кататься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зная броду 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осеешь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Рисунок31"/>
          <p:cNvPicPr/>
          <p:nvPr/>
        </p:nvPicPr>
        <p:blipFill>
          <a:blip r:embed="rId1"/>
          <a:stretch/>
        </p:blipFill>
        <p:spPr>
          <a:xfrm>
            <a:off x="3714840" y="4071960"/>
            <a:ext cx="2519280" cy="1947960"/>
          </a:xfrm>
          <a:prstGeom prst="rect">
            <a:avLst/>
          </a:prstGeom>
          <a:ln w="0">
            <a:noFill/>
          </a:ln>
        </p:spPr>
      </p:pic>
      <p:grpSp>
        <p:nvGrpSpPr>
          <p:cNvPr id="94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95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пропадай -  а товарища выруч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одежке встречают - по уму провож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ь раз отмерь -один раз отреж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за страшатся,                  а руки дел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е учиться - всегда пригод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шь кататься -люби и саночки воз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зная броду -не суйся в в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осеешь -то и пожнеш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Calibri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6</a:t>
            </a: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СОБЕРИ СЛОВО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 каждого слова взять вторые слоги, составить новое сло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ловей, котор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говица, молоток, сл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мея, р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1640" y="1916280"/>
            <a:ext cx="43578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орот, пороша, кан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рикос, засуха, сы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еда, весело, в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KIDS01"/>
          <p:cNvPicPr/>
          <p:nvPr/>
        </p:nvPicPr>
        <p:blipFill>
          <a:blip r:embed="rId1"/>
          <a:stretch/>
        </p:blipFill>
        <p:spPr>
          <a:xfrm>
            <a:off x="2460600" y="3763800"/>
            <a:ext cx="3540240" cy="2451240"/>
          </a:xfrm>
          <a:prstGeom prst="rect">
            <a:avLst/>
          </a:prstGeom>
          <a:ln w="0">
            <a:noFill/>
          </a:ln>
        </p:spPr>
      </p:pic>
      <p:grpSp>
        <p:nvGrpSpPr>
          <p:cNvPr id="105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06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твет: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«СОБЕРИ СЛОВО»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 каждого слова взять вторые слоги, составить новое сло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KIDS01"/>
          <p:cNvPicPr/>
          <p:nvPr/>
        </p:nvPicPr>
        <p:blipFill>
          <a:blip r:embed="rId1"/>
          <a:stretch/>
        </p:blipFill>
        <p:spPr>
          <a:xfrm>
            <a:off x="2714760" y="3643200"/>
            <a:ext cx="341316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кругленный прямоугольник 1"/>
          <p:cNvSpPr/>
          <p:nvPr/>
        </p:nvSpPr>
        <p:spPr>
          <a:xfrm>
            <a:off x="2766960" y="692280"/>
            <a:ext cx="4037040" cy="119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2"/>
          <p:cNvSpPr/>
          <p:nvPr/>
        </p:nvSpPr>
        <p:spPr>
          <a:xfrm>
            <a:off x="219240" y="2500200"/>
            <a:ext cx="3600360" cy="1152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5040360" y="2652840"/>
            <a:ext cx="3600360" cy="115236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1042920" y="96840"/>
            <a:ext cx="7597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ЗАДАНИЕ №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Helvetica Neue"/>
              </a:rPr>
              <a:t>Какой глагол вы употребите в этом случае: «Я … нарядное плать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www2.yearlysales.ru/img/products/46424-plate-ot-lp-collection.jpg"/>
          <p:cNvPicPr/>
          <p:nvPr/>
        </p:nvPicPr>
        <p:blipFill>
          <a:blip r:embed="rId1"/>
          <a:stretch/>
        </p:blipFill>
        <p:spPr>
          <a:xfrm>
            <a:off x="2411280" y="2739960"/>
            <a:ext cx="3673440" cy="3672000"/>
          </a:xfrm>
          <a:prstGeom prst="rect">
            <a:avLst/>
          </a:prstGeom>
          <a:ln w="0">
            <a:noFill/>
          </a:ln>
        </p:spPr>
      </p:pic>
      <p:grpSp>
        <p:nvGrpSpPr>
          <p:cNvPr id="118" name="Овал 7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19" name="Овал 7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1"/>
          <p:cNvSpPr/>
          <p:nvPr/>
        </p:nvSpPr>
        <p:spPr>
          <a:xfrm>
            <a:off x="2766960" y="692280"/>
            <a:ext cx="4037040" cy="1199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2986200" y="2133720"/>
            <a:ext cx="3600360" cy="922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2050920" y="268200"/>
            <a:ext cx="6664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elvetica Neue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Helvetica Neue"/>
              </a:rPr>
              <a:t>Какой глагол вы употребите в этом случае: «Я … нарядное плать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956720" y="6093000"/>
            <a:ext cx="1079280" cy="64908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2.yearlysales.ru/img/products/46424-plate-ot-lp-collection.jpg"/>
          <p:cNvPicPr/>
          <p:nvPr/>
        </p:nvPicPr>
        <p:blipFill>
          <a:blip r:embed="rId1"/>
          <a:stretch/>
        </p:blipFill>
        <p:spPr>
          <a:xfrm>
            <a:off x="2741760" y="3027240"/>
            <a:ext cx="36734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1"/>
          <p:cNvSpPr/>
          <p:nvPr/>
        </p:nvSpPr>
        <p:spPr>
          <a:xfrm>
            <a:off x="2843280" y="690480"/>
            <a:ext cx="4105080" cy="1370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2">
            <a:hlinkClick r:id="" action="ppaction://hlinkshowjump?jump=nextslide"/>
          </p:cNvPr>
          <p:cNvSpPr/>
          <p:nvPr/>
        </p:nvSpPr>
        <p:spPr>
          <a:xfrm>
            <a:off x="765000" y="2349360"/>
            <a:ext cx="360072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ий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3">
            <a:hlinkClick r:id="" action="ppaction://hlinkshowjump?jump=nextslide"/>
          </p:cNvPr>
          <p:cNvSpPr/>
          <p:nvPr/>
        </p:nvSpPr>
        <p:spPr>
          <a:xfrm>
            <a:off x="4896000" y="2359080"/>
            <a:ext cx="360036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ид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2627280" y="465120"/>
            <a:ext cx="6048360" cy="1019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ЗАДАНИЕ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Helvetica Neue"/>
              </a:rPr>
              <a:t>Как сказать прави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s://image.freepik.com/free-vector/no-translate-detected_7122-9.jpg"/>
          <p:cNvPicPr/>
          <p:nvPr/>
        </p:nvPicPr>
        <p:blipFill>
          <a:blip r:embed="rId1"/>
          <a:stretch/>
        </p:blipFill>
        <p:spPr>
          <a:xfrm>
            <a:off x="2411280" y="2743200"/>
            <a:ext cx="4140360" cy="4140360"/>
          </a:xfrm>
          <a:prstGeom prst="rect">
            <a:avLst/>
          </a:prstGeom>
          <a:ln w="0">
            <a:noFill/>
          </a:ln>
        </p:spPr>
      </p:pic>
      <p:grpSp>
        <p:nvGrpSpPr>
          <p:cNvPr id="135" name="Овал 9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36" name="Овал 9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1"/>
          <p:cNvSpPr/>
          <p:nvPr/>
        </p:nvSpPr>
        <p:spPr>
          <a:xfrm>
            <a:off x="2627280" y="690480"/>
            <a:ext cx="3870360" cy="100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2"/>
          <p:cNvSpPr/>
          <p:nvPr/>
        </p:nvSpPr>
        <p:spPr>
          <a:xfrm>
            <a:off x="2771640" y="1700280"/>
            <a:ext cx="3726000" cy="122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й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2627280" y="465120"/>
            <a:ext cx="4105440" cy="73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elvetica Neue"/>
              </a:rPr>
              <a:t>Ответ</a:t>
            </a:r>
            <a:r>
              <a:rPr b="1" lang="ru-RU" sz="3200" spc="-1" strike="noStrike">
                <a:solidFill>
                  <a:srgbClr val="7030a0"/>
                </a:solidFill>
                <a:latin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Helvetica Neue"/>
              </a:rPr>
              <a:t>Как сказать прави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1677960" y="1700280"/>
            <a:ext cx="662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956720" y="6093000"/>
            <a:ext cx="1079280" cy="64908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s://image.freepik.com/free-vector/no-translate-detected_7122-9.jpg"/>
          <p:cNvPicPr/>
          <p:nvPr/>
        </p:nvPicPr>
        <p:blipFill>
          <a:blip r:embed="rId1"/>
          <a:stretch/>
        </p:blipFill>
        <p:spPr>
          <a:xfrm>
            <a:off x="2411280" y="2743200"/>
            <a:ext cx="4140360" cy="4140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187280" y="404640"/>
            <a:ext cx="763272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равствуйте, ребята. Сегодня мы с вами здесь собрались, чтобы проверить наши знания по русскому языку, проявить смекалку и творческие способности, а в конце игры ответить на вопрос: «А знаем ли мы русский язык?»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17375e"/>
                </a:solidFill>
                <a:latin typeface="Tahoma"/>
              </a:rPr>
              <a:t>Итак, начнем наше путешествие! За каждый правильный ответ команда получае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1"/>
          <p:cNvSpPr/>
          <p:nvPr/>
        </p:nvSpPr>
        <p:spPr>
          <a:xfrm>
            <a:off x="1403280" y="12600"/>
            <a:ext cx="7338960" cy="140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ыберите правильное написани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2">
            <a:hlinkClick r:id="" action="ppaction://hlinkshowjump?jump=nextslide"/>
          </p:cNvPr>
          <p:cNvSpPr/>
          <p:nvPr/>
        </p:nvSpPr>
        <p:spPr>
          <a:xfrm>
            <a:off x="3240" y="2222640"/>
            <a:ext cx="403236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елезнодор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3">
            <a:hlinkClick r:id="" action="ppaction://hlinkshowjump?jump=nextslide"/>
          </p:cNvPr>
          <p:cNvSpPr/>
          <p:nvPr/>
        </p:nvSpPr>
        <p:spPr>
          <a:xfrm>
            <a:off x="5073480" y="2222640"/>
            <a:ext cx="402768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елезно-дор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841480" y="2997360"/>
            <a:ext cx="3095640" cy="3409920"/>
          </a:xfrm>
          <a:prstGeom prst="rect">
            <a:avLst/>
          </a:prstGeom>
          <a:ln w="0">
            <a:noFill/>
          </a:ln>
        </p:spPr>
      </p:pic>
      <p:grpSp>
        <p:nvGrpSpPr>
          <p:cNvPr id="152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53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кругленный прямоугольник 1"/>
          <p:cNvSpPr/>
          <p:nvPr/>
        </p:nvSpPr>
        <p:spPr>
          <a:xfrm>
            <a:off x="2411280" y="0"/>
            <a:ext cx="5473800" cy="1628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Calibri"/>
              </a:rPr>
              <a:t>Выберите правильное написани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2"/>
          <p:cNvSpPr/>
          <p:nvPr/>
        </p:nvSpPr>
        <p:spPr>
          <a:xfrm>
            <a:off x="2556000" y="1916280"/>
            <a:ext cx="4176720" cy="1188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железнодорож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1476360" y="310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956720" y="6093000"/>
            <a:ext cx="1079280" cy="64908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841480" y="2997360"/>
            <a:ext cx="309564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распространенное предложение, кажд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о которого должно начинаться на букв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ковь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ровн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гласил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фири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лович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ужинать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ро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96D-6E56-4CA7-883F-01F78BD6E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65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869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ло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ядя, прашу  тебя, по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Твоей плимяннице  Ол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А то небудет ее на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В этой пративной 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Мне вчера за дектант на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Учитель  паставил « д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А сам сказал , что маю рабо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аже несмок про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Попраси его, дядя, исправить двой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И паставить  мне п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0E2-53F3-493A-8826-ACD912B6C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72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7869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99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ло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ядя, п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у  тебя, по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воей пл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ннице  Ол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то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е 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ет ее на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этой п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ивной 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е вчера за д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ант на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ь  п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ил « д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сам сказал , что м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ю рабо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же н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п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 его, дядя, исправить двой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ить  мне п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52A3-AFF3-488C-939C-6AD2EF1A5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2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836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, потом произнесите звуки в обратном порядке, чтобы получ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ЛЕЙ – название дер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ТОК – домашнее животно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ШЕЛ – неправд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ШЕЙ – просьб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A3DC-7F39-4E1E-A671-853717F9D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81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3600" y="28548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8584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Arial"/>
                <a:ea typeface="Arial"/>
              </a:rPr>
              <a:t>отве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, потом произнесите звуки в обратном порядке, чтобы получи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ЕЛ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название дере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К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домашнее животно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ЛОЖ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неправду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ЕШ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просьбу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49D-E138-4E14-8E25-E0DC6D986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О каких знаках препинания идет речь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1.Когда слова гремели и блистали,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   Я в моде был, я был на пьедестал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днако время новое настал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но меня и свергло с пьедест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2.Что о себе сказать мог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Согнула жизнь меня в ду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а свой характер я плачу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а то, что много знать хоч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Известно миру с давних пор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Что знак я немаловаж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не окончен разговор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начинает думать кажд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E6F-39FC-43BE-8B5A-63092ABC3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91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 каких знаках препинания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1. (Восклицательный зна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2.Вопросительный 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.Многоточ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14BE-27DB-4E2E-A266-525BA5962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95360" y="404280"/>
            <a:ext cx="819144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4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Назовите 5 литературных произведений, в названиях котор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встречаются числитель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deti2"/>
          <p:cNvPicPr/>
          <p:nvPr/>
        </p:nvPicPr>
        <p:blipFill>
          <a:blip r:embed="rId1"/>
          <a:stretch/>
        </p:blipFill>
        <p:spPr>
          <a:xfrm>
            <a:off x="2940120" y="4103640"/>
            <a:ext cx="270504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99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200" name="Овал 4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im0-tub-ru.yandex.net/i?id=4b554054bcd8a7de7c9df7961e3586b0&amp;n=33&amp;w=200&amp;h=150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75920" y="692280"/>
            <a:ext cx="8210520" cy="382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0000"/>
          </a:bodyPr>
          <a:p>
            <a:pPr marL="240120" indent="-240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  <a:ea typeface="Times New Roman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. Маршак «Двенадцать месяцев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. Дюма «Три мушкетёр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. Ю. Лермонтов «Три пальм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. С. Пушкин «Сказка о мёртвой царевне и семи богатырях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. Каверин «Два капитан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. Лондон «Сердца трёх»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E:\Лариса\Мои документы\Анимашки\Анимация\an1_stopkaknig.gif"/>
          <p:cNvPicPr/>
          <p:nvPr/>
        </p:nvPicPr>
        <p:blipFill>
          <a:blip r:embed="rId1"/>
          <a:stretch/>
        </p:blipFill>
        <p:spPr>
          <a:xfrm>
            <a:off x="5938920" y="19080"/>
            <a:ext cx="2925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0"/>
          <p:cNvSpPr/>
          <p:nvPr/>
        </p:nvSpPr>
        <p:spPr>
          <a:xfrm>
            <a:off x="2076480" y="64440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ЗАДАНИЕ №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38120" y="1773360"/>
            <a:ext cx="826776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ьте на шуточ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1. Какие местоимения читаются одинаково слева направо и справа нале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2. Какие два местоимения мешают автотранспор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3) Какие три местоимения самые чист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Овал 6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210" name="Овал 6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9600" y="259920"/>
            <a:ext cx="8286840" cy="5870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Calibri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577880" y="1978200"/>
            <a:ext cx="633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Arial"/>
              </a:rPr>
              <a:t>1. ОНО, Т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Arial"/>
              </a:rPr>
              <a:t>2. Я – 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Arial"/>
              </a:rPr>
              <a:t>3. ВЫ – МЫ – 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3" descr="E:\59dfc10c2b12.gif"/>
          <p:cNvPicPr/>
          <p:nvPr/>
        </p:nvPicPr>
        <p:blipFill>
          <a:blip r:embed="rId1"/>
          <a:stretch/>
        </p:blipFill>
        <p:spPr>
          <a:xfrm>
            <a:off x="4557600" y="1657440"/>
            <a:ext cx="492948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uslide.ru/images/14/20736/960/img12.jpg"/>
          <p:cNvPicPr/>
          <p:nvPr/>
        </p:nvPicPr>
        <p:blipFill>
          <a:blip r:embed="rId1"/>
          <a:stretch/>
        </p:blipFill>
        <p:spPr>
          <a:xfrm>
            <a:off x="155520" y="189000"/>
            <a:ext cx="88092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ЗАДАНИЕ №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703440"/>
            <a:ext cx="428328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ом слове сорок а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называют звуки, состоящие только из голоса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можно превратить слов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мелкое место,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г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 топливо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ес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число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каплю превратить в цаплю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звании какого дня недели есть удвоенная согласна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703440"/>
            <a:ext cx="421488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  Какие мена девочек состоят из двух бук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двоенных согласных. Как зовут девочек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.   Что надо сделать со звуком в слов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чтобы оно стало обозначать желанного в доме человека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8.   В каком глагол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е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ышится сто раз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  Сколько слогов в слов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Овал 6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48" name="Овал 6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AutoShape 9">
            <a:hlinkClick r:id="rId2" action="ppaction://hlinksldjump"/>
          </p:cNvPr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1 коман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р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ль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гол 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ше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нять первую букв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1214280"/>
            <a:ext cx="40417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53735"/>
                </a:solidFill>
                <a:latin typeface="Calibri"/>
              </a:rPr>
              <a:t>2 коман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ла, Ан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сть - г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  стон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.  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Рисунок3"/>
          <p:cNvPicPr/>
          <p:nvPr/>
        </p:nvPicPr>
        <p:blipFill>
          <a:blip r:embed="rId1"/>
          <a:stretch/>
        </p:blipFill>
        <p:spPr>
          <a:xfrm>
            <a:off x="5381640" y="4071960"/>
            <a:ext cx="32734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ую часть слова можно в земле най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ж] звонкий или глух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чале слова буква ё обозначае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  Назовите первую букву алфавит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tomsk.fio.ru/works/313/suh/karandah.gif"/>
          <p:cNvPicPr/>
          <p:nvPr/>
        </p:nvPicPr>
        <p:blipFill>
          <a:blip r:embed="rId1"/>
          <a:stretch/>
        </p:blipFill>
        <p:spPr>
          <a:xfrm>
            <a:off x="2452680" y="3981600"/>
            <a:ext cx="1643040" cy="3071520"/>
          </a:xfrm>
          <a:prstGeom prst="rect">
            <a:avLst/>
          </a:prstGeom>
          <a:ln w="0">
            <a:noFill/>
          </a:ln>
        </p:spPr>
      </p:pic>
      <p:grpSp>
        <p:nvGrpSpPr>
          <p:cNvPr id="59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60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9">
            <a:hlinkClick r:id="rId3" action="ppaction://hlinksldjump"/>
          </p:cNvPr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ен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он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  два зву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tomsk.fio.ru/works/313/suh/karandah.gif"/>
          <p:cNvPicPr/>
          <p:nvPr/>
        </p:nvPicPr>
        <p:blipFill>
          <a:blip r:embed="rId1"/>
          <a:stretch/>
        </p:blipFill>
        <p:spPr>
          <a:xfrm>
            <a:off x="6072120" y="2500200"/>
            <a:ext cx="1643040" cy="3283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836280"/>
            <a:ext cx="47149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вокзале есть всег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ят поез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о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ит о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Загадка эта нелегк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сь всегда через д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ч, и шайбу клюшкой б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 большие расстоя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ся он без опоздани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в конце д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антоним к слову зн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реке, в тени густ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бутылке лимона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 ме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Рисунок35"/>
          <p:cNvPicPr/>
          <p:nvPr/>
        </p:nvPicPr>
        <p:blipFill>
          <a:blip r:embed="rId1"/>
          <a:stretch/>
        </p:blipFill>
        <p:spPr>
          <a:xfrm>
            <a:off x="928800" y="221472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Рисунок35"/>
          <p:cNvPicPr/>
          <p:nvPr/>
        </p:nvPicPr>
        <p:blipFill>
          <a:blip r:embed="rId2"/>
          <a:stretch/>
        </p:blipFill>
        <p:spPr>
          <a:xfrm>
            <a:off x="5286240" y="3357720"/>
            <a:ext cx="31435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72" name="Овал 6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73" name="Овал 6" descr=""/>
            <p:cNvPicPr/>
            <p:nvPr/>
          </p:nvPicPr>
          <p:blipFill>
            <a:blip r:embed="rId3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9">
            <a:hlinkClick r:id="rId4" action="ppaction://hlinksldjump"/>
          </p:cNvPr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60020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вокзале есть всег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ят поез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о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ит о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… 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р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Загадка эта нелегк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сь всегда через д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ч, и шайбу клюшкой б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….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кк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 большие расстоя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ся он без опоздани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в конце д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…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ре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антоним к слову зн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реке, в тени густ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бутылке лимона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 меня…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хла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Рисунок35"/>
          <p:cNvPicPr/>
          <p:nvPr/>
        </p:nvPicPr>
        <p:blipFill>
          <a:blip r:embed="rId1"/>
          <a:stretch/>
        </p:blipFill>
        <p:spPr>
          <a:xfrm>
            <a:off x="1428840" y="128592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Рисунок35"/>
          <p:cNvPicPr/>
          <p:nvPr/>
        </p:nvPicPr>
        <p:blipFill>
          <a:blip r:embed="rId2"/>
          <a:stretch/>
        </p:blipFill>
        <p:spPr>
          <a:xfrm>
            <a:off x="5148360" y="4437000"/>
            <a:ext cx="314316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55:40Z</dcterms:created>
  <dc:creator>2010</dc:creator>
  <dc:description/>
  <dc:language>en-US</dc:language>
  <cp:lastModifiedBy>Pogogev</cp:lastModifiedBy>
  <dcterms:modified xsi:type="dcterms:W3CDTF">2019-03-02T19:42:51Z</dcterms:modified>
  <cp:revision>53</cp:revision>
  <dc:subject/>
  <dc:title>ЗАНИМАТЕЛЬНЫЙ РУССКИЙ ЯЗЫК</dc:title>
</cp:coreProperties>
</file>