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0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1.gif" ContentType="image/gif"/>
  <Override PartName="/ppt/media/image14.png" ContentType="image/png"/>
  <Override PartName="/ppt/media/image8.png" ContentType="image/png"/>
  <Override PartName="/ppt/media/image5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465-6093-4142-8DEF-F7BB73D4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841-2993-4B5B-ABE5-BDEA0A04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C2F-A877-485A-AA0E-B1D3C9EC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380-842E-4BDA-ADAA-7239CBB8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ADE-14A4-485D-B91F-92D6CD6A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590-8F42-4204-9C9E-49287246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DA9-FE29-4241-9358-76F9FD5E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720-BC69-4873-90F8-C2104E4F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073-5283-45B8-9127-A6229A6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6CD-6D18-4A8A-9187-2AE6C284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747-257C-49CE-8C29-EC52FBB2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2BE-E4A4-4573-9CC5-FBCAE46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3E44-BCB5-4B02-9CAF-FE60103DD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egov-buryatia.ru/upload/iblock/63a/63a1c0f404d0cac7376ef0c4066d01bb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578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4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теперь проверим Ваше чувство юмора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жды Дж. Свифт спросил своего слуг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Том, что это значит? Мои сапоги не вычищены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Нет, сэр – ответил Том – Вы же собираетесь идти гулять, так я подумал: они всё равно станут гряз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Хорошо, собирайся, Том, пойдёшь со мн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Но, сэр, я ещё не завтракал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 u="sng">
                <a:solidFill>
                  <a:srgbClr val="c00000"/>
                </a:solidFill>
                <a:uFillTx/>
                <a:latin typeface="Calibri"/>
              </a:rPr>
              <a:t>Вопрос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: </a:t>
            </a:r>
            <a:r>
              <a:rPr b="0" i="1" lang="ru-RU" sz="3000" spc="-1" strike="noStrike">
                <a:solidFill>
                  <a:srgbClr val="c00000"/>
                </a:solidFill>
                <a:latin typeface="Calibri"/>
              </a:rPr>
              <a:t>Что же ответил Дж. Свифт?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Овал 3"/>
          <p:cNvGrpSpPr/>
          <p:nvPr/>
        </p:nvGrpSpPr>
        <p:grpSpPr>
          <a:xfrm>
            <a:off x="6168960" y="5919840"/>
            <a:ext cx="2127240" cy="1219320"/>
            <a:chOff x="6168960" y="5919840"/>
            <a:chExt cx="2127240" cy="1219320"/>
          </a:xfrm>
        </p:grpSpPr>
        <p:pic>
          <p:nvPicPr>
            <p:cNvPr id="84" name="Овал 3" descr=""/>
            <p:cNvPicPr/>
            <p:nvPr/>
          </p:nvPicPr>
          <p:blipFill>
            <a:blip r:embed="rId1"/>
            <a:stretch/>
          </p:blipFill>
          <p:spPr>
            <a:xfrm>
              <a:off x="6168960" y="5919840"/>
              <a:ext cx="212724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521400" y="6060960"/>
              <a:ext cx="1425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1640" y="160020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libri"/>
              </a:rPr>
              <a:t>Не беда, всё равно опять проголодаеш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jswift.ru/wcmfiles/svift_djonatan_resized.jpg"/>
          <p:cNvPicPr/>
          <p:nvPr/>
        </p:nvPicPr>
        <p:blipFill>
          <a:blip r:embed="rId1"/>
          <a:stretch/>
        </p:blipFill>
        <p:spPr>
          <a:xfrm>
            <a:off x="857160" y="1285920"/>
            <a:ext cx="2935440" cy="43876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         </a:t>
            </a: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ЗАДАНИЕ №5</a:t>
            </a:r>
            <a:br>
              <a:rPr sz="27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одолжи пословиц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157176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падай -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одежке встречают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 раз отмерь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за страшатся,   …….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е учиться -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шь кататься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зная броду 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осеешь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Рисунок31"/>
          <p:cNvPicPr/>
          <p:nvPr/>
        </p:nvPicPr>
        <p:blipFill>
          <a:blip r:embed="rId1"/>
          <a:stretch/>
        </p:blipFill>
        <p:spPr>
          <a:xfrm>
            <a:off x="3714840" y="4071960"/>
            <a:ext cx="2519280" cy="1947960"/>
          </a:xfrm>
          <a:prstGeom prst="rect">
            <a:avLst/>
          </a:prstGeom>
          <a:ln w="0">
            <a:noFill/>
          </a:ln>
        </p:spPr>
      </p:pic>
      <p:grpSp>
        <p:nvGrpSpPr>
          <p:cNvPr id="94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95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пропадай -  а товарища выруч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одежке встречают - по уму провож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 раз отмерь -один раз отреж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за страшатся,                  а руки дел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моте учиться - всегда пригоди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юбишь кататься -люби и саночки воз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зная броду -не суйся в в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посеешь -то и пожнеш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c00000"/>
                </a:solidFill>
                <a:latin typeface="Calibri"/>
              </a:rPr>
              <a:t>                   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6</a:t>
            </a: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СОБЕРИ СЛОВО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 каждого слова взять вторые слоги, составить новое сло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ловей, котор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говица, молоток, сл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мея, р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1640" y="1916280"/>
            <a:ext cx="43578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орот, пороша, кан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брикос, засуха, сы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беда, весело, вод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KIDS01"/>
          <p:cNvPicPr/>
          <p:nvPr/>
        </p:nvPicPr>
        <p:blipFill>
          <a:blip r:embed="rId1"/>
          <a:stretch/>
        </p:blipFill>
        <p:spPr>
          <a:xfrm>
            <a:off x="2460600" y="3763800"/>
            <a:ext cx="3540240" cy="2451240"/>
          </a:xfrm>
          <a:prstGeom prst="rect">
            <a:avLst/>
          </a:prstGeom>
          <a:ln w="0">
            <a:noFill/>
          </a:ln>
        </p:spPr>
      </p:pic>
      <p:grpSp>
        <p:nvGrpSpPr>
          <p:cNvPr id="105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06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твет: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«СОБЕРИ СЛОВО»</a:t>
            </a: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з каждого слова взять вторые слоги, составить новое сло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KIDS01"/>
          <p:cNvPicPr/>
          <p:nvPr/>
        </p:nvPicPr>
        <p:blipFill>
          <a:blip r:embed="rId1"/>
          <a:stretch/>
        </p:blipFill>
        <p:spPr>
          <a:xfrm>
            <a:off x="2714760" y="3643200"/>
            <a:ext cx="341316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кругленный прямоугольник 1"/>
          <p:cNvSpPr/>
          <p:nvPr/>
        </p:nvSpPr>
        <p:spPr>
          <a:xfrm>
            <a:off x="2766960" y="692280"/>
            <a:ext cx="4037040" cy="119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"/>
          <p:cNvSpPr/>
          <p:nvPr/>
        </p:nvSpPr>
        <p:spPr>
          <a:xfrm>
            <a:off x="219240" y="2500200"/>
            <a:ext cx="3600360" cy="1152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5040360" y="2652840"/>
            <a:ext cx="3600360" cy="115236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1042920" y="96840"/>
            <a:ext cx="7597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ЗАДАНИЕ №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Helvetica Neue"/>
              </a:rPr>
              <a:t>Какой глагол вы употребите в этом случае: «Я … нарядное плать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www2.yearlysales.ru/img/products/46424-plate-ot-lp-collection.jpg"/>
          <p:cNvPicPr/>
          <p:nvPr/>
        </p:nvPicPr>
        <p:blipFill>
          <a:blip r:embed="rId1"/>
          <a:stretch/>
        </p:blipFill>
        <p:spPr>
          <a:xfrm>
            <a:off x="2411280" y="2739960"/>
            <a:ext cx="3673440" cy="3672000"/>
          </a:xfrm>
          <a:prstGeom prst="rect">
            <a:avLst/>
          </a:prstGeom>
          <a:ln w="0">
            <a:noFill/>
          </a:ln>
        </p:spPr>
      </p:pic>
      <p:grpSp>
        <p:nvGrpSpPr>
          <p:cNvPr id="118" name="Овал 7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19" name="Овал 7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1"/>
          <p:cNvSpPr/>
          <p:nvPr/>
        </p:nvSpPr>
        <p:spPr>
          <a:xfrm>
            <a:off x="2766960" y="692280"/>
            <a:ext cx="4037040" cy="1199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4"/>
          <p:cNvSpPr/>
          <p:nvPr/>
        </p:nvSpPr>
        <p:spPr>
          <a:xfrm>
            <a:off x="2986200" y="2133720"/>
            <a:ext cx="3600360" cy="922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2050920" y="268200"/>
            <a:ext cx="6664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elvetica Neue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Helvetica Neue"/>
              </a:rPr>
              <a:t>Какой глагол вы употребите в этом случае: «Я … нарядное плать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2.yearlysales.ru/img/products/46424-plate-ot-lp-collection.jpg"/>
          <p:cNvPicPr/>
          <p:nvPr/>
        </p:nvPicPr>
        <p:blipFill>
          <a:blip r:embed="rId1"/>
          <a:stretch/>
        </p:blipFill>
        <p:spPr>
          <a:xfrm>
            <a:off x="2741760" y="3027240"/>
            <a:ext cx="36734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1"/>
          <p:cNvSpPr/>
          <p:nvPr/>
        </p:nvSpPr>
        <p:spPr>
          <a:xfrm>
            <a:off x="2843280" y="690480"/>
            <a:ext cx="4105080" cy="1370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2">
            <a:hlinkClick r:id="" action="ppaction://hlinkshowjump?jump=nextslide"/>
          </p:cNvPr>
          <p:cNvSpPr/>
          <p:nvPr/>
        </p:nvSpPr>
        <p:spPr>
          <a:xfrm>
            <a:off x="765000" y="2349360"/>
            <a:ext cx="360072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ий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3">
            <a:hlinkClick r:id="" action="ppaction://hlinkshowjump?jump=nextslide"/>
          </p:cNvPr>
          <p:cNvSpPr/>
          <p:nvPr/>
        </p:nvSpPr>
        <p:spPr>
          <a:xfrm>
            <a:off x="4896000" y="2359080"/>
            <a:ext cx="360036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ид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2627280" y="465120"/>
            <a:ext cx="6048360" cy="1019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ЗАДАНИЕ №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Как сказать прави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s://image.freepik.com/free-vector/no-translate-detected_7122-9.jpg"/>
          <p:cNvPicPr/>
          <p:nvPr/>
        </p:nvPicPr>
        <p:blipFill>
          <a:blip r:embed="rId1"/>
          <a:stretch/>
        </p:blipFill>
        <p:spPr>
          <a:xfrm>
            <a:off x="2411280" y="2743200"/>
            <a:ext cx="4140360" cy="4140360"/>
          </a:xfrm>
          <a:prstGeom prst="rect">
            <a:avLst/>
          </a:prstGeom>
          <a:ln w="0">
            <a:noFill/>
          </a:ln>
        </p:spPr>
      </p:pic>
      <p:grpSp>
        <p:nvGrpSpPr>
          <p:cNvPr id="135" name="Овал 9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36" name="Овал 9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1"/>
          <p:cNvSpPr/>
          <p:nvPr/>
        </p:nvSpPr>
        <p:spPr>
          <a:xfrm>
            <a:off x="2627280" y="690480"/>
            <a:ext cx="3870360" cy="100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"/>
          <p:cNvSpPr/>
          <p:nvPr/>
        </p:nvSpPr>
        <p:spPr>
          <a:xfrm>
            <a:off x="2771640" y="1700280"/>
            <a:ext cx="3726000" cy="122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й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8"/>
          <p:cNvSpPr/>
          <p:nvPr/>
        </p:nvSpPr>
        <p:spPr>
          <a:xfrm>
            <a:off x="2627280" y="465120"/>
            <a:ext cx="4105440" cy="730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Helvetica Neue"/>
              </a:rPr>
              <a:t>Ответ</a:t>
            </a: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Helvetica Neue"/>
              </a:rPr>
              <a:t>Как сказать прави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1677960" y="1700280"/>
            <a:ext cx="662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s://image.freepik.com/free-vector/no-translate-detected_7122-9.jpg"/>
          <p:cNvPicPr/>
          <p:nvPr/>
        </p:nvPicPr>
        <p:blipFill>
          <a:blip r:embed="rId1"/>
          <a:stretch/>
        </p:blipFill>
        <p:spPr>
          <a:xfrm>
            <a:off x="2411280" y="2743200"/>
            <a:ext cx="4140360" cy="414036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87280" y="404640"/>
            <a:ext cx="763272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дравствуйте, ребята. Сегодня мы с вами здесь собрались, чтобы проверить наши знания по русскому языку, проявить смекалку и творческие способности, а в конце игры ответить на вопрос: «А знаем ли мы русский язык?»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17375e"/>
                </a:solidFill>
                <a:latin typeface="Tahoma"/>
              </a:rPr>
              <a:t>Итак, начнем наше путешествие! За каждый правильный ответ команда получае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1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1"/>
          <p:cNvSpPr/>
          <p:nvPr/>
        </p:nvSpPr>
        <p:spPr>
          <a:xfrm>
            <a:off x="1403280" y="12600"/>
            <a:ext cx="7338960" cy="140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ыберите правильное написани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">
            <a:hlinkClick r:id="" action="ppaction://hlinkshowjump?jump=nextslide"/>
          </p:cNvPr>
          <p:cNvSpPr/>
          <p:nvPr/>
        </p:nvSpPr>
        <p:spPr>
          <a:xfrm>
            <a:off x="3240" y="2222640"/>
            <a:ext cx="403236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елезнодор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">
            <a:hlinkClick r:id="" action="ppaction://hlinkshowjump?jump=nextslide"/>
          </p:cNvPr>
          <p:cNvSpPr/>
          <p:nvPr/>
        </p:nvSpPr>
        <p:spPr>
          <a:xfrm>
            <a:off x="5073480" y="2222640"/>
            <a:ext cx="4027680" cy="11509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елезно-дор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2841480" y="2997360"/>
            <a:ext cx="3095640" cy="3409920"/>
          </a:xfrm>
          <a:prstGeom prst="rect">
            <a:avLst/>
          </a:prstGeom>
          <a:ln w="0">
            <a:noFill/>
          </a:ln>
        </p:spPr>
      </p:pic>
      <p:grpSp>
        <p:nvGrpSpPr>
          <p:cNvPr id="152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53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1"/>
          <p:cNvSpPr/>
          <p:nvPr/>
        </p:nvSpPr>
        <p:spPr>
          <a:xfrm>
            <a:off x="2411280" y="0"/>
            <a:ext cx="5473800" cy="1628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Calibri"/>
              </a:rPr>
              <a:t>Выберите правильное написани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2"/>
          <p:cNvSpPr/>
          <p:nvPr/>
        </p:nvSpPr>
        <p:spPr>
          <a:xfrm>
            <a:off x="2556000" y="1916280"/>
            <a:ext cx="4176720" cy="118872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железнодоро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1476360" y="310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956720" y="6093000"/>
            <a:ext cx="1079280" cy="64908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841480" y="2997360"/>
            <a:ext cx="30956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распространенное предложение, каждо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лово которого должно начинаться на букв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: 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ковь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ровн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гласил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фирия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ловича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ужинать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ро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B900-5573-4ED7-8329-58C79EC4E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65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869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ядя, прашу  тебя, по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Твоей плимяннице  О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А то небудет ее н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В этой пративной 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Мне вчера за дектант на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Учитель  паставил « д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А сам сказал , что маю раб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Даже несмок про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Попраси его, дядя, исправить двой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И паставить  мне п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3F5-6955-4326-99AD-A5428A2C8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72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7869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99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ало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ядя, п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у  тебя, пом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оей пл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яннице  Ол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то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е 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дет ее на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этой п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ивной 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е вчера за д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тант на сл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ь  п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л « д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сам сказал , что м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ю рабо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же н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чит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п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 его, дядя, исправить двой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вить  мне пя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953-7790-4845-BA04-FD61065C1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2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836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, потом произнесите звуки в обратном порядке, чтобы получ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ЛЕЙ – название дер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ТОК – домашнее животн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ШЕЛ – неправ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ШЕЙ – просьб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DFC5-D6EF-449D-9CC9-EE2CC55D3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81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63600" y="28548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8584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Arial"/>
                <a:ea typeface="Arial"/>
              </a:rPr>
              <a:t>отве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слова, потом произнесите звуки в обратном порядке, чтобы получить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ЕЛ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название дере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К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домашнее животное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ЛОЖ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неправду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из слова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ЕШ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– просьбу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0B3-23B6-41D0-AAE6-0711DAE90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О каких знаках препинания идет речь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1.Когда слова гремели и блистали,</a:t>
            </a:r>
            <a:br>
              <a:rPr sz="2400"/>
            </a:b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Я в моде был, я был на пьедестал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днако время новое настал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Оно меня и свергло с пьедест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2.Что о себе сказать мог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Согнула жизнь меня в ду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свой характер я плачу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то, что много знать хоч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Известно миру с давних пор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Что знак я немаловаж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е окончен разговор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начинает думать кажды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BD4-9611-4661-9330-0630E5B2A7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191" name="Овал 4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052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 каких знаках препинания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1. (Восклицательный зна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2.Вопросительный 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3.Многоточ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BB2E-0EAA-47AA-94A9-3548963CD3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95360" y="404280"/>
            <a:ext cx="8191440" cy="313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14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Назовите 5 литературных произведений, в названиях котор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встречаются числитель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4" descr="deti2"/>
          <p:cNvPicPr/>
          <p:nvPr/>
        </p:nvPicPr>
        <p:blipFill>
          <a:blip r:embed="rId1"/>
          <a:stretch/>
        </p:blipFill>
        <p:spPr>
          <a:xfrm>
            <a:off x="2940120" y="4103640"/>
            <a:ext cx="270504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99" name="Овал 4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200" name="Овал 4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im0-tub-ru.yandex.net/i?id=4b554054bcd8a7de7c9df7961e3586b0&amp;n=33&amp;w=200&amp;h=150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75920" y="692280"/>
            <a:ext cx="8210520" cy="38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0000"/>
          </a:bodyPr>
          <a:p>
            <a:pPr marL="240120" indent="-240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  <a:ea typeface="Times New Roman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. Маршак «Двенадцать месяцев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. Дюма «Три мушкетёр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. Ю. Лермонтов «Три пальмы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А. С. Пушкин «Сказка о мёртвой царевне и семи богатырях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. Каверин «Два капитана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. Лондон «Сердца трёх»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E:\Лариса\Мои документы\Анимашки\Анимация\an1_stopkaknig.gif"/>
          <p:cNvPicPr/>
          <p:nvPr/>
        </p:nvPicPr>
        <p:blipFill>
          <a:blip r:embed="rId1"/>
          <a:stretch/>
        </p:blipFill>
        <p:spPr>
          <a:xfrm>
            <a:off x="5938920" y="19080"/>
            <a:ext cx="2925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0"/>
          <p:cNvSpPr/>
          <p:nvPr/>
        </p:nvSpPr>
        <p:spPr>
          <a:xfrm>
            <a:off x="2076480" y="64440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ЗАДАНИЕ №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38120" y="1773360"/>
            <a:ext cx="826776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ьте на шуточ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1. Какие местоимения читаются одинаково слева направо и справа нале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2. Какие два местоимения мешают автотранспор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e20d0"/>
                </a:solidFill>
                <a:latin typeface="Times New Roman"/>
                <a:ea typeface="Times New Roman"/>
              </a:rPr>
              <a:t>3) Какие три местоимения самые чис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6227640" y="5661000"/>
            <a:ext cx="20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210" name="Овал 6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9"/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9600" y="259920"/>
            <a:ext cx="8286840" cy="5870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e20d0"/>
                </a:solidFill>
                <a:latin typeface="Calibri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77880" y="1978200"/>
            <a:ext cx="63356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1. ОНО, Т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2. Я – 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  <a:ea typeface="Arial"/>
              </a:rPr>
              <a:t>3. ВЫ – МЫ – 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7962840" y="5772240"/>
            <a:ext cx="819360" cy="838080"/>
          </a:xfrm>
          <a:custGeom>
            <a:avLst/>
            <a:gdLst>
              <a:gd name="textAreaLeft" fmla="*/ 52920 w 819360"/>
              <a:gd name="textAreaRight" fmla="*/ 766440 w 819360"/>
              <a:gd name="textAreaTop" fmla="*/ 52920 h 838080"/>
              <a:gd name="textAreaBottom" fmla="*/ 785160 h 838080"/>
            </a:gdLst>
            <a:ahLst/>
            <a:rect l="textAreaLeft" t="textAreaTop" r="textAreaRight" b="textAreaBottom"/>
            <a:pathLst>
              <a:path w="21600" h="22093">
                <a:moveTo>
                  <a:pt x="0" y="0"/>
                </a:moveTo>
                <a:lnTo>
                  <a:pt x="21600" y="0"/>
                </a:lnTo>
                <a:lnTo>
                  <a:pt x="21600" y="22093"/>
                </a:lnTo>
                <a:lnTo>
                  <a:pt x="0" y="22093"/>
                </a:lnTo>
                <a:close/>
              </a:path>
              <a:path fill="lightenLess" w="21600" h="220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93">
                <a:moveTo>
                  <a:pt x="21600" y="0"/>
                </a:moveTo>
                <a:lnTo>
                  <a:pt x="21600" y="22093"/>
                </a:lnTo>
                <a:lnTo>
                  <a:pt x="20200" y="20693"/>
                </a:lnTo>
                <a:lnTo>
                  <a:pt x="20200" y="1400"/>
                </a:lnTo>
                <a:close/>
              </a:path>
              <a:path fill="darkenLess" w="21600" h="22093">
                <a:moveTo>
                  <a:pt x="21600" y="22093"/>
                </a:moveTo>
                <a:lnTo>
                  <a:pt x="0" y="22093"/>
                </a:lnTo>
                <a:lnTo>
                  <a:pt x="1400" y="20693"/>
                </a:lnTo>
                <a:lnTo>
                  <a:pt x="20200" y="20693"/>
                </a:lnTo>
                <a:close/>
              </a:path>
              <a:path fill="lighten" w="21600" h="22093">
                <a:moveTo>
                  <a:pt x="0" y="220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93"/>
                </a:lnTo>
                <a:close/>
              </a:path>
              <a:path fill="darken" w="21600" h="22093">
                <a:moveTo>
                  <a:pt x="10800" y="4084"/>
                </a:moveTo>
                <a:lnTo>
                  <a:pt x="13376" y="6695"/>
                </a:ln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lnTo>
                  <a:pt x="17763" y="11047"/>
                </a:lnTo>
                <a:lnTo>
                  <a:pt x="16109" y="11047"/>
                </a:lnTo>
                <a:lnTo>
                  <a:pt x="16109" y="18236"/>
                </a:lnTo>
                <a:lnTo>
                  <a:pt x="5491" y="18236"/>
                </a:lnTo>
                <a:lnTo>
                  <a:pt x="5491" y="11047"/>
                </a:lnTo>
                <a:lnTo>
                  <a:pt x="3837" y="11047"/>
                </a:lnTo>
                <a:close/>
              </a:path>
              <a:path fill="darkenLess" w="21600" h="22093">
                <a:moveTo>
                  <a:pt x="13376" y="6695"/>
                </a:moveTo>
                <a:lnTo>
                  <a:pt x="13376" y="4954"/>
                </a:lnTo>
                <a:lnTo>
                  <a:pt x="15152" y="4954"/>
                </a:lnTo>
                <a:lnTo>
                  <a:pt x="15152" y="8470"/>
                </a:lnTo>
                <a:close/>
              </a:path>
              <a:path fill="darkenLess" w="21600" h="22093">
                <a:moveTo>
                  <a:pt x="9877" y="14546"/>
                </a:moveTo>
                <a:lnTo>
                  <a:pt x="11723" y="14546"/>
                </a:lnTo>
                <a:lnTo>
                  <a:pt x="11723" y="18236"/>
                </a:lnTo>
                <a:lnTo>
                  <a:pt x="16109" y="18236"/>
                </a:lnTo>
                <a:lnTo>
                  <a:pt x="16109" y="11047"/>
                </a:lnTo>
                <a:lnTo>
                  <a:pt x="5491" y="11047"/>
                </a:lnTo>
                <a:lnTo>
                  <a:pt x="5491" y="18236"/>
                </a:lnTo>
                <a:lnTo>
                  <a:pt x="9877" y="1823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3" descr="E:\59dfc10c2b12.gif"/>
          <p:cNvPicPr/>
          <p:nvPr/>
        </p:nvPicPr>
        <p:blipFill>
          <a:blip r:embed="rId1"/>
          <a:stretch/>
        </p:blipFill>
        <p:spPr>
          <a:xfrm>
            <a:off x="4557600" y="1657440"/>
            <a:ext cx="49294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uslide.ru/images/14/20736/960/img12.jpg"/>
          <p:cNvPicPr/>
          <p:nvPr/>
        </p:nvPicPr>
        <p:blipFill>
          <a:blip r:embed="rId1"/>
          <a:stretch/>
        </p:blipFill>
        <p:spPr>
          <a:xfrm>
            <a:off x="155520" y="189000"/>
            <a:ext cx="880920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Calibri"/>
              </a:rPr>
              <a:t>ЗАДАНИЕ №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703440"/>
            <a:ext cx="428328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ом слове сорок а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называют звуки, состоящие только из голоса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можно превратить слов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мелкое место, 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уг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в топливо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ес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 число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каплю превратить в цаплю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звании какого дня недели есть удвоенная согласна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0" y="703440"/>
            <a:ext cx="421488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  Какие мена девочек состоят из двух бук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двоенных согласных. Как зовут девочек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.   Что надо сделать со звуком в слов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чтобы оно стало обозначать желанного в доме человека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8.   В каком глагол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е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ышится сто раз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0.  Сколько слогов в слов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?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48" name="Овал 6" descr=""/>
            <p:cNvPicPr/>
            <p:nvPr/>
          </p:nvPicPr>
          <p:blipFill>
            <a:blip r:embed="rId1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AutoShape 9">
            <a:hlinkClick r:id="rId2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143000"/>
            <a:ext cx="4040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1 коман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с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Мель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гол 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ше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менять первую букв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бо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4720" y="1214280"/>
            <a:ext cx="40417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53735"/>
                </a:solidFill>
                <a:latin typeface="Calibri"/>
              </a:rPr>
              <a:t>2 команд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ла, Ан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ость - г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  стон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9. 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Рисунок3"/>
          <p:cNvPicPr/>
          <p:nvPr/>
        </p:nvPicPr>
        <p:blipFill>
          <a:blip r:embed="rId1"/>
          <a:stretch/>
        </p:blipFill>
        <p:spPr>
          <a:xfrm>
            <a:off x="5381640" y="4071960"/>
            <a:ext cx="327348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ую часть слова можно в земле найт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[ж] звонкий или глухо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чале слова буква ё обозначает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  Назовите первую букву алфавит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tomsk.fio.ru/works/313/suh/karandah.gif"/>
          <p:cNvPicPr/>
          <p:nvPr/>
        </p:nvPicPr>
        <p:blipFill>
          <a:blip r:embed="rId1"/>
          <a:stretch/>
        </p:blipFill>
        <p:spPr>
          <a:xfrm>
            <a:off x="2452680" y="3981600"/>
            <a:ext cx="1643040" cy="3071520"/>
          </a:xfrm>
          <a:prstGeom prst="rect">
            <a:avLst/>
          </a:prstGeom>
          <a:ln w="0">
            <a:noFill/>
          </a:ln>
        </p:spPr>
      </p:pic>
      <p:grpSp>
        <p:nvGrpSpPr>
          <p:cNvPr id="59" name="Овал 5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60" name="Овал 5" descr=""/>
            <p:cNvPicPr/>
            <p:nvPr/>
          </p:nvPicPr>
          <p:blipFill>
            <a:blip r:embed="rId2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9">
            <a:hlinkClick r:id="rId3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53735"/>
                </a:solidFill>
                <a:latin typeface="Calibri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ен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вон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  два зву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tomsk.fio.ru/works/313/suh/karandah.gif"/>
          <p:cNvPicPr/>
          <p:nvPr/>
        </p:nvPicPr>
        <p:blipFill>
          <a:blip r:embed="rId1"/>
          <a:stretch/>
        </p:blipFill>
        <p:spPr>
          <a:xfrm>
            <a:off x="6072120" y="2500200"/>
            <a:ext cx="1643040" cy="3283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ЗАДАНИЕ №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-360" y="836280"/>
            <a:ext cx="47149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вокзале есть всег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ят поез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о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Загадка эта нелегк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сь всегда через д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ч, и шайбу клюшкой б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907560"/>
            <a:ext cx="44956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большие расстоя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он без опоздани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 конце д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антоним к слову зн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реке, в тени густ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бутылке лимона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 ме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Рисунок35"/>
          <p:cNvPicPr/>
          <p:nvPr/>
        </p:nvPicPr>
        <p:blipFill>
          <a:blip r:embed="rId1"/>
          <a:stretch/>
        </p:blipFill>
        <p:spPr>
          <a:xfrm>
            <a:off x="928800" y="221472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Рисунок35"/>
          <p:cNvPicPr/>
          <p:nvPr/>
        </p:nvPicPr>
        <p:blipFill>
          <a:blip r:embed="rId2"/>
          <a:stretch/>
        </p:blipFill>
        <p:spPr>
          <a:xfrm>
            <a:off x="5286240" y="3357720"/>
            <a:ext cx="31435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2" name="Овал 6"/>
          <p:cNvGrpSpPr/>
          <p:nvPr/>
        </p:nvGrpSpPr>
        <p:grpSpPr>
          <a:xfrm>
            <a:off x="6168960" y="5486400"/>
            <a:ext cx="2127240" cy="1438200"/>
            <a:chOff x="6168960" y="5486400"/>
            <a:chExt cx="2127240" cy="1438200"/>
          </a:xfrm>
        </p:grpSpPr>
        <p:pic>
          <p:nvPicPr>
            <p:cNvPr id="73" name="Овал 6" descr=""/>
            <p:cNvPicPr/>
            <p:nvPr/>
          </p:nvPicPr>
          <p:blipFill>
            <a:blip r:embed="rId3"/>
            <a:stretch/>
          </p:blipFill>
          <p:spPr>
            <a:xfrm>
              <a:off x="6168960" y="5486400"/>
              <a:ext cx="212724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521400" y="5691240"/>
              <a:ext cx="142560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omic Sans MS"/>
                </a:rPr>
                <a:t>Б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9">
            <a:hlinkClick r:id="rId4" action="ppaction://hlinksldjump"/>
          </p:cNvPr>
          <p:cNvSpPr/>
          <p:nvPr/>
        </p:nvSpPr>
        <p:spPr>
          <a:xfrm>
            <a:off x="7956720" y="6267600"/>
            <a:ext cx="1008000" cy="549000"/>
          </a:xfrm>
          <a:prstGeom prst="leftArrow">
            <a:avLst>
              <a:gd name="adj1" fmla="val 50000"/>
              <a:gd name="adj2" fmla="val 4590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60020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а вокзале есть всег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приходят поезда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йно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ит о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 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р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Загадка эта нелегк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усь всегда через д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яч, и шайбу клюшкой б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ывается….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кк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 большие расстоя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ится он без опоздани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 конце д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…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рес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 антоним к слову зн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реке, в тени густо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бутылке лимона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овет меня…(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хла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Рисунок35"/>
          <p:cNvPicPr/>
          <p:nvPr/>
        </p:nvPicPr>
        <p:blipFill>
          <a:blip r:embed="rId1"/>
          <a:stretch/>
        </p:blipFill>
        <p:spPr>
          <a:xfrm>
            <a:off x="1428840" y="128592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Рисунок35"/>
          <p:cNvPicPr/>
          <p:nvPr/>
        </p:nvPicPr>
        <p:blipFill>
          <a:blip r:embed="rId2"/>
          <a:stretch/>
        </p:blipFill>
        <p:spPr>
          <a:xfrm>
            <a:off x="5148360" y="4437000"/>
            <a:ext cx="314316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55:40Z</dcterms:created>
  <dc:creator>2010</dc:creator>
  <dc:description/>
  <dc:language>en-US</dc:language>
  <cp:lastModifiedBy>Pogogev</cp:lastModifiedBy>
  <dcterms:modified xsi:type="dcterms:W3CDTF">2019-03-02T19:42:51Z</dcterms:modified>
  <cp:revision>53</cp:revision>
  <dc:subject/>
  <dc:title>ЗАНИМАТЕЛЬНЫЙ РУССКИЙ ЯЗЫК</dc:title>
</cp:coreProperties>
</file>