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EA9-0BC6-4159-AE7F-195DF125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29A-7754-476C-BE11-FEB784E2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A116-734C-4237-912D-17618ECD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F3B-0BA8-48D2-8968-81CF4EEA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28F-6E93-4AD7-A2AF-3039D4C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868-79E6-482A-8141-6C1AF1C0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A73-11FE-4E4D-A6A8-7C8F275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083-1E46-4A88-BACE-E341E51F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21E-65B6-40AC-98EB-A917BAF7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BF4-C7D2-4006-8DF1-C05D97D2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B91-2D52-498C-A556-709DA0F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726-D27B-4FA6-A1B5-225D010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91F8-3082-475D-AD85-4D6B86B2C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1042920" y="4437000"/>
            <a:ext cx="612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УАСТЫРДЖИ – самое почитаемое божество, покровитель мужчин, путников и воинов. Изображается в виде грозного воина на белом коне, в белой бурке. Для женщин его имя находилось под запретом. Уастырджи  посвящено самое большое количество святилищ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29364b1a82a6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comic"/>
              </a:rPr>
              <a:t>Деревянная церковь святой Тро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св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comic"/>
              </a:rPr>
              <a:t>Святилище в селения Гали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селения Камун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comic"/>
              </a:rPr>
              <a:t>Святилище в селении Каму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comic"/>
              </a:rPr>
              <a:t>Церковь в Фиагдонском ущель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s320x240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6064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 Rounded MT Bold"/>
              </a:rPr>
              <a:t>ХЕТАДЖЫ ДЗУАР – аграрное божество, посылающее урожай хлебных злаков, а также покровитель путников и воинов. Хетаг почитался как мужское божество, чьё имя как и имя УАСТЫРДЖИ, никогда не произносилось женщинами. С именем легендарного Хетага – сына кабардинского князя – в Осетии связано название рощи близ селения Суадаг. Роща считается священной, здесь ежегодно в  середине июля организуются многолюдные пиршества с жертвоприношениями, во время которых просят покровительства у Святого Хетага и других осетинских бож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rosha_3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e655ad1a0b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s320x240(2)"/>
          <p:cNvPicPr/>
          <p:nvPr/>
        </p:nvPicPr>
        <p:blipFill>
          <a:blip r:embed="rId2"/>
          <a:stretch/>
        </p:blipFill>
        <p:spPr>
          <a:xfrm>
            <a:off x="5878440" y="4684680"/>
            <a:ext cx="3265560" cy="217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320x240(3)"/>
          <p:cNvPicPr/>
          <p:nvPr/>
        </p:nvPicPr>
        <p:blipFill>
          <a:blip r:embed="rId3"/>
          <a:stretch/>
        </p:blipFill>
        <p:spPr>
          <a:xfrm>
            <a:off x="0" y="3552840"/>
            <a:ext cx="4967280" cy="3305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s320x240(4)"/>
          <p:cNvPicPr/>
          <p:nvPr/>
        </p:nvPicPr>
        <p:blipFill>
          <a:blip r:embed="rId4"/>
          <a:stretch/>
        </p:blipFill>
        <p:spPr>
          <a:xfrm>
            <a:off x="971640" y="0"/>
            <a:ext cx="2179440" cy="3268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хетаг"/>
          <p:cNvPicPr/>
          <p:nvPr/>
        </p:nvPicPr>
        <p:blipFill>
          <a:blip r:embed="rId5"/>
          <a:stretch/>
        </p:blipFill>
        <p:spPr>
          <a:xfrm>
            <a:off x="5796000" y="404640"/>
            <a:ext cx="2855880" cy="3402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ятой Уастырдж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св"/>
          <p:cNvPicPr/>
          <p:nvPr/>
        </p:nvPicPr>
        <p:blipFill>
          <a:blip r:embed="rId1"/>
          <a:srcRect l="0" t="0" r="0" b="142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1+"/>
          <p:cNvPicPr/>
          <p:nvPr/>
        </p:nvPicPr>
        <p:blipFill>
          <a:blip r:embed="rId2"/>
          <a:stretch/>
        </p:blipFill>
        <p:spPr>
          <a:xfrm>
            <a:off x="5003640" y="189000"/>
            <a:ext cx="3924360" cy="2982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4"/>
          <p:cNvPicPr/>
          <p:nvPr/>
        </p:nvPicPr>
        <p:blipFill>
          <a:blip r:embed="rId1"/>
          <a:srcRect l="19413" t="0" r="995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 rot="20309400">
            <a:off x="934560" y="8254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comic"/>
              </a:rPr>
              <a:t>Святилище Р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2e37abe27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60-1W0"/>
          <p:cNvPicPr/>
          <p:nvPr/>
        </p:nvPicPr>
        <p:blipFill>
          <a:blip r:embed="rId2"/>
          <a:stretch/>
        </p:blipFill>
        <p:spPr>
          <a:xfrm>
            <a:off x="5076720" y="3500280"/>
            <a:ext cx="3816360" cy="29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79280" y="98280"/>
            <a:ext cx="518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 Unicode MS"/>
              </a:rPr>
              <a:t>В древние времена Уастырджи решил выстроить для осетин святилище из брёвен, которые никогда не подвергались бы гниению. Таким свойством отличались деревья в лесу по ту сторону гор. Уастырджи приказал своим волам перевозить оттуда брёвна через гору против Рекома, где ныне ледник. Арбы нагружались сами собой, и волы шли без проводника по назначенному пути. Сложив лес, волы вернулись к Уастырджи, а из брёвен сам собою выстроился храм, без помощи человеческих ру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6" descr="rus_00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untitledттт"/>
          <p:cNvPicPr/>
          <p:nvPr/>
        </p:nvPicPr>
        <p:blipFill>
          <a:blip r:embed="rId2"/>
          <a:srcRect l="2598" t="17314" r="2953" b="0"/>
          <a:stretch/>
        </p:blipFill>
        <p:spPr>
          <a:xfrm>
            <a:off x="6012000" y="3213000"/>
            <a:ext cx="2592360" cy="3357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108000" y="187200"/>
            <a:ext cx="568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rial Rounded MT Bold"/>
              </a:rPr>
              <a:t>В Цейском ущелье находится один из самых известных исторических памятников в Северной Осетии - святилеще Реком. Святилеще недавно реставрировалось и выглядит очень ухоженно. Комплекс состоит из мужского и женского святилища расположенных на небольшом расстоянии друг от друга, а также нескольких объектов культового назначения. С поляны, где находятся основные сооружения, открывается хороший обзор на ледник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gory_cej_4"/>
          <p:cNvPicPr/>
          <p:nvPr/>
        </p:nvPicPr>
        <p:blipFill>
          <a:blip r:embed="rId3"/>
          <a:stretch/>
        </p:blipFill>
        <p:spPr>
          <a:xfrm>
            <a:off x="611280" y="4076640"/>
            <a:ext cx="374472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602136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Harrington"/>
              </a:rPr>
              <a:t>Осетинское женское святилище «МАДЫ-МАЙРА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2487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00"/>
                </a:solidFill>
                <a:latin typeface="comic"/>
              </a:rPr>
              <a:t>Покровительница женщин, прежде всего женского плодородия, особо почитавшаяся молодыми девушками и женщинами детородного возраста.</a:t>
            </a:r>
            <a:br>
              <a:rPr sz="2500"/>
            </a:br>
            <a:r>
              <a:rPr b="0" i="1" lang="ru-RU" sz="2500" spc="-1" strike="noStrike">
                <a:solidFill>
                  <a:srgbClr val="ffff00"/>
                </a:solidFill>
                <a:latin typeface="comic"/>
              </a:rPr>
              <a:t>О глубоком почитании Мады Майрам свидетельствует тот факт, что в прошлом практически каждое осетинское селение имело святилище Мады Майрам к которому через несколько дней после свадьбы обязательно водили молодую невестку; здесь совершая ряд магических обрядов (например, ритуальное развязывание пояса невестки, вырывание одной из нагрудных пуговиц) просили Мады Майрам послать молодой невестке здоровое  мужское потомство. К святилищу приводили также женщин, у которых рождались только девочки, при этом обращения к Мады Майрам сопровождались жертвоприношениями. Праздник приходился на последнюю неделю авгус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comic"/>
              </a:rPr>
              <a:t>Языческое</a:t>
            </a:r>
            <a:r>
              <a:rPr b="0" i="1" lang="ru-RU" sz="4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0" i="1" lang="ru-RU" sz="4400" spc="-1" strike="noStrike">
                <a:solidFill>
                  <a:srgbClr val="ffff00"/>
                </a:solidFill>
                <a:latin typeface="comic"/>
              </a:rPr>
              <a:t>Свят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0"/>
          <p:cNvPicPr/>
          <p:nvPr/>
        </p:nvPicPr>
        <p:blipFill>
          <a:blip r:embed="rId1"/>
          <a:srcRect l="0" t="2448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comic"/>
              </a:rPr>
              <a:t>Святилище «ИДАУА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1:59:27Z</dcterms:created>
  <dc:creator>_</dc:creator>
  <dc:description/>
  <dc:language>en-US</dc:language>
  <cp:lastModifiedBy>User</cp:lastModifiedBy>
  <dcterms:modified xsi:type="dcterms:W3CDTF">2011-09-26T17:51:08Z</dcterms:modified>
  <cp:revision>4</cp:revision>
  <dc:subject/>
  <dc:title>7</dc:title>
</cp:coreProperties>
</file>