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28B-7156-4FF2-8C9C-985FDB1D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D394-CA74-43DC-AE12-1673A4CD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D0E-D9F5-4D14-B68C-DAF4E6E9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60D-2008-48AF-B475-04026EDF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CAF-BCF5-41FD-A65B-A6A666F0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EDEC-961A-4B7F-A2A1-C167E7D4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FF7-C69F-40AC-A46C-F43B694C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0BE-A982-4847-ADFF-30C6AEEB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B686-FFAB-406F-A511-4E075D87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16F-B32E-4DCB-8B80-EB47D103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830-669E-4E5F-8804-B65C88AB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22A-EF13-469E-A89B-7A4D4CF7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71AB-CC49-443B-8B63-2B87D10410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1042920" y="4437000"/>
            <a:ext cx="6121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УАСТЫРДЖИ – самое почитаемое божество, покровитель мужчин, путников и воинов. Изображается в виде грозного воина на белом коне, в белой бурке. Для женщин его имя находилось под запретом. Уастырджи  посвящено самое большое количество святили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29364b1a82a6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omic"/>
              </a:rPr>
              <a:t>Деревянная церковь святой Тро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св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comic"/>
              </a:rPr>
              <a:t>Святилище в селения Гали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селения Камун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comic"/>
              </a:rPr>
              <a:t>Святилище в селении Каму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comic"/>
              </a:rPr>
              <a:t>Церковь в Фиагдонском ущель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s320x240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6064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 Rounded MT Bold"/>
              </a:rPr>
              <a:t>ХЕТАДЖЫ ДЗУАР – аграрное божество, посылающее урожай хлебных злаков, а также покровитель путников и воинов. Хетаг почитался как мужское божество, чьё имя как и имя УАСТЫРДЖИ, никогда не произносилось женщинами. С именем легендарного Хетага – сына кабардинского князя – в Осетии связано название рощи близ селения Суадаг. Роща считается священной, здесь ежегодно в  середине июля организуются многолюдные пиршества с жертвоприношениями, во время которых просят покровительства у Святого Хетага и других осетинских бож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rosha_3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e655ad1a0b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s320x240(2)"/>
          <p:cNvPicPr/>
          <p:nvPr/>
        </p:nvPicPr>
        <p:blipFill>
          <a:blip r:embed="rId2"/>
          <a:stretch/>
        </p:blipFill>
        <p:spPr>
          <a:xfrm>
            <a:off x="5878440" y="4684680"/>
            <a:ext cx="3265560" cy="2173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s320x240(3)"/>
          <p:cNvPicPr/>
          <p:nvPr/>
        </p:nvPicPr>
        <p:blipFill>
          <a:blip r:embed="rId3"/>
          <a:stretch/>
        </p:blipFill>
        <p:spPr>
          <a:xfrm>
            <a:off x="0" y="3552840"/>
            <a:ext cx="4967280" cy="3305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s320x240(4)"/>
          <p:cNvPicPr/>
          <p:nvPr/>
        </p:nvPicPr>
        <p:blipFill>
          <a:blip r:embed="rId4"/>
          <a:stretch/>
        </p:blipFill>
        <p:spPr>
          <a:xfrm>
            <a:off x="971640" y="0"/>
            <a:ext cx="2179440" cy="326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хетаг"/>
          <p:cNvPicPr/>
          <p:nvPr/>
        </p:nvPicPr>
        <p:blipFill>
          <a:blip r:embed="rId5"/>
          <a:stretch/>
        </p:blipFill>
        <p:spPr>
          <a:xfrm>
            <a:off x="5796000" y="404640"/>
            <a:ext cx="2855880" cy="3402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ятой Уастырдж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св"/>
          <p:cNvPicPr/>
          <p:nvPr/>
        </p:nvPicPr>
        <p:blipFill>
          <a:blip r:embed="rId1"/>
          <a:srcRect l="0" t="0" r="0" b="142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1+"/>
          <p:cNvPicPr/>
          <p:nvPr/>
        </p:nvPicPr>
        <p:blipFill>
          <a:blip r:embed="rId2"/>
          <a:stretch/>
        </p:blipFill>
        <p:spPr>
          <a:xfrm>
            <a:off x="5003640" y="189000"/>
            <a:ext cx="3924360" cy="2982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14"/>
          <p:cNvPicPr/>
          <p:nvPr/>
        </p:nvPicPr>
        <p:blipFill>
          <a:blip r:embed="rId1"/>
          <a:srcRect l="19413" t="0" r="995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 rot="20309400">
            <a:off x="934560" y="82548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"/>
              </a:rPr>
              <a:t>Святилище Р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ca2e37abe27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260-1W0"/>
          <p:cNvPicPr/>
          <p:nvPr/>
        </p:nvPicPr>
        <p:blipFill>
          <a:blip r:embed="rId2"/>
          <a:stretch/>
        </p:blipFill>
        <p:spPr>
          <a:xfrm>
            <a:off x="5076720" y="3500280"/>
            <a:ext cx="3816360" cy="2949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179280" y="98280"/>
            <a:ext cx="518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 Unicode MS"/>
              </a:rPr>
              <a:t>В древние времена Уастырджи решил выстроить для осетин святилище из брёвен, которые никогда не подвергались бы гниению. Таким свойством отличались деревья в лесу по ту сторону гор. Уастырджи приказал своим волам перевозить оттуда брёвна через гору против Рекома, где ныне ледник. Арбы нагружались сами собой, и волы шли без проводника по назначенному пути. Сложив лес, волы вернулись к Уастырджи, а из брёвен сам собою выстроился храм, без помощи человеческих рук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6" descr="rus_00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untitledттт"/>
          <p:cNvPicPr/>
          <p:nvPr/>
        </p:nvPicPr>
        <p:blipFill>
          <a:blip r:embed="rId2"/>
          <a:srcRect l="2598" t="17314" r="2953" b="0"/>
          <a:stretch/>
        </p:blipFill>
        <p:spPr>
          <a:xfrm>
            <a:off x="6012000" y="3213000"/>
            <a:ext cx="2592360" cy="3357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2"/>
          <p:cNvSpPr/>
          <p:nvPr/>
        </p:nvSpPr>
        <p:spPr>
          <a:xfrm>
            <a:off x="108000" y="187200"/>
            <a:ext cx="5689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rial Rounded MT Bold"/>
              </a:rPr>
              <a:t>В Цейском ущелье находится один из самых известных исторических памятников в Северной Осетии - святилеще Реком. Святилеще недавно реставрировалось и выглядит очень ухоженно. Комплекс состоит из мужского и женского святилища расположенных на небольшом расстоянии друг от друга, а также нескольких объектов культового назначения. С поляны, где находятся основные сооружения, открывается хороший обзор на ледник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gory_cej_4"/>
          <p:cNvPicPr/>
          <p:nvPr/>
        </p:nvPicPr>
        <p:blipFill>
          <a:blip r:embed="rId3"/>
          <a:stretch/>
        </p:blipFill>
        <p:spPr>
          <a:xfrm>
            <a:off x="611280" y="4076640"/>
            <a:ext cx="3744720" cy="2441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6021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Harrington"/>
              </a:rPr>
              <a:t>Осетинское женское святилище «МАДЫ-МАЙРА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24875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00"/>
                </a:solidFill>
                <a:latin typeface="comic"/>
              </a:rPr>
              <a:t>Покровительница женщин, прежде всего женского плодородия, особо почитавшаяся молодыми девушками и женщинами детородного возраста.</a:t>
            </a:r>
            <a:br>
              <a:rPr sz="2500"/>
            </a:br>
            <a:r>
              <a:rPr b="0" i="1" lang="ru-RU" sz="2500" spc="-1" strike="noStrike">
                <a:solidFill>
                  <a:srgbClr val="ffff00"/>
                </a:solidFill>
                <a:latin typeface="comic"/>
              </a:rPr>
              <a:t>О глубоком почитании Мады Майрам свидетельствует тот факт, что в прошлом практически каждое осетинское селение имело святилище Мады Майрам к которому через несколько дней после свадьбы обязательно водили молодую невестку; здесь совершая ряд магических обрядов (например, ритуальное развязывание пояса невестки, вырывание одной из нагрудных пуговиц) просили Мады Майрам послать молодой невестке здоровое  мужское потомство. К святилищу приводили также женщин, у которых рождались только девочки, при этом обращения к Мады Майрам сопровождались жертвоприношениями. Праздник приходился на последнюю неделю авгус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comic"/>
              </a:rPr>
              <a:t>Языческое</a:t>
            </a:r>
            <a:r>
              <a:rPr b="0" i="1" lang="ru-RU" sz="4400" spc="-1" strike="noStrike">
                <a:solidFill>
                  <a:srgbClr val="0000ff"/>
                </a:solidFill>
                <a:latin typeface="comic"/>
              </a:rPr>
              <a:t> </a:t>
            </a:r>
            <a:r>
              <a:rPr b="0" i="1" lang="ru-RU" sz="4400" spc="-1" strike="noStrike">
                <a:solidFill>
                  <a:srgbClr val="ffff00"/>
                </a:solidFill>
                <a:latin typeface="comic"/>
              </a:rPr>
              <a:t>Святилищ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10"/>
          <p:cNvPicPr/>
          <p:nvPr/>
        </p:nvPicPr>
        <p:blipFill>
          <a:blip r:embed="rId1"/>
          <a:srcRect l="0" t="2448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comic"/>
              </a:rPr>
              <a:t>Святилище «ИДАУА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1:59:27Z</dcterms:created>
  <dc:creator>_</dc:creator>
  <dc:description/>
  <dc:language>en-US</dc:language>
  <cp:lastModifiedBy>User</cp:lastModifiedBy>
  <dcterms:modified xsi:type="dcterms:W3CDTF">2011-09-26T17:51:08Z</dcterms:modified>
  <cp:revision>4</cp:revision>
  <dc:subject/>
  <dc:title>7</dc:title>
</cp:coreProperties>
</file>