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B04-BCF6-4FA7-8C79-1855F063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201-DB15-4E3F-B0A7-DD9DC3CB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38C-9BBB-4A47-880C-8C555F43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0C1-86FE-485B-ADAB-CE9DFAB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D5AE-1791-4822-8F87-3A03F7F5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5693-59A6-41FB-B8D5-F07E6C89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F314-8722-4139-8FFE-F0F45DD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898-452A-4F6F-B1E8-6782F24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937E-62F1-4AB7-99FC-E240F807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AAA8-97D5-441D-A47D-C2D215AF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2C1F-A111-4ADF-B6B5-ABAC22EA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740-90C2-4347-9F47-0E7B718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F1F-6C78-4274-AAE2-9B03802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1878-8527-4F19-BBFB-0CF49D7C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45F4-CEB8-42A8-8501-2F68ACDC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C0D-8B00-4E83-A64C-A0262294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9974-4EB4-4B82-9436-39E1080B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5E2F-056D-419B-A4CB-809FC92B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FC32-F922-4222-9CB6-AC16A5B1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4712-725E-4CCC-96D5-227D7F87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8BB8-F0CE-4D5E-958E-CCF556AE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20F84-DC94-4B0C-A22D-E895AAE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881-B8B7-420A-81B1-0F604715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CE59-AC7C-4293-9864-A9348500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40B8-ABD1-483A-A0FC-D9B9D44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9E03-F109-469F-8D10-2A079873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3670-154F-4721-BD53-6AA3EAC9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0386-810E-4DDA-8F2A-140E8935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D70D-8DF3-450C-B113-D224F15B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AF96-6351-4B9E-AB3C-C9E1B010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5BF7-77FF-4449-BF3C-017BA9B6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2C3D-B5A7-42FA-963F-01BAC9E2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3F08-4A90-4D9D-AD89-AE9651EE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CDB-1C67-4967-A314-72F7208A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26F3-9952-4B3C-ABBE-E0333FE8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1C8B-C766-48F3-80B2-D64C6A7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EC04E-BE74-4402-AF90-FDE42456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6AD3-BFE8-4726-A22B-3F18271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B2FE-290E-405A-B7E0-CB3DB011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B1A0-D09E-4516-9F62-6549565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763E5-DCED-4611-8E42-62D35D6B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96AF-25F4-4765-8E68-B32A238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4DC73-441E-4FF5-A8C3-AB6A5AA4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7BD7-BF7F-4F4A-9CD5-06140AEA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D53-C5C3-4501-B023-DF9F3D8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D4F27-2309-42F2-A009-D43139C0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532E-7E70-40A6-95EC-B763C8A3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6D2CC-1848-4F48-8441-3FFC687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3D2E3-734C-42F5-B53E-797F9D53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0E69-335C-47FF-B644-09B9DE83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B3E8D-8628-4A7D-84E1-ADA15044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766F-9D14-403A-81E4-9D5764A0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CD76F-63EE-4490-948B-B0DB92EF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049B-DC81-4EB8-A470-00A3CD06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083A-276F-45A0-8B45-0085FC91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470-DD1F-4E97-A918-F89E3EC6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0199-0464-4259-ABE6-1A648B23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3B94-64FA-427A-8BCA-E8EABDF8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EECFB-1FA3-41CD-99B4-65BD3415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E1AF3-20C1-4902-8EF2-529FDF00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BAF6-61CD-4E6E-A434-6DCC3DE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37CE-8979-47E6-A039-B31A225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C0BDD-1A54-41B3-BA79-62826FF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C38E9-2609-4AD0-BC9C-742CD45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0704-AEC4-495C-AA60-3CEEC13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64D64-FDED-4249-B2C0-CCCD6697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F84-3AEA-48A0-9FBD-69CFEE71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08622-796E-4C73-8575-3A52A42E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D225-FD46-4590-81DB-F4BBB1F7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FBA3-C2E1-4CD1-B461-F2C67286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C291-347E-4BED-B019-01607D4E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1085-4ED9-46F0-AB58-F7A7D764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4914-4946-46B6-B871-9A58F792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16B1-05DD-4CB1-8B78-8EDB4145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4012D-2CA7-4086-B572-E726AC94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95AF4-117F-4585-B48C-B51A6018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28AD0-8EEF-4E80-9B6F-40B62B64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92C-C4A9-413A-B0CE-69D161A6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629F-8B8A-40C8-A9C8-977C584F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11D03-4E81-49B3-85A0-EDAD1C5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F7D52-D3BB-4D3B-820A-BABD70F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89F7-8A46-491F-9926-437D4157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E6D3-FE20-47BA-BCBF-CCA6F51C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9A2-EBD2-45AB-B4D3-AF2BAAD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3C93-8917-4086-B142-AC39052CB45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382-72FF-46A5-81E4-C9A41E4333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E6B8-5B14-45D8-9970-51A418E0444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85FD-C0AD-4C04-A87D-F3E772214DD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8476-2F5E-4626-A50E-85C7C1103CD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7DD1-D56D-4C75-AB55-2ABDED8DC9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2D4-5212-480B-9ECB-3FC0091C570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611280" y="1484280"/>
            <a:ext cx="80024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7df56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7df56"/>
                </a:solidFill>
                <a:latin typeface="Times New Roman"/>
              </a:rPr>
              <a:t>Результаты словарных диктантов показывают, что  не смотря на кропотливую работу по запоминанию словарных слов, ошибки продолжают возник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Встает вопрос, как за короткий промежуток времени достичь хорошего результата, то есть при наименьших усилиях научиться запоминать словарные слова надолго, прочно, основательно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4" descr="j0348803"/>
          <p:cNvPicPr/>
          <p:nvPr/>
        </p:nvPicPr>
        <p:blipFill>
          <a:blip r:embed="rId1"/>
          <a:stretch/>
        </p:blipFill>
        <p:spPr>
          <a:xfrm>
            <a:off x="7572240" y="214200"/>
            <a:ext cx="1098720" cy="1656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1187280" y="549360"/>
            <a:ext cx="754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Times New Roman"/>
              </a:rPr>
              <a:t>С чего все началось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3" descr=""/>
          <p:cNvPicPr/>
          <p:nvPr/>
        </p:nvPicPr>
        <p:blipFill>
          <a:blip r:embed="rId1"/>
          <a:stretch/>
        </p:blipFill>
        <p:spPr>
          <a:xfrm>
            <a:off x="-255600" y="1139760"/>
            <a:ext cx="6327720" cy="36640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214200" y="33577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df56"/>
                </a:solidFill>
                <a:latin typeface="Times New Roman"/>
              </a:rPr>
              <a:t>выяснить, как лучше и быстрее запомнить написание  слов, не подчиняющихся правилам орфограф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5" descr="j0299125"/>
          <p:cNvPicPr/>
          <p:nvPr/>
        </p:nvPicPr>
        <p:blipFill>
          <a:blip r:embed="rId2"/>
          <a:stretch/>
        </p:blipFill>
        <p:spPr>
          <a:xfrm>
            <a:off x="6791400" y="0"/>
            <a:ext cx="20286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8207280" cy="1492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92d050"/>
                </a:solidFill>
                <a:latin typeface="Franklin Gothic Book"/>
              </a:rPr>
              <a:t>Методика ассоциативного      запоминания словарных слов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4" name="Picture 6" descr="DCFC0010"/>
          <p:cNvPicPr/>
          <p:nvPr/>
        </p:nvPicPr>
        <p:blipFill>
          <a:blip r:embed="rId1"/>
          <a:stretch/>
        </p:blipFill>
        <p:spPr>
          <a:xfrm>
            <a:off x="250920" y="2205000"/>
            <a:ext cx="3843360" cy="2879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067280" y="1857240"/>
            <a:ext cx="50767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0" i="1" lang="ru-RU" sz="2400" spc="-1" strike="noStrike">
                <a:solidFill>
                  <a:srgbClr val="f7df56"/>
                </a:solidFill>
                <a:latin typeface="Arial"/>
              </a:rPr>
              <a:t>мы делаем ошибки при написании словарн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Средство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f7df56"/>
                </a:solidFill>
                <a:latin typeface="Arial"/>
              </a:rPr>
              <a:t>использование метода ярких ассоци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Суть метода: </a:t>
            </a:r>
            <a:r>
              <a:rPr b="0" i="1" lang="ru-RU" sz="2400" spc="-1" strike="noStrike">
                <a:solidFill>
                  <a:srgbClr val="f7df56"/>
                </a:solidFill>
                <a:latin typeface="Arial"/>
              </a:rPr>
              <a:t>трудная орфограмма связывается с ярким ассоциативным образом, который вспоминается при написании данного словарного слова, помогая правильно написать орфограм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4" descr="j0359161"/>
          <p:cNvPicPr/>
          <p:nvPr/>
        </p:nvPicPr>
        <p:blipFill>
          <a:blip r:embed="rId2"/>
          <a:stretch/>
        </p:blipFill>
        <p:spPr>
          <a:xfrm rot="20211600">
            <a:off x="509400" y="-104400"/>
            <a:ext cx="630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2d050"/>
                </a:solidFill>
                <a:latin typeface="Franklin Gothic Book"/>
              </a:rPr>
              <a:t>Звуковые ассоциаци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2000160"/>
            <a:ext cx="44276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7df56"/>
                </a:solidFill>
                <a:latin typeface="Arial"/>
              </a:rPr>
              <a:t>Предпочтительны в тех случаях, когда фраза из созвучия и словарного слова особенно удач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083120" y="1557360"/>
            <a:ext cx="506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cc0000"/>
                </a:solidFill>
                <a:latin typeface="Arial"/>
              </a:rPr>
              <a:t>завт</a:t>
            </a:r>
            <a:r>
              <a:rPr b="0" lang="ru-RU" sz="8000" spc="-1" strike="noStrike">
                <a:solidFill>
                  <a:srgbClr val="cc0000"/>
                </a:solidFill>
                <a:latin typeface="Arial"/>
              </a:rPr>
              <a:t>ра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На завтрак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рак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6" descr="j0348283"/>
          <p:cNvPicPr/>
          <p:nvPr/>
        </p:nvPicPr>
        <p:blipFill>
          <a:blip r:embed="rId1"/>
          <a:stretch/>
        </p:blipFill>
        <p:spPr>
          <a:xfrm>
            <a:off x="6659640" y="4581360"/>
            <a:ext cx="162720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5120" y="274320"/>
            <a:ext cx="8753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Franklin Gothic Book"/>
              </a:rPr>
              <a:t>Метод графических ассоциаци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4956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f7df56"/>
                </a:solidFill>
                <a:latin typeface="Arial"/>
              </a:rPr>
              <a:t>При запоминании написания словарного слова надо сделать рисунок, обозначающий  само слово, и обыграть в нём ту букву, которую надо запомнить. Она может быть любого шрифта (большая или маленьк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IMG_0002"/>
          <p:cNvPicPr/>
          <p:nvPr/>
        </p:nvPicPr>
        <p:blipFill>
          <a:blip r:embed="rId1"/>
          <a:stretch/>
        </p:blipFill>
        <p:spPr>
          <a:xfrm>
            <a:off x="4786200" y="2071800"/>
            <a:ext cx="327024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00200" y="0"/>
            <a:ext cx="6429600" cy="1773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Franklin Gothic Book"/>
              </a:rPr>
              <a:t>Требования к ассоциативному образу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31280" y="1928880"/>
            <a:ext cx="87123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Ассоциативный образ обязательно должен быть связан со словарным словом каким-то общим признак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92d050"/>
                </a:solidFill>
                <a:uFillTx/>
                <a:latin typeface="Arial"/>
              </a:rPr>
              <a:t>         </a:t>
            </a:r>
            <a:r>
              <a:rPr b="0" i="1" lang="ru-RU" sz="2200" spc="-1" strike="noStrike" u="sng">
                <a:solidFill>
                  <a:srgbClr val="92d050"/>
                </a:solidFill>
                <a:uFillTx/>
                <a:latin typeface="Arial"/>
              </a:rPr>
              <a:t>Ассоциативная связь может быть по</a:t>
            </a:r>
            <a:r>
              <a:rPr b="0" i="1" lang="ru-RU" sz="2200" spc="-1" strike="noStrike">
                <a:solidFill>
                  <a:srgbClr val="92d05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цвету                            ин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й- снег, б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месту                            з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вод- труб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звучанию             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стафета- «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действию                     ст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кан- ст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вл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назначению                 к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пуста- з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я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материалу                    г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зета- бум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f56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7df56"/>
                </a:solidFill>
                <a:latin typeface="Arial"/>
              </a:rPr>
              <a:t>Ассоциативный образ должен иметь в своём написании не вызывающую сомнений букву, которая является сомнительной в словарном сло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5" descr="j0348425"/>
          <p:cNvPicPr/>
          <p:nvPr/>
        </p:nvPicPr>
        <p:blipFill>
          <a:blip r:embed="rId1"/>
          <a:stretch/>
        </p:blipFill>
        <p:spPr>
          <a:xfrm>
            <a:off x="214200" y="214200"/>
            <a:ext cx="1928880" cy="15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Franklin Gothic Book"/>
              </a:rPr>
              <a:t>Практические рекомендации </a:t>
            </a: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Franklin Gothic Book"/>
              </a:rPr>
              <a:t>и вывод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9640" y="1844280"/>
            <a:ext cx="7918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f56"/>
                </a:solidFill>
                <a:latin typeface="Arial"/>
              </a:rPr>
              <a:t>Применение ассоциативного метода способствует успешному запоминанию словарн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7df56"/>
                </a:solidFill>
                <a:latin typeface="Arial"/>
              </a:rPr>
              <a:t>Нам  интереснее учиться, а творческий процесс приносит радостные эмоции и удовольствие от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5" descr="j0359235"/>
          <p:cNvPicPr/>
          <p:nvPr/>
        </p:nvPicPr>
        <p:blipFill>
          <a:blip r:embed="rId1"/>
          <a:stretch/>
        </p:blipFill>
        <p:spPr>
          <a:xfrm>
            <a:off x="7596360" y="5516640"/>
            <a:ext cx="13586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539640" y="112536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Franklin Gothic Book"/>
              </a:rPr>
              <a:t>Хочу сказать, что методика ассоциативного запоминания, а также и загадки-шутки, и шарады, и многие другие игры со словами помогают нам лучше запомнить та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«коварные словарные слов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32:10Z</dcterms:created>
  <dc:creator>Владелец</dc:creator>
  <dc:description/>
  <dc:language>en-US</dc:language>
  <cp:lastModifiedBy>Elena</cp:lastModifiedBy>
  <dcterms:modified xsi:type="dcterms:W3CDTF">2018-02-06T17:10:28Z</dcterms:modified>
  <cp:revision>39</cp:revision>
  <dc:subject/>
  <dc:title>Слайд 1</dc:title>
</cp:coreProperties>
</file>