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C2A-F0FE-4ECE-AFD1-CA0EF3A4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DFD-26E4-4580-8045-4E8161C8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D58-9586-4EC9-ACEB-2483F5BD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20A-EB6E-4748-9CC7-3DD702A4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7676-6BB4-4578-A41A-3CB1057B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891C-F525-424D-8DA9-5FAD8952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ED0B-63FE-4BA3-A485-DAD7DE76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4F11-76E6-4095-A462-86B299DF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10FA-9563-4168-BF39-0A474992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DE9F-40A3-4C2E-9101-EC64D012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734C-C2A2-4E1F-B218-FE748277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95E-22FA-4BFE-8C88-7B47AADC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CA07-E986-42D5-9A14-06A46C91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EF2E-C2FB-4A99-8F7C-0CEFACA2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A1C6-2F38-4886-A981-68EE92DD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2996-9F65-4237-A581-D28CB550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B32F-FCDC-42BF-92B3-A4EAEB0C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FC30-F35E-4913-BDD3-418A69C0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8BE8-5F47-4E28-9330-FD032BF4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C5374-B3D5-4244-BB5C-7980B605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5435-506E-4364-A38D-0593C374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CBCB-276E-4D49-A337-6B6CB3B7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0FE-BF48-4398-A627-02B37FAC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CFF5-E96D-4C10-92F8-6374565A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50A1F-CE6B-4C9F-8708-725CFD97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9515A-D061-4D1A-8781-B311C9E4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41D68-C7B5-4395-A9CE-06C64FD0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0EB7-0DFF-4F10-A012-1400DD4E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5A93-3D5B-487D-9E2C-34D29AA7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C77D7-04E1-4DE1-932B-6CBEC41E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66776-EF7A-445D-B000-C045108D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4BE01-C3D4-40A7-8B13-D2FF5DE2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9CAA-DA7B-47DD-85E0-241FE90D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1B7-EE7F-4429-A03E-95B37F0F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57026-F3EA-4382-AD8F-54ABA62E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5C930-C673-48FC-BC1A-054A787B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C40A2-1E35-4343-A4F2-B6DBF806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B02A0-6CFE-42BB-AA47-15D69D1E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A642E-7DBE-4091-A271-94B7A567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EE2F3-4E03-49EC-83AC-272CFDB6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0E3AB-6623-4B6B-A16E-91CF0310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61707-E675-4648-BF4A-BB869A4F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FC7B4-F12B-4210-BB74-FFBD8E64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53FD-B2BE-435D-B86D-1A0580D6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8D0-2EA9-46C8-85CE-F1061EE8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EB78F-671C-43DA-95FA-D43249EC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B4E12-F8A3-4C26-9B8D-1209FA75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6BB6D-1177-4101-BA5E-87B3A3A2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C2B4F-7994-410D-8EDF-28B63E89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AD592-66F6-446D-AF03-ECA15E9F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450C3-9E4A-4D41-9DD1-6FCA0598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0CA42-9184-40AE-B9FE-1A32AAB4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02B7D-FFC6-4819-83C2-F7AB46B8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3EBB2-BCDE-499D-88A1-CCABDAA8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8250B-6FAD-4D80-9DC0-AB632E6F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94B-4AF7-4875-B2E6-D4F80F67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E8FAD-B5E3-4A21-9BAF-3BD7A9EE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56E8D-7F03-4923-A86F-EE384B55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26E6D-A737-4C60-9B9D-4191869A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60D31-E54C-48B6-A74B-0A6B3F9E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D1BC8-9FB2-4844-8010-5CA9F38F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E1EBA-304F-43A1-BB7D-3786F990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4AE73-CFAE-4E54-9674-9E35D2FD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A6CFF-FBF4-4587-9AA6-408C4F8B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E2CF5-C379-4339-BED7-C6ABA362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6FE2E-C6BB-4BCC-A2AD-A3DB7E94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DFF-FA7B-4FB9-A7D2-452E404B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861DF-A5EF-4D13-B091-7348BBCB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A2720-5562-44E7-90B2-083C4DDD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30B12-6020-4A36-9B83-07BB4651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2B197-1595-44A5-8326-D735BDA8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08952-E745-4100-B45B-36604C9E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C5CFD-27D1-4978-9EC0-E0F4182A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2986A-6A8E-460A-BFC0-E3A814E6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97B85-5982-4D96-BF91-E4C1F033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46D9D-27F8-4C3F-B4E9-9C83F3F7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6A6C3-DD39-4762-A2C5-AA619E47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EA8-1BEC-4862-9651-3187CC59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5CA94-FEA9-4818-92BD-E9BF39DB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1739D-3510-4FF8-9716-CCB3F13A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825C0-6472-4034-BB87-92A82A52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53983-0F7C-4C4B-9FDA-99CF9955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28469-F5E1-450F-A5C1-3130C53A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D0A-025E-45D6-A1B3-F4CD077B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D25D-2975-4603-A687-04B38011653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3D37-79F7-4A6F-B8BE-B3D8AA3CF6D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3448-3C3B-49B7-9ED9-1EF16499953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8F84-5F57-4BAC-AFB5-56C69965AD6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A652-8A70-4B9E-B2E8-DB5EF06A815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29C7-B50A-49DA-A91B-BDBFD7BBCA7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B4CE-0B98-4BBD-B1D0-2FA382C5925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"/>
          <p:cNvSpPr/>
          <p:nvPr/>
        </p:nvSpPr>
        <p:spPr>
          <a:xfrm>
            <a:off x="611280" y="1484280"/>
            <a:ext cx="80024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7df56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7df56"/>
                </a:solidFill>
                <a:latin typeface="Times New Roman"/>
              </a:rPr>
              <a:t>Результаты словарных диктантов показывают, что  не смотря на кропотливую работу по запоминанию словарных слов, ошибки продолжают возник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2d050"/>
                </a:solidFill>
                <a:latin typeface="Times New Roman"/>
              </a:rPr>
              <a:t>Встает вопрос, как за короткий промежуток времени достичь хорошего результата, то есть при наименьших усилиях научиться запоминать словарные слова надолго, прочно, основательно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4" descr="j0348803"/>
          <p:cNvPicPr/>
          <p:nvPr/>
        </p:nvPicPr>
        <p:blipFill>
          <a:blip r:embed="rId1"/>
          <a:stretch/>
        </p:blipFill>
        <p:spPr>
          <a:xfrm>
            <a:off x="7572240" y="214200"/>
            <a:ext cx="1098720" cy="16560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3"/>
          <p:cNvSpPr/>
          <p:nvPr/>
        </p:nvSpPr>
        <p:spPr>
          <a:xfrm>
            <a:off x="1187280" y="549360"/>
            <a:ext cx="754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</a:rPr>
              <a:t>С чего все началось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3" descr=""/>
          <p:cNvPicPr/>
          <p:nvPr/>
        </p:nvPicPr>
        <p:blipFill>
          <a:blip r:embed="rId1"/>
          <a:stretch/>
        </p:blipFill>
        <p:spPr>
          <a:xfrm>
            <a:off x="-255600" y="1139760"/>
            <a:ext cx="6327720" cy="3664080"/>
          </a:xfrm>
          <a:prstGeom prst="rect">
            <a:avLst/>
          </a:prstGeom>
          <a:ln w="0">
            <a:noFill/>
          </a:ln>
        </p:spPr>
      </p:pic>
      <p:sp>
        <p:nvSpPr>
          <p:cNvPr id="301" name="TextBox 4"/>
          <p:cNvSpPr/>
          <p:nvPr/>
        </p:nvSpPr>
        <p:spPr>
          <a:xfrm>
            <a:off x="214200" y="33577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df56"/>
                </a:solidFill>
                <a:latin typeface="Times New Roman"/>
              </a:rPr>
              <a:t>выяснить, как лучше и быстрее запомнить написание  слов, не подчиняющихся правилам орфограф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Picture 5" descr="j0299125"/>
          <p:cNvPicPr/>
          <p:nvPr/>
        </p:nvPicPr>
        <p:blipFill>
          <a:blip r:embed="rId2"/>
          <a:stretch/>
        </p:blipFill>
        <p:spPr>
          <a:xfrm>
            <a:off x="6791400" y="0"/>
            <a:ext cx="20286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8207280" cy="1492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92d050"/>
                </a:solidFill>
                <a:latin typeface="Franklin Gothic Book"/>
              </a:rPr>
              <a:t>Методика ассоциативного      запоминания словарных слов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4" name="Picture 6" descr="DCFC0010"/>
          <p:cNvPicPr/>
          <p:nvPr/>
        </p:nvPicPr>
        <p:blipFill>
          <a:blip r:embed="rId1"/>
          <a:stretch/>
        </p:blipFill>
        <p:spPr>
          <a:xfrm>
            <a:off x="250920" y="2205000"/>
            <a:ext cx="3843360" cy="2879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067280" y="1857240"/>
            <a:ext cx="50767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:  </a:t>
            </a:r>
            <a:r>
              <a:rPr b="0" i="1" lang="ru-RU" sz="2400" spc="-1" strike="noStrike">
                <a:solidFill>
                  <a:srgbClr val="f7df56"/>
                </a:solidFill>
                <a:latin typeface="Arial"/>
              </a:rPr>
              <a:t>мы делаем ошибки при написании словарных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"/>
              </a:rPr>
              <a:t>Средство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f7df56"/>
                </a:solidFill>
                <a:latin typeface="Arial"/>
              </a:rPr>
              <a:t>использование метода ярких ассоци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Суть метода: </a:t>
            </a:r>
            <a:r>
              <a:rPr b="0" i="1" lang="ru-RU" sz="2400" spc="-1" strike="noStrike">
                <a:solidFill>
                  <a:srgbClr val="f7df56"/>
                </a:solidFill>
                <a:latin typeface="Arial"/>
              </a:rPr>
              <a:t>трудная орфограмма связывается с ярким ассоциативным образом, который вспоминается при написании данного словарного слова, помогая правильно написать орфограм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4" descr="j0359161"/>
          <p:cNvPicPr/>
          <p:nvPr/>
        </p:nvPicPr>
        <p:blipFill>
          <a:blip r:embed="rId2"/>
          <a:stretch/>
        </p:blipFill>
        <p:spPr>
          <a:xfrm rot="20211600">
            <a:off x="509400" y="-104400"/>
            <a:ext cx="630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2d050"/>
                </a:solidFill>
                <a:latin typeface="Franklin Gothic Book"/>
              </a:rPr>
              <a:t>Звуковые ассоциа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2000160"/>
            <a:ext cx="442764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7df56"/>
                </a:solidFill>
                <a:latin typeface="Arial"/>
              </a:rPr>
              <a:t>Предпочтительны в тех случаях, когда фраза из созвучия и словарного слова особенно удач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083120" y="1557360"/>
            <a:ext cx="506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cc0000"/>
                </a:solidFill>
                <a:latin typeface="Arial"/>
              </a:rPr>
              <a:t>завт</a:t>
            </a:r>
            <a:r>
              <a:rPr b="0" lang="ru-RU" sz="8000" spc="-1" strike="noStrike">
                <a:solidFill>
                  <a:srgbClr val="cc0000"/>
                </a:solidFill>
                <a:latin typeface="Arial"/>
              </a:rPr>
              <a:t>рак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На завтрак </a:t>
            </a: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рак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6" descr="j0348283"/>
          <p:cNvPicPr/>
          <p:nvPr/>
        </p:nvPicPr>
        <p:blipFill>
          <a:blip r:embed="rId1"/>
          <a:stretch/>
        </p:blipFill>
        <p:spPr>
          <a:xfrm>
            <a:off x="6659640" y="4581360"/>
            <a:ext cx="162720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5120" y="274320"/>
            <a:ext cx="87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Franklin Gothic Book"/>
              </a:rPr>
              <a:t>Метод графических ассоциаци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4956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f7df56"/>
                </a:solidFill>
                <a:latin typeface="Arial"/>
              </a:rPr>
              <a:t>При запоминании написания словарного слова надо сделать рисунок, обозначающий  само слово, и обыграть в нём ту букву, которую надо запомнить. Она может быть любого шрифта (большая или маленька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5" descr="IMG_0002"/>
          <p:cNvPicPr/>
          <p:nvPr/>
        </p:nvPicPr>
        <p:blipFill>
          <a:blip r:embed="rId1"/>
          <a:stretch/>
        </p:blipFill>
        <p:spPr>
          <a:xfrm>
            <a:off x="4786200" y="2071800"/>
            <a:ext cx="327024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0200" y="0"/>
            <a:ext cx="6429600" cy="1773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Franklin Gothic Book"/>
              </a:rPr>
              <a:t>Требования к ассоциативному образу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31280" y="1928880"/>
            <a:ext cx="87123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2d050"/>
                </a:solidFill>
                <a:latin typeface="Arial"/>
              </a:rPr>
              <a:t>Ассоциативный образ обязательно должен быть связан со словарным словом каким-то общим признак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2d050"/>
                </a:solidFill>
                <a:uFillTx/>
                <a:latin typeface="Arial"/>
              </a:rPr>
              <a:t>         </a:t>
            </a:r>
            <a:r>
              <a:rPr b="0" i="1" lang="ru-RU" sz="2200" spc="-1" strike="noStrike" u="sng">
                <a:solidFill>
                  <a:srgbClr val="92d050"/>
                </a:solidFill>
                <a:uFillTx/>
                <a:latin typeface="Arial"/>
              </a:rPr>
              <a:t>Ассоциативная связь может быть по</a:t>
            </a:r>
            <a:r>
              <a:rPr b="0" i="1" lang="ru-RU" sz="2200" spc="-1" strike="noStrike">
                <a:solidFill>
                  <a:srgbClr val="92d05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цвету                            ин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й- снег, б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л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месту                            з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вод- труб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звучанию                 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стафета- «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й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действию                     ст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кан- ст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вл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назначению                 к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пуста- з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я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материалу                    г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зета- бум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f5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7df56"/>
                </a:solidFill>
                <a:latin typeface="Arial"/>
              </a:rPr>
              <a:t>Ассоциативный образ должен иметь в своём написании не вызывающую сомнений букву, которая является сомнительной в словарном сло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5" descr="j0348425"/>
          <p:cNvPicPr/>
          <p:nvPr/>
        </p:nvPicPr>
        <p:blipFill>
          <a:blip r:embed="rId1"/>
          <a:stretch/>
        </p:blipFill>
        <p:spPr>
          <a:xfrm>
            <a:off x="214200" y="214200"/>
            <a:ext cx="192888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Franklin Gothic Book"/>
              </a:rPr>
              <a:t>Практические рекомендации </a:t>
            </a:r>
            <a:br>
              <a:rPr sz="3600"/>
            </a:br>
            <a:r>
              <a:rPr b="1" lang="ru-RU" sz="3600" spc="-1" strike="noStrike">
                <a:solidFill>
                  <a:srgbClr val="92d050"/>
                </a:solidFill>
                <a:latin typeface="Franklin Gothic Book"/>
              </a:rPr>
              <a:t>и выводы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9640" y="1844280"/>
            <a:ext cx="7918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7df56"/>
                </a:solidFill>
                <a:latin typeface="Arial"/>
              </a:rPr>
              <a:t>Применение ассоциативного метода способствует успешному запоминанию словарных сл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7df56"/>
                </a:solidFill>
                <a:latin typeface="Arial"/>
              </a:rPr>
              <a:t>Нам  интереснее учиться, а творческий процесс приносит радостные эмоции и удовольствие от рабо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5" descr="j0359235"/>
          <p:cNvPicPr/>
          <p:nvPr/>
        </p:nvPicPr>
        <p:blipFill>
          <a:blip r:embed="rId1"/>
          <a:stretch/>
        </p:blipFill>
        <p:spPr>
          <a:xfrm>
            <a:off x="7596360" y="5516640"/>
            <a:ext cx="135864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>
            <a:off x="539640" y="1125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Franklin Gothic Book"/>
              </a:rPr>
              <a:t>Хочу сказать, что методика ассоциативного запоминания, а также и загадки-шутки, и шарады, и многие другие игры со словами помогают нам лучше запомнить так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Franklin Gothic Book"/>
              </a:rPr>
              <a:t>«коварные словарные слов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32:10Z</dcterms:created>
  <dc:creator>Владелец</dc:creator>
  <dc:description/>
  <dc:language>en-US</dc:language>
  <cp:lastModifiedBy>Elena</cp:lastModifiedBy>
  <dcterms:modified xsi:type="dcterms:W3CDTF">2018-02-06T17:10:28Z</dcterms:modified>
  <cp:revision>39</cp:revision>
  <dc:subject/>
  <dc:title>Слайд 1</dc:title>
</cp:coreProperties>
</file>