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32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9.jpeg" ContentType="image/jpeg"/>
  <Override PartName="/ppt/media/image23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97A-FF37-4A67-B6B1-C38ED42F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B46-86F5-42F1-BC46-B3851CDA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270-0E97-45B0-8F06-07D952B5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283-DF2C-4F92-92DE-D5081E64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C6BE-9CD0-48FA-92FB-EF29B541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A58E-1153-43AC-A453-A0887513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2FD-0F51-4452-89C4-3DCB0254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5E61-0BA1-48FA-B5AF-9C658230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510-FB07-4A26-9A16-6056FC4C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FABB-3568-4154-B184-2AEFEB2D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A7BF-6491-4A16-8C4E-ADC99566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43A-F8C6-4904-A3CD-3D226DE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FBAE-50D6-444A-BC84-AC3BFC84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668-56DE-4532-AD44-819DAD6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4C5E-12FF-4BC8-B047-934CE8F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47C6-BCCB-40CA-8C11-FF5533CA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04B-4233-4C8F-BFC4-61CA8029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3B5-3A81-4CF6-9CAA-2B6EB5B3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8F4-2529-47F2-95EF-6FC99626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84F-FD63-438A-B20C-E02EE555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780-76C5-4D2E-9DC1-B3AACDC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EC4-BD5C-4AB5-BC52-A84DFC4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D242-C951-4EAE-BE6A-CDB7917D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558-8F4C-4F28-BFF4-C6E5F6BB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1" name=""/>
            <p:cNvSpPr/>
            <p:nvPr/>
          </p:nvSpPr>
          <p:spPr>
            <a:xfrm>
              <a:off x="609480" y="0"/>
              <a:ext cx="7925040" cy="68565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304920"/>
              <a:ext cx="8837640" cy="15228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E562-C8BD-4BBD-8720-63BD2C31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0"/>
            <a:ext cx="8837640" cy="6856560"/>
            <a:chOff x="304920" y="0"/>
            <a:chExt cx="8837640" cy="6856560"/>
          </a:xfrm>
        </p:grpSpPr>
        <p:sp>
          <p:nvSpPr>
            <p:cNvPr id="46" name=""/>
            <p:cNvSpPr/>
            <p:nvPr/>
          </p:nvSpPr>
          <p:spPr>
            <a:xfrm>
              <a:off x="609480" y="1676520"/>
              <a:ext cx="7925040" cy="51800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3581280"/>
              <a:ext cx="8837640" cy="152640"/>
            </a:xfrm>
            <a:prstGeom prst="rect">
              <a:avLst/>
            </a:prstGeom>
            <a:solidFill>
              <a:srgbClr val="99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0"/>
              <a:ext cx="196560" cy="19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675A-E3D4-494F-8A95-E4D811BFC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42920" y="692280"/>
            <a:ext cx="727416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страна жужжандия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 rot="19116000">
            <a:off x="1258920" y="4220640"/>
            <a:ext cx="1592280" cy="179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rot="2260200">
            <a:off x="1042920" y="333000"/>
            <a:ext cx="151308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 rot="2209200">
            <a:off x="3276360" y="4221000"/>
            <a:ext cx="1871640" cy="169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 rot="19419000">
            <a:off x="6012000" y="4220640"/>
            <a:ext cx="190332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 rot="2152800">
            <a:off x="6876720" y="2205000"/>
            <a:ext cx="12114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 – подняться, подтяну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ва – согнуться, разогну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– в ладоши три хлопк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четыре – руки шир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– руками помаха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есть – тихонечко присе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58920" y="189000"/>
            <a:ext cx="720072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культминутка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08360" y="5445000"/>
            <a:ext cx="863640" cy="57492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7301"/>
                </a:moveTo>
                <a:lnTo>
                  <a:pt x="10128" y="7301"/>
                </a:lnTo>
                <a:lnTo>
                  <a:pt x="10511" y="7667"/>
                </a:lnTo>
                <a:lnTo>
                  <a:pt x="19719" y="7667"/>
                </a:lnTo>
                <a:lnTo>
                  <a:pt x="20276" y="8224"/>
                </a:lnTo>
                <a:lnTo>
                  <a:pt x="20276" y="8772"/>
                </a:lnTo>
                <a:lnTo>
                  <a:pt x="22121" y="8772"/>
                </a:lnTo>
                <a:lnTo>
                  <a:pt x="22487" y="8224"/>
                </a:lnTo>
                <a:lnTo>
                  <a:pt x="23227" y="8224"/>
                </a:lnTo>
                <a:lnTo>
                  <a:pt x="23227" y="13376"/>
                </a:lnTo>
                <a:lnTo>
                  <a:pt x="22487" y="13376"/>
                </a:lnTo>
                <a:lnTo>
                  <a:pt x="22121" y="12828"/>
                </a:lnTo>
                <a:lnTo>
                  <a:pt x="20276" y="12828"/>
                </a:lnTo>
                <a:lnTo>
                  <a:pt x="20276" y="14107"/>
                </a:lnTo>
                <a:lnTo>
                  <a:pt x="10693" y="14107"/>
                </a:lnTo>
                <a:lnTo>
                  <a:pt x="10693" y="9877"/>
                </a:lnTo>
                <a:lnTo>
                  <a:pt x="10511" y="9877"/>
                </a:lnTo>
                <a:lnTo>
                  <a:pt x="10128" y="10243"/>
                </a:lnTo>
                <a:lnTo>
                  <a:pt x="9214" y="10243"/>
                </a:lnTo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Буква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4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31640" y="1980720"/>
            <a:ext cx="684036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Эта буква ши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 похожа на жу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 при этом, точно жу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Издает жужжащий звук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Ж – ж – ж – ж – ж – ж – ж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7960" y="4941720"/>
            <a:ext cx="38098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492360" y="2276640"/>
            <a:ext cx="1297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32000" y="4869000"/>
            <a:ext cx="122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996600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99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77080" y="33336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7b19"/>
                    </a:gs>
                    <a:gs pos="100000">
                      <a:srgbClr val="996600"/>
                    </a:gs>
                  </a:gsLst>
                  <a:lin ang="5400000"/>
                </a:gra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7b19"/>
                  </a:gs>
                  <a:gs pos="100000">
                    <a:srgbClr val="99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739800">
            <a:off x="5508720" y="4149720"/>
            <a:ext cx="30304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1 -0.09965 L 0.24028 -0.38289 E">
                                      <p:cBhvr>
                                        <p:cTn id="102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1 0.11538 L -0.15364 0.29365 E">
                                      <p:cBhvr>
                                        <p:cTn id="10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227640" y="1413000"/>
            <a:ext cx="72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8000" y="3500280"/>
            <a:ext cx="1152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92360" y="1268280"/>
            <a:ext cx="833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3014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7 0.00023 L -0.50486 0.00023 E">
                                      <p:cBhvr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8925 L 0.14965 -0.30936 E">
                                      <p:cBhvr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5 0.01063 L 0.39531 0.01063 E">
                                      <p:cBhvr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5084640"/>
            <a:ext cx="1206360" cy="1495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116000" y="476280"/>
            <a:ext cx="110484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12000" y="333360"/>
            <a:ext cx="100332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067280" y="26028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250920" y="5084640"/>
            <a:ext cx="1439640" cy="1346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859280" y="2133720"/>
            <a:ext cx="2737080" cy="273672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34920" y="2060640"/>
            <a:ext cx="5761080" cy="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206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1763280" y="2060280"/>
            <a:ext cx="3095640" cy="2808360"/>
          </a:xfrm>
          <a:prstGeom prst="line">
            <a:avLst/>
          </a:prstGeom>
          <a:ln w="76320">
            <a:solidFill>
              <a:srgbClr val="2a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68 0.00324 C 0.19826 0.02035 0.31284 0.03746 0.42951 -0.05988 C 0.54618 -0.15722 0.78698 -0.48416 0.78368 -0.58127 C 0.78038 -0.67838 0.52725 -0.63329 0.4092 -0.64231 C 0.29114 -0.65133 0.07257 -0.73433 0.07534 -0.63537 C 0.07812 -0.53641 0.36875 -0.14474 0.42604 -0.04855 E">
                                      <p:cBhvr>
                                        <p:cTn id="134" dur="5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547640" y="549360"/>
            <a:ext cx="626436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72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конец!</a:t>
            </a:r>
            <a:endParaRPr b="0" lang="en-US" sz="2400" spc="1" strike="noStrike">
              <a:ln w="572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2411280" y="2492280"/>
            <a:ext cx="403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87280" y="242100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640" y="4797360"/>
            <a:ext cx="172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27640" y="54936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905600">
            <a:off x="6876720" y="475920"/>
            <a:ext cx="183348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92360" y="1700280"/>
            <a:ext cx="5688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т звоночек, синий цв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языком, а звону не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404640"/>
            <a:ext cx="655344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76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Impact"/>
              </a:rPr>
              <a:t>загадки</a:t>
            </a:r>
            <a:endParaRPr b="0" lang="en-US" sz="2400" spc="1" strike="noStrike">
              <a:ln w="76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440000" cy="1512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1162080" cy="165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851280" y="4365720"/>
            <a:ext cx="1285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стут в поле две сестри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елтый глазок, белые ресни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20867400">
            <a:off x="755280" y="3933720"/>
            <a:ext cx="1638360" cy="1798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019400">
            <a:off x="6372000" y="3933360"/>
            <a:ext cx="183816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21276600">
            <a:off x="3779640" y="3933360"/>
            <a:ext cx="1539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440" y="2060280"/>
            <a:ext cx="7342200" cy="40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Вырос высокий цветок на полян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Утром весенним раскрыл лепес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Всем лепесткам красоту и пита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05033"/>
                </a:solidFill>
                <a:latin typeface="Times New Roman"/>
              </a:rPr>
              <a:t>Дружно дают под землей кореш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 rot="280800">
            <a:off x="971640" y="620280"/>
            <a:ext cx="7200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ffff"/>
                    </a:gs>
                  </a:gsLst>
                  <a:lin ang="5118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</a:rPr>
              <a:t>цветок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ffff"/>
                  </a:gs>
                </a:gsLst>
                <a:lin ang="5118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472428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7301"/>
                </a:moveTo>
                <a:lnTo>
                  <a:pt x="5799" y="7301"/>
                </a:lnTo>
                <a:lnTo>
                  <a:pt x="6182" y="7667"/>
                </a:lnTo>
                <a:lnTo>
                  <a:pt x="15390" y="7667"/>
                </a:lnTo>
                <a:lnTo>
                  <a:pt x="15947" y="8224"/>
                </a:lnTo>
                <a:lnTo>
                  <a:pt x="15947" y="8772"/>
                </a:lnTo>
                <a:lnTo>
                  <a:pt x="17792" y="8772"/>
                </a:lnTo>
                <a:lnTo>
                  <a:pt x="18158" y="8224"/>
                </a:lnTo>
                <a:lnTo>
                  <a:pt x="18898" y="8224"/>
                </a:lnTo>
                <a:lnTo>
                  <a:pt x="18898" y="13376"/>
                </a:lnTo>
                <a:lnTo>
                  <a:pt x="18158" y="13376"/>
                </a:lnTo>
                <a:lnTo>
                  <a:pt x="17792" y="12828"/>
                </a:lnTo>
                <a:lnTo>
                  <a:pt x="15947" y="12828"/>
                </a:lnTo>
                <a:lnTo>
                  <a:pt x="15947" y="14107"/>
                </a:lnTo>
                <a:lnTo>
                  <a:pt x="6364" y="14107"/>
                </a:lnTo>
                <a:lnTo>
                  <a:pt x="6364" y="9877"/>
                </a:lnTo>
                <a:lnTo>
                  <a:pt x="6182" y="9877"/>
                </a:lnTo>
                <a:lnTo>
                  <a:pt x="5799" y="10243"/>
                </a:lnTo>
                <a:lnTo>
                  <a:pt x="4885" y="10243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 rot="1350600">
            <a:off x="6443280" y="4365720"/>
            <a:ext cx="1933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2133720"/>
            <a:ext cx="144000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2205000"/>
            <a:ext cx="1439640" cy="1224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2205000"/>
            <a:ext cx="1440000" cy="12240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1439640" cy="1224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 rot="1555200">
            <a:off x="3203640" y="4149360"/>
            <a:ext cx="25207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71640" y="4653000"/>
            <a:ext cx="108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27280" y="476280"/>
            <a:ext cx="108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524720" y="404640"/>
            <a:ext cx="1009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427640" y="249228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80360" y="4869000"/>
            <a:ext cx="1328760" cy="13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3492360" y="4149720"/>
            <a:ext cx="2303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0289E-006 L -0.00382 0.28856 E">
                                      <p:cBhvr>
                                        <p:cTn id="5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042 0.10498 L -0.37032 0.29365 E">
                                      <p:cBhvr>
                                        <p:cTn id="6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0509 L 0.1026 -0.01017 E">
                                      <p:cBhvr>
                                        <p:cTn id="6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-0.10959 L -0.06476 -0.34034 E">
                                      <p:cBhvr>
                                        <p:cTn id="7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332000" y="1484280"/>
            <a:ext cx="59767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уки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3500280"/>
            <a:ext cx="1295280" cy="129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3500280"/>
            <a:ext cx="1295640" cy="129564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3429000"/>
            <a:ext cx="1295640" cy="1295280"/>
          </a:xfrm>
          <a:prstGeom prst="ellipse">
            <a:avLst/>
          </a:prstGeom>
          <a:solidFill>
            <a:srgbClr val="25b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429000"/>
            <a:ext cx="1295640" cy="129528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0:15:42Z</dcterms:created>
  <dc:creator>admin</dc:creator>
  <dc:description/>
  <cp:keywords/>
  <dc:language>en-US</dc:language>
  <cp:lastModifiedBy>admin</cp:lastModifiedBy>
  <dcterms:modified xsi:type="dcterms:W3CDTF">2007-12-21T09:14:47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831049</vt:lpwstr>
  </property>
</Properties>
</file>