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32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9.jpeg" ContentType="image/jpeg"/>
  <Override PartName="/ppt/media/image23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FD2-A2FF-4142-8579-FC85C503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B2A-C7F2-4447-B9B6-C58422D8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7C9-66A9-42F0-AE47-2DC5F560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C3C-7D52-42E5-B0F2-D078E957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3549-ADBD-4513-A6F8-625A2138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ADC8-3EC2-4EFC-ADCA-9F35C6FB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2602-6C61-4C3B-AB5D-E40887E9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4292-B502-4984-BE0F-922567D2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A519-AA98-49BE-93CF-6963B08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F2A7-97D4-4B77-BB6E-211A83A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5FAA-8AEB-4FAD-98D5-FB59F60F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CE7-99C6-4ADA-B4C9-1EEA123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F80D-BD5A-43E0-9031-50DC97E6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D3C7-522E-4F0B-95E1-370E2DCB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30C-E95F-4D6F-BFBF-D0A20CA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9249-236D-48F2-9D10-D604645B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9A66-77A4-46DE-A097-93873F4C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407-3A28-4380-9017-3057455B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6FD-1427-4AE7-83E6-480D745C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80C-7739-45E3-8AFF-C644B8E5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5B6-7D21-445A-A193-EAD1472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3AA-9A40-4E4A-8DD0-99D5F9B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C50-9F62-4E3D-87B0-CC2C78F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305-BFFC-406A-86C7-9C9ED92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1" name=""/>
            <p:cNvSpPr/>
            <p:nvPr/>
          </p:nvSpPr>
          <p:spPr>
            <a:xfrm>
              <a:off x="609480" y="0"/>
              <a:ext cx="7925040" cy="68565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304920"/>
              <a:ext cx="8837640" cy="15228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F64-79CC-4C04-85F1-07BB4EDC7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46" name=""/>
            <p:cNvSpPr/>
            <p:nvPr/>
          </p:nvSpPr>
          <p:spPr>
            <a:xfrm>
              <a:off x="609480" y="1676520"/>
              <a:ext cx="7925040" cy="5180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581280"/>
              <a:ext cx="8837640" cy="15264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8F1C-3A70-442B-BD63-4456C9CFE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42920" y="692280"/>
            <a:ext cx="727416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страна жужжандия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 rot="19116000">
            <a:off x="1258920" y="4220640"/>
            <a:ext cx="1592280" cy="179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rot="2260200">
            <a:off x="1042920" y="333000"/>
            <a:ext cx="151308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 rot="2209200">
            <a:off x="3276360" y="422100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 rot="19419000">
            <a:off x="6012000" y="422064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 rot="2152800">
            <a:off x="6876720" y="2205000"/>
            <a:ext cx="12114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 – подняться, подтяну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а – согнуться, разогну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– в ладоши три хлоп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четыре – руки шир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– руками помаха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есть – тихонечко присе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58920" y="189000"/>
            <a:ext cx="720072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5445000"/>
            <a:ext cx="863640" cy="57492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7301"/>
                </a:moveTo>
                <a:lnTo>
                  <a:pt x="10128" y="7301"/>
                </a:lnTo>
                <a:lnTo>
                  <a:pt x="10511" y="7667"/>
                </a:lnTo>
                <a:lnTo>
                  <a:pt x="19719" y="7667"/>
                </a:lnTo>
                <a:lnTo>
                  <a:pt x="20276" y="8224"/>
                </a:lnTo>
                <a:lnTo>
                  <a:pt x="20276" y="8772"/>
                </a:lnTo>
                <a:lnTo>
                  <a:pt x="22121" y="8772"/>
                </a:lnTo>
                <a:lnTo>
                  <a:pt x="22487" y="8224"/>
                </a:lnTo>
                <a:lnTo>
                  <a:pt x="23227" y="8224"/>
                </a:lnTo>
                <a:lnTo>
                  <a:pt x="23227" y="13376"/>
                </a:lnTo>
                <a:lnTo>
                  <a:pt x="22487" y="13376"/>
                </a:lnTo>
                <a:lnTo>
                  <a:pt x="22121" y="12828"/>
                </a:lnTo>
                <a:lnTo>
                  <a:pt x="20276" y="12828"/>
                </a:lnTo>
                <a:lnTo>
                  <a:pt x="20276" y="14107"/>
                </a:lnTo>
                <a:lnTo>
                  <a:pt x="10693" y="14107"/>
                </a:lnTo>
                <a:lnTo>
                  <a:pt x="10693" y="9877"/>
                </a:lnTo>
                <a:lnTo>
                  <a:pt x="10511" y="9877"/>
                </a:lnTo>
                <a:lnTo>
                  <a:pt x="10128" y="10243"/>
                </a:lnTo>
                <a:lnTo>
                  <a:pt x="9214" y="10243"/>
                </a:lnTo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Букв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4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1640" y="1980720"/>
            <a:ext cx="684036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Эта буква ши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И похожа на ж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И при этом, точно жу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Издает жужжащий зву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Ж – ж – ж – ж – ж – ж – ж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7960" y="4941720"/>
            <a:ext cx="38098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492360" y="2276640"/>
            <a:ext cx="1297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7b19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7b19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32000" y="4869000"/>
            <a:ext cx="122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7b19"/>
                    </a:gs>
                    <a:gs pos="100000">
                      <a:srgbClr val="996600"/>
                    </a:gs>
                  </a:gsLst>
                  <a:lin ang="5400000"/>
                </a:gradFill>
                <a:latin typeface="Arial"/>
              </a:rPr>
              <a:t>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7b19"/>
                  </a:gs>
                  <a:gs pos="100000">
                    <a:srgbClr val="99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77080" y="33336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7b19"/>
                    </a:gs>
                    <a:gs pos="100000">
                      <a:srgbClr val="996600"/>
                    </a:gs>
                  </a:gsLst>
                  <a:lin ang="5400000"/>
                </a:gra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7b19"/>
                  </a:gs>
                  <a:gs pos="100000">
                    <a:srgbClr val="99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739800">
            <a:off x="5508720" y="4149720"/>
            <a:ext cx="30304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9965 L 0.24028 -0.38289 E">
                                      <p:cBhvr>
                                        <p:cTn id="10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11538 L -0.15364 0.29365 E">
                                      <p:cBhvr>
                                        <p:cTn id="10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227640" y="1413000"/>
            <a:ext cx="72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8000" y="3500280"/>
            <a:ext cx="115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92360" y="1268280"/>
            <a:ext cx="83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3014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7 0.00023 L -0.50486 0.00023 E">
                                      <p:cBhvr>
                                        <p:cTn id="11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8925 L 0.14965 -0.30936 E">
                                      <p:cBhvr>
                                        <p:cTn id="12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5 0.01063 L 0.39531 0.01063 E">
                                      <p:cBhvr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5084640"/>
            <a:ext cx="1206360" cy="149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1104840" cy="151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812000" y="333360"/>
            <a:ext cx="100332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067280" y="26028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50920" y="5084640"/>
            <a:ext cx="1439640" cy="134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4859280" y="2133720"/>
            <a:ext cx="2737080" cy="2736720"/>
          </a:xfrm>
          <a:prstGeom prst="line">
            <a:avLst/>
          </a:prstGeom>
          <a:ln w="76320">
            <a:solidFill>
              <a:srgbClr val="2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34920" y="2060640"/>
            <a:ext cx="5761080" cy="0"/>
          </a:xfrm>
          <a:prstGeom prst="line">
            <a:avLst/>
          </a:prstGeom>
          <a:ln w="76320">
            <a:solidFill>
              <a:srgbClr val="2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1763280" y="2060280"/>
            <a:ext cx="3095640" cy="2808360"/>
          </a:xfrm>
          <a:prstGeom prst="line">
            <a:avLst/>
          </a:prstGeom>
          <a:ln w="76320">
            <a:solidFill>
              <a:srgbClr val="2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68 0.00324 C 0.19826 0.02035 0.31284 0.03746 0.42951 -0.05988 C 0.54618 -0.15722 0.78698 -0.48416 0.78368 -0.58127 C 0.78038 -0.67838 0.52725 -0.63329 0.4092 -0.64231 C 0.29114 -0.65133 0.07257 -0.73433 0.07534 -0.63537 C 0.07812 -0.53641 0.36875 -0.14474 0.42604 -0.04855 E">
                                      <p:cBhvr>
                                        <p:cTn id="134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547640" y="549360"/>
            <a:ext cx="6264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конец!</a:t>
            </a:r>
            <a:endParaRPr b="0" lang="en-US" sz="2400" spc="1" strike="noStrike">
              <a:ln w="572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411280" y="2492280"/>
            <a:ext cx="403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87280" y="2421000"/>
            <a:ext cx="165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11640" y="4797360"/>
            <a:ext cx="172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27640" y="549360"/>
            <a:ext cx="12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905600">
            <a:off x="6876720" y="475920"/>
            <a:ext cx="183348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56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т звоночек, синий цв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языком, а звону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47640" y="404640"/>
            <a:ext cx="65534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Impact"/>
              </a:rPr>
              <a:t>загадки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440000" cy="151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1162080" cy="165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851280" y="4365720"/>
            <a:ext cx="1285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стут в поле две сестри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тый глазок, белые ресни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20867400">
            <a:off x="755280" y="3933720"/>
            <a:ext cx="1638360" cy="179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1019400">
            <a:off x="6372000" y="3933360"/>
            <a:ext cx="183816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21276600">
            <a:off x="3779640" y="3933360"/>
            <a:ext cx="1539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2060280"/>
            <a:ext cx="7342200" cy="40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Вырос высокий цветок на полян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Утром весенним раскрыл лепес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Всем лепесткам красоту и питан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Дружно дают под землей кореш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 rot="280800">
            <a:off x="971640" y="620280"/>
            <a:ext cx="72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118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цветок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118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472428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7301"/>
                </a:moveTo>
                <a:lnTo>
                  <a:pt x="5799" y="7301"/>
                </a:lnTo>
                <a:lnTo>
                  <a:pt x="6182" y="7667"/>
                </a:lnTo>
                <a:lnTo>
                  <a:pt x="15390" y="7667"/>
                </a:lnTo>
                <a:lnTo>
                  <a:pt x="15947" y="8224"/>
                </a:lnTo>
                <a:lnTo>
                  <a:pt x="15947" y="8772"/>
                </a:lnTo>
                <a:lnTo>
                  <a:pt x="17792" y="8772"/>
                </a:lnTo>
                <a:lnTo>
                  <a:pt x="18158" y="8224"/>
                </a:lnTo>
                <a:lnTo>
                  <a:pt x="18898" y="8224"/>
                </a:lnTo>
                <a:lnTo>
                  <a:pt x="18898" y="13376"/>
                </a:lnTo>
                <a:lnTo>
                  <a:pt x="18158" y="13376"/>
                </a:lnTo>
                <a:lnTo>
                  <a:pt x="17792" y="12828"/>
                </a:lnTo>
                <a:lnTo>
                  <a:pt x="15947" y="12828"/>
                </a:lnTo>
                <a:lnTo>
                  <a:pt x="15947" y="14107"/>
                </a:lnTo>
                <a:lnTo>
                  <a:pt x="6364" y="14107"/>
                </a:lnTo>
                <a:lnTo>
                  <a:pt x="6364" y="9877"/>
                </a:lnTo>
                <a:lnTo>
                  <a:pt x="6182" y="9877"/>
                </a:lnTo>
                <a:lnTo>
                  <a:pt x="5799" y="10243"/>
                </a:lnTo>
                <a:lnTo>
                  <a:pt x="4885" y="10243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1350600">
            <a:off x="6443280" y="4365720"/>
            <a:ext cx="1933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2133720"/>
            <a:ext cx="1440000" cy="1224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2205000"/>
            <a:ext cx="1439640" cy="1224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2205000"/>
            <a:ext cx="1440000" cy="1224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1439640" cy="1224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1555200">
            <a:off x="3203640" y="4149360"/>
            <a:ext cx="25207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71640" y="4653000"/>
            <a:ext cx="108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27280" y="476280"/>
            <a:ext cx="108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24720" y="404640"/>
            <a:ext cx="1009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427640" y="249228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80360" y="4869000"/>
            <a:ext cx="132876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3492360" y="4149720"/>
            <a:ext cx="2303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50289E-006 L -0.00382 0.28856 E">
                                      <p:cBhvr>
                                        <p:cTn id="5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42 0.10498 L -0.37032 0.29365 E">
                                      <p:cBhvr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0509 L 0.1026 -0.01017 E">
                                      <p:cBhvr>
                                        <p:cTn id="6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-0.10959 L -0.06476 -0.34034 E">
                                      <p:cBhvr>
                                        <p:cTn id="7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332000" y="1484280"/>
            <a:ext cx="59767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уки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3500280"/>
            <a:ext cx="1295280" cy="129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3500280"/>
            <a:ext cx="1295640" cy="129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429000"/>
            <a:ext cx="1295640" cy="1295280"/>
          </a:xfrm>
          <a:prstGeom prst="ellipse">
            <a:avLst/>
          </a:prstGeom>
          <a:solidFill>
            <a:srgbClr val="25b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3429000"/>
            <a:ext cx="1295640" cy="12952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15:42Z</dcterms:created>
  <dc:creator>admin</dc:creator>
  <dc:description/>
  <cp:keywords/>
  <dc:language>en-US</dc:language>
  <cp:lastModifiedBy>admin</cp:lastModifiedBy>
  <dcterms:modified xsi:type="dcterms:W3CDTF">2007-12-21T09:14:4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31049</vt:lpwstr>
  </property>
</Properties>
</file>