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B6A-338F-4235-B3FB-2C5700B8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4E7-0B0A-4B02-816C-80EE7788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050-D258-4429-B7F8-C07A38C4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1DE-BB93-4265-8C2D-5161715A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C6C-E0F8-4670-85CE-3219BFA5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7F9-35D0-4D96-83F2-2E508DA2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091-BDB8-4F14-8649-6EFED238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00A-8233-4F1A-A93E-5753A816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2C1-927B-45D6-8291-74D78552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C92-7D00-482F-8550-5BA7C53A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DC8-A9DB-4C8E-B25F-F6123D93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E9F-0C51-49D9-B683-D442340E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8234-E622-46EF-9747-B6498EBB80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42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45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Научно-практическая конференция школьников «Старт в наук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08000" y="1268280"/>
            <a:ext cx="8928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Arial"/>
              </a:rPr>
              <a:t>Научно-исследовательская работа на тему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995640" y="3789360"/>
            <a:ext cx="447516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Автор работы: обучающаяся 8 класс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МОБУ СОШ п. Мичуринс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Амирова Динара Рафик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Научный руководител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Захарова Ольга Владими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28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31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550800" y="1504800"/>
            <a:ext cx="8217000" cy="29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музыкальных направлений и  музыкальных терминов (хаус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г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транс, соул, рейв, грай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37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40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550800" y="1504800"/>
            <a:ext cx="8217000" cy="25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жанров и  направлений  кино (роуд-муви, сит-ком, хорррор, нуар, арт-хаус, грайднхаус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46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49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550800" y="1504800"/>
            <a:ext cx="8217000" cy="25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, длительность и качественное опреде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нигматический, онлайн, кэжуал,    концепт,  ремейк,   приквел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55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58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550800" y="1504800"/>
            <a:ext cx="821700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, род деятельности (  хостес, камбэк, блогер,  папарацц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64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67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50800" y="1504800"/>
            <a:ext cx="821700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литературных направлений и  жанров ( нон-фикшн, чик-лит, мануал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73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76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550800" y="1504800"/>
            <a:ext cx="8217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графическая неустойчивость – одна из важных примет заимств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тное, дефисное написание ( ситком/сит-ком, синтипоп/синти-поп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/Э в корне слова  (бренд/брэнд, рейв/рэйв, фешн/фэш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сходной графики: (PR, AltаVista, Non-stop, pin-up, self-ma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359320"/>
            <a:chOff x="79200" y="901800"/>
            <a:chExt cx="8967960" cy="5359320"/>
          </a:xfrm>
        </p:grpSpPr>
        <p:pic>
          <p:nvPicPr>
            <p:cNvPr id="182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9520" y="1300320"/>
              <a:ext cx="8165880" cy="45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85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584280" y="1109520"/>
            <a:ext cx="8215200" cy="52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появления варваризм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в русском языке соответствующего лексического эквивалента иностранному слов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разграничивать содержательно близкие, но все же различающиеся понятия (ремейк – кавер-версия,  аутсайдер – лузер,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е чего-либо одним словом, а не понятием, когда описательное наименование заменяется однословным, например, арт-хаус – термин из области кинематографа, некоммерческие фильмы, сделанные с расчетом на фестивальные призы и популярность среди критиков, а не на успех в массовом прокате. Мейнстрим – центральное течение в искусстве, равноудаленное  от консервативности и модерниз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 заимствующем языке сложившихся систем терминов, обслуживающих ту или иную тематическую область, профессиональную среду (лексика, характеризующая современные музыкальные направления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359320"/>
            <a:chOff x="79200" y="901800"/>
            <a:chExt cx="8967960" cy="5359320"/>
          </a:xfrm>
        </p:grpSpPr>
        <p:pic>
          <p:nvPicPr>
            <p:cNvPr id="191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79520" y="1300320"/>
              <a:ext cx="8165880" cy="45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94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хема 2" descr=""/>
          <p:cNvPicPr/>
          <p:nvPr/>
        </p:nvPicPr>
        <p:blipFill>
          <a:blip r:embed="rId2"/>
          <a:stretch/>
        </p:blipFill>
        <p:spPr>
          <a:xfrm>
            <a:off x="1517760" y="1395360"/>
            <a:ext cx="610848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359320"/>
            <a:chOff x="79200" y="901800"/>
            <a:chExt cx="8967960" cy="5359320"/>
          </a:xfrm>
        </p:grpSpPr>
        <p:pic>
          <p:nvPicPr>
            <p:cNvPr id="20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79520" y="1300320"/>
              <a:ext cx="8165880" cy="45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20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677880" y="307512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им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51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54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50800" y="1052640"/>
            <a:ext cx="82170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зуч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ексты страниц социальной сети ВКОНТАКТЕ на общественно-культурную тематику (в частности статьи и рецензии, посвященные новинкам кино, книг и музыкальных альбомов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ункционирование варваризмов в публикациях данного р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Цель исследования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- изучение особенностей использования  заимствований на страницах сообще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сообщества в социальной сети ВКОНТЕКТЕ  «Кинолюбители», аудитория более трех миллионов человек, «Империя кино» - полтора миллиона человек, «Радио Рекорд» - более трех миллионов человек, «Новинки музыки» - более восьми миллионов человек, «Шедевры литературы» - один миллион семьсот тысяч подписчи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6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6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50800" y="105264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 – сообщество «Кинолюбител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Александр\Desktop\кинолюбители.jpg"/>
          <p:cNvPicPr/>
          <p:nvPr/>
        </p:nvPicPr>
        <p:blipFill>
          <a:blip r:embed="rId2"/>
          <a:stretch/>
        </p:blipFill>
        <p:spPr>
          <a:xfrm>
            <a:off x="1449360" y="1468440"/>
            <a:ext cx="6486480" cy="451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7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7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50800" y="105264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 – сообщество «Империя кин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Users\Александр\Desktop\Безымянный.jpg"/>
          <p:cNvPicPr/>
          <p:nvPr/>
        </p:nvPicPr>
        <p:blipFill>
          <a:blip r:embed="rId2"/>
          <a:stretch/>
        </p:blipFill>
        <p:spPr>
          <a:xfrm>
            <a:off x="1776240" y="1720800"/>
            <a:ext cx="5832720" cy="422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8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8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50800" y="105264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 – сообщество «Радио РЕКОР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Александр\Desktop\радио.jpg"/>
          <p:cNvPicPr/>
          <p:nvPr/>
        </p:nvPicPr>
        <p:blipFill>
          <a:blip r:embed="rId2"/>
          <a:stretch/>
        </p:blipFill>
        <p:spPr>
          <a:xfrm>
            <a:off x="1685880" y="1668600"/>
            <a:ext cx="5753160" cy="42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9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9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550800" y="105264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 – сообщество «Новинки музы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Александр\Desktop\новинки.jpg"/>
          <p:cNvPicPr/>
          <p:nvPr/>
        </p:nvPicPr>
        <p:blipFill>
          <a:blip r:embed="rId2"/>
          <a:stretch/>
        </p:blipFill>
        <p:spPr>
          <a:xfrm>
            <a:off x="1914480" y="1468440"/>
            <a:ext cx="5554800" cy="431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0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0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50800" y="105264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Александр\Desktop\литература.jpg"/>
          <p:cNvPicPr/>
          <p:nvPr/>
        </p:nvPicPr>
        <p:blipFill>
          <a:blip r:embed="rId2"/>
          <a:stretch/>
        </p:blipFill>
        <p:spPr>
          <a:xfrm>
            <a:off x="900000" y="1468440"/>
            <a:ext cx="7344000" cy="45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1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1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550800" y="1504800"/>
            <a:ext cx="82170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варизм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ова, словосочетания и предложения, находящиеся в чужом языковом окружении, не полностью  освоенные  языком, их принимающим. (П.А. Лекант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язычные слова или выражения, не до конца освоенные заимствующим языком, чаще всего в связи с трудностями грамматического освоения (Д.Э. Розенталь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заимствованные из другого языка и воспринимаемые как нарушение общепринятой языковой нормы (литературной энциклопеди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слова или выражения, не полностью освоенные языком и воспринимаемые как чужеродные, как нарушение общепринятой языковой нормы. С течением времени эти слова могут либо выйти из обращения и забыться, либо получить хождение в ограниченных сферах, либо стать широко употребляемым. (Википед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из чужого языка или обороты речи, построенные по образцу чужого языка, нарушающие чистоту речи (Толковый словарь Ожегов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слова, обороты речи, выражения, не свойственное данному языку, заимствованные из другого языка. (Новейший справочник лингвист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19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22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50800" y="1504800"/>
            <a:ext cx="8217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бщественно-культурных процессов, явлений, понятий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гламур, додж-бол, бренд, фешн, лейб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Александр</cp:lastModifiedBy>
  <dcterms:modified xsi:type="dcterms:W3CDTF">2016-02-29T18:01:23Z</dcterms:modified>
  <cp:revision>27</cp:revision>
  <dc:subject/>
  <dc:title>Презентация PowerPoint</dc:title>
</cp:coreProperties>
</file>