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31C-1642-4D75-9AB0-C2AFEE30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F19-EA80-4207-AB25-5629CD82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BC1-72CC-4E92-B44A-275C6775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9F1-670E-4A1C-BAE2-9BF0BD97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DE5-1AD0-4E6B-BB2D-75050859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6AB-6685-43AF-9211-192420F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6B5-BBAB-4D6B-B31C-71AAB32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0F1-F564-481B-A3B4-73A10BF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80B-8A6B-4DAD-84CA-75919645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2A6-B2DE-4150-8ADD-62393BD2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946-6ED8-40E6-A16B-4A0C433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13E-37D0-4163-8DF8-0F11217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DFD2-273C-4422-A062-86CE9FF30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42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45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Научно-практическая конференция школьников «Старт в науку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08000" y="1268280"/>
            <a:ext cx="8928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Научно-исследовательская работа на тему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995640" y="3789360"/>
            <a:ext cx="447516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Автор работы: обучающаяся 8 класс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МОБУ СОШ п. Мичуринск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Амирова Динара Рафик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Научный руководитель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Захарова Ольга Владими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28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31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50800" y="1504800"/>
            <a:ext cx="821700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музыкальных направлений и  музыкальных терминов (хаус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г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транс, соул, рейв, грай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37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40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50800" y="1504800"/>
            <a:ext cx="8217000" cy="25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жанров и  направлений  кино (роуд-муви, сит-ком, хорррор, нуар, арт-хаус, грайднхаус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46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49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550800" y="1504800"/>
            <a:ext cx="8217000" cy="25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, длительность и качественное о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нигматический, онлайн, кэжуал,    концепт,  ремейк,   приквел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55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58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550800" y="1504800"/>
            <a:ext cx="821700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, род деятельности (  хостес, камбэк, блогер,  папарацц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64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67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550800" y="1504800"/>
            <a:ext cx="821700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литературных направлений и  жанров ( нон-фикшн, чик-лит, мануал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73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76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50800" y="1504800"/>
            <a:ext cx="8217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фическая неустойчивость – одна из важных примет заимств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тное, дефисное написание ( ситком/сит-ком, синтипоп/синти-поп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/Э в корне слова  (бренд/брэнд, рейв/рэйв, фешн/фэш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сходной графики: (PR, AltаVista, Non-stop, pin-up, self-ma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359320"/>
            <a:chOff x="79200" y="901800"/>
            <a:chExt cx="8967960" cy="5359320"/>
          </a:xfrm>
        </p:grpSpPr>
        <p:pic>
          <p:nvPicPr>
            <p:cNvPr id="182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9520" y="1300320"/>
              <a:ext cx="8165880" cy="45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85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584280" y="1109520"/>
            <a:ext cx="8215200" cy="52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появления варваризм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в русском языке соответствующего лексического эквивалента иностранному сло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разграничивать содержательно близкие, но все же различающиеся понятия (ремейк – кавер-версия,  аутсайдер – лузер,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ение чего-либо одним словом, а не понятием, когда описательное наименование заменяется однословным, например, арт-хаус – термин из области кинематографа, некоммерческие фильмы, сделанные с расчетом на фестивальные призы и популярность среди критиков, а не на успех в массовом прокате. Мейнстрим – центральное течение в искусстве, равноудаленное  от консервативности и модерн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 заимствующем языке сложившихся систем терминов, обслуживающих ту или иную тематическую область, профессиональную среду (лексика, характеризующая современные музыкальные направлени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359320"/>
            <a:chOff x="79200" y="901800"/>
            <a:chExt cx="8967960" cy="5359320"/>
          </a:xfrm>
        </p:grpSpPr>
        <p:pic>
          <p:nvPicPr>
            <p:cNvPr id="191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79520" y="1300320"/>
              <a:ext cx="8165880" cy="45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94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хема 2" descr=""/>
          <p:cNvPicPr/>
          <p:nvPr/>
        </p:nvPicPr>
        <p:blipFill>
          <a:blip r:embed="rId2"/>
          <a:stretch/>
        </p:blipFill>
        <p:spPr>
          <a:xfrm>
            <a:off x="1517760" y="1395360"/>
            <a:ext cx="610848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359320"/>
            <a:chOff x="79200" y="901800"/>
            <a:chExt cx="8967960" cy="5359320"/>
          </a:xfrm>
        </p:grpSpPr>
        <p:pic>
          <p:nvPicPr>
            <p:cNvPr id="20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79520" y="1300320"/>
              <a:ext cx="8165880" cy="45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20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677880" y="307512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им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51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54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50800" y="1052640"/>
            <a:ext cx="82170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зуч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ксты страниц социальной сети ВКОНТАКТЕ на общественно-культурную тематику (в частности статьи и рецензии, посвященные новинкам кино, книг и музыкальных альбомов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ункционирование варваризмов в публикациях данного р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Цель исследования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  <a:ea typeface="Arial"/>
              </a:rPr>
              <a:t>- изучение особенностей использования  заимствований на страницах сообще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ообщества в социальной сети ВКОНТЕКТЕ  «Кинолюбители», аудитория более трех миллионов человек, «Империя кино» - полтора миллиона человек, «Радио Рекорд» - более трех миллионов человек, «Новинки музыки» - более восьми миллионов человек, «Шедевры литературы» - один миллион семьсот тысяч подписчик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6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6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Кинолюбител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Александр\Desktop\кинолюбители.jpg"/>
          <p:cNvPicPr/>
          <p:nvPr/>
        </p:nvPicPr>
        <p:blipFill>
          <a:blip r:embed="rId2"/>
          <a:stretch/>
        </p:blipFill>
        <p:spPr>
          <a:xfrm>
            <a:off x="1449360" y="1468440"/>
            <a:ext cx="6486480" cy="45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7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7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Империя кин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Александр\Desktop\Безымянный.jpg"/>
          <p:cNvPicPr/>
          <p:nvPr/>
        </p:nvPicPr>
        <p:blipFill>
          <a:blip r:embed="rId2"/>
          <a:stretch/>
        </p:blipFill>
        <p:spPr>
          <a:xfrm>
            <a:off x="1776240" y="1720800"/>
            <a:ext cx="5832720" cy="422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8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8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Радио РЕКОР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Александр\Desktop\радио.jpg"/>
          <p:cNvPicPr/>
          <p:nvPr/>
        </p:nvPicPr>
        <p:blipFill>
          <a:blip r:embed="rId2"/>
          <a:stretch/>
        </p:blipFill>
        <p:spPr>
          <a:xfrm>
            <a:off x="1685880" y="1668600"/>
            <a:ext cx="5753160" cy="42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9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9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 – сообщество «Новинки музы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Александр\Desktop\новинки.jpg"/>
          <p:cNvPicPr/>
          <p:nvPr/>
        </p:nvPicPr>
        <p:blipFill>
          <a:blip r:embed="rId2"/>
          <a:stretch/>
        </p:blipFill>
        <p:spPr>
          <a:xfrm>
            <a:off x="1914480" y="1468440"/>
            <a:ext cx="5554800" cy="431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0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0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50800" y="105264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 язык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Users\Александр\Desktop\литература.jpg"/>
          <p:cNvPicPr/>
          <p:nvPr/>
        </p:nvPicPr>
        <p:blipFill>
          <a:blip r:embed="rId2"/>
          <a:stretch/>
        </p:blipFill>
        <p:spPr>
          <a:xfrm>
            <a:off x="900000" y="1468440"/>
            <a:ext cx="7344000" cy="452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10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13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50800" y="1504800"/>
            <a:ext cx="82170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варизм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лова, словосочетания и предложения, находящиеся в чужом языковом окружении, не полностью  освоенные  языком, их принимающим. (П.А. Лекант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язычные слова или выражения, не до конца освоенные заимствующим языком, чаще всего в связи с трудностями грамматического освоения (Д.Э. Розенталь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, заимствованные из другого языка и воспринимаемые как нарушение общепринятой языковой нормы (литературной энциклопеди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слова или выражения, не полностью освоенные языком и воспринимаемые как чужеродные, как нарушение общепринятой языковой нормы. С течением времени эти слова могут либо выйти из обращения и забыться, либо получить хождение в ограниченных сферах, либо стать широко употребляемым. (Википед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из чужого языка или обороты речи, построенные по образцу чужого языка, нарушающие чистоту речи (Толковый словарь Ожегов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слова, обороты речи, выражения, не свойственное данному языку, заимствованные из другого языка. (Новейший справочник лингвист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Прямоугольник с двумя скругленными противолежащими углами 3"/>
          <p:cNvGrpSpPr/>
          <p:nvPr/>
        </p:nvGrpSpPr>
        <p:grpSpPr>
          <a:xfrm>
            <a:off x="79200" y="901800"/>
            <a:ext cx="8967960" cy="5200560"/>
            <a:chOff x="79200" y="901800"/>
            <a:chExt cx="8967960" cy="5200560"/>
          </a:xfrm>
        </p:grpSpPr>
        <p:pic>
          <p:nvPicPr>
            <p:cNvPr id="119" name="Прямоугольник с двумя скругленными противолежащими углами 3" descr=""/>
            <p:cNvPicPr/>
            <p:nvPr/>
          </p:nvPicPr>
          <p:blipFill>
            <a:blip r:embed="rId1"/>
            <a:stretch/>
          </p:blipFill>
          <p:spPr>
            <a:xfrm>
              <a:off x="79200" y="901800"/>
              <a:ext cx="8967960" cy="52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71600" y="1292400"/>
              <a:ext cx="8181720" cy="44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Группа 5"/>
          <p:cNvGrpSpPr/>
          <p:nvPr/>
        </p:nvGrpSpPr>
        <p:grpSpPr>
          <a:xfrm>
            <a:off x="316080" y="6110280"/>
            <a:ext cx="8516880" cy="703440"/>
            <a:chOff x="316080" y="6110280"/>
            <a:chExt cx="8516880" cy="703440"/>
          </a:xfrm>
        </p:grpSpPr>
        <p:sp>
          <p:nvSpPr>
            <p:cNvPr id="122" name="Скругленный прямоугольник 1"/>
            <p:cNvSpPr/>
            <p:nvPr/>
          </p:nvSpPr>
          <p:spPr>
            <a:xfrm>
              <a:off x="316080" y="6110280"/>
              <a:ext cx="8516880" cy="703440"/>
            </a:xfrm>
            <a:prstGeom prst="roundRect">
              <a:avLst>
                <a:gd name="adj" fmla="val 16667"/>
              </a:avLst>
            </a:prstGeom>
            <a:solidFill>
              <a:srgbClr val="6604c8">
                <a:alpha val="8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4"/>
            <p:cNvSpPr/>
            <p:nvPr/>
          </p:nvSpPr>
          <p:spPr>
            <a:xfrm>
              <a:off x="551520" y="6186600"/>
              <a:ext cx="82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п. Мичуринский, 201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Скругленный прямоугольник 7"/>
          <p:cNvSpPr/>
          <p:nvPr/>
        </p:nvSpPr>
        <p:spPr>
          <a:xfrm>
            <a:off x="250920" y="189000"/>
            <a:ext cx="8516880" cy="703080"/>
          </a:xfrm>
          <a:prstGeom prst="roundRect">
            <a:avLst>
              <a:gd name="adj" fmla="val 16667"/>
            </a:avLst>
          </a:prstGeom>
          <a:solidFill>
            <a:srgbClr val="6604c8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Функционирование заимствованной лексики общественно-культурной тематики в информационных сообществах социальных сетей»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08000" y="1268280"/>
            <a:ext cx="8928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50800" y="1504800"/>
            <a:ext cx="8217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ое разнообраз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общественно-культурных процессов, явлений, понятий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гламур, додж-бол, бренд, фешн, лейб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Александр</cp:lastModifiedBy>
  <dcterms:modified xsi:type="dcterms:W3CDTF">2016-02-29T18:01:23Z</dcterms:modified>
  <cp:revision>27</cp:revision>
  <dc:subject/>
  <dc:title>Презентация PowerPoint</dc:title>
</cp:coreProperties>
</file>