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640F-F008-4481-B2D5-C6DAF1760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2BBF-DEB2-4764-A0E9-EF6CEFF6D4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7FFF-2331-48E6-9BE9-DBEBFACDA0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0CD1-F80D-4C49-BF62-D40210C7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456-B238-4D60-84A1-2688182D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353-C373-40BD-BCDD-ED0E6BC0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3BA9-C8F7-4B13-B8D4-F98A9317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AE8B-A502-4714-A1B4-937E465B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8B9F-33E3-4D16-BC36-46EA6EF7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73BC-56AE-465E-BDB3-C89BA26B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EF99-1F28-4B13-869C-62D3B3AA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96F2-23F5-4EBD-A679-DB932FA6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1EC0-8C42-4774-9A1B-C9DE015F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BFE2-4D46-46F0-BAC8-8344BE9E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2E8-B34E-45E9-8D91-18883F93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0DB7-D635-4F8E-9C71-7F7E905B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78F6-98DA-433D-81A9-82FDE433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3D79-C191-4F27-B68B-46DA19BD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4DF4-BD9B-414E-BD1D-9CF0E1F4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E311-DA5C-4611-A487-A5796D80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B0D1-9B1C-4C63-8C9A-F7034496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5B2F-80C3-4592-8C43-A67F45D8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F4E2-2482-4562-BE40-88200371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372-409D-4A65-BDE3-0767B149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191-D2C6-4184-B349-1BCF999B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0C62-4A81-4DB6-B379-D96B2BF8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7C6-3B61-4112-940B-A73CCA51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C343-95FB-477E-B721-B399C7A1870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3F1B-FED2-4509-A1F3-8D663209580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mol1812.a-mv.ru/images/remote/http--www.hrono.info-img-19vek-kutuz_dou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16"/>
          <p:cNvSpPr txBox="1"/>
          <p:nvPr/>
        </p:nvSpPr>
        <p:spPr>
          <a:xfrm>
            <a:off x="1187280" y="0"/>
            <a:ext cx="698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ЕРОИ БОРОДИНСКОЙ БИТ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0" y="5786280"/>
            <a:ext cx="648180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полнил: ученик 5  класса «А» Голубев Рома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ОУ № 13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читель : Казакова Марина Анатольевн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WordArt 19"/>
          <p:cNvSpPr txBox="1"/>
          <p:nvPr/>
        </p:nvSpPr>
        <p:spPr>
          <a:xfrm>
            <a:off x="2143080" y="5286240"/>
            <a:ext cx="5753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WordArt 20"/>
          <p:cNvSpPr txBox="1"/>
          <p:nvPr/>
        </p:nvSpPr>
        <p:spPr>
          <a:xfrm>
            <a:off x="1187280" y="0"/>
            <a:ext cx="698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ЕРОИ БОРОДИНСКОЙ БИТ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9" name="Picture 23" descr="borodino-54"/>
          <p:cNvPicPr/>
          <p:nvPr/>
        </p:nvPicPr>
        <p:blipFill>
          <a:blip r:embed="rId1"/>
          <a:stretch/>
        </p:blipFill>
        <p:spPr>
          <a:xfrm>
            <a:off x="1428840" y="1143000"/>
            <a:ext cx="655308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42920" y="236232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нера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мандовал 7-м пехотным корпусом, который входил в состав 2-й Западной арм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Бородинском сражении корпус Раевского защищал Курганную высоту, которая располагалась в центре русской позиции. Перед битвой на ней были сооружены земляные укрепления и расположены 18 орудий. В историю эта высота вошла как «батарея Раевского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Этот русский генерал сделан из материала, из которого делаются маршалы», – сказал о нём Наполео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WordArt 7"/>
          <p:cNvSpPr txBox="1"/>
          <p:nvPr/>
        </p:nvSpPr>
        <p:spPr>
          <a:xfrm>
            <a:off x="2771640" y="189000"/>
            <a:ext cx="338472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Генерал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pic>
        <p:nvPicPr>
          <p:cNvPr id="130" name="Picture 9" descr="раевский"/>
          <p:cNvPicPr/>
          <p:nvPr/>
        </p:nvPicPr>
        <p:blipFill>
          <a:blip r:embed="rId1"/>
          <a:stretch/>
        </p:blipFill>
        <p:spPr>
          <a:xfrm>
            <a:off x="0" y="1700280"/>
            <a:ext cx="4505400" cy="5157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900000" y="765000"/>
            <a:ext cx="8064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иколай Николаевич РАЕВ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(1771-1829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етр Иванович Багратион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(1765-1812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нязь, генерал от инфатер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марте 1812 г. назначен главнокомандующим 2-й Западной армии, в начале войны отважно оборонялся от превосходящих сил Жерома Бонапарта и Даву. Войска Багратиона оказали стойкое сопротивление французам под Салтановкой, затем оторвались от преследования и соединились с1-й армией в Смоленск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Бородинской битве Багратион возглавил оборону на левом фланге и был тяжело ранен осколком гранаты в бедро. От этой раны он скончал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7" descr="багратион"/>
          <p:cNvPicPr/>
          <p:nvPr/>
        </p:nvPicPr>
        <p:blipFill>
          <a:blip r:embed="rId1"/>
          <a:stretch/>
        </p:blipFill>
        <p:spPr>
          <a:xfrm>
            <a:off x="0" y="1628640"/>
            <a:ext cx="444960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лексей Андреевич Аракчеев (1769-1834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аф, генерал от артиллер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 время Отечественной войны главным предметом забот Аракчеева было образование резервов и снабжение армии продовольствием, а после установления мира доверие императора к Аракчееву возросло до того, что на него было возложено исполнение высочайших предначертаний не только по вопросам военным, но и в делах гражданского управл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аракчеев"/>
          <p:cNvPicPr/>
          <p:nvPr/>
        </p:nvPicPr>
        <p:blipFill>
          <a:blip r:embed="rId1"/>
          <a:stretch/>
        </p:blipFill>
        <p:spPr>
          <a:xfrm>
            <a:off x="4932360" y="1557360"/>
            <a:ext cx="4211640" cy="53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4572000" y="1413000"/>
            <a:ext cx="4178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йствовали в разведке, на пересеченной местности. Использовались для обхода и добивания отступающих войс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нское казачество внесло огромный вклад в разгром наполеоновской армии. Донские полки сражались в составе трех русских армий, участвовали в партизанской войне, на Дону было сформировано народное ополч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2556000" y="476280"/>
            <a:ext cx="3671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Каза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pic>
        <p:nvPicPr>
          <p:cNvPr id="140" name="Picture 14" descr="казаки"/>
          <p:cNvPicPr/>
          <p:nvPr/>
        </p:nvPicPr>
        <p:blipFill>
          <a:blip r:embed="rId1"/>
          <a:stretch/>
        </p:blipFill>
        <p:spPr>
          <a:xfrm>
            <a:off x="0" y="1628640"/>
            <a:ext cx="435600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80000" y="260280"/>
            <a:ext cx="4906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актические приемы казаков.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34560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 часть казаков располагалась в засаде, а другая их часть, симулируя отступление, завлекала неприятеля в засад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лучив удобный момент, отступавшие казаки, и те, кто находился в засаде, бросались в атаку на преследовавшегося противника, который неожиданно попадал в окруж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Преследование казаками отступающих французов 1827 Дезарно А"/>
          <p:cNvPicPr/>
          <p:nvPr/>
        </p:nvPicPr>
        <p:blipFill>
          <a:blip r:embed="rId1"/>
          <a:stretch/>
        </p:blipFill>
        <p:spPr>
          <a:xfrm>
            <a:off x="3780000" y="1773360"/>
            <a:ext cx="5122800" cy="35938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8"/>
          <p:cNvSpPr/>
          <p:nvPr/>
        </p:nvSpPr>
        <p:spPr>
          <a:xfrm>
            <a:off x="4788000" y="551664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еследование казаками отступающих французов. 1827 Дезарно А.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Матвей Александрович Дмитриев-Мамонов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(1790-1863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6000" y="184464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12 г. вступил в Московское ополчение и вместе с ним участвовал в Бородинском, Тарутинском и Малоярославецком сражения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оме того «явил патриотический подвиг вызовом сформировать на своем иждивении для защиты Отечества конный полк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7" descr="дмитриев-мамнов"/>
          <p:cNvPicPr/>
          <p:nvPr/>
        </p:nvPicPr>
        <p:blipFill>
          <a:blip r:embed="rId1"/>
          <a:stretch/>
        </p:blipFill>
        <p:spPr>
          <a:xfrm>
            <a:off x="0" y="1844640"/>
            <a:ext cx="434484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асилий Васильевич Орлов-Денисов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(1775-1843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андовал гвардейскими казаками. Казаки этого полка первыми встретили французов у Немана под Ковно (Каунас) и последними покидали Вильно (Вильнюс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9" descr="орлов-денисов"/>
          <p:cNvPicPr/>
          <p:nvPr/>
        </p:nvPicPr>
        <p:blipFill>
          <a:blip r:embed="rId1"/>
          <a:stretch/>
        </p:blipFill>
        <p:spPr>
          <a:xfrm>
            <a:off x="4932360" y="1484280"/>
            <a:ext cx="4211640" cy="53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Михаил Иванович Платов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(1751-1818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ачале войны обеспечивал защиту армии Багратиона. Казачий полк Платова был одним из восьми полков, выбранных Кутузовым для генерального сражения около деревни Утиц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7" descr="платов"/>
          <p:cNvPicPr/>
          <p:nvPr/>
        </p:nvPicPr>
        <p:blipFill>
          <a:blip r:embed="rId1"/>
          <a:stretch/>
        </p:blipFill>
        <p:spPr>
          <a:xfrm>
            <a:off x="4740120" y="1628640"/>
            <a:ext cx="440388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2" descr="ополчение Рисунок"/>
          <p:cNvPicPr/>
          <p:nvPr/>
        </p:nvPicPr>
        <p:blipFill>
          <a:blip r:embed="rId1"/>
          <a:stretch/>
        </p:blipFill>
        <p:spPr>
          <a:xfrm>
            <a:off x="395280" y="3716280"/>
            <a:ext cx="2160720" cy="2808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2556000" y="981000"/>
            <a:ext cx="61992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ая численность русской армии определяется в 112—120 тысяч человек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771640" y="3789000"/>
            <a:ext cx="3097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чем французская армия имела превосходство, так как её пехота состояла в основном из опытных солдат, тогда как у русских было много новобранцев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14" descr="Ополчение офицеры"/>
          <p:cNvPicPr/>
          <p:nvPr/>
        </p:nvPicPr>
        <p:blipFill>
          <a:blip r:embed="rId2"/>
          <a:stretch/>
        </p:blipFill>
        <p:spPr>
          <a:xfrm>
            <a:off x="468360" y="836640"/>
            <a:ext cx="2016000" cy="2676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ополчение партизаны"/>
          <p:cNvPicPr/>
          <p:nvPr/>
        </p:nvPicPr>
        <p:blipFill>
          <a:blip r:embed="rId3"/>
          <a:stretch/>
        </p:blipFill>
        <p:spPr>
          <a:xfrm>
            <a:off x="6588000" y="3716280"/>
            <a:ext cx="2197080" cy="2879640"/>
          </a:xfrm>
          <a:prstGeom prst="rect">
            <a:avLst/>
          </a:prstGeom>
          <a:ln w="0">
            <a:noFill/>
          </a:ln>
        </p:spPr>
      </p:pic>
      <p:sp>
        <p:nvSpPr>
          <p:cNvPr id="159" name="WordArt 17"/>
          <p:cNvSpPr txBox="1"/>
          <p:nvPr/>
        </p:nvSpPr>
        <p:spPr>
          <a:xfrm>
            <a:off x="3132000" y="260280"/>
            <a:ext cx="540072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Солда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3628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27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октября Давыдов, Сеславин и Фигнер атаковали у деревни Ляхово двухтысячную бригаду генерала Ожеро. Французы дрались отчаянно. Около сотни пехотинцев засели в сараях на окраине и плотным оружейным огнем прижали улан к земле. По стрелкам открыли артиллерийский огонь прямой наводкой. Ляхово запылало. Фигнер сел на коня и поехал к Ожеро парламентером. Генерал вздохнул, глядя на густые партизанские цепи на подступах к деревне, и решил сдаться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Picture 3" descr="фигнер"/>
          <p:cNvPicPr/>
          <p:nvPr/>
        </p:nvPicPr>
        <p:blipFill>
          <a:blip r:embed="rId1"/>
          <a:stretch/>
        </p:blipFill>
        <p:spPr>
          <a:xfrm>
            <a:off x="1042920" y="2565360"/>
            <a:ext cx="1660680" cy="20764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539640" y="4846680"/>
            <a:ext cx="230364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игнер А.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787-181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лковник русской армии, отличившийся в войне 1812 года, создатель партизанского (диверсионного) отря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давыдов"/>
          <p:cNvPicPr/>
          <p:nvPr/>
        </p:nvPicPr>
        <p:blipFill>
          <a:blip r:embed="rId2"/>
          <a:stretch/>
        </p:blipFill>
        <p:spPr>
          <a:xfrm>
            <a:off x="3492360" y="2492280"/>
            <a:ext cx="1617840" cy="2232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3348000" y="4869000"/>
            <a:ext cx="1944720" cy="19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выдов Д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784-1839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енерал-лейтенант, идеолог и предводитель партизанского движени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7" descr="сеславин"/>
          <p:cNvPicPr/>
          <p:nvPr/>
        </p:nvPicPr>
        <p:blipFill>
          <a:blip r:embed="rId3"/>
          <a:stretch/>
        </p:blipFill>
        <p:spPr>
          <a:xfrm>
            <a:off x="6084720" y="2492280"/>
            <a:ext cx="1689120" cy="2160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5796000" y="4869000"/>
            <a:ext cx="2521080" cy="19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славин Н.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780-1858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енерал-майор, прославившийся своими партизанскими действиями во время войн 1812—1814 годов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начала вторжения французской армии на территорию Российской армии в  июне 1812 года, русские войска постоянно отступа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лавнокомандующим в этот период был генерал Барклай-де-Тол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9" descr="1267886714_rubo_borodino_2"/>
          <p:cNvPicPr/>
          <p:nvPr/>
        </p:nvPicPr>
        <p:blipFill>
          <a:blip r:embed="rId1"/>
          <a:stretch/>
        </p:blipFill>
        <p:spPr>
          <a:xfrm>
            <a:off x="0" y="0"/>
            <a:ext cx="4538520" cy="4653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0_32c98_21a22877_L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6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еликий подвиг ваш история хранит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280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ажи-ка, дядя, ведь не дар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сква, спаленная пожар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ранцузу отдан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дь были ж схватки боевы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, говорят, еще каки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даром помнит вся Росс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 день Бородина!</a:t>
            </a:r>
            <a:br>
              <a:rPr sz="1800"/>
            </a:br>
            <a:br>
              <a:rPr sz="11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2771640" y="1413000"/>
            <a:ext cx="209412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19" descr="1"/>
          <p:cNvPicPr/>
          <p:nvPr/>
        </p:nvPicPr>
        <p:blipFill>
          <a:blip r:embed="rId1"/>
          <a:stretch/>
        </p:blipFill>
        <p:spPr>
          <a:xfrm>
            <a:off x="3132000" y="1413000"/>
            <a:ext cx="1822680" cy="1871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0" descr="2"/>
          <p:cNvPicPr/>
          <p:nvPr/>
        </p:nvPicPr>
        <p:blipFill>
          <a:blip r:embed="rId2"/>
          <a:stretch/>
        </p:blipFill>
        <p:spPr>
          <a:xfrm>
            <a:off x="4932360" y="1413000"/>
            <a:ext cx="1368360" cy="187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1" descr="3"/>
          <p:cNvPicPr/>
          <p:nvPr/>
        </p:nvPicPr>
        <p:blipFill>
          <a:blip r:embed="rId3"/>
          <a:stretch/>
        </p:blipFill>
        <p:spPr>
          <a:xfrm>
            <a:off x="6300720" y="1413000"/>
            <a:ext cx="2843280" cy="1871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2" descr="4"/>
          <p:cNvPicPr/>
          <p:nvPr/>
        </p:nvPicPr>
        <p:blipFill>
          <a:blip r:embed="rId4"/>
          <a:stretch/>
        </p:blipFill>
        <p:spPr>
          <a:xfrm>
            <a:off x="3132000" y="3284640"/>
            <a:ext cx="2664000" cy="2160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3" descr="7"/>
          <p:cNvPicPr/>
          <p:nvPr/>
        </p:nvPicPr>
        <p:blipFill>
          <a:blip r:embed="rId5"/>
          <a:stretch/>
        </p:blipFill>
        <p:spPr>
          <a:xfrm>
            <a:off x="5398920" y="2492280"/>
            <a:ext cx="3745080" cy="2521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4" descr="353"/>
          <p:cNvPicPr/>
          <p:nvPr/>
        </p:nvPicPr>
        <p:blipFill>
          <a:blip r:embed="rId6"/>
          <a:stretch/>
        </p:blipFill>
        <p:spPr>
          <a:xfrm>
            <a:off x="5148360" y="4299120"/>
            <a:ext cx="3995640" cy="2558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5" descr="i"/>
          <p:cNvPicPr/>
          <p:nvPr/>
        </p:nvPicPr>
        <p:blipFill>
          <a:blip r:embed="rId7"/>
          <a:stretch/>
        </p:blipFill>
        <p:spPr>
          <a:xfrm>
            <a:off x="3132000" y="4005360"/>
            <a:ext cx="201636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Михаил Богданович 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Барклай-де-Толли (1761 - 1818)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176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енерал-фельдмарша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го имя сделалось символ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ступления русской армии и упреки в его адрес доходили д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винений в государствен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мен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 даже искал смерти на поле битв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за Бородино он получил орден святого Георгия 2-й степени, доказав свою правоту и преданность Роди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боевой обстановке его отличало необычное хладнокровие, которое даже стало солдатской поговоркой: "Погляди на Барклая, и страх не берет"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0" descr="барклай"/>
          <p:cNvPicPr/>
          <p:nvPr/>
        </p:nvPicPr>
        <p:blipFill>
          <a:blip r:embed="rId1"/>
          <a:stretch/>
        </p:blipFill>
        <p:spPr>
          <a:xfrm>
            <a:off x="4427640" y="1484280"/>
            <a:ext cx="4716360" cy="53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5199120"/>
            <a:ext cx="822960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ператор Александр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местил Барклая и назначи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авнокомандующим генерала от инфантерии Кутузо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орый продолжил отступать, чтобы выиграть врем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сбора всех си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7" descr="1315293983_brdn014"/>
          <p:cNvPicPr/>
          <p:nvPr/>
        </p:nvPicPr>
        <p:blipFill>
          <a:blip r:embed="rId1"/>
          <a:stretch/>
        </p:blipFill>
        <p:spPr>
          <a:xfrm>
            <a:off x="0" y="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Михаил Илларионович Кутузов (1745-1813)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енерал-фельдмарша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беда в Отечественной войне 1812 г., сокрушение армии Наполеона и ее изгнание из России навсегд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ессмертили имя Кутузова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2" descr="Kutuzov1"/>
          <p:cNvPicPr/>
          <p:nvPr/>
        </p:nvPicPr>
        <p:blipFill>
          <a:blip r:embed="rId2"/>
          <a:stretch/>
        </p:blipFill>
        <p:spPr>
          <a:xfrm>
            <a:off x="0" y="1341360"/>
            <a:ext cx="464328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лександр Петрович Тормасов (1752-1819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038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раф, генерал от кавалер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25 марта 1812 г. назначен главнокомандующим 3-й Западной армии, формировавшейся для прикрытия от наполеоновских войск южного направления. Под его руководством была одержана первая победа русских войск в этой кампании – окружение и пленение саксонской бригады (3000 человек) генерала Клегеля в Кобрине, за что  получил орден Св.Георгия 2-го класс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тем он командовал армией в сражении у Городечно с корпусами Репье и Шварценберга. В сентябре 1812 г. принял начальство после смерти генерала П.И.Багратион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8" descr="тормасов"/>
          <p:cNvPicPr/>
          <p:nvPr/>
        </p:nvPicPr>
        <p:blipFill>
          <a:blip r:embed="rId1"/>
          <a:stretch/>
        </p:blipFill>
        <p:spPr>
          <a:xfrm>
            <a:off x="4788000" y="1484280"/>
            <a:ext cx="402408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мысел Кутузо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тузов противопоставил Наполеону другую стратегию, сочетавшую в себе целую систему отдельных сражений, растянутых в глубину, маневров, активную оборону с последующим переходом в контрнаступление. Отводя армию вглубь страны, Кутузов уже тем самым как бы подготавливал необходимые условия для последующего перехода к активным наступательным действия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схема сражения"/>
          <p:cNvPicPr/>
          <p:nvPr/>
        </p:nvPicPr>
        <p:blipFill>
          <a:blip r:embed="rId1"/>
          <a:stretch/>
        </p:blipFill>
        <p:spPr>
          <a:xfrm>
            <a:off x="0" y="1341360"/>
            <a:ext cx="493236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Picture 6" descr="2010-01-30_21-30-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1187280" y="260280"/>
            <a:ext cx="67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6 августа (7 сентября) 1812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 села Бородино, в 125 км на запад от Москвы состоялось крупнейшее сражение Отечественной войны 1812 года между русской армией под командованием генерала М.И. Кутузова и французской армией Наполео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онапарта -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ОРОДИНСКОЕ СРАЖ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Organization Chart 10"/>
          <p:cNvGrpSpPr/>
          <p:nvPr/>
        </p:nvGrpSpPr>
        <p:grpSpPr>
          <a:xfrm>
            <a:off x="250920" y="620640"/>
            <a:ext cx="8641440" cy="5960880"/>
            <a:chOff x="250920" y="620640"/>
            <a:chExt cx="8641440" cy="5960880"/>
          </a:xfrm>
        </p:grpSpPr>
        <p:cxnSp>
          <p:nvCxnSpPr>
            <p:cNvPr id="121" name="_s1028"/>
            <p:cNvCxnSpPr>
              <a:stCxn id="122" idx="0"/>
              <a:endCxn id="123" idx="3"/>
            </p:cNvCxnSpPr>
            <p:nvPr/>
          </p:nvCxnSpPr>
          <p:spPr>
            <a:xfrm flipV="1" rot="16200000">
              <a:off x="5487840" y="1980000"/>
              <a:ext cx="1192320" cy="3240720"/>
            </a:xfrm>
            <a:prstGeom prst="bentConnector3">
              <a:avLst>
                <a:gd name="adj1" fmla="val 11356"/>
              </a:avLst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24" name="_s1029"/>
            <p:cNvCxnSpPr>
              <a:stCxn id="125" idx="0"/>
              <a:endCxn id="123" idx="3"/>
            </p:cNvCxnSpPr>
            <p:nvPr/>
          </p:nvCxnSpPr>
          <p:spPr>
            <a:xfrm flipV="1" rot="16200000">
              <a:off x="3975480" y="3492360"/>
              <a:ext cx="1192320" cy="216360"/>
            </a:xfrm>
            <a:prstGeom prst="bentConnector3">
              <a:avLst>
                <a:gd name="adj1" fmla="val 11356"/>
              </a:avLst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26" name="_s1030"/>
            <p:cNvCxnSpPr>
              <a:stCxn id="127" idx="0"/>
              <a:endCxn id="123" idx="3"/>
            </p:cNvCxnSpPr>
            <p:nvPr/>
          </p:nvCxnSpPr>
          <p:spPr>
            <a:xfrm flipH="1" flipV="1" rot="5400000">
              <a:off x="2463480" y="2196000"/>
              <a:ext cx="1192320" cy="2809440"/>
            </a:xfrm>
            <a:prstGeom prst="bentConnector3">
              <a:avLst>
                <a:gd name="adj1" fmla="val 11356"/>
              </a:avLst>
            </a:prstGeom>
            <a:ln w="28440">
              <a:solidFill>
                <a:srgbClr val="8c0000"/>
              </a:solidFill>
              <a:miter/>
            </a:ln>
          </p:spPr>
        </p:cxnSp>
        <p:sp>
          <p:nvSpPr>
            <p:cNvPr id="123" name="_s1031"/>
            <p:cNvSpPr/>
            <p:nvPr/>
          </p:nvSpPr>
          <p:spPr>
            <a:xfrm>
              <a:off x="3275280" y="620640"/>
              <a:ext cx="2592360" cy="2384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330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ahoma"/>
                </a:rPr>
                <a:t>Русская армия</a:t>
              </a: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_s1032"/>
            <p:cNvSpPr/>
            <p:nvPr/>
          </p:nvSpPr>
          <p:spPr>
            <a:xfrm>
              <a:off x="250920" y="4197240"/>
              <a:ext cx="2592360" cy="2384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e796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Генералы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275280" y="4197240"/>
              <a:ext cx="2592360" cy="2384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e796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ahoma"/>
                </a:rPr>
                <a:t>Казаки </a:t>
              </a: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6300000" y="4197240"/>
              <a:ext cx="2592360" cy="2384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e796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ahoma"/>
                </a:rPr>
                <a:t>Солдаты</a:t>
              </a: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ahoma"/>
                </a:rPr>
                <a:t>(ополчение)</a:t>
              </a: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0:53:35Z</dcterms:created>
  <dc:creator>K2</dc:creator>
  <dc:description/>
  <dc:language>en-US</dc:language>
  <cp:lastModifiedBy>User</cp:lastModifiedBy>
  <dcterms:modified xsi:type="dcterms:W3CDTF">2019-05-11T16:59:25Z</dcterms:modified>
  <cp:revision>34</cp:revision>
  <dc:subject/>
  <dc:title>Русская армия </dc:title>
</cp:coreProperties>
</file>