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BD8-AA2E-47A7-A9C9-ACFA65EFC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0F4-09A3-4713-9C9A-82E98318D4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6FC-2E59-4A92-B712-5AA4A2B95D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D55-1EC8-4CF5-B56E-7D56020F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65F-388B-462D-A811-7B63E11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061-26E6-4EF9-BDDE-A0A63602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A87-0054-43E4-B532-623AB754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8C6-B7D7-4418-A77C-2CAF96C3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941-AEAB-40D0-BF00-B316131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95B5-3319-4428-B55F-155D9E6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F87-26F1-4F7D-9D74-6B95FB4A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174D-AA89-412C-8053-F883CAE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67E-D547-4C6D-88F2-E1BEE4B6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3E6-ADB3-4AC3-9BDE-1DAAA84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31B-48F7-4686-BBD6-A70A0873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FA9-E867-4703-9A75-BBAAF30F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DCD1-565C-41C2-98E5-074A4586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6596-0673-4513-8171-756CA633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7ACA-8C30-46A4-819B-CD2B4BE2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865C-19B3-49B0-A001-3EED04AB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D23-6892-42AE-AACC-DB669F34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599-47D2-48AB-BED8-D1DB68C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744C-4E63-4B52-9955-6484740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57A-73DC-4DC3-93F3-6E50B187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C41-8691-4E44-A211-7B1025D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A42-1563-4D95-808B-562A9052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EFA-197C-43C1-B2DA-85D506F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861-EC53-4DC4-816B-8F98341DFE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310C-7725-4814-A079-CDD1BEDB42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mol1812.a-mv.ru/images/remote/http--www.hrono.info-img-19vek-kutuz_dou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6"/>
          <p:cNvSpPr txBox="1"/>
          <p:nvPr/>
        </p:nvSpPr>
        <p:spPr>
          <a:xfrm>
            <a:off x="1187280" y="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РОИ БОРОДИНСКОЙ БИТ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0" y="5786280"/>
            <a:ext cx="6481800" cy="8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полнил: ученик 5  класса «А» Голубев Ром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АОУ № 13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читель : Казакова Марина Анатольевн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2143080" y="5286240"/>
            <a:ext cx="5753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1187280" y="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РОИ БОРОДИНСКОЙ БИТ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23" descr="borodino-54"/>
          <p:cNvPicPr/>
          <p:nvPr/>
        </p:nvPicPr>
        <p:blipFill>
          <a:blip r:embed="rId1"/>
          <a:stretch/>
        </p:blipFill>
        <p:spPr>
          <a:xfrm>
            <a:off x="1428840" y="1143000"/>
            <a:ext cx="65530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2920" y="23623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енер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мандовал 7-м пехотным корпусом, который входил в состав 2-й Западной арм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Бородинском сражении корпус Раевского защищал Курганную высоту, которая располагалась в центре русской позиции. Перед битвой на ней были сооружены земляные укрепления и расположены 18 орудий. В историю эта высота вошла как «батарея Раевского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Этот русский генерал сделан из материала, из которого делаются маршалы», – сказал о нём Наполе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771640" y="189000"/>
            <a:ext cx="3384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Генера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0" name="Picture 9" descr="раевский"/>
          <p:cNvPicPr/>
          <p:nvPr/>
        </p:nvPicPr>
        <p:blipFill>
          <a:blip r:embed="rId1"/>
          <a:stretch/>
        </p:blipFill>
        <p:spPr>
          <a:xfrm>
            <a:off x="0" y="1700280"/>
            <a:ext cx="4505400" cy="5157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900000" y="765000"/>
            <a:ext cx="8064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иколай Николаевич РАЕВ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1771-1829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етр Иванович Багратио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65-181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язь, генерал от инфате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арте 1812 г. назначен главнокомандующим 2-й Западной армии, в начале войны отважно оборонялся от превосходящих сил Жерома Бонапарта и Даву. Войска Багратиона оказали стойкое сопротивление французам под Салтановкой, затем оторвались от преследования и соединились с1-й армией в Смоленс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Бородинской битве Багратион возглавил оборону на левом фланге и был тяжело ранен осколком гранаты в бедро. От этой раны он скончал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багратион"/>
          <p:cNvPicPr/>
          <p:nvPr/>
        </p:nvPicPr>
        <p:blipFill>
          <a:blip r:embed="rId1"/>
          <a:stretch/>
        </p:blipFill>
        <p:spPr>
          <a:xfrm>
            <a:off x="0" y="1628640"/>
            <a:ext cx="44496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ексей Андреевич Аракчеев (1769-1834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ф, генерал от артиллер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 время Отечественной войны главным предметом забот Аракчеева было образование резервов и снабжение армии продовольствием, а после установления мира доверие императора к Аракчееву возросло до того, что на него было возложено исполнение высочайших предначертаний не только по вопросам военным, но и в делах гражданского управл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аракчеев"/>
          <p:cNvPicPr/>
          <p:nvPr/>
        </p:nvPicPr>
        <p:blipFill>
          <a:blip r:embed="rId1"/>
          <a:stretch/>
        </p:blipFill>
        <p:spPr>
          <a:xfrm>
            <a:off x="4932360" y="1557360"/>
            <a:ext cx="4211640" cy="53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4572000" y="1413000"/>
            <a:ext cx="417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йствовали в разведке, на пересеченной местности. Использовались для обхода и добивания отступающих вой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нское казачество внесло огромный вклад в разгром наполеоновской армии. Донские полки сражались в составе трех русских армий, участвовали в партизанской войне, на Дону было сформировано народное ополч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2556000" y="476280"/>
            <a:ext cx="367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Каза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40" name="Picture 14" descr="казаки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80000" y="260280"/>
            <a:ext cx="4906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актические приемы казаков.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34560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часть казаков располагалась в засаде, а другая их часть, симулируя отступление, завлекала неприятеля в заса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учив удобный момент, отступавшие казаки, и те, кто находился в засаде, бросались в атаку на преследовавшегося противника, который неожиданно попадал в окру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Преследование казаками отступающих французов 1827 Дезарно А"/>
          <p:cNvPicPr/>
          <p:nvPr/>
        </p:nvPicPr>
        <p:blipFill>
          <a:blip r:embed="rId1"/>
          <a:stretch/>
        </p:blipFill>
        <p:spPr>
          <a:xfrm>
            <a:off x="3780000" y="1773360"/>
            <a:ext cx="5122800" cy="3593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4788000" y="551664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следование казаками отступающих французов. 1827 Дезарно А.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атвей Александрович Дмитриев-Мамон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90-186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812 г. вступил в Московское ополчение и вместе с ним участвовал в Бородинском, Тарутинском и Малоярославецком сражения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того «явил патриотический подвиг вызовом сформировать на своем иждивении для защиты Отечества конный полк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дмитриев-мамнов"/>
          <p:cNvPicPr/>
          <p:nvPr/>
        </p:nvPicPr>
        <p:blipFill>
          <a:blip r:embed="rId1"/>
          <a:stretch/>
        </p:blipFill>
        <p:spPr>
          <a:xfrm>
            <a:off x="0" y="1844640"/>
            <a:ext cx="43448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силий Васильевич Орлов-Денисов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75-1843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андовал гвардейскими казаками. Казаки этого полка первыми встретили французов у Немана под Ковно (Каунас) и последними покидали Вильно (Вильнюс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9" descr="орлов-денисов"/>
          <p:cNvPicPr/>
          <p:nvPr/>
        </p:nvPicPr>
        <p:blipFill>
          <a:blip r:embed="rId1"/>
          <a:stretch/>
        </p:blipFill>
        <p:spPr>
          <a:xfrm>
            <a:off x="4932360" y="1484280"/>
            <a:ext cx="421164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ихаил Иванович Платов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1751-1818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чале войны обеспечивал защиту армии Багратиона. Казачий полк Платова был одним из восьми полков, выбранных Кутузовым для генерального сражения около деревни Утиц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платов"/>
          <p:cNvPicPr/>
          <p:nvPr/>
        </p:nvPicPr>
        <p:blipFill>
          <a:blip r:embed="rId1"/>
          <a:stretch/>
        </p:blipFill>
        <p:spPr>
          <a:xfrm>
            <a:off x="4740120" y="1628640"/>
            <a:ext cx="440388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2" descr="ополчение Рисунок"/>
          <p:cNvPicPr/>
          <p:nvPr/>
        </p:nvPicPr>
        <p:blipFill>
          <a:blip r:embed="rId1"/>
          <a:stretch/>
        </p:blipFill>
        <p:spPr>
          <a:xfrm>
            <a:off x="395280" y="3716280"/>
            <a:ext cx="2160720" cy="2808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556000" y="981000"/>
            <a:ext cx="61992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щая численность русской армии определяется в 112—120 тысяч человек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771640" y="3789000"/>
            <a:ext cx="3097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ем французская армия имела превосходство, так как её пехота состояла в основном из опытных солдат, тогда как у русских было много новобранцев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14" descr="Ополчение офицеры"/>
          <p:cNvPicPr/>
          <p:nvPr/>
        </p:nvPicPr>
        <p:blipFill>
          <a:blip r:embed="rId2"/>
          <a:stretch/>
        </p:blipFill>
        <p:spPr>
          <a:xfrm>
            <a:off x="468360" y="836640"/>
            <a:ext cx="2016000" cy="267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ополчение партизаны"/>
          <p:cNvPicPr/>
          <p:nvPr/>
        </p:nvPicPr>
        <p:blipFill>
          <a:blip r:embed="rId3"/>
          <a:stretch/>
        </p:blipFill>
        <p:spPr>
          <a:xfrm>
            <a:off x="6588000" y="3716280"/>
            <a:ext cx="2197080" cy="287964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7"/>
          <p:cNvSpPr txBox="1"/>
          <p:nvPr/>
        </p:nvSpPr>
        <p:spPr>
          <a:xfrm>
            <a:off x="3132000" y="260280"/>
            <a:ext cx="540072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Солд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27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ктября Давыдов, Сеславин и Фигнер атаковали у деревни Ляхово двухтысячную бригаду генерала Ожеро. Французы дрались отчаянно. Около сотни пехотинцев засели в сараях на окраине и плотным оружейным огнем прижали улан к земле. По стрелкам открыли артиллерийский огонь прямой наводкой. Ляхово запылало. Фигнер сел на коня и поехал к Ожеро парламентером. Генерал вздохнул, глядя на густые партизанские цепи на подступах к деревне, и решил сдаться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3" descr="фигнер"/>
          <p:cNvPicPr/>
          <p:nvPr/>
        </p:nvPicPr>
        <p:blipFill>
          <a:blip r:embed="rId1"/>
          <a:stretch/>
        </p:blipFill>
        <p:spPr>
          <a:xfrm>
            <a:off x="1042920" y="2565360"/>
            <a:ext cx="1660680" cy="2076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539640" y="4846680"/>
            <a:ext cx="230364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гнер А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7-18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лковник русской армии, отличившийся в войне 1812 года, создатель партизанского (диверсионного) отря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давыдов"/>
          <p:cNvPicPr/>
          <p:nvPr/>
        </p:nvPicPr>
        <p:blipFill>
          <a:blip r:embed="rId2"/>
          <a:stretch/>
        </p:blipFill>
        <p:spPr>
          <a:xfrm>
            <a:off x="3492360" y="2492280"/>
            <a:ext cx="1617840" cy="2232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3348000" y="4869000"/>
            <a:ext cx="194472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выдов Д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4-1839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нерал-лейтенант, идеолог и предводитель партизанского движ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7" descr="сеславин"/>
          <p:cNvPicPr/>
          <p:nvPr/>
        </p:nvPicPr>
        <p:blipFill>
          <a:blip r:embed="rId3"/>
          <a:stretch/>
        </p:blipFill>
        <p:spPr>
          <a:xfrm>
            <a:off x="6084720" y="2492280"/>
            <a:ext cx="1689120" cy="21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5796000" y="4869000"/>
            <a:ext cx="252108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еславин Н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780-1858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нерал-майор, прославившийся своими партизанскими действиями во время войн 1812—1814 годов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 начала вторжения французской армии на территорию Российской армии в  июне 1812 года, русские войска постоянно отступа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внокомандующим в этот период был генерал Барклай-де-Тол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1267886714_rubo_borodino_2"/>
          <p:cNvPicPr/>
          <p:nvPr/>
        </p:nvPicPr>
        <p:blipFill>
          <a:blip r:embed="rId1"/>
          <a:stretch/>
        </p:blipFill>
        <p:spPr>
          <a:xfrm>
            <a:off x="0" y="0"/>
            <a:ext cx="4538520" cy="465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0_32c98_21a22877_L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еликий подвиг ваш история хранит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8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кажи-ка, дядя, ведь не да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сква, спаленная пожар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нцузу отд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ь были ж схватки боевы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, говорят, еще каки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даром помнит вся Рос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 день Бородина!</a:t>
            </a:r>
            <a:br>
              <a:rPr sz="1800"/>
            </a:br>
            <a:br>
              <a:rPr sz="11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2771640" y="1413000"/>
            <a:ext cx="20941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19" descr="1"/>
          <p:cNvPicPr/>
          <p:nvPr/>
        </p:nvPicPr>
        <p:blipFill>
          <a:blip r:embed="rId1"/>
          <a:stretch/>
        </p:blipFill>
        <p:spPr>
          <a:xfrm>
            <a:off x="3132000" y="1413000"/>
            <a:ext cx="1822680" cy="1871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2"/>
          <p:cNvPicPr/>
          <p:nvPr/>
        </p:nvPicPr>
        <p:blipFill>
          <a:blip r:embed="rId2"/>
          <a:stretch/>
        </p:blipFill>
        <p:spPr>
          <a:xfrm>
            <a:off x="4932360" y="1413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3"/>
          <p:cNvPicPr/>
          <p:nvPr/>
        </p:nvPicPr>
        <p:blipFill>
          <a:blip r:embed="rId3"/>
          <a:stretch/>
        </p:blipFill>
        <p:spPr>
          <a:xfrm>
            <a:off x="6300720" y="1413000"/>
            <a:ext cx="2843280" cy="187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4"/>
          <p:cNvPicPr/>
          <p:nvPr/>
        </p:nvPicPr>
        <p:blipFill>
          <a:blip r:embed="rId4"/>
          <a:stretch/>
        </p:blipFill>
        <p:spPr>
          <a:xfrm>
            <a:off x="3132000" y="3284640"/>
            <a:ext cx="2664000" cy="216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3" descr="7"/>
          <p:cNvPicPr/>
          <p:nvPr/>
        </p:nvPicPr>
        <p:blipFill>
          <a:blip r:embed="rId5"/>
          <a:stretch/>
        </p:blipFill>
        <p:spPr>
          <a:xfrm>
            <a:off x="5398920" y="2492280"/>
            <a:ext cx="3745080" cy="252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4" descr="353"/>
          <p:cNvPicPr/>
          <p:nvPr/>
        </p:nvPicPr>
        <p:blipFill>
          <a:blip r:embed="rId6"/>
          <a:stretch/>
        </p:blipFill>
        <p:spPr>
          <a:xfrm>
            <a:off x="5148360" y="4299120"/>
            <a:ext cx="3995640" cy="2558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5" descr="i"/>
          <p:cNvPicPr/>
          <p:nvPr/>
        </p:nvPicPr>
        <p:blipFill>
          <a:blip r:embed="rId7"/>
          <a:stretch/>
        </p:blipFill>
        <p:spPr>
          <a:xfrm>
            <a:off x="3132000" y="4005360"/>
            <a:ext cx="201636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ихаил Богданович 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Барклай-де-Толли (1761 - 1818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-фельдмарш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го имя сделалось симво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тупления русской армии и упреки в его адрес доходили д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винений в государстве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даже искал смерти на поле битв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за Бородино он получил орден святого Георгия 2-й степени, доказав свою правоту и преданность Роди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боевой обстановке его отличало необычное хладнокровие, которое даже стало солдатской поговоркой: "Погляди на Барклая, и страх не берет"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0" descr="барклай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519912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ператор Александр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местил Барклая и назнач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авнокомандующим генерала от инфантерии Кутузо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й продолжил отступать, чтобы выиграть врем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бора всех си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7" descr="1315293983_brdn014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Михаил Илларионович Кутузов (1745-1813)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енерал-фельдмарша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беда в Отечественной войне 1812 г., сокрушение армии Наполеона и ее изгнание из России навсег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ессмертили имя Кутузова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2" descr="Kutuzov1"/>
          <p:cNvPicPr/>
          <p:nvPr/>
        </p:nvPicPr>
        <p:blipFill>
          <a:blip r:embed="rId2"/>
          <a:stretch/>
        </p:blipFill>
        <p:spPr>
          <a:xfrm>
            <a:off x="0" y="1341360"/>
            <a:ext cx="464328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лександр Петрович Тормасов (1752-1819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Граф, генерал от кавалер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25 марта 1812 г. назначен главнокомандующим 3-й Западной армии, формировавшейся для прикрытия от наполеоновских войск южного направления. Под его руководством была одержана первая победа русских войск в этой кампании – окружение и пленение саксонской бригады (3000 человек) генерала Клегеля в Кобрине, за что  получил орден Св.Георгия 2-го класс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тем он командовал армией в сражении у Городечно с корпусами Репье и Шварценберга. В сентябре 1812 г. принял начальство после смерти генерала П.И.Багратион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тормасов"/>
          <p:cNvPicPr/>
          <p:nvPr/>
        </p:nvPicPr>
        <p:blipFill>
          <a:blip r:embed="rId1"/>
          <a:stretch/>
        </p:blipFill>
        <p:spPr>
          <a:xfrm>
            <a:off x="4788000" y="1484280"/>
            <a:ext cx="402408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мысел Кутузо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утузов противопоставил Наполеону другую стратегию, сочетавшую в себе целую систему отдельных сражений, растянутых в глубину, маневров, активную оборону с последующим переходом в контрнаступление. Отводя армию вглубь страны, Кутузов уже тем самым как бы подготавливал необходимые условия для последующего перехода к активным наступательным действ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схема сражения"/>
          <p:cNvPicPr/>
          <p:nvPr/>
        </p:nvPicPr>
        <p:blipFill>
          <a:blip r:embed="rId1"/>
          <a:stretch/>
        </p:blipFill>
        <p:spPr>
          <a:xfrm>
            <a:off x="0" y="1341360"/>
            <a:ext cx="4932360" cy="551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6" descr="2010-01-30_21-30-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1187280" y="260280"/>
            <a:ext cx="67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6 августа (7 сентября) 1812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 села Бородино, в 125 км на запад от Москвы состоялось крупнейшее сражение Отечественной войны 1812 года между русской армией под командованием генерала М.И. Кутузова и французской армией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онапарта 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ОРОДИНСКОЕ СРАЖ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Organization Chart 10"/>
          <p:cNvGrpSpPr/>
          <p:nvPr/>
        </p:nvGrpSpPr>
        <p:grpSpPr>
          <a:xfrm>
            <a:off x="250920" y="620640"/>
            <a:ext cx="8641440" cy="5960880"/>
            <a:chOff x="250920" y="620640"/>
            <a:chExt cx="8641440" cy="5960880"/>
          </a:xfrm>
        </p:grpSpPr>
        <p:cxnSp>
          <p:nvCxnSpPr>
            <p:cNvPr id="121" name="_s1028"/>
            <p:cNvCxnSpPr>
              <a:stCxn id="122" idx="0"/>
              <a:endCxn id="123" idx="3"/>
            </p:cNvCxnSpPr>
            <p:nvPr/>
          </p:nvCxnSpPr>
          <p:spPr>
            <a:xfrm flipV="1" rot="16200000">
              <a:off x="5487840" y="1980000"/>
              <a:ext cx="1192320" cy="324072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3"/>
            </p:cNvCxnSpPr>
            <p:nvPr/>
          </p:nvCxnSpPr>
          <p:spPr>
            <a:xfrm flipV="1" rot="16200000">
              <a:off x="3975480" y="3492360"/>
              <a:ext cx="1192320" cy="21636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3"/>
            </p:cNvCxnSpPr>
            <p:nvPr/>
          </p:nvCxnSpPr>
          <p:spPr>
            <a:xfrm flipH="1" flipV="1" rot="5400000">
              <a:off x="2463480" y="2196000"/>
              <a:ext cx="1192320" cy="2809440"/>
            </a:xfrm>
            <a:prstGeom prst="bentConnector3">
              <a:avLst>
                <a:gd name="adj1" fmla="val 11356"/>
              </a:avLst>
            </a:prstGeom>
            <a:ln w="28440">
              <a:solidFill>
                <a:srgbClr val="8c0000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3275280" y="6206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330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Русская армия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25092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Генералы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27528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Казаки 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300000" y="4197240"/>
              <a:ext cx="2592360" cy="23842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e7960">
                    <a:alpha val="40000"/>
                  </a:srgbClr>
                </a:gs>
                <a:gs pos="100000">
                  <a:srgbClr val="720000"/>
                </a:gs>
              </a:gsLst>
              <a:lin ang="5400000"/>
            </a:gradFill>
            <a:ln w="9360">
              <a:solidFill>
                <a:srgbClr val="be79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Солдаты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ahoma"/>
                </a:rPr>
                <a:t>(ополчение)</a:t>
              </a:r>
              <a:endParaRPr b="0" lang="en-US" sz="2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0:53:35Z</dcterms:created>
  <dc:creator>K2</dc:creator>
  <dc:description/>
  <dc:language>en-US</dc:language>
  <cp:lastModifiedBy>User</cp:lastModifiedBy>
  <dcterms:modified xsi:type="dcterms:W3CDTF">2019-05-11T16:59:25Z</dcterms:modified>
  <cp:revision>34</cp:revision>
  <dc:subject/>
  <dc:title>Русская армия </dc:title>
</cp:coreProperties>
</file>