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017A-A38C-4CFC-976C-9D38880347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E86C-EF29-4B32-974B-824D5BB83D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31C-5E1C-43A6-A19B-6E183A67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72B-0FF5-4FA6-9172-FDBADCA0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757-692C-4007-A380-4195B261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A5E3-3F28-4A3F-8F43-73AA5416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CB6E-8CA6-477A-8E7D-1652A8D8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FB5E-96B8-4A7E-AE94-B0BD6865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60A1-9D3E-4624-AC83-B95C717F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E89A-F092-4409-9CD0-2DFC32A2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43AD-4D26-43EA-8E01-11D16746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988E-EBA4-4861-88C1-F9A1D508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DDEB-5138-4F23-A9FF-077FA60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AC9-AD8F-4399-A52E-32C6C22E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B2A1-1932-4AA6-B6F4-A006237F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C947-DF18-4197-85FA-EBDA58B5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12CB-654F-4654-B16B-E397BA1B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B87A-205C-4E1F-85B5-BBDFAC1F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EA35-3855-4A88-B1B8-270BFE3A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858A-38A1-4FEA-BE05-5270D5CD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693A-FC9D-4367-9B31-6F6D0150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D1DB-05A1-42E8-B8D5-498EF502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2FB6-24E6-43A9-A63E-9AA434EE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A6B6-7DB0-4D58-9F52-E2AA3E46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17E-8BA6-4BB9-81A9-C46268D6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B710-6884-42BB-9445-C6582568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6AAF-6DF2-4FA1-B0E8-42253BFE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1F5D6-1598-4272-8343-06E501EA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29FF-7B4A-439C-8B1F-560E5B6D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FB58-311D-4647-8B68-A0817236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95C6-96A9-4DC6-92F1-4B134B1C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B258-6DF9-414F-ABC2-D5E98AEA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8959-98B3-44C6-B01E-041C9247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3420E-2182-448A-BD49-56297AE0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0FF1-D9C7-4D02-93F5-4531A13C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828-8BF8-4EF2-A2CB-1BADDAA5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1B23E-BFD5-43CF-8860-5AD54471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1991E-BD66-45FD-BE74-27DA5B58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E745-FA6B-4281-BC30-47BB7CE1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B5BE-3D37-405B-A369-ADDBA251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35417-3DFF-4315-AFEA-9689B57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BEA3D-228F-488D-B6AE-5E5B56ED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4DD72-99A0-495F-B1E6-E87C1F2D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B8A57-E1AA-4C36-9ECA-65BEEDE05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75A19-A7E2-4FC7-9A20-34751A6A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344CC-8E5E-489B-AC94-FBE08790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350-3F4E-4C90-84B9-64EB3D8D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951C0-F881-49FB-84B7-A73A9270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C03C4-100A-40DE-B1AB-F2752064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C98A9-A4E5-43F0-B6AA-A41332A9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00E72-515B-4A50-A240-47BA7BAC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CC15D-BA0A-46E6-B169-9E3896C1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92D5C-89F8-493A-8725-31403347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087C2-5CD3-44AB-B3BE-2597FE52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54696-5200-4FD9-B793-22DFEFE6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241B-8B12-480A-90B4-C574697A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51C3A-544F-4755-ABDC-8B929B66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970-83AB-4222-A6EA-51EF0037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86466-CDE2-4A39-841D-A5B49D8B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8873A-2A7B-494F-B59A-D55A1A39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FC05D-35EF-4544-A945-CCC432D0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F1F48-9EF2-4E1B-9186-F8F726C9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BD2D8-9D99-43A8-AC20-378940F9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999D0-D684-4E9E-95DC-BB912865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39AED-C79A-4D6B-9914-0B21938E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E3A9D-A2DB-404C-8181-B150A75A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75AC5-D03E-44FD-89D5-6197DFFD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3CC0-541F-4180-B1A9-DDA14FE7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0C7-F680-4608-A53B-CDEE4416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FC511-05EF-42A4-9B4B-183B6FD5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09BA7-B8FA-4D2A-A08F-6723F01D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944A-46E6-4C2C-9DCD-926FA93D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A16AA-6ABB-412B-9E97-B81A44E9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DBDA2-6A15-4358-AC0B-2A76D777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E92DA-E9AF-4163-B368-6B528535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BEEBA-31E2-4C36-959F-1A9F1220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DA09E-5569-474F-B480-F4763E5D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6AF1A-636A-41DD-BACC-8D30BD65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A1745-33B1-4CF7-A222-7A3472C7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B36-3C25-4F99-A02D-A93121C0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55170-1730-4FAC-A8BC-BB7E0FAA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B9A24-42CC-4446-8885-278A6575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A22BE-D0B7-495C-AC1F-1437DCDC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3BC88-00E6-4FF2-BE20-9E6908DA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082B6-CEAB-465E-92A4-660B0754E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8C0F4-99B0-422E-A25E-01E4E811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A2516-3992-49B0-99DA-76FC43AE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021D8-340B-40D3-87DB-AF480A8F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E1F94-ED32-41BE-B89F-EA4778E7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2F2F7-B8C7-4EDF-977D-FAC8FCD1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392-FB31-4E62-85B7-20A70256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F868B-C94A-4AC3-A2EF-4F61C5B3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53180-9D38-44B1-9CC6-02E0F34D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082C3-FEBF-4B76-A0C4-0A58E38A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3EC1E-6A69-4F77-B604-5400974A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6DE99-EC53-40FD-AEEB-91E89B43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F1C89-4033-4386-8830-A4BB3A27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829A0-1821-4FE2-BB17-F76FF295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456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4560" y="18284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6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F3B1-AF3A-4F0B-BD80-89496B4EF441}" type="slidenum">
              <a:rPr b="0" lang="ru-RU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1FC1-C8B2-446C-8214-260F4821587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DE6-1637-4002-A124-52E95B5B2602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94FF-EC74-45BA-914B-E3C41161447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9495-96DF-48CF-90F9-B3B27017B64A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63705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8A7E-687D-4E24-8FB8-A82FB6E823B4}" type="slidenum">
              <a:rPr b="0" lang="ru-RU" sz="1000" spc="-1" strike="noStrike">
                <a:solidFill>
                  <a:srgbClr val="63705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8A64-4DD3-4FD1-B7C0-DE9672E25A2C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9550-6DCC-41F4-8D57-F3B92C9DE597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58960" y="2932200"/>
            <a:ext cx="91440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еоргиевская лента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7751880" y="5344920"/>
            <a:ext cx="4039920" cy="7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УНИЦИПАЛЬНОЕ УЧРЕЖДЕНИЕ ДОПОЛНИТЕЛЬНОГО ОБРАЗОВАНИЯ ДОМ ДЕТСКОГО ТВОРЧЕСТВА</a:t>
            </a: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ЕЗЕНТАЦИЮ ПОДГОТОВИЛА: МЕТОДИСТ ИГНАТЬЕВА ЕЛЕНА АЛЕКСАНДРОВНА</a:t>
            </a: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4" name="Picture 1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1163520" y="857160"/>
            <a:ext cx="9601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6280" y="167904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ЕОРГИЕВСКАЯ ЛЕНТА СЕГОДНЯ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КТ «ГЕОРГИЕВСКАЯ ЛЕНТА» СТАРТОВАЛ В 2005 ГОДУ. ТОГДА ПРАЗДНОВАЛИ ШЕСТИДЕСЯТИЛЕТИЕ ПОБЕДЫ. ЕЖЕГОДНО ОН НАБИРАЛ СВОИ ОБОРОТЫ И УСПЕЛ СТАТЬ ТРАДИЦИЕЙ. АКЦИЯ БЫЛА ПРИЗНАНА ОДНОЙ ИЗ НАИБОЛЕЕ ШИРОКИХ ПО СВОЕМУ МАСШТАБУ В РОССИИ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4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86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himkol.ru/wp-content/uploads/2017/04/eNhrGhWcWmc.jpg"/>
          <p:cNvPicPr/>
          <p:nvPr/>
        </p:nvPicPr>
        <p:blipFill>
          <a:blip r:embed="rId2"/>
          <a:stretch/>
        </p:blipFill>
        <p:spPr>
          <a:xfrm>
            <a:off x="2610000" y="1596960"/>
            <a:ext cx="72482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22400" y="1870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77720" y="2287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ция «Георгиевская ленточка» ежегодно стартует в преддверии Дня Победы и объединяет миллионы людей не только в России, но и за рубежом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7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2680" y="3208320"/>
            <a:ext cx="11601720" cy="382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си Георгиевскую ленту правильно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602240" y="261792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опускается ношение ленточки: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испорченном виде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голове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иже пояса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сумке</a:t>
            </a:r>
            <a:br>
              <a:rPr sz="3200"/>
            </a:b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кузове автомобиля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0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10720" y="4712760"/>
            <a:ext cx="11601720" cy="382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Прямоугольник 2"/>
          <p:cNvSpPr/>
          <p:nvPr/>
        </p:nvSpPr>
        <p:spPr>
          <a:xfrm>
            <a:off x="165240" y="1627200"/>
            <a:ext cx="1186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значает черный и желтый цвет? В России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лись цветами императорскими,  соответствовали черному двуглавому орлу и желтому полю государственного герба. Именно этой, символики, придерживалась императрица 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тверждая цвета л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34720" y="4181040"/>
            <a:ext cx="10186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к же многие исследователи уверены, что такие       цвета были выбраны неслучайно. Огонь на поле сражения связывали с оранжевым цветом, а российскую землю – с черным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4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66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http://www.archive.pskov.ru/sites/default/files/arhupr/test/20022013/17_no_12_imperatrica_ekaterina_2.jpg"/>
          <p:cNvPicPr/>
          <p:nvPr/>
        </p:nvPicPr>
        <p:blipFill>
          <a:blip r:embed="rId2"/>
          <a:stretch/>
        </p:blipFill>
        <p:spPr>
          <a:xfrm>
            <a:off x="257040" y="1751040"/>
            <a:ext cx="3229200" cy="460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http://copycoins.ru/d/IMG__0051.jpg"/>
          <p:cNvPicPr/>
          <p:nvPr/>
        </p:nvPicPr>
        <p:blipFill>
          <a:blip r:embed="rId3"/>
          <a:stretch/>
        </p:blipFill>
        <p:spPr>
          <a:xfrm>
            <a:off x="4605480" y="1801800"/>
            <a:ext cx="7586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5400" y="123516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сле поражений начального периода Великой Отечественной войны руководству СССР были необходимы символы, способные объединить народ и поднять боевой дух бойцов. В Красной армии в то время было мало боевых наград и знаков отличия воинской доблести. Вот здесь и пригодилась Георгиевская лента.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96920" y="445248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637052"/>
              </a:solidFill>
              <a:latin typeface="Calibri Light"/>
            </a:endParaRPr>
          </a:p>
        </p:txBody>
      </p:sp>
      <p:pic>
        <p:nvPicPr>
          <p:cNvPr id="371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73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https://ic.pics.livejournal.com/bambi_simbam/14145325/29737/29737_original.jpg"/>
          <p:cNvPicPr/>
          <p:nvPr/>
        </p:nvPicPr>
        <p:blipFill>
          <a:blip r:embed="rId2"/>
          <a:stretch/>
        </p:blipFill>
        <p:spPr>
          <a:xfrm>
            <a:off x="2941560" y="1771560"/>
            <a:ext cx="63086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00" y="3036960"/>
            <a:ext cx="11601360" cy="382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262080" y="2270160"/>
            <a:ext cx="1186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я традиции русской армии, 8 сентября 1943 года был учрежден орден Славы трех степеней. Его статус, как и желто-черная расцветка ленты, напоминали о Георгиевском кресте. Затем лента, подтверждая традиционные цвета воинской доблести, украсила многие солдатские российские наградные медали и зна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25560" y="-1087920"/>
            <a:ext cx="10058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78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80" name="Picture 2" descr="ÐÐ°ÑÑÐ¸Ð½ÐºÐ¸ Ð¿Ð¾ Ð·Ð°Ð¿ÑÐ¾ÑÑ Ð³ÐµÐ¾Ð³ÑÐ¸ÐµÐ²ÑÐºÐ°Ñ Ð»ÐµÐ½ÑÐ° Ð·ÑÐ¿"/>
          <p:cNvPicPr/>
          <p:nvPr/>
        </p:nvPicPr>
        <p:blipFill>
          <a:blip r:embed="rId1"/>
          <a:stretch/>
        </p:blipFill>
        <p:spPr>
          <a:xfrm>
            <a:off x="2897280" y="-79200"/>
            <a:ext cx="6254640" cy="1676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900igr.net/datai/istorija/Kuznetsov/0033-027-Nagrady-Nikolaja-Kuznetsova.png"/>
          <p:cNvPicPr/>
          <p:nvPr/>
        </p:nvPicPr>
        <p:blipFill>
          <a:blip r:embed="rId2"/>
          <a:stretch/>
        </p:blipFill>
        <p:spPr>
          <a:xfrm>
            <a:off x="3228840" y="1962000"/>
            <a:ext cx="55198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2T19:20:18Z</dcterms:created>
  <dc:creator>Максим Бахтин</dc:creator>
  <dc:description/>
  <dc:language>en-US</dc:language>
  <cp:lastModifiedBy>Елена</cp:lastModifiedBy>
  <dcterms:modified xsi:type="dcterms:W3CDTF">2019-05-10T22:10:45Z</dcterms:modified>
  <cp:revision>26</cp:revision>
  <dc:subject/>
  <dc:title>Георгиевская лента</dc:title>
</cp:coreProperties>
</file>