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move the slid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1DE7B-14DC-4E7F-8D0F-C974136A002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0FF97-C7CF-4D85-9CD5-BF1FF5CA19F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41F9-18B3-45BB-936D-4834521E1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5EBF-D71A-4F18-8FE8-AD2164257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A077-3820-4D7E-AAB9-67B9251E6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9CDB-8D35-4035-BB27-427CD9666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4B3D1-3CCA-42D8-8AE4-BF71193AC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370E4-59BF-4EC3-A5FB-4C0DC80BE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F941A-D34D-475A-9CD1-D761C38B9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DE028-25B0-4D63-98BB-343F4E22B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012EB-C661-408B-AA24-4C9127883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BAA1D-B69A-45A9-932D-A28CD8F08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19807-1849-4C69-BFCC-D6BE98F65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8B9B-7777-4B52-9CF9-5D52DBADC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6FFA1-3B71-48FE-94E7-B3EAE9B77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13775-EEEC-4D15-A25B-5C9ECCF28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23DF0-36AC-45B4-9BA4-EF8D2BE8B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4E170-9C1E-4243-8DD1-C12C8561D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F3695-525C-4E17-BAC2-16937C2B5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D901C-1F0F-456E-B80B-339ECBD3A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043E2-92B4-4CC4-A0D9-31C0A3FA0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3DDC1-0DEA-4AA5-A6F5-EC758CE3C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8E52E-A69E-4708-ABCB-310F1F028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08624-CF74-4AD4-B1EC-8F7C27E9A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55C7-E45E-478C-A4BE-61AE92745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23473-41D8-448C-BA8E-26A8BAFAC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0ED0D-E905-4835-83B3-374D813A3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3917A-25A6-4944-A611-FD070ECC7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8C49B-77E3-4C4C-A2B4-5C6250B5F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A3B79-44FB-446C-A40B-B07F0C272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D2C89-D088-44B4-81C1-F5CF9C544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1F1DC-A77B-46B5-94C9-34E1A8C76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1C646-A150-4604-924D-02383181E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90B63-E450-443F-ABA6-4E55CA82A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C223C-3AF5-45FC-87AC-C6A2BD4A0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CC3C-A889-4A03-9DFD-01714CC3A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48ED1-7F41-47C6-A64E-7BB54E17D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F5E97-27B8-4391-9CD9-CC8ADBABE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5719F-2D26-438E-B108-5257CC039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0180B-F451-4776-9B8C-EE36BD4D0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626DA-FBCD-4447-9CB1-AEC2E6329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E6A65-988A-4ACF-A28D-8F4B177CC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AA1BB-8C81-4188-B413-3ABB64ACF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7F739-CA5B-4731-BA19-41731F208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0EBB3-1663-4962-9213-6A3C7470C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D31A10-87FF-46A8-AF2B-8A3EFC90D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BC04-A5AC-4F79-B3A0-D8DB95FF9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D512C3-A1A5-4C38-AFAD-D52A7E683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063D79-8719-40EC-9866-144254516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58BFD-BF82-41BD-BEEC-6C4F540BD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DBE573-9EF5-4301-BB34-196FBC2F6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36957B-3A14-4001-B521-6A54FCD60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D645F9-F84C-4EF0-87BA-E163786AC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9A3786-332D-4BAF-A1C5-31ADB4274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F78FF3-1C45-4D48-9954-0619F03B7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2B0FF7-0A8B-4C99-9CCC-CD1B319CA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D14F23-ACE4-42AC-B4CA-FAA7407A3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C053-E8C7-49E9-B89A-1AEA260DD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0D1E2C-91B2-492C-BAB3-68B0BECB6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EC9BA3-52D9-42BA-960C-B1581F943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2E4AE9-14F9-492D-B51F-6B98CA468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ADC48E-D115-4384-9E29-C2C9713E1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096A16-AA1D-4BD8-9889-5BDB1A46C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C7EFE8-755C-444B-B1EA-0968B0FD2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527803-E2A8-4C40-8441-88888DBEB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3F6DAA-108B-4EC6-A655-0D102A534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6968D8-9843-4B59-B45F-EB730BD37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D1D809-5AEE-4AE7-BC6E-A8D9BF39E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045F-1B69-4C45-BFCC-EE46E3182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655FE6-1D2F-450C-BCF6-B58E7A35A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6637F3-0BB2-4A66-BD74-AEBE76822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1CAF28-62B9-4309-8977-44CF15F41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0E34F4-2C9E-41D6-AA31-3A220B805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6EC914-AE3B-4BD7-A838-190EC3289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BCAAB6-4573-4169-B0A1-E61638716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E72D9F-E4E7-4523-9540-1B78F1D93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E25404-55A8-477C-A6E9-95DFEA24F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E4E01F-7AFE-4D45-B929-72E72E1BE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8633CC-22DD-4C5A-81E0-14D2331A7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79F3-7AFD-433E-BAC3-1099F66DC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8F5621-5089-42F7-B743-9B95378F8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C1CB03-13D6-43CC-B02B-25A509642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D257B2-535F-4CE8-ADCC-06270372D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022372-343D-4DB4-8D8A-78D9D53DE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641F26-4AE7-43B7-911C-9CAA3F9E7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DB1D04-2F9B-494C-9F1C-2B545F437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CD4034-AC38-4BC5-AB5D-3BD890939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4F21D6-FA67-4F02-BA02-03B17E1AE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E8B810-6F1E-4C36-B338-F1B7BC22C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FD7276-5E76-40E1-811F-008D0E60E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BA65-2191-41A4-A070-A845CD27B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9237D1-97CF-421D-94CF-02ABE088A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FBF235-D0F7-42F2-9803-0340D10AC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D87227-407B-4CA2-91C3-8D70F6A0F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35D475-4E45-461D-9F6D-BB36C6847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6D25F9-0D3F-4D6E-8706-19854C21C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E3E024-4367-4451-B82F-D11EDE92C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B5C66D-1197-472B-89DB-5658D431A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44560" y="182844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595959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696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0C4AE-A9AA-45E3-BDB5-B2F1AA6D2B0D}" type="slidenum">
              <a:rPr b="0" lang="ru-RU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6400800"/>
            <a:ext cx="1219212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0" y="6334200"/>
            <a:ext cx="1219212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DEF3D-37CE-46A6-8ED4-1B3F0D27EE42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Straight Connector 9"/>
          <p:cNvSpPr/>
          <p:nvPr/>
        </p:nvSpPr>
        <p:spPr>
          <a:xfrm>
            <a:off x="1193760" y="1738440"/>
            <a:ext cx="996624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3240" y="6400800"/>
            <a:ext cx="12188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0" y="633420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traight Connector 8"/>
          <p:cNvSpPr/>
          <p:nvPr/>
        </p:nvSpPr>
        <p:spPr>
          <a:xfrm>
            <a:off x="1208160" y="4343400"/>
            <a:ext cx="98758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4F96D-0FC3-4F4E-9E58-A60AF9F50F40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3240" y="6400800"/>
            <a:ext cx="12188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0" y="633420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traight Connector 8"/>
          <p:cNvSpPr/>
          <p:nvPr/>
        </p:nvSpPr>
        <p:spPr>
          <a:xfrm>
            <a:off x="1208160" y="4343400"/>
            <a:ext cx="98758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39082-A891-4E75-B472-D10772E72E15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4"/>
          <p:cNvSpPr/>
          <p:nvPr/>
        </p:nvSpPr>
        <p:spPr>
          <a:xfrm>
            <a:off x="3240" y="6400800"/>
            <a:ext cx="12188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0" y="633420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3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4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5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E2BF6-BE5D-43C7-AF37-CC04F24548CB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0" y="0"/>
            <a:ext cx="4051440" cy="68580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4040280" y="0"/>
            <a:ext cx="63360" cy="68580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6"/>
          </p:nvPr>
        </p:nvSpPr>
        <p:spPr>
          <a:xfrm>
            <a:off x="465120" y="6459480"/>
            <a:ext cx="2619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7"/>
          </p:nvPr>
        </p:nvSpPr>
        <p:spPr>
          <a:xfrm>
            <a:off x="4800600" y="6459480"/>
            <a:ext cx="464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8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637052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B72B1-6D27-4FAE-B993-908FA7B9E897}" type="slidenum">
              <a:rPr b="0" lang="ru-RU" sz="1000" spc="-1" strike="noStrike">
                <a:solidFill>
                  <a:srgbClr val="637052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0" y="4952880"/>
            <a:ext cx="12188880" cy="190512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8"/>
          <p:cNvSpPr/>
          <p:nvPr/>
        </p:nvSpPr>
        <p:spPr>
          <a:xfrm>
            <a:off x="0" y="491508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7FE50-F578-4C83-99E9-812D52BF48A4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6"/>
          <p:cNvSpPr/>
          <p:nvPr/>
        </p:nvSpPr>
        <p:spPr>
          <a:xfrm>
            <a:off x="3240" y="6400800"/>
            <a:ext cx="12188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7"/>
          <p:cNvSpPr/>
          <p:nvPr/>
        </p:nvSpPr>
        <p:spPr>
          <a:xfrm>
            <a:off x="0" y="633420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FE575-80D1-4CD5-BBD6-A491C3682011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758960" y="2932200"/>
            <a:ext cx="9144000" cy="14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Георгиевская лента</a:t>
            </a:r>
            <a:endParaRPr b="0" lang="en-US" sz="8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7751880" y="5344920"/>
            <a:ext cx="4039920" cy="78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МУНИЦИПАЛЬНОЕ УЧРЕЖДЕНИЕ ДОПОЛНИТЕЛЬНОГО ОБРАЗОВАНИЯ ДОМ ДЕТСКОГО ТВОРЧЕСТВА</a:t>
            </a:r>
            <a:endParaRPr b="0" lang="en-US" sz="8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0" lang="ru-RU" sz="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РЕЗЕНТАЦИЮ ПОДГОТОВИЛА: МЕТОДИСТ ИГНАТЬЕВА ЕЛЕНА АЛЕКСАНДРОВНА</a:t>
            </a:r>
            <a:endParaRPr b="0" lang="en-US" sz="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54" name="Picture 12" descr="ÐÐ°ÑÑÐ¸Ð½ÐºÐ¸ Ð¿Ð¾ Ð·Ð°Ð¿ÑÐ¾ÑÑ Ð³ÐµÐ¾Ð³ÑÐ¸ÐµÐ²ÑÐºÐ°Ñ Ð»ÐµÐ½ÑÐ° Ð·ÑÐ¿"/>
          <p:cNvPicPr/>
          <p:nvPr/>
        </p:nvPicPr>
        <p:blipFill>
          <a:blip r:embed="rId1"/>
          <a:stretch/>
        </p:blipFill>
        <p:spPr>
          <a:xfrm>
            <a:off x="1163520" y="857160"/>
            <a:ext cx="96012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96920" y="758880"/>
            <a:ext cx="10058400" cy="35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br>
              <a:rPr sz="7200"/>
            </a:br>
            <a:br>
              <a:rPr sz="7200"/>
            </a:br>
            <a:br>
              <a:rPr sz="7200"/>
            </a:br>
            <a:br>
              <a:rPr sz="7200"/>
            </a:br>
            <a:endParaRPr b="0" lang="en-US" sz="7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76280" y="1679040"/>
            <a:ext cx="10058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ГЕОРГИЕВСКАЯ ЛЕНТА СЕГОДНЯ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РОЕКТ «ГЕОРГИЕВСКАЯ ЛЕНТА» СТАРТОВАЛ В 2005 ГОДУ. ТОГДА ПРАЗДНОВАЛИ ШЕСТИДЕСЯТИЛЕТИЕ ПОБЕДЫ. ЕЖЕГОДНО ОН НАБИРАЛ СВОИ ОБОРОТЫ И УСПЕЛ СТАТЬ ТРАДИЦИЕЙ. АКЦИЯ БЫЛА ПРИЗНАНА ОДНОЙ ИЗ НАИБОЛЕЕ ШИРОКИХ ПО СВОЕМУ МАСШТАБУ В РОССИИ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84" name="Picture 2" descr="ÐÐ°ÑÑÐ¸Ð½ÐºÐ¸ Ð¿Ð¾ Ð·Ð°Ð¿ÑÐ¾ÑÑ Ð³ÐµÐ¾Ð³ÑÐ¸ÐµÐ²ÑÐºÐ°Ñ Ð»ÐµÐ½ÑÐ° Ð·ÑÐ¿"/>
          <p:cNvPicPr/>
          <p:nvPr/>
        </p:nvPicPr>
        <p:blipFill>
          <a:blip r:embed="rId1"/>
          <a:stretch/>
        </p:blipFill>
        <p:spPr>
          <a:xfrm>
            <a:off x="2897280" y="-79200"/>
            <a:ext cx="625464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86" name="Picture 2" descr="ÐÐ°ÑÑÐ¸Ð½ÐºÐ¸ Ð¿Ð¾ Ð·Ð°Ð¿ÑÐ¾ÑÑ Ð³ÐµÐ¾Ð³ÑÐ¸ÐµÐ²ÑÐºÐ°Ñ Ð»ÐµÐ½ÑÐ° Ð·ÑÐ¿"/>
          <p:cNvPicPr/>
          <p:nvPr/>
        </p:nvPicPr>
        <p:blipFill>
          <a:blip r:embed="rId1"/>
          <a:stretch/>
        </p:blipFill>
        <p:spPr>
          <a:xfrm>
            <a:off x="2897280" y="-79200"/>
            <a:ext cx="6254640" cy="167616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2" descr="http://himkol.ru/wp-content/uploads/2017/04/eNhrGhWcWmc.jpg"/>
          <p:cNvPicPr/>
          <p:nvPr/>
        </p:nvPicPr>
        <p:blipFill>
          <a:blip r:embed="rId2"/>
          <a:stretch/>
        </p:blipFill>
        <p:spPr>
          <a:xfrm>
            <a:off x="2610000" y="1596960"/>
            <a:ext cx="7248240" cy="48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22400" y="187020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77720" y="228708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Акция «Георгиевская ленточка» ежегодно стартует в преддверии Дня Победы и объединяет миллионы людей не только в России, но и за рубежом.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57" name="Picture 2" descr="ÐÐ°ÑÑÐ¸Ð½ÐºÐ¸ Ð¿Ð¾ Ð·Ð°Ð¿ÑÐ¾ÑÑ Ð³ÐµÐ¾Ð³ÑÐ¸ÐµÐ²ÑÐºÐ°Ñ Ð»ÐµÐ½ÑÐ° Ð·ÑÐ¿"/>
          <p:cNvPicPr/>
          <p:nvPr/>
        </p:nvPicPr>
        <p:blipFill>
          <a:blip r:embed="rId1"/>
          <a:stretch/>
        </p:blipFill>
        <p:spPr>
          <a:xfrm>
            <a:off x="2897280" y="-79200"/>
            <a:ext cx="625464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02680" y="3208320"/>
            <a:ext cx="11601720" cy="382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Носи Георгиевскую ленту правильно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!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endParaRPr b="0" lang="en-US" sz="3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602240" y="261792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 допускается ношение ленточки:</a:t>
            </a:r>
            <a:br>
              <a:rPr sz="3200"/>
            </a:br>
            <a:r>
              <a:rPr b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 испорченном виде</a:t>
            </a:r>
            <a:br>
              <a:rPr sz="3200"/>
            </a:br>
            <a:r>
              <a:rPr b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На голове</a:t>
            </a:r>
            <a:br>
              <a:rPr sz="3200"/>
            </a:br>
            <a:r>
              <a:rPr b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Ниже пояса</a:t>
            </a:r>
            <a:br>
              <a:rPr sz="3200"/>
            </a:br>
            <a:r>
              <a:rPr b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На сумке</a:t>
            </a:r>
            <a:br>
              <a:rPr sz="3200"/>
            </a:br>
            <a:r>
              <a:rPr b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На кузове автомобиля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60" name="Picture 2" descr="ÐÐ°ÑÑÐ¸Ð½ÐºÐ¸ Ð¿Ð¾ Ð·Ð°Ð¿ÑÐ¾ÑÑ Ð³ÐµÐ¾Ð³ÑÐ¸ÐµÐ²ÑÐºÐ°Ñ Ð»ÐµÐ½ÑÐ° Ð·ÑÐ¿"/>
          <p:cNvPicPr/>
          <p:nvPr/>
        </p:nvPicPr>
        <p:blipFill>
          <a:blip r:embed="rId1"/>
          <a:stretch/>
        </p:blipFill>
        <p:spPr>
          <a:xfrm>
            <a:off x="2897280" y="-79200"/>
            <a:ext cx="625464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10720" y="4712760"/>
            <a:ext cx="11601720" cy="382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2" name="Прямоугольник 2"/>
          <p:cNvSpPr/>
          <p:nvPr/>
        </p:nvSpPr>
        <p:spPr>
          <a:xfrm>
            <a:off x="165240" y="1627200"/>
            <a:ext cx="11861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означает черный и желтый цвет? В России о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лялись цветами императорскими,  соответствовали черному двуглавому орлу и желтому полю государственного герба. Именно этой, символики, придерживалась императрица Екатерина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утверждая цвета лен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234720" y="4181040"/>
            <a:ext cx="101869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Так же многие исследователи уверены, что такие       цвета были выбраны неслучайно. Огонь на поле сражения связывали с оранжевым цветом, а российскую землю – с черным.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64" name="Picture 2" descr="ÐÐ°ÑÑÐ¸Ð½ÐºÐ¸ Ð¿Ð¾ Ð·Ð°Ð¿ÑÐ¾ÑÑ Ð³ÐµÐ¾Ð³ÑÐ¸ÐµÐ²ÑÐºÐ°Ñ Ð»ÐµÐ½ÑÐ° Ð·ÑÐ¿"/>
          <p:cNvPicPr/>
          <p:nvPr/>
        </p:nvPicPr>
        <p:blipFill>
          <a:blip r:embed="rId1"/>
          <a:stretch/>
        </p:blipFill>
        <p:spPr>
          <a:xfrm>
            <a:off x="2897280" y="-79200"/>
            <a:ext cx="625464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66" name="Picture 2" descr="ÐÐ°ÑÑÐ¸Ð½ÐºÐ¸ Ð¿Ð¾ Ð·Ð°Ð¿ÑÐ¾ÑÑ Ð³ÐµÐ¾Ð³ÑÐ¸ÐµÐ²ÑÐºÐ°Ñ Ð»ÐµÐ½ÑÐ° Ð·ÑÐ¿"/>
          <p:cNvPicPr/>
          <p:nvPr/>
        </p:nvPicPr>
        <p:blipFill>
          <a:blip r:embed="rId1"/>
          <a:stretch/>
        </p:blipFill>
        <p:spPr>
          <a:xfrm>
            <a:off x="2897280" y="-79200"/>
            <a:ext cx="6254640" cy="167616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2" descr="http://www.archive.pskov.ru/sites/default/files/arhupr/test/20022013/17_no_12_imperatrica_ekaterina_2.jpg"/>
          <p:cNvPicPr/>
          <p:nvPr/>
        </p:nvPicPr>
        <p:blipFill>
          <a:blip r:embed="rId2"/>
          <a:stretch/>
        </p:blipFill>
        <p:spPr>
          <a:xfrm>
            <a:off x="257040" y="1751040"/>
            <a:ext cx="3229200" cy="460224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4" descr="http://copycoins.ru/d/IMG__0051.jpg"/>
          <p:cNvPicPr/>
          <p:nvPr/>
        </p:nvPicPr>
        <p:blipFill>
          <a:blip r:embed="rId3"/>
          <a:stretch/>
        </p:blipFill>
        <p:spPr>
          <a:xfrm>
            <a:off x="4605480" y="1801800"/>
            <a:ext cx="758664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95400" y="1235160"/>
            <a:ext cx="10058400" cy="35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3200"/>
            </a:br>
            <a:r>
              <a:rPr b="1" lang="ru-RU" sz="3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осле поражений начального периода Великой Отечественной войны руководству СССР были необходимы символы, способные объединить народ и поднять боевой дух бойцов. В Красной армии в то время было мало боевых наград и знаков отличия воинской доблести. Вот здесь и пригодилась Георгиевская лента.</a:t>
            </a:r>
            <a:br>
              <a:rPr sz="3200"/>
            </a:br>
            <a:endParaRPr b="0" lang="en-US" sz="3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096920" y="4452480"/>
            <a:ext cx="10058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637052"/>
              </a:solidFill>
              <a:latin typeface="Calibri Light"/>
            </a:endParaRPr>
          </a:p>
        </p:txBody>
      </p:sp>
      <p:pic>
        <p:nvPicPr>
          <p:cNvPr id="371" name="Picture 2" descr="ÐÐ°ÑÑÐ¸Ð½ÐºÐ¸ Ð¿Ð¾ Ð·Ð°Ð¿ÑÐ¾ÑÑ Ð³ÐµÐ¾Ð³ÑÐ¸ÐµÐ²ÑÐºÐ°Ñ Ð»ÐµÐ½ÑÐ° Ð·ÑÐ¿"/>
          <p:cNvPicPr/>
          <p:nvPr/>
        </p:nvPicPr>
        <p:blipFill>
          <a:blip r:embed="rId1"/>
          <a:stretch/>
        </p:blipFill>
        <p:spPr>
          <a:xfrm>
            <a:off x="2897280" y="-79200"/>
            <a:ext cx="625464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73" name="Picture 2" descr="ÐÐ°ÑÑÐ¸Ð½ÐºÐ¸ Ð¿Ð¾ Ð·Ð°Ð¿ÑÐ¾ÑÑ Ð³ÐµÐ¾Ð³ÑÐ¸ÐµÐ²ÑÐºÐ°Ñ Ð»ÐµÐ½ÑÐ° Ð·ÑÐ¿"/>
          <p:cNvPicPr/>
          <p:nvPr/>
        </p:nvPicPr>
        <p:blipFill>
          <a:blip r:embed="rId1"/>
          <a:stretch/>
        </p:blipFill>
        <p:spPr>
          <a:xfrm>
            <a:off x="2897280" y="-79200"/>
            <a:ext cx="6254640" cy="167616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4" descr="https://ic.pics.livejournal.com/bambi_simbam/14145325/29737/29737_original.jpg"/>
          <p:cNvPicPr/>
          <p:nvPr/>
        </p:nvPicPr>
        <p:blipFill>
          <a:blip r:embed="rId2"/>
          <a:stretch/>
        </p:blipFill>
        <p:spPr>
          <a:xfrm>
            <a:off x="2941560" y="1771560"/>
            <a:ext cx="630864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400" y="3036960"/>
            <a:ext cx="11601360" cy="382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6" name="Прямоугольник 2"/>
          <p:cNvSpPr/>
          <p:nvPr/>
        </p:nvSpPr>
        <p:spPr>
          <a:xfrm>
            <a:off x="262080" y="2270160"/>
            <a:ext cx="11861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ая традиции русской армии, 8 сентября 1943 года был учрежден орден Славы трех степеней. Его статус, как и желто-черная расцветка ленты, напоминали о Георгиевском кресте. Затем лента, подтверждая традиционные цвета воинской доблести, украсила многие солдатские российские наградные медали и зна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925560" y="-1087920"/>
            <a:ext cx="10058400" cy="402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78" name="Picture 2" descr="ÐÐ°ÑÑÐ¸Ð½ÐºÐ¸ Ð¿Ð¾ Ð·Ð°Ð¿ÑÐ¾ÑÑ Ð³ÐµÐ¾Ð³ÑÐ¸ÐµÐ²ÑÐºÐ°Ñ Ð»ÐµÐ½ÑÐ° Ð·ÑÐ¿"/>
          <p:cNvPicPr/>
          <p:nvPr/>
        </p:nvPicPr>
        <p:blipFill>
          <a:blip r:embed="rId1"/>
          <a:stretch/>
        </p:blipFill>
        <p:spPr>
          <a:xfrm>
            <a:off x="2897280" y="-79200"/>
            <a:ext cx="625464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80" name="Picture 2" descr="ÐÐ°ÑÑÐ¸Ð½ÐºÐ¸ Ð¿Ð¾ Ð·Ð°Ð¿ÑÐ¾ÑÑ Ð³ÐµÐ¾Ð³ÑÐ¸ÐµÐ²ÑÐºÐ°Ñ Ð»ÐµÐ½ÑÐ° Ð·ÑÐ¿"/>
          <p:cNvPicPr/>
          <p:nvPr/>
        </p:nvPicPr>
        <p:blipFill>
          <a:blip r:embed="rId1"/>
          <a:stretch/>
        </p:blipFill>
        <p:spPr>
          <a:xfrm>
            <a:off x="2897280" y="-79200"/>
            <a:ext cx="6254640" cy="16761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2" descr="http://900igr.net/datai/istorija/Kuznetsov/0033-027-Nagrady-Nikolaja-Kuznetsova.png"/>
          <p:cNvPicPr/>
          <p:nvPr/>
        </p:nvPicPr>
        <p:blipFill>
          <a:blip r:embed="rId2"/>
          <a:stretch/>
        </p:blipFill>
        <p:spPr>
          <a:xfrm>
            <a:off x="3228840" y="1962000"/>
            <a:ext cx="551988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02T19:20:18Z</dcterms:created>
  <dc:creator>Максим Бахтин</dc:creator>
  <dc:description/>
  <dc:language>en-US</dc:language>
  <cp:lastModifiedBy>Елена</cp:lastModifiedBy>
  <dcterms:modified xsi:type="dcterms:W3CDTF">2019-05-10T22:10:45Z</dcterms:modified>
  <cp:revision>26</cp:revision>
  <dc:subject/>
  <dc:title>Георгиевская лента</dc:title>
</cp:coreProperties>
</file>