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D28-C3AF-49F8-9187-E7729A07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59F-66B0-4C3C-AB8A-873ECC72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299-4EB9-451C-B990-D104DDA2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861-BF89-4AD6-A0B5-6C85DB12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C84-3D55-4D2D-95CD-599ED4BB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D14-9F63-48FA-8080-24FA992B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10F-2427-43A9-B266-EFDDC5D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302-65A8-4877-A952-6F922365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E26-2749-408E-9692-86D48BE1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D5C-8EF6-45B4-8D25-A9C8DD65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AB1-65FF-43B7-9684-1185B2D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49A-8847-4510-8A2F-488903D9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94D5-9E0F-4C48-A199-79E04C1AE5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ffff"/>
                </a:solidFill>
                <a:latin typeface="Arial"/>
              </a:rPr>
              <a:t>Изготовление наволочки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Из скольких деталей состоит наволочка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акую форму  может иметь наволочка? От чего это зависит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ие  размеры  у наволочек бывают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ие срезы есть  у наволочки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им швом обрабатываю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боковые срезы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ак обрабатываем поперечные срезы наволочки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ак рассчитать ткань на наволочку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Arial"/>
              </a:rPr>
              <a:t>Расчет ткани по длине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(Ди х 2) +30 с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Расход ткани на наволочку.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60х60-15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65х65-16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70х70-17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75х75-18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 наволочку 80х80-190с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ошив наволочки с пооперационным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разделением труд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ffff"/>
                </a:solidFill>
                <a:latin typeface="Arial"/>
              </a:rPr>
              <a:t>Что делали на  прошлом уроке?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 доске разложить план пошива наволочк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в рисунках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ооперацион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текстово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wheel spokes="1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98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98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98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Приложение2;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пределите, какие швы представлены на мониторе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6" name="Picture 4" descr="галя 224"/>
          <p:cNvPicPr/>
          <p:nvPr/>
        </p:nvPicPr>
        <p:blipFill>
          <a:blip r:embed="rId1"/>
          <a:stretch/>
        </p:blipFill>
        <p:spPr>
          <a:xfrm>
            <a:off x="0" y="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0"/>
          <p:cNvSpPr/>
          <p:nvPr/>
        </p:nvSpPr>
        <p:spPr>
          <a:xfrm>
            <a:off x="2463840" y="-63972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к выполняется  двойной шов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1" name="Picture 4" descr="галя 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к выполняется шов вподгибку с закрытым срезо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Picture 4" descr="галя 233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 какому виду белья относят наволочку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С помощью чего наволочка держится на подушке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Arial"/>
              </a:rPr>
              <a:t>Виды наволочек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Picture 0" descr="галя 256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Из какой ткани шьют наволочки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Подобрать коллекцию тканей  для пошива наволочек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очему наволочки для постели шьют из х/б ткани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24:17Z</dcterms:created>
  <dc:creator>Microsoft Office XP</dc:creator>
  <dc:description/>
  <dc:language>en-US</dc:language>
  <cp:lastModifiedBy>Пользователь</cp:lastModifiedBy>
  <dcterms:modified xsi:type="dcterms:W3CDTF">2013-10-25T18:18:26Z</dcterms:modified>
  <cp:revision>13</cp:revision>
  <dc:subject/>
  <dc:title>Что делали на  прошлом уроке?</dc:title>
</cp:coreProperties>
</file>