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7AF4-8AAA-4F8C-BE09-6BAE477B3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2CEF-4592-4C05-AF18-A93651750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A8A1-0707-4B5E-A9A8-2A5310ABA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D167-D9D6-4698-BBBA-9478656D5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C28B-944B-425C-952F-BA8C18DF5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6B5C-D15C-43EA-84DD-6FED37F9C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2AD4-BFF4-4063-B5A8-D654220E5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ACEA-AE93-4CCB-A4F8-104A39F48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88FC-A26C-4266-8D3E-D96E34D88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B599-785F-4A56-B885-9B1DA2AA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28E7-A06B-420C-A182-12C85C1C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AF5E-B00A-4D9B-9D6B-1ECB05B5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26CAF-1BCC-45FE-BA6A-7A870768282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ccffff"/>
                </a:solidFill>
                <a:latin typeface="Arial"/>
              </a:rPr>
              <a:t>Изготовление наволочки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Из скольких деталей состоит наволочка?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Какую форму  может иметь наволочка? От чего это зависит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Какие  размеры  у наволочек бывают?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Какие срезы есть  у наволочки?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Каким швом обрабатывают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боковые срезы?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Как обрабатываем поперечные срезы наволочки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Как рассчитать ткань на наволочку?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ffff"/>
                </a:solidFill>
                <a:latin typeface="Arial"/>
              </a:rPr>
              <a:t>Расчет ткани по длине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(Ди х 2) +30 см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98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98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ffff"/>
                </a:solidFill>
                <a:latin typeface="Arial"/>
              </a:rPr>
              <a:t>Расход ткани на наволочку.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На наволочку 60х60-150см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На наволочку 65х65-160см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На наволочку 70х70-170см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На наволочку 75х75-180см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На наволочку 80х80-190см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98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98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98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98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98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Пошив наволочки с пооперационным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разделением труда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4000">
    <p:wedg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cffff"/>
                </a:solidFill>
                <a:latin typeface="Arial"/>
              </a:rPr>
              <a:t>Что делали на  прошлом уроке?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На доске разложить план пошива наволочки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в рисунках  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пооперационный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текстовой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4000">
    <p:wheel spokes="1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898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898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898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898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Приложение2;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Определите, какие швы представлены на мониторе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6" name="Picture 4" descr="галя 224"/>
          <p:cNvPicPr/>
          <p:nvPr/>
        </p:nvPicPr>
        <p:blipFill>
          <a:blip r:embed="rId1"/>
          <a:stretch/>
        </p:blipFill>
        <p:spPr>
          <a:xfrm>
            <a:off x="0" y="0"/>
            <a:ext cx="9144000" cy="65134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0"/>
          <p:cNvSpPr/>
          <p:nvPr/>
        </p:nvSpPr>
        <p:spPr>
          <a:xfrm>
            <a:off x="2463840" y="-63972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Как выполняется  двойной шов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98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1" name="Picture 4" descr="галя 2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Как выполняется шов вподгибку с закрытым срезом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4000">
    <p:blinds dir="vert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6" name="Picture 4" descr="галя 233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645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К какому виду белья относят наволочку?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С помощью чего наволочка держится на подушке?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ffff"/>
                </a:solidFill>
                <a:latin typeface="Arial"/>
              </a:rPr>
              <a:t>Виды наволочек</a:t>
            </a: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2" name="Picture 0" descr="галя 256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508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Из какой ткани шьют наволочки?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Подобрать коллекцию тканей  для пошива наволочек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Почему наволочки для постели шьют из х/б ткани?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18:24:17Z</dcterms:created>
  <dc:creator>Microsoft Office XP</dc:creator>
  <dc:description/>
  <dc:language>en-US</dc:language>
  <cp:lastModifiedBy>Пользователь</cp:lastModifiedBy>
  <dcterms:modified xsi:type="dcterms:W3CDTF">2013-10-25T18:18:26Z</dcterms:modified>
  <cp:revision>13</cp:revision>
  <dc:subject/>
  <dc:title>Что делали на  прошлом уроке?</dc:title>
</cp:coreProperties>
</file>