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9BD-FFB9-4FD9-9ECD-F888053C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F13-1B09-4E82-A110-D8DE74D0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BE66-52CA-4081-9116-48E44D0C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529B-D65D-4831-8A26-4A739836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6662-4953-4BC0-B761-F3AEE008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360B-D355-47B6-8F8A-8D904F17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24F9-0C01-43D9-99CD-A6539D63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5602-6100-41EB-B22E-CD6AE056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6F42-44D3-430A-BCBD-F9CA56BE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64D8-D898-43FB-AE2D-590928B8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94E6-21A7-4DBA-8232-17FD40A8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2C7-859B-4288-8515-82E9B409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A22A-DE37-4986-9207-913C3646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4F82-D22C-4C5E-A03A-67722468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E5C6-C9BC-4BEA-851F-9B90BCAF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A7F3-D496-4B8C-8E66-961E6BB9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6C04-0716-4B4F-B1EB-7EEED1C7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9ECD-02C6-4A9A-BCAE-5E7A92F8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715-5814-434B-AA14-7D393235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656C-130B-4AA9-B424-CD03049F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35F-9A7A-430D-897C-B3C0950D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99E-7B26-4184-81EF-8CE46BFF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741-C6FA-4E3B-9A95-58BB3439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1D5-5970-4ABD-8201-415CD279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18DA-DE11-4006-A6F2-C43D8180180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EA8F-5B34-4C7A-9617-CFEF0A3F55E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8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Методическая разработка урока:</a:t>
            </a: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«</a:t>
            </a:r>
            <a:r>
              <a:rPr b="0" i="1" lang="en-US" sz="4000" spc="-1" strike="noStrike">
                <a:solidFill>
                  <a:srgbClr val="ffff00"/>
                </a:solidFill>
                <a:latin typeface="Tahoma"/>
              </a:rPr>
              <a:t>So </a:t>
            </a:r>
            <a:r>
              <a:rPr b="0" i="1" lang="de-DE" sz="4000" spc="-1" strike="noStrike">
                <a:solidFill>
                  <a:srgbClr val="ffff00"/>
                </a:solidFill>
                <a:latin typeface="Tahoma"/>
              </a:rPr>
              <a:t>w</a:t>
            </a:r>
            <a:r>
              <a:rPr b="0" i="1" lang="ru-RU" sz="4000" spc="-1" strike="noStrike">
                <a:solidFill>
                  <a:srgbClr val="ffff00"/>
                </a:solidFill>
                <a:latin typeface="Tahoma"/>
              </a:rPr>
              <a:t>о</a:t>
            </a:r>
            <a:r>
              <a:rPr b="0" i="1" lang="de-DE" sz="4000" spc="-1" strike="noStrike">
                <a:solidFill>
                  <a:srgbClr val="ffff00"/>
                </a:solidFill>
                <a:latin typeface="Tahoma"/>
              </a:rPr>
              <a:t>rtlich</a:t>
            </a:r>
            <a:r>
              <a:rPr b="0" i="1" lang="en-US" sz="4000" spc="-1" strike="noStrike">
                <a:solidFill>
                  <a:srgbClr val="ffff00"/>
                </a:solidFill>
                <a:latin typeface="Tahoma"/>
              </a:rPr>
              <a:t> wie notig, so frei wie moglich</a:t>
            </a:r>
            <a:r>
              <a:rPr b="0" i="1" lang="ru-RU" sz="4000" spc="-1" strike="noStrike">
                <a:solidFill>
                  <a:srgbClr val="ffff00"/>
                </a:solidFill>
                <a:latin typeface="Tahoma"/>
              </a:rPr>
              <a:t>».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987640" y="4574880"/>
            <a:ext cx="537696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Выполнила: Намруева Ц. К., учитель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иностранных языков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МКОУ «Лаганская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средняя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общеобразовательна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школа №4 имени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Джамбинова З. Э.»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51280" y="6093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2017 го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635280" y="26028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Город Лаган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971640" y="98100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ahoma"/>
              </a:rPr>
              <a:t>Элективный курс «Слово о переводе» для учащихся 9 классов общеобразовательной шко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Ubersetzen als Beruf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Picture 4" descr="msoB9653"/>
          <p:cNvPicPr/>
          <p:nvPr/>
        </p:nvPicPr>
        <p:blipFill>
          <a:blip r:embed="rId1"/>
          <a:stretch/>
        </p:blipFill>
        <p:spPr>
          <a:xfrm>
            <a:off x="971640" y="2060640"/>
            <a:ext cx="4030560" cy="4105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msoB9653"/>
          <p:cNvPicPr/>
          <p:nvPr/>
        </p:nvPicPr>
        <p:blipFill>
          <a:blip r:embed="rId2"/>
          <a:stretch/>
        </p:blipFill>
        <p:spPr>
          <a:xfrm>
            <a:off x="5148360" y="2060640"/>
            <a:ext cx="3459240" cy="41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Horverstandnis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Picture 4" descr="mso79D64"/>
          <p:cNvPicPr/>
          <p:nvPr/>
        </p:nvPicPr>
        <p:blipFill>
          <a:blip r:embed="rId1"/>
          <a:stretch/>
        </p:blipFill>
        <p:spPr>
          <a:xfrm>
            <a:off x="1042920" y="1916280"/>
            <a:ext cx="1962360" cy="2665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mso8C4AA"/>
          <p:cNvPicPr/>
          <p:nvPr/>
        </p:nvPicPr>
        <p:blipFill>
          <a:blip r:embed="rId2"/>
          <a:stretch/>
        </p:blipFill>
        <p:spPr>
          <a:xfrm>
            <a:off x="3419640" y="1916280"/>
            <a:ext cx="5184720" cy="2665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mso57608"/>
          <p:cNvPicPr/>
          <p:nvPr/>
        </p:nvPicPr>
        <p:blipFill>
          <a:blip r:embed="rId3"/>
          <a:stretch/>
        </p:blipFill>
        <p:spPr>
          <a:xfrm>
            <a:off x="1042920" y="4724280"/>
            <a:ext cx="7561440" cy="1729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Aufgaben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9" descr="msoB82F"/>
          <p:cNvPicPr/>
          <p:nvPr/>
        </p:nvPicPr>
        <p:blipFill>
          <a:blip r:embed="rId1"/>
          <a:stretch/>
        </p:blipFill>
        <p:spPr>
          <a:xfrm>
            <a:off x="1116000" y="2852640"/>
            <a:ext cx="7488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66ff"/>
                </a:solidFill>
                <a:latin typeface="Tahoma"/>
              </a:rPr>
              <a:t>Fremde Sprachen offen eine neue Wel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Picture 3" descr="mso8A20C"/>
          <p:cNvPicPr/>
          <p:nvPr/>
        </p:nvPicPr>
        <p:blipFill>
          <a:blip r:embed="rId1"/>
          <a:stretch/>
        </p:blipFill>
        <p:spPr>
          <a:xfrm>
            <a:off x="2843280" y="1773360"/>
            <a:ext cx="3672000" cy="49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mso90B67"/>
          <p:cNvPicPr/>
          <p:nvPr/>
        </p:nvPicPr>
        <p:blipFill>
          <a:blip r:embed="rId1"/>
          <a:stretch/>
        </p:blipFill>
        <p:spPr>
          <a:xfrm>
            <a:off x="1042920" y="2060640"/>
            <a:ext cx="2665440" cy="3816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Puschkin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284720" y="2349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572000" y="1773360"/>
            <a:ext cx="41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924360" y="2060640"/>
            <a:ext cx="4751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Es nennt mich jedes Volk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das  unser Reich  umspann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Der Slawen stolzer Spros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der  Finne, der Tung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Und der Kalmu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am  Steppenran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3995640" y="220500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msoB96E"/>
          <p:cNvPicPr/>
          <p:nvPr/>
        </p:nvPicPr>
        <p:blipFill>
          <a:blip r:embed="rId1"/>
          <a:stretch/>
        </p:blipFill>
        <p:spPr>
          <a:xfrm>
            <a:off x="5796000" y="2060640"/>
            <a:ext cx="2825640" cy="38894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Lermontow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116000" y="2276640"/>
            <a:ext cx="4608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Nein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ich bin nicht Bairon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ich bin ander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Noch bin ich unbekannter Fremd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Ich bin Weltreisende, wie er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Aber nu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mit russischen Seel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Shakespeare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4" name="Picture 7" descr="oshakes007p4"/>
          <p:cNvPicPr/>
          <p:nvPr/>
        </p:nvPicPr>
        <p:blipFill>
          <a:blip r:embed="rId1"/>
          <a:stretch/>
        </p:blipFill>
        <p:spPr>
          <a:xfrm>
            <a:off x="5435640" y="1916280"/>
            <a:ext cx="3340080" cy="3809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1"/>
          <p:cNvSpPr/>
          <p:nvPr/>
        </p:nvSpPr>
        <p:spPr>
          <a:xfrm>
            <a:off x="971640" y="213372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116000" y="213372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1116000" y="2133720"/>
            <a:ext cx="42480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Как волн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Набегают на камень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И каждая там гибн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В свой черёд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Так к своему конц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Спешат мгновень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В стремленьи неизменном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Все вперёд!.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mso6F535"/>
          <p:cNvPicPr/>
          <p:nvPr/>
        </p:nvPicPr>
        <p:blipFill>
          <a:blip r:embed="rId1"/>
          <a:stretch/>
        </p:blipFill>
        <p:spPr>
          <a:xfrm>
            <a:off x="1042920" y="1989000"/>
            <a:ext cx="2881440" cy="39610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Kugultinow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572000" y="1916280"/>
            <a:ext cx="374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Grant a m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                 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his first success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Self-assurance let him fi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As a son of all manki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Whose unbounded pow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embr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Atom core and outer spa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Grant a ma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              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his first success!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ff"/>
                </a:solidFill>
                <a:latin typeface="Tahoma"/>
              </a:rPr>
              <a:t>Erfahrungen und Meinunge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3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Welche Rolle spielen Ubersetzungen bei Ihnen im Unterrich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Was halten Sie von Ubersetzung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Soll man nur aus der fremden Sprache in die eigene Sprache ubersetzen oder auch aus der eigenen in die fremd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j0299125"/>
          <p:cNvPicPr/>
          <p:nvPr/>
        </p:nvPicPr>
        <p:blipFill>
          <a:blip r:embed="rId1"/>
          <a:stretch/>
        </p:blipFill>
        <p:spPr>
          <a:xfrm>
            <a:off x="7956720" y="5373720"/>
            <a:ext cx="795240" cy="123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ahoma"/>
              </a:rPr>
              <a:t>Цели и задачи: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Познавательная: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развитие коммуникативной способности на базе аутентичного материал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Обучающая: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закрепление навыков и умений чтения, говорения (мон., диал. речи), аудирования и письма;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Развивающая: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активизация умения инициировать беседу., выражать своё мне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Воспитательная: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Прививать любовь и бережное отношение к родному языку, формировать толерантное отношение ко всему окружающе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066680" y="691920"/>
            <a:ext cx="7034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66ff"/>
                </a:solidFill>
                <a:latin typeface="Tahoma"/>
              </a:rPr>
              <a:t>Goldene Regel fur gutes Ubersetz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ahoma"/>
              </a:rPr>
              <a:t>So wortlich wie notig, so frei wie moglich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3" descr="j0299125"/>
          <p:cNvPicPr/>
          <p:nvPr/>
        </p:nvPicPr>
        <p:blipFill>
          <a:blip r:embed="rId1"/>
          <a:stretch/>
        </p:blipFill>
        <p:spPr>
          <a:xfrm>
            <a:off x="7667640" y="5229360"/>
            <a:ext cx="811080" cy="108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mso6A924"/>
          <p:cNvPicPr/>
          <p:nvPr/>
        </p:nvPicPr>
        <p:blipFill>
          <a:blip r:embed="rId1"/>
          <a:stretch/>
        </p:blipFill>
        <p:spPr>
          <a:xfrm>
            <a:off x="971640" y="1916280"/>
            <a:ext cx="2967120" cy="3673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</a:t>
            </a: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Goethe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356000" y="2133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500720" y="1989000"/>
            <a:ext cx="3887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4500720" y="2276640"/>
            <a:ext cx="41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Горные верши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Спят во тьме ночно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Тихие доли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Полны свежей мгло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Не пылит дорог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Не дрожат листы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Подожди немног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Отдохнешь и 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Ubersetzungen?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4" name="Picture 12" descr="msoFE0EB"/>
          <p:cNvPicPr/>
          <p:nvPr/>
        </p:nvPicPr>
        <p:blipFill>
          <a:blip r:embed="rId1"/>
          <a:stretch/>
        </p:blipFill>
        <p:spPr>
          <a:xfrm>
            <a:off x="1187280" y="1844640"/>
            <a:ext cx="7272360" cy="460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304560"/>
            <a:ext cx="7710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66ff"/>
                </a:solidFill>
                <a:latin typeface="Tahoma"/>
              </a:rPr>
              <a:t>“</a:t>
            </a:r>
            <a:r>
              <a:rPr b="1" i="1" lang="en-US" sz="4800" spc="-1" strike="noStrike">
                <a:solidFill>
                  <a:srgbClr val="6666ff"/>
                </a:solidFill>
                <a:latin typeface="Tahoma"/>
              </a:rPr>
              <a:t>Japanisches Nachtlied”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Picture 10" descr="msoFE0EB"/>
          <p:cNvPicPr/>
          <p:nvPr/>
        </p:nvPicPr>
        <p:blipFill>
          <a:blip r:embed="rId1"/>
          <a:stretch/>
        </p:blipFill>
        <p:spPr>
          <a:xfrm>
            <a:off x="1116000" y="1989000"/>
            <a:ext cx="7056360" cy="447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Leseverstandnis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Picture 4" descr="msoB88B6"/>
          <p:cNvPicPr/>
          <p:nvPr/>
        </p:nvPicPr>
        <p:blipFill>
          <a:blip r:embed="rId1"/>
          <a:srcRect l="9629" t="6092" r="10699" b="68539"/>
          <a:stretch/>
        </p:blipFill>
        <p:spPr>
          <a:xfrm>
            <a:off x="1116000" y="1981080"/>
            <a:ext cx="7343640" cy="4400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Der Turm in Babel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Picture 4" descr="msoD7065"/>
          <p:cNvPicPr/>
          <p:nvPr/>
        </p:nvPicPr>
        <p:blipFill>
          <a:blip r:embed="rId1"/>
          <a:srcRect l="4632" t="20207" r="24085" b="57929"/>
          <a:stretch/>
        </p:blipFill>
        <p:spPr>
          <a:xfrm>
            <a:off x="1187280" y="1981080"/>
            <a:ext cx="7272360" cy="4472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66ff"/>
                </a:solidFill>
                <a:latin typeface="Tahoma"/>
              </a:rPr>
              <a:t>Tragen Sie bitte die Buchstaben ein!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Picture 8" descr="mso9E9F1"/>
          <p:cNvPicPr/>
          <p:nvPr/>
        </p:nvPicPr>
        <p:blipFill>
          <a:blip r:embed="rId1"/>
          <a:srcRect l="0" t="12548" r="6284" b="58712"/>
          <a:stretch/>
        </p:blipFill>
        <p:spPr>
          <a:xfrm>
            <a:off x="1116000" y="1981080"/>
            <a:ext cx="741672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на</dc:creator>
  <dc:description/>
  <dc:language>en-US</dc:language>
  <cp:lastModifiedBy>Анна</cp:lastModifiedBy>
  <dcterms:modified xsi:type="dcterms:W3CDTF">2019-05-11T20:40:00Z</dcterms:modified>
  <cp:revision>10</cp:revision>
  <dc:subject/>
  <dc:title>PowerPoint Presentation</dc:title>
</cp:coreProperties>
</file>