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370-83A3-4E46-907B-E741C8A2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C97-98E3-46BE-8E3A-D6E5A8E4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2CC-ED21-4697-B9D8-C446EBD8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134-32BD-4B71-90DB-677E85C9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69C-1440-4CE5-995F-90AAAF26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0EB-89FA-4DCC-9054-71DA838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4BE8-C07E-4E4F-BBAE-556F957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5B87-F8EE-4ED5-BECA-2BBEE8BD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F812-C75C-4911-B7C8-A644F4B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F7D3-1491-43EB-9340-25614C72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4301-0B3A-4253-80AB-CB0666C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2B3-4D50-4B86-B504-C57B5849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309F-CE7B-4D62-8F4F-B661AB6C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E27-33F6-46B4-AA97-3D323692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EA24-42A4-4BB2-B471-5A6EE0F7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E66D-D130-416F-B148-FC54C094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3797-6B3B-49CA-A89A-4ED9D6C4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675-2797-430C-8829-73F43BAE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399-C9D2-4B81-9EC2-C24BE165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8DC-2583-4CB3-82E3-D4E94032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BD6-6C56-4EFA-BF64-E9BF0170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EF3-46B5-466A-85B5-423F7B5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2E5-6C3A-46DE-981B-B35E8E18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0E2-1C70-459A-BA8E-F6B047D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CD7-5DCD-4D18-9EA2-21B1CF8070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532-32B4-4FC6-A6B5-28313A7C41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8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Методическая разработка урока: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«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So </a:t>
            </a:r>
            <a:r>
              <a:rPr b="0" i="1" lang="de-DE" sz="4000" spc="-1" strike="noStrike">
                <a:solidFill>
                  <a:srgbClr val="ffff00"/>
                </a:solidFill>
                <a:latin typeface="Tahoma"/>
              </a:rPr>
              <a:t>w</a:t>
            </a: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о</a:t>
            </a:r>
            <a:r>
              <a:rPr b="0" i="1" lang="de-DE" sz="4000" spc="-1" strike="noStrike">
                <a:solidFill>
                  <a:srgbClr val="ffff00"/>
                </a:solidFill>
                <a:latin typeface="Tahoma"/>
              </a:rPr>
              <a:t>rtlich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 wie notig, so frei wie moglich</a:t>
            </a: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»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987640" y="4574880"/>
            <a:ext cx="537696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Выполнила: Намруева Ц. К., учитель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иностранных языков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МКОУ «Лаганская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средняя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общеобразователь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школа №4 имени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Джамбинова З. Э.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51280" y="6093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2017 го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635280" y="26028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Город Лага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971640" y="981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Элективный курс «Слово о переводе» для учащихся 9 классов общеобразовательной шко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Ubersetzen als Beruf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4" descr="msoB9653"/>
          <p:cNvPicPr/>
          <p:nvPr/>
        </p:nvPicPr>
        <p:blipFill>
          <a:blip r:embed="rId1"/>
          <a:stretch/>
        </p:blipFill>
        <p:spPr>
          <a:xfrm>
            <a:off x="971640" y="2060640"/>
            <a:ext cx="4030560" cy="4105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soB9653"/>
          <p:cNvPicPr/>
          <p:nvPr/>
        </p:nvPicPr>
        <p:blipFill>
          <a:blip r:embed="rId2"/>
          <a:stretch/>
        </p:blipFill>
        <p:spPr>
          <a:xfrm>
            <a:off x="5148360" y="206064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Horverstandni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4" descr="mso79D64"/>
          <p:cNvPicPr/>
          <p:nvPr/>
        </p:nvPicPr>
        <p:blipFill>
          <a:blip r:embed="rId1"/>
          <a:stretch/>
        </p:blipFill>
        <p:spPr>
          <a:xfrm>
            <a:off x="1042920" y="1916280"/>
            <a:ext cx="1962360" cy="2665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so8C4AA"/>
          <p:cNvPicPr/>
          <p:nvPr/>
        </p:nvPicPr>
        <p:blipFill>
          <a:blip r:embed="rId2"/>
          <a:stretch/>
        </p:blipFill>
        <p:spPr>
          <a:xfrm>
            <a:off x="3419640" y="1916280"/>
            <a:ext cx="5184720" cy="2665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mso57608"/>
          <p:cNvPicPr/>
          <p:nvPr/>
        </p:nvPicPr>
        <p:blipFill>
          <a:blip r:embed="rId3"/>
          <a:stretch/>
        </p:blipFill>
        <p:spPr>
          <a:xfrm>
            <a:off x="1042920" y="4724280"/>
            <a:ext cx="7561440" cy="17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Aufgabe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9" descr="msoB82F"/>
          <p:cNvPicPr/>
          <p:nvPr/>
        </p:nvPicPr>
        <p:blipFill>
          <a:blip r:embed="rId1"/>
          <a:stretch/>
        </p:blipFill>
        <p:spPr>
          <a:xfrm>
            <a:off x="1116000" y="2852640"/>
            <a:ext cx="7488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Fremde Sprachen offen eine neue Wel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Picture 3" descr="mso8A20C"/>
          <p:cNvPicPr/>
          <p:nvPr/>
        </p:nvPicPr>
        <p:blipFill>
          <a:blip r:embed="rId1"/>
          <a:stretch/>
        </p:blipFill>
        <p:spPr>
          <a:xfrm>
            <a:off x="2843280" y="1773360"/>
            <a:ext cx="367200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mso90B67"/>
          <p:cNvPicPr/>
          <p:nvPr/>
        </p:nvPicPr>
        <p:blipFill>
          <a:blip r:embed="rId1"/>
          <a:stretch/>
        </p:blipFill>
        <p:spPr>
          <a:xfrm>
            <a:off x="1042920" y="2060640"/>
            <a:ext cx="2665440" cy="3816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Puschkin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284720" y="234936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177336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924360" y="2060640"/>
            <a:ext cx="4751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Es nennt mich jedes Vol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as  unser Reich  umspan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er Slawen stolzer Spros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der  Finne, der Tung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Und der Kalmu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m  Steppenran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995640" y="220500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soB96E"/>
          <p:cNvPicPr/>
          <p:nvPr/>
        </p:nvPicPr>
        <p:blipFill>
          <a:blip r:embed="rId1"/>
          <a:stretch/>
        </p:blipFill>
        <p:spPr>
          <a:xfrm>
            <a:off x="5796000" y="2060640"/>
            <a:ext cx="2825640" cy="3889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Lermontow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116000" y="2276640"/>
            <a:ext cx="460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Nein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ich bin nicht Bairo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ich bin ande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Noch bin ich unbekannter Fremd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Ich bin Weltreisende, wie er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ber n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mit russischen Seel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Shakespeare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7" descr="oshakes007p4"/>
          <p:cNvPicPr/>
          <p:nvPr/>
        </p:nvPicPr>
        <p:blipFill>
          <a:blip r:embed="rId1"/>
          <a:stretch/>
        </p:blipFill>
        <p:spPr>
          <a:xfrm>
            <a:off x="5435640" y="1916280"/>
            <a:ext cx="334008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971640" y="2133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116000" y="213372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116000" y="2133720"/>
            <a:ext cx="4248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Как вол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Набегают на камень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И каждая там гиб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 свой черёд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Так к своему конц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Спешат мгновень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 стремленьи неизменном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Все вперёд!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mso6F535"/>
          <p:cNvPicPr/>
          <p:nvPr/>
        </p:nvPicPr>
        <p:blipFill>
          <a:blip r:embed="rId1"/>
          <a:stretch/>
        </p:blipFill>
        <p:spPr>
          <a:xfrm>
            <a:off x="1042920" y="1989000"/>
            <a:ext cx="2881440" cy="39610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Kugultinow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572000" y="1916280"/>
            <a:ext cx="374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rant a m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his first success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Self-assurance let him fi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s a son of all manki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Whose unbounded pow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embr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Atom core and outer spa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Grant a m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his first success!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ahoma"/>
              </a:rPr>
              <a:t>Erfahrungen und Meinung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Welche Rolle spielen Ubersetzungen bei Ihnen im Unterrich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Was halten Sie von Ubersetzun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Soll man nur aus der fremden Sprache in die eigene Sprache ubersetzen oder auch aus der eigenen in die frem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j0299125"/>
          <p:cNvPicPr/>
          <p:nvPr/>
        </p:nvPicPr>
        <p:blipFill>
          <a:blip r:embed="rId1"/>
          <a:stretch/>
        </p:blipFill>
        <p:spPr>
          <a:xfrm>
            <a:off x="7956720" y="5373720"/>
            <a:ext cx="795240" cy="1230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ahoma"/>
              </a:rPr>
              <a:t>Цели и задачи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Познавательн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развитие коммуникативной способности на базе аутентичного материал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Обучающ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закрепление навыков и умений чтения, говорения (мон., диал. речи), аудирования и письма;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Развивающ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активизация умения инициировать беседу., выражать своё мне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Воспитательная:</a:t>
            </a:r>
            <a:r>
              <a:rPr b="0" i="1" lang="ru-RU" sz="2400" spc="-1" strike="noStrike">
                <a:solidFill>
                  <a:srgbClr val="ffff00"/>
                </a:solidFill>
                <a:latin typeface="Tahoma"/>
              </a:rPr>
              <a:t> Прививать любовь и бережное отношение к родному языку, формировать толерантное отношение ко всему окружающ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66680" y="691920"/>
            <a:ext cx="7034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66ff"/>
                </a:solidFill>
                <a:latin typeface="Tahoma"/>
              </a:rPr>
              <a:t>Goldene Regel fur gutes Ubersetz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ahoma"/>
              </a:rPr>
              <a:t>So wortlich wie notig, so frei wie moglic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3" descr="j0299125"/>
          <p:cNvPicPr/>
          <p:nvPr/>
        </p:nvPicPr>
        <p:blipFill>
          <a:blip r:embed="rId1"/>
          <a:stretch/>
        </p:blipFill>
        <p:spPr>
          <a:xfrm>
            <a:off x="7667640" y="5229360"/>
            <a:ext cx="81108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mso6A924"/>
          <p:cNvPicPr/>
          <p:nvPr/>
        </p:nvPicPr>
        <p:blipFill>
          <a:blip r:embed="rId1"/>
          <a:stretch/>
        </p:blipFill>
        <p:spPr>
          <a:xfrm>
            <a:off x="971640" y="1916280"/>
            <a:ext cx="2967120" cy="3673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</a:t>
            </a: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Goethe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356000" y="213372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00720" y="1989000"/>
            <a:ext cx="388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2276640"/>
            <a:ext cx="41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Горные верш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Спят во тьме ночн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Тихие долин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Полны свежей мгл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е пылит дорог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е дрожат листы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Подожди немног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Отдохнешь и 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Ubersetzungen?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Picture 12" descr="msoFE0EB"/>
          <p:cNvPicPr/>
          <p:nvPr/>
        </p:nvPicPr>
        <p:blipFill>
          <a:blip r:embed="rId1"/>
          <a:stretch/>
        </p:blipFill>
        <p:spPr>
          <a:xfrm>
            <a:off x="1187280" y="1844640"/>
            <a:ext cx="7272360" cy="46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7710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“</a:t>
            </a: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Japanisches Nachtlied”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10" descr="msoFE0EB"/>
          <p:cNvPicPr/>
          <p:nvPr/>
        </p:nvPicPr>
        <p:blipFill>
          <a:blip r:embed="rId1"/>
          <a:stretch/>
        </p:blipFill>
        <p:spPr>
          <a:xfrm>
            <a:off x="1116000" y="1989000"/>
            <a:ext cx="7056360" cy="447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Leseverstandnis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msoB88B6"/>
          <p:cNvPicPr/>
          <p:nvPr/>
        </p:nvPicPr>
        <p:blipFill>
          <a:blip r:embed="rId1"/>
          <a:srcRect l="9629" t="6092" r="10699" b="68539"/>
          <a:stretch/>
        </p:blipFill>
        <p:spPr>
          <a:xfrm>
            <a:off x="1116000" y="1981080"/>
            <a:ext cx="7343640" cy="44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66ff"/>
                </a:solidFill>
                <a:latin typeface="Tahoma"/>
              </a:rPr>
              <a:t>Der Turm in Babel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4" descr="msoD7065"/>
          <p:cNvPicPr/>
          <p:nvPr/>
        </p:nvPicPr>
        <p:blipFill>
          <a:blip r:embed="rId1"/>
          <a:srcRect l="4632" t="20207" r="24085" b="57929"/>
          <a:stretch/>
        </p:blipFill>
        <p:spPr>
          <a:xfrm>
            <a:off x="1187280" y="1981080"/>
            <a:ext cx="7272360" cy="4472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66ff"/>
                </a:solidFill>
                <a:latin typeface="Tahoma"/>
              </a:rPr>
              <a:t>Tragen Sie bitte die Buchstaben ein!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8" descr="mso9E9F1"/>
          <p:cNvPicPr/>
          <p:nvPr/>
        </p:nvPicPr>
        <p:blipFill>
          <a:blip r:embed="rId1"/>
          <a:srcRect l="0" t="12548" r="6284" b="58712"/>
          <a:stretch/>
        </p:blipFill>
        <p:spPr>
          <a:xfrm>
            <a:off x="1116000" y="1981080"/>
            <a:ext cx="7416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на</dc:creator>
  <dc:description/>
  <dc:language>en-US</dc:language>
  <cp:lastModifiedBy>Анна</cp:lastModifiedBy>
  <dcterms:modified xsi:type="dcterms:W3CDTF">2019-05-11T20:40:00Z</dcterms:modified>
  <cp:revision>10</cp:revision>
  <dc:subject/>
  <dc:title>PowerPoint Presentation</dc:title>
</cp:coreProperties>
</file>