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CDC5-9C7F-4E62-9728-367232A4A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AB3F-6EB8-4FF7-B5D1-BB90D89C7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326D-2211-475A-AA88-B8BECE110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9F3F-339D-478B-8E3B-F0C6DDF12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9FEA-B187-46EC-B5A4-E692E9F9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440" y="396432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151-6935-4D63-9C30-3399B497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9900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44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9900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BECC-EE1F-4671-A371-BF13883D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5016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224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44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5016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224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30E3-753E-4128-AC2A-5680B7A8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8D6F-1AFC-44C5-B75C-B93A5E1B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284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AA9C-C477-41F3-9880-5DC066C9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565A-C66F-49F9-83E7-ADBC7870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9900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118F-2A5B-4B4C-AAA0-957A848A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75F6-FB0C-4EC5-8C0F-88E59053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440" y="23148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2177-ACF7-44E1-8F12-45D468D6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9900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2844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9425-C3C4-49FA-AFD8-F2F88073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4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E9B2-97CC-4126-A3D3-5E127EC6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9900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9900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881F-3B2D-464E-848D-9AF2EED1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9900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28440" y="396432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7CAB-3683-4A2F-BFAD-6A59D097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28440" y="396432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F527-3952-4E80-B2A2-D5F000FD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9900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2844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9900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55A7-EEB4-45FF-AEC7-29C04F2F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5016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224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2844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5016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224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4FFE-BAE5-409C-ACA8-18891BE3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2B54-4372-4E1A-AB0F-5139D9BC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9900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B622-D333-4569-8F0F-2CBE50EF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AB43-12E7-49DD-8FFB-3B45D305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440" y="23148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932B-98B3-4FE5-A24E-E4DAB6E4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9900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44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F80E-8252-49A1-B57E-9A585E50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9900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9900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8A62-D3A4-42AD-BF7D-9186D271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9900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440" y="396432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01C2-E70B-49F6-BAF7-81B1D487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4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PresentationPr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1268-6125-4D16-A8AC-74EB959E5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284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PresentationPr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58DF-F3F3-4227-AEBD-D7631E72A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5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е дошкольное 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нтр развития детский сад №7 «Алёнуш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81080" y="2057040"/>
            <a:ext cx="65534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Неделя пожарнойбезопасности вДОУ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структор по ФИЗО: Собенникова О.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гт. Первомайский 2019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Юлия\Desktop\фото я\20190404_094326.jpg"/>
          <p:cNvPicPr/>
          <p:nvPr/>
        </p:nvPicPr>
        <p:blipFill>
          <a:blip r:embed="rId1"/>
          <a:stretch/>
        </p:blipFill>
        <p:spPr>
          <a:xfrm>
            <a:off x="5486400" y="1066680"/>
            <a:ext cx="3657600" cy="2971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азвлечение «Кошкин дом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Нижний колонтитул 2"/>
          <p:cNvSpPr/>
          <p:nvPr/>
        </p:nvSpPr>
        <p:spPr>
          <a:xfrm>
            <a:off x="3124080" y="6019920"/>
            <a:ext cx="3581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ервомайский  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C:\Users\Юлия\Desktop\20190405_090105.jpg"/>
          <p:cNvPicPr/>
          <p:nvPr/>
        </p:nvPicPr>
        <p:blipFill>
          <a:blip r:embed="rId2"/>
          <a:stretch/>
        </p:blipFill>
        <p:spPr>
          <a:xfrm>
            <a:off x="3581280" y="3657600"/>
            <a:ext cx="3086280" cy="2743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Users\Юлия\Desktop\фото я\20190404_094500.jpg"/>
          <p:cNvPicPr/>
          <p:nvPr/>
        </p:nvPicPr>
        <p:blipFill>
          <a:blip r:embed="rId3"/>
          <a:stretch/>
        </p:blipFill>
        <p:spPr>
          <a:xfrm>
            <a:off x="1066680" y="990720"/>
            <a:ext cx="3124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23184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азвлечение «Правила пожарные без запинки знай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PresentationPr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C:\Users\Юлия\Desktop\фото я\20190405_103007.jpg"/>
          <p:cNvPicPr/>
          <p:nvPr/>
        </p:nvPicPr>
        <p:blipFill>
          <a:blip r:embed="rId1"/>
          <a:stretch/>
        </p:blipFill>
        <p:spPr>
          <a:xfrm>
            <a:off x="1219320" y="990720"/>
            <a:ext cx="3504960" cy="3504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Users\Юлия\Desktop\фото я\20190405_104043.jpg"/>
          <p:cNvPicPr/>
          <p:nvPr/>
        </p:nvPicPr>
        <p:blipFill>
          <a:blip r:embed="rId2"/>
          <a:stretch/>
        </p:blipFill>
        <p:spPr>
          <a:xfrm>
            <a:off x="5715000" y="91440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Юлия\Desktop\фото я\20190405_092936-1.jpg"/>
          <p:cNvPicPr/>
          <p:nvPr/>
        </p:nvPicPr>
        <p:blipFill>
          <a:blip r:embed="rId3"/>
          <a:stretch/>
        </p:blipFill>
        <p:spPr>
          <a:xfrm>
            <a:off x="3048120" y="3505320"/>
            <a:ext cx="37558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осмотр  Мультфильма «Спасик и его друзь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ервомайский  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C:\Users\Юлия\Desktop\фото я\20190405_104613.jpg"/>
          <p:cNvPicPr/>
          <p:nvPr/>
        </p:nvPicPr>
        <p:blipFill>
          <a:blip r:embed="rId1"/>
          <a:stretch/>
        </p:blipFill>
        <p:spPr>
          <a:xfrm>
            <a:off x="2895480" y="1143000"/>
            <a:ext cx="5486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ижний колонтитул 1"/>
          <p:cNvSpPr/>
          <p:nvPr/>
        </p:nvSpPr>
        <p:spPr>
          <a:xfrm>
            <a:off x="3581280" y="5867280"/>
            <a:ext cx="2895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ервомайский  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2590920" y="273960"/>
            <a:ext cx="6324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зультат</a:t>
            </a:r>
            <a:r>
              <a:rPr b="0" i="1" lang="ru-RU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результате проведенной работ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 проведении мероприятий по пожарной безопасности было выявлено, что все дети четко усвоили номер, по которому нужно вызывать пожарную часть; умеют правильно вести диалог с диспетчером дежурной пожарной части, называют свой домашний адрес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ти знают средства подручные пожаротушения (песок, вода, земля, снег, ткань) и умеют ими пользовать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ти познакомились с профессией пожарного, знают ее  предназначение, многие изъявили желание стать «Пожарным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веденные мероприятия показали, что дети усвоили весь материал, правильно отвечают на поставленные вопросы, осознанно выполняют правила пожарной безопас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формлена стенд по пожарной безопасности , пожарный щит для детей- занакомство с предметами пожарной беопасности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ервомайский  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C:\Users\Юлия\Desktop\фото я\20190405_095908.jpg"/>
          <p:cNvPicPr/>
          <p:nvPr/>
        </p:nvPicPr>
        <p:blipFill>
          <a:blip r:embed="rId1"/>
          <a:stretch/>
        </p:blipFill>
        <p:spPr>
          <a:xfrm>
            <a:off x="5029200" y="1981080"/>
            <a:ext cx="3835440" cy="3733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:\Users\Юлия\Desktop\фото я\20190405_105202.jpg"/>
          <p:cNvPicPr/>
          <p:nvPr/>
        </p:nvPicPr>
        <p:blipFill>
          <a:blip r:embed="rId2"/>
          <a:stretch/>
        </p:blipFill>
        <p:spPr>
          <a:xfrm>
            <a:off x="914400" y="190512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5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90920" y="1600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отивопожарная безопасность- одна из обязательных состовляющимх среды, в которой растет и воспитывается ребенок. Она включает в себя требования к устройству помещения и противопожарную  грамотность- поведение , снижающее риск возникновения пожаров, и навыки, необходимые для действий  в экстримальных ситуац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ошкольные учреждения, кроме всего прочего, должны вести просветительскую работу по профилактике пожаров с детьми и родител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арофилктике пожаров, обучению навыкам поведения в экстрмальных ситуациях и знакомству с профессией пожарного посвящен данный проек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br>
              <a:rPr sz="2400"/>
            </a:b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рмирование у детей осознанного и ответственного отношения к выполнению правил пожарной безопас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8284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да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. Образовате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ать понятие детям, что огонь бывает другом, а бывает и враг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. Развива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рмировать умение реально оценивать возможную опас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мочь детям запомнить правила пожарной безопас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. Воспитате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оспитывать чувство осторожности и самосохра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оспитывать чувства благодарности людям, которые помогают нам в трудных ситуаци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4. Практ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ививать практические навыки поведения детей при возникновении пожа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ервомайкий 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2286000" y="99072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лительность :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краткосрочный с 1-10апре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Тип проекта :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творческий, интегратив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Участники проекта: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оспитатели,  инструктор по ФИЗО, дети ДО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озраст: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от 4-7 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ервомайкий 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1676520" y="380880"/>
            <a:ext cx="73152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Этапы и механизмы реализации прое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 эта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рмулирование целей и задачей прое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дбор литературы, интернет ресурсов по теме прое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формление предметной среды зала и груп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 эта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актическая деятельность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ланирование совместной деятельности, проведение утренних гимнастик по данной теме «Кошкин дом « средний возраст, «Мы пожарные» старший возраст, подвижных игр </a:t>
            </a:r>
            <a:r>
              <a:rPr b="0" lang="ru-RU" sz="1600" spc="-1" strike="noStrike" u="sng">
                <a:solidFill>
                  <a:srgbClr val="ffc000"/>
                </a:solidFill>
                <a:uFillTx/>
                <a:latin typeface="Times New Roman"/>
              </a:rPr>
              <a:t>Дидактические игр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«Сложи картинку»,«Что нужно пожарным?»,«Это я, это я, это все мои друзья»,«Диалог по телефону»«А ну - ка отгадай!»,«Опасные и не опасные предметы»,«Подскажи словечко»;</a:t>
            </a:r>
            <a:r>
              <a:rPr b="0" lang="ru-RU" sz="1600" spc="-1" strike="noStrike" u="sng">
                <a:solidFill>
                  <a:srgbClr val="ffc000"/>
                </a:solidFill>
                <a:uFillTx/>
                <a:latin typeface="Times New Roman"/>
              </a:rPr>
              <a:t>Подвижные игр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«Огненный дракон»,«Потуши пожар»,«Вода и огонь»,«Гори не гори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«Пожарные на учении», «Потуши пожар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 эта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Итог- Проведение мероприятий по данной тем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азвлечение «Кошкин дом» средний возрас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азвлечение «Правила пожарные без запинки знайте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авила пожарные строго соблюдайте!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осмотр мультфильма «Спасик и его друзья», презентации «Правила пожарной безопасности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езентация проекта «Неделя безопасности в ДОУ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ервомайкий 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352680" y="97560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дполагаемый результа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витие уважение к героической профессии </a:t>
            </a:r>
            <a:r>
              <a:rPr b="0" lang="ru-RU" sz="1800" spc="-1" strike="noStrike">
                <a:solidFill>
                  <a:srgbClr val="ffff00"/>
                </a:solidFill>
                <a:latin typeface="Cambria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жарный</a:t>
            </a:r>
            <a:r>
              <a:rPr b="0" lang="ru-RU" sz="1800" spc="-1" strike="noStrike">
                <a:solidFill>
                  <a:srgbClr val="ffff00"/>
                </a:solidFill>
                <a:latin typeface="Cambria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владение детьми навыками правильных действий в случае пожара, осознанное выполнение правил противопожарной безопасн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филактика панического страха перед огнё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полнение методического кабинета пособиями, реквизитами, методической литературой, рекомендациями, конспектами занятий, развлечений по пожарной безопас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ервомайкий 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2209680" y="777600"/>
            <a:ext cx="66294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Cambria"/>
                <a:ea typeface="Times New Roman"/>
              </a:rPr>
              <a:t>В основу проекта положены следующие принцип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нцип системности: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систематическое изучение наиболее вероятных причин возникновения пожаров. Достижение цели обеспечивается решением комплекса задач оздоровительной, образовательной и воспитательной направленности с соответствующим содержанием, что позволяет получить прогнозируемый результат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i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нцип диалогического общения: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неотъемлемое условие взаимодействия субъектов, который отражает тесную связь между взаимной и встречной открытостью, целенаправленное изучение правил безопасного поведения в детском саду и дом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i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нцип доступности и креативности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позволяющий формировать новые знания, умения, навыки в области пожарной безопасности ребёнка на базе уже имеющихся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i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нцип гуманизации: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о главу проекта поставлен ребёнок и забота о его здоровье и безопасност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i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нцип доступности: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редусматривает осуществление воспитательной работы с учетом особенностей возраста, подготовлен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 детьми были проведены беседы и рассмотрены правила по пожарной безопасности. Воспитатели провели познавательные заня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6" descr="C:\Users\Юлия\Desktop\фото я\20190405_105047.jpg"/>
          <p:cNvPicPr/>
          <p:nvPr/>
        </p:nvPicPr>
        <p:blipFill>
          <a:blip r:embed="rId1"/>
          <a:stretch/>
        </p:blipFill>
        <p:spPr>
          <a:xfrm>
            <a:off x="1828800" y="2109960"/>
            <a:ext cx="3505320" cy="3504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Users\Юлия\Desktop\фото я\20190404_101557.jpg"/>
          <p:cNvPicPr/>
          <p:nvPr/>
        </p:nvPicPr>
        <p:blipFill>
          <a:blip r:embed="rId2"/>
          <a:stretch/>
        </p:blipFill>
        <p:spPr>
          <a:xfrm>
            <a:off x="5486400" y="2109960"/>
            <a:ext cx="3505320" cy="350496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C:\Users\Юлия\Desktop\фото я\20190405_102252-1.jpg"/>
          <p:cNvPicPr/>
          <p:nvPr/>
        </p:nvPicPr>
        <p:blipFill>
          <a:blip r:embed="rId1"/>
          <a:stretch/>
        </p:blipFill>
        <p:spPr>
          <a:xfrm>
            <a:off x="1371600" y="304920"/>
            <a:ext cx="3352680" cy="3200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Юлия\Desktop\фото я\20190405_102433.jpg"/>
          <p:cNvPicPr/>
          <p:nvPr/>
        </p:nvPicPr>
        <p:blipFill>
          <a:blip r:embed="rId2"/>
          <a:stretch/>
        </p:blipFill>
        <p:spPr>
          <a:xfrm>
            <a:off x="3200400" y="3124080"/>
            <a:ext cx="3429000" cy="3200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Users\Юлия\Desktop\20190405_102426.jpg"/>
          <p:cNvPicPr/>
          <p:nvPr/>
        </p:nvPicPr>
        <p:blipFill>
          <a:blip r:embed="rId3"/>
          <a:stretch/>
        </p:blipFill>
        <p:spPr>
          <a:xfrm>
            <a:off x="5486400" y="22860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4:41:34Z</dcterms:created>
  <dc:creator/>
  <dc:description/>
  <dc:language>en-US</dc:language>
  <cp:lastModifiedBy>Юлия</cp:lastModifiedBy>
  <dcterms:modified xsi:type="dcterms:W3CDTF">2019-05-08T04:28:20Z</dcterms:modified>
  <cp:revision>126</cp:revision>
  <dc:subject/>
  <dc:title>Муниципальное дошкольное образовательное учреждение Центр развития детский сад №7 «Алёнушка»</dc:title>
</cp:coreProperties>
</file>