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D627-CA14-425D-B65A-215A0EB4A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A256-D24D-4692-BBF6-428462EC4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F4C7-77CE-4034-B338-72A61E06D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3542-FDAB-4565-82CF-26CBEA79F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5E8-260F-4E2F-973A-2946E8A7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A778-85DE-4378-87E3-CC9CBAE9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9900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9B5-A639-419C-B87C-B30443FD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016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2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016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2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A74-76EE-46B1-91AB-1C0C3197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C65C-C62B-46A8-BDC0-CECE77EB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0E22-E402-43C8-A2AB-7B120DB4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0EDD-9DDE-4D3B-9750-2364269A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C6BB-3A66-4118-B8B8-FFFE1353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E916-23C7-4FA2-BD53-9EB05878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440" y="23148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7662-0177-4EBB-82F6-E4CB35BD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2844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556C-6B25-40F0-9456-BCC17FDA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6CA-1B52-4C12-97FF-76ABBC13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9900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3961-D1B9-434A-9FED-D55AB74E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44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6CDB-7E73-48DD-98F4-6EFA7617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2844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C195-B3C7-42C7-B04F-2879CDF3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44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9900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A3B3-5163-4589-AC5F-E71314A1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016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22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284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016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22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F76A-4D60-4E8D-878F-C1238B34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A6A-CB24-48F3-964B-82956B95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D86-95A2-4C1A-A704-D58332A6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1EA-24C2-48D0-8118-CD1D4090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23148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EE5-D44D-4C9D-85A3-0F29BBCF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E5D-3DCD-4948-ACD2-9F3CBA80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9900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E9B-6C91-401B-A63F-5151BB14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9900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575-074D-4604-BD6D-23C1555E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D86E-E56E-4AF5-95CA-1470C93C4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284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BC00-B055-42D4-8F32-AD2453B40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е дошко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нтр развития детский сад №7 «Алёнуш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81080" y="2057040"/>
            <a:ext cx="65534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Неделя пожарнойбезопасности вДОУ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структор по ФИЗО: Собенникова О.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гт. Первомайский 2019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Юлия\Desktop\фото я\20190404_094326.jpg"/>
          <p:cNvPicPr/>
          <p:nvPr/>
        </p:nvPicPr>
        <p:blipFill>
          <a:blip r:embed="rId1"/>
          <a:stretch/>
        </p:blipFill>
        <p:spPr>
          <a:xfrm>
            <a:off x="5486400" y="106668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звлечение «Кошкин до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Нижний колонтитул 2"/>
          <p:cNvSpPr/>
          <p:nvPr/>
        </p:nvSpPr>
        <p:spPr>
          <a:xfrm>
            <a:off x="3124080" y="6019920"/>
            <a:ext cx="3581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ервомайский  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C:\Users\Юлия\Desktop\20190405_090105.jpg"/>
          <p:cNvPicPr/>
          <p:nvPr/>
        </p:nvPicPr>
        <p:blipFill>
          <a:blip r:embed="rId2"/>
          <a:stretch/>
        </p:blipFill>
        <p:spPr>
          <a:xfrm>
            <a:off x="3581280" y="3657600"/>
            <a:ext cx="308628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Юлия\Desktop\фото я\20190404_094500.jpg"/>
          <p:cNvPicPr/>
          <p:nvPr/>
        </p:nvPicPr>
        <p:blipFill>
          <a:blip r:embed="rId3"/>
          <a:stretch/>
        </p:blipFill>
        <p:spPr>
          <a:xfrm>
            <a:off x="1066680" y="990720"/>
            <a:ext cx="3124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31840"/>
            <a:ext cx="784872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звлечение «Правила пожарные без запинки знай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C:\Users\Юлия\Desktop\фото я\20190405_103007.jpg"/>
          <p:cNvPicPr/>
          <p:nvPr/>
        </p:nvPicPr>
        <p:blipFill>
          <a:blip r:embed="rId1"/>
          <a:stretch/>
        </p:blipFill>
        <p:spPr>
          <a:xfrm>
            <a:off x="1219320" y="990720"/>
            <a:ext cx="3504960" cy="3504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Users\Юлия\Desktop\фото я\20190405_104043.jpg"/>
          <p:cNvPicPr/>
          <p:nvPr/>
        </p:nvPicPr>
        <p:blipFill>
          <a:blip r:embed="rId2"/>
          <a:stretch/>
        </p:blipFill>
        <p:spPr>
          <a:xfrm>
            <a:off x="5715000" y="91440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Юлия\Desktop\фото я\20190405_092936-1.jpg"/>
          <p:cNvPicPr/>
          <p:nvPr/>
        </p:nvPicPr>
        <p:blipFill>
          <a:blip r:embed="rId3"/>
          <a:stretch/>
        </p:blipFill>
        <p:spPr>
          <a:xfrm>
            <a:off x="3048120" y="3505320"/>
            <a:ext cx="37558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осмотр  Мультфильма «Спасик и его друзь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ервомайский  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C:\Users\Юлия\Desktop\фото я\20190405_104613.jpg"/>
          <p:cNvPicPr/>
          <p:nvPr/>
        </p:nvPicPr>
        <p:blipFill>
          <a:blip r:embed="rId1"/>
          <a:stretch/>
        </p:blipFill>
        <p:spPr>
          <a:xfrm>
            <a:off x="2895480" y="1143000"/>
            <a:ext cx="5486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ижний колонтитул 1"/>
          <p:cNvSpPr/>
          <p:nvPr/>
        </p:nvSpPr>
        <p:spPr>
          <a:xfrm>
            <a:off x="3581280" y="5867280"/>
            <a:ext cx="2895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ервомайский  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2590920" y="273960"/>
            <a:ext cx="6324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зультат</a:t>
            </a:r>
            <a:r>
              <a:rPr b="0" i="1" lang="ru-RU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результате проведенной работ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роведении мероприятий по пожарной безопасности было выявлено, что все дети четко усвоили номер, по которому нужно вызывать пожарную часть; умеют правильно вести диалог с диспетчером дежурной пожарной части, называют свой домашний адре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и знают средства подручные пожаротушения (песок, вода, земля, снег, ткань) и умеют ими пользовать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и познакомились с профессией пожарного, знают ее  предназначение, многие изъявили желание стать «Пожарным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веденные мероприятия показали, что дети усвоили весь материал, правильно отвечают на поставленные вопросы, осознанно выполняют правила пожарной безопас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формлена стенд по пожарной безопасности , пожарный щит для детей- занакомство с предметами пожарной беопасности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ервомайский  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C:\Users\Юлия\Desktop\фото я\20190405_095908.jpg"/>
          <p:cNvPicPr/>
          <p:nvPr/>
        </p:nvPicPr>
        <p:blipFill>
          <a:blip r:embed="rId1"/>
          <a:stretch/>
        </p:blipFill>
        <p:spPr>
          <a:xfrm>
            <a:off x="5029200" y="1981080"/>
            <a:ext cx="3835440" cy="3733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Юлия\Desktop\фото я\20190405_105202.jpg"/>
          <p:cNvPicPr/>
          <p:nvPr/>
        </p:nvPicPr>
        <p:blipFill>
          <a:blip r:embed="rId2"/>
          <a:stretch/>
        </p:blipFill>
        <p:spPr>
          <a:xfrm>
            <a:off x="914400" y="19051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5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90920" y="1600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отивопожарная безопасность- одна из обязательных состовляющимх среды, в которой растет и воспитывается ребенок. Она включает в себя требования к устройству помещения и противопожарную  грамотность- поведение , снижающее риск возникновения пожаров, и навыки, необходимые для действий  в экстримальных ситуац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школьные учреждения, кроме всего прочего, должны вести просветительскую работу по профилактике пожаров с детьми и родител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арофилктике пожаров, обучению навыкам поведения в экстрмальных ситуациях и знакомству с профессией пожарного посвящен данный проек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br>
              <a:rPr sz="2400"/>
            </a:b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ование у детей осознанного и ответственного отношения к выполнению правил пожарной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284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. Образова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ать понятие детям, что огонь бывает другом, а бывает и вра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. Развив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овать умение реально оценивать возможную опас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мочь детям запомнить правила пожарной безопас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. Воспита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оспитывать чувство осторожности и самосохра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оспитывать чувства благодарности людям, которые помогают нам в трудных ситуац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. Прак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ививать практические навыки поведения детей при возникновении пожа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ервомайкий 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286000" y="99072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лительность :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краткосрочный с 1-10апр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ип проекта :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ворческий, интегратив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частники проекта: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оспитатели,  инструктор по ФИЗО, дети ДО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озраст: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от 4-7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ервомайкий 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1676520" y="380880"/>
            <a:ext cx="73152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Этапы и механизмы реализации прое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 эта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улирование целей и задачей прое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дбор литературы, интернет ресурсов по теме прое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формление предметной среды зала и 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 эта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актическая деятельность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ланирование совместной деятельности, проведение утренних гимнастик по данной теме «Кошкин дом « средний возраст, «Мы пожарные» старший возраст, подвижных игр </a:t>
            </a:r>
            <a:r>
              <a:rPr b="0" lang="ru-RU" sz="1600" spc="-1" strike="noStrike" u="sng">
                <a:solidFill>
                  <a:srgbClr val="ffc000"/>
                </a:solidFill>
                <a:uFillTx/>
                <a:latin typeface="Times New Roman"/>
              </a:rPr>
              <a:t>Дидактические игр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«Сложи картинку»,«Что нужно пожарным?»,«Это я, это я, это все мои друзья»,«Диалог по телефону»«А ну - ка отгадай!»,«Опасные и не опасные предметы»,«Подскажи словечко»;</a:t>
            </a:r>
            <a:r>
              <a:rPr b="0" lang="ru-RU" sz="1600" spc="-1" strike="noStrike" u="sng">
                <a:solidFill>
                  <a:srgbClr val="ffc000"/>
                </a:solidFill>
                <a:uFillTx/>
                <a:latin typeface="Times New Roman"/>
              </a:rPr>
              <a:t>Подвижные игр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«Огненный дракон»,«Потуши пожар»,«Вода и огонь»,«Гори не гори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</a:rPr>
              <a:t>«Пожарные на учении», «Потуши пожар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 эта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Итог- Проведение мероприятий по данной тем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звлечение «Кошкин дом» средний возрас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звлечение «Правила пожарные без запинки знайте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авила пожарные строго соблюдайте!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осмотр мультфильма «Спасик и его друзья», презентации «Правила пожарной безопасност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езентация проекта «Неделя безопасности в ДОУ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ервомайкий 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352680" y="97560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полагаемый результа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витие уважение к героической профессии </a:t>
            </a:r>
            <a:r>
              <a:rPr b="0" lang="ru-RU" sz="1800" spc="-1" strike="noStrike">
                <a:solidFill>
                  <a:srgbClr val="ffff00"/>
                </a:solidFill>
                <a:latin typeface="Cambria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жарный</a:t>
            </a:r>
            <a:r>
              <a:rPr b="0" lang="ru-RU" sz="1800" spc="-1" strike="noStrike">
                <a:solidFill>
                  <a:srgbClr val="ffff00"/>
                </a:solidFill>
                <a:latin typeface="Cambria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владение детьми навыками правильных действий в случае пожара, осознанное выполнение правил противопожарной безопас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филактика панического страха перед огнё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олнение методического кабинета пособиями, реквизитами, методической литературой, рекомендациями, конспектами занятий, развлечений по пожарной безопас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Первомайкий 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2209680" y="777600"/>
            <a:ext cx="66294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ambria"/>
                <a:ea typeface="Times New Roman"/>
              </a:rPr>
              <a:t>В основу проекта положены следующие принцип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нцип системности: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систематическое изучение наиболее вероятных причин возникновения пожаров. Достижение цели обеспечивается решением комплекса задач оздоровительной, образовательной и воспитательной направленности с соответствующим содержанием, что позволяет получить прогнозируемый результат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i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нцип диалогического общения: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еотъемлемое условие взаимодействия субъектов, который отражает тесную связь между взаимной и встречной открытостью, целенаправленное изучение правил безопасного поведения в детском саду и дом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нцип доступности и креативности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позволяющий формировать новые знания, умения, навыки в области пожарной безопасности ребёнка на базе уже имеющихс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нцип гуманизации: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о главу проекта поставлен ребёнок и забота о его здоровье и безопасност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нцип доступности:</a:t>
            </a:r>
            <a:r>
              <a:rPr b="0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едусматривает осуществление воспитательной работы с учетом особенностей возраста, подготовлен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231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детьми были проведены беседы и рассмотрены правила по пожарной безопасности. Воспитатели провели познавательные заня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C:\Users\Юлия\Desktop\фото я\20190405_105047.jpg"/>
          <p:cNvPicPr/>
          <p:nvPr/>
        </p:nvPicPr>
        <p:blipFill>
          <a:blip r:embed="rId1"/>
          <a:stretch/>
        </p:blipFill>
        <p:spPr>
          <a:xfrm>
            <a:off x="1828800" y="2109960"/>
            <a:ext cx="3505320" cy="350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Юлия\Desktop\фото я\20190404_101557.jpg"/>
          <p:cNvPicPr/>
          <p:nvPr/>
        </p:nvPicPr>
        <p:blipFill>
          <a:blip r:embed="rId2"/>
          <a:stretch/>
        </p:blipFill>
        <p:spPr>
          <a:xfrm>
            <a:off x="5486400" y="210996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2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C:\Users\Юлия\Desktop\фото я\20190405_102252-1.jpg"/>
          <p:cNvPicPr/>
          <p:nvPr/>
        </p:nvPicPr>
        <p:blipFill>
          <a:blip r:embed="rId1"/>
          <a:stretch/>
        </p:blipFill>
        <p:spPr>
          <a:xfrm>
            <a:off x="1371600" y="304920"/>
            <a:ext cx="3352680" cy="320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Юлия\Desktop\фото я\20190405_102433.jpg"/>
          <p:cNvPicPr/>
          <p:nvPr/>
        </p:nvPicPr>
        <p:blipFill>
          <a:blip r:embed="rId2"/>
          <a:stretch/>
        </p:blipFill>
        <p:spPr>
          <a:xfrm>
            <a:off x="3200400" y="312408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Юлия\Desktop\20190405_102426.jpg"/>
          <p:cNvPicPr/>
          <p:nvPr/>
        </p:nvPicPr>
        <p:blipFill>
          <a:blip r:embed="rId3"/>
          <a:stretch/>
        </p:blipFill>
        <p:spPr>
          <a:xfrm>
            <a:off x="5486400" y="2286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4:41:34Z</dcterms:created>
  <dc:creator/>
  <dc:description/>
  <dc:language>en-US</dc:language>
  <cp:lastModifiedBy>Юлия</cp:lastModifiedBy>
  <dcterms:modified xsi:type="dcterms:W3CDTF">2019-05-08T04:28:20Z</dcterms:modified>
  <cp:revision>126</cp:revision>
  <dc:subject/>
  <dc:title>Муниципальное дошкольное образовательное учреждение Центр развития детский сад №7 «Алёнушка»</dc:title>
</cp:coreProperties>
</file>