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FAF-AB24-4FE5-952B-8EDF170E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43F-E463-47E6-A101-FE3E7E28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883-C7B3-4101-BCD9-8CC78E9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A4E-FC06-445A-A79A-13A54FEF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705-4D2F-44D4-917E-A6E1FC7B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A13-48C3-4E42-AD89-6B9CC4A1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B63-1950-4114-B29E-A705C4C6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7D6-7992-4728-B7F1-2E7DA93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D28-1B76-4A26-822C-981F023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17F-6200-4010-887E-981306D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440-899B-4F20-BF42-9CC899F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9D1-CA35-4996-A8AD-49C35A7D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8A73-A4B6-4E77-A137-A1AE4B2DE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Black"/>
              </a:rPr>
              <a:t>«Как лесные  жители готовятся к зим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2457360" y="504720"/>
            <a:ext cx="422928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266688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22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5575320" y="1771560"/>
            <a:ext cx="3568680" cy="5086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5"/>
          <a:stretch/>
        </p:blipFill>
        <p:spPr>
          <a:xfrm>
            <a:off x="380880" y="1371600"/>
            <a:ext cx="203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609480" y="380880"/>
            <a:ext cx="4267440" cy="308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&amp;Kcy;&amp;acy;&amp;rcy;&amp;tcy;&amp;icy;&amp;ncy;&amp;kcy;&amp;icy; &amp;pcy;&amp;ocy; &amp;zcy;&amp;acy;&amp;pcy;&amp;rcy;&amp;ocy;&amp;scy;&amp;ucy; &amp;Vcy;&amp;Ocy;&amp;Lcy;&amp;Kcy;"/>
          <p:cNvPicPr/>
          <p:nvPr/>
        </p:nvPicPr>
        <p:blipFill>
          <a:blip r:embed="rId3"/>
          <a:stretch/>
        </p:blipFill>
        <p:spPr>
          <a:xfrm>
            <a:off x="4114800" y="3724200"/>
            <a:ext cx="4416480" cy="276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3240" y="25142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ВОЛ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990720" y="35812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ЛИ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4038480" y="3479760"/>
            <a:ext cx="4496040" cy="299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838080" y="457200"/>
            <a:ext cx="3962520" cy="313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4876920" y="609480"/>
            <a:ext cx="4114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905120" y="990720"/>
            <a:ext cx="5790960" cy="433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53337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МЫШ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219320" y="3429000"/>
            <a:ext cx="3657600" cy="261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33520" y="457200"/>
            <a:ext cx="4419360" cy="275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4876920" y="2743200"/>
            <a:ext cx="3733560" cy="23274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7"/>
          <p:cNvSpPr/>
          <p:nvPr/>
        </p:nvSpPr>
        <p:spPr>
          <a:xfrm>
            <a:off x="0" y="304920"/>
            <a:ext cx="69912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5"/>
          <a:stretch/>
        </p:blipFill>
        <p:spPr>
          <a:xfrm>
            <a:off x="4876920" y="380880"/>
            <a:ext cx="3886200" cy="234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6"/>
          <a:stretch/>
        </p:blipFill>
        <p:spPr>
          <a:xfrm>
            <a:off x="5029200" y="4883040"/>
            <a:ext cx="3276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447920" y="838080"/>
            <a:ext cx="5790960" cy="4243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5867280" y="51814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&amp;Kcy;&amp;acy;&amp;rcy;&amp;tcy;&amp;icy;&amp;ncy;&amp;kcy;&amp;icy; &amp;pcy;&amp;ocy; &amp;zcy;&amp;acy;&amp;pcy;&amp;rcy;&amp;ocy;&amp;scy;&amp;ucy; &amp;Ucy;&amp;Tcy;&amp;Kcy;&amp;Icy; &amp;Scy;&amp;Ocy;&amp;Bcy;&amp;Icy;&amp;Rcy;&amp;Acy;&amp;YUcy;&amp;Tcy;&amp;Scy;&amp;YAcy; &amp;Ncy;&amp;Acy;&amp;YUcy;&amp;Gcy;"/>
          <p:cNvPicPr/>
          <p:nvPr/>
        </p:nvPicPr>
        <p:blipFill>
          <a:blip r:embed="rId2"/>
          <a:stretch/>
        </p:blipFill>
        <p:spPr>
          <a:xfrm>
            <a:off x="3505320" y="32767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0"/>
          <p:cNvSpPr/>
          <p:nvPr/>
        </p:nvSpPr>
        <p:spPr>
          <a:xfrm>
            <a:off x="2571840" y="2338560"/>
            <a:ext cx="4000320" cy="21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&amp;Kcy;&amp;acy;&amp;rcy;&amp;tcy;&amp;icy;&amp;ncy;&amp;kcy;&amp;icy; &amp;pcy;&amp;ocy; &amp;zcy;&amp;acy;&amp;pcy;&amp;rcy;&amp;ocy;&amp;scy;&amp;ucy; &amp;Ucy;&amp;Tcy;&amp;Kcy;&amp;Icy; &amp;Scy;&amp;Ocy;&amp;Bcy;&amp;Icy;&amp;Rcy;&amp;Acy;&amp;YUcy;&amp;Tcy;&amp;Scy;&amp;YAcy; &amp;Ncy;&amp;Acy;&amp;YUcy;&amp;Gcy;"/>
          <p:cNvPicPr/>
          <p:nvPr/>
        </p:nvPicPr>
        <p:blipFill>
          <a:blip r:embed="rId3"/>
          <a:stretch/>
        </p:blipFill>
        <p:spPr>
          <a:xfrm>
            <a:off x="609480" y="380880"/>
            <a:ext cx="4572000" cy="290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5257800" y="762120"/>
            <a:ext cx="3886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2"/>
          <a:stretch/>
        </p:blipFill>
        <p:spPr>
          <a:xfrm>
            <a:off x="838080" y="380880"/>
            <a:ext cx="371952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3"/>
          <a:stretch/>
        </p:blipFill>
        <p:spPr>
          <a:xfrm>
            <a:off x="4952880" y="304920"/>
            <a:ext cx="3719520" cy="6172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&amp;Kcy;&amp;acy;&amp;rcy;&amp;tcy;&amp;icy;&amp;ncy;&amp;kcy;&amp;icy; &amp;pcy;&amp;ocy; &amp;zcy;&amp;acy;&amp;pcy;&amp;rcy;&amp;ocy;&amp;scy;&amp;ucy; &amp;Scy;&amp;Mcy;&amp;Acy;&amp;Jcy;&amp;Lcy;&amp;Icy;&amp;Kcy; &amp;Mcy;&amp;Ocy;&amp;Lcy;&amp;Ocy;&amp;Dcy;&amp;IEcy;&amp;TScy;"/>
          <p:cNvPicPr/>
          <p:nvPr/>
        </p:nvPicPr>
        <p:blipFill>
          <a:blip r:embed="rId4"/>
          <a:stretch/>
        </p:blipFill>
        <p:spPr>
          <a:xfrm>
            <a:off x="3276720" y="1371600"/>
            <a:ext cx="4343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&amp;Kcy;&amp;acy;&amp;rcy;&amp;tcy;&amp;icy;&amp;ncy;&amp;kcy;&amp;icy; &amp;pcy;&amp;ocy; &amp;zcy;&amp;acy;&amp;pcy;&amp;rcy;&amp;ocy;&amp;scy;&amp;ucy; &amp;iecy;&amp;zhcy;&amp;icy;&amp;kcy;"/>
          <p:cNvPicPr/>
          <p:nvPr/>
        </p:nvPicPr>
        <p:blipFill>
          <a:blip r:embed="rId2"/>
          <a:stretch/>
        </p:blipFill>
        <p:spPr>
          <a:xfrm>
            <a:off x="1143000" y="685800"/>
            <a:ext cx="716292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5409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Ё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&amp;Kcy;&amp;acy;&amp;rcy;&amp;tcy;&amp;icy;&amp;ncy;&amp;kcy;&amp;icy; &amp;pcy;&amp;ocy; &amp;zcy;&amp;acy;&amp;pcy;&amp;rcy;&amp;ocy;&amp;scy;&amp;ucy; &amp;iecy;&amp;zhcy; &amp;vcy; &amp;ocy;&amp;scy;&amp;iecy;&amp;ncy;&amp;ncy;&amp;iecy;&amp;mcy; &amp;lcy;&amp;iecy;&amp;scy;&amp;ucy;"/>
          <p:cNvPicPr/>
          <p:nvPr/>
        </p:nvPicPr>
        <p:blipFill>
          <a:blip r:embed="rId2"/>
          <a:stretch/>
        </p:blipFill>
        <p:spPr>
          <a:xfrm>
            <a:off x="609480" y="380880"/>
            <a:ext cx="4724640" cy="3778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4343400" y="3352680"/>
            <a:ext cx="4281480" cy="3206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5410080" y="685800"/>
            <a:ext cx="3581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81480" y="5486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БЕ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&amp;Kcy;&amp;acy;&amp;rcy;&amp;tcy;&amp;icy;&amp;ncy;&amp;kcy;&amp;icy; &amp;pcy;&amp;ocy; &amp;zcy;&amp;acy;&amp;pcy;&amp;rcy;&amp;ocy;&amp;scy;&amp;ucy; &amp;Bcy;&amp;IEcy;&amp;Lcy;&amp;Kcy;&amp;Acy;"/>
          <p:cNvPicPr/>
          <p:nvPr/>
        </p:nvPicPr>
        <p:blipFill>
          <a:blip r:embed="rId2"/>
          <a:stretch/>
        </p:blipFill>
        <p:spPr>
          <a:xfrm>
            <a:off x="2000160" y="1509840"/>
            <a:ext cx="5143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&amp;Kcy;&amp;acy;&amp;rcy;&amp;tcy;&amp;icy;&amp;ncy;&amp;kcy;&amp;icy; &amp;pcy;&amp;ocy; &amp;zcy;&amp;acy;&amp;pcy;&amp;rcy;&amp;ocy;&amp;scy;&amp;ucy; &amp;Bcy;&amp;IEcy;&amp;Lcy;&amp;Kcy;&amp;Acy; &amp;Dcy;&amp;IEcy;&amp;Lcy;&amp;Acy;&amp;IEcy;&amp;Tcy; &amp;Zcy;&amp;Acy;&amp;Pcy;&amp;Acy;&amp;Scy;&amp;Ycy;"/>
          <p:cNvPicPr/>
          <p:nvPr/>
        </p:nvPicPr>
        <p:blipFill>
          <a:blip r:embed="rId2"/>
          <a:stretch/>
        </p:blipFill>
        <p:spPr>
          <a:xfrm>
            <a:off x="5257800" y="3886200"/>
            <a:ext cx="2819520" cy="211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685800" y="609480"/>
            <a:ext cx="3048120" cy="244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4419720" y="762120"/>
            <a:ext cx="4038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133720" y="3276720"/>
            <a:ext cx="2379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81480" y="53337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ЗАЯ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523880" y="838080"/>
            <a:ext cx="579132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&amp;Kcy;&amp;acy;&amp;rcy;&amp;tcy;&amp;icy;&amp;ncy;&amp;kcy;&amp;icy; &amp;pcy;&amp;ocy; &amp;zcy;&amp;acy;&amp;pcy;&amp;rcy;&amp;ocy;&amp;scy;&amp;ucy; &amp;Zcy;&amp;Acy;&amp;YAcy;&amp;TScy;  &amp;Zcy;&amp;Icy;&amp;Mcy;&amp;Ocy;&amp;Jcy;  &amp;Pcy;&amp;Icy;&amp;Tcy;&amp;Acy;&amp;IEcy;&amp;Tcy;&amp;Scy;&amp;YAcy;"/>
          <p:cNvPicPr/>
          <p:nvPr/>
        </p:nvPicPr>
        <p:blipFill>
          <a:blip r:embed="rId2"/>
          <a:stretch/>
        </p:blipFill>
        <p:spPr>
          <a:xfrm>
            <a:off x="2971800" y="2971800"/>
            <a:ext cx="5381640" cy="358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&amp;Kcy;&amp;acy;&amp;rcy;&amp;tcy;&amp;icy;&amp;ncy;&amp;kcy;&amp;icy; &amp;pcy;&amp;ocy; &amp;zcy;&amp;acy;&amp;pcy;&amp;rcy;&amp;ocy;&amp;scy;&amp;ucy; &amp;Zcy;&amp;Acy;&amp;YAcy;&amp;TScy;  &amp;Zcy;&amp;Icy;&amp;Mcy;&amp;Ocy;&amp;Jcy;  &amp;Pcy;&amp;Icy;&amp;Tcy;&amp;Acy;&amp;IEcy;&amp;Tcy;&amp;Scy;&amp;YAcy;"/>
          <p:cNvPicPr/>
          <p:nvPr/>
        </p:nvPicPr>
        <p:blipFill>
          <a:blip r:embed="rId3"/>
          <a:stretch/>
        </p:blipFill>
        <p:spPr>
          <a:xfrm>
            <a:off x="609480" y="533520"/>
            <a:ext cx="38484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4952880" y="609480"/>
            <a:ext cx="3276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752480" y="83808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33560" y="53337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МЕДВЕ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590920" y="4572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685800" y="38088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2743200" y="2971800"/>
            <a:ext cx="5257800" cy="349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6019920" y="990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chine</cp:lastModifiedBy>
  <dcterms:modified xsi:type="dcterms:W3CDTF">2019-05-11T18:41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