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3.jpeg" ContentType="image/jpeg"/>
  <Override PartName="/ppt/media/image19.wmf" ContentType="image/x-wmf"/>
  <Override PartName="/ppt/media/image16.wmf" ContentType="image/x-wmf"/>
  <Override PartName="/ppt/media/image8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30.png" ContentType="image/png"/>
  <Override PartName="/ppt/media/image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0.png" ContentType="image/png"/>
  <Override PartName="/ppt/media/image18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4.png" ContentType="image/png"/>
  <Override PartName="/ppt/media/image17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DADD-4BCF-4779-81B4-840A36D7D7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EC3E-155F-4B98-AEFA-4DB5DDCDEB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14C5-C288-4BF3-B1D9-EF47A672ED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6FAC-26A5-4F7B-B25D-EE2F7EF1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CB70-1951-46DB-929E-44C575FF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DC158-0D49-43E0-88B6-A3780D14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9962D-C7DB-4A95-9E73-392FDBDF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175F2-86E5-42B8-9EB5-25581146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84E03-1454-4A52-96E9-28867950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A4262-FEFB-4D1A-808C-D8F73ECB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76075-67C4-4B7D-A139-59E15F6D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E5326-F3E2-404A-BCF2-F29C9B94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BF9E3-01D5-4634-8BE5-D1810C1C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1C019-7F2A-4DCF-90FB-477E3BF7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F8F7-8A1B-42D7-A03E-29ED2D1C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4EF8-BC02-4EA4-9C93-A38AA2B0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AC15-2A39-44F7-8586-80ED8273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98A7-1697-4C92-BDB2-877CC050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6691-A137-4EBC-86E7-55FD0B36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8656-1531-4477-A372-54FA0247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B08D-9257-4C3C-89CD-D2C9C524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E252-2F39-40AF-A55E-C151D10C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3C9E-52DF-440A-BED6-05A6E9A6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79A9-B72C-4891-99EA-F5510633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16E3-C635-4278-82AF-D73E66AE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A827-01A2-4AEC-B93A-48E837CE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894F-4151-48A2-B791-9DAA1C7C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4D6C-3CFD-4990-8032-5A358EC9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C7AB-8BBB-488D-A3E3-3338462F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1673E-0E24-4600-9FB8-EB07206E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38104-5621-428A-89B5-F9F4C3D9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60198-11C4-4A83-879B-A368FBCF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3DF69-D526-452E-97B4-AC5E37FD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0CFA6-16C9-47F9-9B26-9297AE16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C39B-32C2-40E7-BB89-D558DF93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F3782-DE78-4FFD-8E53-86C137C8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E36D2-B059-4E9F-BE5F-A8C87904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F8578-A6AD-4192-B3F4-24E2E8D9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2AF4A-0FE9-44AB-BC5A-88F3080A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DD8CA-ECAA-4582-B59D-4ECE02A8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6A8AE-396D-4E59-A90A-E165A9C9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FD5D6-0572-4324-B1A2-4CC6E2E9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81523-E81D-430B-8B2D-3FED9015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A6077-E53E-4346-8291-FB662983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C47C4-474C-41E0-968F-E3C4B9C3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529C-DD28-4571-9CFA-E222EE6D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BAC70-C04F-4424-9D38-6305A551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406C0-646D-4B3C-905D-A9963B68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ACEE3-E29C-4ADC-9706-FBD90671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39B71-D90A-4232-8D62-D829E102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6D7E6-2244-4CA8-91F5-F0157814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0459D-D36F-4152-8C29-A20DB15D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BB77A-B4F2-4CFC-8B79-B4A0592F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5A5AF-0C92-4882-9CE5-279B9456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21B21-72DA-4374-A310-B4D2589A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DFFC0-776F-4AB5-8045-0DE1F2CF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8BA1-40E3-42E1-B87D-0371935F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1FCF0-09FC-4C8B-A77F-9473C5B6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3DA68-74BC-4D15-9F6D-4D10A503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E86E4-4628-43AA-AB91-B4F154AD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4E559-D2A5-4BBE-812A-A92DF242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1FE54-C292-4E2B-AB9F-FE22E9D9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E2EB2-97E3-4D14-80A1-B2DD35A2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172D5-A86F-46DE-BEB4-FA6F1086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493EA-2702-4C1F-85D6-3645476B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1D7D3-0927-4BDF-B280-2A94B3CC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223F9-6302-4608-8161-E0D910AE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CF7E-74C2-439C-A38F-D271AA91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C9316-3DDF-49B5-B66D-A8CDA08D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73A7B-C9D6-4DF5-AF21-B12F4263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06318-B3DC-4C16-A5C0-6FD497C5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A1C8D-140E-4D0F-B54A-D5C7D413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D994D-275D-4736-94CE-6F4F67C3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2530A-A97D-4A0D-A299-8B73BFA9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47947-DB92-45E9-A0D1-3CCC3287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DC718-2C69-4947-8DD6-8E02D2AE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B0C2F-2FF7-44EE-8757-A129E2AA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78B10-9E4B-41EA-B0F5-6E725B42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E632-0954-43F5-9B8E-54F94C6B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B54E3-0AB6-4609-AFBC-0DE78AC7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B7654-C9FD-4854-ADF6-822870FD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7958C-F7B8-416E-B804-58BF1BD3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13856-1858-440A-97AB-D3FADA6A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DB63C-8C70-4845-8021-A7664C6E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F9F95-28B1-4F01-A429-F299C64A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90622-43FB-43BF-8265-9656FF23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0B89C-2388-4C1B-B057-9C5A345A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5FFEA-439A-4342-80AD-BB7BFEFF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658F9-C8BD-4949-A9EC-6EA706C7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7545-5169-4E93-8E4A-D24EDFB6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43DC5-01BD-413D-8C05-DDFF865E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77869-6F8B-4F2E-82B8-659E7E38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788F2-3DB8-48DF-9B09-56FC38E8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78C6A-6200-4E8E-A519-BF476191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1063F-2E41-4AED-9047-800DEF07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9699D-4A93-4CE3-BD28-3D61F147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4B316-0FBA-493D-8FF3-2F2B520B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FEC4E-95E1-4F8B-85D7-8B22ED49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DDF9A-C166-4DCF-8A15-A9E6C4BA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90DC4-462B-42DC-829A-6A32C630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82A8-990B-4141-B057-B4BD39D7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072C5-0F53-4AFD-8644-6E926065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41784-4CFB-408A-ACF4-039DF6CF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BC1F0-D4A4-4AAD-AC4E-74EF6057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73FB2-F2EE-4D38-A755-74E27C04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4780C-36A8-4349-A200-651828C0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9AFD6-24B0-4459-A7DE-0B9AC4A9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8EB6F-EB4F-4B19-BF11-40A8936B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F887C-8209-4E23-A801-E062498F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7BBB5-2482-46C5-B579-61C6E40C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4F1A7-5013-477B-AE45-97C67E7F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79CF-8857-425F-9FA7-3E71E09364D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CAD8-2B76-40FE-BAA7-BFD8FCA0447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CFAA-AE15-48CC-BDAE-D5B601B46C8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9C49-1CAC-4225-A540-EB60E72D5E7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F6BA-1469-43A2-A165-9CAB6A99C00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03D9-7A2F-4A61-B7C8-E869C4EEF4C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A395-B923-4811-A8DD-DE3E90CF114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A422-4D0D-4A6C-9E78-F1F754C48CC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364E-BFB4-4C05-A66A-5AA864BAE87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536400" y="762120"/>
            <a:ext cx="8474400" cy="310356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408" name="Picture 2" descr="http://www.orenburg.ru/upload/medialibrary/9cf/tdeavpanwqjqmorwpj.jpg"/>
          <p:cNvPicPr/>
          <p:nvPr/>
        </p:nvPicPr>
        <p:blipFill>
          <a:blip r:embed="rId2"/>
          <a:stretch/>
        </p:blipFill>
        <p:spPr>
          <a:xfrm>
            <a:off x="250920" y="2708280"/>
            <a:ext cx="4324320" cy="28814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http://www.art-in-life.ru/uploads/image/%D0%B4%D0%BB%D1%8F%20%D0%BF%D0%BE%D0%B4%D1%80%D0%BE%D1%81%D1%82%D0%BA%D0%BE%D0%B2.jpg"/>
          <p:cNvPicPr/>
          <p:nvPr/>
        </p:nvPicPr>
        <p:blipFill>
          <a:blip r:embed="rId3"/>
          <a:srcRect l="0" t="0" r="4507" b="0"/>
          <a:stretch/>
        </p:blipFill>
        <p:spPr>
          <a:xfrm>
            <a:off x="4716360" y="3429000"/>
            <a:ext cx="4183200" cy="2917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Rectangle 2" descr=""/>
          <p:cNvPicPr/>
          <p:nvPr/>
        </p:nvPicPr>
        <p:blipFill>
          <a:blip r:embed="rId1"/>
          <a:stretch/>
        </p:blipFill>
        <p:spPr>
          <a:xfrm>
            <a:off x="171360" y="146160"/>
            <a:ext cx="8801280" cy="16524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539280" y="162864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Не стремитесь доминировать во чтобы то ни стало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Будьте принципиальны, но не боритесь за принципы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Помните, принципиальность хороша, но не всегд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ритикуйте, но не критиканствуйте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Чаще улыбайтесь. Улыбка мало стоит, но дорого ценится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Традиции хороши до определенного предел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Сказать правду тоже надо уметь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Будьте независимы, но не самоуверенны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Не превращайте настойчивость в назойливость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Не переоценивайте свои способности в возможности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Не проявляйте инициативу там, где в ней не нуждаются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Проявляйте доброжелательность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Проявляйте выдержку и спокойствие в любой ситуации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Реализуйте себя в творчестве, а не в конфликтах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1"/>
          <a:stretch/>
        </p:blipFill>
        <p:spPr>
          <a:xfrm>
            <a:off x="1365120" y="396720"/>
            <a:ext cx="7785360" cy="103032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250560" y="1557000"/>
            <a:ext cx="3600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 профилактическим мероприятиям можно отнести увлечение любыми видами спорта, увеличение активности человека, что способствует нормализации настроения, расширит круг знакомства и тем самым отвлечет от возможных мыслей покончить жизнь самоубийством. Полноценный ночной сон, пребывание на дневном свете, полноценное питание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Прямоугольник 3"/>
          <p:cNvSpPr/>
          <p:nvPr/>
        </p:nvSpPr>
        <p:spPr>
          <a:xfrm>
            <a:off x="900000" y="33336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3737"/>
                </a:solidFill>
                <a:latin typeface="Franklin Gothic Book"/>
              </a:rPr>
              <a:t>Профилактика суицида и суицидального повед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8" descr="http://i.zentr-pomoch.ru/u/28/03fbca4d5311e49c450012c0679388/-/bba2e07a3f9c80c9ec5c774b35b2b85d.jpg"/>
          <p:cNvPicPr/>
          <p:nvPr/>
        </p:nvPicPr>
        <p:blipFill>
          <a:blip r:embed="rId2"/>
          <a:srcRect l="10705" t="0" r="13696" b="0"/>
          <a:stretch/>
        </p:blipFill>
        <p:spPr>
          <a:xfrm>
            <a:off x="4211640" y="1989000"/>
            <a:ext cx="4932360" cy="36687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http://culture.mchs.gov.ru/upload/learning/img/Les9/435tyhf.JPG"/>
          <p:cNvPicPr/>
          <p:nvPr/>
        </p:nvPicPr>
        <p:blipFill>
          <a:blip r:embed="rId1"/>
          <a:stretch/>
        </p:blipFill>
        <p:spPr>
          <a:xfrm>
            <a:off x="193680" y="189000"/>
            <a:ext cx="868356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Заголовок 3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" descr="C:\Users\adm\Desktop\0009-009-Spasibo-za-vnimani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676440" y="182520"/>
            <a:ext cx="8223120" cy="22431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8" descr="http://iamhuman.ru/images/upload_images/1245517/01-logo_bf1db.jpg"/>
          <p:cNvPicPr/>
          <p:nvPr/>
        </p:nvPicPr>
        <p:blipFill>
          <a:blip r:embed="rId2"/>
          <a:stretch/>
        </p:blipFill>
        <p:spPr>
          <a:xfrm>
            <a:off x="1619280" y="2637000"/>
            <a:ext cx="5545080" cy="36954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-6480" y="-609480"/>
            <a:ext cx="8375760" cy="26398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-360" y="1557360"/>
            <a:ext cx="62643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уховное здоровь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физическое здоровь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циальное здоровь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щественное здоровь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ндивидуальное здоровь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Picture 2" descr="http://mediasubs.ru/group/uploads/zd/zdorove-bez-vrachej-i-lekarstv-/image/1389433025-931126-698396.png"/>
          <p:cNvPicPr/>
          <p:nvPr/>
        </p:nvPicPr>
        <p:blipFill>
          <a:blip r:embed="rId2"/>
          <a:srcRect l="0" t="12164" r="0" b="0"/>
          <a:stretch/>
        </p:blipFill>
        <p:spPr>
          <a:xfrm>
            <a:off x="755640" y="4149720"/>
            <a:ext cx="3456000" cy="23256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http://neosports.ru/wp-content/uploads/2014/07/ZOZH-i-fizkul-tura.jpg"/>
          <p:cNvPicPr/>
          <p:nvPr/>
        </p:nvPicPr>
        <p:blipFill>
          <a:blip r:embed="rId3"/>
          <a:stretch/>
        </p:blipFill>
        <p:spPr>
          <a:xfrm>
            <a:off x="5435640" y="1557360"/>
            <a:ext cx="3241800" cy="2200320"/>
          </a:xfrm>
          <a:prstGeom prst="rect">
            <a:avLst/>
          </a:prstGeom>
          <a:ln w="0">
            <a:noFill/>
          </a:ln>
        </p:spPr>
      </p:pic>
      <p:sp>
        <p:nvSpPr>
          <p:cNvPr id="41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2" descr="http://telegraf.com.ua/files/2013/09/yoga1.jpg"/>
          <p:cNvPicPr/>
          <p:nvPr/>
        </p:nvPicPr>
        <p:blipFill>
          <a:blip r:embed="rId4"/>
          <a:srcRect l="28666" t="0" r="0" b="0"/>
          <a:stretch/>
        </p:blipFill>
        <p:spPr>
          <a:xfrm>
            <a:off x="5292720" y="4221000"/>
            <a:ext cx="3195720" cy="2251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109880"/>
          </a:xfrm>
          <a:prstGeom prst="rect">
            <a:avLst/>
          </a:prstGeom>
          <a:ln w="0">
            <a:noFill/>
          </a:ln>
        </p:spPr>
      </p:pic>
      <p:grpSp>
        <p:nvGrpSpPr>
          <p:cNvPr id="420" name="Diagram 6"/>
          <p:cNvGrpSpPr/>
          <p:nvPr/>
        </p:nvGrpSpPr>
        <p:grpSpPr>
          <a:xfrm>
            <a:off x="2051280" y="1313280"/>
            <a:ext cx="4825080" cy="5364720"/>
            <a:chOff x="2051280" y="1313280"/>
            <a:chExt cx="4825080" cy="5364720"/>
          </a:xfrm>
        </p:grpSpPr>
        <p:sp>
          <p:nvSpPr>
            <p:cNvPr id="421" name="_s1028"/>
            <p:cNvSpPr/>
            <p:nvPr/>
          </p:nvSpPr>
          <p:spPr>
            <a:xfrm flipH="1" flipV="1">
              <a:off x="3301560" y="3326400"/>
              <a:ext cx="58140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_s1029"/>
            <p:cNvSpPr/>
            <p:nvPr/>
          </p:nvSpPr>
          <p:spPr>
            <a:xfrm>
              <a:off x="2051280" y="2320920"/>
              <a:ext cx="1342080" cy="1342440"/>
            </a:xfrm>
            <a:prstGeom prst="ellipse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Franklin Gothic Book"/>
                </a:rPr>
                <a:t>Двигательн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Franklin Gothic Book"/>
                </a:rPr>
                <a:t>актив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_s1030"/>
            <p:cNvSpPr/>
            <p:nvPr/>
          </p:nvSpPr>
          <p:spPr>
            <a:xfrm flipH="1">
              <a:off x="3301560" y="4330080"/>
              <a:ext cx="581400" cy="33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_s1031"/>
            <p:cNvSpPr/>
            <p:nvPr/>
          </p:nvSpPr>
          <p:spPr>
            <a:xfrm>
              <a:off x="2051280" y="4330080"/>
              <a:ext cx="1342080" cy="1341720"/>
            </a:xfrm>
            <a:prstGeom prst="ellipse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Franklin Gothic Book"/>
                </a:rPr>
                <a:t>Черед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Franklin Gothic Book"/>
                </a:rPr>
                <a:t>умственного 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Franklin Gothic Book"/>
                </a:rPr>
                <a:t>физическ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Franklin Gothic Book"/>
                </a:rPr>
                <a:t>тру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_s1032"/>
            <p:cNvSpPr/>
            <p:nvPr/>
          </p:nvSpPr>
          <p:spPr>
            <a:xfrm>
              <a:off x="4462920" y="4664880"/>
              <a:ext cx="0" cy="67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_s1033"/>
            <p:cNvSpPr/>
            <p:nvPr/>
          </p:nvSpPr>
          <p:spPr>
            <a:xfrm>
              <a:off x="3791520" y="5335560"/>
              <a:ext cx="1342080" cy="1342440"/>
            </a:xfrm>
            <a:prstGeom prst="ellipse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Franklin Gothic Book"/>
                </a:rPr>
                <a:t>Режи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Franklin Gothic Book"/>
                </a:rPr>
                <a:t>труда и отдых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_s1034"/>
            <p:cNvSpPr/>
            <p:nvPr/>
          </p:nvSpPr>
          <p:spPr>
            <a:xfrm>
              <a:off x="5042160" y="4330080"/>
              <a:ext cx="581400" cy="33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_s1035"/>
            <p:cNvSpPr/>
            <p:nvPr/>
          </p:nvSpPr>
          <p:spPr>
            <a:xfrm>
              <a:off x="5533920" y="4330080"/>
              <a:ext cx="1342440" cy="1341720"/>
            </a:xfrm>
            <a:prstGeom prst="ellipse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Franklin Gothic Book"/>
                </a:rPr>
                <a:t>Режи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Franklin Gothic Book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Franklin Gothic Book"/>
                </a:rPr>
                <a:t>пит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_s1036"/>
            <p:cNvSpPr/>
            <p:nvPr/>
          </p:nvSpPr>
          <p:spPr>
            <a:xfrm flipV="1">
              <a:off x="5042160" y="3326400"/>
              <a:ext cx="58140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_s1037"/>
            <p:cNvSpPr/>
            <p:nvPr/>
          </p:nvSpPr>
          <p:spPr>
            <a:xfrm>
              <a:off x="5533920" y="2318760"/>
              <a:ext cx="1342440" cy="1342440"/>
            </a:xfrm>
            <a:prstGeom prst="ellipse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Franklin Gothic Book"/>
                </a:rPr>
                <a:t>эколог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_s1038"/>
            <p:cNvSpPr/>
            <p:nvPr/>
          </p:nvSpPr>
          <p:spPr>
            <a:xfrm flipV="1">
              <a:off x="4462920" y="2655360"/>
              <a:ext cx="0" cy="67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_s1039"/>
            <p:cNvSpPr/>
            <p:nvPr/>
          </p:nvSpPr>
          <p:spPr>
            <a:xfrm>
              <a:off x="3791520" y="1313280"/>
              <a:ext cx="1342080" cy="1341720"/>
            </a:xfrm>
            <a:prstGeom prst="ellipse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Franklin Gothic Book"/>
                </a:rPr>
                <a:t>наследствен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_s1040"/>
            <p:cNvSpPr/>
            <p:nvPr/>
          </p:nvSpPr>
          <p:spPr>
            <a:xfrm>
              <a:off x="3791520" y="3326760"/>
              <a:ext cx="1342080" cy="1341720"/>
            </a:xfrm>
            <a:prstGeom prst="ellipse">
              <a:avLst/>
            </a:prstGeom>
            <a:solidFill>
              <a:srgbClr val="ad1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Franklin Gothic Book"/>
                </a:rPr>
                <a:t>Физическое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Franklin Gothic Book"/>
                </a:rPr>
                <a:t>развити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Franklin Gothic Book"/>
                </a:rPr>
                <a:t> </a:t>
              </a:r>
              <a:r>
                <a:rPr b="0" lang="en-US" sz="1700" spc="-1" strike="noStrike">
                  <a:solidFill>
                    <a:srgbClr val="ff0000"/>
                  </a:solidFill>
                  <a:latin typeface="Franklin Gothic Book"/>
                </a:rPr>
                <a:t>подростк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4" name="Picture 23" descr="j0195384"/>
          <p:cNvPicPr/>
          <p:nvPr/>
        </p:nvPicPr>
        <p:blipFill>
          <a:blip r:embed="rId2"/>
          <a:stretch/>
        </p:blipFill>
        <p:spPr>
          <a:xfrm>
            <a:off x="103320" y="408636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6" descr="j0090386"/>
          <p:cNvPicPr/>
          <p:nvPr/>
        </p:nvPicPr>
        <p:blipFill>
          <a:blip r:embed="rId3"/>
          <a:stretch/>
        </p:blipFill>
        <p:spPr>
          <a:xfrm>
            <a:off x="7020000" y="1197000"/>
            <a:ext cx="1942920" cy="16635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7" descr="j0199283"/>
          <p:cNvPicPr/>
          <p:nvPr/>
        </p:nvPicPr>
        <p:blipFill>
          <a:blip r:embed="rId4"/>
          <a:stretch/>
        </p:blipFill>
        <p:spPr>
          <a:xfrm>
            <a:off x="6877080" y="4724280"/>
            <a:ext cx="1768320" cy="15890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28" descr="j0216724"/>
          <p:cNvPicPr/>
          <p:nvPr/>
        </p:nvPicPr>
        <p:blipFill>
          <a:blip r:embed="rId5"/>
          <a:stretch/>
        </p:blipFill>
        <p:spPr>
          <a:xfrm>
            <a:off x="5289480" y="1125360"/>
            <a:ext cx="916200" cy="1151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9" descr="j0285698"/>
          <p:cNvPicPr/>
          <p:nvPr/>
        </p:nvPicPr>
        <p:blipFill>
          <a:blip r:embed="rId6"/>
          <a:stretch/>
        </p:blipFill>
        <p:spPr>
          <a:xfrm>
            <a:off x="201600" y="939960"/>
            <a:ext cx="1521000" cy="1625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http://school9vichuga.ucoz.org/102.gif"/>
          <p:cNvPicPr/>
          <p:nvPr/>
        </p:nvPicPr>
        <p:blipFill>
          <a:blip r:embed="rId1"/>
          <a:stretch/>
        </p:blipFill>
        <p:spPr>
          <a:xfrm>
            <a:off x="1403280" y="476280"/>
            <a:ext cx="6172200" cy="5906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Прямоугольник 3"/>
          <p:cNvSpPr/>
          <p:nvPr/>
        </p:nvSpPr>
        <p:spPr>
          <a:xfrm>
            <a:off x="179280" y="476280"/>
            <a:ext cx="54007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Факторы настоящего времени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которые влияют на формирование подрост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Развитые технологии ( компьютер, Интернет т.д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вязь с миром  (телевидение, видео, средства массовой информации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Распад семьи  (около 1/3 с одним родителем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Насыщенная сексуальная атмосфера ( кино, пресса, музыка – отождествляют секс с любовью – значительное число подростков ведут сексуально активный образ жизни -  ими злоупотребляют , используют. Это приводит к опустошению. Подростку трудно справится со своей развивающейся сексуальностью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Размытость моральных и религиозных ценностей. Нет четкого представления что «хорошо», что « плохо» . Понятие зла относительно, можно делать то, что нравит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Доступно множество религиозных верований сегодня. Подростка больше интересуют отношения в религиозной группе, чем само веров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2" descr="http://www.allwomens.ru/uploads/posts/2010-04/1271924664_raspad_semi_i_ego_posledstviya_razvod_kak_atribut_.jpg"/>
          <p:cNvPicPr/>
          <p:nvPr/>
        </p:nvPicPr>
        <p:blipFill>
          <a:blip r:embed="rId1"/>
          <a:srcRect l="0" t="7722" r="0" b="0"/>
          <a:stretch/>
        </p:blipFill>
        <p:spPr>
          <a:xfrm>
            <a:off x="5651640" y="836640"/>
            <a:ext cx="3290760" cy="22762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http://psyfactor.org/lib/i/teens.jpg.pagespeed.ce.q7FX8xJzvL.jpg"/>
          <p:cNvPicPr/>
          <p:nvPr/>
        </p:nvPicPr>
        <p:blipFill>
          <a:blip r:embed="rId2"/>
          <a:stretch/>
        </p:blipFill>
        <p:spPr>
          <a:xfrm>
            <a:off x="5435640" y="3860640"/>
            <a:ext cx="3441600" cy="1944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3"/>
          <p:cNvSpPr/>
          <p:nvPr/>
        </p:nvSpPr>
        <p:spPr>
          <a:xfrm>
            <a:off x="395280" y="333360"/>
            <a:ext cx="6232680" cy="39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В связи с быстрым развитием возникают трудности в функционировании сердца, легких, кровоснабжении головного мозга. Поэтому для подростков характерны изменение АД (артериального давления), повышенная утомляемость, перепады настроения; гормональная буря =&gt; неуравновешенность. Эмоциональную нестабильность усиливает сексуальное возбуждение, сопровождающее процесс полового созр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4"/>
          <p:cNvSpPr/>
          <p:nvPr/>
        </p:nvSpPr>
        <p:spPr>
          <a:xfrm>
            <a:off x="3419640" y="4005360"/>
            <a:ext cx="540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Социальная ситуация развития представляет собой переход от зависимого детства к самостоятельной и ответственной взрослости. Подросток занимает промежуточное положение между детством и взрослостью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http://www.newizv.ru/images/ph/2008/02/04/1410733512727.jpg"/>
          <p:cNvPicPr/>
          <p:nvPr/>
        </p:nvPicPr>
        <p:blipFill>
          <a:blip r:embed="rId1"/>
          <a:stretch/>
        </p:blipFill>
        <p:spPr>
          <a:xfrm>
            <a:off x="6804000" y="404640"/>
            <a:ext cx="2120760" cy="2927520"/>
          </a:xfrm>
          <a:prstGeom prst="rect">
            <a:avLst/>
          </a:prstGeom>
          <a:ln w="0">
            <a:noFill/>
          </a:ln>
        </p:spPr>
      </p:pic>
      <p:sp>
        <p:nvSpPr>
          <p:cNvPr id="44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0" descr="http://upsihologa.ru/images/suicidalnyi-podrostok.jpg"/>
          <p:cNvPicPr/>
          <p:nvPr/>
        </p:nvPicPr>
        <p:blipFill>
          <a:blip r:embed="rId2"/>
          <a:stretch/>
        </p:blipFill>
        <p:spPr>
          <a:xfrm>
            <a:off x="250920" y="3933720"/>
            <a:ext cx="2716200" cy="235584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115640" y="2205000"/>
            <a:ext cx="712476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Прямоугольник 4"/>
          <p:cNvSpPr/>
          <p:nvPr/>
        </p:nvSpPr>
        <p:spPr>
          <a:xfrm>
            <a:off x="468360" y="54936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Конфликт (лат. conflictus)   — столкновение противоположно направленных целей, позиций, мнений, взглядов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4" descr="http://str.crestin-ortodox.ro/foto/1490/148918_fii_asertiv.jpg"/>
          <p:cNvPicPr/>
          <p:nvPr/>
        </p:nvPicPr>
        <p:blipFill>
          <a:blip r:embed="rId1"/>
          <a:stretch/>
        </p:blipFill>
        <p:spPr>
          <a:xfrm>
            <a:off x="1801800" y="2421000"/>
            <a:ext cx="5865840" cy="3894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4" descr=""/>
          <p:cNvPicPr/>
          <p:nvPr/>
        </p:nvPicPr>
        <p:blipFill>
          <a:blip r:embed="rId1"/>
          <a:stretch/>
        </p:blipFill>
        <p:spPr>
          <a:xfrm>
            <a:off x="450720" y="450720"/>
            <a:ext cx="8699760" cy="8542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324000" y="1196640"/>
            <a:ext cx="7812000" cy="4822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spcAft>
                <a:spcPts val="601"/>
              </a:spcAft>
              <a:buClr>
                <a:srgbClr val="00206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Arial"/>
                <a:ea typeface="Arial"/>
              </a:rPr>
              <a:t>неудовлетворенность (или столкновение) потребностей;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spcAft>
                <a:spcPts val="601"/>
              </a:spcAft>
              <a:buClr>
                <a:srgbClr val="00206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Arial"/>
                <a:ea typeface="Arial"/>
              </a:rPr>
              <a:t>недостаток общения;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spcAft>
                <a:spcPts val="601"/>
              </a:spcAft>
              <a:buClr>
                <a:srgbClr val="00206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Arial"/>
                <a:ea typeface="Arial"/>
              </a:rPr>
              <a:t>ложные предложения относительно другого.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5" name="Picture 4" descr="http://wikna.org/wp-content/uploads/2013/10/83866299_teenager2.jpg"/>
          <p:cNvPicPr/>
          <p:nvPr/>
        </p:nvPicPr>
        <p:blipFill>
          <a:blip r:embed="rId2"/>
          <a:stretch/>
        </p:blipFill>
        <p:spPr>
          <a:xfrm>
            <a:off x="4500720" y="3068640"/>
            <a:ext cx="4413240" cy="3313080"/>
          </a:xfrm>
          <a:prstGeom prst="rect">
            <a:avLst/>
          </a:prstGeom>
          <a:ln w="0">
            <a:noFill/>
          </a:ln>
        </p:spPr>
      </p:pic>
      <p:sp>
        <p:nvSpPr>
          <p:cNvPr id="456" name="Прямоугольник 6"/>
          <p:cNvSpPr/>
          <p:nvPr/>
        </p:nvSpPr>
        <p:spPr>
          <a:xfrm>
            <a:off x="1332000" y="333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2060"/>
                </a:solidFill>
                <a:uFillTx/>
                <a:latin typeface="Arial"/>
              </a:rPr>
              <a:t>Источники конфликта: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8" descr="http://uchitel76.ru/wp-content/uploads/2014/04/obida111.jpg"/>
          <p:cNvPicPr/>
          <p:nvPr/>
        </p:nvPicPr>
        <p:blipFill>
          <a:blip r:embed="rId3"/>
          <a:srcRect l="9080" t="0" r="9017" b="0"/>
          <a:stretch/>
        </p:blipFill>
        <p:spPr>
          <a:xfrm>
            <a:off x="179280" y="3357720"/>
            <a:ext cx="408168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7:38:05Z</dcterms:created>
  <dc:creator>Никита</dc:creator>
  <dc:description/>
  <dc:language>en-US</dc:language>
  <cp:lastModifiedBy>adm</cp:lastModifiedBy>
  <dcterms:modified xsi:type="dcterms:W3CDTF">2015-09-12T09:35:53Z</dcterms:modified>
  <cp:revision>37</cp:revision>
  <dc:subject/>
  <dc:title>Физиологические и психологические особенности развития подростка</dc:title>
</cp:coreProperties>
</file>