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19.wmf" ContentType="image/x-wmf"/>
  <Override PartName="/ppt/media/image16.wmf" ContentType="image/x-wmf"/>
  <Override PartName="/ppt/media/image8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png" ContentType="image/png"/>
  <Override PartName="/ppt/media/image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0.png" ContentType="image/png"/>
  <Override PartName="/ppt/media/image18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4.png" ContentType="image/png"/>
  <Override PartName="/ppt/media/image17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DD29-E58B-4991-BBDF-F8FE146FF4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0557-FCB9-4BC4-92B8-42C58F27A2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C807-4F0B-45E0-A0CD-024C28EF23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D6D-2F61-4CEA-BC48-E45049FF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2D0-D3B6-41FE-9BD6-8C08FE39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EF23A-1014-49E8-97C5-77963630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BAD79-6439-4276-A90A-D8C4CD7E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DB900-CE68-4F14-A128-87C2FE7A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B9168-7B82-4A89-B24C-F576071B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7F5C1-D797-4614-BCC0-8770C7B1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77EEF-89ED-4B06-A7F9-F166FCC1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CEBD5-687F-4DF3-B38C-4B0AD7A6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960F7-E0E8-46BE-9A6F-3E2085F7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C1E94-30C0-42C8-A5A6-001EC2AB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FA6-7595-4CD5-929D-382A10C8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121-EC55-439C-8242-B8FC347F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4E47-3CFD-4757-A6D7-8176EEF9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5D2D-6CEA-4A70-8795-2E7849A5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A133-49AB-46C0-B736-6B4BBBE5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787E-ECEA-48D1-A865-5E6D317D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AF82-AC7C-45B7-A234-27D362E4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8753-C177-4146-8060-8C853A65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B23D-409A-46FC-9366-DFAE544F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32D-309A-453E-BC1D-7B5B5DF0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8CBE-09E4-4F79-B52E-96D06992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7D81-0375-4783-92C0-8295CFE0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B9EB-13E8-4A50-93A6-4FD0A271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6A35-D44C-45A3-9844-4E635AC2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AA7E-A3E6-4D72-B320-63A46660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69EE-66D5-4877-AA88-BE96171F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9AEE-14AF-4EA7-9B39-C6C66AAC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925AC-361E-4EA2-A810-4DE02D3C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11C0-FF41-4A02-99B9-5BDAC961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C8A9-F772-475B-927F-5F92B66A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3A0-AA4E-4D50-8055-521480A1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993F-9691-4C87-8DAC-5CAB2AA0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4D83-7C26-431A-B273-C0086628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E2E6-B1E0-4534-A401-588AD77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99258-A641-46A9-999D-798C33D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358C-FCF8-4E9F-A806-C59A4E06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EEB7-12E4-4F9E-884D-4110A27D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37D0-699F-4449-9892-11045BC3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09E4-1DD8-4A2D-845F-EEBC84F1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FECAC-6918-44A5-AA8B-4728A96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2130-CB54-4928-B4BB-7602ADCC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980-000B-4040-99AA-0BF14319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3F3D-F9B4-4D11-B574-E712A906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E19EF-C670-43A3-AEC6-A5155142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B5A2-D786-4BDD-95FA-1FA93F7D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21A39-8EE0-4CCA-A2A7-176C091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194C7-4436-4F63-BDFB-04F27573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3453-1C9E-44C6-9299-EB8C19C9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DD01-D61A-4633-9642-2D4D4BDF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46A7-3FE0-491C-B20C-6F0547DF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51B3-540A-45F6-AD17-9E044551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70B1-3099-42C5-BAF4-18D7E2B0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F9A-4A79-4255-BABC-3C71C2BC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394A5-3637-4FBD-A8FD-0C3BF9C8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17415-CD58-488E-8F47-C6442F93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E615B-BFA9-47A5-83E6-89BA93FC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317E-C795-42E0-ACF5-3321EA55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288EA-BCBA-4840-8B13-57FC6E30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DE04-DAAB-4682-BBCF-6428C51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238AF-C34A-4CCE-9EE6-C512E00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7E21E-8B98-4CD2-9BD6-7B73018D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A1038-BF2C-48DD-93C6-5A65C2F4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D0824-0DF3-42F7-95CD-A91F6CB2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93E-AEAA-40F1-B570-E4E119D7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A701-7A84-4373-B618-6CF63545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E42AB-4B8A-4573-B509-7D7458CE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15E7C-2D99-48CC-B290-D00F5C86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554D2-19E1-4470-9A3E-BCAE23B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BDB7F-1CE1-4E5B-966E-76BC02A9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8066A-6364-430E-9604-48FAFD66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ED19C-285B-4F9D-9E24-7C9DBD5C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EFCAB-C87A-4BC5-93D0-DA54F5F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8D3B2-F54D-4FCB-B2F8-9C8D7226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0440-3E42-4378-8623-14DC8346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A34-764B-4451-A4BB-4403CDBF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5DB69-6279-4C46-AEE1-86E6E4C4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71CF-D5AA-414E-9A93-A82BF8B9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C078F-4869-4CA1-BF90-65C4F6DD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047D3-E5D4-4A3E-B02D-BF1811BC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2F7E4-8EF6-4B56-A457-F077C55A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03D9F-4B4F-484E-837B-21290176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6F3C2-6026-4F49-BDE7-38D0297A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2103F-75C7-47F8-9101-7AEA21DE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C67D-2B94-4CAC-98B0-F2727D82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D66D-6C4F-4604-97D2-2F04EE58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919-8D71-4D16-B092-AA5CDD01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E34FF-0BCD-4F31-A2C2-2E2347A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AEDD6-79BA-486E-BC67-7427FB1B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740FC-A8B6-4F1A-94F7-61ED1C57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4B26C-829C-4816-8242-0E5900CC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226AE-7A96-4EA8-9BF4-ADA018C1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BCC8C-F28F-4B4A-8B6E-CEE7D4AF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A918F-2B58-4413-BCF8-6A52ED0D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5D4AD-F9C9-4021-9DAE-66D25F1C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8BEFE-6D2C-422C-8B91-48A3A0F7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B5231-4B1C-4ABD-A286-5F33A069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BD3-249A-4B3A-B014-CF4FC5D0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6CA17-8A2C-42C7-BDD6-EAC50B0A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D31B0-7FE3-4109-A78E-4323F10B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34D30-BC2A-46FA-84D4-63E554F3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125C4-3B34-4C12-95A3-4B619BF9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09898-177E-427B-B249-AFDF2DB7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01125-9D6E-4C84-B558-3A0A9B33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8CA4E-2EAB-4DF5-AC7C-E6D90341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B4694-DD33-4C9C-880B-23328DB1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C7797-9F93-4A41-8726-E79091B8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034EC-73B6-4D3B-97DD-21AB9E54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C98D-6034-4615-92BB-EDBEA3D799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3B2B-E3F4-446D-A86C-1C093A2203E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1FC6-7F97-44B7-8362-C4E9CDE2D7B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ED17-FC29-4F2A-95BB-CCA63EF7D6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B413-EF94-426C-9D38-72A28AC6C18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8281-CC2B-45FE-921B-B6FD09CF59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F84A-1D04-4455-9B79-02A59BBC809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F022-90FC-4AD8-857D-3D850EE4DC8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1C66-27DB-4CD3-B36F-115D6B5171F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536400" y="762120"/>
            <a:ext cx="8474400" cy="31035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Picture 2" descr="http://www.orenburg.ru/upload/medialibrary/9cf/tdeavpanwqjqmorwpj.jpg"/>
          <p:cNvPicPr/>
          <p:nvPr/>
        </p:nvPicPr>
        <p:blipFill>
          <a:blip r:embed="rId2"/>
          <a:stretch/>
        </p:blipFill>
        <p:spPr>
          <a:xfrm>
            <a:off x="250920" y="2708280"/>
            <a:ext cx="4324320" cy="2881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http://www.art-in-life.ru/uploads/image/%D0%B4%D0%BB%D1%8F%20%D0%BF%D0%BE%D0%B4%D1%80%D0%BE%D1%81%D1%82%D0%BA%D0%BE%D0%B2.jpg"/>
          <p:cNvPicPr/>
          <p:nvPr/>
        </p:nvPicPr>
        <p:blipFill>
          <a:blip r:embed="rId3"/>
          <a:srcRect l="0" t="0" r="4507" b="0"/>
          <a:stretch/>
        </p:blipFill>
        <p:spPr>
          <a:xfrm>
            <a:off x="4716360" y="3429000"/>
            <a:ext cx="4183200" cy="2917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171360" y="146160"/>
            <a:ext cx="8801280" cy="16524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539280" y="162864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 стремитесь доминировать во чтобы то ни стало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Будьте принципиальны, но не боритесь за принцип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омните, принципиальность хороша, но не всегд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Критикуйте, но не критиканствуйте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Чаще улыбайтесь. Улыбка мало стоит, но дорого ценится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Традиции хороши до определенного предел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Сказать правду тоже надо уме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Будьте независимы, но не самоуверенны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 превращайте настойчивость в назойливос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 переоценивайте свои способности в возможност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Не проявляйте инициативу там, где в ней не нуждаются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оявляйте доброжелательность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Проявляйте выдержку и спокойствие в любой ситу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554400" indent="-55440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Реализуйте себя в творчестве, а не в конфликт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1365120" y="396720"/>
            <a:ext cx="7785360" cy="10303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50560" y="1557000"/>
            <a:ext cx="3600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 профилактическим мероприятиям можно отнести увлечение любыми видами спорта, увеличение активности человека, что способствует нормализации настроения, расширит круг знакомства и тем самым отвлечет от возможных мыслей покончить жизнь самоубийством. Полноценный ночной сон, пребывание на дневном свете, полноценное питание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Прямоугольник 3"/>
          <p:cNvSpPr/>
          <p:nvPr/>
        </p:nvSpPr>
        <p:spPr>
          <a:xfrm>
            <a:off x="900000" y="33336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3737"/>
                </a:solidFill>
                <a:latin typeface="Franklin Gothic Book"/>
              </a:rPr>
              <a:t>Профилактика суицида и суицидального повед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8" descr="http://i.zentr-pomoch.ru/u/28/03fbca4d5311e49c450012c0679388/-/bba2e07a3f9c80c9ec5c774b35b2b85d.jpg"/>
          <p:cNvPicPr/>
          <p:nvPr/>
        </p:nvPicPr>
        <p:blipFill>
          <a:blip r:embed="rId2"/>
          <a:srcRect l="10705" t="0" r="13696" b="0"/>
          <a:stretch/>
        </p:blipFill>
        <p:spPr>
          <a:xfrm>
            <a:off x="4211640" y="1989000"/>
            <a:ext cx="4932360" cy="3668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ttp://culture.mchs.gov.ru/upload/learning/img/Les9/435tyhf.JPG"/>
          <p:cNvPicPr/>
          <p:nvPr/>
        </p:nvPicPr>
        <p:blipFill>
          <a:blip r:embed="rId1"/>
          <a:stretch/>
        </p:blipFill>
        <p:spPr>
          <a:xfrm>
            <a:off x="193680" y="189000"/>
            <a:ext cx="868356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3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C:\Users\adm\Desktop\0009-009-Spasibo-za-vnimani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676440" y="182520"/>
            <a:ext cx="8223120" cy="22431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8" descr="http://iamhuman.ru/images/upload_images/1245517/01-logo_bf1db.jpg"/>
          <p:cNvPicPr/>
          <p:nvPr/>
        </p:nvPicPr>
        <p:blipFill>
          <a:blip r:embed="rId2"/>
          <a:stretch/>
        </p:blipFill>
        <p:spPr>
          <a:xfrm>
            <a:off x="1619280" y="2637000"/>
            <a:ext cx="5545080" cy="3695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-6480" y="-609480"/>
            <a:ext cx="8375760" cy="26398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-360" y="1557360"/>
            <a:ext cx="62643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уховное здоровь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изическое здоровь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циальное здоровь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щественное здоровье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ндивидуальное здоров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http://mediasubs.ru/group/uploads/zd/zdorove-bez-vrachej-i-lekarstv-/image/1389433025-931126-698396.png"/>
          <p:cNvPicPr/>
          <p:nvPr/>
        </p:nvPicPr>
        <p:blipFill>
          <a:blip r:embed="rId2"/>
          <a:srcRect l="0" t="12164" r="0" b="0"/>
          <a:stretch/>
        </p:blipFill>
        <p:spPr>
          <a:xfrm>
            <a:off x="755640" y="4149720"/>
            <a:ext cx="3456000" cy="2325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http://neosports.ru/wp-content/uploads/2014/07/ZOZH-i-fizkul-tura.jpg"/>
          <p:cNvPicPr/>
          <p:nvPr/>
        </p:nvPicPr>
        <p:blipFill>
          <a:blip r:embed="rId3"/>
          <a:stretch/>
        </p:blipFill>
        <p:spPr>
          <a:xfrm>
            <a:off x="5435640" y="1557360"/>
            <a:ext cx="3241800" cy="220032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2" descr="http://telegraf.com.ua/files/2013/09/yoga1.jpg"/>
          <p:cNvPicPr/>
          <p:nvPr/>
        </p:nvPicPr>
        <p:blipFill>
          <a:blip r:embed="rId4"/>
          <a:srcRect l="28666" t="0" r="0" b="0"/>
          <a:stretch/>
        </p:blipFill>
        <p:spPr>
          <a:xfrm>
            <a:off x="5292720" y="4221000"/>
            <a:ext cx="3195720" cy="225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109880"/>
          </a:xfrm>
          <a:prstGeom prst="rect">
            <a:avLst/>
          </a:prstGeom>
          <a:ln w="0">
            <a:noFill/>
          </a:ln>
        </p:spPr>
      </p:pic>
      <p:grpSp>
        <p:nvGrpSpPr>
          <p:cNvPr id="420" name="Diagram 6"/>
          <p:cNvGrpSpPr/>
          <p:nvPr/>
        </p:nvGrpSpPr>
        <p:grpSpPr>
          <a:xfrm>
            <a:off x="2051280" y="1313280"/>
            <a:ext cx="4825080" cy="5364720"/>
            <a:chOff x="2051280" y="1313280"/>
            <a:chExt cx="4825080" cy="5364720"/>
          </a:xfrm>
        </p:grpSpPr>
        <p:sp>
          <p:nvSpPr>
            <p:cNvPr id="421" name="_s1028"/>
            <p:cNvSpPr/>
            <p:nvPr/>
          </p:nvSpPr>
          <p:spPr>
            <a:xfrm flipH="1" flipV="1">
              <a:off x="3301560" y="3326400"/>
              <a:ext cx="58140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1029"/>
            <p:cNvSpPr/>
            <p:nvPr/>
          </p:nvSpPr>
          <p:spPr>
            <a:xfrm>
              <a:off x="2051280" y="2320920"/>
              <a:ext cx="1342080" cy="134244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Двигательн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актив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1030"/>
            <p:cNvSpPr/>
            <p:nvPr/>
          </p:nvSpPr>
          <p:spPr>
            <a:xfrm flipH="1">
              <a:off x="3301560" y="4330080"/>
              <a:ext cx="58140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031"/>
            <p:cNvSpPr/>
            <p:nvPr/>
          </p:nvSpPr>
          <p:spPr>
            <a:xfrm>
              <a:off x="2051280" y="4330080"/>
              <a:ext cx="1342080" cy="13417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Чере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умственного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физ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тру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1032"/>
            <p:cNvSpPr/>
            <p:nvPr/>
          </p:nvSpPr>
          <p:spPr>
            <a:xfrm>
              <a:off x="4462920" y="4664880"/>
              <a:ext cx="0" cy="67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1033"/>
            <p:cNvSpPr/>
            <p:nvPr/>
          </p:nvSpPr>
          <p:spPr>
            <a:xfrm>
              <a:off x="3791520" y="5335560"/>
              <a:ext cx="1342080" cy="134244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труда и отдых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34"/>
            <p:cNvSpPr/>
            <p:nvPr/>
          </p:nvSpPr>
          <p:spPr>
            <a:xfrm>
              <a:off x="5042160" y="4330080"/>
              <a:ext cx="58140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35"/>
            <p:cNvSpPr/>
            <p:nvPr/>
          </p:nvSpPr>
          <p:spPr>
            <a:xfrm>
              <a:off x="5533920" y="4330080"/>
              <a:ext cx="1342440" cy="13417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6"/>
            <p:cNvSpPr/>
            <p:nvPr/>
          </p:nvSpPr>
          <p:spPr>
            <a:xfrm flipV="1">
              <a:off x="5042160" y="3326400"/>
              <a:ext cx="58140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7"/>
            <p:cNvSpPr/>
            <p:nvPr/>
          </p:nvSpPr>
          <p:spPr>
            <a:xfrm>
              <a:off x="5533920" y="2318760"/>
              <a:ext cx="1342440" cy="134244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Franklin Gothic Book"/>
                </a:rPr>
                <a:t>эколог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8"/>
            <p:cNvSpPr/>
            <p:nvPr/>
          </p:nvSpPr>
          <p:spPr>
            <a:xfrm flipV="1">
              <a:off x="4462920" y="2655360"/>
              <a:ext cx="0" cy="67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9"/>
            <p:cNvSpPr/>
            <p:nvPr/>
          </p:nvSpPr>
          <p:spPr>
            <a:xfrm>
              <a:off x="3791520" y="1313280"/>
              <a:ext cx="1342080" cy="1341720"/>
            </a:xfrm>
            <a:prstGeom prst="ellipse">
              <a:avLst/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Franklin Gothic Book"/>
                </a:rPr>
                <a:t>наследств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40"/>
            <p:cNvSpPr/>
            <p:nvPr/>
          </p:nvSpPr>
          <p:spPr>
            <a:xfrm>
              <a:off x="3791520" y="3326760"/>
              <a:ext cx="1342080" cy="1341720"/>
            </a:xfrm>
            <a:prstGeom prst="ellipse">
              <a:avLst/>
            </a:prstGeom>
            <a:solidFill>
              <a:srgbClr val="ad1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Franklin Gothic Book"/>
                </a:rPr>
                <a:t>Физическо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Franklin Gothic Book"/>
                </a:rPr>
                <a:t>развит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Franklin Gothic Book"/>
                </a:rPr>
                <a:t> </a:t>
              </a:r>
              <a:r>
                <a:rPr b="0" lang="en-US" sz="1700" spc="-1" strike="noStrike">
                  <a:solidFill>
                    <a:srgbClr val="ff0000"/>
                  </a:solidFill>
                  <a:latin typeface="Franklin Gothic Book"/>
                </a:rPr>
                <a:t>подростк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3" descr="j0195384"/>
          <p:cNvPicPr/>
          <p:nvPr/>
        </p:nvPicPr>
        <p:blipFill>
          <a:blip r:embed="rId2"/>
          <a:stretch/>
        </p:blipFill>
        <p:spPr>
          <a:xfrm>
            <a:off x="103320" y="408636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6" descr="j0090386"/>
          <p:cNvPicPr/>
          <p:nvPr/>
        </p:nvPicPr>
        <p:blipFill>
          <a:blip r:embed="rId3"/>
          <a:stretch/>
        </p:blipFill>
        <p:spPr>
          <a:xfrm>
            <a:off x="7020000" y="1197000"/>
            <a:ext cx="1942920" cy="1663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7" descr="j0199283"/>
          <p:cNvPicPr/>
          <p:nvPr/>
        </p:nvPicPr>
        <p:blipFill>
          <a:blip r:embed="rId4"/>
          <a:stretch/>
        </p:blipFill>
        <p:spPr>
          <a:xfrm>
            <a:off x="6877080" y="4724280"/>
            <a:ext cx="1768320" cy="1589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8" descr="j0216724"/>
          <p:cNvPicPr/>
          <p:nvPr/>
        </p:nvPicPr>
        <p:blipFill>
          <a:blip r:embed="rId5"/>
          <a:stretch/>
        </p:blipFill>
        <p:spPr>
          <a:xfrm>
            <a:off x="5289480" y="1125360"/>
            <a:ext cx="916200" cy="1151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9" descr="j0285698"/>
          <p:cNvPicPr/>
          <p:nvPr/>
        </p:nvPicPr>
        <p:blipFill>
          <a:blip r:embed="rId6"/>
          <a:stretch/>
        </p:blipFill>
        <p:spPr>
          <a:xfrm>
            <a:off x="201600" y="939960"/>
            <a:ext cx="1521000" cy="1625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http://school9vichuga.ucoz.org/102.gif"/>
          <p:cNvPicPr/>
          <p:nvPr/>
        </p:nvPicPr>
        <p:blipFill>
          <a:blip r:embed="rId1"/>
          <a:stretch/>
        </p:blipFill>
        <p:spPr>
          <a:xfrm>
            <a:off x="1403280" y="476280"/>
            <a:ext cx="6172200" cy="590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3"/>
          <p:cNvSpPr/>
          <p:nvPr/>
        </p:nvSpPr>
        <p:spPr>
          <a:xfrm>
            <a:off x="179280" y="476280"/>
            <a:ext cx="54007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Факторы настоящего времени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которые влияют на формирование подрос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звитые технологии ( компьютер, Интернет т.д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вязь с миром  (телевидение, видео, средства массовой информаци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спад семьи  (около 1/3 с одним родителем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сыщенная сексуальная атмосфера ( кино, пресса, музыка – отождествляют секс с любовью – значительное число подростков ведут сексуально активный образ жизни -  ими злоупотребляют , используют. Это приводит к опустошению. Подростку трудно справится со своей развивающейся сексуальностью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змытость моральных и религиозных ценностей. Нет четкого представления что «хорошо», что « плохо» . Понятие зла относительно, можно делать то, что нравит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оступно множество религиозных верований сегодня. Подростка больше интересуют отношения в религиозной группе, чем само вер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http://www.allwomens.ru/uploads/posts/2010-04/1271924664_raspad_semi_i_ego_posledstviya_razvod_kak_atribut_.jpg"/>
          <p:cNvPicPr/>
          <p:nvPr/>
        </p:nvPicPr>
        <p:blipFill>
          <a:blip r:embed="rId1"/>
          <a:srcRect l="0" t="7722" r="0" b="0"/>
          <a:stretch/>
        </p:blipFill>
        <p:spPr>
          <a:xfrm>
            <a:off x="5651640" y="836640"/>
            <a:ext cx="3290760" cy="2276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http://psyfactor.org/lib/i/teens.jpg.pagespeed.ce.q7FX8xJzvL.jpg"/>
          <p:cNvPicPr/>
          <p:nvPr/>
        </p:nvPicPr>
        <p:blipFill>
          <a:blip r:embed="rId2"/>
          <a:stretch/>
        </p:blipFill>
        <p:spPr>
          <a:xfrm>
            <a:off x="5435640" y="3860640"/>
            <a:ext cx="3441600" cy="1944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3"/>
          <p:cNvSpPr/>
          <p:nvPr/>
        </p:nvSpPr>
        <p:spPr>
          <a:xfrm>
            <a:off x="395280" y="333360"/>
            <a:ext cx="623268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 связи с быстрым развитием возникают трудности в функционировании сердца, легких, кровоснабжении головного мозга. Поэтому для подростков характерны изменение АД (артериального давления), повышенная утомляемость, перепады настроения; гормональная буря =&gt; неуравновешенность. Эмоциональную нестабильность усиливает сексуальное возбуждение, сопровождающее процесс полового созр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4"/>
          <p:cNvSpPr/>
          <p:nvPr/>
        </p:nvSpPr>
        <p:spPr>
          <a:xfrm>
            <a:off x="3419640" y="4005360"/>
            <a:ext cx="54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Социальная ситуация развития представляет собой переход от зависимого детства к самостоятельной и ответственной взрослости. Подросток занимает промежуточное положение между детством и взрослостью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http://www.newizv.ru/images/ph/2008/02/04/1410733512727.jpg"/>
          <p:cNvPicPr/>
          <p:nvPr/>
        </p:nvPicPr>
        <p:blipFill>
          <a:blip r:embed="rId1"/>
          <a:stretch/>
        </p:blipFill>
        <p:spPr>
          <a:xfrm>
            <a:off x="6804000" y="404640"/>
            <a:ext cx="2120760" cy="292752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" descr="http://upsihologa.ru/images/suicidalnyi-podrostok.jpg"/>
          <p:cNvPicPr/>
          <p:nvPr/>
        </p:nvPicPr>
        <p:blipFill>
          <a:blip r:embed="rId2"/>
          <a:stretch/>
        </p:blipFill>
        <p:spPr>
          <a:xfrm>
            <a:off x="250920" y="3933720"/>
            <a:ext cx="2716200" cy="23558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115640" y="2205000"/>
            <a:ext cx="712476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Прямоугольник 4"/>
          <p:cNvSpPr/>
          <p:nvPr/>
        </p:nvSpPr>
        <p:spPr>
          <a:xfrm>
            <a:off x="468360" y="54936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Конфликт (лат. conflictus)   — столкновение противоположно направленных целей, позиций, мнений, взглядов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http://str.crestin-ortodox.ro/foto/1490/148918_fii_asertiv.jpg"/>
          <p:cNvPicPr/>
          <p:nvPr/>
        </p:nvPicPr>
        <p:blipFill>
          <a:blip r:embed="rId1"/>
          <a:stretch/>
        </p:blipFill>
        <p:spPr>
          <a:xfrm>
            <a:off x="1801800" y="2421000"/>
            <a:ext cx="586584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4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699760" cy="8542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24000" y="1196640"/>
            <a:ext cx="7812000" cy="48229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01"/>
              </a:spcAft>
              <a:buClr>
                <a:srgbClr val="00206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  <a:ea typeface="Arial"/>
              </a:rPr>
              <a:t>неудовлетворенность (или столкновение) потребностей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01"/>
              </a:spcAft>
              <a:buClr>
                <a:srgbClr val="00206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  <a:ea typeface="Arial"/>
              </a:rPr>
              <a:t>недостаток общения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spcAft>
                <a:spcPts val="601"/>
              </a:spcAft>
              <a:buClr>
                <a:srgbClr val="00206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  <a:ea typeface="Arial"/>
              </a:rPr>
              <a:t>ложные предложения относительно другого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5" name="Picture 4" descr="http://wikna.org/wp-content/uploads/2013/10/83866299_teenager2.jpg"/>
          <p:cNvPicPr/>
          <p:nvPr/>
        </p:nvPicPr>
        <p:blipFill>
          <a:blip r:embed="rId2"/>
          <a:stretch/>
        </p:blipFill>
        <p:spPr>
          <a:xfrm>
            <a:off x="4500720" y="3068640"/>
            <a:ext cx="4413240" cy="331308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6"/>
          <p:cNvSpPr/>
          <p:nvPr/>
        </p:nvSpPr>
        <p:spPr>
          <a:xfrm>
            <a:off x="1332000" y="333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2060"/>
                </a:solidFill>
                <a:uFillTx/>
                <a:latin typeface="Arial"/>
              </a:rPr>
              <a:t>Источники конфликта: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" descr="http://uchitel76.ru/wp-content/uploads/2014/04/obida111.jpg"/>
          <p:cNvPicPr/>
          <p:nvPr/>
        </p:nvPicPr>
        <p:blipFill>
          <a:blip r:embed="rId3"/>
          <a:srcRect l="9080" t="0" r="9017" b="0"/>
          <a:stretch/>
        </p:blipFill>
        <p:spPr>
          <a:xfrm>
            <a:off x="179280" y="3357720"/>
            <a:ext cx="408168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7:38:05Z</dcterms:created>
  <dc:creator>Никита</dc:creator>
  <dc:description/>
  <dc:language>en-US</dc:language>
  <cp:lastModifiedBy>adm</cp:lastModifiedBy>
  <dcterms:modified xsi:type="dcterms:W3CDTF">2015-09-12T09:35:53Z</dcterms:modified>
  <cp:revision>37</cp:revision>
  <dc:subject/>
  <dc:title>Физиологические и психологические особенности развития подростка</dc:title>
</cp:coreProperties>
</file>