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1.jpeg" ContentType="image/jpeg"/>
  <Override PartName="/ppt/media/image23.wmf" ContentType="image/x-wmf"/>
  <Override PartName="/ppt/media/image9.gif" ContentType="image/gif"/>
  <Override PartName="/ppt/media/image22.wmf" ContentType="image/x-wmf"/>
  <Override PartName="/ppt/media/image7.gif" ContentType="image/gi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png" ContentType="image/png"/>
  <Override PartName="/ppt/media/image15.gif" ContentType="image/gif"/>
  <Override PartName="/ppt/media/image26.png" ContentType="image/png"/>
  <Override PartName="/ppt/media/image3.png" ContentType="image/png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8222-2E4F-46B1-B7B7-098EFEFA2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0F83-4DF6-45FC-B640-E30D1E0F74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C25-51B1-44CE-A39A-89E5A90B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036-F15B-4964-85EA-A8388B07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E6E-3F24-411F-9380-58004F6D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BBE-247C-450B-AF4A-C3F86F41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AA24-634D-4020-B970-CAE824E2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596-4B22-493E-B526-E62E51C9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34E1-4231-4D6C-A395-CA4374ED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1A8A-820E-461A-A850-B573F4C1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C310-0E7C-4D6C-9113-082763F8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00CC-1FE2-4C78-AE66-3DD204B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608-8F1E-4380-9D64-6F3010A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81E-F84D-4DF3-9FFF-D1CE111D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E9FD-78B4-4645-B828-F46CB37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FA0A-EB9F-4D9A-BAF7-B1BBE90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A876-0BB2-477E-86C4-54667477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FF71-286D-4C94-B401-43658C03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7F98-269A-45E4-9F80-F0E35536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87FF-33F7-49FF-8C27-D2FCD00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A7FC-4342-4846-83F0-5A112BD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E75F-F834-4CEA-9B49-47653D87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149B-7857-4836-B93D-A316C3A9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7D5F-48D8-409B-9FB1-E612C7E3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846-F3FB-46B8-AC87-063082AC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1ED0-1869-4D74-9871-91FE14C8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30B6-E25F-4C5F-A1DD-74F09440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B7D3-DDEC-428B-B7DE-C237F89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4591-FD45-4007-A7B6-AA812A22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55CD-467B-43A4-BB57-C4FA9C94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136B-1A17-46F4-8011-92E4F730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1B99-A2FF-4C43-B7E9-F6813329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8497-D5F8-44E3-944B-22F18001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0124-2AAB-40AC-9DF0-A19D451A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A641-45E5-4633-B50A-008DAE1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3D9-A305-4943-A4BB-08C4AAE7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3A04-4F96-4427-A3D6-CB5B70D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45F9-085D-48F9-AB35-39E553E7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CF9C-EC1C-4CF4-9791-7B75D8D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5EFDC-9677-4F32-9A3E-FB4E47F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1CCF-E77B-4B76-8072-6F32597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AD41-C6F8-4FEC-B2C1-B21FF63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6DCD-D098-493A-9853-BA7BD81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91244-6EBE-4D10-8FCF-2543DEE3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B84C-9BBE-45B5-BFC6-C429DE28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67A-E86A-4B22-8C09-C0E93B7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25D-7C05-498C-8CBB-AA70D404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E2A-A4F2-45AC-9E66-6A87213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56D-0AAB-4782-B5FB-E79B027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82C-CE31-4882-8192-A6AE53B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5635-DCD3-421D-BD96-60633728B0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548-7F69-4C8A-8230-934AAFEB54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DB3-C90F-404B-92BF-4FE0393B322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9BFF-156F-4D6C-A20A-EE5224E5EE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3139920" y="566640"/>
            <a:ext cx="6027840" cy="2347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0040" y="3285720"/>
            <a:ext cx="82152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nstantia"/>
              </a:rPr>
              <a:t>«Психологический комфорт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nstantia"/>
              </a:rPr>
              <a:t>на уроке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nstantia"/>
              </a:rPr>
              <a:t>как условие развития личности школьника»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Факторы, мешающие психологическому комфорту у обучающихся:</a:t>
            </a:r>
            <a:br>
              <a:rPr sz="2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уверенность в 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ная утомляем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медленность темпа деятель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ная потребность во внима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ная двигательная акти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ности в переключении с одной деятельности на другу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Факторы дискомфорта у учителей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ческая и психологическая напряженность тру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тоянное оценивание со стороны различных люд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ий уровень ответственност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нденция агрессивного отношения со стороны родителей и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ные стили управления педагогическими кадр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480" y="228600"/>
            <a:ext cx="85532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приятный психологический климат на урок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63640" y="1557000"/>
            <a:ext cx="5275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Благоприятный психологический климат на уроке служит одним из показателей успешности его проведен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заряд положительных эмоций, полученных школьниками и самим учителем определяет позитивное воздействие школы на здоровь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7020000" y="4751280"/>
            <a:ext cx="1720800" cy="16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30228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еобладающее выражение лица учителя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5480" y="2143080"/>
            <a:ext cx="66135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рок неполноценен, если на нем не было эмоционально-смысловых разрядок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улыбок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onstantia"/>
              </a:rPr>
              <a:t>уместных остроумных шуток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b5395"/>
                </a:solidFill>
                <a:latin typeface="Constantia"/>
              </a:rPr>
              <a:t>использования поговорок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афоризмов с комментариями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узыкальных минуток и т.д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1339560" cy="1915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4"/>
          <p:cNvSpPr/>
          <p:nvPr/>
        </p:nvSpPr>
        <p:spPr>
          <a:xfrm>
            <a:off x="250920" y="6453360"/>
            <a:ext cx="720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8" descr="041.gif"/>
          <p:cNvPicPr/>
          <p:nvPr/>
        </p:nvPicPr>
        <p:blipFill>
          <a:blip r:embed="rId2"/>
          <a:stretch/>
        </p:blipFill>
        <p:spPr>
          <a:xfrm>
            <a:off x="2714760" y="55008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342840000[1]"/>
          <p:cNvPicPr/>
          <p:nvPr/>
        </p:nvPicPr>
        <p:blipFill>
          <a:blip r:embed="rId3"/>
          <a:stretch/>
        </p:blipFill>
        <p:spPr>
          <a:xfrm>
            <a:off x="6286680" y="2928960"/>
            <a:ext cx="2428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ритерии психологического комфорта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856880"/>
            <a:ext cx="82580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Отсутствие усталости у детей и учите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onstantia"/>
              </a:rPr>
              <a:t>Положительный эмоциональный настр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495c"/>
                </a:solidFill>
                <a:latin typeface="Constantia"/>
              </a:rPr>
              <a:t>Удовлетворение от сделанной рабо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Желание продолжать работ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Создание ситуации успех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 один из факторов </a:t>
            </a: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обеспечения психологического комфорта на уро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12" descr="MCj00889580000[1]"/>
          <p:cNvPicPr/>
          <p:nvPr/>
        </p:nvPicPr>
        <p:blipFill>
          <a:blip r:embed="rId1"/>
          <a:stretch/>
        </p:blipFill>
        <p:spPr>
          <a:xfrm>
            <a:off x="7358040" y="4572000"/>
            <a:ext cx="1492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Constantia"/>
              </a:rPr>
              <a:t>Старайтесь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идеть в каждом ученике уникальную личность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d700"/>
                </a:solidFill>
                <a:latin typeface="Sylfaen"/>
              </a:rPr>
              <a:t>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«</a:t>
            </a: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Все дети талантливы». </a:t>
            </a:r>
            <a:r>
              <a:rPr b="1" lang="ru-RU" sz="2100" spc="-1" strike="noStrike">
                <a:solidFill>
                  <a:srgbClr val="ffff00"/>
                </a:solidFill>
                <a:latin typeface="Sylfae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здавать личности ситуации успеха, одобрения, поддержки, доброжелательности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"Учиться победно!"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Исключить прямое принуждение, а также акценты на отставание и другие недостатки ребенка.</a:t>
            </a: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"Ребенок хорош, а плох его поступок"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Предоставлять возможности и помогать детям.</a:t>
            </a: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"В каждом ребенке – чудо, ожидай его"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комендации для поддержания психологического комфорта на уроке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53720"/>
            <a:ext cx="8229600" cy="3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620280"/>
            <a:ext cx="8856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Учитель должен входить в класс с хорошим бодрым настроем и уметь настроить себя на жизнерадостную с детьми параллел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Любое эмоциональное состояние, включая  отрицательное, можно выразить в деликатной форм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Обучение и воспитание должно строиться без наказания и окриков (В.С.Сухомлинский.)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иходите в кабинет нужно немного раньше звонка. Убедиться, все ли готово к уроку. Стремиться к организованному началу урок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Начинайте урок энергично. Не задавайте вопросы о том, кто не выполнил домашнего задания. Урок ведите так, чтобы каждый ученик с начала и до конца был занят дел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именяйте на уроке специально разработанный дидактический материал, используйте  разноуровневые задания, позволяющие ученику самому выбирать вид и форму материала (словесную, графическую, условно-символическую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Увлекайте учеников содержанием материала, контролируйте темп урока, помогайте «слабым» поверить свои сил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Заканчивать урок общей оценкой работы класса и отдельных учеников. Пусть все испытают чувство удовлетворенности от результатов труда на урок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екращать урок со звонком. Напомнить дежурному о его обязанностях. Удерживайтесь от излишних замечани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7785000" cy="1159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3840" y="1483920"/>
            <a:ext cx="8572680" cy="50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важай детей! Защити их любовью и правд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навреди! Ищи в детях хороше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мечай и отмечай малейший успех ученика. От постоянных неудач дети озлобляют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приписывай успех себе, а вину ученик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шибся – извинись, но ошибайся реже. Будь великодушным, умей проща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 уроке создавай ситуацию успех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кричи, не оскорбляй ученика ни при каких обстоятельства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Хвали в присутствии коллектива, а прощай наедин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олько приблизив к себе ребенка можно влиять на развитие его духовного мир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ищи в лице родителей средство для расправы за собственную беспомощность в общении с деть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ценивай поступок, а не личнос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Дай ребенку ощутить, что сочувствуешь ему, веришь в него, хорошего мнения о нем, несмотря на его оплошность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-303480" y="2071800"/>
            <a:ext cx="91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Arbat"/>
              </a:rPr>
              <a:t>С</a:t>
            </a:r>
            <a:r>
              <a:rPr b="1" lang="ru-RU" sz="6000" spc="-1" strike="noStrike">
                <a:solidFill>
                  <a:srgbClr val="ff0000"/>
                </a:solidFill>
                <a:latin typeface="Arbat"/>
              </a:rPr>
              <a:t>п</a:t>
            </a:r>
            <a:r>
              <a:rPr b="1" lang="ru-RU" sz="6000" spc="-1" strike="noStrike">
                <a:solidFill>
                  <a:srgbClr val="0c9b74"/>
                </a:solidFill>
                <a:latin typeface="Arbat"/>
              </a:rPr>
              <a:t>а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с</a:t>
            </a:r>
            <a:r>
              <a:rPr b="1" lang="ru-RU" sz="6000" spc="-1" strike="noStrike">
                <a:solidFill>
                  <a:srgbClr val="5ff3ca"/>
                </a:solidFill>
                <a:latin typeface="Arbat"/>
              </a:rPr>
              <a:t>и</a:t>
            </a:r>
            <a:r>
              <a:rPr b="1" lang="ru-RU" sz="6000" spc="-1" strike="noStrike">
                <a:solidFill>
                  <a:srgbClr val="20c9f8"/>
                </a:solidFill>
                <a:latin typeface="Arbat"/>
              </a:rPr>
              <a:t>б</a:t>
            </a:r>
            <a:r>
              <a:rPr b="1" lang="ru-RU" sz="6000" spc="-1" strike="noStrike">
                <a:solidFill>
                  <a:srgbClr val="c00000"/>
                </a:solidFill>
                <a:latin typeface="Arbat"/>
              </a:rPr>
              <a:t>о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 </a:t>
            </a:r>
            <a:r>
              <a:rPr b="1" lang="ru-RU" sz="6000" spc="-1" strike="noStrike">
                <a:solidFill>
                  <a:srgbClr val="6bdbfa"/>
                </a:solidFill>
                <a:latin typeface="Arbat"/>
              </a:rPr>
              <a:t>з</a:t>
            </a:r>
            <a:r>
              <a:rPr b="1" lang="ru-RU" sz="6000" spc="-1" strike="noStrike">
                <a:solidFill>
                  <a:srgbClr val="92d050"/>
                </a:solidFill>
                <a:latin typeface="Arbat"/>
              </a:rPr>
              <a:t>а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  </a:t>
            </a:r>
            <a:r>
              <a:rPr b="1" lang="ru-RU" sz="6000" spc="-1" strike="noStrike">
                <a:solidFill>
                  <a:srgbClr val="0f6fc6"/>
                </a:solidFill>
                <a:latin typeface="Arbat"/>
              </a:rPr>
              <a:t>в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н</a:t>
            </a:r>
            <a:r>
              <a:rPr b="1" lang="ru-RU" sz="6000" spc="-1" strike="noStrike">
                <a:solidFill>
                  <a:srgbClr val="7030a0"/>
                </a:solidFill>
                <a:latin typeface="Arbat"/>
              </a:rPr>
              <a:t>и</a:t>
            </a:r>
            <a:r>
              <a:rPr b="1" lang="ru-RU" sz="6000" spc="-1" strike="noStrike">
                <a:solidFill>
                  <a:srgbClr val="ff0000"/>
                </a:solidFill>
                <a:latin typeface="Arbat"/>
              </a:rPr>
              <a:t>м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bat"/>
              </a:rPr>
              <a:t>н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и</a:t>
            </a:r>
            <a:r>
              <a:rPr b="1" lang="ru-RU" sz="6000" spc="-1" strike="noStrike">
                <a:solidFill>
                  <a:srgbClr val="00b050"/>
                </a:solidFill>
                <a:latin typeface="Arbat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7215120" y="4286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928800" y="5000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740160"/>
            <a:ext cx="807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«ВСЁ В ТВОИХ РУКАХ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E:\Documents and Settings\Администрация\Рабочий стол\nasekomoe-54.gif"/>
          <p:cNvPicPr/>
          <p:nvPr/>
        </p:nvPicPr>
        <p:blipFill>
          <a:blip r:embed="rId1"/>
          <a:stretch/>
        </p:blipFill>
        <p:spPr>
          <a:xfrm rot="2440800">
            <a:off x="0" y="4643280"/>
            <a:ext cx="2003400" cy="1928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E:\Documents and Settings\Администрация\Рабочий стол\chernaja-babochka.gif"/>
          <p:cNvPicPr/>
          <p:nvPr/>
        </p:nvPicPr>
        <p:blipFill>
          <a:blip r:embed="rId2"/>
          <a:stretch/>
        </p:blipFill>
        <p:spPr>
          <a:xfrm rot="12615600">
            <a:off x="6786000" y="0"/>
            <a:ext cx="2238120" cy="21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E:\Documents and Settings\Администрация\Рабочий стол\1334215342_916488585.gif"/>
          <p:cNvPicPr/>
          <p:nvPr/>
        </p:nvPicPr>
        <p:blipFill>
          <a:blip r:embed="rId3"/>
          <a:stretch/>
        </p:blipFill>
        <p:spPr>
          <a:xfrm>
            <a:off x="2357280" y="2214720"/>
            <a:ext cx="5438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комфор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2071800"/>
            <a:ext cx="82580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onstantia"/>
              </a:rPr>
              <a:t>Комфорт - заимствовано из английского языка, где comfort «поддержка, укрепление»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onstantia"/>
              </a:rPr>
              <a:t>(«Этимологический словарь», Н. М. Шанский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83763"/>
                </a:solidFill>
                <a:latin typeface="Constantia"/>
              </a:rPr>
              <a:t>  </a:t>
            </a:r>
            <a:r>
              <a:rPr b="0" lang="ru-RU" sz="2500" spc="-1" strike="noStrike">
                <a:solidFill>
                  <a:srgbClr val="083763"/>
                </a:solidFill>
                <a:latin typeface="Constantia"/>
              </a:rPr>
              <a:t>Комфорт - условия жизни, пребывания, обстановка, обеспечивающие удобство, спокойствие и уют. («Толковый словарь русского языка», С. И. Ожегов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6600"/>
                </a:solidFill>
                <a:latin typeface="Constantia"/>
              </a:rPr>
              <a:t>Психологический комфорт - условия жизни, при которых ребенок чувствует себя спокойно, нет необходимости защищаться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11" descr="MCj04154900000[1]"/>
          <p:cNvPicPr/>
          <p:nvPr/>
        </p:nvPicPr>
        <p:blipFill>
          <a:blip r:embed="rId1"/>
          <a:stretch/>
        </p:blipFill>
        <p:spPr>
          <a:xfrm>
            <a:off x="6521400" y="333360"/>
            <a:ext cx="22446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сихологический комфор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ичему меня не научит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То, что тычет, талдычит,  жучит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Борис  Слуцк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акторы, формирующие здоровье челове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ственность -15-20%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, медицина и экология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ая среда – 50-55%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401760" y="469800"/>
            <a:ext cx="83707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7854840" cy="478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рузья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           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Школа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              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Родители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BL00545_"/>
          <p:cNvPicPr/>
          <p:nvPr/>
        </p:nvPicPr>
        <p:blipFill>
          <a:blip r:embed="rId3"/>
          <a:stretch/>
        </p:blipFill>
        <p:spPr>
          <a:xfrm>
            <a:off x="3357720" y="4365720"/>
            <a:ext cx="2222280" cy="1724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J0076194"/>
          <p:cNvPicPr/>
          <p:nvPr/>
        </p:nvPicPr>
        <p:blipFill>
          <a:blip r:embed="rId4"/>
          <a:stretch/>
        </p:blipFill>
        <p:spPr>
          <a:xfrm>
            <a:off x="179280" y="3500280"/>
            <a:ext cx="162252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J0076195"/>
          <p:cNvPicPr/>
          <p:nvPr/>
        </p:nvPicPr>
        <p:blipFill>
          <a:blip r:embed="rId5"/>
          <a:stretch/>
        </p:blipFill>
        <p:spPr>
          <a:xfrm>
            <a:off x="1547640" y="3500280"/>
            <a:ext cx="1571760" cy="2248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6"/>
          <a:srcRect l="-1782" t="53783" r="72781" b="12347"/>
          <a:stretch/>
        </p:blipFill>
        <p:spPr>
          <a:xfrm>
            <a:off x="6443640" y="3284640"/>
            <a:ext cx="1935360" cy="18208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9"/>
          <p:cNvSpPr/>
          <p:nvPr/>
        </p:nvSpPr>
        <p:spPr>
          <a:xfrm rot="2605800">
            <a:off x="1350720" y="2300040"/>
            <a:ext cx="576000" cy="1081080"/>
          </a:xfrm>
          <a:prstGeom prst="downArrow">
            <a:avLst>
              <a:gd name="adj1" fmla="val 50000"/>
              <a:gd name="adj2" fmla="val 469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4067280" y="2492280"/>
            <a:ext cx="576000" cy="1584360"/>
          </a:xfrm>
          <a:prstGeom prst="downArrow">
            <a:avLst>
              <a:gd name="adj1" fmla="val 50000"/>
              <a:gd name="adj2" fmla="val 687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 rot="18590400">
            <a:off x="7007400" y="2326320"/>
            <a:ext cx="525600" cy="965160"/>
          </a:xfrm>
          <a:prstGeom prst="downArrow">
            <a:avLst>
              <a:gd name="adj1" fmla="val 50000"/>
              <a:gd name="adj2" fmla="val 4590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акторы, составляющие окружение школьник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о-педагогические факторы (личность учителя, сложность учебной программы, возможности ребенка усвоить эту программу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циальные (статус в классе, отношения с другими учениками вне класса 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ческие (школьное пространство, включая обстановку, освещенность, режим дня, качество питан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900108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оздание в школе атмосферы психологического комфорта</a:t>
            </a:r>
            <a:r>
              <a:rPr b="1" lang="ru-RU" sz="20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br>
              <a:rPr sz="18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1000"/>
            <a:ext cx="814392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кон РФ “Об образовании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В статье 56.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оворится “о прекращении трудового договора с педагогом в случае применения, в том числе однократного, методов воспитания, связанных с физическим и (или) психологическим насилием над личностью обучающегося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Статья 32.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“Образовательное учреждение несет ответственность за качество образования своих выпускников”. Наличие или отсутствие психологического комфорта оказывает влияние на состояние психики школьника, его желание учиться, а в итоге – на его успеваемость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венция ООН о правах ребенка стать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8.2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ласит: “Государства-участники принимают все необходимые меры для обеспечения того, чтобы школьная дисциплина поддерживалась с помощью методов, отражающих уважение человеческого достоинства ребенка и в соответствии с настоящей Конвенцией”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6" descr="MCj00890080000[1]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ритерии психологического пространств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  сред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 психологического комфорт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irst</dc:creator>
  <dc:description/>
  <dc:language>en-US</dc:language>
  <cp:lastModifiedBy>vPCm</cp:lastModifiedBy>
  <dcterms:modified xsi:type="dcterms:W3CDTF">2019-05-11T18:40:32Z</dcterms:modified>
  <cp:revision>48</cp:revision>
  <dc:subject/>
  <dc:title>Слайд 1</dc:title>
</cp:coreProperties>
</file>