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11.jpeg" ContentType="image/jpeg"/>
  <Override PartName="/ppt/media/image23.wmf" ContentType="image/x-wmf"/>
  <Override PartName="/ppt/media/image9.gif" ContentType="image/gif"/>
  <Override PartName="/ppt/media/image22.wmf" ContentType="image/x-wmf"/>
  <Override PartName="/ppt/media/image7.gif" ContentType="image/gif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6.png" ContentType="image/png"/>
  <Override PartName="/ppt/media/image24.png" ContentType="image/png"/>
  <Override PartName="/ppt/media/image21.gif" ContentType="image/gif"/>
  <Override PartName="/ppt/media/image19.gif" ContentType="image/gif"/>
  <Override PartName="/ppt/media/image1.jpeg" ContentType="image/jpeg"/>
  <Override PartName="/ppt/media/image20.gif" ContentType="image/gif"/>
  <Override PartName="/ppt/media/image18.gif" ContentType="image/gif"/>
  <Override PartName="/ppt/media/image17.wmf" ContentType="image/x-wmf"/>
  <Override PartName="/ppt/media/image14.gif" ContentType="image/gif"/>
  <Override PartName="/ppt/media/image16.png" ContentType="image/png"/>
  <Override PartName="/ppt/media/image15.gif" ContentType="image/gif"/>
  <Override PartName="/ppt/media/image26.png" ContentType="image/png"/>
  <Override PartName="/ppt/media/image3.png" ContentType="image/png"/>
  <Override PartName="/ppt/media/image8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8037-9608-4626-A51A-C2924CFD0B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1263-D7CE-4602-A60B-05B2C9C6AC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B8D-DB78-404B-8FEA-D5A199DB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226C-8C8F-46E5-A8AC-E431AEBD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2417-0578-47D6-AFB7-B5EB8E0A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5521-7103-4699-9A42-2FD0864F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18E1-E953-4ACB-9164-5D4220E0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A719-3C89-4633-9B75-88344FD9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A715-D887-4805-8853-C23AFC1E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1B9D-54F2-4438-803A-FA0310E2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2FF9-10AD-4DCA-86C3-60FCDAA2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05EC-FC90-417F-BF0C-44ABE6E4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2E18-996A-492A-9A77-1EA751B2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23EB-FCCC-4598-9E15-9466DF01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74B6-0846-4051-AC15-95963CA3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50AE-50DF-4BDB-956A-E8414194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CF12-FFB5-4A6E-A099-1C0211D7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AE62-8FA3-48C0-8E01-C7F7C67B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A7A8-E20A-46B2-8DFE-F3B319D0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6348B-D074-47B1-9556-61C1E76A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BE355-0040-433E-911D-9BCD9866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D3182-0B07-4CC5-901C-E634CCE7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D4675-C426-4660-BCED-2F2A66C8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19886-27F6-4D1E-8C12-291BC951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5C04-2BA3-4A9D-A1B3-C7727966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3C21E-9ECA-4B16-8966-F206886B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3E708-4C9B-4801-85A3-11E4EADB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F615C-1C24-46BD-8E78-CF50AC7F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69F14-2674-4210-BD30-DAD262A1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B17DB-8B9A-4EBD-93E6-11EBD933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42F0D-CE35-4A2F-A9E8-0541D57D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837B3-5279-4052-B169-BE3FC829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10314-1E89-47DD-B650-DFC80DB5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48EE1-E175-4889-AEAF-FFDEC365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C1A61-5D1E-41F3-A69A-520BFF3C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4233-4319-4CDB-BBB5-92E17F93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C6888-857A-4B1C-BF29-CB6351D3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6EE2B-6C3A-4847-A993-0A3F1F59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27C72-7ADB-4198-AF54-6B47F2F8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BE3A0-70EA-4EEC-AF64-C0317738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A68F7-85D6-4727-A472-EA63E73E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6B675-48AE-4033-882B-262F8B3B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9D88B-53C6-4240-A0B7-12175BA3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068B3-4DCE-49F1-A555-1BC08ACA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6A3B9-7E2B-40DE-BC78-2646EE96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2FB-0A53-40C8-A492-0D601FE2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85F0-4CCD-4F47-9B90-9CEA633F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309B-1F22-403C-8C2E-762193B9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33F9-EAD1-46FD-B618-4FE80696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0310-1737-4A3E-9C74-B27C8D42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1D95-6553-4DCE-9AA4-C65FB17AC8C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28CB-BFAB-4F98-88B0-A43CEF25A30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2ABA-F561-473B-A0DA-8FA04625F8E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8A3E-76C6-4FF9-8892-162D5CA8216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3139920" y="566640"/>
            <a:ext cx="6027840" cy="2347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00040" y="3285720"/>
            <a:ext cx="8215200" cy="2281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00"/>
                </a:solidFill>
                <a:latin typeface="Constantia"/>
              </a:rPr>
              <a:t>«Психологический комфорт 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00"/>
                </a:solidFill>
                <a:latin typeface="Constantia"/>
              </a:rPr>
              <a:t>на уроке 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00"/>
                </a:solidFill>
                <a:latin typeface="Constantia"/>
              </a:rPr>
              <a:t>как условие развития личности школьника»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Факторы, мешающие психологическому комфорту у обучающихся:</a:t>
            </a:r>
            <a:br>
              <a:rPr sz="20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уверенность в себ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енная утомляем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медленность темпа деятель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енная потребность во вниман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енная двигательная активн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рудности в переключении с одной деятельности на другу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Факторы дискомфорта у учителей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зическая и психологическая напряженность тру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стоянное оценивание со стороны различных люд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сокий уровень ответственности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нденция агрессивного отношения со стороны родителей и учащихс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ные стили управления педагогическими кадра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5480" y="228600"/>
            <a:ext cx="855324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лагоприятный психологический климат на уроке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563640" y="1557000"/>
            <a:ext cx="5275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     </a:t>
            </a:r>
            <a:r>
              <a:rPr b="1" lang="ru-RU" sz="2200" spc="-1" strike="noStrike">
                <a:solidFill>
                  <a:srgbClr val="c00000"/>
                </a:solidFill>
                <a:latin typeface="Constantia"/>
              </a:rPr>
              <a:t>Благоприятный психологический климат на уроке служит одним из показателей успешности его проведения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nstantia"/>
              </a:rPr>
              <a:t>  </a:t>
            </a:r>
            <a:r>
              <a:rPr b="1" lang="ru-RU" sz="2200" spc="-1" strike="noStrike">
                <a:solidFill>
                  <a:srgbClr val="c00000"/>
                </a:solidFill>
                <a:latin typeface="Constantia"/>
              </a:rPr>
              <a:t>заряд положительных эмоций, полученных школьниками и самим учителем определяет позитивное воздействие школы на здоровь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7020000" y="4751280"/>
            <a:ext cx="1720800" cy="1656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330228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реобладающее выражение лица учителя.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85480" y="2143080"/>
            <a:ext cx="661356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рок неполноценен, если на нем не было эмоционально-смысловых разрядок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улыбок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onstantia"/>
              </a:rPr>
              <a:t>уместных остроумных шуток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b5395"/>
                </a:solidFill>
                <a:latin typeface="Constantia"/>
              </a:rPr>
              <a:t>использования поговорок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афоризмов с комментариями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музыкальных минуток и т.д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1339560" cy="19159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4"/>
          <p:cNvSpPr/>
          <p:nvPr/>
        </p:nvSpPr>
        <p:spPr>
          <a:xfrm>
            <a:off x="250920" y="6453360"/>
            <a:ext cx="7207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8" descr="041.gif"/>
          <p:cNvPicPr/>
          <p:nvPr/>
        </p:nvPicPr>
        <p:blipFill>
          <a:blip r:embed="rId2"/>
          <a:stretch/>
        </p:blipFill>
        <p:spPr>
          <a:xfrm>
            <a:off x="2714760" y="550080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MCj03342840000[1]"/>
          <p:cNvPicPr/>
          <p:nvPr/>
        </p:nvPicPr>
        <p:blipFill>
          <a:blip r:embed="rId3"/>
          <a:stretch/>
        </p:blipFill>
        <p:spPr>
          <a:xfrm>
            <a:off x="6286680" y="2928960"/>
            <a:ext cx="24285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Критерии психологического комфорта уро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1856880"/>
            <a:ext cx="825804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onstantia"/>
              </a:rPr>
              <a:t>Отсутствие усталости у детей и учител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b050"/>
                </a:solidFill>
                <a:latin typeface="Constantia"/>
              </a:rPr>
              <a:t>Положительный эмоциональный настр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3495c"/>
                </a:solidFill>
                <a:latin typeface="Constantia"/>
              </a:rPr>
              <a:t>Удовлетворение от сделанной работ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Желание продолжать работ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onstantia"/>
              </a:rPr>
              <a:t>Создание ситуации успеха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ак один из факторов </a:t>
            </a:r>
            <a:r>
              <a:rPr b="1" lang="ru-RU" sz="2600" spc="-1" strike="noStrike">
                <a:solidFill>
                  <a:srgbClr val="08684e"/>
                </a:solidFill>
                <a:latin typeface="Constantia"/>
              </a:rPr>
              <a:t>обеспечения психологического комфорта на урок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12" descr="MCj00889580000[1]"/>
          <p:cNvPicPr/>
          <p:nvPr/>
        </p:nvPicPr>
        <p:blipFill>
          <a:blip r:embed="rId1"/>
          <a:stretch/>
        </p:blipFill>
        <p:spPr>
          <a:xfrm>
            <a:off x="7358040" y="4572000"/>
            <a:ext cx="149220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ff9900"/>
                </a:solidFill>
                <a:latin typeface="Constantia"/>
              </a:rPr>
              <a:t>Старайтесь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идеть в каждом ученике уникальную личность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2d700"/>
                </a:solidFill>
                <a:latin typeface="Sylfaen"/>
              </a:rPr>
              <a:t>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«</a:t>
            </a:r>
            <a:r>
              <a:rPr b="1" lang="ru-RU" sz="2100" spc="-1" strike="noStrike">
                <a:solidFill>
                  <a:srgbClr val="ffff00"/>
                </a:solidFill>
                <a:latin typeface="Constantia"/>
              </a:rPr>
              <a:t>Все дети талантливы». </a:t>
            </a:r>
            <a:r>
              <a:rPr b="1" lang="ru-RU" sz="2100" spc="-1" strike="noStrike">
                <a:solidFill>
                  <a:srgbClr val="ffff00"/>
                </a:solidFill>
                <a:latin typeface="Sylfae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оздавать личности ситуации успеха, одобрения, поддержки, доброжелательности.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Constantia"/>
              </a:rPr>
              <a:t>"Учиться победно!".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Исключить прямое принуждение, а также акценты на отставание и другие недостатки ребенка.</a:t>
            </a:r>
            <a:r>
              <a:rPr b="1" lang="ru-RU" sz="21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Constantia"/>
              </a:rPr>
              <a:t>"Ребенок хорош, а плох его поступок".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Предоставлять возможности и помогать детям.</a:t>
            </a:r>
            <a:r>
              <a:rPr b="1" lang="ru-RU" sz="21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Constantia"/>
              </a:rPr>
              <a:t>"В каждом ребенке – чудо, ожидай его".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екомендации для поддержания психологического комфорта на уроке: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53720"/>
            <a:ext cx="8229600" cy="38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8000" y="620280"/>
            <a:ext cx="8856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Учитель должен входить в класс с хорошим бодрым настроем и уметь настроить себя на жизнерадостную с детьми параллель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Любое эмоциональное состояние, включая  отрицательное, можно выразить в деликатной форме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Обучение и воспитание должно строиться без наказания и окриков (В.С.Сухомлинский.)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Приходите в кабинет нужно немного раньше звонка. Убедиться, все ли готово к уроку. Стремиться к организованному началу урока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Начинайте урок энергично. Не задавайте вопросы о том, кто не выполнил домашнего задания. Урок ведите так, чтобы каждый ученик с начала и до конца был занят делом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Применяйте на уроке специально разработанный дидактический материал, используйте  разноуровневые задания, позволяющие ученику самому выбирать вид и форму материала (словесную, графическую, условно-символическую)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Увлекайте учеников содержанием материала, контролируйте темп урока, помогайте «слабым» поверить свои силы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Заканчивать урок общей оценкой работы класса и отдельных учеников. Пусть все испытают чувство удовлетворенности от результатов труда на уроке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Прекращать урок со звонком. Напомнить дежурному о его обязанностях. Удерживайтесь от излишних замечаний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523800" y="334800"/>
            <a:ext cx="7785000" cy="11592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13840" y="1483920"/>
            <a:ext cx="8572680" cy="508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Уважай детей! Защити их любовью и правдой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е навреди! Ищи в детях хороше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Замечай и отмечай малейший успех ученика. От постоянных неудач дети озлобляютс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е приписывай успех себе, а вину ученику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шибся – извинись, но ошибайся реже. Будь великодушным, умей прощать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а уроке создавай ситуацию успех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е кричи, не оскорбляй ученика ни при каких обстоятельствах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Хвали в присутствии коллектива, а прощай наедин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Только приблизив к себе ребенка можно влиять на развитие его духовного мир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е ищи в лице родителей средство для расправы за собственную беспомощность в общении с детьм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ценивай поступок, а не личность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Дай ребенку ощутить, что сочувствуешь ему, веришь в него, хорошего мнения о нем, несмотря на его оплошность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-303480" y="2071800"/>
            <a:ext cx="912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89ca3"/>
                </a:solidFill>
                <a:latin typeface="Arbat"/>
              </a:rPr>
              <a:t>С</a:t>
            </a:r>
            <a:r>
              <a:rPr b="1" lang="ru-RU" sz="6000" spc="-1" strike="noStrike">
                <a:solidFill>
                  <a:srgbClr val="ff0000"/>
                </a:solidFill>
                <a:latin typeface="Arbat"/>
              </a:rPr>
              <a:t>п</a:t>
            </a:r>
            <a:r>
              <a:rPr b="1" lang="ru-RU" sz="6000" spc="-1" strike="noStrike">
                <a:solidFill>
                  <a:srgbClr val="0c9b74"/>
                </a:solidFill>
                <a:latin typeface="Arbat"/>
              </a:rPr>
              <a:t>а</a:t>
            </a:r>
            <a:r>
              <a:rPr b="1" lang="ru-RU" sz="6000" spc="-1" strike="noStrike">
                <a:solidFill>
                  <a:srgbClr val="ffc000"/>
                </a:solidFill>
                <a:latin typeface="Arbat"/>
              </a:rPr>
              <a:t>с</a:t>
            </a:r>
            <a:r>
              <a:rPr b="1" lang="ru-RU" sz="6000" spc="-1" strike="noStrike">
                <a:solidFill>
                  <a:srgbClr val="5ff3ca"/>
                </a:solidFill>
                <a:latin typeface="Arbat"/>
              </a:rPr>
              <a:t>и</a:t>
            </a:r>
            <a:r>
              <a:rPr b="1" lang="ru-RU" sz="6000" spc="-1" strike="noStrike">
                <a:solidFill>
                  <a:srgbClr val="20c9f8"/>
                </a:solidFill>
                <a:latin typeface="Arbat"/>
              </a:rPr>
              <a:t>б</a:t>
            </a:r>
            <a:r>
              <a:rPr b="1" lang="ru-RU" sz="6000" spc="-1" strike="noStrike">
                <a:solidFill>
                  <a:srgbClr val="c00000"/>
                </a:solidFill>
                <a:latin typeface="Arbat"/>
              </a:rPr>
              <a:t>о</a:t>
            </a:r>
            <a:r>
              <a:rPr b="1" lang="ru-RU" sz="6000" spc="-1" strike="noStrike">
                <a:solidFill>
                  <a:srgbClr val="ffc000"/>
                </a:solidFill>
                <a:latin typeface="Arbat"/>
              </a:rPr>
              <a:t> </a:t>
            </a:r>
            <a:r>
              <a:rPr b="1" lang="ru-RU" sz="6000" spc="-1" strike="noStrike">
                <a:solidFill>
                  <a:srgbClr val="6bdbfa"/>
                </a:solidFill>
                <a:latin typeface="Arbat"/>
              </a:rPr>
              <a:t>з</a:t>
            </a:r>
            <a:r>
              <a:rPr b="1" lang="ru-RU" sz="6000" spc="-1" strike="noStrike">
                <a:solidFill>
                  <a:srgbClr val="92d050"/>
                </a:solidFill>
                <a:latin typeface="Arbat"/>
              </a:rPr>
              <a:t>а</a:t>
            </a:r>
            <a:r>
              <a:rPr b="1" lang="ru-RU" sz="6000" spc="-1" strike="noStrike">
                <a:solidFill>
                  <a:srgbClr val="ffc000"/>
                </a:solidFill>
                <a:latin typeface="Arbat"/>
              </a:rPr>
              <a:t>  </a:t>
            </a:r>
            <a:r>
              <a:rPr b="1" lang="ru-RU" sz="6000" spc="-1" strike="noStrike">
                <a:solidFill>
                  <a:srgbClr val="0f6fc6"/>
                </a:solidFill>
                <a:latin typeface="Arbat"/>
              </a:rPr>
              <a:t>в</a:t>
            </a:r>
            <a:r>
              <a:rPr b="1" lang="ru-RU" sz="6000" spc="-1" strike="noStrike">
                <a:solidFill>
                  <a:srgbClr val="ffc000"/>
                </a:solidFill>
                <a:latin typeface="Arbat"/>
              </a:rPr>
              <a:t>н</a:t>
            </a:r>
            <a:r>
              <a:rPr b="1" lang="ru-RU" sz="6000" spc="-1" strike="noStrike">
                <a:solidFill>
                  <a:srgbClr val="7030a0"/>
                </a:solidFill>
                <a:latin typeface="Arbat"/>
              </a:rPr>
              <a:t>и</a:t>
            </a:r>
            <a:r>
              <a:rPr b="1" lang="ru-RU" sz="6000" spc="-1" strike="noStrike">
                <a:solidFill>
                  <a:srgbClr val="ff0000"/>
                </a:solidFill>
                <a:latin typeface="Arbat"/>
              </a:rPr>
              <a:t>м</a:t>
            </a:r>
            <a:r>
              <a:rPr b="1" lang="ru-RU" sz="6000" spc="-1" strike="noStrike">
                <a:solidFill>
                  <a:srgbClr val="ffc000"/>
                </a:solidFill>
                <a:latin typeface="Arbat"/>
              </a:rPr>
              <a:t>а</a:t>
            </a:r>
            <a:r>
              <a:rPr b="1" lang="ru-RU" sz="6000" spc="-1" strike="noStrike">
                <a:solidFill>
                  <a:srgbClr val="00b050"/>
                </a:solidFill>
                <a:latin typeface="Arbat"/>
              </a:rPr>
              <a:t>н</a:t>
            </a:r>
            <a:r>
              <a:rPr b="1" lang="ru-RU" sz="6000" spc="-1" strike="noStrike">
                <a:solidFill>
                  <a:srgbClr val="ffc000"/>
                </a:solidFill>
                <a:latin typeface="Arbat"/>
              </a:rPr>
              <a:t>и</a:t>
            </a:r>
            <a:r>
              <a:rPr b="1" lang="ru-RU" sz="6000" spc="-1" strike="noStrike">
                <a:solidFill>
                  <a:srgbClr val="00b050"/>
                </a:solidFill>
                <a:latin typeface="Arbat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7215120" y="428616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928800" y="500040"/>
            <a:ext cx="114300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500040" y="740160"/>
            <a:ext cx="807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83763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6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«ВСЁ В ТВОИХ РУКАХ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E:\Documents and Settings\Администрация\Рабочий стол\nasekomoe-54.gif"/>
          <p:cNvPicPr/>
          <p:nvPr/>
        </p:nvPicPr>
        <p:blipFill>
          <a:blip r:embed="rId1"/>
          <a:stretch/>
        </p:blipFill>
        <p:spPr>
          <a:xfrm rot="2440800">
            <a:off x="0" y="4643280"/>
            <a:ext cx="2003400" cy="1928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E:\Documents and Settings\Администрация\Рабочий стол\chernaja-babochka.gif"/>
          <p:cNvPicPr/>
          <p:nvPr/>
        </p:nvPicPr>
        <p:blipFill>
          <a:blip r:embed="rId2"/>
          <a:stretch/>
        </p:blipFill>
        <p:spPr>
          <a:xfrm rot="12615600">
            <a:off x="6786000" y="0"/>
            <a:ext cx="2238120" cy="2147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E:\Documents and Settings\Администрация\Рабочий стол\1334215342_916488585.gif"/>
          <p:cNvPicPr/>
          <p:nvPr/>
        </p:nvPicPr>
        <p:blipFill>
          <a:blip r:embed="rId3"/>
          <a:stretch/>
        </p:blipFill>
        <p:spPr>
          <a:xfrm>
            <a:off x="2357280" y="2214720"/>
            <a:ext cx="54388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то такое комфорт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400" y="2071800"/>
            <a:ext cx="82580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Constantia"/>
              </a:rPr>
              <a:t>Комфорт - заимствовано из английского языка, где comfort «поддержка, укрепление»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Constantia"/>
              </a:rPr>
              <a:t>(«Этимологический словарь», Н. М. Шанский)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83763"/>
                </a:solidFill>
                <a:latin typeface="Constantia"/>
              </a:rPr>
              <a:t>  </a:t>
            </a:r>
            <a:r>
              <a:rPr b="0" lang="ru-RU" sz="2500" spc="-1" strike="noStrike">
                <a:solidFill>
                  <a:srgbClr val="083763"/>
                </a:solidFill>
                <a:latin typeface="Constantia"/>
              </a:rPr>
              <a:t>Комфорт - условия жизни, пребывания, обстановка, обеспечивающие удобство, спокойствие и уют. («Толковый словарь русского языка», С. И. Ожегов)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700" spc="-1" strike="noStrike">
                <a:solidFill>
                  <a:srgbClr val="006600"/>
                </a:solidFill>
                <a:latin typeface="Constantia"/>
              </a:rPr>
              <a:t>Психологический комфорт - условия жизни, при которых ребенок чувствует себя спокойно, нет необходимости защищаться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11" descr="MCj04154900000[1]"/>
          <p:cNvPicPr/>
          <p:nvPr/>
        </p:nvPicPr>
        <p:blipFill>
          <a:blip r:embed="rId1"/>
          <a:stretch/>
        </p:blipFill>
        <p:spPr>
          <a:xfrm>
            <a:off x="6521400" y="333360"/>
            <a:ext cx="224460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сихологический комфор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ичему меня не научит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То, что тычет, талдычит,  жучит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Борис  Слуцк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Факторы, формирующие здоровье человек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507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едственность -15-20%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, медицина и экология 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%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ая среда – 50-55%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401760" y="469800"/>
            <a:ext cx="8370720" cy="1096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68000" y="1844280"/>
            <a:ext cx="7854840" cy="4786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Друзья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                       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Школа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               </a:t>
            </a:r>
            <a:r>
              <a:rPr b="1" lang="ru-RU" sz="2600" spc="-1" strike="noStrike">
                <a:solidFill>
                  <a:srgbClr val="0f6fc6"/>
                </a:solidFill>
                <a:latin typeface="Constantia"/>
              </a:rPr>
              <a:t> Родители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Picture 2" descr="BL00545_"/>
          <p:cNvPicPr/>
          <p:nvPr/>
        </p:nvPicPr>
        <p:blipFill>
          <a:blip r:embed="rId3"/>
          <a:stretch/>
        </p:blipFill>
        <p:spPr>
          <a:xfrm>
            <a:off x="3357720" y="4365720"/>
            <a:ext cx="2222280" cy="1724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J0076194"/>
          <p:cNvPicPr/>
          <p:nvPr/>
        </p:nvPicPr>
        <p:blipFill>
          <a:blip r:embed="rId4"/>
          <a:stretch/>
        </p:blipFill>
        <p:spPr>
          <a:xfrm>
            <a:off x="179280" y="3500280"/>
            <a:ext cx="1622520" cy="228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J0076195"/>
          <p:cNvPicPr/>
          <p:nvPr/>
        </p:nvPicPr>
        <p:blipFill>
          <a:blip r:embed="rId5"/>
          <a:stretch/>
        </p:blipFill>
        <p:spPr>
          <a:xfrm>
            <a:off x="1547640" y="3500280"/>
            <a:ext cx="1571760" cy="2248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6"/>
          <a:srcRect l="-1782" t="53783" r="72781" b="12347"/>
          <a:stretch/>
        </p:blipFill>
        <p:spPr>
          <a:xfrm>
            <a:off x="6443640" y="3284640"/>
            <a:ext cx="1935360" cy="182088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9"/>
          <p:cNvSpPr/>
          <p:nvPr/>
        </p:nvSpPr>
        <p:spPr>
          <a:xfrm rot="2605800">
            <a:off x="1350720" y="2300040"/>
            <a:ext cx="576000" cy="1081080"/>
          </a:xfrm>
          <a:prstGeom prst="downArrow">
            <a:avLst>
              <a:gd name="adj1" fmla="val 50000"/>
              <a:gd name="adj2" fmla="val 4692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4067280" y="2492280"/>
            <a:ext cx="576000" cy="1584360"/>
          </a:xfrm>
          <a:prstGeom prst="downArrow">
            <a:avLst>
              <a:gd name="adj1" fmla="val 50000"/>
              <a:gd name="adj2" fmla="val 687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 rot="18590400">
            <a:off x="7007400" y="2326320"/>
            <a:ext cx="525600" cy="965160"/>
          </a:xfrm>
          <a:prstGeom prst="downArrow">
            <a:avLst>
              <a:gd name="adj1" fmla="val 50000"/>
              <a:gd name="adj2" fmla="val 4590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Факторы, составляющие окружение школьник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сихолого-педагогические факторы (личность учителя, сложность учебной программы, возможности ребенка усвоить эту программу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циальные (статус в классе, отношения с другими учениками вне класса 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зические (школьное пространство, включая обстановку, освещенность, режим дня, качество питания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2560" y="213840"/>
            <a:ext cx="900108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оздание в школе атмосферы психологического комфорта</a:t>
            </a:r>
            <a:r>
              <a:rPr b="1" lang="ru-RU" sz="2000" spc="-1" strike="noStrike">
                <a:solidFill>
                  <a:srgbClr val="04617b"/>
                </a:solidFill>
                <a:latin typeface="Arial"/>
                <a:ea typeface="Arial"/>
              </a:rPr>
              <a:t>.</a:t>
            </a:r>
            <a:br>
              <a:rPr sz="18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79280" y="981000"/>
            <a:ext cx="814392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Закон РФ “Об образовании”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В статье 56.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говорится “о прекращении трудового договора с педагогом в случае применения, в том числе однократного, методов воспитания, связанных с физическим и (или) психологическим насилием над личностью обучающегося”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Статья 32.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“Образовательное учреждение несет ответственность за качество образования своих выпускников”. Наличие или отсутствие психологического комфорта оказывает влияние на состояние психики школьника, его желание учиться, а в итоге – на его успеваемость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Конвенция ООН о правах ребенка стать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8.2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гласит: “Государства-участники принимают все необходимые меры для обеспечения того, чтобы школьная дисциплина поддерживалась с помощью методов, отражающих уважение человеческого достоинства ребенка и в соответствии с настоящей Конвенцией”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6" descr="MCj00890080000[1]"/>
          <p:cNvPicPr/>
          <p:nvPr/>
        </p:nvPicPr>
        <p:blipFill>
          <a:blip r:embed="rId1"/>
          <a:stretch/>
        </p:blipFill>
        <p:spPr>
          <a:xfrm>
            <a:off x="7524720" y="0"/>
            <a:ext cx="16192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Критерии психологического пространств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ая  среда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а  психологического комфорта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irst</dc:creator>
  <dc:description/>
  <dc:language>en-US</dc:language>
  <cp:lastModifiedBy>vPCm</cp:lastModifiedBy>
  <dcterms:modified xsi:type="dcterms:W3CDTF">2019-05-11T18:40:32Z</dcterms:modified>
  <cp:revision>48</cp:revision>
  <dc:subject/>
  <dc:title>Слайд 1</dc:title>
</cp:coreProperties>
</file>