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ACD-93A4-4243-B6B7-F02DA821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3F2-5662-464B-8FE5-0EFD7DEA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564-473D-4ABA-BC3C-71AA37A7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A57-F5BC-4371-B3BA-F085743F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CC7-BDF6-487C-99DF-F871CD9D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367-5DA9-4D2B-9A19-DC56C72E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585-4FDE-4301-ADB8-B6F13134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196-8A92-46F8-8E7E-955E4EC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362-62C5-4EDE-97D9-86F7107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9CB-BD38-40B2-9915-6C48693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C7F-F42B-45FB-8B82-1F072CC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B97-48BA-4BA1-AAF6-0DEC9B74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CB4-69F0-4733-B5D6-113A170B9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img033"/>
          <p:cNvPicPr/>
          <p:nvPr/>
        </p:nvPicPr>
        <p:blipFill>
          <a:blip r:embed="rId1"/>
          <a:stretch/>
        </p:blipFill>
        <p:spPr>
          <a:xfrm>
            <a:off x="-214200" y="-142920"/>
            <a:ext cx="9501120" cy="705960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sp>
        <p:nvSpPr>
          <p:cNvPr id="42" name="Text Box 4"/>
          <p:cNvSpPr/>
          <p:nvPr/>
        </p:nvSpPr>
        <p:spPr>
          <a:xfrm>
            <a:off x="152280" y="142920"/>
            <a:ext cx="8991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МБОУ «Витим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974880" y="1073160"/>
            <a:ext cx="727380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000080" y="5286240"/>
            <a:ext cx="7429680" cy="1191240"/>
          </a:xfrm>
          <a:prstGeom prst="rect">
            <a:avLst/>
          </a:prstGeom>
          <a:solidFill>
            <a:srgbClr val="ddd9c3"/>
          </a:solidFill>
          <a:ln w="93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Урок по курсу ОКРУЖАЮЩИ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Учитель: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ичихина Ири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E_05k0002i"/>
          <p:cNvPicPr/>
          <p:nvPr/>
        </p:nvPicPr>
        <p:blipFill>
          <a:blip r:embed="rId1"/>
          <a:stretch/>
        </p:blipFill>
        <p:spPr>
          <a:xfrm>
            <a:off x="228600" y="1219320"/>
            <a:ext cx="424512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0" name="Text Box 5"/>
          <p:cNvSpPr/>
          <p:nvPr/>
        </p:nvSpPr>
        <p:spPr>
          <a:xfrm>
            <a:off x="4648320" y="1219320"/>
            <a:ext cx="426708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Построен псковскими зодчими в 1484году. Почти полтора столетия служил домовой церковью московских великих князей и царей. Собор предназначался для церемоний семейного характера: бракосочетания, крещения и т.д., был местом хранения великокняжеской и царской каз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440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Благовещен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ахр"/>
          <p:cNvPicPr/>
          <p:nvPr/>
        </p:nvPicPr>
        <p:blipFill>
          <a:blip r:embed="rId1"/>
          <a:stretch/>
        </p:blipFill>
        <p:spPr>
          <a:xfrm>
            <a:off x="2133720" y="1066680"/>
            <a:ext cx="4724280" cy="3527640"/>
          </a:xfrm>
          <a:prstGeom prst="rect">
            <a:avLst/>
          </a:prstGeom>
          <a:ln w="19080">
            <a:solidFill>
              <a:srgbClr val="006666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рхангель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80880" y="4876920"/>
            <a:ext cx="8229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Архангельский собор Московского Кремля был возведен в 1505-1508 гг. в честь архангела Михаила венецианским зодчим Алевизом Новым на Соборной площади. Постройка началась при Иване III и была закончена при его сыне, великом князе Василии Ивановиче. Храм долгое время служил усыпальницей московской правящей динас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ushki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261648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  <p:pic>
        <p:nvPicPr>
          <p:cNvPr id="86" name="Picture 5" descr="BE_05k0007i"/>
          <p:cNvPicPr/>
          <p:nvPr/>
        </p:nvPicPr>
        <p:blipFill>
          <a:blip r:embed="rId2"/>
          <a:stretch/>
        </p:blipFill>
        <p:spPr>
          <a:xfrm>
            <a:off x="5257800" y="3048120"/>
            <a:ext cx="3282840" cy="365256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3733920" y="152280"/>
            <a:ext cx="510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Однажды пришла в Москву тревожная весть: идет со всей ордой на город крымский хан. Но Андрей Чохов и его друзья – пушечных дел мастера – не сидели сложа руки. Они отлили в 1586 г. пушку, о какой никогда и нигде не слыхал… Стреляла она каменной картечью. Орда не дошла до Москвы, и не пришлось горожанам увидеть, как бьет орудие, которое за величину прозвали  </a:t>
            </a:r>
            <a:r>
              <a:rPr b="1" lang="ru-RU" sz="1800" spc="-1" strike="noStrike" u="sng">
                <a:solidFill>
                  <a:srgbClr val="984807"/>
                </a:solidFill>
                <a:uFillTx/>
                <a:latin typeface="Calibri"/>
              </a:rPr>
              <a:t>Царь-пушкой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80880" y="33526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У подножия колокольни Иван Великий находится </a:t>
            </a:r>
            <a:r>
              <a:rPr b="1" lang="ru-RU" sz="2400" spc="-1" strike="noStrike" u="sng">
                <a:solidFill>
                  <a:srgbClr val="984807"/>
                </a:solidFill>
                <a:uFillTx/>
                <a:latin typeface="Calibri"/>
              </a:rPr>
              <a:t>Царь-колокол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, отлитый из бронзы работными людьми под руководством Ивана и Михаила Моториных  в 1733 – 35 го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r10#006"/>
          <p:cNvPicPr/>
          <p:nvPr/>
        </p:nvPicPr>
        <p:blipFill>
          <a:blip r:embed="rId1"/>
          <a:stretch/>
        </p:blipFill>
        <p:spPr>
          <a:xfrm>
            <a:off x="228600" y="914400"/>
            <a:ext cx="6781680" cy="448956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0" name="Picture 5" descr="mr10#010"/>
          <p:cNvPicPr/>
          <p:nvPr/>
        </p:nvPicPr>
        <p:blipFill>
          <a:blip r:embed="rId2"/>
          <a:stretch/>
        </p:blipFill>
        <p:spPr>
          <a:xfrm>
            <a:off x="5815080" y="685800"/>
            <a:ext cx="2108160" cy="22860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-106668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ружейная па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r10#011"/>
          <p:cNvPicPr/>
          <p:nvPr/>
        </p:nvPicPr>
        <p:blipFill>
          <a:blip r:embed="rId3"/>
          <a:stretch/>
        </p:blipFill>
        <p:spPr>
          <a:xfrm>
            <a:off x="5867280" y="3276720"/>
            <a:ext cx="2114640" cy="22860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3" name="Picture 8" descr="mr10#009"/>
          <p:cNvPicPr/>
          <p:nvPr/>
        </p:nvPicPr>
        <p:blipFill>
          <a:blip r:embed="rId4"/>
          <a:stretch/>
        </p:blipFill>
        <p:spPr>
          <a:xfrm>
            <a:off x="7467480" y="4724280"/>
            <a:ext cx="1516320" cy="16002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4" name="Picture 9" descr="mr10#008"/>
          <p:cNvPicPr/>
          <p:nvPr/>
        </p:nvPicPr>
        <p:blipFill>
          <a:blip r:embed="rId5"/>
          <a:stretch/>
        </p:blipFill>
        <p:spPr>
          <a:xfrm>
            <a:off x="7467480" y="228600"/>
            <a:ext cx="1459080" cy="20574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5" name="Picture 10" descr="mr10#007"/>
          <p:cNvPicPr/>
          <p:nvPr/>
        </p:nvPicPr>
        <p:blipFill>
          <a:blip r:embed="rId6"/>
          <a:stretch/>
        </p:blipFill>
        <p:spPr>
          <a:xfrm>
            <a:off x="7526160" y="2438280"/>
            <a:ext cx="1452600" cy="20574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sp>
        <p:nvSpPr>
          <p:cNvPr id="96" name="Text Box 11"/>
          <p:cNvSpPr/>
          <p:nvPr/>
        </p:nvSpPr>
        <p:spPr>
          <a:xfrm>
            <a:off x="142920" y="55008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Центральное государственное учреждение в России, в 16 — нач. 18 вв. — место изготовления, закупки и хранения оружия, драгоценностей, предметов дворцового обихода. Создано при Иване Калите; первое упоминание относится к 150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019"/>
          <p:cNvPicPr/>
          <p:nvPr/>
        </p:nvPicPr>
        <p:blipFill>
          <a:blip r:embed="rId1"/>
          <a:stretch/>
        </p:blipFill>
        <p:spPr>
          <a:xfrm>
            <a:off x="1828800" y="1066680"/>
            <a:ext cx="5762520" cy="406584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8380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оводевичий монаст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57120" y="5226120"/>
            <a:ext cx="861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дним из красивейших московских монастырей является Новодевичий женский монастырь. Он был основан в 1524 г. князем Василием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III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. Монастырь расположен на берегу Москвы-реки, в четырех километрах от Кремля. Он не раз отражал нападения крымских татар и польско-литовских во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нов"/>
          <p:cNvPicPr/>
          <p:nvPr/>
        </p:nvPicPr>
        <p:blipFill>
          <a:blip r:embed="rId2"/>
          <a:stretch/>
        </p:blipFill>
        <p:spPr>
          <a:xfrm>
            <a:off x="152280" y="762120"/>
            <a:ext cx="1771920" cy="19717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pic>
        <p:nvPicPr>
          <p:cNvPr id="101" name="Picture 9" descr="усып"/>
          <p:cNvPicPr/>
          <p:nvPr/>
        </p:nvPicPr>
        <p:blipFill>
          <a:blip r:embed="rId3"/>
          <a:stretch/>
        </p:blipFill>
        <p:spPr>
          <a:xfrm>
            <a:off x="142920" y="3143160"/>
            <a:ext cx="1771560" cy="19717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pic>
        <p:nvPicPr>
          <p:cNvPr id="102" name="Picture 10" descr="05S0443i"/>
          <p:cNvPicPr/>
          <p:nvPr/>
        </p:nvPicPr>
        <p:blipFill>
          <a:blip r:embed="rId4"/>
          <a:stretch/>
        </p:blipFill>
        <p:spPr>
          <a:xfrm>
            <a:off x="6858000" y="3124080"/>
            <a:ext cx="2066760" cy="15433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pic>
        <p:nvPicPr>
          <p:cNvPr id="103" name="Picture 11" descr="05S0444i"/>
          <p:cNvPicPr/>
          <p:nvPr/>
        </p:nvPicPr>
        <p:blipFill>
          <a:blip r:embed="rId5"/>
          <a:stretch/>
        </p:blipFill>
        <p:spPr>
          <a:xfrm>
            <a:off x="7162920" y="762120"/>
            <a:ext cx="1771560" cy="19717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</p:spTree>
  </p:cSld>
  <p:transition>
    <p:pull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img020"/>
          <p:cNvPicPr/>
          <p:nvPr/>
        </p:nvPicPr>
        <p:blipFill>
          <a:blip r:embed="rId1"/>
          <a:stretch/>
        </p:blipFill>
        <p:spPr>
          <a:xfrm>
            <a:off x="428760" y="785880"/>
            <a:ext cx="4071960" cy="5871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04920" y="1522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рам Василия Блаж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0" y="762120"/>
            <a:ext cx="4267080" cy="63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Calibri"/>
              </a:rPr>
              <a:t>Построен как памятник победам в войне за покорение Казанского и Астраханского царств в 1552-1554 годах. Во время войны в честь каждой победы возводилась небольшая деревянная церковь, всего их построили восемь. После победы Иван Грозный распорядился вместо деревянных церквей поставить каменные. Но приглашенные царем мастера Барма и Постник скомпоновали на одном основании восемь столпообразных церквей, размещенных вокруг самой высокой, девятой. Между четырьмя осевыми расположены меньшие по высоте; и те и другие увенчаны луковичными главами. Центральный храм посвящен празднику Покрова Богоматери, дню, когда Казань была взята приступом, и дал имя всему собо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214200" y="4786200"/>
            <a:ext cx="1570320" cy="174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571680" y="142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рам Христа Спас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mr14#001"/>
          <p:cNvPicPr/>
          <p:nvPr/>
        </p:nvPicPr>
        <p:blipFill>
          <a:blip r:embed="rId1"/>
          <a:stretch/>
        </p:blipFill>
        <p:spPr>
          <a:xfrm>
            <a:off x="285840" y="928800"/>
            <a:ext cx="3929040" cy="5530680"/>
          </a:xfrm>
          <a:prstGeom prst="rect">
            <a:avLst/>
          </a:prstGeom>
          <a:ln w="19080">
            <a:solidFill>
              <a:srgbClr val="4d4d4d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4572000" y="914400"/>
            <a:ext cx="40384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Руси издавна повелось в честь побед русских воинов возводить храмы и соборы. Это были своего рода памятники воинской сл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осле победы над Наполеоном в Отечественной войне 1812 года царь Александр </a:t>
            </a: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 решил возвести в Москве храм в честь павших воинов русской армии и избавления России от вражеского наше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Храм строился почти полвека. В 1883 году произошло торжественное освящение хра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ысота храма от основания до купола – более 103-х метров. На мраморных плитах были выбиты имена павших за Отечество героев 181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mg023"/>
          <p:cNvPicPr/>
          <p:nvPr/>
        </p:nvPicPr>
        <p:blipFill>
          <a:blip r:embed="rId1"/>
          <a:stretch/>
        </p:blipFill>
        <p:spPr>
          <a:xfrm>
            <a:off x="1676520" y="685800"/>
            <a:ext cx="5715000" cy="40100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5335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ретьяковская галер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04920" y="5029200"/>
            <a:ext cx="86104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снователь знаменитой сокровищницы русской живописи в Москве - Павел Михайлович Третьяков. В собрание П.М. Третьякова поступали в первую очередь произведения его современников. Свои приобретения он делал на выставках и непосредственно в мастерских художников . Ныне в Третьяковской галерее хранится около 47 тыс. произведений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верещагин"/>
          <p:cNvPicPr/>
          <p:nvPr/>
        </p:nvPicPr>
        <p:blipFill>
          <a:blip r:embed="rId2"/>
          <a:stretch/>
        </p:blipFill>
        <p:spPr>
          <a:xfrm>
            <a:off x="152280" y="1905120"/>
            <a:ext cx="1752840" cy="13096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5" name="Picture 12" descr="иванов"/>
          <p:cNvPicPr/>
          <p:nvPr/>
        </p:nvPicPr>
        <p:blipFill>
          <a:blip r:embed="rId3"/>
          <a:stretch/>
        </p:blipFill>
        <p:spPr>
          <a:xfrm>
            <a:off x="4114800" y="3809880"/>
            <a:ext cx="1155600" cy="12859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6" name="Picture 13" descr="иванов"/>
          <p:cNvPicPr/>
          <p:nvPr/>
        </p:nvPicPr>
        <p:blipFill>
          <a:blip r:embed="rId4"/>
          <a:stretch/>
        </p:blipFill>
        <p:spPr>
          <a:xfrm>
            <a:off x="7238880" y="1905120"/>
            <a:ext cx="1762200" cy="13158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7" name="Picture 15" descr="перов"/>
          <p:cNvPicPr/>
          <p:nvPr/>
        </p:nvPicPr>
        <p:blipFill>
          <a:blip r:embed="rId5"/>
          <a:stretch/>
        </p:blipFill>
        <p:spPr>
          <a:xfrm>
            <a:off x="152280" y="457200"/>
            <a:ext cx="1752840" cy="13096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8" name="Picture 16" descr="перов"/>
          <p:cNvPicPr/>
          <p:nvPr/>
        </p:nvPicPr>
        <p:blipFill>
          <a:blip r:embed="rId6"/>
          <a:stretch/>
        </p:blipFill>
        <p:spPr>
          <a:xfrm>
            <a:off x="152280" y="3352680"/>
            <a:ext cx="1752840" cy="13082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9" name="Picture 17" descr="сур"/>
          <p:cNvPicPr/>
          <p:nvPr/>
        </p:nvPicPr>
        <p:blipFill>
          <a:blip r:embed="rId7"/>
          <a:stretch/>
        </p:blipFill>
        <p:spPr>
          <a:xfrm>
            <a:off x="7238880" y="457200"/>
            <a:ext cx="1762200" cy="13143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20" name="Picture 18" descr="сури"/>
          <p:cNvPicPr/>
          <p:nvPr/>
        </p:nvPicPr>
        <p:blipFill>
          <a:blip r:embed="rId8"/>
          <a:stretch/>
        </p:blipFill>
        <p:spPr>
          <a:xfrm>
            <a:off x="7238880" y="3276720"/>
            <a:ext cx="1762200" cy="13158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21" name="Picture 19" descr="фед"/>
          <p:cNvPicPr/>
          <p:nvPr/>
        </p:nvPicPr>
        <p:blipFill>
          <a:blip r:embed="rId9"/>
          <a:stretch/>
        </p:blipFill>
        <p:spPr>
          <a:xfrm>
            <a:off x="2362320" y="3962520"/>
            <a:ext cx="1380960" cy="10303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22" name="Picture 22" descr="лев"/>
          <p:cNvPicPr/>
          <p:nvPr/>
        </p:nvPicPr>
        <p:blipFill>
          <a:blip r:embed="rId10"/>
          <a:stretch/>
        </p:blipFill>
        <p:spPr>
          <a:xfrm>
            <a:off x="5638680" y="3962520"/>
            <a:ext cx="1414440" cy="10555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p:transition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Animashky.ru  c  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2006-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Большая энциклопедия Кирилла и Мефодия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fe14#030"/>
          <p:cNvPicPr/>
          <p:nvPr/>
        </p:nvPicPr>
        <p:blipFill>
          <a:blip r:embed="rId1"/>
          <a:stretch/>
        </p:blipFill>
        <p:spPr>
          <a:xfrm>
            <a:off x="228600" y="228600"/>
            <a:ext cx="2308320" cy="259092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sp>
        <p:nvSpPr>
          <p:cNvPr id="46" name="WordArt 5"/>
          <p:cNvSpPr txBox="1"/>
          <p:nvPr/>
        </p:nvSpPr>
        <p:spPr>
          <a:xfrm>
            <a:off x="2971800" y="30492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28760" y="3286080"/>
            <a:ext cx="5486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Москва… Как много в этом зв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Для сердца русского сл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Как много в нем отозва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                                     </a:t>
            </a: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img036"/>
          <p:cNvPicPr/>
          <p:nvPr/>
        </p:nvPicPr>
        <p:blipFill>
          <a:blip r:embed="rId2"/>
          <a:stretch/>
        </p:blipFill>
        <p:spPr>
          <a:xfrm>
            <a:off x="6477120" y="228600"/>
            <a:ext cx="2495520" cy="640080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925640" y="268200"/>
            <a:ext cx="5181480" cy="1884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r12#001"/>
          <p:cNvPicPr/>
          <p:nvPr/>
        </p:nvPicPr>
        <p:blipFill>
          <a:blip r:embed="rId1"/>
          <a:stretch/>
        </p:blipFill>
        <p:spPr>
          <a:xfrm>
            <a:off x="228600" y="1371600"/>
            <a:ext cx="5184720" cy="52578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51" name="Text Box 5"/>
          <p:cNvSpPr/>
          <p:nvPr/>
        </p:nvSpPr>
        <p:spPr>
          <a:xfrm>
            <a:off x="5715000" y="1981080"/>
            <a:ext cx="3429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от он, первый Кремль сосн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За бревенчатой ст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ак родился город н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И назвался он Моск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а не город – дерев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пригорке – церков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учка княжьих тере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а десятка два домов.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90720" y="304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чало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r12#002"/>
          <p:cNvPicPr/>
          <p:nvPr/>
        </p:nvPicPr>
        <p:blipFill>
          <a:blip r:embed="rId1"/>
          <a:stretch/>
        </p:blipFill>
        <p:spPr>
          <a:xfrm>
            <a:off x="152280" y="1295280"/>
            <a:ext cx="5486400" cy="45720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54" name="Text Box 5"/>
          <p:cNvSpPr/>
          <p:nvPr/>
        </p:nvSpPr>
        <p:spPr>
          <a:xfrm>
            <a:off x="5786280" y="142920"/>
            <a:ext cx="31244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И прошло сто тридцать л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режде чем увидел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ремль Москов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олько н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е дубовый, не соснов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митрий-князь, Ивана вну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еределал все вокруг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И былой стене на см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роит каменную ст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роит башни и мо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нук Ивана Кал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ала крепостью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высоком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 стенах каменных – бой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Чтобы целить по вра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r12#003"/>
          <p:cNvPicPr/>
          <p:nvPr/>
        </p:nvPicPr>
        <p:blipFill>
          <a:blip r:embed="rId1"/>
          <a:stretch/>
        </p:blipFill>
        <p:spPr>
          <a:xfrm>
            <a:off x="228600" y="990720"/>
            <a:ext cx="5486400" cy="420372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5867280" y="304920"/>
            <a:ext cx="312444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ек прошел. Сто лет прош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ремя горе уне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равнук Дмитрия До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ревний Кремль отстроил с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ля построек москви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али делать кирпи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нязь Иван Васильич Тре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Русским людям услужи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ерестроил стены э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Рвом глубоким окружи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охранились эти ст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о сих пор они стоя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еприступны, неизмен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ак и пять веков наз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mr10#004"/>
          <p:cNvPicPr/>
          <p:nvPr/>
        </p:nvPicPr>
        <p:blipFill>
          <a:blip r:embed="rId1"/>
          <a:stretch/>
        </p:blipFill>
        <p:spPr>
          <a:xfrm>
            <a:off x="2857680" y="785880"/>
            <a:ext cx="3895560" cy="4200480"/>
          </a:xfrm>
          <a:prstGeom prst="rect">
            <a:avLst/>
          </a:prstGeom>
          <a:ln w="19080">
            <a:solidFill>
              <a:srgbClr val="4d4d4d"/>
            </a:solidFill>
            <a:miter/>
          </a:ln>
        </p:spPr>
      </p:pic>
      <p:sp>
        <p:nvSpPr>
          <p:cNvPr id="58" name="Text Box 6"/>
          <p:cNvSpPr/>
          <p:nvPr/>
        </p:nvSpPr>
        <p:spPr>
          <a:xfrm>
            <a:off x="1219320" y="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осковский Крем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85840" y="4965840"/>
            <a:ext cx="8501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Московский Кремль – исторический и государственный центр Москвы. Кремль – это уникальная художественная сокровищница, где сосредоточено множество памятников истории и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Архитектурный ансамбль Московского Кремля включает двадцать башен, каждая из которых имеет свое особое название по месту расположения или своему назна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img039"/>
          <p:cNvPicPr/>
          <p:nvPr/>
        </p:nvPicPr>
        <p:blipFill>
          <a:blip r:embed="rId2"/>
          <a:stretch/>
        </p:blipFill>
        <p:spPr>
          <a:xfrm>
            <a:off x="7000920" y="1714680"/>
            <a:ext cx="1905120" cy="145728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1" name="Picture 10" descr="img033"/>
          <p:cNvPicPr/>
          <p:nvPr/>
        </p:nvPicPr>
        <p:blipFill>
          <a:blip r:embed="rId3"/>
          <a:stretch/>
        </p:blipFill>
        <p:spPr>
          <a:xfrm>
            <a:off x="7000920" y="3429000"/>
            <a:ext cx="1870200" cy="141444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2" name="Picture 11" descr="img034"/>
          <p:cNvPicPr/>
          <p:nvPr/>
        </p:nvPicPr>
        <p:blipFill>
          <a:blip r:embed="rId4"/>
          <a:stretch/>
        </p:blipFill>
        <p:spPr>
          <a:xfrm>
            <a:off x="7010280" y="152280"/>
            <a:ext cx="1905120" cy="141948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3" name="Picture 12" descr="img035"/>
          <p:cNvPicPr/>
          <p:nvPr/>
        </p:nvPicPr>
        <p:blipFill>
          <a:blip r:embed="rId5"/>
          <a:stretch/>
        </p:blipFill>
        <p:spPr>
          <a:xfrm>
            <a:off x="1752480" y="1295280"/>
            <a:ext cx="1416240" cy="209556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4" name="Picture 14" descr="img037"/>
          <p:cNvPicPr/>
          <p:nvPr/>
        </p:nvPicPr>
        <p:blipFill>
          <a:blip r:embed="rId6"/>
          <a:stretch/>
        </p:blipFill>
        <p:spPr>
          <a:xfrm>
            <a:off x="125280" y="2438280"/>
            <a:ext cx="1498680" cy="221004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5" name="Picture 15" descr="img038"/>
          <p:cNvPicPr/>
          <p:nvPr/>
        </p:nvPicPr>
        <p:blipFill>
          <a:blip r:embed="rId7"/>
          <a:stretch/>
        </p:blipFill>
        <p:spPr>
          <a:xfrm>
            <a:off x="152280" y="228600"/>
            <a:ext cx="1471680" cy="198108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</p:spTree>
  </p:cSld>
  <p:transition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024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714240" y="214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Красная площ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28760" y="4786200"/>
            <a:ext cx="8381880" cy="1739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Главная площадь Москвы в разные времена называлась по-разному. Была она Троицкой по имени церкви Пресвятой Троицы, которая стояла на берегу Москвы-реки. В 1571 г., когда сильный пожар опустошил все на площади и вокруг нее, главную площадь окрестили Пожаром. Звали ее и Великим Торгом. Площадь с годами становилась все просторнее и краше. Народ дал ей новое название – Красная. А это значит краси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mr10#005"/>
          <p:cNvPicPr/>
          <p:nvPr/>
        </p:nvPicPr>
        <p:blipFill>
          <a:blip r:embed="rId1"/>
          <a:stretch/>
        </p:blipFill>
        <p:spPr>
          <a:xfrm>
            <a:off x="285840" y="1071720"/>
            <a:ext cx="5156280" cy="5257800"/>
          </a:xfrm>
          <a:prstGeom prst="rect">
            <a:avLst/>
          </a:prstGeom>
          <a:ln w="19080">
            <a:solidFill>
              <a:srgbClr val="4d4d4d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5720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оборная площ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15000" y="1066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562720" y="914400"/>
            <a:ext cx="3429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оборная площадь – в ее теперешнем виде – возникла в конце </a:t>
            </a: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XV 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 века при великом московском князе Иване </a:t>
            </a: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III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, смелом, волевом и решительном человеке. Он заботился о том, чтобы стольный град был надежно укреплен и чтобы выглядел торжественным, величавым, «красно украшен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площади возвышается колокольня , названная именем Ивана Великого. Бело-золотую кремлевскую звонницу знал каждый, а про рослого человека в народе говорили: «Вырос детинушка с Ивана Вели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1214280" y="214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спенский 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859280" y="765000"/>
            <a:ext cx="390384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 Успенском соборе в торжественной обстановке венчались на царство цари. Русские воины, уходя в бой, клялись в Успенском соборе не пощадить жизни для защиты Москвы и отчиз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еликолепный своей строгостью, простотой и выразительностью храм, созданный руками русских мастеров по проекту и под руководством Аристотеля Фьораванти в средневековой деревянной Москве (1475-1479), долгое время служил источником вдохновения и образцом для многочисленных подраж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rs13201i"/>
          <p:cNvPicPr/>
          <p:nvPr/>
        </p:nvPicPr>
        <p:blipFill>
          <a:blip r:embed="rId1"/>
          <a:stretch/>
        </p:blipFill>
        <p:spPr>
          <a:xfrm>
            <a:off x="685800" y="304920"/>
            <a:ext cx="3697200" cy="411480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1771560" cy="1971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77" name="Picture 12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1771560" cy="1971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78" name="Picture 14" descr=""/>
          <p:cNvPicPr/>
          <p:nvPr/>
        </p:nvPicPr>
        <p:blipFill>
          <a:blip r:embed="rId4"/>
          <a:stretch/>
        </p:blipFill>
        <p:spPr>
          <a:xfrm>
            <a:off x="1523880" y="5181480"/>
            <a:ext cx="2067120" cy="15433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</p:spTree>
  </p:cSld>
  <p:transition>
    <p:pull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3:44:03Z</dcterms:created>
  <dc:creator>ОЛЬГА</dc:creator>
  <dc:description/>
  <dc:language>en-US</dc:language>
  <cp:lastModifiedBy>Admin</cp:lastModifiedBy>
  <dcterms:modified xsi:type="dcterms:W3CDTF">2019-05-07T23:08:04Z</dcterms:modified>
  <cp:revision>9</cp:revision>
  <dc:subject/>
  <dc:title>Слайд 1</dc:title>
</cp:coreProperties>
</file>