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41.jpeg" ContentType="image/jpeg"/>
  <Override PartName="/ppt/media/image9.png" ContentType="image/png"/>
  <Override PartName="/ppt/media/image40.jpeg" ContentType="image/jpeg"/>
  <Override PartName="/ppt/media/image44.jpeg" ContentType="image/jpeg"/>
  <Override PartName="/ppt/media/image38.jpeg" ContentType="image/jpeg"/>
  <Override PartName="/ppt/media/image28.png" ContentType="image/png"/>
  <Override PartName="/ppt/media/image30.png" ContentType="image/png"/>
  <Override PartName="/ppt/media/image37.jpeg" ContentType="image/jpeg"/>
  <Override PartName="/ppt/media/image13.png" ContentType="image/png"/>
  <Override PartName="/ppt/media/image39.jpeg" ContentType="image/jpeg"/>
  <Override PartName="/ppt/media/image8.png" ContentType="image/png"/>
  <Override PartName="/ppt/media/image35.jpeg" ContentType="image/jpeg"/>
  <Override PartName="/ppt/media/image10.png" ContentType="image/png"/>
  <Override PartName="/ppt/media/image5.png" ContentType="image/png"/>
  <Override PartName="/ppt/media/image43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4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5611E7-16B7-48C6-8C53-B4F19E1A9DC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A104F3-9C15-41DB-82D7-801CF18B774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E388E5-EBFB-42B3-B746-78B858D9221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A25B4-CC6F-48CF-9912-FCC9770FEA5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3BFFE-9BF9-41FD-B6A9-FC88DE15F56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676B37-DC5F-4C6A-901C-EA8AAF73C32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B38CF4-D511-4ED5-A3E8-5C2F01010C0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DE412D-525C-4FAF-B25F-A5258310983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B106C1-8C3F-4BCF-8FD7-C979098D8D4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00B762-3AF9-483B-A649-0AFBBE0C0AD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FEF8C6-EE33-42AD-BC49-760AB6F4D37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481F90-847D-4D2D-8F1A-1D0A73A748D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56C787-E751-4CC1-9DE7-B75CB54A121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28BE11-1A5E-474F-8EBE-7FD7F5219D2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F3DBC-0E44-4655-B009-FF7A71A09D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ABE5F-3D1E-456E-A22F-B869DAE34E7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5DB0B-F7B6-4E35-9829-5A4DC14B2C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440" y="676440"/>
            <a:ext cx="711828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440" y="1806120"/>
            <a:ext cx="711828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440" y="3919680"/>
            <a:ext cx="711828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C2FD8-2FF6-42DC-BD40-93829361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440" y="676440"/>
            <a:ext cx="711828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440" y="1806120"/>
            <a:ext cx="347364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7320" y="1806120"/>
            <a:ext cx="347364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440" y="3919680"/>
            <a:ext cx="347364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57320" y="3919680"/>
            <a:ext cx="347364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28094-2A01-4592-8C54-46717547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440" y="676440"/>
            <a:ext cx="711828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440" y="1806120"/>
            <a:ext cx="229176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6040" y="1806120"/>
            <a:ext cx="229176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3000" y="1806120"/>
            <a:ext cx="229176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440" y="3919680"/>
            <a:ext cx="229176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6040" y="3919680"/>
            <a:ext cx="229176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3000" y="3919680"/>
            <a:ext cx="229176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9676F-E22F-4CF9-97F3-6DB262DB73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0DB417-E44F-40D9-B8A8-E5220965EC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9440" y="676440"/>
            <a:ext cx="711828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09440" y="1806120"/>
            <a:ext cx="711828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C63E7D-AB96-40F7-9526-E9058C15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440" y="676440"/>
            <a:ext cx="711828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9440" y="1806120"/>
            <a:ext cx="71182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67CD92-C5BF-43C7-86E8-4858B122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440" y="676440"/>
            <a:ext cx="711828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440" y="1806120"/>
            <a:ext cx="347364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7320" y="1806120"/>
            <a:ext cx="347364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CD2B1-8DFE-440E-BF5D-9DFA098B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440" y="676440"/>
            <a:ext cx="711828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13BAE-AC56-45D5-9EE7-BD6772389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09440" y="676440"/>
            <a:ext cx="7118280" cy="425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D66279-2586-4A0D-9078-7578E606F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440" y="676440"/>
            <a:ext cx="711828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09440" y="1806120"/>
            <a:ext cx="347364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57320" y="1806120"/>
            <a:ext cx="347364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09440" y="3919680"/>
            <a:ext cx="347364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E9CBE0-172D-4C1D-809F-CC51206D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440" y="676440"/>
            <a:ext cx="711828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440" y="1806120"/>
            <a:ext cx="711828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F1A2F-CD9A-4458-898D-74236F40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440" y="676440"/>
            <a:ext cx="711828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9440" y="1806120"/>
            <a:ext cx="347364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57320" y="1806120"/>
            <a:ext cx="347364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57320" y="3919680"/>
            <a:ext cx="347364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47837A-2D60-469D-822E-FA1CD6CA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440" y="676440"/>
            <a:ext cx="711828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9440" y="1806120"/>
            <a:ext cx="347364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7320" y="1806120"/>
            <a:ext cx="347364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09440" y="3919680"/>
            <a:ext cx="711828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C21219-191D-4469-9023-1FE20D14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9440" y="676440"/>
            <a:ext cx="711828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9440" y="1806120"/>
            <a:ext cx="711828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09440" y="3919680"/>
            <a:ext cx="711828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29361-7190-4BDA-B36D-17BA2290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9440" y="676440"/>
            <a:ext cx="711828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9440" y="1806120"/>
            <a:ext cx="347364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7320" y="1806120"/>
            <a:ext cx="347364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09440" y="3919680"/>
            <a:ext cx="347364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57320" y="3919680"/>
            <a:ext cx="347364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BEE66-A432-4E6C-B429-9B69C6F8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440" y="676440"/>
            <a:ext cx="711828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9440" y="1806120"/>
            <a:ext cx="229176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16040" y="1806120"/>
            <a:ext cx="229176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23000" y="1806120"/>
            <a:ext cx="229176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09440" y="3919680"/>
            <a:ext cx="229176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16040" y="3919680"/>
            <a:ext cx="229176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23000" y="3919680"/>
            <a:ext cx="229176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26E912-0854-4361-8365-E0832BF995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440" y="676440"/>
            <a:ext cx="711828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440" y="1806120"/>
            <a:ext cx="71182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3E44C-87B7-4A9C-83FF-958EB7D8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440" y="676440"/>
            <a:ext cx="711828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440" y="1806120"/>
            <a:ext cx="347364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7320" y="1806120"/>
            <a:ext cx="347364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7C100-FB85-4059-8E37-41065ECE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440" y="676440"/>
            <a:ext cx="711828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A0092-70F7-4D33-92DC-A401045A8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440" y="676440"/>
            <a:ext cx="7118280" cy="425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31FA7-80ED-40B7-BD84-CE334C9B5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440" y="676440"/>
            <a:ext cx="711828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440" y="1806120"/>
            <a:ext cx="347364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7320" y="1806120"/>
            <a:ext cx="347364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440" y="3919680"/>
            <a:ext cx="347364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144D6-CD89-459E-990E-84948AF5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440" y="676440"/>
            <a:ext cx="711828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440" y="1806120"/>
            <a:ext cx="347364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7320" y="1806120"/>
            <a:ext cx="347364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57320" y="3919680"/>
            <a:ext cx="347364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80AB5-881C-4246-946A-0071E747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440" y="676440"/>
            <a:ext cx="711828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440" y="1806120"/>
            <a:ext cx="347364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7320" y="1806120"/>
            <a:ext cx="347364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440" y="3919680"/>
            <a:ext cx="711828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F8892-F10C-4539-A553-E3DF5C4A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13.xml"/><Relationship Id="rId33" Type="http://schemas.openxmlformats.org/officeDocument/2006/relationships/slideLayout" Target="../slideLayouts/slideLayout14.xml"/><Relationship Id="rId34" Type="http://schemas.openxmlformats.org/officeDocument/2006/relationships/slideLayout" Target="../slideLayouts/slideLayout15.xml"/><Relationship Id="rId35" Type="http://schemas.openxmlformats.org/officeDocument/2006/relationships/slideLayout" Target="../slideLayouts/slideLayout16.xml"/><Relationship Id="rId36" Type="http://schemas.openxmlformats.org/officeDocument/2006/relationships/slideLayout" Target="../slideLayouts/slideLayout17.xml"/><Relationship Id="rId37" Type="http://schemas.openxmlformats.org/officeDocument/2006/relationships/slideLayout" Target="../slideLayouts/slideLayout18.xml"/><Relationship Id="rId38" Type="http://schemas.openxmlformats.org/officeDocument/2006/relationships/slideLayout" Target="../slideLayouts/slideLayout19.xml"/><Relationship Id="rId39" Type="http://schemas.openxmlformats.org/officeDocument/2006/relationships/slideLayout" Target="../slideLayouts/slideLayout20.xml"/><Relationship Id="rId40" Type="http://schemas.openxmlformats.org/officeDocument/2006/relationships/slideLayout" Target="../slideLayouts/slideLayout21.xml"/><Relationship Id="rId41" Type="http://schemas.openxmlformats.org/officeDocument/2006/relationships/slideLayout" Target="../slideLayouts/slideLayout22.xml"/><Relationship Id="rId42" Type="http://schemas.openxmlformats.org/officeDocument/2006/relationships/slideLayout" Target="../slideLayouts/slideLayout23.xml"/><Relationship Id="rId4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245520" cy="6851520"/>
            <a:chOff x="0" y="0"/>
            <a:chExt cx="9245520" cy="6851520"/>
          </a:xfrm>
        </p:grpSpPr>
        <p:grpSp>
          <p:nvGrpSpPr>
            <p:cNvPr id="1" name="Group 2"/>
            <p:cNvGrpSpPr/>
            <p:nvPr/>
          </p:nvGrpSpPr>
          <p:grpSpPr>
            <a:xfrm>
              <a:off x="7920" y="419040"/>
              <a:ext cx="9066240" cy="5907240"/>
              <a:chOff x="7920" y="419040"/>
              <a:chExt cx="9066240" cy="5907240"/>
            </a:xfrm>
          </p:grpSpPr>
          <p:pic>
            <p:nvPicPr>
              <p:cNvPr id="2" name="Pictur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7920" y="457200"/>
                <a:ext cx="1508040" cy="13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Picture 4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96960"/>
                <a:ext cx="1419120" cy="128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Picture 5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6200"/>
                <a:ext cx="1508040" cy="140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Picture 6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8840" y="419040"/>
                <a:ext cx="1795320" cy="167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Picture 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89920" y="3416400"/>
                <a:ext cx="1858680" cy="167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Picture 8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7640" y="4844880"/>
                <a:ext cx="1629000" cy="1481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9"/>
            <p:cNvGrpSpPr/>
            <p:nvPr/>
          </p:nvGrpSpPr>
          <p:grpSpPr>
            <a:xfrm>
              <a:off x="0" y="241200"/>
              <a:ext cx="9137520" cy="6610320"/>
              <a:chOff x="0" y="241200"/>
              <a:chExt cx="9137520" cy="6610320"/>
            </a:xfrm>
          </p:grpSpPr>
          <p:pic>
            <p:nvPicPr>
              <p:cNvPr id="9" name="Picture 1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600" y="241200"/>
                <a:ext cx="1619280" cy="158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Picture 11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3200" y="615960"/>
                <a:ext cx="1112760" cy="1141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12"/>
              <p:cNvSpPr/>
              <p:nvPr/>
            </p:nvSpPr>
            <p:spPr>
              <a:xfrm rot="1560000">
                <a:off x="7041960" y="3757680"/>
                <a:ext cx="360" cy="360"/>
              </a:xfrm>
              <a:prstGeom prst="pie">
                <a:avLst/>
              </a:pr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2" name="Picture 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79360" cy="115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Pictur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4560"/>
                <a:ext cx="1311120" cy="159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Picture 15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5600"/>
                <a:ext cx="1058760" cy="1380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Picture 16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6440" y="5610240"/>
                <a:ext cx="1865520" cy="124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Picture 17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080" y="1623960"/>
                <a:ext cx="1360440" cy="169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Picture 18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6480" y="5869080"/>
                <a:ext cx="1347840" cy="954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19"/>
            <p:cNvGrpSpPr/>
            <p:nvPr/>
          </p:nvGrpSpPr>
          <p:grpSpPr>
            <a:xfrm>
              <a:off x="0" y="0"/>
              <a:ext cx="9245520" cy="6781680"/>
              <a:chOff x="0" y="0"/>
              <a:chExt cx="9245520" cy="6781680"/>
            </a:xfrm>
          </p:grpSpPr>
          <p:pic>
            <p:nvPicPr>
              <p:cNvPr id="19" name="Picture 20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5400" y="2747880"/>
                <a:ext cx="1449360" cy="339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Picture 21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3000" y="5738760"/>
                <a:ext cx="1122480" cy="1042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Picture 22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6800" y="993600"/>
                <a:ext cx="1682640" cy="159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Picture 23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0240" y="3700440"/>
                <a:ext cx="961920" cy="83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Picture 24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19040" cy="148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Picture 25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6040"/>
                <a:ext cx="1201680" cy="134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Picture 26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8400" y="0"/>
                <a:ext cx="1276560" cy="96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Picture 27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8600" y="976320"/>
                <a:ext cx="826920" cy="1047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440" y="676440"/>
            <a:ext cx="711828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440" y="1806120"/>
            <a:ext cx="71182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2000"/>
          </a:bodyPr>
          <a:p>
            <a:pPr marL="315360" indent="-31536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1" marL="683280" indent="-2628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2" marL="1051560" indent="-2102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3" marL="1472040" indent="-2102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4" marL="1892520" indent="-2102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5" marL="1892520" indent="-2102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6" marL="1892520" indent="-2102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160"/>
            <a:ext cx="21272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Text Box 31"/>
          <p:cNvSpPr/>
          <p:nvPr/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2"/>
          </p:nvPr>
        </p:nvSpPr>
        <p:spPr>
          <a:xfrm>
            <a:off x="572760" y="5951160"/>
            <a:ext cx="6015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F24A02C-E923-4A93-9150-8F09BE44AB06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"/>
          <p:cNvGrpSpPr/>
          <p:nvPr/>
        </p:nvGrpSpPr>
        <p:grpSpPr>
          <a:xfrm>
            <a:off x="0" y="0"/>
            <a:ext cx="9245520" cy="6851520"/>
            <a:chOff x="0" y="0"/>
            <a:chExt cx="9245520" cy="6851520"/>
          </a:xfrm>
        </p:grpSpPr>
        <p:grpSp>
          <p:nvGrpSpPr>
            <p:cNvPr id="69" name="Group 2"/>
            <p:cNvGrpSpPr/>
            <p:nvPr/>
          </p:nvGrpSpPr>
          <p:grpSpPr>
            <a:xfrm>
              <a:off x="7920" y="419040"/>
              <a:ext cx="9066240" cy="5907240"/>
              <a:chOff x="7920" y="419040"/>
              <a:chExt cx="9066240" cy="5907240"/>
            </a:xfrm>
          </p:grpSpPr>
          <p:pic>
            <p:nvPicPr>
              <p:cNvPr id="70" name="Pictur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7920" y="457200"/>
                <a:ext cx="1508040" cy="13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Picture 4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96960"/>
                <a:ext cx="1419120" cy="128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Picture 5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6200"/>
                <a:ext cx="1508040" cy="140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Picture 6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8840" y="419040"/>
                <a:ext cx="1795320" cy="167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Picture 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89920" y="3416400"/>
                <a:ext cx="1858680" cy="167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Picture 8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7640" y="4844880"/>
                <a:ext cx="1629000" cy="1481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9"/>
            <p:cNvGrpSpPr/>
            <p:nvPr/>
          </p:nvGrpSpPr>
          <p:grpSpPr>
            <a:xfrm>
              <a:off x="0" y="241200"/>
              <a:ext cx="9137520" cy="6610320"/>
              <a:chOff x="0" y="241200"/>
              <a:chExt cx="9137520" cy="6610320"/>
            </a:xfrm>
          </p:grpSpPr>
          <p:pic>
            <p:nvPicPr>
              <p:cNvPr id="77" name="Picture 1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600" y="241200"/>
                <a:ext cx="1619280" cy="158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Picture 11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3200" y="615960"/>
                <a:ext cx="1112760" cy="1141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12"/>
              <p:cNvSpPr/>
              <p:nvPr/>
            </p:nvSpPr>
            <p:spPr>
              <a:xfrm rot="1560000">
                <a:off x="7041960" y="3757680"/>
                <a:ext cx="360" cy="360"/>
              </a:xfrm>
              <a:prstGeom prst="pie">
                <a:avLst/>
              </a:pr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80" name="Picture 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79360" cy="115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Pictur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4560"/>
                <a:ext cx="1311120" cy="159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Picture 15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5600"/>
                <a:ext cx="1058760" cy="1380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Picture 16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6440" y="5610240"/>
                <a:ext cx="1865520" cy="124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Picture 17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080" y="1623960"/>
                <a:ext cx="1360440" cy="169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Picture 18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6480" y="5869080"/>
                <a:ext cx="1347840" cy="954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19"/>
            <p:cNvGrpSpPr/>
            <p:nvPr/>
          </p:nvGrpSpPr>
          <p:grpSpPr>
            <a:xfrm>
              <a:off x="0" y="0"/>
              <a:ext cx="9245520" cy="6781680"/>
              <a:chOff x="0" y="0"/>
              <a:chExt cx="9245520" cy="6781680"/>
            </a:xfrm>
          </p:grpSpPr>
          <p:pic>
            <p:nvPicPr>
              <p:cNvPr id="87" name="Picture 20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5400" y="2747880"/>
                <a:ext cx="1449360" cy="339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Picture 21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3000" y="5738760"/>
                <a:ext cx="1122480" cy="1042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Picture 22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6800" y="993600"/>
                <a:ext cx="1682640" cy="159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Picture 23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0240" y="3700440"/>
                <a:ext cx="961920" cy="83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Picture 24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19040" cy="148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Picture 25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6040"/>
                <a:ext cx="1201680" cy="134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Picture 26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8400" y="0"/>
                <a:ext cx="1276560" cy="96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Picture 27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8600" y="976320"/>
                <a:ext cx="826920" cy="1047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" name="Group 28"/>
          <p:cNvGrpSpPr/>
          <p:nvPr/>
        </p:nvGrpSpPr>
        <p:grpSpPr>
          <a:xfrm>
            <a:off x="4718160" y="993600"/>
            <a:ext cx="1841400" cy="1524240"/>
            <a:chOff x="4718160" y="993600"/>
            <a:chExt cx="1841400" cy="1524240"/>
          </a:xfrm>
        </p:grpSpPr>
        <p:grpSp>
          <p:nvGrpSpPr>
            <p:cNvPr id="96" name="Group 29"/>
            <p:cNvGrpSpPr/>
            <p:nvPr/>
          </p:nvGrpSpPr>
          <p:grpSpPr>
            <a:xfrm>
              <a:off x="5460840" y="1425600"/>
              <a:ext cx="1098720" cy="1092240"/>
              <a:chOff x="5460840" y="1425600"/>
              <a:chExt cx="1098720" cy="1092240"/>
            </a:xfrm>
          </p:grpSpPr>
          <p:pic>
            <p:nvPicPr>
              <p:cNvPr id="97" name="Picture 30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60840" y="1425600"/>
                <a:ext cx="1098720" cy="109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Text Box 31"/>
              <p:cNvSpPr/>
              <p:nvPr/>
            </p:nvSpPr>
            <p:spPr>
              <a:xfrm>
                <a:off x="5638680" y="1601640"/>
                <a:ext cx="743040" cy="73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32"/>
            <p:cNvGrpSpPr/>
            <p:nvPr/>
          </p:nvGrpSpPr>
          <p:grpSpPr>
            <a:xfrm>
              <a:off x="5627520" y="1401840"/>
              <a:ext cx="849600" cy="838080"/>
              <a:chOff x="5627520" y="1401840"/>
              <a:chExt cx="849600" cy="838080"/>
            </a:xfrm>
          </p:grpSpPr>
          <p:pic>
            <p:nvPicPr>
              <p:cNvPr id="100" name="Picture 33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27520" y="1401840"/>
                <a:ext cx="84960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Text Box 34"/>
              <p:cNvSpPr/>
              <p:nvPr/>
            </p:nvSpPr>
            <p:spPr>
              <a:xfrm>
                <a:off x="5769000" y="1541520"/>
                <a:ext cx="566640" cy="56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35"/>
            <p:cNvGrpSpPr/>
            <p:nvPr/>
          </p:nvGrpSpPr>
          <p:grpSpPr>
            <a:xfrm>
              <a:off x="5246640" y="1868400"/>
              <a:ext cx="623880" cy="620640"/>
              <a:chOff x="5246640" y="1868400"/>
              <a:chExt cx="623880" cy="620640"/>
            </a:xfrm>
          </p:grpSpPr>
          <p:pic>
            <p:nvPicPr>
              <p:cNvPr id="103" name="Picture 36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6640" y="1868400"/>
                <a:ext cx="62388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Text Box 37"/>
              <p:cNvSpPr/>
              <p:nvPr/>
            </p:nvSpPr>
            <p:spPr>
              <a:xfrm>
                <a:off x="5351400" y="1976400"/>
                <a:ext cx="40788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38"/>
            <p:cNvGrpSpPr/>
            <p:nvPr/>
          </p:nvGrpSpPr>
          <p:grpSpPr>
            <a:xfrm>
              <a:off x="5407200" y="1790640"/>
              <a:ext cx="515880" cy="507960"/>
              <a:chOff x="5407200" y="1790640"/>
              <a:chExt cx="515880" cy="507960"/>
            </a:xfrm>
          </p:grpSpPr>
          <p:pic>
            <p:nvPicPr>
              <p:cNvPr id="106" name="Picture 39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7200" y="1790640"/>
                <a:ext cx="515880" cy="50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Text Box 40"/>
              <p:cNvSpPr/>
              <p:nvPr/>
            </p:nvSpPr>
            <p:spPr>
              <a:xfrm>
                <a:off x="5499000" y="1879560"/>
                <a:ext cx="33192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41"/>
            <p:cNvGrpSpPr/>
            <p:nvPr/>
          </p:nvGrpSpPr>
          <p:grpSpPr>
            <a:xfrm>
              <a:off x="4718160" y="2050920"/>
              <a:ext cx="290520" cy="289080"/>
              <a:chOff x="4718160" y="2050920"/>
              <a:chExt cx="290520" cy="289080"/>
            </a:xfrm>
          </p:grpSpPr>
          <p:pic>
            <p:nvPicPr>
              <p:cNvPr id="109" name="Picture 42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0920"/>
                <a:ext cx="290520" cy="28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Text Box 43"/>
              <p:cNvSpPr/>
              <p:nvPr/>
            </p:nvSpPr>
            <p:spPr>
              <a:xfrm>
                <a:off x="4778280" y="2109960"/>
                <a:ext cx="169920" cy="1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" name="Group 44"/>
            <p:cNvGrpSpPr/>
            <p:nvPr/>
          </p:nvGrpSpPr>
          <p:grpSpPr>
            <a:xfrm>
              <a:off x="6095880" y="993600"/>
              <a:ext cx="290520" cy="289080"/>
              <a:chOff x="6095880" y="993600"/>
              <a:chExt cx="290520" cy="289080"/>
            </a:xfrm>
          </p:grpSpPr>
          <p:pic>
            <p:nvPicPr>
              <p:cNvPr id="112" name="Picture 45" descr=""/>
              <p:cNvPicPr/>
              <p:nvPr/>
            </p:nvPicPr>
            <p:blipFill>
              <a:blip r:embed="rId29"/>
              <a:stretch/>
            </p:blipFill>
            <p:spPr>
              <a:xfrm>
                <a:off x="6095880" y="993600"/>
                <a:ext cx="290520" cy="28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46"/>
              <p:cNvSpPr/>
              <p:nvPr/>
            </p:nvSpPr>
            <p:spPr>
              <a:xfrm>
                <a:off x="6156360" y="1054080"/>
                <a:ext cx="16992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" name="Group 47"/>
            <p:cNvGrpSpPr/>
            <p:nvPr/>
          </p:nvGrpSpPr>
          <p:grpSpPr>
            <a:xfrm>
              <a:off x="5051520" y="1868400"/>
              <a:ext cx="231840" cy="230400"/>
              <a:chOff x="5051520" y="1868400"/>
              <a:chExt cx="231840" cy="230400"/>
            </a:xfrm>
          </p:grpSpPr>
          <p:pic>
            <p:nvPicPr>
              <p:cNvPr id="115" name="Picture 48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1520" y="1868400"/>
                <a:ext cx="231840" cy="23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Text Box 49"/>
              <p:cNvSpPr/>
              <p:nvPr/>
            </p:nvSpPr>
            <p:spPr>
              <a:xfrm>
                <a:off x="5102280" y="1919160"/>
                <a:ext cx="129960" cy="12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7" name="Group 50"/>
            <p:cNvGrpSpPr/>
            <p:nvPr/>
          </p:nvGrpSpPr>
          <p:grpSpPr>
            <a:xfrm>
              <a:off x="6114960" y="1065240"/>
              <a:ext cx="231840" cy="223920"/>
              <a:chOff x="6114960" y="1065240"/>
              <a:chExt cx="231840" cy="223920"/>
            </a:xfrm>
          </p:grpSpPr>
          <p:pic>
            <p:nvPicPr>
              <p:cNvPr id="118" name="Picture 51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4960" y="1065240"/>
                <a:ext cx="231840" cy="22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Text Box 52"/>
              <p:cNvSpPr/>
              <p:nvPr/>
            </p:nvSpPr>
            <p:spPr>
              <a:xfrm>
                <a:off x="6164280" y="1111320"/>
                <a:ext cx="130320" cy="12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440" y="676440"/>
            <a:ext cx="711828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09440" y="1806120"/>
            <a:ext cx="71182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2000"/>
          </a:bodyPr>
          <a:p>
            <a:pPr marL="315360" indent="-31536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1" marL="683280" indent="-2628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2" marL="1051560" indent="-2102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3" marL="1472040" indent="-2102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4" marL="1892520" indent="-2102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5" marL="1892520" indent="-2102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6" marL="1892520" indent="-2102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3"/>
          </p:nvPr>
        </p:nvSpPr>
        <p:spPr>
          <a:xfrm>
            <a:off x="6436800" y="5951160"/>
            <a:ext cx="21272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6"/>
          <p:cNvSpPr/>
          <p:nvPr/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4"/>
          </p:nvPr>
        </p:nvSpPr>
        <p:spPr>
          <a:xfrm>
            <a:off x="572760" y="5951160"/>
            <a:ext cx="6015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2400" spc="-1" strike="noStrike">
                <a:solidFill>
                  <a:srgbClr val="40404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600FF81-453E-4B68-8471-698DA3BAD7C4}" type="slidenum">
              <a:rPr b="0" lang="en-US" sz="2400" spc="-1" strike="noStrike">
                <a:solidFill>
                  <a:srgbClr val="40404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2"/>
    <p:sldLayoutId id="2147483663" r:id="rId33"/>
    <p:sldLayoutId id="2147483664" r:id="rId34"/>
    <p:sldLayoutId id="2147483665" r:id="rId35"/>
    <p:sldLayoutId id="2147483666" r:id="rId36"/>
    <p:sldLayoutId id="2147483667" r:id="rId37"/>
    <p:sldLayoutId id="2147483668" r:id="rId38"/>
    <p:sldLayoutId id="2147483669" r:id="rId39"/>
    <p:sldLayoutId id="2147483670" r:id="rId40"/>
    <p:sldLayoutId id="2147483671" r:id="rId41"/>
    <p:sldLayoutId id="2147483672" r:id="rId42"/>
    <p:sldLayoutId id="2147483673" r:id="rId4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1905120" y="4857840"/>
            <a:ext cx="723888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олни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             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нтурина Рамиля Таги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1009800" y="380880"/>
            <a:ext cx="76006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5d0da5"/>
                </a:solidFill>
                <a:latin typeface="Times New Roman"/>
                <a:ea typeface="Times New Roman"/>
              </a:rPr>
              <a:t>«Формирование элементарных математических представлений с помощью дидактических игр в старшей группе».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Рисунок 5" descr="1-5-2-.jpg"/>
          <p:cNvPicPr/>
          <p:nvPr/>
        </p:nvPicPr>
        <p:blipFill>
          <a:blip r:embed="rId1"/>
          <a:stretch/>
        </p:blipFill>
        <p:spPr>
          <a:xfrm>
            <a:off x="353880" y="2419200"/>
            <a:ext cx="5083200" cy="3945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"/>
          <p:cNvSpPr/>
          <p:nvPr/>
        </p:nvSpPr>
        <p:spPr>
          <a:xfrm>
            <a:off x="571680" y="214200"/>
            <a:ext cx="76006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ы на ориентировку в пространств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304920" y="121932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364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дач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ить и закрепить пространственные представления детей в процессе всех видов дея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чь детям овладеть пространственными представлениями: слева, справа, вверху, внизу, впереди, сзади, далеко, близк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 детей ориентироваться в специально созданных пространственных ситуациях и определять свое место по заданному условию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ять детей в овладении умением определять словом положение того или иного предмета по отношению к другом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употреблять слова для обозначения положения предме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стань так, чтобы справа от тебя был шкаф, а сзади - стул. Сядь так, чтобы впереди тебя сидела Таня, а сзади - Дима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6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права от куклы стоит заяц, слева от куклы - пирамид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6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йди похожую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6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сскажи про свой узор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6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стерская ковров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6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Художник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6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утешествие по комнате» и многие другие игр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click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click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click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click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click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click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click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click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click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click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click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click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"/>
          <p:cNvSpPr/>
          <p:nvPr/>
        </p:nvSpPr>
        <p:spPr>
          <a:xfrm>
            <a:off x="928800" y="285840"/>
            <a:ext cx="71247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ы с геометрическими фигур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364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ить  знания о форме геометрических фигу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внимание, память, мышление и воображение у де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детей анализируют свои фигу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одить сходства и различия в решении конструктивного замыс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6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Какую геометрическую фигуру напоминает дно тарелки?"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6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Лото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6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Геометрическая мозаика« и другие иг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822240" y="3708360"/>
            <a:ext cx="29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Подбери по форм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142920" y="642960"/>
            <a:ext cx="84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Собери цепочку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0" y="14744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0" y="19659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0" y="22707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072120" y="3286080"/>
            <a:ext cx="235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«Какой фигуры не хватает»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2928960" y="1357200"/>
            <a:ext cx="2795400" cy="1863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"/>
          <p:cNvPicPr/>
          <p:nvPr/>
        </p:nvPicPr>
        <p:blipFill>
          <a:blip r:embed="rId2"/>
          <a:stretch/>
        </p:blipFill>
        <p:spPr>
          <a:xfrm>
            <a:off x="5572080" y="4143240"/>
            <a:ext cx="2795760" cy="1863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"/>
          <p:cNvPicPr/>
          <p:nvPr/>
        </p:nvPicPr>
        <p:blipFill>
          <a:blip r:embed="rId3"/>
          <a:stretch/>
        </p:blipFill>
        <p:spPr>
          <a:xfrm>
            <a:off x="749160" y="4076640"/>
            <a:ext cx="3354480" cy="2235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1"/>
          <p:cNvSpPr/>
          <p:nvPr/>
        </p:nvSpPr>
        <p:spPr>
          <a:xfrm>
            <a:off x="1009800" y="1752480"/>
            <a:ext cx="71244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4"/>
          <p:cNvSpPr/>
          <p:nvPr/>
        </p:nvSpPr>
        <p:spPr>
          <a:xfrm>
            <a:off x="2857680" y="428760"/>
            <a:ext cx="27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вод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5"/>
          <p:cNvSpPr/>
          <p:nvPr/>
        </p:nvSpPr>
        <p:spPr>
          <a:xfrm>
            <a:off x="285840" y="1357200"/>
            <a:ext cx="75009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7560" indent="-404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игры необходимы в обучении и воспитании детей. Они повышают эффективность педагогического процесса,  способствуют развитию памяти, мышления у детей, оказывая огромное влияние на умственное развитие ребенка. Дидактические игры по математике могут использоваться в различной деятельности: в играх, в труде, на занятиях и повседневной жизни. При организации ознакомления с действительностью и при обогащении словаря детей с нарушением зрения надо помнить об особенностях зрительных возможностей, так как не все предметы и явления доступны им для непосредственного визуального восприят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357120" y="142920"/>
            <a:ext cx="71247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642960" y="2857680"/>
            <a:ext cx="8305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7560" indent="-404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Box 5"/>
          <p:cNvSpPr/>
          <p:nvPr/>
        </p:nvSpPr>
        <p:spPr>
          <a:xfrm>
            <a:off x="1592640" y="2286000"/>
            <a:ext cx="545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533520" y="380880"/>
            <a:ext cx="8381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ae1078"/>
                </a:solidFill>
                <a:latin typeface="Arial"/>
              </a:rPr>
              <a:t> “</a:t>
            </a:r>
            <a:r>
              <a:rPr b="1" lang="ru-RU" sz="2000" spc="-1" strike="noStrike">
                <a:solidFill>
                  <a:srgbClr val="ae1078"/>
                </a:solidFill>
                <a:latin typeface="Arial"/>
              </a:rPr>
              <a:t>Без игры нет и не может быть полноценного умственного развития. Игра - это огромное светлое окно, через которое в духовный мир ребенка вливается живительный поток представлений, понятий. Игра - это искра, зажигающая огонек пытливости и любознательности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ae1078"/>
                </a:solidFill>
                <a:latin typeface="Arial"/>
              </a:rPr>
              <a:t>                                                                                    </a:t>
            </a:r>
            <a:r>
              <a:rPr b="0" lang="ru-RU" sz="2000" spc="-1" strike="noStrike">
                <a:solidFill>
                  <a:srgbClr val="ae1078"/>
                </a:solidFill>
                <a:latin typeface="Arial"/>
              </a:rPr>
              <a:t>В.А. Сухомлинс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2819520" y="2362320"/>
            <a:ext cx="4190760" cy="4190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357120" y="2286000"/>
            <a:ext cx="85345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игры – одно из средств воспитания и обучения детей дошкольного возраста, как с нормой развития , так и с нарушением зрения. Дидактическая игра содержит в себе большие возможности в учебном  и воспитательном процессе дошкольников с нарушением зрения. Она может успешно использоваться и как форма обучения, и как самостоятельная игровая деятельность, и как средство воспитания различных сторон личности ребен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дидактических игр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ует повышению уровн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нности элементар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ческих представлен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ошкольников с нарушение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рения</a:t>
            </a:r>
            <a:br>
              <a:rPr sz="1700"/>
            </a:br>
            <a:br>
              <a:rPr sz="17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5286240" y="3708360"/>
            <a:ext cx="3200400" cy="314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990720" y="304920"/>
            <a:ext cx="71247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ассификация дидактических иг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0" y="236232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1280" indent="-33660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1000080" y="1143000"/>
            <a:ext cx="7493040" cy="541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>
            <a:off x="457200" y="30492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357120" y="1571760"/>
            <a:ext cx="8534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дидактических игр при формировании элементарных математических представлений у дошкольников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142920" y="2143080"/>
            <a:ext cx="8839080" cy="20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взаимосвязанных элементарных математических представлений о количестве и счете, о величине и форме предметов, о положении предметов в пространстве, о време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ение способов количественн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поставления, сравнения результат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ета и измер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5357880" y="3714840"/>
            <a:ext cx="3143160" cy="3143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1"/>
          <p:cNvSpPr/>
          <p:nvPr/>
        </p:nvSpPr>
        <p:spPr>
          <a:xfrm>
            <a:off x="1000080" y="0"/>
            <a:ext cx="7124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ы на количество и сч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142920" y="928800"/>
            <a:ext cx="876312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7560" indent="-4046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04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чь усвоить порядок следования чисел натурального ряда, упражнять в прямом и обратном счет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04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 детей внимание, память, мышл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04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04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Какой цифры не стало?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04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Сколько?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04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Путаница?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04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Исправь ошибку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04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Убираем цифры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04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Назови соседей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04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Считай, не ошибись!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04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Задумай число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04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Число, как тебя зовут?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04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Составь табличку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04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Составь цифру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04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Кто первый назовет, которой игрушки не стало?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6119640" y="2357280"/>
            <a:ext cx="2316240" cy="347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click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click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click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click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click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click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click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click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click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click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click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click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click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click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1009800" y="304920"/>
            <a:ext cx="7124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ы на количество и сч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152280" y="1371600"/>
            <a:ext cx="876312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7560" indent="-404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404040"/>
                </a:solidFill>
                <a:latin typeface="Verdana"/>
              </a:rPr>
              <a:t>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4245120" y="3071880"/>
            <a:ext cx="4898880" cy="3265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"/>
          <p:cNvPicPr/>
          <p:nvPr/>
        </p:nvPicPr>
        <p:blipFill>
          <a:blip r:embed="rId2"/>
          <a:stretch/>
        </p:blipFill>
        <p:spPr>
          <a:xfrm>
            <a:off x="500040" y="1214280"/>
            <a:ext cx="3625920" cy="36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"/>
          <p:cNvSpPr/>
          <p:nvPr/>
        </p:nvSpPr>
        <p:spPr>
          <a:xfrm>
            <a:off x="285840" y="857160"/>
            <a:ext cx="8686800" cy="28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ь детей сравнивать предметы по величине (размер, длина, высота, ширина), используя слова: шире – уже, длиннее - короче, выше - ниже, больше – меньше. Учить путем наложения и на «глаз» сравнивать контрастные предме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вать умение анализировать, сравнивать, классифицировать предметы по величине, осуществлять сериацию предме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285840" y="3571920"/>
            <a:ext cx="5790960" cy="37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Больше - меньше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«Большой - маленький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«Мой размер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«Кукла идет в гост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«Кто проворней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«Разложи по размеру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«Чудесный мешочек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162080" y="6480"/>
            <a:ext cx="712476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ы на величин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3929040" y="3571920"/>
            <a:ext cx="4683240" cy="3120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1"/>
          <p:cNvSpPr/>
          <p:nvPr/>
        </p:nvSpPr>
        <p:spPr>
          <a:xfrm>
            <a:off x="5562720" y="338040"/>
            <a:ext cx="3147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»Посади бабочку»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2857680" y="3429000"/>
            <a:ext cx="3141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ткрой замо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53880" y="380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Посади мише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5" descr=""/>
          <p:cNvPicPr/>
          <p:nvPr/>
        </p:nvPicPr>
        <p:blipFill>
          <a:blip r:embed="rId1"/>
          <a:stretch/>
        </p:blipFill>
        <p:spPr>
          <a:xfrm>
            <a:off x="5643720" y="785880"/>
            <a:ext cx="3143160" cy="31431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"/>
          <p:cNvPicPr/>
          <p:nvPr/>
        </p:nvPicPr>
        <p:blipFill>
          <a:blip r:embed="rId2"/>
          <a:stretch/>
        </p:blipFill>
        <p:spPr>
          <a:xfrm>
            <a:off x="500040" y="857160"/>
            <a:ext cx="2924280" cy="2924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"/>
          <p:cNvPicPr/>
          <p:nvPr/>
        </p:nvPicPr>
        <p:blipFill>
          <a:blip r:embed="rId3"/>
          <a:stretch/>
        </p:blipFill>
        <p:spPr>
          <a:xfrm>
            <a:off x="3286080" y="4214880"/>
            <a:ext cx="2381400" cy="2381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9T10:56:51Z</dcterms:created>
  <dc:creator>ПК</dc:creator>
  <dc:description/>
  <dc:language>en-US</dc:language>
  <cp:lastModifiedBy>Эдуард</cp:lastModifiedBy>
  <dcterms:modified xsi:type="dcterms:W3CDTF">2019-05-11T15:30:07Z</dcterms:modified>
  <cp:revision>219</cp:revision>
  <dc:subject/>
  <dc:title>Слайд 1</dc:title>
</cp:coreProperties>
</file>