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41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8.jpeg" ContentType="image/jpeg"/>
  <Override PartName="/ppt/media/image28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39.jpeg" ContentType="image/jpeg"/>
  <Override PartName="/ppt/media/image8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4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143B2-6953-4877-9A7E-F11FFF0BD72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57BA1-4F64-474C-A676-2C463E12CE8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AB2E4-3511-4F32-8825-E669B0DC741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0E07D-5AEE-48AA-B8DA-D12416A479A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E7894-B7E8-4BB0-939E-A495AAABA9F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A6681-9B2D-4D90-B216-6E92A9C5061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A671F-B6B5-4135-9AB3-6C51E3B716E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F8646-692E-4358-BF15-259B9103636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59C2E-1355-46DF-870E-0801D152310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87A45-D22A-4EB2-915F-FF491D6F04B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14E6E-D58B-42C4-AADA-3F2F92119D1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1430F-88ED-4C80-81C1-A28BDB9C467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4B8BA-1AA8-4D4C-ADD6-EA2B16EF55C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55C1C-B27A-4F0A-9AC4-3D49FD77A79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A3C1D-43B2-4C1A-8554-B9D38358B5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A4F2E-6D54-4F91-9E4B-9270FC7507D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D5D13-8F48-4A43-A7B2-C8952DE9E9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711828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440" y="3919680"/>
            <a:ext cx="711828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28C07-F5F2-41C3-9B6F-C21460DB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732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440" y="391968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57320" y="391968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E7C2A-0EAC-4A4C-936A-6F96239A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6040" y="180612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3000" y="180612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440" y="391968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6040" y="391968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3000" y="391968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3448B-558D-4BA9-A975-57269D015E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E9E19-EB95-456D-8812-4CF62D53E7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440" y="1806120"/>
            <a:ext cx="711828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29AC6-7AE1-4067-AC6E-F524B4CF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71182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86180-9995-4BC8-810E-BA64BD1E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347364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7320" y="1806120"/>
            <a:ext cx="347364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31418-F735-440D-88E0-B21E3547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68349-A762-43FF-BC40-9CFA6F62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440" y="676440"/>
            <a:ext cx="7118280" cy="42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ECEB4-E500-42E3-B8C6-96BEF287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7320" y="1806120"/>
            <a:ext cx="347364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440" y="391968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6126C-E553-43B2-A482-E70E8A7B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440" y="1806120"/>
            <a:ext cx="711828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3D714-CB90-47ED-87C0-9B50426D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347364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732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57320" y="391968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B232B-8639-4F50-9F1F-8C65C897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732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440" y="3919680"/>
            <a:ext cx="711828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4B077-5BD6-48BE-8709-5D158D6B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711828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440" y="3919680"/>
            <a:ext cx="711828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AD83A-C2BC-4C43-A57B-409B2405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732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440" y="391968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57320" y="391968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7FDE1-A493-4770-A3AA-501AE551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6040" y="180612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3000" y="180612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440" y="391968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6040" y="391968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3000" y="3919680"/>
            <a:ext cx="229176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FEAE5-DF72-48BA-BB8F-ACEE14417D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71182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95257-C5C5-4AE8-A095-A4DCC5DC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347364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7320" y="1806120"/>
            <a:ext cx="347364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26AA7-3C22-457C-BC40-3EB15D03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B8C3F-034A-4808-8254-131CF85D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440" y="676440"/>
            <a:ext cx="7118280" cy="42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D85D2-3613-401E-BFEA-0532EF44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7320" y="1806120"/>
            <a:ext cx="347364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440" y="391968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9A8F1-A877-43BA-8E43-42308E59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347364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732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57320" y="391968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6D0F4-D3C1-46AF-9B31-D155D112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44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7320" y="1806120"/>
            <a:ext cx="347364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440" y="3919680"/>
            <a:ext cx="7118280" cy="192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D367-74E4-4ECC-995B-23ACED65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245520" cy="6851520"/>
            <a:chOff x="0" y="0"/>
            <a:chExt cx="9245520" cy="6851520"/>
          </a:xfrm>
        </p:grpSpPr>
        <p:grpSp>
          <p:nvGrpSpPr>
            <p:cNvPr id="1" name="Group 2"/>
            <p:cNvGrpSpPr/>
            <p:nvPr/>
          </p:nvGrpSpPr>
          <p:grpSpPr>
            <a:xfrm>
              <a:off x="7920" y="419040"/>
              <a:ext cx="9066240" cy="5907240"/>
              <a:chOff x="7920" y="419040"/>
              <a:chExt cx="9066240" cy="5907240"/>
            </a:xfrm>
          </p:grpSpPr>
          <p:pic>
            <p:nvPicPr>
              <p:cNvPr id="2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920" y="457200"/>
                <a:ext cx="150804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96960"/>
                <a:ext cx="1419120" cy="128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6200"/>
                <a:ext cx="1508040" cy="14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Picture 6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8840" y="419040"/>
                <a:ext cx="1795320" cy="167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Picture 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9920" y="3416400"/>
                <a:ext cx="1858680" cy="167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Picture 8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7640" y="4844880"/>
                <a:ext cx="1629000" cy="1481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9"/>
            <p:cNvGrpSpPr/>
            <p:nvPr/>
          </p:nvGrpSpPr>
          <p:grpSpPr>
            <a:xfrm>
              <a:off x="0" y="241200"/>
              <a:ext cx="9137520" cy="6610320"/>
              <a:chOff x="0" y="241200"/>
              <a:chExt cx="9137520" cy="6610320"/>
            </a:xfrm>
          </p:grpSpPr>
          <p:pic>
            <p:nvPicPr>
              <p:cNvPr id="9" name="Picture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600" y="241200"/>
                <a:ext cx="1619280" cy="15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11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3200" y="615960"/>
                <a:ext cx="1112760" cy="114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12"/>
              <p:cNvSpPr/>
              <p:nvPr/>
            </p:nvSpPr>
            <p:spPr>
              <a:xfrm rot="1560000">
                <a:off x="7041960" y="3757680"/>
                <a:ext cx="360" cy="36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2" name="Picture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79360" cy="115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Pictur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4560"/>
                <a:ext cx="1311120" cy="159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Picture 15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5600"/>
                <a:ext cx="1058760" cy="138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Pictur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6440" y="5610240"/>
                <a:ext cx="1865520" cy="124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Pictur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080" y="1623960"/>
                <a:ext cx="1360440" cy="169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Picture 18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6480" y="5869080"/>
                <a:ext cx="1347840" cy="954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19"/>
            <p:cNvGrpSpPr/>
            <p:nvPr/>
          </p:nvGrpSpPr>
          <p:grpSpPr>
            <a:xfrm>
              <a:off x="0" y="0"/>
              <a:ext cx="9245520" cy="6781680"/>
              <a:chOff x="0" y="0"/>
              <a:chExt cx="9245520" cy="6781680"/>
            </a:xfrm>
          </p:grpSpPr>
          <p:pic>
            <p:nvPicPr>
              <p:cNvPr id="19" name="Picture 20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5400" y="2747880"/>
                <a:ext cx="1449360" cy="339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Picture 21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3000" y="5738760"/>
                <a:ext cx="1122480" cy="104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Picture 22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6800" y="993600"/>
                <a:ext cx="1682640" cy="159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Picture 23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0240" y="3700440"/>
                <a:ext cx="96192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Picture 24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19040" cy="14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Picture 25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6040"/>
                <a:ext cx="1201680" cy="134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Picture 26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8400" y="0"/>
                <a:ext cx="1276560" cy="96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Picture 27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8600" y="976320"/>
                <a:ext cx="8269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440" y="1806120"/>
            <a:ext cx="71182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2000"/>
          </a:bodyPr>
          <a:p>
            <a:pPr marL="315360" indent="-3153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83280" indent="-2628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7204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9252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9252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9252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16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Text Box 31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2"/>
          </p:nvPr>
        </p:nvSpPr>
        <p:spPr>
          <a:xfrm>
            <a:off x="572760" y="5951160"/>
            <a:ext cx="6015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F95AE9-7F91-4400-80A5-E414C6B9867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"/>
          <p:cNvGrpSpPr/>
          <p:nvPr/>
        </p:nvGrpSpPr>
        <p:grpSpPr>
          <a:xfrm>
            <a:off x="0" y="0"/>
            <a:ext cx="9245520" cy="6851520"/>
            <a:chOff x="0" y="0"/>
            <a:chExt cx="9245520" cy="6851520"/>
          </a:xfrm>
        </p:grpSpPr>
        <p:grpSp>
          <p:nvGrpSpPr>
            <p:cNvPr id="69" name="Group 2"/>
            <p:cNvGrpSpPr/>
            <p:nvPr/>
          </p:nvGrpSpPr>
          <p:grpSpPr>
            <a:xfrm>
              <a:off x="7920" y="419040"/>
              <a:ext cx="9066240" cy="5907240"/>
              <a:chOff x="7920" y="419040"/>
              <a:chExt cx="9066240" cy="5907240"/>
            </a:xfrm>
          </p:grpSpPr>
          <p:pic>
            <p:nvPicPr>
              <p:cNvPr id="70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920" y="457200"/>
                <a:ext cx="150804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96960"/>
                <a:ext cx="1419120" cy="128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6200"/>
                <a:ext cx="1508040" cy="14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6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8840" y="419040"/>
                <a:ext cx="1795320" cy="167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Picture 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9920" y="3416400"/>
                <a:ext cx="1858680" cy="167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8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7640" y="4844880"/>
                <a:ext cx="1629000" cy="1481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9"/>
            <p:cNvGrpSpPr/>
            <p:nvPr/>
          </p:nvGrpSpPr>
          <p:grpSpPr>
            <a:xfrm>
              <a:off x="0" y="241200"/>
              <a:ext cx="9137520" cy="6610320"/>
              <a:chOff x="0" y="241200"/>
              <a:chExt cx="9137520" cy="6610320"/>
            </a:xfrm>
          </p:grpSpPr>
          <p:pic>
            <p:nvPicPr>
              <p:cNvPr id="77" name="Picture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600" y="241200"/>
                <a:ext cx="1619280" cy="15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11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3200" y="615960"/>
                <a:ext cx="1112760" cy="114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12"/>
              <p:cNvSpPr/>
              <p:nvPr/>
            </p:nvSpPr>
            <p:spPr>
              <a:xfrm rot="1560000">
                <a:off x="7041960" y="3757680"/>
                <a:ext cx="360" cy="36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80" name="Picture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79360" cy="115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Pictur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4560"/>
                <a:ext cx="1311120" cy="159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Picture 15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5600"/>
                <a:ext cx="1058760" cy="138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Pictur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6440" y="5610240"/>
                <a:ext cx="1865520" cy="124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Pictur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080" y="1623960"/>
                <a:ext cx="1360440" cy="169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Picture 18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6480" y="5869080"/>
                <a:ext cx="1347840" cy="954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19"/>
            <p:cNvGrpSpPr/>
            <p:nvPr/>
          </p:nvGrpSpPr>
          <p:grpSpPr>
            <a:xfrm>
              <a:off x="0" y="0"/>
              <a:ext cx="9245520" cy="6781680"/>
              <a:chOff x="0" y="0"/>
              <a:chExt cx="9245520" cy="6781680"/>
            </a:xfrm>
          </p:grpSpPr>
          <p:pic>
            <p:nvPicPr>
              <p:cNvPr id="87" name="Picture 20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5400" y="2747880"/>
                <a:ext cx="1449360" cy="339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Picture 21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3000" y="5738760"/>
                <a:ext cx="1122480" cy="104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Picture 22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6800" y="993600"/>
                <a:ext cx="1682640" cy="159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Picture 23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0240" y="3700440"/>
                <a:ext cx="961920" cy="83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24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19040" cy="148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25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6040"/>
                <a:ext cx="1201680" cy="134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26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8400" y="0"/>
                <a:ext cx="1276560" cy="96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27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8600" y="976320"/>
                <a:ext cx="8269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28"/>
          <p:cNvGrpSpPr/>
          <p:nvPr/>
        </p:nvGrpSpPr>
        <p:grpSpPr>
          <a:xfrm>
            <a:off x="4718160" y="993600"/>
            <a:ext cx="1841400" cy="1524240"/>
            <a:chOff x="4718160" y="993600"/>
            <a:chExt cx="1841400" cy="1524240"/>
          </a:xfrm>
        </p:grpSpPr>
        <p:grpSp>
          <p:nvGrpSpPr>
            <p:cNvPr id="96" name="Group 29"/>
            <p:cNvGrpSpPr/>
            <p:nvPr/>
          </p:nvGrpSpPr>
          <p:grpSpPr>
            <a:xfrm>
              <a:off x="5460840" y="1425600"/>
              <a:ext cx="1098720" cy="1092240"/>
              <a:chOff x="5460840" y="1425600"/>
              <a:chExt cx="1098720" cy="1092240"/>
            </a:xfrm>
          </p:grpSpPr>
          <p:pic>
            <p:nvPicPr>
              <p:cNvPr id="97" name="Picture 30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5600"/>
                <a:ext cx="1098720" cy="109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 Box 31"/>
              <p:cNvSpPr/>
              <p:nvPr/>
            </p:nvSpPr>
            <p:spPr>
              <a:xfrm>
                <a:off x="5638680" y="1601640"/>
                <a:ext cx="743040" cy="73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32"/>
            <p:cNvGrpSpPr/>
            <p:nvPr/>
          </p:nvGrpSpPr>
          <p:grpSpPr>
            <a:xfrm>
              <a:off x="5627520" y="1401840"/>
              <a:ext cx="849600" cy="838080"/>
              <a:chOff x="5627520" y="1401840"/>
              <a:chExt cx="849600" cy="838080"/>
            </a:xfrm>
          </p:grpSpPr>
          <p:pic>
            <p:nvPicPr>
              <p:cNvPr id="100" name="Picture 33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520" y="1401840"/>
                <a:ext cx="84960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 Box 34"/>
              <p:cNvSpPr/>
              <p:nvPr/>
            </p:nvSpPr>
            <p:spPr>
              <a:xfrm>
                <a:off x="5769000" y="1541520"/>
                <a:ext cx="566640" cy="5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35"/>
            <p:cNvGrpSpPr/>
            <p:nvPr/>
          </p:nvGrpSpPr>
          <p:grpSpPr>
            <a:xfrm>
              <a:off x="5246640" y="1868400"/>
              <a:ext cx="623880" cy="620640"/>
              <a:chOff x="5246640" y="1868400"/>
              <a:chExt cx="623880" cy="620640"/>
            </a:xfrm>
          </p:grpSpPr>
          <p:pic>
            <p:nvPicPr>
              <p:cNvPr id="103" name="Picture 36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6640" y="1868400"/>
                <a:ext cx="62388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Text Box 37"/>
              <p:cNvSpPr/>
              <p:nvPr/>
            </p:nvSpPr>
            <p:spPr>
              <a:xfrm>
                <a:off x="5351400" y="1976400"/>
                <a:ext cx="4078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38"/>
            <p:cNvGrpSpPr/>
            <p:nvPr/>
          </p:nvGrpSpPr>
          <p:grpSpPr>
            <a:xfrm>
              <a:off x="5407200" y="1790640"/>
              <a:ext cx="515880" cy="507960"/>
              <a:chOff x="5407200" y="1790640"/>
              <a:chExt cx="515880" cy="507960"/>
            </a:xfrm>
          </p:grpSpPr>
          <p:pic>
            <p:nvPicPr>
              <p:cNvPr id="106" name="Picture 39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0640"/>
                <a:ext cx="515880" cy="50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Text Box 40"/>
              <p:cNvSpPr/>
              <p:nvPr/>
            </p:nvSpPr>
            <p:spPr>
              <a:xfrm>
                <a:off x="5499000" y="1879560"/>
                <a:ext cx="33192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41"/>
            <p:cNvGrpSpPr/>
            <p:nvPr/>
          </p:nvGrpSpPr>
          <p:grpSpPr>
            <a:xfrm>
              <a:off x="4718160" y="2050920"/>
              <a:ext cx="290520" cy="289080"/>
              <a:chOff x="4718160" y="2050920"/>
              <a:chExt cx="290520" cy="289080"/>
            </a:xfrm>
          </p:grpSpPr>
          <p:pic>
            <p:nvPicPr>
              <p:cNvPr id="109" name="Picture 42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0920"/>
                <a:ext cx="290520" cy="28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Text Box 43"/>
              <p:cNvSpPr/>
              <p:nvPr/>
            </p:nvSpPr>
            <p:spPr>
              <a:xfrm>
                <a:off x="4778280" y="2109960"/>
                <a:ext cx="169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44"/>
            <p:cNvGrpSpPr/>
            <p:nvPr/>
          </p:nvGrpSpPr>
          <p:grpSpPr>
            <a:xfrm>
              <a:off x="6095880" y="993600"/>
              <a:ext cx="290520" cy="289080"/>
              <a:chOff x="6095880" y="993600"/>
              <a:chExt cx="290520" cy="289080"/>
            </a:xfrm>
          </p:grpSpPr>
          <p:pic>
            <p:nvPicPr>
              <p:cNvPr id="112" name="Picture 45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5880" y="993600"/>
                <a:ext cx="290520" cy="28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46"/>
              <p:cNvSpPr/>
              <p:nvPr/>
            </p:nvSpPr>
            <p:spPr>
              <a:xfrm>
                <a:off x="6156360" y="1054080"/>
                <a:ext cx="1699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47"/>
            <p:cNvGrpSpPr/>
            <p:nvPr/>
          </p:nvGrpSpPr>
          <p:grpSpPr>
            <a:xfrm>
              <a:off x="5051520" y="1868400"/>
              <a:ext cx="231840" cy="230400"/>
              <a:chOff x="5051520" y="1868400"/>
              <a:chExt cx="231840" cy="230400"/>
            </a:xfrm>
          </p:grpSpPr>
          <p:pic>
            <p:nvPicPr>
              <p:cNvPr id="115" name="Picture 48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1520" y="1868400"/>
                <a:ext cx="23184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49"/>
              <p:cNvSpPr/>
              <p:nvPr/>
            </p:nvSpPr>
            <p:spPr>
              <a:xfrm>
                <a:off x="5102280" y="1919160"/>
                <a:ext cx="129960" cy="1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50"/>
            <p:cNvGrpSpPr/>
            <p:nvPr/>
          </p:nvGrpSpPr>
          <p:grpSpPr>
            <a:xfrm>
              <a:off x="6114960" y="1065240"/>
              <a:ext cx="231840" cy="223920"/>
              <a:chOff x="6114960" y="1065240"/>
              <a:chExt cx="231840" cy="223920"/>
            </a:xfrm>
          </p:grpSpPr>
          <p:pic>
            <p:nvPicPr>
              <p:cNvPr id="118" name="Picture 51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960" y="1065240"/>
                <a:ext cx="231840" cy="22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Text Box 52"/>
              <p:cNvSpPr/>
              <p:nvPr/>
            </p:nvSpPr>
            <p:spPr>
              <a:xfrm>
                <a:off x="6164280" y="1111320"/>
                <a:ext cx="130320" cy="12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440" y="676440"/>
            <a:ext cx="71182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440" y="1806120"/>
            <a:ext cx="71182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2000"/>
          </a:bodyPr>
          <a:p>
            <a:pPr marL="315360" indent="-3153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83280" indent="-2628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7204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9252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9252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92520" indent="-210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6436800" y="5951160"/>
            <a:ext cx="21272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6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4"/>
          </p:nvPr>
        </p:nvSpPr>
        <p:spPr>
          <a:xfrm>
            <a:off x="572760" y="5951160"/>
            <a:ext cx="6015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40404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EEE244-9A87-4137-919E-E77EDFBFE273}" type="slidenum">
              <a:rPr b="0" lang="en-US" sz="2400" spc="-1" strike="noStrike">
                <a:solidFill>
                  <a:srgbClr val="40404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905120" y="4857840"/>
            <a:ext cx="723888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нтурина Рамиля Таги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1009800" y="380880"/>
            <a:ext cx="76006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«Формирование элементарных математических представлений с помощью дидактических игр в старшей группе».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Рисунок 5" descr="1-5-2-.jpg"/>
          <p:cNvPicPr/>
          <p:nvPr/>
        </p:nvPicPr>
        <p:blipFill>
          <a:blip r:embed="rId1"/>
          <a:stretch/>
        </p:blipFill>
        <p:spPr>
          <a:xfrm>
            <a:off x="353880" y="2419200"/>
            <a:ext cx="5083200" cy="394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571680" y="214200"/>
            <a:ext cx="76006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на ориентировку в пространст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304920" y="121932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36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да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и закрепить пространственные представления детей в процессе всех видов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детям овладеть пространственными представлениями: слева, справа, вверху, внизу, впереди, сзади, далеко, близк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детей ориентироваться в специально созданных пространственных ситуациях и определять свое место по заданному услов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ять детей в овладении умением определять словом положение того или иного предмета по отношению к друго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употреблять слова для обозначения положения предме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тань так, чтобы справа от тебя был шкаф, а сзади - стул. Сядь так, чтобы впереди тебя сидела Таня, а сзади - Дима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рава от куклы стоит заяц, слева от куклы - пирамид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похожую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сскажи про свой узор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терская ковров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удожни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по комнате» и многие другие иг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click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click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click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click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click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click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click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click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click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click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click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928800" y="285840"/>
            <a:ext cx="7124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с геометрическими фигур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36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 знания о форме геометрических фигу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внимание, память, мышление и воображение у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детей анализируют свои фиг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ь сходства и различия в решении конструктивного замыс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акую геометрическую фигуру напоминает дно тарелки?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Лото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Геометрическая мозаика« и другие иг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822240" y="3708360"/>
            <a:ext cx="29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Подбери по форм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42920" y="642960"/>
            <a:ext cx="84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Собери цепочку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0" y="14744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1965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22707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72120" y="3286080"/>
            <a:ext cx="235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Какой фигуры не хватает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2928960" y="1357200"/>
            <a:ext cx="2795400" cy="1863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/>
          <p:cNvPicPr/>
          <p:nvPr/>
        </p:nvPicPr>
        <p:blipFill>
          <a:blip r:embed="rId2"/>
          <a:stretch/>
        </p:blipFill>
        <p:spPr>
          <a:xfrm>
            <a:off x="5572080" y="4143240"/>
            <a:ext cx="2795760" cy="1863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3"/>
          <a:stretch/>
        </p:blipFill>
        <p:spPr>
          <a:xfrm>
            <a:off x="749160" y="4076640"/>
            <a:ext cx="3354480" cy="223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1009800" y="1752480"/>
            <a:ext cx="71244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4"/>
          <p:cNvSpPr/>
          <p:nvPr/>
        </p:nvSpPr>
        <p:spPr>
          <a:xfrm>
            <a:off x="2857680" y="428760"/>
            <a:ext cx="27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5"/>
          <p:cNvSpPr/>
          <p:nvPr/>
        </p:nvSpPr>
        <p:spPr>
          <a:xfrm>
            <a:off x="285840" y="1357200"/>
            <a:ext cx="7500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04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 необходимы в обучении и воспитании детей. Они повышают эффективность педагогического процесса,  способствуют развитию памяти, мышления у детей, оказывая огромное влияние на умственное развитие ребенка. Дидактические игры по математике могут использоваться в различной деятельности: в играх, в труде, на занятиях и повседневной жизни. При организации ознакомления с действительностью и при обогащении словаря детей с нарушением зрения надо помнить об особенностях зрительных возможностей, так как не все предметы и явления доступны им для непосредственного визуального восприят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357120" y="142920"/>
            <a:ext cx="7124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642960" y="285768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7560" indent="-404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1592640" y="2286000"/>
            <a:ext cx="545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533520" y="380880"/>
            <a:ext cx="838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ae1078"/>
                </a:solidFill>
                <a:latin typeface="Arial"/>
              </a:rPr>
              <a:t> “</a:t>
            </a:r>
            <a:r>
              <a:rPr b="1" lang="ru-RU" sz="2000" spc="-1" strike="noStrike">
                <a:solidFill>
                  <a:srgbClr val="ae1078"/>
                </a:solidFill>
                <a:latin typeface="Arial"/>
              </a:rPr>
              <a:t>Без игры нет и не может быть полноценного умственного развития. Игра - это огромное светлое окно, через которое в духовный мир ребенка вливается живительный поток представлений, понятий. Игра - это искра, зажигающая огонек пытливости и любознательности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ae1078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ru-RU" sz="2000" spc="-1" strike="noStrike">
                <a:solidFill>
                  <a:srgbClr val="ae1078"/>
                </a:solidFill>
                <a:latin typeface="Arial"/>
              </a:rPr>
              <a:t>В.А. Сухомлин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4190760" cy="419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357120" y="2286000"/>
            <a:ext cx="85345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 – одно из средств воспитания и обучения детей дошкольного возраста, как с нормой развития , так и с нарушением зрения. Дидактическая игра содержит в себе большие возможности в учебном  и воспитательном процессе дошкольников с нарушением зрения. Она может успешно использоваться и как форма обучения, и как самостоятельная игровая деятельность, и как средство воспитания различных сторон личности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дидактических иг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повышению уровн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и элементар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их представлен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ошкольников с нарушени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ения</a:t>
            </a:r>
            <a:br>
              <a:rPr sz="1700"/>
            </a:br>
            <a:br>
              <a:rPr sz="17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5286240" y="3708360"/>
            <a:ext cx="3200400" cy="314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990720" y="304920"/>
            <a:ext cx="7124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ификация дидактических иг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0" y="236232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1280" indent="-33660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1000080" y="1143000"/>
            <a:ext cx="7493040" cy="541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457200" y="3049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357120" y="157176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дидактических игр при формировании элементарных математических представлений у дошкольников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42920" y="2143080"/>
            <a:ext cx="883908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взаимосвязанных элементарных математических представлений о количестве и счете, о величине и форме предметов, о положении предметов в пространстве, о врем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способов количествен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оставления, сравнения результа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ета и измер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5357880" y="3714840"/>
            <a:ext cx="3143160" cy="314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1000080" y="0"/>
            <a:ext cx="7124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на количество и сч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42920" y="928800"/>
            <a:ext cx="876312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7560" indent="-4046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усвоить порядок следования чисел натурального ряда, упражнять в прямом и обратном сче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внимание, память, мышл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акой цифры не стало?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колько?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утаница?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Исправь ошибку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Убираем цифры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Назови соседе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читай, не ошибись!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Задумай число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Число, как тебя зовут?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оставь табличку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оставь цифру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то первый назовет, которой игрушки не стало?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6119640" y="2357280"/>
            <a:ext cx="2316240" cy="347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click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click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click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click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click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click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click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click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click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click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click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click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click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1009800" y="304920"/>
            <a:ext cx="712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на количество и сч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52280" y="1371600"/>
            <a:ext cx="876312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7560" indent="-404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404040"/>
                </a:solidFill>
                <a:latin typeface="Verdana"/>
              </a:rPr>
              <a:t>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4245120" y="3071880"/>
            <a:ext cx="4898880" cy="3265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500040" y="1214280"/>
            <a:ext cx="362592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285840" y="857160"/>
            <a:ext cx="8686800" cy="28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ь детей сравнивать предметы по величине (размер, длина, высота, ширина), используя слова: шире – уже, длиннее - короче, выше - ниже, больше – меньше. Учить путем наложения и на «глаз» сравнивать контрастные предме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ть умение анализировать, сравнивать, классифицировать предметы по величине, осуществлять сериацию предме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285840" y="3571920"/>
            <a:ext cx="5790960" cy="37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ольше - меньш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«Большой - маленьки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«Мой размер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«Кукла идет в го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«Кто проворне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«Разложи по размеру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«Чудесный мешоче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162080" y="6480"/>
            <a:ext cx="71247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на величи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3929040" y="3571920"/>
            <a:ext cx="4683240" cy="312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5562720" y="338040"/>
            <a:ext cx="3147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»Посади бабочку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2857680" y="3429000"/>
            <a:ext cx="3141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крой замо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53880" y="380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Посади мише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5643720" y="78588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500040" y="857160"/>
            <a:ext cx="2924280" cy="2924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3"/>
          <a:stretch/>
        </p:blipFill>
        <p:spPr>
          <a:xfrm>
            <a:off x="3286080" y="4214880"/>
            <a:ext cx="2381400" cy="238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0:56:51Z</dcterms:created>
  <dc:creator>ПК</dc:creator>
  <dc:description/>
  <dc:language>en-US</dc:language>
  <cp:lastModifiedBy>Эдуард</cp:lastModifiedBy>
  <dcterms:modified xsi:type="dcterms:W3CDTF">2019-05-11T15:30:07Z</dcterms:modified>
  <cp:revision>219</cp:revision>
  <dc:subject/>
  <dc:title>Слайд 1</dc:title>
</cp:coreProperties>
</file>