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A02-FC9F-4E33-A4FA-6BFA33AC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9D2-2BC8-4414-B658-B2350927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B46-405E-4DA7-A193-A1534CFF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FF9-2B18-41C4-BF52-970AC227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CEE-914D-4298-AF1C-558FBA94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443-39B3-4C3D-AE99-34A14678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7DF-6049-4DB2-9879-F7ED858D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C0A-9B39-4907-A7C7-FDF88212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91A-5E36-4A4F-B351-59112FCE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077-6F2B-488E-BC86-F219466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C37-1F69-4BD9-B56E-6C49C6F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6A4-2DDC-43E9-933E-27F6F8F6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B6E0-DA0B-47D4-BFEB-2CBDEE4D8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logs.mail.ru/mail/ellada.nowak/tag/%D1%EA%E0%E7%EA%E8" TargetMode="External"/><Relationship Id="rId2" Type="http://schemas.openxmlformats.org/officeDocument/2006/relationships/hyperlink" Target="http://www.pustovit.ru/?p=24" TargetMode="External"/><Relationship Id="rId3" Type="http://schemas.openxmlformats.org/officeDocument/2006/relationships/hyperlink" Target="http://allday.ru/index.php?cstart=2&amp;newsid=204977" TargetMode="External"/><Relationship Id="rId4" Type="http://schemas.openxmlformats.org/officeDocument/2006/relationships/hyperlink" Target="http://fotki.yandex.ru/users/nevskij/view/144418/" TargetMode="External"/><Relationship Id="rId5" Type="http://schemas.openxmlformats.org/officeDocument/2006/relationships/hyperlink" Target="http://www.ethnoworld.ru/foto/thumbnails.php?album=151&amp;page=1&amp;sort=nd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thnoworld.ru/foto/albums/userpics/10010/Arina%20portrait%20for%20site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2784600" cy="324000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sp>
        <p:nvSpPr>
          <p:cNvPr id="42" name="Text Box 8"/>
          <p:cNvSpPr/>
          <p:nvPr/>
        </p:nvSpPr>
        <p:spPr>
          <a:xfrm>
            <a:off x="1332000" y="1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ександр Сергеевич Пушкин              1799 - 18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3492360" y="1700280"/>
            <a:ext cx="468000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ам чудеса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м леший бродит...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132000" y="450864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ог к поэме «Руслан и Людми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Александр Пушкин - У Лукоморья обложка книги"/>
          <p:cNvPicPr/>
          <p:nvPr/>
        </p:nvPicPr>
        <p:blipFill>
          <a:blip r:embed="rId3"/>
          <a:srcRect l="0" t="15073" r="0" b="0"/>
          <a:stretch/>
        </p:blipFill>
        <p:spPr>
          <a:xfrm>
            <a:off x="6659640" y="3716280"/>
            <a:ext cx="2228760" cy="29242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26676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df9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11280" y="477720"/>
            <a:ext cx="8369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ПОВ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f9f"/>
            </a:gs>
            <a:gs pos="50000">
              <a:srgbClr val="ffffff"/>
            </a:gs>
            <a:gs pos="100000">
              <a:srgbClr val="ffd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93421501"/>
          <p:cNvPicPr/>
          <p:nvPr/>
        </p:nvPicPr>
        <p:blipFill>
          <a:blip r:embed="rId1"/>
          <a:stretch/>
        </p:blipFill>
        <p:spPr>
          <a:xfrm>
            <a:off x="826920" y="620640"/>
            <a:ext cx="7417080" cy="50878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sp>
        <p:nvSpPr>
          <p:cNvPr id="70" name="Rectangle 6"/>
          <p:cNvSpPr/>
          <p:nvPr/>
        </p:nvSpPr>
        <p:spPr>
          <a:xfrm>
            <a:off x="0" y="327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619280" y="5875920"/>
            <a:ext cx="57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люстрации в стиле Палех А.М. Куркина к «Сказке о царе Салта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f9f"/>
            </a:gs>
            <a:gs pos="50000">
              <a:srgbClr val="ffffff"/>
            </a:gs>
            <a:gs pos="100000">
              <a:srgbClr val="ffd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2124000" y="549360"/>
            <a:ext cx="49276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68360" y="2276640"/>
            <a:ext cx="47516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ыразительное чтение пролога наизу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люстрация к прологу                              (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92360" y="765000"/>
            <a:ext cx="59767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события могут быть связаны с Бабой Ягой, избушкой на курьих ножках, Кащеем, колдуном? Вспомните русские народные ска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то противостоит им во вступлении? Какие события связаны с этими геро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1403280" y="1197000"/>
            <a:ext cx="6193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те иллюстрации к стихотворению поэта. Какие из них вам понравились и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ую из иллюстраций вы бы поместили на обложку книги поэ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f9f"/>
            </a:gs>
            <a:gs pos="50000">
              <a:srgbClr val="ffffff"/>
            </a:gs>
            <a:gs pos="100000">
              <a:srgbClr val="ffd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12"/>
          <p:cNvPicPr/>
          <p:nvPr/>
        </p:nvPicPr>
        <p:blipFill>
          <a:blip r:embed="rId1"/>
          <a:stretch/>
        </p:blipFill>
        <p:spPr>
          <a:xfrm>
            <a:off x="4859280" y="981000"/>
            <a:ext cx="3938760" cy="561672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77" name="Picture 9" descr="duh_kotbaun"/>
          <p:cNvPicPr/>
          <p:nvPr/>
        </p:nvPicPr>
        <p:blipFill>
          <a:blip r:embed="rId2"/>
          <a:stretch/>
        </p:blipFill>
        <p:spPr>
          <a:xfrm>
            <a:off x="179280" y="189000"/>
            <a:ext cx="3889440" cy="532764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logs.mail.ru/mail/ellada.nowak/tag/%d1%ea%e0%e7%ea%e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айд №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ustovit.ru/?p=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айд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llday.ru/index.php?cstart=2&amp;newsid=20497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слайд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otki.yandex.ru/users/nevskij/view/144418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айд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thnoworld.ru/foto/thumbnails.php?album=151&amp;page=1&amp;sort=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слайд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otki.yandex.ru/users/schiw2007/view/143480/ - слайд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hrono.ru/biograf/bio_g/gannibal_a.php - слайд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gr.neftegaz.ru/ru/blog/view/192 - слайд №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enst.narod.ru/photo/school/sp/06.17/index.htm - слайд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leskovo.ru/index.php?name=sever – слайд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liveinternet.ru/users/leonsija/post75292724/ - слайд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500200" y="571680"/>
            <a:ext cx="3837240" cy="82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 - ресур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2">
            <a:lum bright="24000"/>
          </a:blip>
          <a:srcRect l="4964" t="37214" r="37776" b="6286"/>
          <a:stretch/>
        </p:blipFill>
        <p:spPr>
          <a:xfrm>
            <a:off x="684360" y="765000"/>
            <a:ext cx="3527280" cy="51850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sp>
        <p:nvSpPr>
          <p:cNvPr id="47" name="Text Box 7"/>
          <p:cNvSpPr/>
          <p:nvPr/>
        </p:nvSpPr>
        <p:spPr>
          <a:xfrm>
            <a:off x="4788000" y="50846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х, умолчу ль о матушке моей, - вспоминает Пушк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Картинка 1 из 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765000"/>
            <a:ext cx="3132000" cy="417672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25092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df9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87280" y="2133720"/>
            <a:ext cx="691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Что за чудо, говорит мачеха, вот это чудо: у моря лукоморья стоит дуб, а на том дубу золотые цепи, и по тем цепям ходит кот: вверх идет – сказки сказывает, вниз идет – песни по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547640" y="620640"/>
            <a:ext cx="6181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а из записей Пушкина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деланная со слов нян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26676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df9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1197000"/>
            <a:ext cx="691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большое стихотворное произведение, в котором рассказывается о жизни и подвигах героев, дается оценка их поступк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ло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вступ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16360" y="5516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1187280" y="1413000"/>
            <a:ext cx="6696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м вы представляете лукомор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ьте, что вы оказались в этом замечательном месте и вдруг увидели то, что описывали минуту назад. Какое чувство вы бы испыт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00"/>
            </a:gs>
            <a:gs pos="50000">
              <a:srgbClr val="996600"/>
            </a:gs>
            <a:gs pos="100000">
              <a:srgbClr val="47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25092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df9f"/>
              </a:gs>
              <a:gs pos="50000">
                <a:srgbClr val="ffffff"/>
              </a:gs>
              <a:gs pos="100000">
                <a:srgbClr val="ffdf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917960" y="2492280"/>
            <a:ext cx="40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 Баюн - персонаж русских волшебных сказок, огромный кот-людоед, обладающий волшебным гол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6228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00"/>
            </a:gs>
            <a:gs pos="50000">
              <a:srgbClr val="996600"/>
            </a:gs>
            <a:gs pos="100000">
              <a:srgbClr val="47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5"/>
          <p:cNvSpPr/>
          <p:nvPr/>
        </p:nvSpPr>
        <p:spPr>
          <a:xfrm>
            <a:off x="25092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df9f"/>
              </a:gs>
              <a:gs pos="50000">
                <a:srgbClr val="ffffff"/>
              </a:gs>
              <a:gs pos="100000">
                <a:srgbClr val="ffdf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917960" y="260280"/>
            <a:ext cx="4226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 заговаривает и усыпляет своими сказками подошедших путников и тех из них, у кого недостаточно сил противостоять его волшебству, кот-колдун безжалостно убивает. Но тот, кто сможет добыть кота, найдёт спасение от всех болезней и недугов — сказки Баюна целеб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262080" y="260280"/>
            <a:ext cx="465588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00"/>
            </a:gs>
            <a:gs pos="50000">
              <a:srgbClr val="996600"/>
            </a:gs>
            <a:gs pos="100000">
              <a:srgbClr val="47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5"/>
          <p:cNvSpPr/>
          <p:nvPr/>
        </p:nvSpPr>
        <p:spPr>
          <a:xfrm>
            <a:off x="25092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df9f"/>
              </a:gs>
              <a:gs pos="50000">
                <a:srgbClr val="ffffff"/>
              </a:gs>
              <a:gs pos="100000">
                <a:srgbClr val="ffdf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4608360" cy="619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i.blog.fontanka.ru/photos/2015/08/800x600_kK68i51zWb3noTLIjn9l.jpg"/>
          <p:cNvPicPr/>
          <p:nvPr/>
        </p:nvPicPr>
        <p:blipFill>
          <a:blip r:embed="rId2"/>
          <a:stretch/>
        </p:blipFill>
        <p:spPr>
          <a:xfrm>
            <a:off x="250920" y="26352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26676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df9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82480" y="189000"/>
            <a:ext cx="83678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Лукоморье – излучина морского берег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Неведомый – неизвестны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идение – призрак, привидени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итязь – воин, богатыр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Дядька – приставленный для надзор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Чредой – чередой, один за други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Мимоходом – по пут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Пленяет – берет в пле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Тужить – тосковать, гореват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Чахнуть - сохнуть, страдать.</a:t>
            </a:r>
            <a:br>
              <a:rPr sz="3400"/>
            </a:b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Темница - темное помещение без окон.</a:t>
            </a:r>
            <a:br>
              <a:rPr sz="3400"/>
            </a:b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Златом – золото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38:12Z</dcterms:created>
  <dc:creator>Сергей</dc:creator>
  <dc:description/>
  <dc:language>en-US</dc:language>
  <cp:lastModifiedBy>Марина Анатольевна</cp:lastModifiedBy>
  <dcterms:modified xsi:type="dcterms:W3CDTF">2015-11-11T04:18:43Z</dcterms:modified>
  <cp:revision>26</cp:revision>
  <dc:subject/>
  <dc:title>Слайд 1</dc:title>
</cp:coreProperties>
</file>