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64AA-B2E5-4398-BBC2-17295ED6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3862-1187-4D3E-8438-7F9E4FDD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7B42-CDCA-4BB7-A3B9-302A987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5E4F-5803-4E4C-8443-B6CD57C6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DFB8-8DEA-4E68-9EA9-B532B3FD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CDF4-1CF3-4CA6-8B10-4DB41FF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95E0-E4E6-4CE6-B6D9-49A79F7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877-2820-410B-BA27-FA215E49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205-8200-4419-8262-BEE9E5A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C81-50CC-4868-AD2E-E257014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5D82-4CE7-4500-9A13-39A7682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32B5-9F8E-49EC-9FDC-55C63F6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2D6-BB86-41E7-8865-6DCD894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070-D2FF-4432-881C-34EDF02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964-9597-4806-9B90-AF8FE9CD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B3A-E308-47AD-8921-170EA2A3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BDBA-13F4-49CF-BE33-43B7E91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5632-9684-4BEA-9359-DF674BD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7CF1-6344-4272-8F9C-4BAA62C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EA56-3FB2-4E5C-A0C9-B4728C86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F7F2-43B2-4849-AEB1-EE3E18DA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8C71-60D8-4B08-89D5-1056E5C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5616-9A30-4414-86B5-74CF45F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9B54-B051-4D22-9466-99F3FA4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CB93-2C63-4012-9703-96B853B0EC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C766-22DF-48CB-ADA7-4132553D80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к русского языка в 5 классе.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ая буква в именах собственны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зентацию подготовила Курошева Л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Спасибо за урок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льшая буква в фамилиях, именах, отчествах людей, кличках животных, названиях рек. (1 урок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ознакомить с написанием большой буквы в ФИО людей, кличках животных, названиях р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Развить творческие способности, расширить познавательный интере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Воспитание благоприятной эмоциональной среды, мотивация к обучен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№ 1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йте определение значению сл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Петров, Сергеенков, Косяков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Денис, Артём, Андрей, Илья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Егорович, Ивановна, Юрьевич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Харли, Топочка, Милка, Джек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Волга, Днепр, Гжать, Дон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 прави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полне понятные слов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что их объединяе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то нам загадку отгадае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эти клички, имена, названья рек и города, мы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ОБСТВЕННЫМ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ё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равило для них найдём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ишутся имена собственны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гра «Угадай словечко!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Запишите женское имя, которое читается и пишется одинаково справа и сле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Запишите имя , в котором 30 букв 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Запишите название города, который «летает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Запишите предложение. А роза упала на лапу Азора. Прочтите его справа налево ! Что вы замети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репление матери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Отгадай загадку 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есть ног, две головы и один хв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гадай загадку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епок Кузьма – развязать нельз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обозначает ФИО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думайте отгадке ФОИ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узьма – это чт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йте от этого слова фамилию, отчество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репление матери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9" descr="3145_html_37876699 (2)"/>
          <p:cNvPicPr/>
          <p:nvPr/>
        </p:nvPicPr>
        <p:blipFill>
          <a:blip r:embed="rId1"/>
          <a:stretch/>
        </p:blipFill>
        <p:spPr>
          <a:xfrm>
            <a:off x="1547640" y="1557360"/>
            <a:ext cx="190368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ani"/>
          <p:cNvPicPr/>
          <p:nvPr/>
        </p:nvPicPr>
        <p:blipFill>
          <a:blip r:embed="rId2"/>
          <a:stretch/>
        </p:blipFill>
        <p:spPr>
          <a:xfrm>
            <a:off x="5580000" y="1628640"/>
            <a:ext cx="2131920" cy="218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Lighthouse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kr01"/>
          <p:cNvPicPr/>
          <p:nvPr/>
        </p:nvPicPr>
        <p:blipFill>
          <a:blip r:embed="rId4"/>
          <a:stretch/>
        </p:blipFill>
        <p:spPr>
          <a:xfrm>
            <a:off x="5003640" y="393372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145_html_37876699 (2)"/>
          <p:cNvPicPr/>
          <p:nvPr/>
        </p:nvPicPr>
        <p:blipFill>
          <a:blip r:embed="rId5"/>
          <a:stretch/>
        </p:blipFill>
        <p:spPr>
          <a:xfrm>
            <a:off x="1700280" y="1709640"/>
            <a:ext cx="1903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овите реки Смоленской области, которые протекают в вашей местности 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зовите деревни, в которых вы живёте 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азовите города нашей области 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клички любимых ваших животных и птиц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ашнее задание: записать 6  ФИО известных вам люд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10" descr="2014-07-06 12"/>
          <p:cNvPicPr/>
          <p:nvPr/>
        </p:nvPicPr>
        <p:blipFill>
          <a:blip r:embed="rId1"/>
          <a:stretch/>
        </p:blipFill>
        <p:spPr>
          <a:xfrm>
            <a:off x="971640" y="1700280"/>
            <a:ext cx="3529080" cy="208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ft011"/>
          <p:cNvPicPr/>
          <p:nvPr/>
        </p:nvPicPr>
        <p:blipFill>
          <a:blip r:embed="rId2"/>
          <a:stretch/>
        </p:blipFill>
        <p:spPr>
          <a:xfrm>
            <a:off x="4788000" y="1773360"/>
            <a:ext cx="3384360" cy="20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5270106"/>
          <p:cNvPicPr/>
          <p:nvPr/>
        </p:nvPicPr>
        <p:blipFill>
          <a:blip r:embed="rId3"/>
          <a:stretch/>
        </p:blipFill>
        <p:spPr>
          <a:xfrm>
            <a:off x="4788000" y="3933720"/>
            <a:ext cx="3384360" cy="218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1070512"/>
          <p:cNvPicPr/>
          <p:nvPr/>
        </p:nvPicPr>
        <p:blipFill>
          <a:blip r:embed="rId4"/>
          <a:stretch/>
        </p:blipFill>
        <p:spPr>
          <a:xfrm>
            <a:off x="900000" y="4005360"/>
            <a:ext cx="360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8:33:33Z</dcterms:created>
  <dc:creator>sony</dc:creator>
  <dc:description/>
  <dc:language>en-US</dc:language>
  <cp:lastModifiedBy>Пользователь Windows</cp:lastModifiedBy>
  <dcterms:modified xsi:type="dcterms:W3CDTF">2019-03-03T13:00:25Z</dcterms:modified>
  <cp:revision>18</cp:revision>
  <dc:subject/>
  <dc:title>Урок русского языка в 5 классе</dc:title>
</cp:coreProperties>
</file>