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568E0-EE6F-46D6-8280-0F4248476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F18EE-7D5A-44B4-B576-E2356ACFA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34A56-E486-41AC-8EBE-8171A183B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666B9-B19C-4603-8472-2B7BB6707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5FD81-A304-4B58-989F-3855B9E87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CB3E1-C310-41F4-AFEC-9803A2D08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D6307-F793-4BD7-935A-FE1E22D3E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BD139-498A-4343-A4D1-7693E35CB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555F1-0054-48D8-8262-29F611D8E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2B32D-BBAD-4BBA-A3DB-02709DB8F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475AD-3B38-4960-98DC-B2C52DA9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6DE5A-B044-4A0C-A695-D9B86050A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6E7DB-F46A-4B9E-8987-7F673477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1002C-B165-40E3-B1B9-CAD0AE09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5835D-A9CE-45E6-B66A-143500DFC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28F86-8AC3-4BD3-80BF-F8E35A8DD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B0A95-30CE-4263-9674-4439E90CA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513D0-D69C-435B-BFF1-9AC94EEA2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69FFD-A4A2-423B-A34B-2733AC1A6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83140-0569-49FC-93FA-5A8940840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89B27-29EC-4B45-97EC-8EFD5E459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85679-8BAA-4974-B071-161EB123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7740A-7BE4-4B12-9262-55B0506C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CB2A4-7C50-413C-8330-0F64D280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84190-0539-44AD-92C3-6DCF2E6777B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49323-A279-444A-964B-C016258210C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Урок русского языка в 5 классе.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Большая буква в именах собственных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4508280"/>
            <a:ext cx="6400800" cy="113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езентацию подготовила Курошева Л.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5e5ff"/>
                </a:solidFill>
                <a:latin typeface="Garamond"/>
              </a:rPr>
              <a:t>Спасибо за урок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Большая буква в фамилиях, именах, отчествах людей, кличках животных, названиях рек. (1 урок)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Цель урок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1. Познакомить с написанием большой буквы в ФИО людей, кличках животных, названиях рек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2.Развить творческие способности, расширить познавательный интерес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3.Воспитание благоприятной эмоциональной среды, мотивация к обучению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Задание № 1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айте определение значению слов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.Петров, Сергеенков, Косяков – это 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.Денис, Артём, Андрей, Илья – это 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3.Егорович, Ивановна, Юрьевич – это 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4.Харли, Топочка, Милка, Джек – это 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5.Волга, Днепр, Гжать, Дон – это 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ывод правил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полне понятные слова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 что их объединяет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то нам загадку отгадает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се эти клички, имена, названья рек и города, мы 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СОБСТВЕННЫМИ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зовём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 правило для них найдём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ак пишутся имена собственные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Игра «Угадай словечко!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.Запишите женское имя, которое читается и пишется одинаково справа и слев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.Запишите имя , в котором 30 букв 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3.Запишите название города, который «летает»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4.Запишите предложение. А роза упала на лапу Азора. Прочтите его справа налево ! Что вы заметили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Закрепление материал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Garamond"/>
              </a:rPr>
              <a:t>Отгадай загадку 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Шесть ног, две головы и один хвос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Отгадай загадку 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репок Кузьма – развязать нельз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Что обозначает ФИО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идумайте отгадке ФОИ 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узьма – это что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бразуйте от этого слова фамилию, отчество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Закрепление материал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8" name="Picture 9" descr="3145_html_37876699 (2)"/>
          <p:cNvPicPr/>
          <p:nvPr/>
        </p:nvPicPr>
        <p:blipFill>
          <a:blip r:embed="rId1"/>
          <a:stretch/>
        </p:blipFill>
        <p:spPr>
          <a:xfrm>
            <a:off x="1547640" y="1557360"/>
            <a:ext cx="1903680" cy="2185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1ani"/>
          <p:cNvPicPr/>
          <p:nvPr/>
        </p:nvPicPr>
        <p:blipFill>
          <a:blip r:embed="rId2"/>
          <a:stretch/>
        </p:blipFill>
        <p:spPr>
          <a:xfrm>
            <a:off x="5580000" y="1628640"/>
            <a:ext cx="2131920" cy="2186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Lighthouse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kr01"/>
          <p:cNvPicPr/>
          <p:nvPr/>
        </p:nvPicPr>
        <p:blipFill>
          <a:blip r:embed="rId4"/>
          <a:stretch/>
        </p:blipFill>
        <p:spPr>
          <a:xfrm>
            <a:off x="5003640" y="3933720"/>
            <a:ext cx="3384720" cy="2232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3145_html_37876699 (2)"/>
          <p:cNvPicPr/>
          <p:nvPr/>
        </p:nvPicPr>
        <p:blipFill>
          <a:blip r:embed="rId5"/>
          <a:stretch/>
        </p:blipFill>
        <p:spPr>
          <a:xfrm>
            <a:off x="1700280" y="1709640"/>
            <a:ext cx="190332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азовите реки Смоленской области, которые протекают в вашей местности 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Назовите деревни, в которых вы живёте 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Назовите города нашей области 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зовите клички любимых ваших животных и птиц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Домашнее задание: записать 6  ФИО известных вам людей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9" name="Picture 10" descr="2014-07-06 12"/>
          <p:cNvPicPr/>
          <p:nvPr/>
        </p:nvPicPr>
        <p:blipFill>
          <a:blip r:embed="rId1"/>
          <a:stretch/>
        </p:blipFill>
        <p:spPr>
          <a:xfrm>
            <a:off x="971640" y="1700280"/>
            <a:ext cx="3529080" cy="2089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1" descr="ft011"/>
          <p:cNvPicPr/>
          <p:nvPr/>
        </p:nvPicPr>
        <p:blipFill>
          <a:blip r:embed="rId2"/>
          <a:stretch/>
        </p:blipFill>
        <p:spPr>
          <a:xfrm>
            <a:off x="4788000" y="1773360"/>
            <a:ext cx="3384360" cy="2041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2" descr="P5270106"/>
          <p:cNvPicPr/>
          <p:nvPr/>
        </p:nvPicPr>
        <p:blipFill>
          <a:blip r:embed="rId3"/>
          <a:stretch/>
        </p:blipFill>
        <p:spPr>
          <a:xfrm>
            <a:off x="4788000" y="3933720"/>
            <a:ext cx="3384360" cy="2187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3" descr="P1070512"/>
          <p:cNvPicPr/>
          <p:nvPr/>
        </p:nvPicPr>
        <p:blipFill>
          <a:blip r:embed="rId4"/>
          <a:stretch/>
        </p:blipFill>
        <p:spPr>
          <a:xfrm>
            <a:off x="900000" y="4005360"/>
            <a:ext cx="36007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03T08:33:33Z</dcterms:created>
  <dc:creator>sony</dc:creator>
  <dc:description/>
  <dc:language>en-US</dc:language>
  <cp:lastModifiedBy>Пользователь Windows</cp:lastModifiedBy>
  <dcterms:modified xsi:type="dcterms:W3CDTF">2019-03-03T13:00:25Z</dcterms:modified>
  <cp:revision>18</cp:revision>
  <dc:subject/>
  <dc:title>Урок русского языка в 5 классе</dc:title>
</cp:coreProperties>
</file>