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22.png" ContentType="image/png"/>
  <Override PartName="/ppt/media/image21.wmf" ContentType="image/x-wmf"/>
  <Override PartName="/ppt/media/image1.jpeg" ContentType="image/jpeg"/>
  <Override PartName="/ppt/media/image20.jpeg" ContentType="image/jpeg"/>
  <Override PartName="/ppt/media/image17.png" ContentType="image/png"/>
  <Override PartName="/ppt/media/image4.jpeg" ContentType="image/jpeg"/>
  <Override PartName="/ppt/media/image5.jpeg" ContentType="image/jpeg"/>
  <Override PartName="/ppt/media/image18.wmf" ContentType="image/x-wmf"/>
  <Override PartName="/ppt/media/image19.png" ContentType="image/png"/>
  <Override PartName="/ppt/media/image16.gif" ContentType="image/gif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E68C4-B140-44F2-9C56-E8FD5C03E6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0BA57-C15A-4ACE-BA0B-69CBC8DCC6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49429-8E9B-45BA-884C-BDB2C1B7F5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27142-DBBD-4724-A80F-6CA2E0C128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05C-3EA3-4CC2-80F0-4CB11B8C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90D-95D0-43D6-AE1F-1FA4EC69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E2F-EBB9-4732-B4DA-86729769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CE5-01EE-44D4-9144-FF0768BD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770-2596-458C-8318-4F39CB42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61D-DFB5-437F-8F0D-EDCB6281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83D-A7B7-4EDF-AC1F-927CF584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59F-B54B-4DF5-A34F-5B4F8421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B73-3CF0-4888-9B11-A312EA1C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C97-796E-4352-8DFF-F94F1AEF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1B1-1326-4E2D-AEF1-68572374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4B9-94CC-4D91-9AFD-08723C25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3C340-A5AA-4B32-B4D5-E356F57C66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016000" y="205092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 rot="371400">
            <a:off x="2303280" y="3203640"/>
            <a:ext cx="5689440" cy="39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такая прекрасна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 такая опас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50" name="Picture 4" descr="18"/>
          <p:cNvPicPr/>
          <p:nvPr/>
        </p:nvPicPr>
        <p:blipFill>
          <a:blip r:embed="rId2"/>
          <a:stretch/>
        </p:blipFill>
        <p:spPr>
          <a:xfrm>
            <a:off x="6048360" y="5651640"/>
            <a:ext cx="1905120" cy="165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Г БОУ «Вяземская школа – интернат для обучающихся с ОВЗ»</a:t>
            </a:r>
            <a:br>
              <a:rPr sz="2000"/>
            </a:br>
            <a:br>
              <a:rPr sz="2000"/>
            </a:b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есе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7960"/>
            <a:ext cx="9069480" cy="553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Доро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75308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ной начинается активное движение транспорта. В селе мотоциклы водят школьники, не имеющие прав и навыка вождения. Нужно быть особенно внимательным при приближении к дороге, соблюдать правила дорожного движения. Играть на проезжей части строго запрещ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6"/>
          <p:cNvPicPr/>
          <p:nvPr/>
        </p:nvPicPr>
        <p:blipFill>
          <a:blip r:embed="rId1"/>
          <a:stretch/>
        </p:blipFill>
        <p:spPr>
          <a:xfrm>
            <a:off x="5472000" y="1187280"/>
            <a:ext cx="4027680" cy="244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45"/>
          <p:cNvPicPr/>
          <p:nvPr/>
        </p:nvPicPr>
        <p:blipFill>
          <a:blip r:embed="rId2"/>
          <a:stretch/>
        </p:blipFill>
        <p:spPr>
          <a:xfrm>
            <a:off x="4608360" y="3635280"/>
            <a:ext cx="4969080" cy="215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"/>
          <p:cNvPicPr/>
          <p:nvPr/>
        </p:nvPicPr>
        <p:blipFill>
          <a:blip r:embed="rId3"/>
          <a:stretch/>
        </p:blipFill>
        <p:spPr>
          <a:xfrm>
            <a:off x="8132760" y="5219640"/>
            <a:ext cx="1593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елосип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осипед не игрушка, а средство передвижения. Ездить на велосипеде по проезжей части можно только с 14 лет. А пока вы маленькие, кататься можно только на поляне у дома или там, где нет движения транс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7"/>
          <p:cNvPicPr/>
          <p:nvPr/>
        </p:nvPicPr>
        <p:blipFill>
          <a:blip r:embed="rId1"/>
          <a:stretch/>
        </p:blipFill>
        <p:spPr>
          <a:xfrm>
            <a:off x="5832360" y="3348000"/>
            <a:ext cx="3095640" cy="3665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16"/>
          <p:cNvPicPr/>
          <p:nvPr/>
        </p:nvPicPr>
        <p:blipFill>
          <a:blip r:embed="rId2"/>
          <a:stretch/>
        </p:blipFill>
        <p:spPr>
          <a:xfrm>
            <a:off x="5327640" y="755640"/>
            <a:ext cx="431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S6001399"/>
          <p:cNvPicPr/>
          <p:nvPr/>
        </p:nvPicPr>
        <p:blipFill>
          <a:blip r:embed="rId1"/>
          <a:stretch/>
        </p:blipFill>
        <p:spPr>
          <a:xfrm>
            <a:off x="360360" y="755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360360" y="6372360"/>
            <a:ext cx="921708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Спасибо за бесед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00" y="3564000"/>
            <a:ext cx="85680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2000" y="826560"/>
            <a:ext cx="85680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омните об опасностях, подстерегающих нас в солнечные весенние день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4465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Вес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13440" y="395280"/>
            <a:ext cx="468000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тупила весна. На улице стало тепло, после суровой и холодной зимы хочется больше времени проводить на свежем воздухе. Но на улице нас подстерегает множество опасностей. Чтобы избежать беды мы сегодня поговорим, как предотвратить не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S6000816"/>
          <p:cNvPicPr/>
          <p:nvPr/>
        </p:nvPicPr>
        <p:blipFill>
          <a:blip r:embed="rId1"/>
          <a:stretch/>
        </p:blipFill>
        <p:spPr>
          <a:xfrm>
            <a:off x="647640" y="1332000"/>
            <a:ext cx="432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Тонкий лё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ркое солнышко согрело лёд и сделало его очень тонким. Нельзя выходить на лёд, кататься на коньках, рыбачить на льду, нельзя переходить реку по плывущим льд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S6000813"/>
          <p:cNvPicPr/>
          <p:nvPr/>
        </p:nvPicPr>
        <p:blipFill>
          <a:blip r:embed="rId1"/>
          <a:stretch/>
        </p:blipFill>
        <p:spPr>
          <a:xfrm>
            <a:off x="5040360" y="1403280"/>
            <a:ext cx="4746600" cy="3560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tixi-dlya-detej-bezopasnost-na-ldu-3"/>
          <p:cNvPicPr/>
          <p:nvPr/>
        </p:nvPicPr>
        <p:blipFill>
          <a:blip r:embed="rId2"/>
          <a:stretch/>
        </p:blipFill>
        <p:spPr>
          <a:xfrm>
            <a:off x="5040360" y="5003640"/>
            <a:ext cx="1549440" cy="2233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tixi-dlya-detej-bezopasnost-na-ldu-1"/>
          <p:cNvPicPr/>
          <p:nvPr/>
        </p:nvPicPr>
        <p:blipFill>
          <a:blip r:embed="rId3"/>
          <a:stretch/>
        </p:blipFill>
        <p:spPr>
          <a:xfrm>
            <a:off x="6624720" y="5003640"/>
            <a:ext cx="3168720" cy="21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суль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13080" y="1403280"/>
            <a:ext cx="44593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ет снег на крышах домов, образуются огромные ледяные сосульки. Нельзя приближаться близко к таким местам, в любую минуту сосулька может упасть прямо на вас. Дома нужно попросить родителей, чтобы они убрали сосульки у входа, иначе придёт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6007161"/>
          <p:cNvPicPr/>
          <p:nvPr/>
        </p:nvPicPr>
        <p:blipFill>
          <a:blip r:embed="rId1"/>
          <a:stretch/>
        </p:blipFill>
        <p:spPr>
          <a:xfrm>
            <a:off x="503280" y="147636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 Black"/>
              </a:rPr>
              <a:t>Обвалы бере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68360" y="1476360"/>
            <a:ext cx="460404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га реки Чарыш во многих местах крутые, высокие, обрывистые. Промёрзшая за зиму земля даёт глубокие трещины, поэтому если подойти близко к берегу можно легко обвалиться и упасть в в ледяную воду. Весной ходить на берег реки без сопровождения взрослых нельз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PM_A0035"/>
          <p:cNvPicPr/>
          <p:nvPr/>
        </p:nvPicPr>
        <p:blipFill>
          <a:blip r:embed="rId1"/>
          <a:stretch/>
        </p:blipFill>
        <p:spPr>
          <a:xfrm>
            <a:off x="576360" y="140328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Половод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13080" y="1402920"/>
            <a:ext cx="44593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чинает таять снег и уровень воды в реке Чарыш  и её протоках резко повышается. Нельзя пытаться перебродить через воду, нельзя плавать одним без взрослых на лодке или самодельных плотах, нельзя близко приближаться к бер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6001410"/>
          <p:cNvPicPr/>
          <p:nvPr/>
        </p:nvPicPr>
        <p:blipFill>
          <a:blip r:embed="rId1"/>
          <a:stretch/>
        </p:blipFill>
        <p:spPr>
          <a:xfrm>
            <a:off x="503280" y="1332000"/>
            <a:ext cx="4375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892980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Луж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403280"/>
            <a:ext cx="46083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 улицах села разливаются огромные лужи. Вода в них очень холодная. Пуская кораблики, кидая камушки, просто играя рядом с водой, можно легко простудиться и заболеть. Лужи – не место для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6001400"/>
          <p:cNvPicPr/>
          <p:nvPr/>
        </p:nvPicPr>
        <p:blipFill>
          <a:blip r:embed="rId1"/>
          <a:stretch/>
        </p:blipFill>
        <p:spPr>
          <a:xfrm>
            <a:off x="5400720" y="1403280"/>
            <a:ext cx="43448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лн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0360" y="1476360"/>
            <a:ext cx="45324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ркое весеннее солнце обманчиво. Во-первых, нельзя выходить на улицу без головного убора – можно получить солнечный удар. Во-вторых, не следует думать, что уже тепло, и выходить легко одетым. Земля ещё недостаточно прогрелась, весенний ветер холодный, можно простудиться и забол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6007473"/>
          <p:cNvPicPr/>
          <p:nvPr/>
        </p:nvPicPr>
        <p:blipFill>
          <a:blip r:embed="rId1"/>
          <a:stretch/>
        </p:blipFill>
        <p:spPr>
          <a:xfrm>
            <a:off x="287280" y="1476360"/>
            <a:ext cx="446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Ого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331640"/>
            <a:ext cx="4681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люди начинают убирать территорию у домов, жечь костры. Это строго запрещено! Никогда не разводите костры сами и предупредите взрослых, что этого делать нельзя. Высока опасность пожаров, может загореться дом и вы сами можете пострадать от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0011-028-Ne-razzhigaj-kostjor-v-lesu-bez-vzroslykh"/>
          <p:cNvPicPr/>
          <p:nvPr/>
        </p:nvPicPr>
        <p:blipFill>
          <a:blip r:embed="rId1"/>
          <a:stretch/>
        </p:blipFill>
        <p:spPr>
          <a:xfrm>
            <a:off x="5327640" y="1403280"/>
            <a:ext cx="4388040" cy="292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19"/>
          <p:cNvPicPr/>
          <p:nvPr/>
        </p:nvPicPr>
        <p:blipFill>
          <a:blip r:embed="rId2"/>
          <a:stretch/>
        </p:blipFill>
        <p:spPr>
          <a:xfrm>
            <a:off x="5184720" y="1332000"/>
            <a:ext cx="825480" cy="780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1"/>
          <p:cNvPicPr/>
          <p:nvPr/>
        </p:nvPicPr>
        <p:blipFill>
          <a:blip r:embed="rId3"/>
          <a:stretch/>
        </p:blipFill>
        <p:spPr>
          <a:xfrm>
            <a:off x="5545080" y="4500720"/>
            <a:ext cx="1247760" cy="2469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7"/>
          <p:cNvPicPr/>
          <p:nvPr/>
        </p:nvPicPr>
        <p:blipFill>
          <a:blip r:embed="rId4"/>
          <a:stretch/>
        </p:blipFill>
        <p:spPr>
          <a:xfrm>
            <a:off x="7704000" y="313200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7"/>
          <p:cNvPicPr/>
          <p:nvPr/>
        </p:nvPicPr>
        <p:blipFill>
          <a:blip r:embed="rId5"/>
          <a:stretch/>
        </p:blipFill>
        <p:spPr>
          <a:xfrm>
            <a:off x="7056360" y="262728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7"/>
          <p:cNvPicPr/>
          <p:nvPr/>
        </p:nvPicPr>
        <p:blipFill>
          <a:blip r:embed="rId6"/>
          <a:stretch/>
        </p:blipFill>
        <p:spPr>
          <a:xfrm>
            <a:off x="7345440" y="3059280"/>
            <a:ext cx="428400" cy="74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25"/>
          <p:cNvPicPr/>
          <p:nvPr/>
        </p:nvPicPr>
        <p:blipFill>
          <a:blip r:embed="rId7"/>
          <a:stretch/>
        </p:blipFill>
        <p:spPr>
          <a:xfrm>
            <a:off x="6840360" y="4500720"/>
            <a:ext cx="28702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2:30:36Z</dcterms:created>
  <dc:creator>Администратор</dc:creator>
  <dc:description/>
  <dc:language>en-US</dc:language>
  <cp:lastModifiedBy>Admin</cp:lastModifiedBy>
  <dcterms:modified xsi:type="dcterms:W3CDTF">2019-05-12T16:38:42Z</dcterms:modified>
  <cp:revision>23</cp:revision>
  <dc:subject/>
  <dc:title>Слайд 1</dc:title>
</cp:coreProperties>
</file>