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22.png" ContentType="image/png"/>
  <Override PartName="/ppt/media/image21.wmf" ContentType="image/x-wmf"/>
  <Override PartName="/ppt/media/image1.jpeg" ContentType="image/jpeg"/>
  <Override PartName="/ppt/media/image20.jpeg" ContentType="image/jpeg"/>
  <Override PartName="/ppt/media/image17.png" ContentType="image/png"/>
  <Override PartName="/ppt/media/image4.jpeg" ContentType="image/jpeg"/>
  <Override PartName="/ppt/media/image5.jpeg" ContentType="image/jpeg"/>
  <Override PartName="/ppt/media/image18.wmf" ContentType="image/x-wmf"/>
  <Override PartName="/ppt/media/image19.png" ContentType="image/png"/>
  <Override PartName="/ppt/media/image16.gif" ContentType="image/gif"/>
  <Override PartName="/ppt/media/image14.png" ContentType="image/png"/>
  <Override PartName="/ppt/media/image23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A6EBB-CF91-45DF-824C-F94854CDDE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9D080-F87F-4B3B-990B-B56B3EBED0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EDCF4-4306-424E-957D-6A183E10E1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0BFE0-A264-4637-8028-29605DAC4F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1075-0499-43DE-ACF5-02B82D1E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90C4-BAD5-4A33-8418-03EEEDEA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CC3E-4E36-404C-BE2D-183B6CF9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BCBD-1717-4D2B-B40D-93A97DDC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97D3-5256-40A2-8DA8-4A0BD304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DDE-1330-48C6-8C57-8D747FFF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8E65-378F-4BE6-A615-038B5B06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336F-2DD4-4CE3-B845-D5340A58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746-E6A2-4A03-82F2-30257B73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6731-1C96-472D-8A84-53834AFE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B3D0-7CB3-4729-8A80-0535EDAA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3FB-572E-426D-B820-B309C3E1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E69A3-FB63-4AE6-8F40-292952DAE1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016000" y="2050920"/>
            <a:ext cx="612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ВЕС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 rot="371400">
            <a:off x="2303280" y="3203640"/>
            <a:ext cx="5689440" cy="39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такая прекрасна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и такая опас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pic>
        <p:nvPicPr>
          <p:cNvPr id="50" name="Picture 4" descr="18"/>
          <p:cNvPicPr/>
          <p:nvPr/>
        </p:nvPicPr>
        <p:blipFill>
          <a:blip r:embed="rId2"/>
          <a:stretch/>
        </p:blipFill>
        <p:spPr>
          <a:xfrm>
            <a:off x="6048360" y="5651640"/>
            <a:ext cx="1905120" cy="1650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Г БОУ «Вяземская школа – интернат для обучающихся с ОВЗ»</a:t>
            </a:r>
            <a:br>
              <a:rPr sz="2000"/>
            </a:br>
            <a:br>
              <a:rPr sz="2000"/>
            </a:b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Бесе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2920" y="1767960"/>
            <a:ext cx="9069480" cy="553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Дорог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753080" cy="539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сной начинается активное движение транспорта. В селе мотоциклы водят школьники, не имеющие прав и навыка вождения. Нужно быть особенно внимательным при приближении к дороге, соблюдать правила дорожного движения. Играть на проезжей части строго запрещ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6"/>
          <p:cNvPicPr/>
          <p:nvPr/>
        </p:nvPicPr>
        <p:blipFill>
          <a:blip r:embed="rId1"/>
          <a:stretch/>
        </p:blipFill>
        <p:spPr>
          <a:xfrm>
            <a:off x="5472000" y="1187280"/>
            <a:ext cx="4027680" cy="2443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45"/>
          <p:cNvPicPr/>
          <p:nvPr/>
        </p:nvPicPr>
        <p:blipFill>
          <a:blip r:embed="rId2"/>
          <a:stretch/>
        </p:blipFill>
        <p:spPr>
          <a:xfrm>
            <a:off x="4608360" y="3635280"/>
            <a:ext cx="4969080" cy="2154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1"/>
          <p:cNvPicPr/>
          <p:nvPr/>
        </p:nvPicPr>
        <p:blipFill>
          <a:blip r:embed="rId3"/>
          <a:stretch/>
        </p:blipFill>
        <p:spPr>
          <a:xfrm>
            <a:off x="8132760" y="5219640"/>
            <a:ext cx="15937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Велосипе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лосипед не игрушка, а средство передвижения. Ездить на велосипеде по проезжей части можно только с 14 лет. А пока вы маленькие, кататься можно только на поляне у дома или там, где нет движения транспор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7"/>
          <p:cNvPicPr/>
          <p:nvPr/>
        </p:nvPicPr>
        <p:blipFill>
          <a:blip r:embed="rId1"/>
          <a:stretch/>
        </p:blipFill>
        <p:spPr>
          <a:xfrm>
            <a:off x="5832360" y="3348000"/>
            <a:ext cx="3095640" cy="3665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16"/>
          <p:cNvPicPr/>
          <p:nvPr/>
        </p:nvPicPr>
        <p:blipFill>
          <a:blip r:embed="rId2"/>
          <a:stretch/>
        </p:blipFill>
        <p:spPr>
          <a:xfrm>
            <a:off x="5327640" y="755640"/>
            <a:ext cx="4319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S6001399"/>
          <p:cNvPicPr/>
          <p:nvPr/>
        </p:nvPicPr>
        <p:blipFill>
          <a:blip r:embed="rId1"/>
          <a:stretch/>
        </p:blipFill>
        <p:spPr>
          <a:xfrm>
            <a:off x="360360" y="755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95" name="WordArt 6"/>
          <p:cNvSpPr txBox="1"/>
          <p:nvPr/>
        </p:nvSpPr>
        <p:spPr>
          <a:xfrm>
            <a:off x="360360" y="6372360"/>
            <a:ext cx="921708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Спасибо за бесед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2000" y="3564000"/>
            <a:ext cx="856800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2000" y="826560"/>
            <a:ext cx="856800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b">
            <a:norm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омните об опасностях, подстерегающих нас в солнечные весенние деньк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4465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Вес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13440" y="395280"/>
            <a:ext cx="4680000" cy="662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ступила весна. На улице стало тепло, после суровой и холодной зимы хочется больше времени проводить на свежем воздухе. Но на улице нас подстерегает множество опасностей. Чтобы избежать беды мы сегодня поговорим, как предотвратить несчаст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S6000816"/>
          <p:cNvPicPr/>
          <p:nvPr/>
        </p:nvPicPr>
        <p:blipFill>
          <a:blip r:embed="rId1"/>
          <a:stretch/>
        </p:blipFill>
        <p:spPr>
          <a:xfrm>
            <a:off x="647640" y="1332000"/>
            <a:ext cx="4321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Тонкий лё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ркое солнышко согрело лёд и сделало его очень тонким. Нельзя выходить на лёд, кататься на коньках, рыбачить на льду, нельзя переходить реку по плывущим льди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S6000813"/>
          <p:cNvPicPr/>
          <p:nvPr/>
        </p:nvPicPr>
        <p:blipFill>
          <a:blip r:embed="rId1"/>
          <a:stretch/>
        </p:blipFill>
        <p:spPr>
          <a:xfrm>
            <a:off x="5040360" y="1403280"/>
            <a:ext cx="4746600" cy="3560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stixi-dlya-detej-bezopasnost-na-ldu-3"/>
          <p:cNvPicPr/>
          <p:nvPr/>
        </p:nvPicPr>
        <p:blipFill>
          <a:blip r:embed="rId2"/>
          <a:stretch/>
        </p:blipFill>
        <p:spPr>
          <a:xfrm>
            <a:off x="5040360" y="5003640"/>
            <a:ext cx="1549440" cy="2233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stixi-dlya-detej-bezopasnost-na-ldu-1"/>
          <p:cNvPicPr/>
          <p:nvPr/>
        </p:nvPicPr>
        <p:blipFill>
          <a:blip r:embed="rId3"/>
          <a:stretch/>
        </p:blipFill>
        <p:spPr>
          <a:xfrm>
            <a:off x="6624720" y="5003640"/>
            <a:ext cx="3168720" cy="21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осульк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13080" y="1403280"/>
            <a:ext cx="445932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ет снег на крышах домов, образуются огромные ледяные сосульки. Нельзя приближаться близко к таким местам, в любую минуту сосулька может упасть прямо на вас. Дома нужно попросить родителей, чтобы они убрали сосульки у входа, иначе придёт б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S6007161"/>
          <p:cNvPicPr/>
          <p:nvPr/>
        </p:nvPicPr>
        <p:blipFill>
          <a:blip r:embed="rId1"/>
          <a:stretch/>
        </p:blipFill>
        <p:spPr>
          <a:xfrm>
            <a:off x="503280" y="1476360"/>
            <a:ext cx="4213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Arial Black"/>
              </a:rPr>
              <a:t>Обвалы бере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68360" y="1476360"/>
            <a:ext cx="460404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рега реки Чарыш во многих местах крутые, высокие, обрывистые. Промёрзшая за зиму земля даёт глубокие трещины, поэтому если подойти близко к берегу можно легко обвалиться и упасть в в ледяную воду. Весной ходить на берег реки без сопровождения взрослых нельз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SPM_A0035"/>
          <p:cNvPicPr/>
          <p:nvPr/>
        </p:nvPicPr>
        <p:blipFill>
          <a:blip r:embed="rId1"/>
          <a:stretch/>
        </p:blipFill>
        <p:spPr>
          <a:xfrm>
            <a:off x="576360" y="1403280"/>
            <a:ext cx="42130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Половодь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13080" y="1402920"/>
            <a:ext cx="44593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сной начинает таять снег и уровень воды в реке Чарыш  и её протоках резко повышается. Нельзя пытаться перебродить через воду, нельзя плавать одним без взрослых на лодке или самодельных плотах, нельзя близко приближаться к бере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S6001410"/>
          <p:cNvPicPr/>
          <p:nvPr/>
        </p:nvPicPr>
        <p:blipFill>
          <a:blip r:embed="rId1"/>
          <a:stretch/>
        </p:blipFill>
        <p:spPr>
          <a:xfrm>
            <a:off x="503280" y="1332000"/>
            <a:ext cx="4375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892980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Луж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403280"/>
            <a:ext cx="460836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сной на улицах села разливаются огромные лужи. Вода в них очень холодная. Пуская кораблики, кидая камушки, просто играя рядом с водой, можно легко простудиться и заболеть. Лужи – не место для иг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6001400"/>
          <p:cNvPicPr/>
          <p:nvPr/>
        </p:nvPicPr>
        <p:blipFill>
          <a:blip r:embed="rId1"/>
          <a:stretch/>
        </p:blipFill>
        <p:spPr>
          <a:xfrm>
            <a:off x="5400720" y="1403280"/>
            <a:ext cx="43448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олнц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0360" y="1476360"/>
            <a:ext cx="453240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ркое весеннее солнце обманчиво. Во-первых, нельзя выходить на улицу без головного убора – можно получить солнечный удар. Во-вторых, не следует думать, что уже тепло, и выходить легко одетым. Земля ещё недостаточно прогрелась, весенний ветер холодный, можно простудиться и забол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6007473"/>
          <p:cNvPicPr/>
          <p:nvPr/>
        </p:nvPicPr>
        <p:blipFill>
          <a:blip r:embed="rId1"/>
          <a:stretch/>
        </p:blipFill>
        <p:spPr>
          <a:xfrm>
            <a:off x="287280" y="1476360"/>
            <a:ext cx="4465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Ого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331640"/>
            <a:ext cx="468144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сной люди начинают убирать территорию у домов, жечь костры. Это строго запрещено! Никогда не разводите костры сами и предупредите взрослых, что этого делать нельзя. Высока опасность пожаров, может загореться дом и вы сами можете пострадать от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0011-028-Ne-razzhigaj-kostjor-v-lesu-bez-vzroslykh"/>
          <p:cNvPicPr/>
          <p:nvPr/>
        </p:nvPicPr>
        <p:blipFill>
          <a:blip r:embed="rId1"/>
          <a:stretch/>
        </p:blipFill>
        <p:spPr>
          <a:xfrm>
            <a:off x="5327640" y="1403280"/>
            <a:ext cx="4388040" cy="2927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119"/>
          <p:cNvPicPr/>
          <p:nvPr/>
        </p:nvPicPr>
        <p:blipFill>
          <a:blip r:embed="rId2"/>
          <a:stretch/>
        </p:blipFill>
        <p:spPr>
          <a:xfrm>
            <a:off x="5184720" y="1332000"/>
            <a:ext cx="825480" cy="780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1"/>
          <p:cNvPicPr/>
          <p:nvPr/>
        </p:nvPicPr>
        <p:blipFill>
          <a:blip r:embed="rId3"/>
          <a:stretch/>
        </p:blipFill>
        <p:spPr>
          <a:xfrm>
            <a:off x="5545080" y="4500720"/>
            <a:ext cx="1247760" cy="2469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7"/>
          <p:cNvPicPr/>
          <p:nvPr/>
        </p:nvPicPr>
        <p:blipFill>
          <a:blip r:embed="rId4"/>
          <a:stretch/>
        </p:blipFill>
        <p:spPr>
          <a:xfrm>
            <a:off x="7704000" y="3132000"/>
            <a:ext cx="428760" cy="743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7"/>
          <p:cNvPicPr/>
          <p:nvPr/>
        </p:nvPicPr>
        <p:blipFill>
          <a:blip r:embed="rId5"/>
          <a:stretch/>
        </p:blipFill>
        <p:spPr>
          <a:xfrm>
            <a:off x="7056360" y="2627280"/>
            <a:ext cx="428760" cy="743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7"/>
          <p:cNvPicPr/>
          <p:nvPr/>
        </p:nvPicPr>
        <p:blipFill>
          <a:blip r:embed="rId6"/>
          <a:stretch/>
        </p:blipFill>
        <p:spPr>
          <a:xfrm>
            <a:off x="7345440" y="3059280"/>
            <a:ext cx="428400" cy="742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8" descr="25"/>
          <p:cNvPicPr/>
          <p:nvPr/>
        </p:nvPicPr>
        <p:blipFill>
          <a:blip r:embed="rId7"/>
          <a:stretch/>
        </p:blipFill>
        <p:spPr>
          <a:xfrm>
            <a:off x="6840360" y="4500720"/>
            <a:ext cx="287028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2:30:36Z</dcterms:created>
  <dc:creator>Администратор</dc:creator>
  <dc:description/>
  <dc:language>en-US</dc:language>
  <cp:lastModifiedBy>Admin</cp:lastModifiedBy>
  <dcterms:modified xsi:type="dcterms:W3CDTF">2019-05-12T16:38:42Z</dcterms:modified>
  <cp:revision>23</cp:revision>
  <dc:subject/>
  <dc:title>Слайд 1</dc:title>
</cp:coreProperties>
</file>