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hdphoto1.wdp" ContentType="image/vnd.ms-photo"/>
  <Override PartName="/ppt/media/image8.png" ContentType="image/png"/>
  <Override PartName="/ppt/media/image5.png" ContentType="image/png"/>
  <Override PartName="/ppt/media/image6.png" ContentType="image/png"/>
  <Override PartName="/ppt/media/hdphoto2.wdp" ContentType="image/vnd.ms-photo"/>
  <Override PartName="/ppt/media/image7.png" ContentType="image/png"/>
  <Override PartName="/ppt/media/hdphoto3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ходной мониторинг</c:v>
                </c:pt>
              </c:strCache>
            </c:strRef>
          </c:tx>
          <c:spPr>
            <a:gradFill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5</c:v>
                </c:pt>
                <c:pt idx="1">
                  <c:v>0.5</c:v>
                </c:pt>
                <c:pt idx="2">
                  <c:v>0.43</c:v>
                </c:pt>
                <c:pt idx="3">
                  <c:v>0.7</c:v>
                </c:pt>
                <c:pt idx="4">
                  <c:v>0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2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1</c:v>
                </c:pt>
              </c:strCache>
            </c:strRef>
          </c:tx>
          <c:spPr>
            <a:gradFill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</c:numCache>
            </c:numRef>
          </c:val>
        </c:ser>
        <c:gapWidth val="150"/>
        <c:overlap val="0"/>
        <c:axId val="61040824"/>
        <c:axId val="54690634"/>
      </c:barChart>
      <c:catAx>
        <c:axId val="6104082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690634"/>
        <c:crosses val="autoZero"/>
        <c:auto val="1"/>
        <c:lblAlgn val="ctr"/>
        <c:lblOffset val="100"/>
        <c:noMultiLvlLbl val="0"/>
      </c:catAx>
      <c:valAx>
        <c:axId val="5469063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040824"/>
        <c:crosses val="autoZero"/>
        <c:crossBetween val="between"/>
      </c:valAx>
      <c:spPr>
        <a:noFill/>
        <a:ln w="0">
          <a:noFill/>
        </a:ln>
      </c:spPr>
    </c:plotArea>
    <c:legend>
      <c:legendPos val="r"/>
      <c:legendEntry>
        <c:idx val="1"/>
        <c:delete val="1"/>
      </c:legendEntry>
      <c:legendEntry>
        <c:idx val="2"/>
        <c:delete val="1"/>
      </c:legendEntry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ходной</c:v>
                </c:pt>
              </c:strCache>
            </c:strRef>
          </c:tx>
          <c:spPr>
            <a:gradFill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5</c:v>
                </c:pt>
                <c:pt idx="1">
                  <c:v>0.5</c:v>
                </c:pt>
                <c:pt idx="2">
                  <c:v>0.43</c:v>
                </c:pt>
                <c:pt idx="3">
                  <c:v>0.7</c:v>
                </c:pt>
                <c:pt idx="4">
                  <c:v>0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Итоговый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65</c:v>
                </c:pt>
                <c:pt idx="1">
                  <c:v>0.72</c:v>
                </c:pt>
                <c:pt idx="2">
                  <c:v>0.8</c:v>
                </c:pt>
                <c:pt idx="3">
                  <c:v>0.9</c:v>
                </c:pt>
                <c:pt idx="4">
                  <c:v>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1</c:v>
                </c:pt>
              </c:strCache>
            </c:strRef>
          </c:tx>
          <c:spPr>
            <a:gradFill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</c:numCache>
            </c:numRef>
          </c:val>
        </c:ser>
        <c:gapWidth val="150"/>
        <c:overlap val="0"/>
        <c:axId val="12895125"/>
        <c:axId val="12434645"/>
      </c:barChart>
      <c:catAx>
        <c:axId val="1289512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434645"/>
        <c:crosses val="autoZero"/>
        <c:auto val="1"/>
        <c:lblAlgn val="ctr"/>
        <c:lblOffset val="100"/>
        <c:noMultiLvlLbl val="0"/>
      </c:catAx>
      <c:valAx>
        <c:axId val="1243464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895125"/>
        <c:crosses val="autoZero"/>
        <c:crossBetween val="between"/>
      </c:valAx>
      <c:spPr>
        <a:noFill/>
        <a:ln w="0">
          <a:noFill/>
        </a:ln>
      </c:spPr>
    </c:plotArea>
    <c:legend>
      <c:legendPos val="r"/>
      <c:legendEntry>
        <c:idx val="2"/>
        <c:delete val="1"/>
      </c:legendEntry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E7BF61F-5074-477D-A65D-E6054321FDB1}" type="doc">
      <dgm:prSet loTypeId="urn:microsoft.com/office/officeart/2005/8/layout/radial6" loCatId="cycle" qsTypeId="urn:microsoft.com/office/officeart/2005/8/quickstyle/3d1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7376E602-D49B-45C4-B7F1-CF3E8EBBE0B1}">
      <dgm:prSet phldrT="[Текст]"/>
      <dgm:spPr/>
      <dgm:t>
        <a:bodyPr/>
        <a:lstStyle/>
        <a:p>
          <a:r>
            <a:rPr lang="ru-RU" b="0" cap="none" spc="0" dirty="0" err="1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Georgia" pitchFamily="18" charset="0"/>
            </a:rPr>
            <a:t>ТРИЗ-технологии</a:t>
          </a:r>
          <a:endParaRPr lang="ru-RU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Georgia" pitchFamily="18" charset="0"/>
          </a:endParaRPr>
        </a:p>
      </dgm:t>
    </dgm:pt>
    <dgm:pt modelId="{33C304EE-970D-4054-8C07-8F4E7F23E36D}" type="parTrans" cxnId="{E5F245ED-B1CE-4C46-903A-D88B081EE0B0}">
      <dgm:prSet/>
      <dgm:spPr/>
      <dgm:t>
        <a:bodyPr/>
        <a:lstStyle/>
        <a:p>
          <a:endParaRPr lang="ru-RU"/>
        </a:p>
      </dgm:t>
    </dgm:pt>
    <dgm:pt modelId="{94821557-0DCA-4648-98F5-ED6062DC4DDB}" type="sibTrans" cxnId="{E5F245ED-B1CE-4C46-903A-D88B081EE0B0}">
      <dgm:prSet/>
      <dgm:spPr/>
      <dgm:t>
        <a:bodyPr/>
        <a:lstStyle/>
        <a:p>
          <a:endParaRPr lang="ru-RU"/>
        </a:p>
      </dgm:t>
    </dgm:pt>
    <dgm:pt modelId="{4F3B1658-9A37-4580-85CA-BEFF3E86352C}">
      <dgm:prSet phldrT="[Текст]"/>
      <dgm:spPr/>
      <dgm:t>
        <a:bodyPr/>
        <a:lstStyle/>
        <a:p>
          <a:r>
            <a:rPr lang="ru-RU" dirty="0" smtClean="0">
              <a:latin typeface="Georgia" pitchFamily="18" charset="0"/>
            </a:rPr>
            <a:t>ФГОС</a:t>
          </a:r>
          <a:endParaRPr lang="ru-RU" dirty="0">
            <a:latin typeface="Georgia" pitchFamily="18" charset="0"/>
          </a:endParaRPr>
        </a:p>
      </dgm:t>
    </dgm:pt>
    <dgm:pt modelId="{07A7BC64-9E09-4CE5-AD1F-0E405DFB4203}" type="parTrans" cxnId="{85C1300F-048F-41CC-8107-13BB442F7EE1}">
      <dgm:prSet/>
      <dgm:spPr/>
      <dgm:t>
        <a:bodyPr/>
        <a:lstStyle/>
        <a:p>
          <a:endParaRPr lang="ru-RU"/>
        </a:p>
      </dgm:t>
    </dgm:pt>
    <dgm:pt modelId="{55D19099-0AD5-4E7C-862E-89F3564A6155}" type="sibTrans" cxnId="{85C1300F-048F-41CC-8107-13BB442F7EE1}">
      <dgm:prSet/>
      <dgm:spPr/>
      <dgm:t>
        <a:bodyPr/>
        <a:lstStyle/>
        <a:p>
          <a:endParaRPr lang="ru-RU"/>
        </a:p>
      </dgm:t>
    </dgm:pt>
    <dgm:pt modelId="{75835EDF-4777-4443-A4C8-D0832BE6175B}">
      <dgm:prSet phldrT="[Текст]" custT="1"/>
      <dgm:spPr/>
      <dgm:t>
        <a:bodyPr/>
        <a:lstStyle/>
        <a:p>
          <a:r>
            <a:rPr lang="ru-RU" sz="2000" dirty="0" smtClean="0">
              <a:latin typeface="Georgia" pitchFamily="18" charset="0"/>
            </a:rPr>
            <a:t>Особенности детей</a:t>
          </a:r>
          <a:endParaRPr lang="ru-RU" sz="2000" dirty="0">
            <a:latin typeface="Georgia" pitchFamily="18" charset="0"/>
          </a:endParaRPr>
        </a:p>
      </dgm:t>
    </dgm:pt>
    <dgm:pt modelId="{8D396CC7-258C-4814-B5D8-5DAC669A3A54}" type="parTrans" cxnId="{E4E042A9-6A78-4149-86B9-78CC34EA967D}">
      <dgm:prSet/>
      <dgm:spPr/>
      <dgm:t>
        <a:bodyPr/>
        <a:lstStyle/>
        <a:p>
          <a:endParaRPr lang="ru-RU"/>
        </a:p>
      </dgm:t>
    </dgm:pt>
    <dgm:pt modelId="{FF8E5AF7-0342-4B30-8E65-8FF286580292}" type="sibTrans" cxnId="{E4E042A9-6A78-4149-86B9-78CC34EA967D}">
      <dgm:prSet/>
      <dgm:spPr/>
      <dgm:t>
        <a:bodyPr/>
        <a:lstStyle/>
        <a:p>
          <a:endParaRPr lang="ru-RU"/>
        </a:p>
      </dgm:t>
    </dgm:pt>
    <dgm:pt modelId="{FBFC6F20-94E1-48B0-9854-53E94EF25809}">
      <dgm:prSet phldrT="[Текст]" custT="1"/>
      <dgm:spPr/>
      <dgm:t>
        <a:bodyPr/>
        <a:lstStyle/>
        <a:p>
          <a:r>
            <a:rPr lang="ru-RU" sz="2000" dirty="0" smtClean="0">
              <a:latin typeface="Georgia" pitchFamily="18" charset="0"/>
            </a:rPr>
            <a:t>Программа </a:t>
          </a:r>
        </a:p>
        <a:p>
          <a:r>
            <a:rPr lang="ru-RU" sz="2000" dirty="0" smtClean="0">
              <a:latin typeface="Georgia" pitchFamily="18" charset="0"/>
            </a:rPr>
            <a:t>«От рождения до школы»</a:t>
          </a:r>
          <a:endParaRPr lang="ru-RU" sz="2000" dirty="0">
            <a:latin typeface="Georgia" pitchFamily="18" charset="0"/>
          </a:endParaRPr>
        </a:p>
      </dgm:t>
    </dgm:pt>
    <dgm:pt modelId="{013228F7-C8F1-4C99-9D9B-8CDC55946867}" type="parTrans" cxnId="{3E7DF92D-6F6F-4D06-A4CC-D97021CF3C95}">
      <dgm:prSet/>
      <dgm:spPr/>
      <dgm:t>
        <a:bodyPr/>
        <a:lstStyle/>
        <a:p>
          <a:endParaRPr lang="ru-RU"/>
        </a:p>
      </dgm:t>
    </dgm:pt>
    <dgm:pt modelId="{E9F42E06-7E92-49F0-A34D-4889AB2C1681}" type="sibTrans" cxnId="{3E7DF92D-6F6F-4D06-A4CC-D97021CF3C95}">
      <dgm:prSet/>
      <dgm:spPr/>
      <dgm:t>
        <a:bodyPr/>
        <a:lstStyle/>
        <a:p>
          <a:endParaRPr lang="ru-RU"/>
        </a:p>
      </dgm:t>
    </dgm:pt>
    <dgm:pt modelId="{E93EB432-3F62-4602-8F8D-A997D5C96E62}">
      <dgm:prSet phldrT="[Текст]" custT="1"/>
      <dgm:spPr/>
      <dgm:t>
        <a:bodyPr/>
        <a:lstStyle/>
        <a:p>
          <a:pPr>
            <a:lnSpc>
              <a:spcPct val="100000"/>
            </a:lnSpc>
          </a:pPr>
          <a:r>
            <a:rPr lang="ru-RU" sz="2000" dirty="0" smtClean="0">
              <a:latin typeface="Georgia" pitchFamily="18" charset="0"/>
              <a:ea typeface="GulimChe" pitchFamily="49" charset="-127"/>
            </a:rPr>
            <a:t>Социальная среда</a:t>
          </a:r>
          <a:endParaRPr lang="ru-RU" sz="2000" dirty="0">
            <a:latin typeface="Georgia" pitchFamily="18" charset="0"/>
            <a:ea typeface="GulimChe" pitchFamily="49" charset="-127"/>
          </a:endParaRPr>
        </a:p>
      </dgm:t>
    </dgm:pt>
    <dgm:pt modelId="{93F742A1-3FC5-4EF1-9E42-44CBAE2AD189}" type="parTrans" cxnId="{3960C93E-524D-4712-8024-6947E43CEB3D}">
      <dgm:prSet/>
      <dgm:spPr/>
      <dgm:t>
        <a:bodyPr/>
        <a:lstStyle/>
        <a:p>
          <a:endParaRPr lang="ru-RU"/>
        </a:p>
      </dgm:t>
    </dgm:pt>
    <dgm:pt modelId="{6B35DAF0-E74C-4AEC-97FD-EF5C33B8AAA0}" type="sibTrans" cxnId="{3960C93E-524D-4712-8024-6947E43CEB3D}">
      <dgm:prSet/>
      <dgm:spPr/>
      <dgm:t>
        <a:bodyPr/>
        <a:lstStyle/>
        <a:p>
          <a:endParaRPr lang="ru-RU"/>
        </a:p>
      </dgm:t>
    </dgm:pt>
    <dgm:pt modelId="{78FF1A03-1534-42A8-AE5B-DF26853DE0C6}" type="pres">
      <dgm:prSet presAssocID="{8E7BF61F-5074-477D-A65D-E6054321FDB1}" presName="Name0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9B4A1E-E87E-4BDF-8993-4FD2D4B91105}" type="pres">
      <dgm:prSet presAssocID="{7376E602-D49B-45C4-B7F1-CF3E8EBBE0B1}" presName="centerShape" presStyleLbl="node0" presStyleIdx="0" presStyleCnt="1"/>
      <dgm:spPr/>
      <dgm:t>
        <a:bodyPr/>
        <a:lstStyle/>
        <a:p>
          <a:endParaRPr lang="ru-RU"/>
        </a:p>
      </dgm:t>
    </dgm:pt>
    <dgm:pt modelId="{099902AC-45A3-4F66-8A42-173CF7179056}" type="pres">
      <dgm:prSet presAssocID="{4F3B1658-9A37-4580-85CA-BEFF3E86352C}" presName="node" presStyleLbl="node1" presStyleIdx="0" presStyleCnt="4" custScaleX="22280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841A4BD-D985-4575-A00C-6DC070589F6F}" type="pres">
      <dgm:prSet presAssocID="{4F3B1658-9A37-4580-85CA-BEFF3E86352C}" presName="dummy" presStyleCnt="0"/>
      <dgm:spPr/>
    </dgm:pt>
    <dgm:pt modelId="{7BD4DD3E-A0FD-4EE3-BED6-718D52CA5BDF}" type="pres">
      <dgm:prSet presAssocID="{55D19099-0AD5-4E7C-862E-89F3564A6155}" presName="sibTrans" presStyleLbl="sibTrans2D1" presStyleIdx="0" presStyleCnt="4"/>
      <dgm:spPr/>
      <dgm:t>
        <a:bodyPr/>
        <a:lstStyle/>
        <a:p>
          <a:endParaRPr lang="ru-RU"/>
        </a:p>
      </dgm:t>
    </dgm:pt>
    <dgm:pt modelId="{A5EC4A91-CE49-478C-AB80-943C87986065}" type="pres">
      <dgm:prSet presAssocID="{75835EDF-4777-4443-A4C8-D0832BE6175B}" presName="node" presStyleLbl="node1" presStyleIdx="1" presStyleCnt="4" custScaleX="175280" custScaleY="15001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3964F85-E478-4AD6-81A3-C24AEC27FFF1}" type="pres">
      <dgm:prSet presAssocID="{75835EDF-4777-4443-A4C8-D0832BE6175B}" presName="dummy" presStyleCnt="0"/>
      <dgm:spPr/>
    </dgm:pt>
    <dgm:pt modelId="{A9065DB2-44B9-4386-8477-679C4D02A774}" type="pres">
      <dgm:prSet presAssocID="{FF8E5AF7-0342-4B30-8E65-8FF286580292}" presName="sibTrans" presStyleLbl="sibTrans2D1" presStyleIdx="1" presStyleCnt="4"/>
      <dgm:spPr/>
      <dgm:t>
        <a:bodyPr/>
        <a:lstStyle/>
        <a:p>
          <a:endParaRPr lang="ru-RU"/>
        </a:p>
      </dgm:t>
    </dgm:pt>
    <dgm:pt modelId="{4DF73452-2D0E-4621-8E78-6D3C996D2CA1}" type="pres">
      <dgm:prSet presAssocID="{FBFC6F20-94E1-48B0-9854-53E94EF25809}" presName="node" presStyleLbl="node1" presStyleIdx="2" presStyleCnt="4" custScaleX="23366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3D10E00-BA8C-4873-9AC1-7380410B3BFC}" type="pres">
      <dgm:prSet presAssocID="{FBFC6F20-94E1-48B0-9854-53E94EF25809}" presName="dummy" presStyleCnt="0"/>
      <dgm:spPr/>
    </dgm:pt>
    <dgm:pt modelId="{7EF688B2-863F-46C8-BD75-C97F65AC5A04}" type="pres">
      <dgm:prSet presAssocID="{E9F42E06-7E92-49F0-A34D-4889AB2C1681}" presName="sibTrans" presStyleLbl="sibTrans2D1" presStyleIdx="2" presStyleCnt="4"/>
      <dgm:spPr/>
      <dgm:t>
        <a:bodyPr/>
        <a:lstStyle/>
        <a:p>
          <a:endParaRPr lang="ru-RU"/>
        </a:p>
      </dgm:t>
    </dgm:pt>
    <dgm:pt modelId="{9B301ACA-E071-43EA-8EB9-A8CF96FCE25E}" type="pres">
      <dgm:prSet presAssocID="{E93EB432-3F62-4602-8F8D-A997D5C96E62}" presName="node" presStyleLbl="node1" presStyleIdx="3" presStyleCnt="4" custScaleX="174563" custScaleY="1543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1B3AEB8-E40D-4027-A2CB-32556992AFE7}" type="pres">
      <dgm:prSet presAssocID="{E93EB432-3F62-4602-8F8D-A997D5C96E62}" presName="dummy" presStyleCnt="0"/>
      <dgm:spPr/>
    </dgm:pt>
    <dgm:pt modelId="{C15F4D86-8B1E-4A3A-A312-D327CAE368E2}" type="pres">
      <dgm:prSet presAssocID="{6B35DAF0-E74C-4AEC-97FD-EF5C33B8AAA0}" presName="sibTrans" presStyleLbl="sibTrans2D1" presStyleIdx="3" presStyleCnt="4"/>
      <dgm:spPr/>
      <dgm:t>
        <a:bodyPr/>
        <a:lstStyle/>
        <a:p>
          <a:endParaRPr lang="ru-RU"/>
        </a:p>
      </dgm:t>
    </dgm:pt>
  </dgm:ptLst>
  <dgm:cxnLst>
    <dgm:cxn modelId="{EBA5CBDD-DC51-4323-91E8-99E402C1967D}" type="presOf" srcId="{FF8E5AF7-0342-4B30-8E65-8FF286580292}" destId="{A9065DB2-44B9-4386-8477-679C4D02A774}" srcOrd="0" destOrd="0" presId="urn:microsoft.com/office/officeart/2005/8/layout/radial6"/>
    <dgm:cxn modelId="{9CE9C671-D54D-4B29-8055-84DA2034A34D}" type="presOf" srcId="{7376E602-D49B-45C4-B7F1-CF3E8EBBE0B1}" destId="{289B4A1E-E87E-4BDF-8993-4FD2D4B91105}" srcOrd="0" destOrd="0" presId="urn:microsoft.com/office/officeart/2005/8/layout/radial6"/>
    <dgm:cxn modelId="{E5F245ED-B1CE-4C46-903A-D88B081EE0B0}" srcId="{8E7BF61F-5074-477D-A65D-E6054321FDB1}" destId="{7376E602-D49B-45C4-B7F1-CF3E8EBBE0B1}" srcOrd="0" destOrd="0" parTransId="{33C304EE-970D-4054-8C07-8F4E7F23E36D}" sibTransId="{94821557-0DCA-4648-98F5-ED6062DC4DDB}"/>
    <dgm:cxn modelId="{E2329EE3-0F77-49B9-9939-9C949E3B6678}" type="presOf" srcId="{75835EDF-4777-4443-A4C8-D0832BE6175B}" destId="{A5EC4A91-CE49-478C-AB80-943C87986065}" srcOrd="0" destOrd="0" presId="urn:microsoft.com/office/officeart/2005/8/layout/radial6"/>
    <dgm:cxn modelId="{99404194-E08E-4106-B81A-A5B0EE74EBD3}" type="presOf" srcId="{E93EB432-3F62-4602-8F8D-A997D5C96E62}" destId="{9B301ACA-E071-43EA-8EB9-A8CF96FCE25E}" srcOrd="0" destOrd="0" presId="urn:microsoft.com/office/officeart/2005/8/layout/radial6"/>
    <dgm:cxn modelId="{4E7A350F-1CBF-49A5-9F47-59EB83774432}" type="presOf" srcId="{FBFC6F20-94E1-48B0-9854-53E94EF25809}" destId="{4DF73452-2D0E-4621-8E78-6D3C996D2CA1}" srcOrd="0" destOrd="0" presId="urn:microsoft.com/office/officeart/2005/8/layout/radial6"/>
    <dgm:cxn modelId="{36E6E9E3-9E6A-440A-BA60-C524DC4A37BC}" type="presOf" srcId="{4F3B1658-9A37-4580-85CA-BEFF3E86352C}" destId="{099902AC-45A3-4F66-8A42-173CF7179056}" srcOrd="0" destOrd="0" presId="urn:microsoft.com/office/officeart/2005/8/layout/radial6"/>
    <dgm:cxn modelId="{4DB8EC7E-266B-48E4-B875-BFE562BFE04F}" type="presOf" srcId="{8E7BF61F-5074-477D-A65D-E6054321FDB1}" destId="{78FF1A03-1534-42A8-AE5B-DF26853DE0C6}" srcOrd="0" destOrd="0" presId="urn:microsoft.com/office/officeart/2005/8/layout/radial6"/>
    <dgm:cxn modelId="{1A468C14-F58A-4DC9-B558-607A73D8F117}" type="presOf" srcId="{6B35DAF0-E74C-4AEC-97FD-EF5C33B8AAA0}" destId="{C15F4D86-8B1E-4A3A-A312-D327CAE368E2}" srcOrd="0" destOrd="0" presId="urn:microsoft.com/office/officeart/2005/8/layout/radial6"/>
    <dgm:cxn modelId="{E4E042A9-6A78-4149-86B9-78CC34EA967D}" srcId="{7376E602-D49B-45C4-B7F1-CF3E8EBBE0B1}" destId="{75835EDF-4777-4443-A4C8-D0832BE6175B}" srcOrd="1" destOrd="0" parTransId="{8D396CC7-258C-4814-B5D8-5DAC669A3A54}" sibTransId="{FF8E5AF7-0342-4B30-8E65-8FF286580292}"/>
    <dgm:cxn modelId="{3FA05100-A872-4C9B-ABEC-9CFA74EEF369}" type="presOf" srcId="{E9F42E06-7E92-49F0-A34D-4889AB2C1681}" destId="{7EF688B2-863F-46C8-BD75-C97F65AC5A04}" srcOrd="0" destOrd="0" presId="urn:microsoft.com/office/officeart/2005/8/layout/radial6"/>
    <dgm:cxn modelId="{85C1300F-048F-41CC-8107-13BB442F7EE1}" srcId="{7376E602-D49B-45C4-B7F1-CF3E8EBBE0B1}" destId="{4F3B1658-9A37-4580-85CA-BEFF3E86352C}" srcOrd="0" destOrd="0" parTransId="{07A7BC64-9E09-4CE5-AD1F-0E405DFB4203}" sibTransId="{55D19099-0AD5-4E7C-862E-89F3564A6155}"/>
    <dgm:cxn modelId="{CEBAB1BF-8E66-438B-B74B-BA043BFD7E45}" type="presOf" srcId="{55D19099-0AD5-4E7C-862E-89F3564A6155}" destId="{7BD4DD3E-A0FD-4EE3-BED6-718D52CA5BDF}" srcOrd="0" destOrd="0" presId="urn:microsoft.com/office/officeart/2005/8/layout/radial6"/>
    <dgm:cxn modelId="{3E7DF92D-6F6F-4D06-A4CC-D97021CF3C95}" srcId="{7376E602-D49B-45C4-B7F1-CF3E8EBBE0B1}" destId="{FBFC6F20-94E1-48B0-9854-53E94EF25809}" srcOrd="2" destOrd="0" parTransId="{013228F7-C8F1-4C99-9D9B-8CDC55946867}" sibTransId="{E9F42E06-7E92-49F0-A34D-4889AB2C1681}"/>
    <dgm:cxn modelId="{3960C93E-524D-4712-8024-6947E43CEB3D}" srcId="{7376E602-D49B-45C4-B7F1-CF3E8EBBE0B1}" destId="{E93EB432-3F62-4602-8F8D-A997D5C96E62}" srcOrd="3" destOrd="0" parTransId="{93F742A1-3FC5-4EF1-9E42-44CBAE2AD189}" sibTransId="{6B35DAF0-E74C-4AEC-97FD-EF5C33B8AAA0}"/>
    <dgm:cxn modelId="{9299F87F-80C0-4EDF-836D-DE529139CC75}" type="presParOf" srcId="{78FF1A03-1534-42A8-AE5B-DF26853DE0C6}" destId="{289B4A1E-E87E-4BDF-8993-4FD2D4B91105}" srcOrd="0" destOrd="0" presId="urn:microsoft.com/office/officeart/2005/8/layout/radial6"/>
    <dgm:cxn modelId="{A1201299-2D43-47B7-A3F7-9C023D4073D5}" type="presParOf" srcId="{78FF1A03-1534-42A8-AE5B-DF26853DE0C6}" destId="{099902AC-45A3-4F66-8A42-173CF7179056}" srcOrd="1" destOrd="0" presId="urn:microsoft.com/office/officeart/2005/8/layout/radial6"/>
    <dgm:cxn modelId="{62523CBD-0AB3-446A-9879-6E194720C1B2}" type="presParOf" srcId="{78FF1A03-1534-42A8-AE5B-DF26853DE0C6}" destId="{B841A4BD-D985-4575-A00C-6DC070589F6F}" srcOrd="2" destOrd="0" presId="urn:microsoft.com/office/officeart/2005/8/layout/radial6"/>
    <dgm:cxn modelId="{AA1BAB96-066F-4A15-A201-3D845C450199}" type="presParOf" srcId="{78FF1A03-1534-42A8-AE5B-DF26853DE0C6}" destId="{7BD4DD3E-A0FD-4EE3-BED6-718D52CA5BDF}" srcOrd="3" destOrd="0" presId="urn:microsoft.com/office/officeart/2005/8/layout/radial6"/>
    <dgm:cxn modelId="{090D56DC-EBA2-4AA8-B745-518EAF8DB156}" type="presParOf" srcId="{78FF1A03-1534-42A8-AE5B-DF26853DE0C6}" destId="{A5EC4A91-CE49-478C-AB80-943C87986065}" srcOrd="4" destOrd="0" presId="urn:microsoft.com/office/officeart/2005/8/layout/radial6"/>
    <dgm:cxn modelId="{4748D983-F921-4C29-BA0A-16DA717E2922}" type="presParOf" srcId="{78FF1A03-1534-42A8-AE5B-DF26853DE0C6}" destId="{73964F85-E478-4AD6-81A3-C24AEC27FFF1}" srcOrd="5" destOrd="0" presId="urn:microsoft.com/office/officeart/2005/8/layout/radial6"/>
    <dgm:cxn modelId="{8C91EE75-B573-4AE9-876C-475C04F0D320}" type="presParOf" srcId="{78FF1A03-1534-42A8-AE5B-DF26853DE0C6}" destId="{A9065DB2-44B9-4386-8477-679C4D02A774}" srcOrd="6" destOrd="0" presId="urn:microsoft.com/office/officeart/2005/8/layout/radial6"/>
    <dgm:cxn modelId="{0E8E2EC0-6F33-4E33-ABEA-25BF8548D6A9}" type="presParOf" srcId="{78FF1A03-1534-42A8-AE5B-DF26853DE0C6}" destId="{4DF73452-2D0E-4621-8E78-6D3C996D2CA1}" srcOrd="7" destOrd="0" presId="urn:microsoft.com/office/officeart/2005/8/layout/radial6"/>
    <dgm:cxn modelId="{0E021B55-F563-4D27-A4EA-C585F3FDA921}" type="presParOf" srcId="{78FF1A03-1534-42A8-AE5B-DF26853DE0C6}" destId="{23D10E00-BA8C-4873-9AC1-7380410B3BFC}" srcOrd="8" destOrd="0" presId="urn:microsoft.com/office/officeart/2005/8/layout/radial6"/>
    <dgm:cxn modelId="{5140A1DA-FFE5-4D9A-8744-09F6882CBDBE}" type="presParOf" srcId="{78FF1A03-1534-42A8-AE5B-DF26853DE0C6}" destId="{7EF688B2-863F-46C8-BD75-C97F65AC5A04}" srcOrd="9" destOrd="0" presId="urn:microsoft.com/office/officeart/2005/8/layout/radial6"/>
    <dgm:cxn modelId="{3868E0C5-5623-4C20-AD2C-EA706986477C}" type="presParOf" srcId="{78FF1A03-1534-42A8-AE5B-DF26853DE0C6}" destId="{9B301ACA-E071-43EA-8EB9-A8CF96FCE25E}" srcOrd="10" destOrd="0" presId="urn:microsoft.com/office/officeart/2005/8/layout/radial6"/>
    <dgm:cxn modelId="{8BA29E9B-58FD-466A-A733-B33C5FDA5E7A}" type="presParOf" srcId="{78FF1A03-1534-42A8-AE5B-DF26853DE0C6}" destId="{F1B3AEB8-E40D-4027-A2CB-32556992AFE7}" srcOrd="11" destOrd="0" presId="urn:microsoft.com/office/officeart/2005/8/layout/radial6"/>
    <dgm:cxn modelId="{BF29A795-11D8-46CA-B890-3F157F607580}" type="presParOf" srcId="{78FF1A03-1534-42A8-AE5B-DF26853DE0C6}" destId="{C15F4D86-8B1E-4A3A-A312-D327CAE368E2}" srcOrd="12" destOrd="0" presId="urn:microsoft.com/office/officeart/2005/8/layout/radial6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86B6999-3762-427D-A77B-9C60CCAE972F}" type="doc">
      <dgm:prSet loTypeId="urn:microsoft.com/office/officeart/2005/8/layout/hierarchy4" loCatId="list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6ADA370E-FE0A-4D21-BDD1-532A25D67A9D}">
      <dgm:prSet phldrT="[Текст]"/>
      <dgm:spPr/>
      <dgm:t>
        <a:bodyPr/>
        <a:lstStyle/>
        <a:p>
          <a:r>
            <a:rPr lang="ru-RU" dirty="0" smtClean="0"/>
            <a:t>Все участники проекта</a:t>
          </a:r>
          <a:endParaRPr lang="ru-RU" dirty="0"/>
        </a:p>
      </dgm:t>
    </dgm:pt>
    <dgm:pt modelId="{03D0125D-E4AF-4384-BB66-1BFB161612B2}" type="parTrans" cxnId="{D4A63339-F4F5-41DE-B03C-24C690768DF4}">
      <dgm:prSet/>
      <dgm:spPr/>
      <dgm:t>
        <a:bodyPr/>
        <a:lstStyle/>
        <a:p>
          <a:endParaRPr lang="ru-RU"/>
        </a:p>
      </dgm:t>
    </dgm:pt>
    <dgm:pt modelId="{18A60075-21C2-4A5F-AE4C-5E55933DCDE0}" type="sibTrans" cxnId="{D4A63339-F4F5-41DE-B03C-24C690768DF4}">
      <dgm:prSet/>
      <dgm:spPr/>
      <dgm:t>
        <a:bodyPr/>
        <a:lstStyle/>
        <a:p>
          <a:endParaRPr lang="ru-RU"/>
        </a:p>
      </dgm:t>
    </dgm:pt>
    <dgm:pt modelId="{39FC1723-48E4-48AD-A9B5-82FD7B5F0D4A}">
      <dgm:prSet phldrT="[Текст]"/>
      <dgm:spPr/>
      <dgm:t>
        <a:bodyPr/>
        <a:lstStyle/>
        <a:p>
          <a:r>
            <a:rPr lang="ru-RU" dirty="0" smtClean="0"/>
            <a:t>Воспитатели</a:t>
          </a:r>
          <a:endParaRPr lang="ru-RU" dirty="0"/>
        </a:p>
      </dgm:t>
    </dgm:pt>
    <dgm:pt modelId="{743EA66E-8626-47CD-8CDF-8D0032F5CC37}" type="parTrans" cxnId="{8F624B4C-8841-4374-83A9-E9EB71E7694F}">
      <dgm:prSet/>
      <dgm:spPr/>
      <dgm:t>
        <a:bodyPr/>
        <a:lstStyle/>
        <a:p>
          <a:endParaRPr lang="ru-RU"/>
        </a:p>
      </dgm:t>
    </dgm:pt>
    <dgm:pt modelId="{01AF85AA-4893-4AF8-91EF-3BEA8C704677}" type="sibTrans" cxnId="{8F624B4C-8841-4374-83A9-E9EB71E7694F}">
      <dgm:prSet/>
      <dgm:spPr/>
      <dgm:t>
        <a:bodyPr/>
        <a:lstStyle/>
        <a:p>
          <a:endParaRPr lang="ru-RU"/>
        </a:p>
      </dgm:t>
    </dgm:pt>
    <dgm:pt modelId="{2AEC797E-0926-4C64-8789-57BF1E786C8D}">
      <dgm:prSet phldrT="[Текст]"/>
      <dgm:spPr/>
      <dgm:t>
        <a:bodyPr/>
        <a:lstStyle/>
        <a:p>
          <a:r>
            <a:rPr lang="ru-RU" dirty="0" smtClean="0"/>
            <a:t>Родители </a:t>
          </a:r>
          <a:endParaRPr lang="ru-RU" dirty="0"/>
        </a:p>
      </dgm:t>
    </dgm:pt>
    <dgm:pt modelId="{F76C5085-C3A9-4507-8E57-D72CA93A0093}" type="parTrans" cxnId="{1834D18B-9BF9-494E-A215-D386554B0612}">
      <dgm:prSet/>
      <dgm:spPr/>
      <dgm:t>
        <a:bodyPr/>
        <a:lstStyle/>
        <a:p>
          <a:endParaRPr lang="ru-RU"/>
        </a:p>
      </dgm:t>
    </dgm:pt>
    <dgm:pt modelId="{7455525C-E4A2-44B3-A89E-6172EC75B689}" type="sibTrans" cxnId="{1834D18B-9BF9-494E-A215-D386554B0612}">
      <dgm:prSet/>
      <dgm:spPr/>
      <dgm:t>
        <a:bodyPr/>
        <a:lstStyle/>
        <a:p>
          <a:endParaRPr lang="ru-RU"/>
        </a:p>
      </dgm:t>
    </dgm:pt>
    <dgm:pt modelId="{B5D9A24A-A8E8-4120-93E9-F08D414F5F2F}">
      <dgm:prSet phldrT="[Текст]"/>
      <dgm:spPr/>
      <dgm:t>
        <a:bodyPr/>
        <a:lstStyle/>
        <a:p>
          <a:r>
            <a:rPr lang="ru-RU" dirty="0" smtClean="0"/>
            <a:t>Учитель- логопед</a:t>
          </a:r>
          <a:endParaRPr lang="ru-RU" dirty="0"/>
        </a:p>
      </dgm:t>
    </dgm:pt>
    <dgm:pt modelId="{38F40853-8088-4B02-92E2-9C09BF752E36}" type="parTrans" cxnId="{7CF4F6FA-48CA-4C4D-BB72-FA515971D85C}">
      <dgm:prSet/>
      <dgm:spPr/>
      <dgm:t>
        <a:bodyPr/>
        <a:lstStyle/>
        <a:p>
          <a:endParaRPr lang="ru-RU"/>
        </a:p>
      </dgm:t>
    </dgm:pt>
    <dgm:pt modelId="{48C947F5-1E33-410B-815B-8BFB649CEBA8}" type="sibTrans" cxnId="{7CF4F6FA-48CA-4C4D-BB72-FA515971D85C}">
      <dgm:prSet/>
      <dgm:spPr/>
      <dgm:t>
        <a:bodyPr/>
        <a:lstStyle/>
        <a:p>
          <a:endParaRPr lang="ru-RU"/>
        </a:p>
      </dgm:t>
    </dgm:pt>
    <dgm:pt modelId="{35790136-5860-466C-89F8-387B346D30BC}">
      <dgm:prSet phldrT="[Текст]"/>
      <dgm:spPr/>
      <dgm:t>
        <a:bodyPr/>
        <a:lstStyle/>
        <a:p>
          <a:r>
            <a:rPr lang="ru-RU" dirty="0" smtClean="0"/>
            <a:t>Дети </a:t>
          </a:r>
          <a:endParaRPr lang="ru-RU" dirty="0"/>
        </a:p>
      </dgm:t>
    </dgm:pt>
    <dgm:pt modelId="{F6E801BD-9153-4547-B0ED-85D71FF63F28}" type="parTrans" cxnId="{CB2871D3-7A23-4709-9633-E39794E42B4C}">
      <dgm:prSet/>
      <dgm:spPr/>
      <dgm:t>
        <a:bodyPr/>
        <a:lstStyle/>
        <a:p>
          <a:endParaRPr lang="ru-RU"/>
        </a:p>
      </dgm:t>
    </dgm:pt>
    <dgm:pt modelId="{A81F8EA0-88C3-47CE-A3BF-D485CFC1A48A}" type="sibTrans" cxnId="{CB2871D3-7A23-4709-9633-E39794E42B4C}">
      <dgm:prSet/>
      <dgm:spPr/>
      <dgm:t>
        <a:bodyPr/>
        <a:lstStyle/>
        <a:p>
          <a:endParaRPr lang="ru-RU"/>
        </a:p>
      </dgm:t>
    </dgm:pt>
    <dgm:pt modelId="{FD1736D2-E4BB-4B73-BC1D-6B9CFB7DDEC3}">
      <dgm:prSet phldrT="[Текст]"/>
      <dgm:spPr/>
      <dgm:t>
        <a:bodyPr/>
        <a:lstStyle/>
        <a:p>
          <a:r>
            <a:rPr lang="ru-RU" dirty="0" smtClean="0"/>
            <a:t>Педагог-психолог</a:t>
          </a:r>
          <a:endParaRPr lang="ru-RU" dirty="0"/>
        </a:p>
      </dgm:t>
    </dgm:pt>
    <dgm:pt modelId="{3E64693C-6F57-49AE-83EE-9F46B6225F08}" type="parTrans" cxnId="{379D0730-8485-4F2B-81C0-4C3755223BDC}">
      <dgm:prSet/>
      <dgm:spPr/>
      <dgm:t>
        <a:bodyPr/>
        <a:lstStyle/>
        <a:p>
          <a:endParaRPr lang="ru-RU"/>
        </a:p>
      </dgm:t>
    </dgm:pt>
    <dgm:pt modelId="{FB134621-3D73-4F0A-B7C4-01C894A46B70}" type="sibTrans" cxnId="{379D0730-8485-4F2B-81C0-4C3755223BDC}">
      <dgm:prSet/>
      <dgm:spPr/>
      <dgm:t>
        <a:bodyPr/>
        <a:lstStyle/>
        <a:p>
          <a:endParaRPr lang="ru-RU"/>
        </a:p>
      </dgm:t>
    </dgm:pt>
    <dgm:pt modelId="{960B2595-09E2-4786-B71F-C108211426AA}" type="pres">
      <dgm:prSet presAssocID="{086B6999-3762-427D-A77B-9C60CCAE972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A7FC85A5-0F72-4719-8945-61610C12883E}" type="pres">
      <dgm:prSet presAssocID="{6ADA370E-FE0A-4D21-BDD1-532A25D67A9D}" presName="vertOne" presStyleCnt="0"/>
      <dgm:spPr/>
      <dgm:t>
        <a:bodyPr/>
        <a:lstStyle/>
        <a:p>
          <a:endParaRPr lang="ru-RU"/>
        </a:p>
      </dgm:t>
    </dgm:pt>
    <dgm:pt modelId="{3ED483DD-598A-4037-BA3C-AE694DF951D6}" type="pres">
      <dgm:prSet presAssocID="{6ADA370E-FE0A-4D21-BDD1-532A25D67A9D}" presName="txOne" presStyleLbl="node0" presStyleIdx="0" presStyleCnt="1" custLinFactNeighborX="11" custLinFactNeighborY="-39627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2BACFFF4-3D8A-4B1F-A6BE-22C704192E3D}" type="pres">
      <dgm:prSet presAssocID="{6ADA370E-FE0A-4D21-BDD1-532A25D67A9D}" presName="parTransOne" presStyleCnt="0"/>
      <dgm:spPr/>
      <dgm:t>
        <a:bodyPr/>
        <a:lstStyle/>
        <a:p>
          <a:endParaRPr lang="ru-RU"/>
        </a:p>
      </dgm:t>
    </dgm:pt>
    <dgm:pt modelId="{A6BDD7A1-99F1-46E8-AFDC-9800625E6828}" type="pres">
      <dgm:prSet presAssocID="{6ADA370E-FE0A-4D21-BDD1-532A25D67A9D}" presName="horzOne" presStyleCnt="0"/>
      <dgm:spPr/>
      <dgm:t>
        <a:bodyPr/>
        <a:lstStyle/>
        <a:p>
          <a:endParaRPr lang="ru-RU"/>
        </a:p>
      </dgm:t>
    </dgm:pt>
    <dgm:pt modelId="{D380E6C5-F612-460B-A0B7-87D71E6E3B5E}" type="pres">
      <dgm:prSet presAssocID="{39FC1723-48E4-48AD-A9B5-82FD7B5F0D4A}" presName="vertTwo" presStyleCnt="0"/>
      <dgm:spPr/>
      <dgm:t>
        <a:bodyPr/>
        <a:lstStyle/>
        <a:p>
          <a:endParaRPr lang="ru-RU"/>
        </a:p>
      </dgm:t>
    </dgm:pt>
    <dgm:pt modelId="{9987957F-A43D-4024-89DB-A5DFD4AF6231}" type="pres">
      <dgm:prSet presAssocID="{39FC1723-48E4-48AD-A9B5-82FD7B5F0D4A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58685F5-C6A6-45E0-9109-9B274CD23A9B}" type="pres">
      <dgm:prSet presAssocID="{39FC1723-48E4-48AD-A9B5-82FD7B5F0D4A}" presName="parTransTwo" presStyleCnt="0"/>
      <dgm:spPr/>
      <dgm:t>
        <a:bodyPr/>
        <a:lstStyle/>
        <a:p>
          <a:endParaRPr lang="ru-RU"/>
        </a:p>
      </dgm:t>
    </dgm:pt>
    <dgm:pt modelId="{FCB9B701-D7C0-4C23-A388-0A9428F44874}" type="pres">
      <dgm:prSet presAssocID="{39FC1723-48E4-48AD-A9B5-82FD7B5F0D4A}" presName="horzTwo" presStyleCnt="0"/>
      <dgm:spPr/>
      <dgm:t>
        <a:bodyPr/>
        <a:lstStyle/>
        <a:p>
          <a:endParaRPr lang="ru-RU"/>
        </a:p>
      </dgm:t>
    </dgm:pt>
    <dgm:pt modelId="{FFCD67EB-CBA2-458F-982C-94F4E941A4EC}" type="pres">
      <dgm:prSet presAssocID="{2AEC797E-0926-4C64-8789-57BF1E786C8D}" presName="vertThree" presStyleCnt="0"/>
      <dgm:spPr/>
      <dgm:t>
        <a:bodyPr/>
        <a:lstStyle/>
        <a:p>
          <a:endParaRPr lang="ru-RU"/>
        </a:p>
      </dgm:t>
    </dgm:pt>
    <dgm:pt modelId="{E8EE9B1C-B967-465B-801E-452D12F9FB5E}" type="pres">
      <dgm:prSet presAssocID="{2AEC797E-0926-4C64-8789-57BF1E786C8D}" presName="txThree" presStyleLbl="node3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9DA553B-1293-4C5D-BC9B-07146B084649}" type="pres">
      <dgm:prSet presAssocID="{2AEC797E-0926-4C64-8789-57BF1E786C8D}" presName="horzThree" presStyleCnt="0"/>
      <dgm:spPr/>
      <dgm:t>
        <a:bodyPr/>
        <a:lstStyle/>
        <a:p>
          <a:endParaRPr lang="ru-RU"/>
        </a:p>
      </dgm:t>
    </dgm:pt>
    <dgm:pt modelId="{2DA12BFE-B285-4C62-85CC-BD933FE6FA13}" type="pres">
      <dgm:prSet presAssocID="{7455525C-E4A2-44B3-A89E-6172EC75B689}" presName="sibSpaceThree" presStyleCnt="0"/>
      <dgm:spPr/>
      <dgm:t>
        <a:bodyPr/>
        <a:lstStyle/>
        <a:p>
          <a:endParaRPr lang="ru-RU"/>
        </a:p>
      </dgm:t>
    </dgm:pt>
    <dgm:pt modelId="{DDD3A2C3-9103-4DD7-A9DD-524571150F91}" type="pres">
      <dgm:prSet presAssocID="{B5D9A24A-A8E8-4120-93E9-F08D414F5F2F}" presName="vertThree" presStyleCnt="0"/>
      <dgm:spPr/>
      <dgm:t>
        <a:bodyPr/>
        <a:lstStyle/>
        <a:p>
          <a:endParaRPr lang="ru-RU"/>
        </a:p>
      </dgm:t>
    </dgm:pt>
    <dgm:pt modelId="{727F1388-C5F9-4CAA-A8A2-EDA6983EFE68}" type="pres">
      <dgm:prSet presAssocID="{B5D9A24A-A8E8-4120-93E9-F08D414F5F2F}" presName="txThree" presStyleLbl="node3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8B85935-A23A-4034-9CED-EFF11D16D01F}" type="pres">
      <dgm:prSet presAssocID="{B5D9A24A-A8E8-4120-93E9-F08D414F5F2F}" presName="horzThree" presStyleCnt="0"/>
      <dgm:spPr/>
      <dgm:t>
        <a:bodyPr/>
        <a:lstStyle/>
        <a:p>
          <a:endParaRPr lang="ru-RU"/>
        </a:p>
      </dgm:t>
    </dgm:pt>
    <dgm:pt modelId="{BA6C1515-6482-4355-BFCE-38059434B7B9}" type="pres">
      <dgm:prSet presAssocID="{01AF85AA-4893-4AF8-91EF-3BEA8C704677}" presName="sibSpaceTwo" presStyleCnt="0"/>
      <dgm:spPr/>
      <dgm:t>
        <a:bodyPr/>
        <a:lstStyle/>
        <a:p>
          <a:endParaRPr lang="ru-RU"/>
        </a:p>
      </dgm:t>
    </dgm:pt>
    <dgm:pt modelId="{7EC9BFC4-0137-415C-975D-44C93755B726}" type="pres">
      <dgm:prSet presAssocID="{35790136-5860-466C-89F8-387B346D30BC}" presName="vertTwo" presStyleCnt="0"/>
      <dgm:spPr/>
      <dgm:t>
        <a:bodyPr/>
        <a:lstStyle/>
        <a:p>
          <a:endParaRPr lang="ru-RU"/>
        </a:p>
      </dgm:t>
    </dgm:pt>
    <dgm:pt modelId="{C3CA42D9-184B-4E36-ACF9-6D46637AC6FD}" type="pres">
      <dgm:prSet presAssocID="{35790136-5860-466C-89F8-387B346D30BC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E8DBA64-044C-4C4E-8EDC-1E28B09893A9}" type="pres">
      <dgm:prSet presAssocID="{35790136-5860-466C-89F8-387B346D30BC}" presName="parTransTwo" presStyleCnt="0"/>
      <dgm:spPr/>
      <dgm:t>
        <a:bodyPr/>
        <a:lstStyle/>
        <a:p>
          <a:endParaRPr lang="ru-RU"/>
        </a:p>
      </dgm:t>
    </dgm:pt>
    <dgm:pt modelId="{EDA306E8-F361-4190-B0BA-56761A5A45BD}" type="pres">
      <dgm:prSet presAssocID="{35790136-5860-466C-89F8-387B346D30BC}" presName="horzTwo" presStyleCnt="0"/>
      <dgm:spPr/>
      <dgm:t>
        <a:bodyPr/>
        <a:lstStyle/>
        <a:p>
          <a:endParaRPr lang="ru-RU"/>
        </a:p>
      </dgm:t>
    </dgm:pt>
    <dgm:pt modelId="{70869664-3D41-4D31-9A50-8AC42689E6CD}" type="pres">
      <dgm:prSet presAssocID="{FD1736D2-E4BB-4B73-BC1D-6B9CFB7DDEC3}" presName="vertThree" presStyleCnt="0"/>
      <dgm:spPr/>
      <dgm:t>
        <a:bodyPr/>
        <a:lstStyle/>
        <a:p>
          <a:endParaRPr lang="ru-RU"/>
        </a:p>
      </dgm:t>
    </dgm:pt>
    <dgm:pt modelId="{F953AC3F-E81D-4DDF-81ED-A074D76118E5}" type="pres">
      <dgm:prSet presAssocID="{FD1736D2-E4BB-4B73-BC1D-6B9CFB7DDEC3}" presName="txThree" presStyleLbl="node3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91CD505-1B9B-4669-A807-2DC42AC123F7}" type="pres">
      <dgm:prSet presAssocID="{FD1736D2-E4BB-4B73-BC1D-6B9CFB7DDEC3}" presName="horzThree" presStyleCnt="0"/>
      <dgm:spPr/>
      <dgm:t>
        <a:bodyPr/>
        <a:lstStyle/>
        <a:p>
          <a:endParaRPr lang="ru-RU"/>
        </a:p>
      </dgm:t>
    </dgm:pt>
  </dgm:ptLst>
  <dgm:cxnLst>
    <dgm:cxn modelId="{10555452-450C-4AA5-849B-BBA55CE16749}" type="presOf" srcId="{086B6999-3762-427D-A77B-9C60CCAE972F}" destId="{960B2595-09E2-4786-B71F-C108211426AA}" srcOrd="0" destOrd="0" presId="urn:microsoft.com/office/officeart/2005/8/layout/hierarchy4"/>
    <dgm:cxn modelId="{49049379-3E76-4B36-9146-88199DEE96B3}" type="presOf" srcId="{39FC1723-48E4-48AD-A9B5-82FD7B5F0D4A}" destId="{9987957F-A43D-4024-89DB-A5DFD4AF6231}" srcOrd="0" destOrd="0" presId="urn:microsoft.com/office/officeart/2005/8/layout/hierarchy4"/>
    <dgm:cxn modelId="{6AD4E387-7C81-453E-9AEE-EE0B5AD41055}" type="presOf" srcId="{2AEC797E-0926-4C64-8789-57BF1E786C8D}" destId="{E8EE9B1C-B967-465B-801E-452D12F9FB5E}" srcOrd="0" destOrd="0" presId="urn:microsoft.com/office/officeart/2005/8/layout/hierarchy4"/>
    <dgm:cxn modelId="{F9FA460A-1B59-4304-B422-63E4076C2F78}" type="presOf" srcId="{FD1736D2-E4BB-4B73-BC1D-6B9CFB7DDEC3}" destId="{F953AC3F-E81D-4DDF-81ED-A074D76118E5}" srcOrd="0" destOrd="0" presId="urn:microsoft.com/office/officeart/2005/8/layout/hierarchy4"/>
    <dgm:cxn modelId="{379D0730-8485-4F2B-81C0-4C3755223BDC}" srcId="{35790136-5860-466C-89F8-387B346D30BC}" destId="{FD1736D2-E4BB-4B73-BC1D-6B9CFB7DDEC3}" srcOrd="0" destOrd="0" parTransId="{3E64693C-6F57-49AE-83EE-9F46B6225F08}" sibTransId="{FB134621-3D73-4F0A-B7C4-01C894A46B70}"/>
    <dgm:cxn modelId="{D4A63339-F4F5-41DE-B03C-24C690768DF4}" srcId="{086B6999-3762-427D-A77B-9C60CCAE972F}" destId="{6ADA370E-FE0A-4D21-BDD1-532A25D67A9D}" srcOrd="0" destOrd="0" parTransId="{03D0125D-E4AF-4384-BB66-1BFB161612B2}" sibTransId="{18A60075-21C2-4A5F-AE4C-5E55933DCDE0}"/>
    <dgm:cxn modelId="{CB2871D3-7A23-4709-9633-E39794E42B4C}" srcId="{6ADA370E-FE0A-4D21-BDD1-532A25D67A9D}" destId="{35790136-5860-466C-89F8-387B346D30BC}" srcOrd="1" destOrd="0" parTransId="{F6E801BD-9153-4547-B0ED-85D71FF63F28}" sibTransId="{A81F8EA0-88C3-47CE-A3BF-D485CFC1A48A}"/>
    <dgm:cxn modelId="{1834D18B-9BF9-494E-A215-D386554B0612}" srcId="{39FC1723-48E4-48AD-A9B5-82FD7B5F0D4A}" destId="{2AEC797E-0926-4C64-8789-57BF1E786C8D}" srcOrd="0" destOrd="0" parTransId="{F76C5085-C3A9-4507-8E57-D72CA93A0093}" sibTransId="{7455525C-E4A2-44B3-A89E-6172EC75B689}"/>
    <dgm:cxn modelId="{35749CCA-A52B-4D1E-896F-9A9C1F2131D2}" type="presOf" srcId="{35790136-5860-466C-89F8-387B346D30BC}" destId="{C3CA42D9-184B-4E36-ACF9-6D46637AC6FD}" srcOrd="0" destOrd="0" presId="urn:microsoft.com/office/officeart/2005/8/layout/hierarchy4"/>
    <dgm:cxn modelId="{7CF4F6FA-48CA-4C4D-BB72-FA515971D85C}" srcId="{39FC1723-48E4-48AD-A9B5-82FD7B5F0D4A}" destId="{B5D9A24A-A8E8-4120-93E9-F08D414F5F2F}" srcOrd="1" destOrd="0" parTransId="{38F40853-8088-4B02-92E2-9C09BF752E36}" sibTransId="{48C947F5-1E33-410B-815B-8BFB649CEBA8}"/>
    <dgm:cxn modelId="{55487073-6980-47D6-86E2-C60412A4D536}" type="presOf" srcId="{6ADA370E-FE0A-4D21-BDD1-532A25D67A9D}" destId="{3ED483DD-598A-4037-BA3C-AE694DF951D6}" srcOrd="0" destOrd="0" presId="urn:microsoft.com/office/officeart/2005/8/layout/hierarchy4"/>
    <dgm:cxn modelId="{8F624B4C-8841-4374-83A9-E9EB71E7694F}" srcId="{6ADA370E-FE0A-4D21-BDD1-532A25D67A9D}" destId="{39FC1723-48E4-48AD-A9B5-82FD7B5F0D4A}" srcOrd="0" destOrd="0" parTransId="{743EA66E-8626-47CD-8CDF-8D0032F5CC37}" sibTransId="{01AF85AA-4893-4AF8-91EF-3BEA8C704677}"/>
    <dgm:cxn modelId="{75ACDDA0-059E-4056-9DD3-83E7FCDB7351}" type="presOf" srcId="{B5D9A24A-A8E8-4120-93E9-F08D414F5F2F}" destId="{727F1388-C5F9-4CAA-A8A2-EDA6983EFE68}" srcOrd="0" destOrd="0" presId="urn:microsoft.com/office/officeart/2005/8/layout/hierarchy4"/>
    <dgm:cxn modelId="{B24109FE-1D7E-47BC-889A-847B41A383A1}" type="presParOf" srcId="{960B2595-09E2-4786-B71F-C108211426AA}" destId="{A7FC85A5-0F72-4719-8945-61610C12883E}" srcOrd="0" destOrd="0" presId="urn:microsoft.com/office/officeart/2005/8/layout/hierarchy4"/>
    <dgm:cxn modelId="{4D47A2DB-D686-46AB-8708-A1FAB7161BD4}" type="presParOf" srcId="{A7FC85A5-0F72-4719-8945-61610C12883E}" destId="{3ED483DD-598A-4037-BA3C-AE694DF951D6}" srcOrd="0" destOrd="0" presId="urn:microsoft.com/office/officeart/2005/8/layout/hierarchy4"/>
    <dgm:cxn modelId="{9502F1BA-A586-4F58-B1CC-A39E3245FA54}" type="presParOf" srcId="{A7FC85A5-0F72-4719-8945-61610C12883E}" destId="{2BACFFF4-3D8A-4B1F-A6BE-22C704192E3D}" srcOrd="1" destOrd="0" presId="urn:microsoft.com/office/officeart/2005/8/layout/hierarchy4"/>
    <dgm:cxn modelId="{EF9DE898-C0F7-43BE-8AFD-25E425E78E4A}" type="presParOf" srcId="{A7FC85A5-0F72-4719-8945-61610C12883E}" destId="{A6BDD7A1-99F1-46E8-AFDC-9800625E6828}" srcOrd="2" destOrd="0" presId="urn:microsoft.com/office/officeart/2005/8/layout/hierarchy4"/>
    <dgm:cxn modelId="{FC8A1B07-2E78-4B64-88AD-BC417A698386}" type="presParOf" srcId="{A6BDD7A1-99F1-46E8-AFDC-9800625E6828}" destId="{D380E6C5-F612-460B-A0B7-87D71E6E3B5E}" srcOrd="0" destOrd="0" presId="urn:microsoft.com/office/officeart/2005/8/layout/hierarchy4"/>
    <dgm:cxn modelId="{72C63279-54B9-450F-A5FD-BA7E93778484}" type="presParOf" srcId="{D380E6C5-F612-460B-A0B7-87D71E6E3B5E}" destId="{9987957F-A43D-4024-89DB-A5DFD4AF6231}" srcOrd="0" destOrd="0" presId="urn:microsoft.com/office/officeart/2005/8/layout/hierarchy4"/>
    <dgm:cxn modelId="{B4D0F8C9-7A69-4B72-AAF9-9D28AB82D857}" type="presParOf" srcId="{D380E6C5-F612-460B-A0B7-87D71E6E3B5E}" destId="{458685F5-C6A6-45E0-9109-9B274CD23A9B}" srcOrd="1" destOrd="0" presId="urn:microsoft.com/office/officeart/2005/8/layout/hierarchy4"/>
    <dgm:cxn modelId="{7F2BB472-EAA7-4D5B-A85E-AFE3B36FAE33}" type="presParOf" srcId="{D380E6C5-F612-460B-A0B7-87D71E6E3B5E}" destId="{FCB9B701-D7C0-4C23-A388-0A9428F44874}" srcOrd="2" destOrd="0" presId="urn:microsoft.com/office/officeart/2005/8/layout/hierarchy4"/>
    <dgm:cxn modelId="{8015C239-7980-4D1F-8D9F-7770950ECEC2}" type="presParOf" srcId="{FCB9B701-D7C0-4C23-A388-0A9428F44874}" destId="{FFCD67EB-CBA2-458F-982C-94F4E941A4EC}" srcOrd="0" destOrd="0" presId="urn:microsoft.com/office/officeart/2005/8/layout/hierarchy4"/>
    <dgm:cxn modelId="{91358776-C260-4012-8712-9F0B8F2012C2}" type="presParOf" srcId="{FFCD67EB-CBA2-458F-982C-94F4E941A4EC}" destId="{E8EE9B1C-B967-465B-801E-452D12F9FB5E}" srcOrd="0" destOrd="0" presId="urn:microsoft.com/office/officeart/2005/8/layout/hierarchy4"/>
    <dgm:cxn modelId="{E4594712-3054-40AD-9E25-95739462AE35}" type="presParOf" srcId="{FFCD67EB-CBA2-458F-982C-94F4E941A4EC}" destId="{69DA553B-1293-4C5D-BC9B-07146B084649}" srcOrd="1" destOrd="0" presId="urn:microsoft.com/office/officeart/2005/8/layout/hierarchy4"/>
    <dgm:cxn modelId="{4B6A48A2-CF4F-4D7B-9D1D-0B51EDD6EDFF}" type="presParOf" srcId="{FCB9B701-D7C0-4C23-A388-0A9428F44874}" destId="{2DA12BFE-B285-4C62-85CC-BD933FE6FA13}" srcOrd="1" destOrd="0" presId="urn:microsoft.com/office/officeart/2005/8/layout/hierarchy4"/>
    <dgm:cxn modelId="{BDC2C2B8-632F-4B09-BCF9-CF4A292E7371}" type="presParOf" srcId="{FCB9B701-D7C0-4C23-A388-0A9428F44874}" destId="{DDD3A2C3-9103-4DD7-A9DD-524571150F91}" srcOrd="2" destOrd="0" presId="urn:microsoft.com/office/officeart/2005/8/layout/hierarchy4"/>
    <dgm:cxn modelId="{5F58A5D1-2876-47EB-ADB2-D39DCBF40482}" type="presParOf" srcId="{DDD3A2C3-9103-4DD7-A9DD-524571150F91}" destId="{727F1388-C5F9-4CAA-A8A2-EDA6983EFE68}" srcOrd="0" destOrd="0" presId="urn:microsoft.com/office/officeart/2005/8/layout/hierarchy4"/>
    <dgm:cxn modelId="{59327E19-5E57-4594-B116-F798318A62D7}" type="presParOf" srcId="{DDD3A2C3-9103-4DD7-A9DD-524571150F91}" destId="{48B85935-A23A-4034-9CED-EFF11D16D01F}" srcOrd="1" destOrd="0" presId="urn:microsoft.com/office/officeart/2005/8/layout/hierarchy4"/>
    <dgm:cxn modelId="{78B0C773-D514-47DD-A548-DBABA1F81465}" type="presParOf" srcId="{A6BDD7A1-99F1-46E8-AFDC-9800625E6828}" destId="{BA6C1515-6482-4355-BFCE-38059434B7B9}" srcOrd="1" destOrd="0" presId="urn:microsoft.com/office/officeart/2005/8/layout/hierarchy4"/>
    <dgm:cxn modelId="{27C2D8F7-8A5A-4A87-80A9-49560F3AF50C}" type="presParOf" srcId="{A6BDD7A1-99F1-46E8-AFDC-9800625E6828}" destId="{7EC9BFC4-0137-415C-975D-44C93755B726}" srcOrd="2" destOrd="0" presId="urn:microsoft.com/office/officeart/2005/8/layout/hierarchy4"/>
    <dgm:cxn modelId="{F6A0A87B-D75A-4E55-A85B-773058BE9A95}" type="presParOf" srcId="{7EC9BFC4-0137-415C-975D-44C93755B726}" destId="{C3CA42D9-184B-4E36-ACF9-6D46637AC6FD}" srcOrd="0" destOrd="0" presId="urn:microsoft.com/office/officeart/2005/8/layout/hierarchy4"/>
    <dgm:cxn modelId="{C1DD7641-368C-4ED7-90B5-85FB8877D7FC}" type="presParOf" srcId="{7EC9BFC4-0137-415C-975D-44C93755B726}" destId="{AE8DBA64-044C-4C4E-8EDC-1E28B09893A9}" srcOrd="1" destOrd="0" presId="urn:microsoft.com/office/officeart/2005/8/layout/hierarchy4"/>
    <dgm:cxn modelId="{0C1D542F-9FFC-4B1C-B86D-B63D89AA6C17}" type="presParOf" srcId="{7EC9BFC4-0137-415C-975D-44C93755B726}" destId="{EDA306E8-F361-4190-B0BA-56761A5A45BD}" srcOrd="2" destOrd="0" presId="urn:microsoft.com/office/officeart/2005/8/layout/hierarchy4"/>
    <dgm:cxn modelId="{258C78BE-C499-42E7-9A78-6F6EE03B9894}" type="presParOf" srcId="{EDA306E8-F361-4190-B0BA-56761A5A45BD}" destId="{70869664-3D41-4D31-9A50-8AC42689E6CD}" srcOrd="0" destOrd="0" presId="urn:microsoft.com/office/officeart/2005/8/layout/hierarchy4"/>
    <dgm:cxn modelId="{3A655096-1001-40DD-AAB0-25D574291622}" type="presParOf" srcId="{70869664-3D41-4D31-9A50-8AC42689E6CD}" destId="{F953AC3F-E81D-4DDF-81ED-A074D76118E5}" srcOrd="0" destOrd="0" presId="urn:microsoft.com/office/officeart/2005/8/layout/hierarchy4"/>
    <dgm:cxn modelId="{5C514D60-A910-4E3A-A97E-769B4E49D1A1}" type="presParOf" srcId="{70869664-3D41-4D31-9A50-8AC42689E6CD}" destId="{391CD505-1B9B-4669-A807-2DC42AC123F7}" srcOrd="1" destOrd="0" presId="urn:microsoft.com/office/officeart/2005/8/layout/hierarchy4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ACDEC1A-C009-4500-8EA8-0BE4A8C4FF57}" type="doc">
      <dgm:prSet loTypeId="urn:microsoft.com/office/officeart/2005/8/layout/list1" loCatId="list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4D591B17-8C47-4BB5-889F-48619DF3B389}">
      <dgm:prSet phldrT="[Текст]"/>
      <dgm:spPr/>
      <dgm:t>
        <a:bodyPr/>
        <a:lstStyle/>
        <a:p>
          <a:r>
            <a:rPr lang="ru-RU" dirty="0" smtClean="0"/>
            <a:t>Работа с детьми</a:t>
          </a:r>
          <a:endParaRPr lang="ru-RU" dirty="0"/>
        </a:p>
      </dgm:t>
    </dgm:pt>
    <dgm:pt modelId="{6228520C-0FF1-42C9-AAE1-B2D0256EEF06}" type="parTrans" cxnId="{DD53D023-BAE0-49B7-A2C0-FB620CBEA8C5}">
      <dgm:prSet/>
      <dgm:spPr/>
      <dgm:t>
        <a:bodyPr/>
        <a:lstStyle/>
        <a:p>
          <a:endParaRPr lang="ru-RU"/>
        </a:p>
      </dgm:t>
    </dgm:pt>
    <dgm:pt modelId="{D219CC0F-ED3C-4A09-BF7F-9BCEC7A4B34F}" type="sibTrans" cxnId="{DD53D023-BAE0-49B7-A2C0-FB620CBEA8C5}">
      <dgm:prSet/>
      <dgm:spPr/>
      <dgm:t>
        <a:bodyPr/>
        <a:lstStyle/>
        <a:p>
          <a:endParaRPr lang="ru-RU"/>
        </a:p>
      </dgm:t>
    </dgm:pt>
    <dgm:pt modelId="{87FC0F50-E29F-48CC-9D74-083CE51EC050}">
      <dgm:prSet phldrT="[Текст]"/>
      <dgm:spPr/>
      <dgm:t>
        <a:bodyPr/>
        <a:lstStyle/>
        <a:p>
          <a:r>
            <a:rPr lang="ru-RU" dirty="0" smtClean="0"/>
            <a:t>Работа  с родителями</a:t>
          </a:r>
          <a:endParaRPr lang="ru-RU" dirty="0"/>
        </a:p>
      </dgm:t>
    </dgm:pt>
    <dgm:pt modelId="{75D2B7C9-8F4B-4BCB-A41A-46A1D7817981}" type="parTrans" cxnId="{A56A38D5-DD0E-4864-A791-C96CDCC1E3B6}">
      <dgm:prSet/>
      <dgm:spPr/>
      <dgm:t>
        <a:bodyPr/>
        <a:lstStyle/>
        <a:p>
          <a:endParaRPr lang="ru-RU"/>
        </a:p>
      </dgm:t>
    </dgm:pt>
    <dgm:pt modelId="{74C9548A-DE7C-402D-BB43-361FA2504A91}" type="sibTrans" cxnId="{A56A38D5-DD0E-4864-A791-C96CDCC1E3B6}">
      <dgm:prSet/>
      <dgm:spPr/>
      <dgm:t>
        <a:bodyPr/>
        <a:lstStyle/>
        <a:p>
          <a:endParaRPr lang="ru-RU"/>
        </a:p>
      </dgm:t>
    </dgm:pt>
    <dgm:pt modelId="{05EA7C56-78BF-469C-BFC1-B12EFAD1CA85}">
      <dgm:prSet phldrT="[Текст]"/>
      <dgm:spPr/>
      <dgm:t>
        <a:bodyPr/>
        <a:lstStyle/>
        <a:p>
          <a:r>
            <a:rPr lang="ru-RU" dirty="0" smtClean="0"/>
            <a:t>Работа с узкими специалистами ДОУ</a:t>
          </a:r>
          <a:endParaRPr lang="ru-RU" dirty="0"/>
        </a:p>
      </dgm:t>
    </dgm:pt>
    <dgm:pt modelId="{EC0D4C1D-F60A-4DC2-93A7-C43EEC5552B9}" type="parTrans" cxnId="{881417B1-8FBC-4ED8-B77B-A36F24A66E03}">
      <dgm:prSet/>
      <dgm:spPr/>
      <dgm:t>
        <a:bodyPr/>
        <a:lstStyle/>
        <a:p>
          <a:endParaRPr lang="ru-RU"/>
        </a:p>
      </dgm:t>
    </dgm:pt>
    <dgm:pt modelId="{C5A686B5-1C83-461B-BDFE-FCC7BE03F911}" type="sibTrans" cxnId="{881417B1-8FBC-4ED8-B77B-A36F24A66E03}">
      <dgm:prSet/>
      <dgm:spPr/>
      <dgm:t>
        <a:bodyPr/>
        <a:lstStyle/>
        <a:p>
          <a:endParaRPr lang="ru-RU"/>
        </a:p>
      </dgm:t>
    </dgm:pt>
    <dgm:pt modelId="{C7443ED7-B83A-4D1D-968A-8B527DDECF10}" type="pres">
      <dgm:prSet presAssocID="{2ACDEC1A-C009-4500-8EA8-0BE4A8C4FF57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77D1B11-BB24-4D72-B051-4EA6BDD173DB}" type="pres">
      <dgm:prSet presAssocID="{4D591B17-8C47-4BB5-889F-48619DF3B389}" presName="parentLin" presStyleCnt="0"/>
      <dgm:spPr/>
    </dgm:pt>
    <dgm:pt modelId="{5F85FB64-6125-4FFD-86E8-1A77E2EBEA7D}" type="pres">
      <dgm:prSet presAssocID="{4D591B17-8C47-4BB5-889F-48619DF3B389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AB160E24-FFAE-4F87-BD5D-4CA01B17B6D0}" type="pres">
      <dgm:prSet presAssocID="{4D591B17-8C47-4BB5-889F-48619DF3B389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1D89023-73D0-4CC8-908B-533743ABD9F2}" type="pres">
      <dgm:prSet presAssocID="{4D591B17-8C47-4BB5-889F-48619DF3B389}" presName="negativeSpace" presStyleCnt="0"/>
      <dgm:spPr/>
    </dgm:pt>
    <dgm:pt modelId="{4249C361-533D-4D67-B9F3-86EE2FEBA765}" type="pres">
      <dgm:prSet presAssocID="{4D591B17-8C47-4BB5-889F-48619DF3B389}" presName="childText" presStyleLbl="conFgAcc1" presStyleIdx="0" presStyleCnt="3">
        <dgm:presLayoutVars>
          <dgm:bulletEnabled val="1"/>
        </dgm:presLayoutVars>
      </dgm:prSet>
      <dgm:spPr/>
    </dgm:pt>
    <dgm:pt modelId="{D93F96A0-289E-42C7-8805-3D2AE08C224F}" type="pres">
      <dgm:prSet presAssocID="{D219CC0F-ED3C-4A09-BF7F-9BCEC7A4B34F}" presName="spaceBetweenRectangles" presStyleCnt="0"/>
      <dgm:spPr/>
    </dgm:pt>
    <dgm:pt modelId="{55E3456B-BCD1-4B64-BE44-D9F6D081279B}" type="pres">
      <dgm:prSet presAssocID="{87FC0F50-E29F-48CC-9D74-083CE51EC050}" presName="parentLin" presStyleCnt="0"/>
      <dgm:spPr/>
    </dgm:pt>
    <dgm:pt modelId="{C5621110-EACF-47B6-BF11-F4C3E0FF3E71}" type="pres">
      <dgm:prSet presAssocID="{87FC0F50-E29F-48CC-9D74-083CE51EC050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81AA799B-8CCC-4611-9D87-E8C24C64FA29}" type="pres">
      <dgm:prSet presAssocID="{87FC0F50-E29F-48CC-9D74-083CE51EC050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CB0192A-2DDC-4A2E-B25F-159A0DC66243}" type="pres">
      <dgm:prSet presAssocID="{87FC0F50-E29F-48CC-9D74-083CE51EC050}" presName="negativeSpace" presStyleCnt="0"/>
      <dgm:spPr/>
    </dgm:pt>
    <dgm:pt modelId="{FE797EA7-8C9E-4B30-A7CE-6612961C2D5D}" type="pres">
      <dgm:prSet presAssocID="{87FC0F50-E29F-48CC-9D74-083CE51EC050}" presName="childText" presStyleLbl="conFgAcc1" presStyleIdx="1" presStyleCnt="3">
        <dgm:presLayoutVars>
          <dgm:bulletEnabled val="1"/>
        </dgm:presLayoutVars>
      </dgm:prSet>
      <dgm:spPr/>
    </dgm:pt>
    <dgm:pt modelId="{D54A843D-2393-4B1C-B6AB-012F5579BFC4}" type="pres">
      <dgm:prSet presAssocID="{74C9548A-DE7C-402D-BB43-361FA2504A91}" presName="spaceBetweenRectangles" presStyleCnt="0"/>
      <dgm:spPr/>
    </dgm:pt>
    <dgm:pt modelId="{EDFF2BDD-F961-45E6-9687-383F8B7744AE}" type="pres">
      <dgm:prSet presAssocID="{05EA7C56-78BF-469C-BFC1-B12EFAD1CA85}" presName="parentLin" presStyleCnt="0"/>
      <dgm:spPr/>
    </dgm:pt>
    <dgm:pt modelId="{EDE30D44-A79D-4184-9F8C-A8B6669C5092}" type="pres">
      <dgm:prSet presAssocID="{05EA7C56-78BF-469C-BFC1-B12EFAD1CA85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B8E0A538-DAA9-4076-869E-59680C8CD586}" type="pres">
      <dgm:prSet presAssocID="{05EA7C56-78BF-469C-BFC1-B12EFAD1CA85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5A1C7D3-B034-45F4-8453-57ABA9F79550}" type="pres">
      <dgm:prSet presAssocID="{05EA7C56-78BF-469C-BFC1-B12EFAD1CA85}" presName="negativeSpace" presStyleCnt="0"/>
      <dgm:spPr/>
    </dgm:pt>
    <dgm:pt modelId="{FEBA6123-C7F3-4835-874E-0291FF33D75E}" type="pres">
      <dgm:prSet presAssocID="{05EA7C56-78BF-469C-BFC1-B12EFAD1CA85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D4C821A-06A2-4D55-B65F-4A0B3D5B1BB8}" type="presOf" srcId="{2ACDEC1A-C009-4500-8EA8-0BE4A8C4FF57}" destId="{C7443ED7-B83A-4D1D-968A-8B527DDECF10}" srcOrd="0" destOrd="0" presId="urn:microsoft.com/office/officeart/2005/8/layout/list1"/>
    <dgm:cxn modelId="{DD53D023-BAE0-49B7-A2C0-FB620CBEA8C5}" srcId="{2ACDEC1A-C009-4500-8EA8-0BE4A8C4FF57}" destId="{4D591B17-8C47-4BB5-889F-48619DF3B389}" srcOrd="0" destOrd="0" parTransId="{6228520C-0FF1-42C9-AAE1-B2D0256EEF06}" sibTransId="{D219CC0F-ED3C-4A09-BF7F-9BCEC7A4B34F}"/>
    <dgm:cxn modelId="{0A41B264-10B6-43FF-80F4-FBD038E1F548}" type="presOf" srcId="{05EA7C56-78BF-469C-BFC1-B12EFAD1CA85}" destId="{EDE30D44-A79D-4184-9F8C-A8B6669C5092}" srcOrd="0" destOrd="0" presId="urn:microsoft.com/office/officeart/2005/8/layout/list1"/>
    <dgm:cxn modelId="{520C9C55-E91E-41C6-9925-05BA44352275}" type="presOf" srcId="{87FC0F50-E29F-48CC-9D74-083CE51EC050}" destId="{81AA799B-8CCC-4611-9D87-E8C24C64FA29}" srcOrd="1" destOrd="0" presId="urn:microsoft.com/office/officeart/2005/8/layout/list1"/>
    <dgm:cxn modelId="{AA90F184-2979-40C5-82C3-52123AA5FF6C}" type="presOf" srcId="{87FC0F50-E29F-48CC-9D74-083CE51EC050}" destId="{C5621110-EACF-47B6-BF11-F4C3E0FF3E71}" srcOrd="0" destOrd="0" presId="urn:microsoft.com/office/officeart/2005/8/layout/list1"/>
    <dgm:cxn modelId="{881417B1-8FBC-4ED8-B77B-A36F24A66E03}" srcId="{2ACDEC1A-C009-4500-8EA8-0BE4A8C4FF57}" destId="{05EA7C56-78BF-469C-BFC1-B12EFAD1CA85}" srcOrd="2" destOrd="0" parTransId="{EC0D4C1D-F60A-4DC2-93A7-C43EEC5552B9}" sibTransId="{C5A686B5-1C83-461B-BDFE-FCC7BE03F911}"/>
    <dgm:cxn modelId="{A56A38D5-DD0E-4864-A791-C96CDCC1E3B6}" srcId="{2ACDEC1A-C009-4500-8EA8-0BE4A8C4FF57}" destId="{87FC0F50-E29F-48CC-9D74-083CE51EC050}" srcOrd="1" destOrd="0" parTransId="{75D2B7C9-8F4B-4BCB-A41A-46A1D7817981}" sibTransId="{74C9548A-DE7C-402D-BB43-361FA2504A91}"/>
    <dgm:cxn modelId="{9779C9C1-B739-4D3E-83A1-57E98BC15BAB}" type="presOf" srcId="{4D591B17-8C47-4BB5-889F-48619DF3B389}" destId="{AB160E24-FFAE-4F87-BD5D-4CA01B17B6D0}" srcOrd="1" destOrd="0" presId="urn:microsoft.com/office/officeart/2005/8/layout/list1"/>
    <dgm:cxn modelId="{0B874206-FAE5-45BF-A090-1380F749E72F}" type="presOf" srcId="{4D591B17-8C47-4BB5-889F-48619DF3B389}" destId="{5F85FB64-6125-4FFD-86E8-1A77E2EBEA7D}" srcOrd="0" destOrd="0" presId="urn:microsoft.com/office/officeart/2005/8/layout/list1"/>
    <dgm:cxn modelId="{72764E68-6982-45CA-B9B7-A07CB413C2A5}" type="presOf" srcId="{05EA7C56-78BF-469C-BFC1-B12EFAD1CA85}" destId="{B8E0A538-DAA9-4076-869E-59680C8CD586}" srcOrd="1" destOrd="0" presId="urn:microsoft.com/office/officeart/2005/8/layout/list1"/>
    <dgm:cxn modelId="{14080648-1D46-4B45-A81D-F317C152AC98}" type="presParOf" srcId="{C7443ED7-B83A-4D1D-968A-8B527DDECF10}" destId="{E77D1B11-BB24-4D72-B051-4EA6BDD173DB}" srcOrd="0" destOrd="0" presId="urn:microsoft.com/office/officeart/2005/8/layout/list1"/>
    <dgm:cxn modelId="{20D562FE-047C-425D-867C-83CD90062632}" type="presParOf" srcId="{E77D1B11-BB24-4D72-B051-4EA6BDD173DB}" destId="{5F85FB64-6125-4FFD-86E8-1A77E2EBEA7D}" srcOrd="0" destOrd="0" presId="urn:microsoft.com/office/officeart/2005/8/layout/list1"/>
    <dgm:cxn modelId="{C82C1523-8E44-4EA0-880C-F2691DFE29ED}" type="presParOf" srcId="{E77D1B11-BB24-4D72-B051-4EA6BDD173DB}" destId="{AB160E24-FFAE-4F87-BD5D-4CA01B17B6D0}" srcOrd="1" destOrd="0" presId="urn:microsoft.com/office/officeart/2005/8/layout/list1"/>
    <dgm:cxn modelId="{8D744D7D-D76C-4ABF-8AD4-C7F9725ECD64}" type="presParOf" srcId="{C7443ED7-B83A-4D1D-968A-8B527DDECF10}" destId="{A1D89023-73D0-4CC8-908B-533743ABD9F2}" srcOrd="1" destOrd="0" presId="urn:microsoft.com/office/officeart/2005/8/layout/list1"/>
    <dgm:cxn modelId="{CEEF78DB-6DFD-47AB-9A73-1E9EBFD5ABE4}" type="presParOf" srcId="{C7443ED7-B83A-4D1D-968A-8B527DDECF10}" destId="{4249C361-533D-4D67-B9F3-86EE2FEBA765}" srcOrd="2" destOrd="0" presId="urn:microsoft.com/office/officeart/2005/8/layout/list1"/>
    <dgm:cxn modelId="{990AD12C-71FF-41BB-900F-6C8F7125513E}" type="presParOf" srcId="{C7443ED7-B83A-4D1D-968A-8B527DDECF10}" destId="{D93F96A0-289E-42C7-8805-3D2AE08C224F}" srcOrd="3" destOrd="0" presId="urn:microsoft.com/office/officeart/2005/8/layout/list1"/>
    <dgm:cxn modelId="{2F8BD1B3-FCCA-4327-BEC1-C693DDAA7A6C}" type="presParOf" srcId="{C7443ED7-B83A-4D1D-968A-8B527DDECF10}" destId="{55E3456B-BCD1-4B64-BE44-D9F6D081279B}" srcOrd="4" destOrd="0" presId="urn:microsoft.com/office/officeart/2005/8/layout/list1"/>
    <dgm:cxn modelId="{A3126979-9606-4678-A22C-89507C7F5C02}" type="presParOf" srcId="{55E3456B-BCD1-4B64-BE44-D9F6D081279B}" destId="{C5621110-EACF-47B6-BF11-F4C3E0FF3E71}" srcOrd="0" destOrd="0" presId="urn:microsoft.com/office/officeart/2005/8/layout/list1"/>
    <dgm:cxn modelId="{9D8BBD42-6383-4D68-B7CE-5DCC379D800B}" type="presParOf" srcId="{55E3456B-BCD1-4B64-BE44-D9F6D081279B}" destId="{81AA799B-8CCC-4611-9D87-E8C24C64FA29}" srcOrd="1" destOrd="0" presId="urn:microsoft.com/office/officeart/2005/8/layout/list1"/>
    <dgm:cxn modelId="{833283C2-43AF-41B4-9480-A9D7D6027D55}" type="presParOf" srcId="{C7443ED7-B83A-4D1D-968A-8B527DDECF10}" destId="{1CB0192A-2DDC-4A2E-B25F-159A0DC66243}" srcOrd="5" destOrd="0" presId="urn:microsoft.com/office/officeart/2005/8/layout/list1"/>
    <dgm:cxn modelId="{3F951063-E103-43DE-A514-F1283F4691CE}" type="presParOf" srcId="{C7443ED7-B83A-4D1D-968A-8B527DDECF10}" destId="{FE797EA7-8C9E-4B30-A7CE-6612961C2D5D}" srcOrd="6" destOrd="0" presId="urn:microsoft.com/office/officeart/2005/8/layout/list1"/>
    <dgm:cxn modelId="{59B42249-1ACC-4164-A2FE-EE04D4098B56}" type="presParOf" srcId="{C7443ED7-B83A-4D1D-968A-8B527DDECF10}" destId="{D54A843D-2393-4B1C-B6AB-012F5579BFC4}" srcOrd="7" destOrd="0" presId="urn:microsoft.com/office/officeart/2005/8/layout/list1"/>
    <dgm:cxn modelId="{CC5AC21F-5ACE-4767-A0B6-345B6B8543B8}" type="presParOf" srcId="{C7443ED7-B83A-4D1D-968A-8B527DDECF10}" destId="{EDFF2BDD-F961-45E6-9687-383F8B7744AE}" srcOrd="8" destOrd="0" presId="urn:microsoft.com/office/officeart/2005/8/layout/list1"/>
    <dgm:cxn modelId="{7AAFD4CC-F118-42E8-8258-F01284DEE433}" type="presParOf" srcId="{EDFF2BDD-F961-45E6-9687-383F8B7744AE}" destId="{EDE30D44-A79D-4184-9F8C-A8B6669C5092}" srcOrd="0" destOrd="0" presId="urn:microsoft.com/office/officeart/2005/8/layout/list1"/>
    <dgm:cxn modelId="{A7156F4A-25C6-41B6-95F0-F3B06FFB034E}" type="presParOf" srcId="{EDFF2BDD-F961-45E6-9687-383F8B7744AE}" destId="{B8E0A538-DAA9-4076-869E-59680C8CD586}" srcOrd="1" destOrd="0" presId="urn:microsoft.com/office/officeart/2005/8/layout/list1"/>
    <dgm:cxn modelId="{FBBF156B-743B-44D8-A1FB-DFF1FAB0A9E7}" type="presParOf" srcId="{C7443ED7-B83A-4D1D-968A-8B527DDECF10}" destId="{E5A1C7D3-B034-45F4-8453-57ABA9F79550}" srcOrd="9" destOrd="0" presId="urn:microsoft.com/office/officeart/2005/8/layout/list1"/>
    <dgm:cxn modelId="{6B81CA7C-7220-411B-9911-0107AB5AF498}" type="presParOf" srcId="{C7443ED7-B83A-4D1D-968A-8B527DDECF10}" destId="{FEBA6123-C7F3-4835-874E-0291FF33D75E}" srcOrd="10" destOrd="0" presId="urn:microsoft.com/office/officeart/2005/8/layout/list1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9CD70AB-75B4-4CAF-8675-44E9527D4D38}" type="doc">
      <dgm:prSet loTypeId="urn:microsoft.com/office/officeart/2005/8/layout/vProcess5" loCatId="process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4361EC3C-4FC1-4512-9689-7A6897338865}">
      <dgm:prSet phldrT="[Текст]" custT="1"/>
      <dgm:spPr/>
      <dgm:t>
        <a:bodyPr/>
        <a:lstStyle/>
        <a:p>
          <a:r>
            <a:rPr lang="ru-RU" sz="4000" dirty="0" err="1" smtClean="0">
              <a:latin typeface="Georgia" pitchFamily="18" charset="0"/>
            </a:rPr>
            <a:t>ТРИЗ-технологии</a:t>
          </a:r>
          <a:endParaRPr lang="ru-RU" sz="4000" dirty="0">
            <a:latin typeface="Georgia" pitchFamily="18" charset="0"/>
          </a:endParaRPr>
        </a:p>
      </dgm:t>
    </dgm:pt>
    <dgm:pt modelId="{B707302B-B21D-48B1-B62F-3A1956E9828A}" type="parTrans" cxnId="{019832B1-0DEF-48B8-BA6D-E42D60BFAAFA}">
      <dgm:prSet/>
      <dgm:spPr/>
      <dgm:t>
        <a:bodyPr/>
        <a:lstStyle/>
        <a:p>
          <a:endParaRPr lang="ru-RU"/>
        </a:p>
      </dgm:t>
    </dgm:pt>
    <dgm:pt modelId="{3CB41426-7959-42C0-AAFB-BFBD2DFA23D7}" type="sibTrans" cxnId="{019832B1-0DEF-48B8-BA6D-E42D60BFAAFA}">
      <dgm:prSet/>
      <dgm:spPr/>
      <dgm:t>
        <a:bodyPr/>
        <a:lstStyle/>
        <a:p>
          <a:endParaRPr lang="ru-RU"/>
        </a:p>
      </dgm:t>
    </dgm:pt>
    <dgm:pt modelId="{B5E8DE77-0253-43C2-9ADF-47320C64802F}">
      <dgm:prSet phldrT="[Текст]"/>
      <dgm:spPr/>
      <dgm:t>
        <a:bodyPr/>
        <a:lstStyle/>
        <a:p>
          <a:r>
            <a:rPr lang="ru-RU" dirty="0" smtClean="0"/>
            <a:t>Методы </a:t>
          </a:r>
          <a:endParaRPr lang="ru-RU" dirty="0"/>
        </a:p>
      </dgm:t>
    </dgm:pt>
    <dgm:pt modelId="{3DB8C087-7395-43E0-873F-1B18DBE079CB}" type="parTrans" cxnId="{50F2A593-0252-4962-B4BE-ED53A78604B7}">
      <dgm:prSet/>
      <dgm:spPr/>
      <dgm:t>
        <a:bodyPr/>
        <a:lstStyle/>
        <a:p>
          <a:endParaRPr lang="ru-RU"/>
        </a:p>
      </dgm:t>
    </dgm:pt>
    <dgm:pt modelId="{3B3457C0-2B73-4932-A3E4-14D248B6D04F}" type="sibTrans" cxnId="{50F2A593-0252-4962-B4BE-ED53A78604B7}">
      <dgm:prSet/>
      <dgm:spPr/>
      <dgm:t>
        <a:bodyPr/>
        <a:lstStyle/>
        <a:p>
          <a:endParaRPr lang="ru-RU"/>
        </a:p>
      </dgm:t>
    </dgm:pt>
    <dgm:pt modelId="{844C9906-50DD-4D3E-A9A6-396F952D909B}">
      <dgm:prSet phldrT="[Текст]"/>
      <dgm:spPr/>
      <dgm:t>
        <a:bodyPr/>
        <a:lstStyle/>
        <a:p>
          <a:r>
            <a:rPr lang="ru-RU" dirty="0" smtClean="0"/>
            <a:t>Игры </a:t>
          </a:r>
          <a:endParaRPr lang="ru-RU" dirty="0"/>
        </a:p>
      </dgm:t>
    </dgm:pt>
    <dgm:pt modelId="{889D5917-ED3E-4739-BF6E-4F2917B48BC0}" type="parTrans" cxnId="{942D6DF0-A14C-4E01-8954-1073C00E9A61}">
      <dgm:prSet/>
      <dgm:spPr/>
      <dgm:t>
        <a:bodyPr/>
        <a:lstStyle/>
        <a:p>
          <a:endParaRPr lang="ru-RU"/>
        </a:p>
      </dgm:t>
    </dgm:pt>
    <dgm:pt modelId="{57ACB1D8-8E03-4FCD-BC30-FD1063E058B4}" type="sibTrans" cxnId="{942D6DF0-A14C-4E01-8954-1073C00E9A61}">
      <dgm:prSet/>
      <dgm:spPr/>
      <dgm:t>
        <a:bodyPr/>
        <a:lstStyle/>
        <a:p>
          <a:endParaRPr lang="ru-RU"/>
        </a:p>
      </dgm:t>
    </dgm:pt>
    <dgm:pt modelId="{C9E4FD0F-5AB4-44BE-8F59-DFF13393AAC0}" type="pres">
      <dgm:prSet presAssocID="{D9CD70AB-75B4-4CAF-8675-44E9527D4D38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4017A50-672C-4F0C-9755-FC19C40D27B1}" type="pres">
      <dgm:prSet presAssocID="{D9CD70AB-75B4-4CAF-8675-44E9527D4D38}" presName="dummyMaxCanvas" presStyleCnt="0">
        <dgm:presLayoutVars/>
      </dgm:prSet>
      <dgm:spPr/>
    </dgm:pt>
    <dgm:pt modelId="{9A215CC5-8686-4252-8F37-49144DCF9BBC}" type="pres">
      <dgm:prSet presAssocID="{D9CD70AB-75B4-4CAF-8675-44E9527D4D38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3E46420-FC06-4BBA-8D4D-63025DF53FD5}" type="pres">
      <dgm:prSet presAssocID="{D9CD70AB-75B4-4CAF-8675-44E9527D4D38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8B4D216-744E-42D3-987C-8AF046A0A53B}" type="pres">
      <dgm:prSet presAssocID="{D9CD70AB-75B4-4CAF-8675-44E9527D4D38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12203E-7382-41A1-844B-723BAC225E39}" type="pres">
      <dgm:prSet presAssocID="{D9CD70AB-75B4-4CAF-8675-44E9527D4D38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C75574-1AA5-4065-BB93-7718650C3A5D}" type="pres">
      <dgm:prSet presAssocID="{D9CD70AB-75B4-4CAF-8675-44E9527D4D38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58EC46-0807-4DB6-8637-E21AD0E1936B}" type="pres">
      <dgm:prSet presAssocID="{D9CD70AB-75B4-4CAF-8675-44E9527D4D38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414AA6E-6F9D-4AF4-8E30-104603C6AFBD}" type="pres">
      <dgm:prSet presAssocID="{D9CD70AB-75B4-4CAF-8675-44E9527D4D38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51AF69C-B39A-40CC-A97B-7A481EA3228B}" type="pres">
      <dgm:prSet presAssocID="{D9CD70AB-75B4-4CAF-8675-44E9527D4D38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3F4E6D4-9199-4D11-B150-A796EE69D75C}" type="presOf" srcId="{4361EC3C-4FC1-4512-9689-7A6897338865}" destId="{9A215CC5-8686-4252-8F37-49144DCF9BBC}" srcOrd="0" destOrd="0" presId="urn:microsoft.com/office/officeart/2005/8/layout/vProcess5"/>
    <dgm:cxn modelId="{942D6DF0-A14C-4E01-8954-1073C00E9A61}" srcId="{D9CD70AB-75B4-4CAF-8675-44E9527D4D38}" destId="{844C9906-50DD-4D3E-A9A6-396F952D909B}" srcOrd="2" destOrd="0" parTransId="{889D5917-ED3E-4739-BF6E-4F2917B48BC0}" sibTransId="{57ACB1D8-8E03-4FCD-BC30-FD1063E058B4}"/>
    <dgm:cxn modelId="{DD929C4A-0215-4756-B8E4-927757B3F29E}" type="presOf" srcId="{D9CD70AB-75B4-4CAF-8675-44E9527D4D38}" destId="{C9E4FD0F-5AB4-44BE-8F59-DFF13393AAC0}" srcOrd="0" destOrd="0" presId="urn:microsoft.com/office/officeart/2005/8/layout/vProcess5"/>
    <dgm:cxn modelId="{E560AF30-3E35-4A05-A1B3-A709673199EF}" type="presOf" srcId="{4361EC3C-4FC1-4512-9689-7A6897338865}" destId="{EF58EC46-0807-4DB6-8637-E21AD0E1936B}" srcOrd="1" destOrd="0" presId="urn:microsoft.com/office/officeart/2005/8/layout/vProcess5"/>
    <dgm:cxn modelId="{6EE53F08-4A67-4509-974C-220C92EC1FDC}" type="presOf" srcId="{3B3457C0-2B73-4932-A3E4-14D248B6D04F}" destId="{D8C75574-1AA5-4065-BB93-7718650C3A5D}" srcOrd="0" destOrd="0" presId="urn:microsoft.com/office/officeart/2005/8/layout/vProcess5"/>
    <dgm:cxn modelId="{493A7C40-EA5E-43D3-883E-AF7CC3F3748D}" type="presOf" srcId="{B5E8DE77-0253-43C2-9ADF-47320C64802F}" destId="{73E46420-FC06-4BBA-8D4D-63025DF53FD5}" srcOrd="0" destOrd="0" presId="urn:microsoft.com/office/officeart/2005/8/layout/vProcess5"/>
    <dgm:cxn modelId="{6FED758C-C50A-4EF9-9BF1-C1440E1A932E}" type="presOf" srcId="{844C9906-50DD-4D3E-A9A6-396F952D909B}" destId="{D51AF69C-B39A-40CC-A97B-7A481EA3228B}" srcOrd="1" destOrd="0" presId="urn:microsoft.com/office/officeart/2005/8/layout/vProcess5"/>
    <dgm:cxn modelId="{F134DC24-AEED-4A67-81FE-28EAF0CAA702}" type="presOf" srcId="{3CB41426-7959-42C0-AAFB-BFBD2DFA23D7}" destId="{9F12203E-7382-41A1-844B-723BAC225E39}" srcOrd="0" destOrd="0" presId="urn:microsoft.com/office/officeart/2005/8/layout/vProcess5"/>
    <dgm:cxn modelId="{50F2A593-0252-4962-B4BE-ED53A78604B7}" srcId="{D9CD70AB-75B4-4CAF-8675-44E9527D4D38}" destId="{B5E8DE77-0253-43C2-9ADF-47320C64802F}" srcOrd="1" destOrd="0" parTransId="{3DB8C087-7395-43E0-873F-1B18DBE079CB}" sibTransId="{3B3457C0-2B73-4932-A3E4-14D248B6D04F}"/>
    <dgm:cxn modelId="{FC26D672-70D2-4E7B-B3EE-64BB3E9BF34D}" type="presOf" srcId="{844C9906-50DD-4D3E-A9A6-396F952D909B}" destId="{28B4D216-744E-42D3-987C-8AF046A0A53B}" srcOrd="0" destOrd="0" presId="urn:microsoft.com/office/officeart/2005/8/layout/vProcess5"/>
    <dgm:cxn modelId="{019832B1-0DEF-48B8-BA6D-E42D60BFAAFA}" srcId="{D9CD70AB-75B4-4CAF-8675-44E9527D4D38}" destId="{4361EC3C-4FC1-4512-9689-7A6897338865}" srcOrd="0" destOrd="0" parTransId="{B707302B-B21D-48B1-B62F-3A1956E9828A}" sibTransId="{3CB41426-7959-42C0-AAFB-BFBD2DFA23D7}"/>
    <dgm:cxn modelId="{A91BF938-5228-41D2-82EA-318BDC62EAD0}" type="presOf" srcId="{B5E8DE77-0253-43C2-9ADF-47320C64802F}" destId="{7414AA6E-6F9D-4AF4-8E30-104603C6AFBD}" srcOrd="1" destOrd="0" presId="urn:microsoft.com/office/officeart/2005/8/layout/vProcess5"/>
    <dgm:cxn modelId="{16454D8C-5216-4DB9-A2F8-17010D502983}" type="presParOf" srcId="{C9E4FD0F-5AB4-44BE-8F59-DFF13393AAC0}" destId="{14017A50-672C-4F0C-9755-FC19C40D27B1}" srcOrd="0" destOrd="0" presId="urn:microsoft.com/office/officeart/2005/8/layout/vProcess5"/>
    <dgm:cxn modelId="{7150D117-5ABC-46C7-A201-A7D9487A0B74}" type="presParOf" srcId="{C9E4FD0F-5AB4-44BE-8F59-DFF13393AAC0}" destId="{9A215CC5-8686-4252-8F37-49144DCF9BBC}" srcOrd="1" destOrd="0" presId="urn:microsoft.com/office/officeart/2005/8/layout/vProcess5"/>
    <dgm:cxn modelId="{D8D4D692-CF9B-4E79-8E54-D820B9061E65}" type="presParOf" srcId="{C9E4FD0F-5AB4-44BE-8F59-DFF13393AAC0}" destId="{73E46420-FC06-4BBA-8D4D-63025DF53FD5}" srcOrd="2" destOrd="0" presId="urn:microsoft.com/office/officeart/2005/8/layout/vProcess5"/>
    <dgm:cxn modelId="{6038BDF2-28F5-4B8F-8A72-C34034B17C0B}" type="presParOf" srcId="{C9E4FD0F-5AB4-44BE-8F59-DFF13393AAC0}" destId="{28B4D216-744E-42D3-987C-8AF046A0A53B}" srcOrd="3" destOrd="0" presId="urn:microsoft.com/office/officeart/2005/8/layout/vProcess5"/>
    <dgm:cxn modelId="{7C710373-5392-4BF2-A759-A25B9627DDFF}" type="presParOf" srcId="{C9E4FD0F-5AB4-44BE-8F59-DFF13393AAC0}" destId="{9F12203E-7382-41A1-844B-723BAC225E39}" srcOrd="4" destOrd="0" presId="urn:microsoft.com/office/officeart/2005/8/layout/vProcess5"/>
    <dgm:cxn modelId="{63FCD84B-11AA-4B75-9CC5-B0CD4E6310F7}" type="presParOf" srcId="{C9E4FD0F-5AB4-44BE-8F59-DFF13393AAC0}" destId="{D8C75574-1AA5-4065-BB93-7718650C3A5D}" srcOrd="5" destOrd="0" presId="urn:microsoft.com/office/officeart/2005/8/layout/vProcess5"/>
    <dgm:cxn modelId="{77C68E7E-0595-437D-B68E-22C11D5BAB9B}" type="presParOf" srcId="{C9E4FD0F-5AB4-44BE-8F59-DFF13393AAC0}" destId="{EF58EC46-0807-4DB6-8637-E21AD0E1936B}" srcOrd="6" destOrd="0" presId="urn:microsoft.com/office/officeart/2005/8/layout/vProcess5"/>
    <dgm:cxn modelId="{C63B053D-5A3C-4DAD-97E0-EBEFE200C75B}" type="presParOf" srcId="{C9E4FD0F-5AB4-44BE-8F59-DFF13393AAC0}" destId="{7414AA6E-6F9D-4AF4-8E30-104603C6AFBD}" srcOrd="7" destOrd="0" presId="urn:microsoft.com/office/officeart/2005/8/layout/vProcess5"/>
    <dgm:cxn modelId="{FAC6BD01-14FE-4FF9-9A40-869B553A5400}" type="presParOf" srcId="{C9E4FD0F-5AB4-44BE-8F59-DFF13393AAC0}" destId="{D51AF69C-B39A-40CC-A97B-7A481EA3228B}" srcOrd="8" destOrd="0" presId="urn:microsoft.com/office/officeart/2005/8/layout/vProcess5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FC0CAEEE-AA74-4DB4-B62C-BD917AD35D96}" type="doc">
      <dgm:prSet loTypeId="urn:microsoft.com/office/officeart/2005/8/layout/cycle5" loCatId="cycle" qsTypeId="urn:microsoft.com/office/officeart/2005/8/quickstyle/3d1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0CE051CA-A556-44B8-9148-2806A23CFF1B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Круг представлений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0D9E8EA0-69E2-4C32-BCD0-9C39309474A0}" type="parTrans" cxnId="{FB5517D3-6D79-48FA-BC55-60CD2906BB03}">
      <dgm:prSet/>
      <dgm:spPr/>
      <dgm:t>
        <a:bodyPr/>
        <a:lstStyle/>
        <a:p>
          <a:endParaRPr lang="ru-RU"/>
        </a:p>
      </dgm:t>
    </dgm:pt>
    <dgm:pt modelId="{BD384847-B7D5-4890-BE69-F1A60EB0123E}" type="sibTrans" cxnId="{FB5517D3-6D79-48FA-BC55-60CD2906BB03}">
      <dgm:prSet/>
      <dgm:spPr/>
      <dgm:t>
        <a:bodyPr/>
        <a:lstStyle/>
        <a:p>
          <a:endParaRPr lang="ru-RU"/>
        </a:p>
      </dgm:t>
    </dgm:pt>
    <dgm:pt modelId="{DC2B134F-C84E-4B94-BE9F-7AF5F0B06FE6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Творческие способности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0309DD6C-17D7-442D-9845-C1A5AD6861B7}" type="parTrans" cxnId="{7FBB6E72-A0D5-4103-831E-889859D85D23}">
      <dgm:prSet/>
      <dgm:spPr/>
      <dgm:t>
        <a:bodyPr/>
        <a:lstStyle/>
        <a:p>
          <a:endParaRPr lang="ru-RU"/>
        </a:p>
      </dgm:t>
    </dgm:pt>
    <dgm:pt modelId="{CFD080A6-89F1-4E2F-B84C-228F4C8EB9DB}" type="sibTrans" cxnId="{7FBB6E72-A0D5-4103-831E-889859D85D23}">
      <dgm:prSet/>
      <dgm:spPr/>
      <dgm:t>
        <a:bodyPr/>
        <a:lstStyle/>
        <a:p>
          <a:endParaRPr lang="ru-RU"/>
        </a:p>
      </dgm:t>
    </dgm:pt>
    <dgm:pt modelId="{3CFAFF2A-3207-4FC1-BC6B-A73A71C605A5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Диалектика и логика 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D55A09F7-ADC7-4AF9-96C0-F4E37BBF2E0D}" type="parTrans" cxnId="{73AFE5F6-BF4A-4A39-AE41-BAAAFD658086}">
      <dgm:prSet/>
      <dgm:spPr/>
      <dgm:t>
        <a:bodyPr/>
        <a:lstStyle/>
        <a:p>
          <a:endParaRPr lang="ru-RU"/>
        </a:p>
      </dgm:t>
    </dgm:pt>
    <dgm:pt modelId="{37FC4AC1-7072-4C8E-89A8-E752E3B9312A}" type="sibTrans" cxnId="{73AFE5F6-BF4A-4A39-AE41-BAAAFD658086}">
      <dgm:prSet/>
      <dgm:spPr/>
      <dgm:t>
        <a:bodyPr/>
        <a:lstStyle/>
        <a:p>
          <a:endParaRPr lang="ru-RU"/>
        </a:p>
      </dgm:t>
    </dgm:pt>
    <dgm:pt modelId="{B59D91D6-1DCF-459B-981C-9C28082A0C7A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Нет застенчивости, замкнутости, робости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95FBEF80-C22E-4A5F-9ECD-E8EEE6F21418}" type="parTrans" cxnId="{916EEF37-18BF-4D32-825F-EB4D48E956CA}">
      <dgm:prSet/>
      <dgm:spPr/>
      <dgm:t>
        <a:bodyPr/>
        <a:lstStyle/>
        <a:p>
          <a:endParaRPr lang="ru-RU"/>
        </a:p>
      </dgm:t>
    </dgm:pt>
    <dgm:pt modelId="{5BF3919B-5559-45B0-B4FB-180BCBB814C9}" type="sibTrans" cxnId="{916EEF37-18BF-4D32-825F-EB4D48E956CA}">
      <dgm:prSet/>
      <dgm:spPr/>
      <dgm:t>
        <a:bodyPr/>
        <a:lstStyle/>
        <a:p>
          <a:endParaRPr lang="ru-RU"/>
        </a:p>
      </dgm:t>
    </dgm:pt>
    <dgm:pt modelId="{3E29C5B1-6C4D-44C6-BB53-1BAB7192B6B8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Своя точка зрения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5D3DBC36-F40C-497B-B063-06B8DC4DA76F}" type="parTrans" cxnId="{428D17D9-66E1-49AB-A920-D63B088AEC62}">
      <dgm:prSet/>
      <dgm:spPr/>
      <dgm:t>
        <a:bodyPr/>
        <a:lstStyle/>
        <a:p>
          <a:endParaRPr lang="ru-RU"/>
        </a:p>
      </dgm:t>
    </dgm:pt>
    <dgm:pt modelId="{D3D3B522-1580-42F8-806E-4294C91C718A}" type="sibTrans" cxnId="{428D17D9-66E1-49AB-A920-D63B088AEC62}">
      <dgm:prSet/>
      <dgm:spPr/>
      <dgm:t>
        <a:bodyPr/>
        <a:lstStyle/>
        <a:p>
          <a:endParaRPr lang="ru-RU"/>
        </a:p>
      </dgm:t>
    </dgm:pt>
    <dgm:pt modelId="{98A83B22-2595-4DFD-AC7B-4D2D643D7C8B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Оригинальные решения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71DB4299-BF58-443D-8E7D-F28FD298D2F3}" type="parTrans" cxnId="{0C37743E-4204-4A12-A493-982924E855CF}">
      <dgm:prSet/>
      <dgm:spPr/>
      <dgm:t>
        <a:bodyPr/>
        <a:lstStyle/>
        <a:p>
          <a:endParaRPr lang="ru-RU"/>
        </a:p>
      </dgm:t>
    </dgm:pt>
    <dgm:pt modelId="{8C9B2CF2-795B-48E1-9895-F153E4927C45}" type="sibTrans" cxnId="{0C37743E-4204-4A12-A493-982924E855CF}">
      <dgm:prSet/>
      <dgm:spPr/>
      <dgm:t>
        <a:bodyPr/>
        <a:lstStyle/>
        <a:p>
          <a:endParaRPr lang="ru-RU"/>
        </a:p>
      </dgm:t>
    </dgm:pt>
    <dgm:pt modelId="{406F1022-CC38-40A2-AAC6-B85C9CBC4A42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Мышление; память, воображение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BF0A1AF2-A5BE-43C7-B623-CD6BF866287C}" type="parTrans" cxnId="{B023A629-8E59-4A0E-B53E-789A92FB90CD}">
      <dgm:prSet/>
      <dgm:spPr/>
      <dgm:t>
        <a:bodyPr/>
        <a:lstStyle/>
        <a:p>
          <a:endParaRPr lang="ru-RU"/>
        </a:p>
      </dgm:t>
    </dgm:pt>
    <dgm:pt modelId="{898996CD-54BF-49DF-9595-0B1CE17CACEF}" type="sibTrans" cxnId="{B023A629-8E59-4A0E-B53E-789A92FB90CD}">
      <dgm:prSet/>
      <dgm:spPr/>
      <dgm:t>
        <a:bodyPr/>
        <a:lstStyle/>
        <a:p>
          <a:endParaRPr lang="ru-RU"/>
        </a:p>
      </dgm:t>
    </dgm:pt>
    <dgm:pt modelId="{E82308D7-25AF-4D99-8AC4-E360DE5B2C79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Словарный запас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357B234B-C2B2-4D62-A6E0-2393AD2D5B4D}" type="parTrans" cxnId="{B4BCC435-09EE-487D-BCB7-2469B55E6BC4}">
      <dgm:prSet/>
      <dgm:spPr/>
      <dgm:t>
        <a:bodyPr/>
        <a:lstStyle/>
        <a:p>
          <a:endParaRPr lang="ru-RU"/>
        </a:p>
      </dgm:t>
    </dgm:pt>
    <dgm:pt modelId="{96A91070-A32A-4FD6-B7E9-08F9CFABD7C4}" type="sibTrans" cxnId="{B4BCC435-09EE-487D-BCB7-2469B55E6BC4}">
      <dgm:prSet/>
      <dgm:spPr/>
      <dgm:t>
        <a:bodyPr/>
        <a:lstStyle/>
        <a:p>
          <a:endParaRPr lang="ru-RU"/>
        </a:p>
      </dgm:t>
    </dgm:pt>
    <dgm:pt modelId="{436B8EF0-E91A-43FD-988B-04C586604480}" type="pres">
      <dgm:prSet presAssocID="{FC0CAEEE-AA74-4DB4-B62C-BD917AD35D96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BCEB6EE-870E-47D7-B097-C5B684FCFDAA}" type="pres">
      <dgm:prSet presAssocID="{0CE051CA-A556-44B8-9148-2806A23CFF1B}" presName="node" presStyleLbl="node1" presStyleIdx="0" presStyleCnt="8" custScaleX="219088" custScaleY="1329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0C8169F-ED1D-4B19-9370-335FA1172EC6}" type="pres">
      <dgm:prSet presAssocID="{0CE051CA-A556-44B8-9148-2806A23CFF1B}" presName="spNode" presStyleCnt="0"/>
      <dgm:spPr/>
    </dgm:pt>
    <dgm:pt modelId="{D883E343-4987-493B-8FDC-6185FB3D4801}" type="pres">
      <dgm:prSet presAssocID="{BD384847-B7D5-4890-BE69-F1A60EB0123E}" presName="sibTrans" presStyleLbl="sibTrans1D1" presStyleIdx="0" presStyleCnt="8"/>
      <dgm:spPr/>
      <dgm:t>
        <a:bodyPr/>
        <a:lstStyle/>
        <a:p>
          <a:endParaRPr lang="ru-RU"/>
        </a:p>
      </dgm:t>
    </dgm:pt>
    <dgm:pt modelId="{C7EE2E64-8F97-4B68-AC45-4F9AF7DD13C6}" type="pres">
      <dgm:prSet presAssocID="{E82308D7-25AF-4D99-8AC4-E360DE5B2C79}" presName="node" presStyleLbl="node1" presStyleIdx="1" presStyleCnt="8" custScaleX="165696" custScaleY="160484" custRadScaleRad="117551" custRadScaleInc="750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5396285-019F-4700-B3AA-FC4D61C698D1}" type="pres">
      <dgm:prSet presAssocID="{E82308D7-25AF-4D99-8AC4-E360DE5B2C79}" presName="spNode" presStyleCnt="0"/>
      <dgm:spPr/>
    </dgm:pt>
    <dgm:pt modelId="{0D991D51-7E91-4715-B6D2-FF80159FC37B}" type="pres">
      <dgm:prSet presAssocID="{96A91070-A32A-4FD6-B7E9-08F9CFABD7C4}" presName="sibTrans" presStyleLbl="sibTrans1D1" presStyleIdx="1" presStyleCnt="8"/>
      <dgm:spPr/>
      <dgm:t>
        <a:bodyPr/>
        <a:lstStyle/>
        <a:p>
          <a:endParaRPr lang="ru-RU"/>
        </a:p>
      </dgm:t>
    </dgm:pt>
    <dgm:pt modelId="{7A776F1F-C310-4C71-A636-B00AB7A05806}" type="pres">
      <dgm:prSet presAssocID="{DC2B134F-C84E-4B94-BE9F-7AF5F0B06FE6}" presName="node" presStyleLbl="node1" presStyleIdx="2" presStyleCnt="8" custScaleX="204913" custScaleY="183265" custRadScaleRad="156214" custRadScaleInc="-692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5AD173A-E563-40BF-B924-E2745752CE0E}" type="pres">
      <dgm:prSet presAssocID="{DC2B134F-C84E-4B94-BE9F-7AF5F0B06FE6}" presName="spNode" presStyleCnt="0"/>
      <dgm:spPr/>
    </dgm:pt>
    <dgm:pt modelId="{1A0A53CB-1B8B-44B6-B6BA-C3FD198C7C96}" type="pres">
      <dgm:prSet presAssocID="{CFD080A6-89F1-4E2F-B84C-228F4C8EB9DB}" presName="sibTrans" presStyleLbl="sibTrans1D1" presStyleIdx="2" presStyleCnt="8"/>
      <dgm:spPr/>
      <dgm:t>
        <a:bodyPr/>
        <a:lstStyle/>
        <a:p>
          <a:endParaRPr lang="ru-RU"/>
        </a:p>
      </dgm:t>
    </dgm:pt>
    <dgm:pt modelId="{653F29D3-2628-49F5-BBF6-46D5E7F9CFCD}" type="pres">
      <dgm:prSet presAssocID="{3CFAFF2A-3207-4FC1-BC6B-A73A71C605A5}" presName="node" presStyleLbl="node1" presStyleIdx="3" presStyleCnt="8" custScaleX="224558" custScaleY="96799" custRadScaleRad="122690" custRadScaleInc="-12792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2FE988F-7B9A-46A6-9ADA-8B485DEF3DA3}" type="pres">
      <dgm:prSet presAssocID="{3CFAFF2A-3207-4FC1-BC6B-A73A71C605A5}" presName="spNode" presStyleCnt="0"/>
      <dgm:spPr/>
    </dgm:pt>
    <dgm:pt modelId="{E737ED49-764C-4183-AD13-4DC515239FA8}" type="pres">
      <dgm:prSet presAssocID="{37FC4AC1-7072-4C8E-89A8-E752E3B9312A}" presName="sibTrans" presStyleLbl="sibTrans1D1" presStyleIdx="3" presStyleCnt="8"/>
      <dgm:spPr/>
      <dgm:t>
        <a:bodyPr/>
        <a:lstStyle/>
        <a:p>
          <a:endParaRPr lang="ru-RU"/>
        </a:p>
      </dgm:t>
    </dgm:pt>
    <dgm:pt modelId="{904F7ACB-F5F1-47B9-8D9C-BA953388F3D3}" type="pres">
      <dgm:prSet presAssocID="{B59D91D6-1DCF-459B-981C-9C28082A0C7A}" presName="node" presStyleLbl="node1" presStyleIdx="4" presStyleCnt="8" custScaleX="219088" custScaleY="202169" custRadScaleRad="89758" custRadScaleInc="1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D5B1AED-E370-460B-9005-1BF2669D26E9}" type="pres">
      <dgm:prSet presAssocID="{B59D91D6-1DCF-459B-981C-9C28082A0C7A}" presName="spNode" presStyleCnt="0"/>
      <dgm:spPr/>
    </dgm:pt>
    <dgm:pt modelId="{1E0FC6FC-FE86-4480-B9DF-F1D33A6F9ABD}" type="pres">
      <dgm:prSet presAssocID="{5BF3919B-5559-45B0-B4FB-180BCBB814C9}" presName="sibTrans" presStyleLbl="sibTrans1D1" presStyleIdx="4" presStyleCnt="8"/>
      <dgm:spPr/>
      <dgm:t>
        <a:bodyPr/>
        <a:lstStyle/>
        <a:p>
          <a:endParaRPr lang="ru-RU"/>
        </a:p>
      </dgm:t>
    </dgm:pt>
    <dgm:pt modelId="{331AC569-971D-4FC7-8614-F26AAAF6999A}" type="pres">
      <dgm:prSet presAssocID="{3E29C5B1-6C4D-44C6-BB53-1BAB7192B6B8}" presName="node" presStyleLbl="node1" presStyleIdx="5" presStyleCnt="8" custScaleX="218014" custScaleY="96799" custRadScaleRad="115585" custRadScaleInc="11648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59DE00-B1D4-4343-B481-2778DCFCC7E6}" type="pres">
      <dgm:prSet presAssocID="{3E29C5B1-6C4D-44C6-BB53-1BAB7192B6B8}" presName="spNode" presStyleCnt="0"/>
      <dgm:spPr/>
    </dgm:pt>
    <dgm:pt modelId="{856DC23C-C40F-46B8-8F48-09B09136A42E}" type="pres">
      <dgm:prSet presAssocID="{D3D3B522-1580-42F8-806E-4294C91C718A}" presName="sibTrans" presStyleLbl="sibTrans1D1" presStyleIdx="5" presStyleCnt="8"/>
      <dgm:spPr/>
      <dgm:t>
        <a:bodyPr/>
        <a:lstStyle/>
        <a:p>
          <a:endParaRPr lang="ru-RU"/>
        </a:p>
      </dgm:t>
    </dgm:pt>
    <dgm:pt modelId="{D4D4A1B2-83B9-4948-9B9D-C55CF160D843}" type="pres">
      <dgm:prSet presAssocID="{98A83B22-2595-4DFD-AC7B-4D2D643D7C8B}" presName="node" presStyleLbl="node1" presStyleIdx="6" presStyleCnt="8" custScaleX="211023" custScaleY="149491" custRadScaleRad="151820" custRadScaleInc="174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ABC2899-83FD-4495-9717-209D477FF24C}" type="pres">
      <dgm:prSet presAssocID="{98A83B22-2595-4DFD-AC7B-4D2D643D7C8B}" presName="spNode" presStyleCnt="0"/>
      <dgm:spPr/>
    </dgm:pt>
    <dgm:pt modelId="{342F10E7-FB0A-4E8C-A944-D1C853853172}" type="pres">
      <dgm:prSet presAssocID="{8C9B2CF2-795B-48E1-9895-F153E4927C45}" presName="sibTrans" presStyleLbl="sibTrans1D1" presStyleIdx="6" presStyleCnt="8"/>
      <dgm:spPr/>
      <dgm:t>
        <a:bodyPr/>
        <a:lstStyle/>
        <a:p>
          <a:endParaRPr lang="ru-RU"/>
        </a:p>
      </dgm:t>
    </dgm:pt>
    <dgm:pt modelId="{87070D62-9D5E-4CDB-964A-AC6F27FF9984}" type="pres">
      <dgm:prSet presAssocID="{406F1022-CC38-40A2-AAC6-B85C9CBC4A42}" presName="node" presStyleLbl="node1" presStyleIdx="7" presStyleCnt="8" custScaleX="175035" custScaleY="175297" custRadScaleRad="120421" custRadScaleInc="-10213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5FBC439-3D7C-49A9-97A1-4E5CB21CB34D}" type="pres">
      <dgm:prSet presAssocID="{406F1022-CC38-40A2-AAC6-B85C9CBC4A42}" presName="spNode" presStyleCnt="0"/>
      <dgm:spPr/>
    </dgm:pt>
    <dgm:pt modelId="{E1DC6118-8609-43DC-9D1D-3735D8A09017}" type="pres">
      <dgm:prSet presAssocID="{898996CD-54BF-49DF-9595-0B1CE17CACEF}" presName="sibTrans" presStyleLbl="sibTrans1D1" presStyleIdx="7" presStyleCnt="8"/>
      <dgm:spPr/>
      <dgm:t>
        <a:bodyPr/>
        <a:lstStyle/>
        <a:p>
          <a:endParaRPr lang="ru-RU"/>
        </a:p>
      </dgm:t>
    </dgm:pt>
  </dgm:ptLst>
  <dgm:cxnLst>
    <dgm:cxn modelId="{91A3997A-0F0C-489E-AF1F-17910409D012}" type="presOf" srcId="{3E29C5B1-6C4D-44C6-BB53-1BAB7192B6B8}" destId="{331AC569-971D-4FC7-8614-F26AAAF6999A}" srcOrd="0" destOrd="0" presId="urn:microsoft.com/office/officeart/2005/8/layout/cycle5"/>
    <dgm:cxn modelId="{621396C5-8E6D-4EE4-8B62-95C393C37E04}" type="presOf" srcId="{D3D3B522-1580-42F8-806E-4294C91C718A}" destId="{856DC23C-C40F-46B8-8F48-09B09136A42E}" srcOrd="0" destOrd="0" presId="urn:microsoft.com/office/officeart/2005/8/layout/cycle5"/>
    <dgm:cxn modelId="{051DB1D7-23DE-449A-A043-4714FCE85B79}" type="presOf" srcId="{96A91070-A32A-4FD6-B7E9-08F9CFABD7C4}" destId="{0D991D51-7E91-4715-B6D2-FF80159FC37B}" srcOrd="0" destOrd="0" presId="urn:microsoft.com/office/officeart/2005/8/layout/cycle5"/>
    <dgm:cxn modelId="{379160B4-0A8F-4BC2-B545-37EFFDEC473B}" type="presOf" srcId="{406F1022-CC38-40A2-AAC6-B85C9CBC4A42}" destId="{87070D62-9D5E-4CDB-964A-AC6F27FF9984}" srcOrd="0" destOrd="0" presId="urn:microsoft.com/office/officeart/2005/8/layout/cycle5"/>
    <dgm:cxn modelId="{0F52EF91-53B4-49E4-94EB-F661A08CF097}" type="presOf" srcId="{DC2B134F-C84E-4B94-BE9F-7AF5F0B06FE6}" destId="{7A776F1F-C310-4C71-A636-B00AB7A05806}" srcOrd="0" destOrd="0" presId="urn:microsoft.com/office/officeart/2005/8/layout/cycle5"/>
    <dgm:cxn modelId="{A7B3C023-FC53-401E-8461-8A85D4487B90}" type="presOf" srcId="{CFD080A6-89F1-4E2F-B84C-228F4C8EB9DB}" destId="{1A0A53CB-1B8B-44B6-B6BA-C3FD198C7C96}" srcOrd="0" destOrd="0" presId="urn:microsoft.com/office/officeart/2005/8/layout/cycle5"/>
    <dgm:cxn modelId="{4EE1AB27-B7AF-4E35-BF50-13FE26233DCA}" type="presOf" srcId="{3CFAFF2A-3207-4FC1-BC6B-A73A71C605A5}" destId="{653F29D3-2628-49F5-BBF6-46D5E7F9CFCD}" srcOrd="0" destOrd="0" presId="urn:microsoft.com/office/officeart/2005/8/layout/cycle5"/>
    <dgm:cxn modelId="{7FBB6E72-A0D5-4103-831E-889859D85D23}" srcId="{FC0CAEEE-AA74-4DB4-B62C-BD917AD35D96}" destId="{DC2B134F-C84E-4B94-BE9F-7AF5F0B06FE6}" srcOrd="2" destOrd="0" parTransId="{0309DD6C-17D7-442D-9845-C1A5AD6861B7}" sibTransId="{CFD080A6-89F1-4E2F-B84C-228F4C8EB9DB}"/>
    <dgm:cxn modelId="{0C37743E-4204-4A12-A493-982924E855CF}" srcId="{FC0CAEEE-AA74-4DB4-B62C-BD917AD35D96}" destId="{98A83B22-2595-4DFD-AC7B-4D2D643D7C8B}" srcOrd="6" destOrd="0" parTransId="{71DB4299-BF58-443D-8E7D-F28FD298D2F3}" sibTransId="{8C9B2CF2-795B-48E1-9895-F153E4927C45}"/>
    <dgm:cxn modelId="{73AFE5F6-BF4A-4A39-AE41-BAAAFD658086}" srcId="{FC0CAEEE-AA74-4DB4-B62C-BD917AD35D96}" destId="{3CFAFF2A-3207-4FC1-BC6B-A73A71C605A5}" srcOrd="3" destOrd="0" parTransId="{D55A09F7-ADC7-4AF9-96C0-F4E37BBF2E0D}" sibTransId="{37FC4AC1-7072-4C8E-89A8-E752E3B9312A}"/>
    <dgm:cxn modelId="{CE54488F-C7C0-47F3-BACB-BB038A0B542F}" type="presOf" srcId="{E82308D7-25AF-4D99-8AC4-E360DE5B2C79}" destId="{C7EE2E64-8F97-4B68-AC45-4F9AF7DD13C6}" srcOrd="0" destOrd="0" presId="urn:microsoft.com/office/officeart/2005/8/layout/cycle5"/>
    <dgm:cxn modelId="{FB5517D3-6D79-48FA-BC55-60CD2906BB03}" srcId="{FC0CAEEE-AA74-4DB4-B62C-BD917AD35D96}" destId="{0CE051CA-A556-44B8-9148-2806A23CFF1B}" srcOrd="0" destOrd="0" parTransId="{0D9E8EA0-69E2-4C32-BCD0-9C39309474A0}" sibTransId="{BD384847-B7D5-4890-BE69-F1A60EB0123E}"/>
    <dgm:cxn modelId="{AF4A9BCE-EDBB-48F8-8016-32099F917040}" type="presOf" srcId="{898996CD-54BF-49DF-9595-0B1CE17CACEF}" destId="{E1DC6118-8609-43DC-9D1D-3735D8A09017}" srcOrd="0" destOrd="0" presId="urn:microsoft.com/office/officeart/2005/8/layout/cycle5"/>
    <dgm:cxn modelId="{428D17D9-66E1-49AB-A920-D63B088AEC62}" srcId="{FC0CAEEE-AA74-4DB4-B62C-BD917AD35D96}" destId="{3E29C5B1-6C4D-44C6-BB53-1BAB7192B6B8}" srcOrd="5" destOrd="0" parTransId="{5D3DBC36-F40C-497B-B063-06B8DC4DA76F}" sibTransId="{D3D3B522-1580-42F8-806E-4294C91C718A}"/>
    <dgm:cxn modelId="{96E8FAAE-1A5C-466E-96F4-0403C518514E}" type="presOf" srcId="{BD384847-B7D5-4890-BE69-F1A60EB0123E}" destId="{D883E343-4987-493B-8FDC-6185FB3D4801}" srcOrd="0" destOrd="0" presId="urn:microsoft.com/office/officeart/2005/8/layout/cycle5"/>
    <dgm:cxn modelId="{06808335-EF6E-4119-8285-5A2DF2DC16E0}" type="presOf" srcId="{5BF3919B-5559-45B0-B4FB-180BCBB814C9}" destId="{1E0FC6FC-FE86-4480-B9DF-F1D33A6F9ABD}" srcOrd="0" destOrd="0" presId="urn:microsoft.com/office/officeart/2005/8/layout/cycle5"/>
    <dgm:cxn modelId="{B023A629-8E59-4A0E-B53E-789A92FB90CD}" srcId="{FC0CAEEE-AA74-4DB4-B62C-BD917AD35D96}" destId="{406F1022-CC38-40A2-AAC6-B85C9CBC4A42}" srcOrd="7" destOrd="0" parTransId="{BF0A1AF2-A5BE-43C7-B623-CD6BF866287C}" sibTransId="{898996CD-54BF-49DF-9595-0B1CE17CACEF}"/>
    <dgm:cxn modelId="{25DB5FDE-A455-49D7-A603-63B295F0E95B}" type="presOf" srcId="{B59D91D6-1DCF-459B-981C-9C28082A0C7A}" destId="{904F7ACB-F5F1-47B9-8D9C-BA953388F3D3}" srcOrd="0" destOrd="0" presId="urn:microsoft.com/office/officeart/2005/8/layout/cycle5"/>
    <dgm:cxn modelId="{431B8B69-579F-4A22-8E58-33E87C6BD411}" type="presOf" srcId="{8C9B2CF2-795B-48E1-9895-F153E4927C45}" destId="{342F10E7-FB0A-4E8C-A944-D1C853853172}" srcOrd="0" destOrd="0" presId="urn:microsoft.com/office/officeart/2005/8/layout/cycle5"/>
    <dgm:cxn modelId="{B4BCC435-09EE-487D-BCB7-2469B55E6BC4}" srcId="{FC0CAEEE-AA74-4DB4-B62C-BD917AD35D96}" destId="{E82308D7-25AF-4D99-8AC4-E360DE5B2C79}" srcOrd="1" destOrd="0" parTransId="{357B234B-C2B2-4D62-A6E0-2393AD2D5B4D}" sibTransId="{96A91070-A32A-4FD6-B7E9-08F9CFABD7C4}"/>
    <dgm:cxn modelId="{B0B00005-417B-4816-A8BE-C23D09D93BD5}" type="presOf" srcId="{98A83B22-2595-4DFD-AC7B-4D2D643D7C8B}" destId="{D4D4A1B2-83B9-4948-9B9D-C55CF160D843}" srcOrd="0" destOrd="0" presId="urn:microsoft.com/office/officeart/2005/8/layout/cycle5"/>
    <dgm:cxn modelId="{916EEF37-18BF-4D32-825F-EB4D48E956CA}" srcId="{FC0CAEEE-AA74-4DB4-B62C-BD917AD35D96}" destId="{B59D91D6-1DCF-459B-981C-9C28082A0C7A}" srcOrd="4" destOrd="0" parTransId="{95FBEF80-C22E-4A5F-9ECD-E8EEE6F21418}" sibTransId="{5BF3919B-5559-45B0-B4FB-180BCBB814C9}"/>
    <dgm:cxn modelId="{CE6D0413-C58D-41E5-A9BD-C894BB5CC45B}" type="presOf" srcId="{0CE051CA-A556-44B8-9148-2806A23CFF1B}" destId="{6BCEB6EE-870E-47D7-B097-C5B684FCFDAA}" srcOrd="0" destOrd="0" presId="urn:microsoft.com/office/officeart/2005/8/layout/cycle5"/>
    <dgm:cxn modelId="{80BFE606-55DA-49EF-B4C9-5401857C7443}" type="presOf" srcId="{FC0CAEEE-AA74-4DB4-B62C-BD917AD35D96}" destId="{436B8EF0-E91A-43FD-988B-04C586604480}" srcOrd="0" destOrd="0" presId="urn:microsoft.com/office/officeart/2005/8/layout/cycle5"/>
    <dgm:cxn modelId="{3C4702C2-C34A-4CEA-9316-4003D9A3378E}" type="presOf" srcId="{37FC4AC1-7072-4C8E-89A8-E752E3B9312A}" destId="{E737ED49-764C-4183-AD13-4DC515239FA8}" srcOrd="0" destOrd="0" presId="urn:microsoft.com/office/officeart/2005/8/layout/cycle5"/>
    <dgm:cxn modelId="{FEA31B4C-B55B-466E-95D1-4429555BE627}" type="presParOf" srcId="{436B8EF0-E91A-43FD-988B-04C586604480}" destId="{6BCEB6EE-870E-47D7-B097-C5B684FCFDAA}" srcOrd="0" destOrd="0" presId="urn:microsoft.com/office/officeart/2005/8/layout/cycle5"/>
    <dgm:cxn modelId="{2E400968-9168-43E0-9F2F-8025B09F38E4}" type="presParOf" srcId="{436B8EF0-E91A-43FD-988B-04C586604480}" destId="{A0C8169F-ED1D-4B19-9370-335FA1172EC6}" srcOrd="1" destOrd="0" presId="urn:microsoft.com/office/officeart/2005/8/layout/cycle5"/>
    <dgm:cxn modelId="{D4E8A1A1-D86E-46E4-A38F-B70EF6244E48}" type="presParOf" srcId="{436B8EF0-E91A-43FD-988B-04C586604480}" destId="{D883E343-4987-493B-8FDC-6185FB3D4801}" srcOrd="2" destOrd="0" presId="urn:microsoft.com/office/officeart/2005/8/layout/cycle5"/>
    <dgm:cxn modelId="{B044AE96-265C-42B1-9A19-CAE73C64D63F}" type="presParOf" srcId="{436B8EF0-E91A-43FD-988B-04C586604480}" destId="{C7EE2E64-8F97-4B68-AC45-4F9AF7DD13C6}" srcOrd="3" destOrd="0" presId="urn:microsoft.com/office/officeart/2005/8/layout/cycle5"/>
    <dgm:cxn modelId="{62C809CF-D1A2-4EA4-92FF-2932509B27BF}" type="presParOf" srcId="{436B8EF0-E91A-43FD-988B-04C586604480}" destId="{15396285-019F-4700-B3AA-FC4D61C698D1}" srcOrd="4" destOrd="0" presId="urn:microsoft.com/office/officeart/2005/8/layout/cycle5"/>
    <dgm:cxn modelId="{13A16ED3-782E-4D34-9368-EFB951CE514C}" type="presParOf" srcId="{436B8EF0-E91A-43FD-988B-04C586604480}" destId="{0D991D51-7E91-4715-B6D2-FF80159FC37B}" srcOrd="5" destOrd="0" presId="urn:microsoft.com/office/officeart/2005/8/layout/cycle5"/>
    <dgm:cxn modelId="{20701199-A416-47DC-9F71-007B41B232A9}" type="presParOf" srcId="{436B8EF0-E91A-43FD-988B-04C586604480}" destId="{7A776F1F-C310-4C71-A636-B00AB7A05806}" srcOrd="6" destOrd="0" presId="urn:microsoft.com/office/officeart/2005/8/layout/cycle5"/>
    <dgm:cxn modelId="{2F3FF2DA-4863-4754-AD28-B4D72B7294DD}" type="presParOf" srcId="{436B8EF0-E91A-43FD-988B-04C586604480}" destId="{B5AD173A-E563-40BF-B924-E2745752CE0E}" srcOrd="7" destOrd="0" presId="urn:microsoft.com/office/officeart/2005/8/layout/cycle5"/>
    <dgm:cxn modelId="{9F181549-2C37-425E-935A-AEA1834E22F6}" type="presParOf" srcId="{436B8EF0-E91A-43FD-988B-04C586604480}" destId="{1A0A53CB-1B8B-44B6-B6BA-C3FD198C7C96}" srcOrd="8" destOrd="0" presId="urn:microsoft.com/office/officeart/2005/8/layout/cycle5"/>
    <dgm:cxn modelId="{43B7FAF4-1D09-436C-AA2B-3C1CCC995FCD}" type="presParOf" srcId="{436B8EF0-E91A-43FD-988B-04C586604480}" destId="{653F29D3-2628-49F5-BBF6-46D5E7F9CFCD}" srcOrd="9" destOrd="0" presId="urn:microsoft.com/office/officeart/2005/8/layout/cycle5"/>
    <dgm:cxn modelId="{251DBB69-7957-48C8-B3B6-6DB758D5F9F5}" type="presParOf" srcId="{436B8EF0-E91A-43FD-988B-04C586604480}" destId="{E2FE988F-7B9A-46A6-9ADA-8B485DEF3DA3}" srcOrd="10" destOrd="0" presId="urn:microsoft.com/office/officeart/2005/8/layout/cycle5"/>
    <dgm:cxn modelId="{5F8F70D7-AF92-4358-986D-BB11835FA6DD}" type="presParOf" srcId="{436B8EF0-E91A-43FD-988B-04C586604480}" destId="{E737ED49-764C-4183-AD13-4DC515239FA8}" srcOrd="11" destOrd="0" presId="urn:microsoft.com/office/officeart/2005/8/layout/cycle5"/>
    <dgm:cxn modelId="{50BF7A6F-9342-4182-B375-478CD32AB7C1}" type="presParOf" srcId="{436B8EF0-E91A-43FD-988B-04C586604480}" destId="{904F7ACB-F5F1-47B9-8D9C-BA953388F3D3}" srcOrd="12" destOrd="0" presId="urn:microsoft.com/office/officeart/2005/8/layout/cycle5"/>
    <dgm:cxn modelId="{1AB2E001-F062-4DF2-A400-54F63D1D5F70}" type="presParOf" srcId="{436B8EF0-E91A-43FD-988B-04C586604480}" destId="{0D5B1AED-E370-460B-9005-1BF2669D26E9}" srcOrd="13" destOrd="0" presId="urn:microsoft.com/office/officeart/2005/8/layout/cycle5"/>
    <dgm:cxn modelId="{090F7342-03FC-49D6-8E77-92B4347A3081}" type="presParOf" srcId="{436B8EF0-E91A-43FD-988B-04C586604480}" destId="{1E0FC6FC-FE86-4480-B9DF-F1D33A6F9ABD}" srcOrd="14" destOrd="0" presId="urn:microsoft.com/office/officeart/2005/8/layout/cycle5"/>
    <dgm:cxn modelId="{E5F6D82D-B014-4FF2-86FE-A364998BBAF1}" type="presParOf" srcId="{436B8EF0-E91A-43FD-988B-04C586604480}" destId="{331AC569-971D-4FC7-8614-F26AAAF6999A}" srcOrd="15" destOrd="0" presId="urn:microsoft.com/office/officeart/2005/8/layout/cycle5"/>
    <dgm:cxn modelId="{83D89937-4292-4308-AE2C-3D895C8B6F53}" type="presParOf" srcId="{436B8EF0-E91A-43FD-988B-04C586604480}" destId="{5859DE00-B1D4-4343-B481-2778DCFCC7E6}" srcOrd="16" destOrd="0" presId="urn:microsoft.com/office/officeart/2005/8/layout/cycle5"/>
    <dgm:cxn modelId="{6DCE206E-3169-4EE4-A6C7-A20BF9921920}" type="presParOf" srcId="{436B8EF0-E91A-43FD-988B-04C586604480}" destId="{856DC23C-C40F-46B8-8F48-09B09136A42E}" srcOrd="17" destOrd="0" presId="urn:microsoft.com/office/officeart/2005/8/layout/cycle5"/>
    <dgm:cxn modelId="{5965E9A4-641C-4348-A74C-1945091A65E0}" type="presParOf" srcId="{436B8EF0-E91A-43FD-988B-04C586604480}" destId="{D4D4A1B2-83B9-4948-9B9D-C55CF160D843}" srcOrd="18" destOrd="0" presId="urn:microsoft.com/office/officeart/2005/8/layout/cycle5"/>
    <dgm:cxn modelId="{392487A8-73C1-4946-B636-DF04522FFBCB}" type="presParOf" srcId="{436B8EF0-E91A-43FD-988B-04C586604480}" destId="{CABC2899-83FD-4495-9717-209D477FF24C}" srcOrd="19" destOrd="0" presId="urn:microsoft.com/office/officeart/2005/8/layout/cycle5"/>
    <dgm:cxn modelId="{B4503DBA-170A-458C-B172-FEDEADD8286B}" type="presParOf" srcId="{436B8EF0-E91A-43FD-988B-04C586604480}" destId="{342F10E7-FB0A-4E8C-A944-D1C853853172}" srcOrd="20" destOrd="0" presId="urn:microsoft.com/office/officeart/2005/8/layout/cycle5"/>
    <dgm:cxn modelId="{BED95D80-1B4D-4B75-B285-10113115022D}" type="presParOf" srcId="{436B8EF0-E91A-43FD-988B-04C586604480}" destId="{87070D62-9D5E-4CDB-964A-AC6F27FF9984}" srcOrd="21" destOrd="0" presId="urn:microsoft.com/office/officeart/2005/8/layout/cycle5"/>
    <dgm:cxn modelId="{02505386-CB56-4825-B884-69046137B659}" type="presParOf" srcId="{436B8EF0-E91A-43FD-988B-04C586604480}" destId="{C5FBC439-3D7C-49A9-97A1-4E5CB21CB34D}" srcOrd="22" destOrd="0" presId="urn:microsoft.com/office/officeart/2005/8/layout/cycle5"/>
    <dgm:cxn modelId="{BF542980-308C-4060-9010-55C097DA2383}" type="presParOf" srcId="{436B8EF0-E91A-43FD-988B-04C586604480}" destId="{E1DC6118-8609-43DC-9D1D-3735D8A09017}" srcOrd="23" destOrd="0" presId="urn:microsoft.com/office/officeart/2005/8/layout/cycle5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6">
  <dgm:title val=""/>
  <dgm:desc val=""/>
  <dgm:catLst>
    <dgm:cat type="cycle" pri="9000"/>
    <dgm:cat type="relationship" pri="2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Name0">
    <dgm:varLst>
      <dgm:chMax val="1"/>
      <dgm:dir/>
      <dgm:animLvl val="ctr"/>
      <dgm:resizeHandles val="exact"/>
    </dgm:varLst>
    <dgm:choose name="Name1">
      <dgm:if name="Name2" func="var" arg="dir" op="equ" val="norm">
        <dgm:choose name="Name3">
          <dgm:if name="Name4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5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6">
        <dgm:choose name="Name7">
          <dgm:if name="Name8" axis="ch ch" ptType="node node" st="1 1" cnt="1 0" func="cnt" op="lte" val="1">
            <dgm:alg type="cycle">
              <dgm:param type="stAng" val="-90"/>
              <dgm:param type="spanAng" val="360"/>
              <dgm:param type="ctrShpMap" val="fNode"/>
            </dgm:alg>
          </dgm:if>
          <dgm:else name="Name9">
            <dgm:alg type="cycle">
              <dgm:param type="stAng" val="0"/>
              <dgm:param type="spanAng" val="-360"/>
              <dgm:param type="ctrShpMap" val="fNode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10">
      <dgm:if name="Name11" func="var" arg="dir" op="equ" val="norm">
        <dgm:choose name="Name12">
          <dgm:if name="Name13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des" forName="oneNode" refType="primFontSz" refFor="ch" refForName="centerShape" op="lte" fact="0.95"/>
              <dgm:constr type="diam" for="ch" forName="singleconn" refType="diam" op="equ" fact="-1"/>
              <dgm:constr type="h" for="ch" forName="singleconn" refType="w" refFor="ch" refForName="oneComp" fact="0.24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4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forName="sibTrans" refType="diam" op="equ"/>
              <dgm:constr type="h" for="ch" forName="sibTrans" refType="w" refFor="ch" refForName="node" fact="0.24"/>
              <dgm:constr type="w" for="ch" forName="dummy" val="1"/>
            </dgm:constrLst>
          </dgm:else>
        </dgm:choose>
      </dgm:if>
      <dgm:else name="Name15">
        <dgm:choose name="Name16">
          <dgm:if name="Name17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ch" forName="oneNode" refType="primFontSz" refFor="ch" refForName="centerShape" op="lte" fact="0.95"/>
              <dgm:constr type="diam" for="ch" forName="singleconn" refType="diam"/>
              <dgm:constr type="h" for="ch" forName="singleconn" refType="w" refFor="ch" refForName="oneComp" fact="0.24"/>
              <dgm:constr type="diam" for="ch" refType="diam" op="equ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8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ptType="sibTrans" refType="diam" fact="-1"/>
              <dgm:constr type="h" for="ch" forName="sibTrans" refType="w" refFor="ch" refForName="node" fact="0.24"/>
              <dgm:constr type="diam" for="ch" refType="diam" op="equ" fact="-1"/>
              <dgm:constr type="w" for="ch" forName="dummy" val="1"/>
            </dgm:constrLst>
          </dgm:else>
        </dgm:choose>
      </dgm:else>
    </dgm:choose>
    <dgm:ruleLst>
      <dgm:rule type="diam" val="INF" fact="NaN" max="NaN"/>
    </dgm:ruleLst>
    <dgm:forEach name="Name19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Name20" axis="ch">
        <dgm:forEach name="Name21" axis="self" ptType="node">
          <dgm:choose name="Name22">
            <dgm:if name="Name23" axis="par ch" ptType="node node" func="cnt" op="gt" val="1">
              <dgm:layoutNode name="node" styleLbl="node1">
                <dgm:varLst>
                  <dgm:bulletEnabled val="1"/>
                </dgm:varLst>
                <dgm:alg type="tx">
                  <dgm:param type="txAnchorVertCh" val="mid"/>
                </dgm:alg>
                <dgm:shape xmlns:r="http://schemas.openxmlformats.org/officeDocument/2006/relationships" type="ellipse" r:blip="">
                  <dgm:adjLst/>
                </dgm:shape>
                <dgm:presOf axis="desOrSelf" ptType="node"/>
                <dgm:constrLst>
                  <dgm:constr type="h" refType="w"/>
                  <dgm:constr type="tMarg" refType="primFontSz" fact="0.1"/>
                  <dgm:constr type="bMarg" refType="primFontSz" fact="0.1"/>
                  <dgm:constr type="lMarg" refType="primFontSz" fact="0.1"/>
                  <dgm:constr type="rMarg" refType="primFontSz" fact="0.1"/>
                </dgm:constrLst>
                <dgm:ruleLst>
                  <dgm:rule type="primFontSz" val="5" fact="NaN" max="NaN"/>
                </dgm:ruleLst>
              </dgm:layoutNode>
              <dgm:layoutNode name="dummy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" axis="followSib" ptType="sibTrans" hideLastTrans="0" cnt="1">
                <dgm:layoutNode name="sibTrans" styleLbl="sibTrans2D1">
                  <dgm:alg type="conn">
                    <dgm:param type="connRout" val="curve"/>
                    <dgm:param type="begPts" val="ctr"/>
                    <dgm:param type="endPts" val="ctr"/>
                    <dgm:param type="begSty" val="noArr"/>
                    <dgm:param type="endSty" val="noArr"/>
                    <dgm:param type="dstNode" val="node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if name="Name24" axis="par ch" ptType="node node" func="cnt" op="equ" val="1">
              <dgm:layoutNode name="oneComp">
                <dgm:alg type="composite">
                  <dgm:param type="ar" val="1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  <dgm:constr type="l" for="ch" forName="dummyConnPt" refType="w" fact="0.5"/>
                  <dgm:constr type="t" for="ch" forName="dummyConnPt" refType="w" fact="0.5"/>
                  <dgm:constr type="l" for="ch" forName="oneNode"/>
                  <dgm:constr type="t" for="ch" forName="oneNode"/>
                  <dgm:constr type="h" for="ch" forName="oneNode" refType="h"/>
                  <dgm:constr type="w" for="ch" forName="oneNode" refType="w"/>
                </dgm:constrLst>
                <dgm:ruleLst/>
                <dgm:layoutNode name="dummyConnPt" styleLbl="node1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val="1"/>
                    <dgm:constr type="h" val="1"/>
                  </dgm:constrLst>
                  <dgm:ruleLst/>
                </dgm:layoutNode>
                <dgm:layoutNode name="oneNode" styleLbl="node1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h" refType="w"/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</dgm:layoutNode>
              <dgm:layoutNode name="dummya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b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c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1" axis="followSib" ptType="sibTrans" hideLastTrans="0" cnt="1">
                <dgm:layoutNode name="singleconn" styleLbl="sibTrans2D1">
                  <dgm:alg type="conn">
                    <dgm:param type="connRout" val="longCurve"/>
                    <dgm:param type="begPts" val="bCtr"/>
                    <dgm:param type="endPts" val="tCtr"/>
                    <dgm:param type="begSty" val="noArr"/>
                    <dgm:param type="endSty" val="noArr"/>
                    <dgm:param type="srcNode" val="dummyConnPt"/>
                    <dgm:param type="dstNode" val="dummyConnPt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else name="Name25"/>
          </dgm:choose>
        </dgm:forEach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cycle5">
  <dgm:title val=""/>
  <dgm:desc val=""/>
  <dgm:catLst>
    <dgm:cat type="cycle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fact="-1"/>
          <dgm:constr type="diam" for="ch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2"/>
                <dgm:constr type="endPad" refType="connDist" fact="0.2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5BB10-D8B0-4285-AE54-4CAAE4CC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1496CB-2CD8-4D67-9208-3B4138D84A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9680F1-7BDA-4C23-8466-D16BD4816F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E5D1D5-5898-40A1-BC64-08A622282E7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565-D60E-4DA0-B482-06BC7AD9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523-D30A-4EC8-A237-26A3A32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ABA-CD93-43C2-A6DA-EA2689DD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51E-8F05-414D-92FD-99193C39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8E3-B04A-4348-8563-08FA432B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77B8-EEF0-47C6-B495-53F411A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915-145D-45D9-BC89-4B9451C4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DDAD-F36F-46F3-B137-DED663F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970-4059-4581-A885-325CA6B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9FD6-99BB-426D-9F36-72E6D521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6735-4FAC-4284-8895-FC76380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79C-7D33-42B2-9F6E-4BB8C4B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5B74-D5F1-4C28-9D38-6456C75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789-CA21-4F58-A71C-34B9008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4E0D-A957-40B1-BEDF-470E652F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BD4-E670-423F-B9A8-AA80432B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AB5-3F2F-4F14-84A7-A2D06741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053-4C63-4682-9813-DE01BCC4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077-4F1F-4535-A9EC-72619F7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8A9-612F-4698-BBEE-D106994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1AB-F6F5-4CFE-A8B0-C8B1F78B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FC6-DB0F-47CE-9C5B-AF1B564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609-DA39-4C62-8A12-50313FE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A6D-0286-4ADB-9B95-5481175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0E1A80-6F88-4C73-B487-D8EDD9DF6C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712D22-DE24-4C1C-863C-81FD4763C3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2.wdp"/><Relationship Id="rId3" Type="http://schemas.openxmlformats.org/officeDocument/2006/relationships/image" Target="../media/image7.png"/><Relationship Id="rId4" Type="http://schemas.microsoft.com/office/2007/relationships/hdphoto" Target="../media/hdphoto3.wdp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5920" y="3357720"/>
            <a:ext cx="7357680" cy="25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7200" y="5500800"/>
            <a:ext cx="73576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втор: Быкова Е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42920" y="714240"/>
            <a:ext cx="9286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icture 2"/>
          <p:cNvSpPr/>
          <p:nvPr/>
        </p:nvSpPr>
        <p:spPr>
          <a:xfrm>
            <a:off x="2714760" y="2500200"/>
            <a:ext cx="3642840" cy="401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857160" y="1928880"/>
            <a:ext cx="692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фокальны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42920" y="714240"/>
            <a:ext cx="9286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04788606"/>
              </p:ext>
            </p:extLst>
          </p:nvPr>
        </p:nvGraphicFramePr>
        <p:xfrm>
          <a:off x="1500120" y="242892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Диаграмма 8"/>
          <p:cNvGraphicFramePr/>
          <p:nvPr/>
        </p:nvGraphicFramePr>
        <p:xfrm>
          <a:off x="428760" y="2500200"/>
          <a:ext cx="807228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Обобщающий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3214800" y="3714840"/>
            <a:ext cx="278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РИ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875191948"/>
              </p:ext>
            </p:extLst>
          </p:nvPr>
        </p:nvGraphicFramePr>
        <p:xfrm>
          <a:off x="214200" y="2071800"/>
          <a:ext cx="8786520" cy="46432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0" name="Прямоугольник 5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5"/>
          <p:cNvSpPr/>
          <p:nvPr/>
        </p:nvSpPr>
        <p:spPr>
          <a:xfrm>
            <a:off x="357120" y="1428840"/>
            <a:ext cx="84294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льтшуллер Г.С. Краски для фантазии. Прелюдия к теории развития творческого воображения. // Шанс на приключение. /сост. Селюцкий А.Б. – Петрозавод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рдашева Н.И. и др. Истории про.… – Ульянов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готский Л.С. Воображение и творчество в детском возрасте. – М.: Просвещ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А.А. "Да" и "нет" говорите…//Педагогика+ТРИЗ: сб. статей для учителей, воспитателей и менеджеров образования, выпуск 2. – Гомель: ИПП "Сож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С.И. Мир фантазии. – Гоме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С.И. Мир человека. – Гоме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идактические игры для развития творческого воображения детей/ сост. Никашин А.И. – Ростов-на-Дон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ьяченко О.М. Воображение дошкольника. – М.: Знание,– (Нар. ун-т. Пед. фак. № 5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ика Е.В. Комплекс игр для развития воображения // Вопросы психологии, №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"Золотой ключик" творческого мышления. /под ред. Сидорчук Т.А. – Челябин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плинг Р. Сказки. – М.: Детская литерату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орзун А.В. Веселая дидактика: элементы ТРИЗ и РТВ в работе с дошкольниками. – Мн, Университет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дошкина С. Цикл занятий по РТВ с детьми дошкольного возраста (рукопись в фонде ЧОУНБ). – Новосибир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дошкина С. Сказочные задачи (рукопись в фонде ЧОУНБ). – 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урашковска И.Н. Валюмс Н.П. Картинки без запинки. – С-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1434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83177297"/>
              </p:ext>
            </p:extLst>
          </p:nvPr>
        </p:nvGraphicFramePr>
        <p:xfrm>
          <a:off x="-1071720" y="1000080"/>
          <a:ext cx="9429480" cy="5684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36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98847400"/>
              </p:ext>
            </p:extLst>
          </p:nvPr>
        </p:nvGraphicFramePr>
        <p:xfrm>
          <a:off x="228600" y="2500200"/>
          <a:ext cx="862920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214200"/>
            <a:ext cx="65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f2e2b"/>
                </a:solidFill>
                <a:latin typeface="Georgia"/>
              </a:rPr>
              <a:t>Цель проекта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воспитать творческую личность в условиях детского сада на основе развития творческого воображения и сущности теории решения изобретательских задач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Диаграмма 8"/>
          <p:cNvGraphicFramePr/>
          <p:nvPr/>
        </p:nvGraphicFramePr>
        <p:xfrm>
          <a:off x="428760" y="2500200"/>
          <a:ext cx="807228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7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Этап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154497946"/>
              </p:ext>
            </p:extLst>
          </p:nvPr>
        </p:nvGraphicFramePr>
        <p:xfrm>
          <a:off x="285840" y="2714760"/>
          <a:ext cx="8572320" cy="3920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712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“Системный анализ”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00040" y="-90720"/>
            <a:ext cx="822924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Методы ТРИЗ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исунок 7"/>
          <p:cNvSpPr/>
          <p:nvPr/>
        </p:nvSpPr>
        <p:spPr>
          <a:xfrm>
            <a:off x="2000160" y="2500200"/>
            <a:ext cx="5143320" cy="4142880"/>
          </a:xfrm>
          <a:prstGeom prst="roundRect">
            <a:avLst>
              <a:gd name="adj" fmla="val 16667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синекти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Рисунок 5"/>
          <p:cNvSpPr/>
          <p:nvPr/>
        </p:nvSpPr>
        <p:spPr>
          <a:xfrm>
            <a:off x="2286000" y="2500200"/>
            <a:ext cx="4714560" cy="407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озговой штур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Рисунок 9"/>
          <p:cNvSpPr/>
          <p:nvPr/>
        </p:nvSpPr>
        <p:spPr>
          <a:xfrm rot="20778000">
            <a:off x="350280" y="2778480"/>
            <a:ext cx="3872880" cy="3426120"/>
          </a:xfrm>
          <a:prstGeom prst="roundRect">
            <a:avLst>
              <a:gd name="adj" fmla="val 16667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исунок 10"/>
          <p:cNvSpPr/>
          <p:nvPr/>
        </p:nvSpPr>
        <p:spPr>
          <a:xfrm rot="867600">
            <a:off x="4319640" y="2720520"/>
            <a:ext cx="4476960" cy="3345120"/>
          </a:xfrm>
          <a:prstGeom prst="roundRect">
            <a:avLst>
              <a:gd name="adj" fmla="val 16667"/>
            </a:avLst>
          </a:prstGeom>
          <a:blipFill rotWithShape="0"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Шаблон 2</Template>
  <TotalTime>863</TotalTime>
  <Application>LibreOffice/7.4.7.2$Linux_X86_64 LibreOffice_project/40$Build-2</Application>
  <AppVersion>15.0000</AppVersion>
  <Words>218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8:53:27Z</dcterms:created>
  <dc:creator>Ольга</dc:creator>
  <dc:description/>
  <dc:language>en-US</dc:language>
  <cp:lastModifiedBy>яне Андрей я Андроид</cp:lastModifiedBy>
  <dcterms:modified xsi:type="dcterms:W3CDTF">2019-04-29T21:35:43Z</dcterms:modified>
  <cp:revision>93</cp:revision>
  <dc:subject/>
  <dc:title>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