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B70-0119-44C3-8530-8F36EFF2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748-5FEB-4156-8794-51DD5649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AE7-6334-4DBA-8670-38E7743F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682-6BC2-4A2F-A782-5A7522B2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6E8B-D9DD-483F-A5B9-E24664AE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BB6D-F559-4003-8863-F8065C77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5448-DA98-4B50-879A-B17E9D7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0CB-452D-404B-99B6-9BF9A2F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78D5-57B2-4EC7-8817-7451259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7FD-6B76-492E-8EE2-153900FD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E4C-0944-4E34-9C2D-1F48068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1E6-6ECD-4277-A9FA-863342F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CA80-A977-40DF-9A8F-B4D8E76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6302-6F15-4807-96F0-90397A0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656E-A0E8-4B6E-B5FD-D364F92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6AD3-9C2E-4155-9DFA-EBF58D2F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8FD-939F-4B00-913A-4A0DD3FE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E43-3554-4D48-812B-5043D991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CF1-A37A-412B-B86C-6FC740B6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4FA-E33E-4AEC-9176-5551868F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200-1DE7-4E69-BEB4-993DB4FA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08D-A04C-4161-962C-D40CC4B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621-C020-437B-B89D-D39E836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D95-2401-45C9-BD2A-53AF9372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6B06-5443-4637-8A3A-4A53EEFC32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AFAE-9625-4795-875C-08288807A5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upload.wikimedia.org/wikipedia/commons/1/1c/Milij_Aleksejevi&#269;_Balakirev_%28&#1052;&#1080;&#1083;&#1080;&#1081;_&#1040;&#1083;&#1077;&#1082;&#1089;&#1077;&#1077;&#1074;&#1080;&#1095;_&#1041;&#1072;&#1083;&#1072;&#769;&#1082;&#1080;&#1088;&#1077;&#1074;%2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Borodin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&#1050;&#1074;&#1072;&#1088;&#1090;&#1077;&#1090;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259092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Композиторы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«Могучей куч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534960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рдвинова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льяновск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198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43200" y="335268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ркестровые, фортепианные, вокальные произвед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Файл:Milij Aleksejevič Balakirev (Милий Алексеевич Бала́кирев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380880"/>
            <a:ext cx="2779920" cy="327672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Александр Порфирьевич Бороди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учёный-химик и композит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м создано более 40 научных работ по хим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менитые музыкальные произведения А.П. Бородина: опера «Князь Игорь», симфония №2 «Богатырская», инструментальные произведения, роман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Портре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990720"/>
            <a:ext cx="3706560" cy="510516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1066680" y="6324480"/>
            <a:ext cx="1981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33-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е в детстве обнаружил музыкальную одарённость, в 9 лет написав первое произведение — польку «Helen». Обучался игре на музыкальных инструментах — вначале на флейте и фортепиано, а с 13 лет — на виолончели. В это же время создал первое серьёзное музыкальное произведение — концерт для флейты с фортепиа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70360" y="2133720"/>
            <a:ext cx="4373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190760" y="22860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озрасте 10 лет стал интересоваться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хим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с годами из увлечения превратилась в дело всей его жизн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858 го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Бородин получил степень доктора медицины, проведя химические исследования и защитив диссертацию по теме «Об аналогии фосфорной и мышьяковой кислоты в химических и токсикологических отношениях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49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00200" y="53352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. П. Бородин считается также одним из основателей классических жанров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симфони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и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квартет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в Росс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вым ввёл в романс образы русского богатырского эпоса, а с ними — освободительные идеи 1860-х го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162576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008840" y="380880"/>
            <a:ext cx="213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5333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Модест Петрович Мусоргский</a:t>
            </a:r>
            <a:br>
              <a:rPr sz="44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1839-188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28195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ончил школу гвардейских подпрапорщ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музыку не понимали и не принимали современни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ые известные произведения -оперы «Борис Годунов», «Хованщина»; фортепианный цикл «Картинки с выстав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73360" cy="243864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2363760" cy="556272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1814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138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Николай Андреевич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Римский-Корсак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имский-Корсаков бы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елем композиторс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ы, среди его учеников около двухсот композиторов, дирижёров, музыковедов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.А. Римского – Корсакова называют композитором – сказочни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ое музыкальное наследие –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е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Снегурочка», «Садко», «Сказка о царе Салтане», «Царская невеста», «Золотой петушок» и д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2764080" cy="396216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7451280" y="624852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44-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171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ртрет кисти Валентина Се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7010280" cy="589464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Цезарь Антонович Кюи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835-191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14800" y="152352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усский композитор и музыкальный критик, профессор фортификации, инженер-генер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еры «Капитанская дочка», «Пир во время чумы», «Кот в сапогах» и д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изведения для оркестра, камерных инструментальных ансамб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фото"/>
          <p:cNvPicPr/>
          <p:nvPr/>
        </p:nvPicPr>
        <p:blipFill>
          <a:blip r:embed="rId2"/>
          <a:stretch/>
        </p:blipFill>
        <p:spPr>
          <a:xfrm>
            <a:off x="152280" y="1523880"/>
            <a:ext cx="4025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59 году в Петербурге, а год спустя в Москве было организовано Русское музыкальное обществ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90760" y="21337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ель которого – сделать искусство доступным для широкого круга любителей музыки. Камерная, симфоническая музыка вышла за пределы аристократических салонов, придворных залов, где она раньше звучала, и стала достоянием демократических кругов слушателей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840" y="3046320"/>
            <a:ext cx="41911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0" y="9140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лья Репин. Портрет Ц. Кю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0880" y="380880"/>
            <a:ext cx="4676760" cy="617220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0" name=""/>
          <p:cNvSpPr/>
          <p:nvPr/>
        </p:nvSpPr>
        <p:spPr>
          <a:xfrm>
            <a:off x="5410080" y="6019920"/>
            <a:ext cx="3581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леро «О мой милый, ненагляд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жную роль сыграли концерты «Бесплатной музыкальной школы», основанной выдающимся музыкантом М.А. Балакиревым. В шестидесятые годы вокруг него объединилась группа молодых исполн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2" descr="C:\Users\Эксперт\Desktop\balakirev_m_a.jpg"/>
          <p:cNvPicPr/>
          <p:nvPr/>
        </p:nvPicPr>
        <p:blipFill>
          <a:blip r:embed="rId2"/>
          <a:stretch/>
        </p:blipFill>
        <p:spPr>
          <a:xfrm>
            <a:off x="228600" y="380880"/>
            <a:ext cx="408132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В нее входили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.А. Балакире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.П. Бородин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.П. Мусоргски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.А. Римский-Корсако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Ц.А. Кю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2" descr="C:\Users\Эксперт\Desktop\balakirev_m_a.jpg"/>
          <p:cNvPicPr/>
          <p:nvPr/>
        </p:nvPicPr>
        <p:blipFill>
          <a:blip r:embed="rId2"/>
          <a:stretch/>
        </p:blipFill>
        <p:spPr>
          <a:xfrm>
            <a:off x="4952880" y="2209680"/>
            <a:ext cx="1189080" cy="182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Эксперт\Desktop\Borodin.jpg"/>
          <p:cNvPicPr/>
          <p:nvPr/>
        </p:nvPicPr>
        <p:blipFill>
          <a:blip r:embed="rId3"/>
          <a:stretch/>
        </p:blipFill>
        <p:spPr>
          <a:xfrm>
            <a:off x="6248520" y="2514600"/>
            <a:ext cx="1152360" cy="158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Эксперт\Desktop\Урок Мусоргский\8Musorgskii.jpg"/>
          <p:cNvPicPr/>
          <p:nvPr/>
        </p:nvPicPr>
        <p:blipFill>
          <a:blip r:embed="rId4"/>
          <a:stretch/>
        </p:blipFill>
        <p:spPr>
          <a:xfrm>
            <a:off x="7696080" y="2971800"/>
            <a:ext cx="113832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Эксперт\Desktop\rimsky-korsakov-12122007183932EKx.gif"/>
          <p:cNvPicPr/>
          <p:nvPr/>
        </p:nvPicPr>
        <p:blipFill>
          <a:blip r:embed="rId5"/>
          <a:stretch/>
        </p:blipFill>
        <p:spPr>
          <a:xfrm>
            <a:off x="6248520" y="4191120"/>
            <a:ext cx="1198440" cy="15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Эксперт\Desktop\Cesar_cui.jpg"/>
          <p:cNvPicPr/>
          <p:nvPr/>
        </p:nvPicPr>
        <p:blipFill>
          <a:blip r:embed="rId6"/>
          <a:stretch/>
        </p:blipFill>
        <p:spPr>
          <a:xfrm>
            <a:off x="5105520" y="5105520"/>
            <a:ext cx="1187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1547280"/>
            <a:ext cx="10666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8600"/>
            <a:ext cx="3581280" cy="70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адимир Васильевич Стас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(1824 -1906) — русский музыкальный и художественный критик, возможно наиболее уважаемый среди его современ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вестный исскуствовед В.В. Стасов вдохновлял их на создание музыкальных полотен, достойных великой России. Он назвал эту группу «Могучей кучк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Сколько поэзии, чувства, таланта и умения есть у маленькой, но уже могучей кучки русских музыкантов…». – писал Стасов в своей статье после одного из концертов под управлением Балаки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626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илий Алексеевич Балакирев</a:t>
            </a:r>
            <a:r>
              <a:rPr b="1" i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гда молодой, ярко талантливый, образованный музыкант, отличный пианист, великолепный композитор – пользовался огромным авторитетом у своих товарищей. Он направлял их по пути развития национальной русской музыки, помогал овладевать основами композиторской тех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(1836 -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Эксперт\Desktop\46193792.jpg"/>
          <p:cNvPicPr/>
          <p:nvPr/>
        </p:nvPicPr>
        <p:blipFill>
          <a:blip r:embed="rId2"/>
          <a:stretch/>
        </p:blipFill>
        <p:spPr>
          <a:xfrm>
            <a:off x="5678640" y="1905120"/>
            <a:ext cx="346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Учился на математическом факультете Казанского университ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55 год – встретился с Глинкой, который убедил его посвятить себя музы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 марта 1862 года он вместе с Гавриилом Ломакиным основал «Бесплатную музыкальную школу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С 1868 года в качестве дирек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заведовал школой до осе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74 го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21073800">
            <a:off x="0" y="3733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49525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С 1867 до 1869 М. Балакирев дирижировал симфоническими концертами Императорского русского музыкального обществ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3244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23840"/>
            <a:ext cx="8001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5-12T19:51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