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87D5-51B2-4F87-A94A-28C8CA7C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A48-CA4C-42B7-B9F9-1CF5CAB5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EFF-91BD-4A88-AD8D-523E7DC4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665-7AC7-4863-8228-71927D1C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D73B-4C76-4282-8EDC-72EA2ADF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6882-FA07-4BB5-A488-133DFD14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B38F-B9E3-4FC9-B350-9A02B7A1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D530-7A70-4BF7-A3B1-89FB2943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412E-DAC6-4E96-B0E5-878F77D2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8D50-09D0-403F-A294-3DD35631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DC53-E10A-41E9-8EF9-60DD5CBF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34C-684E-4C5B-9037-F38F2CC6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6C82-8F8E-4E1B-BA79-F9CD4B83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D6F9-5305-45DA-91F5-DA45FB0E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0FB5-B91E-4462-9185-77165DBC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477C-9931-44C3-A19B-39922CB3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C9E9-C52E-4DFD-9748-C548CAB9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7BD-9D07-414D-9F98-949879D4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144-E63A-4C9A-BEE6-EF803C1D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465-9AB3-4EE4-A2EA-374DF759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A30-7564-437D-B591-98B2B171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6AA-967D-48D2-A55B-D0C190A6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1A7-5658-45C2-A811-8B43A46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728-B148-4984-B2BD-A0854E8A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fef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75C6-219F-443E-AC7A-FEFB1E9581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35B0-F929-4F91-8EF1-2729E88EF3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upload.wikimedia.org/wikipedia/commons/1/1c/Milij_Aleksejevi&#269;_Balakirev_%28&#1052;&#1080;&#1083;&#1080;&#1081;_&#1040;&#1083;&#1077;&#1082;&#1089;&#1077;&#1077;&#1074;&#1080;&#1095;_&#1041;&#1072;&#1083;&#1072;&#769;&#1082;&#1080;&#1088;&#1077;&#1074;%29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Borodin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7;&#1080;&#1084;&#1092;&#1086;&#1085;&#1080;&#1103;" TargetMode="External"/><Relationship Id="rId3" Type="http://schemas.openxmlformats.org/officeDocument/2006/relationships/hyperlink" Target="http://ru.wikipedia.org/wiki/&#1050;&#1074;&#1072;&#1088;&#1090;&#1077;&#1090;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14600" y="259092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Композиторы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«Могучей куч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5349600"/>
            <a:ext cx="735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ордвинова Е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льяновск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41986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58669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743200" y="3352680"/>
            <a:ext cx="5486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ркестровые, фортепианные, вокальные произведен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Файл:Milij Aleksejevič Balakirev (Милий Алексеевич Бала́кирев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380880"/>
            <a:ext cx="2779920" cy="327672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Александр Порфирьевич Бородин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62160" y="1218960"/>
            <a:ext cx="5181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усский учёный-химик и композито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м создано более 40 научных работ по хим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менитые музыкальные произведения А.П. Бородина: опера «Князь Игорь», симфония №2 «Богатырская», инструментальные произведения, романс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Портре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990720"/>
            <a:ext cx="3706560" cy="510516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7" name=""/>
          <p:cNvSpPr/>
          <p:nvPr/>
        </p:nvSpPr>
        <p:spPr>
          <a:xfrm>
            <a:off x="1066680" y="6324480"/>
            <a:ext cx="1981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833-18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же в детстве обнаружил музыкальную одарённость, в 9 лет написав первое произведение — польку «Helen». Обучался игре на музыкальных инструментах — вначале на флейте и фортепиано, а с 13 лет — на виолончели. В это же время создал первое серьёзное музыкальное произведение — концерт для флейты с фортепиано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770360" y="2133720"/>
            <a:ext cx="4373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190760" y="228600"/>
            <a:ext cx="47242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возрасте 10 лет стал интересоваться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хими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которая с годами из увлечения превратилась в дело всей его жизн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858 го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Бородин получил степень доктора медицины, проведя химические исследования и защитив диссертацию по теме «Об аналогии фосфорной и мышьяковой кислоты в химических и токсикологических отношениях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149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600200" y="533520"/>
            <a:ext cx="5943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. П. Бородин считается также одним из основателей классических жанров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симфони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и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квартет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в Росс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ервым ввёл в романс образы русского богатырского эпоса, а с ними — освободительные идеи 1860-х год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80880" y="4267080"/>
            <a:ext cx="1625760" cy="2210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7008840" y="380880"/>
            <a:ext cx="21351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5333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Модест Петрович Мусоргский</a:t>
            </a:r>
            <a:br>
              <a:rPr sz="4400"/>
            </a:br>
            <a:r>
              <a:rPr b="0" lang="en-US" sz="4000" spc="-1" strike="noStrike">
                <a:solidFill>
                  <a:srgbClr val="993300"/>
                </a:solidFill>
                <a:latin typeface="Tahoma"/>
              </a:rPr>
              <a:t>1839-188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28195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кончил школу гвардейских подпрапорщи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о музыку не понимали и не принимали современни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ые известные произведения -оперы «Борис Годунов», «Хованщина»; фортепианный цикл «Картинки с выставк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773360" cy="243864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629400" y="1143000"/>
            <a:ext cx="2363760" cy="556272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1814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91383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6172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Николай Андреевич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Tahoma"/>
              </a:rPr>
              <a:t>Римский-Корсако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имский-Корсаков бы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телем композиторск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колы, среди его учеников около двухсот композиторов, дирижёров, музыковедов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.А. Римского – Корсакова называют композитором – сказочник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ое музыкальное наследие – 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опе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Снегурочка», «Садко», «Сказка о царе Салтане», «Царская невеста», «Золотой петушок» и д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324480" y="2133720"/>
            <a:ext cx="2764080" cy="396216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9" name=""/>
          <p:cNvSpPr/>
          <p:nvPr/>
        </p:nvSpPr>
        <p:spPr>
          <a:xfrm>
            <a:off x="7451280" y="624852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844-19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6171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ртрет кисти Валентина Серо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90720" y="152280"/>
            <a:ext cx="7010280" cy="589464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ahoma"/>
              </a:rPr>
              <a:t>Цезарь Антонович Кюи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835-1918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14800" y="1523520"/>
            <a:ext cx="5029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усский композитор и музыкальный критик, профессор фортификации, инженер-генера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перы «Капитанская дочка», «Пир во время чумы», «Кот в сапогах» и д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изведения для оркестра, камерных инструментальных ансамбл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фото"/>
          <p:cNvPicPr/>
          <p:nvPr/>
        </p:nvPicPr>
        <p:blipFill>
          <a:blip r:embed="rId2"/>
          <a:stretch/>
        </p:blipFill>
        <p:spPr>
          <a:xfrm>
            <a:off x="152280" y="1523880"/>
            <a:ext cx="4025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859 году в Петербурге, а год спустя в Москве было организовано Русское музыкальное общество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90760" y="213372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цель которого – сделать искусство доступным для широкого круга любителей музыки. Камерная, симфоническая музыка вышла за пределы аристократических салонов, придворных залов, где она раньше звучала, и стала достоянием демократических кругов слушателей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840" y="3046320"/>
            <a:ext cx="41911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29200" y="9140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Илья Репин. Портрет Ц. Кю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80880" y="380880"/>
            <a:ext cx="4676760" cy="6172200"/>
          </a:xfrm>
          <a:prstGeom prst="rect">
            <a:avLst/>
          </a:prstGeom>
          <a:ln w="28440">
            <a:solidFill>
              <a:srgbClr val="e6e6e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0" name=""/>
          <p:cNvSpPr/>
          <p:nvPr/>
        </p:nvSpPr>
        <p:spPr>
          <a:xfrm>
            <a:off x="5410080" y="6019920"/>
            <a:ext cx="35816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олеро «О мой милый, ненагляд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43400" y="1447560"/>
            <a:ext cx="4572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жную роль сыграли концерты «Бесплатной музыкальной школы», основанной выдающимся музыкантом М.А. Балакиревым. В шестидесятые годы вокруг него объединилась группа молодых исполнител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2" descr="C:\Users\Эксперт\Desktop\balakirev_m_a.jpg"/>
          <p:cNvPicPr/>
          <p:nvPr/>
        </p:nvPicPr>
        <p:blipFill>
          <a:blip r:embed="rId2"/>
          <a:stretch/>
        </p:blipFill>
        <p:spPr>
          <a:xfrm>
            <a:off x="228600" y="380880"/>
            <a:ext cx="408132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В нее входили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80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.А. Балакирев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А.П. Бородин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М.П. Мусоргский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Н.А. Римский-Корсаков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Ц.А. Кю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2" descr="C:\Users\Эксперт\Desktop\balakirev_m_a.jpg"/>
          <p:cNvPicPr/>
          <p:nvPr/>
        </p:nvPicPr>
        <p:blipFill>
          <a:blip r:embed="rId2"/>
          <a:stretch/>
        </p:blipFill>
        <p:spPr>
          <a:xfrm>
            <a:off x="4952880" y="2209680"/>
            <a:ext cx="1189080" cy="1822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Эксперт\Desktop\Borodin.jpg"/>
          <p:cNvPicPr/>
          <p:nvPr/>
        </p:nvPicPr>
        <p:blipFill>
          <a:blip r:embed="rId3"/>
          <a:stretch/>
        </p:blipFill>
        <p:spPr>
          <a:xfrm>
            <a:off x="6248520" y="2514600"/>
            <a:ext cx="1152360" cy="1589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Эксперт\Desktop\Урок Мусоргский\8Musorgskii.jpg"/>
          <p:cNvPicPr/>
          <p:nvPr/>
        </p:nvPicPr>
        <p:blipFill>
          <a:blip r:embed="rId4"/>
          <a:stretch/>
        </p:blipFill>
        <p:spPr>
          <a:xfrm>
            <a:off x="7696080" y="2971800"/>
            <a:ext cx="113832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Эксперт\Desktop\rimsky-korsakov-12122007183932EKx.gif"/>
          <p:cNvPicPr/>
          <p:nvPr/>
        </p:nvPicPr>
        <p:blipFill>
          <a:blip r:embed="rId5"/>
          <a:stretch/>
        </p:blipFill>
        <p:spPr>
          <a:xfrm>
            <a:off x="6248520" y="4191120"/>
            <a:ext cx="1198440" cy="1598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Эксперт\Desktop\Cesar_cui.jpg"/>
          <p:cNvPicPr/>
          <p:nvPr/>
        </p:nvPicPr>
        <p:blipFill>
          <a:blip r:embed="rId6"/>
          <a:stretch/>
        </p:blipFill>
        <p:spPr>
          <a:xfrm>
            <a:off x="5105520" y="5105520"/>
            <a:ext cx="118728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1547280"/>
            <a:ext cx="10666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28600"/>
            <a:ext cx="3581280" cy="70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ладимир Васильевич Стас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(1824 -1906) — русский музыкальный и художественный критик, возможно наиболее уважаемый среди его современ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звестный исскуствовед В.В. Стасов вдохновлял их на создание музыкальных полотен, достойных великой России. Он назвал эту группу «Могучей кучко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«Сколько поэзии, чувства, таланта и умения есть у маленькой, но уже могучей кучки русских музыкантов…». – писал Стасов в своей статье после одного из концертов под управлением Балакир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626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Милий Алексеевич Балакирев</a:t>
            </a:r>
            <a:r>
              <a:rPr b="1" i="1" lang="ru-RU" sz="5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4876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гда молодой, ярко талантливый, образованный музыкант, отличный пианист, великолепный композитор – пользовался огромным авторитетом у своих товарищей. Он направлял их по пути развития национальной русской музыки, помогал овладевать основами композиторской техн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(1836 -19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:\Users\Эксперт\Desktop\46193792.jpg"/>
          <p:cNvPicPr/>
          <p:nvPr/>
        </p:nvPicPr>
        <p:blipFill>
          <a:blip r:embed="rId2"/>
          <a:stretch/>
        </p:blipFill>
        <p:spPr>
          <a:xfrm>
            <a:off x="5678640" y="1905120"/>
            <a:ext cx="346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Учился на математическом факультете Казанского университ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1855 год – встретился с Глинкой, который убедил его посвятить себя музы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18 марта 1862 года он вместе с Гавриилом Ломакиным основал «Бесплатную музыкальную школу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С 1868 года в качестве директо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заведовал школой до осе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1874 год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 rot="21073800">
            <a:off x="0" y="37339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120" y="49525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С 1867 до 1869 М. Балакирев дирижировал симфоническими концертами Императорского русского музыкального общества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3244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123840"/>
            <a:ext cx="80010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9-05-12T19:51:5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