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FBB-107E-494B-A452-C9FFF03A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CC1-05D8-4294-8777-C938A165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342-AC2B-47C9-986E-872482F9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879-426D-4075-BB6B-4362FB0A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3796-2858-43BD-9A3C-003EAF40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9385-21AB-4068-8157-0BD18BCF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102-1FE0-4A93-833B-FAACFAD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CFFA-404B-40A6-9A23-5894F5F6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98F-F2D4-44A8-9E20-6A8390F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92E-245F-48C1-B72E-AD43FB74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B1B9-26C9-475C-802B-3A69ED5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F9E-AB78-4659-B0E8-C385C51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0D9-A7D3-4A02-BE22-F78784F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9CB0-6F02-4BBE-9BB9-7C0BCF5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A095-0F7D-48A3-9B60-6678C4D9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C494-CEE6-4D28-BA63-7A5A1742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34CF-651F-4915-A769-05A91179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78BC-4D6E-44F4-976F-CB2DB28C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1A89-9D05-4712-B825-5BDFFD9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A26C-886F-41E3-9E63-CB1BB4DA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7A1A-AFF9-4008-98AF-11D75B4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28A1-8077-4FF1-9B39-00ED245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090-7102-4CAB-8F43-618CFC76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1EC8-80EF-4F08-A68B-1F0DFB18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9396-4E14-4F6D-81E7-6E76290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B525-E926-4B1E-8C93-9E7B8EB7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B4DF-2728-4D73-A253-80397D9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8553-DA20-4FB8-B6C1-7CAF2BD7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3FA1-3E1C-4CA4-BDA4-37B62AD4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8814-AEC0-4CE1-80C1-F0E7A581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F7FE-707E-46AE-9D32-750C3B77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5CE3-B7C1-48E4-B726-FC3D3A54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EFE4-8276-465A-94CE-87B0EFA6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E7F-B8EF-4F7B-BEFF-A6519AF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BDF5-0EA1-434A-ACAC-DF449C8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6410-B1E8-4674-8AC3-A3E1015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1C45-B010-4937-8E32-11E3724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407D-F964-44E4-A82C-4447348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17F0-7E04-46DB-B48C-39041A6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D534-E366-488F-933A-7BA30D5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90F1-1C06-4793-9082-D8B3DC3B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427C-0B60-4EEB-9C29-655A9A8E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988A-5F78-40FE-B4B3-5F34BF2D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DD1B7-DD41-45A0-83FA-4BCC3AF3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406-089B-454E-9D98-85F4255A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D61C-E506-4B23-AF59-B3D91EBE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ABD5-8C57-46DF-B214-1C3C6F4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7944-B9E6-4B72-BB72-B3BF84A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55C1-74EE-4C71-8356-182DFE42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8323-0ECE-435C-BEEE-AEA537C5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570E-2954-4D70-A5AA-D9622F83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6E6AB-B983-48CC-A8C5-8E870E9E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3F456-9E67-4FB8-ABD0-4337849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0F54-564D-4185-BEDA-05AE6B4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CC4AE-F891-4433-BB1C-1D14BC16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1C1-0A70-48AC-B77F-0715BFC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CD891-F7A5-4D07-B851-C5FBB4DA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E5A6-43A7-4595-AC14-E33567F1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6B89-F9FA-471B-B2F2-A6CD60EB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4C5D-F3F3-4B44-8BF9-5ADF9553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B35B-1B24-4521-82EF-F8D1C688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A5EB-EB72-419A-927D-CC01B1D0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D1E5-CCAE-4916-A324-B9722669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47D44-DC1C-4892-9049-14B948D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D3705-EF62-46CB-AA50-92322D08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6A66-339B-423C-B43C-07456FDD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A63-52FC-4369-94E3-C0965E3F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9AB7-FB0D-47D1-AC55-E8949552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359A-A9B5-44F4-B130-9A43BFC7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1A1C-7030-4904-8C22-6D1A3CCC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FA0D5-09D6-4B9D-B517-219B6BE4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2D82-8BF7-4600-AC6E-1ABE09E7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95A1-6A9C-4BCA-AF38-CE83E67E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2B84-B5DD-40C8-AB8A-217B53D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A8C78-2BDC-4917-8DEA-293E60B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4DDA-1B7C-4C5E-A4B3-0B26571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20E4C-306B-4D95-957C-5975F55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ED5-FF3A-4C9C-B594-FE18F0F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1E6E2-49BD-4181-BEAF-74FF1D1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5AC6-311C-43C0-9A85-AA1E5776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31C3A-508B-44F8-8156-99C7E52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05DD-B17A-447E-9F3A-283CAB3C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C24E-A687-436D-869D-7088AD55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B064D-081D-4873-AA3A-769E5D56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5B73-1A49-4907-8B91-89815541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0D89-CCB6-482B-A5ED-D598F27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995F4-7FE4-4076-A9B1-CEBF731D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C131-EA81-4F48-9422-F18C4158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EA4-50BC-4A67-ABEC-0B61CA7D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7D5A-CC89-4759-9B32-F32F8CDF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F62F2-A457-4C35-941F-76F4DC1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E054-FF66-4D2C-87F0-6B3A9BBA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31713-75CA-428D-85E7-CF272FF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4A49F-FBD4-4A1C-8D95-146144C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3FDF-440B-436B-B9B1-CBC201CC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0A218-4851-4647-AE96-803C9384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388200" y="64818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9480" y="6481800"/>
            <a:ext cx="5680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F44-2303-4316-9D22-C948B2B9E6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10387080" y="503856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828440" y="60134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828440" y="56498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1189880" y="5753160"/>
            <a:ext cx="66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3A3-598F-46A2-96BF-8C5DC411CD0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388200" y="64800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0948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069-3BE2-46C3-AC3C-8706AEF197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9360" y="612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10387080" y="9252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8624880" y="900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9274320" y="6477120"/>
            <a:ext cx="2844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49236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1267640" y="809280"/>
            <a:ext cx="669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E55-ED3D-4CCB-A72C-2668E86A30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388200" y="64818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09480" y="6481800"/>
            <a:ext cx="5680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D18-1843-4524-967E-476EDBA439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387840" y="6481800"/>
            <a:ext cx="2841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609120" y="6481800"/>
            <a:ext cx="56818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10118520" y="648324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F5F-A6F5-43BC-9CC0-55425CD46F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372520" y="655632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514520" y="6556320"/>
            <a:ext cx="68580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11213640" y="6556320"/>
            <a:ext cx="66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109A-0FAD-4B31-B494-AC95472FADC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143920" y="6556320"/>
            <a:ext cx="2805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560240" y="6557760"/>
            <a:ext cx="659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10956960" y="6556320"/>
            <a:ext cx="4874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482-D126-412B-A2A0-B91034AD568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одзаголовок 2" descr=""/>
          <p:cNvPicPr/>
          <p:nvPr/>
        </p:nvPicPr>
        <p:blipFill>
          <a:blip r:embed="rId1"/>
          <a:stretch/>
        </p:blipFill>
        <p:spPr>
          <a:xfrm>
            <a:off x="-6480" y="1450800"/>
            <a:ext cx="12204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60360" y="3286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ю программы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физической культуре является формирование у учащихся начальной школы основ здорового образа жизни, развитие творческой самостоятельности посредством освоения двига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https://sbooks.ru/images/113080003_1.jpg"/>
          <p:cNvPicPr/>
          <p:nvPr/>
        </p:nvPicPr>
        <p:blipFill>
          <a:blip r:embed="rId1"/>
          <a:stretch/>
        </p:blipFill>
        <p:spPr>
          <a:xfrm>
            <a:off x="8931240" y="3249720"/>
            <a:ext cx="2624040" cy="3322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www.char.ru/books/12383295_Fizicheskaya_kultura_Uchebnik_10-11_klass_FGOS.jpg"/>
          <p:cNvPicPr/>
          <p:nvPr/>
        </p:nvPicPr>
        <p:blipFill>
          <a:blip r:embed="rId2"/>
          <a:stretch/>
        </p:blipFill>
        <p:spPr>
          <a:xfrm>
            <a:off x="3397320" y="3429000"/>
            <a:ext cx="1922400" cy="249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www.char.ru/books/4673280_Predmetnaya_liniya_uchebnikov_Vilenskogo_M_YA_Lyaha_V_I_5-9_klassy_Posobie_dlya_uchitelej_obshcheobrazovatelnyh_uchrezhdenij_FGOS_Rabochie_programmy_Fizicheskaya_kultura.jpg"/>
          <p:cNvPicPr/>
          <p:nvPr/>
        </p:nvPicPr>
        <p:blipFill>
          <a:blip r:embed="rId3"/>
          <a:stretch/>
        </p:blipFill>
        <p:spPr>
          <a:xfrm>
            <a:off x="843120" y="3322800"/>
            <a:ext cx="1587240" cy="2506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newbookshop.ru/pictures/1020635754.jpg"/>
          <p:cNvPicPr/>
          <p:nvPr/>
        </p:nvPicPr>
        <p:blipFill>
          <a:blip r:embed="rId4"/>
          <a:stretch/>
        </p:blipFill>
        <p:spPr>
          <a:xfrm>
            <a:off x="5986440" y="3254400"/>
            <a:ext cx="20080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268200" y="1096920"/>
            <a:ext cx="9845640" cy="4737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-360" y="0"/>
            <a:ext cx="1219212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е отличия и преимущества программы физического воспитания В. И. Лях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6:32:40Z</dcterms:created>
  <dc:creator>Пользователь Windows</dc:creator>
  <dc:description/>
  <dc:language>en-US</dc:language>
  <cp:lastModifiedBy>влада</cp:lastModifiedBy>
  <dcterms:modified xsi:type="dcterms:W3CDTF">2019-04-24T18:13:17Z</dcterms:modified>
  <cp:revision>7</cp:revision>
  <dc:subject/>
  <dc:title>Издательство «Просвещение»</dc:title>
</cp:coreProperties>
</file>