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DF7-30AC-4F79-A566-8BE3E0AF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CAC-FE50-4753-B30C-F6409B31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075-2471-4D20-BD3E-09840392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42A-383D-4509-8A94-48CDE8AE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E632-7922-43FE-BE18-34120A02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F754-44EF-479B-BF95-CAAEE8CC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0A4C-7EE8-435F-951F-2FCDE9F6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AA64-BF1D-481B-8A04-6F3CA552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01D8-C9B7-487D-A3AD-196BD963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E765-5D05-4833-A79A-EF03D669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FFBB-BA89-49C9-AA21-ABB7259F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BE5-0647-496F-B1F2-5201ECB2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BDD1-5F1D-4286-A03F-5198FC57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A99E-8DEE-4B92-AC1D-A74074E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C0C7-7FCF-4B4B-ACDE-C5A5A9E9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CC15-7DDA-436C-83F3-F8775E81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E05-AB35-47E4-A87A-940AFA41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BFBC4-33A6-468A-A5C6-91245809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B165-37E7-4C54-84D2-EADB4A05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B093-146B-4429-967D-07BE7924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8870-7276-4707-A21B-A385857B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82084-7CFA-4615-A1D0-68198BD6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8EB-0504-455C-A354-C6D6BFA0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35F4-A25D-41A1-80EF-675202FF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2DAE9-6F1E-4996-8595-B70F6A30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93E1C-7168-4CD0-941B-E10638B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90D1-F722-4A13-BE4C-FFB3ABD6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07DE-B86D-4D2C-85A9-C6CB4344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6C32-794E-4ED2-AC5D-3A097F89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DFF6-65D3-48B3-865C-7D216352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195F-D054-46A2-A918-4B728517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9155-BE8B-4538-9A53-AEF97921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0182-8378-4031-8B74-D23AD06A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178-37BF-4DC9-A296-2EBC87B9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80C12-EC76-4768-A573-475C3CE3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E4783-F9B6-4751-B6B3-E6EE7B22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BE83-150F-48FF-9AE3-B555ABE1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1940-D1B8-4216-8CE6-89534195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4A88-9DB5-4FC9-978F-EB6810C5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77F1-D44D-47DD-8160-EF723E6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B5B18-504F-447A-9AAB-FD45829F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6B78-D3CD-4E92-99D4-7989AA18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C10BD-DA1F-462F-AED7-1683BF78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54E04-A3D5-4A49-A823-5751A0B5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448-8FF0-490A-B48C-984512E5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99BB3-4CA0-4A94-9CEA-4E65719C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8B5A-8557-4467-8826-8725DAC5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9D0D-BED9-40B6-AD59-D242EFA6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4552E-6A89-4A8D-8503-7CAFB677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D4C03-36E0-4B13-8CF2-C7DC7A45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C6372-2FA2-49E6-BAB3-9DD46FCD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61834-61B5-4394-9DE3-5EFA55C1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FE99B-9DAA-4951-A547-DE793A8D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4D0C-236B-4ABE-9973-AC0ABCD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33B5-D3E9-4A32-930F-57F2BEEF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3B1-0D2A-4239-B693-1524A95F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796F-2112-4263-B941-848F74D4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EB850-BA4B-454C-AC57-9D7F2962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353BF-CFFC-4FB7-8BA2-13DED713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DCCB8-E5BE-4935-9319-250D4FE1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3FD10-4875-484D-BBE9-71F801B6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33D0-F89B-4370-9383-AD5C9ECF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9320-1C49-435C-AA06-EA6AC687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23E53-B2DE-4B89-8EA3-85015507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6877C-C963-446C-BDD5-F8643B95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B51C4-6DAE-46B8-8A73-9D048FDC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F307-EBC6-4A36-8D1B-00F3F9D0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E7039-F76C-43D5-818D-C0930D28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9AB7-8114-4AE1-823B-779E6A8B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8C8FF-D241-4E0F-B3B1-8E12D8D1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ADB0A-824D-4268-88E4-A30B3FCB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0E2C5-6A4C-42E6-A13D-9C2F259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A594B-D386-4237-BB46-3A8C2701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DD9C6-B71B-4384-8802-888DB763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D6A21-8312-489E-BD01-E9EF60E1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FFE6A-9BCE-4477-B669-FF6BF343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5CC3E-AC59-4D6B-AEE1-F6BC258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9BA-5102-4356-B0AE-E11D688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855E7-85B1-4D28-8233-A9E09218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CBE30-5BE8-4385-8BAB-F09BAEF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9ADD-2C78-4128-A74A-8074E166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9FCDC-E72A-4ECC-952D-1C308075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2EA3-B8CD-4324-B2AC-0A077B9A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05BC1-04CE-4315-8A54-257FB35B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9A29C-A728-4692-A3FD-44FE1C22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8E094-C15C-4A4E-A219-FF4FD399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97A30-6A1A-4487-95A4-5F22E3A2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BC6BF-C7C3-49AC-91C6-E98D188B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C9A-2A79-4238-AE3E-7144A37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09480" y="267840"/>
            <a:ext cx="109728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51EE3-26E9-4DE1-A21E-B1CAFBCE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270A6-18C5-4C8B-9570-19B27CC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D5C6E-A21B-49EB-9D53-B350915A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4EF09-8160-4FAA-AC20-C4BB65C3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09480" y="4271040"/>
            <a:ext cx="1097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FC30D-9694-413D-8B54-385665B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320" y="188280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32320" y="4271040"/>
            <a:ext cx="5354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780DA-44E7-4EFC-AAE9-E207C4D0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1964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029800" y="188280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0948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1964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029800" y="4271040"/>
            <a:ext cx="3533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D49A1-0F92-4B93-B0CD-27966E83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388200" y="64818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9480" y="6481800"/>
            <a:ext cx="5680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1FD-4157-429C-B020-FA47FA76E0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10387080" y="5038560"/>
            <a:ext cx="1893960" cy="172548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828440" y="6013440"/>
            <a:ext cx="772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828440" y="5649840"/>
            <a:ext cx="772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1189880" y="5753160"/>
            <a:ext cx="669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71BE-F58D-4F63-AD74-72591B604A79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388200" y="64800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609480" y="6481440"/>
            <a:ext cx="56800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AB35-602C-4A11-8A94-9F18348B26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9360" y="612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10387080" y="92520"/>
            <a:ext cx="1893960" cy="172548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8624880" y="900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9274320" y="6477120"/>
            <a:ext cx="2844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492360" y="6481440"/>
            <a:ext cx="56800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1267640" y="809280"/>
            <a:ext cx="669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29C4-FB73-4E5E-A253-D9A90828E6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9360" y="14400"/>
            <a:ext cx="12173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1218240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8624880" y="4947480"/>
            <a:ext cx="356400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388200" y="648180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09480" y="6481800"/>
            <a:ext cx="56800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0118520" y="648180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64C5-DF05-4A8E-9323-5EDAD51BE9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387840" y="6481800"/>
            <a:ext cx="2841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609120" y="6481800"/>
            <a:ext cx="56818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10118520" y="6483240"/>
            <a:ext cx="671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CDA1-8386-488E-90BB-882EE486BA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372520" y="6556320"/>
            <a:ext cx="2844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514520" y="6556320"/>
            <a:ext cx="68580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11213640" y="6556320"/>
            <a:ext cx="66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56E9-147B-47AF-8FD2-6B490FA0D369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109728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09480" y="1882800"/>
            <a:ext cx="1097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143920" y="6556320"/>
            <a:ext cx="2805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560240" y="6557760"/>
            <a:ext cx="659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10956960" y="6556320"/>
            <a:ext cx="4874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8994-D417-498B-BBD7-7D641BA28E73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одзаголовок 2" descr=""/>
          <p:cNvPicPr/>
          <p:nvPr/>
        </p:nvPicPr>
        <p:blipFill>
          <a:blip r:embed="rId1"/>
          <a:stretch/>
        </p:blipFill>
        <p:spPr>
          <a:xfrm>
            <a:off x="-6480" y="1450800"/>
            <a:ext cx="1220472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60360" y="3286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Целью программы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физической культуре является формирование у учащихся начальной школы основ здорового образа жизни, развитие творческой самостоятельности посредством освоения двигательной деятельности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2" descr="https://sbooks.ru/images/113080003_1.jpg"/>
          <p:cNvPicPr/>
          <p:nvPr/>
        </p:nvPicPr>
        <p:blipFill>
          <a:blip r:embed="rId1"/>
          <a:stretch/>
        </p:blipFill>
        <p:spPr>
          <a:xfrm>
            <a:off x="8931240" y="3249720"/>
            <a:ext cx="2624040" cy="3322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www.char.ru/books/12383295_Fizicheskaya_kultura_Uchebnik_10-11_klass_FGOS.jpg"/>
          <p:cNvPicPr/>
          <p:nvPr/>
        </p:nvPicPr>
        <p:blipFill>
          <a:blip r:embed="rId2"/>
          <a:stretch/>
        </p:blipFill>
        <p:spPr>
          <a:xfrm>
            <a:off x="3397320" y="3429000"/>
            <a:ext cx="1922400" cy="2496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www.char.ru/books/4673280_Predmetnaya_liniya_uchebnikov_Vilenskogo_M_YA_Lyaha_V_I_5-9_klassy_Posobie_dlya_uchitelej_obshcheobrazovatelnyh_uchrezhdenij_FGOS_Rabochie_programmy_Fizicheskaya_kultura.jpg"/>
          <p:cNvPicPr/>
          <p:nvPr/>
        </p:nvPicPr>
        <p:blipFill>
          <a:blip r:embed="rId3"/>
          <a:stretch/>
        </p:blipFill>
        <p:spPr>
          <a:xfrm>
            <a:off x="843120" y="3322800"/>
            <a:ext cx="1587240" cy="2506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http://newbookshop.ru/pictures/1020635754.jpg"/>
          <p:cNvPicPr/>
          <p:nvPr/>
        </p:nvPicPr>
        <p:blipFill>
          <a:blip r:embed="rId4"/>
          <a:stretch/>
        </p:blipFill>
        <p:spPr>
          <a:xfrm>
            <a:off x="5986440" y="3254400"/>
            <a:ext cx="20080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268200" y="1096920"/>
            <a:ext cx="9845640" cy="47372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-360" y="0"/>
            <a:ext cx="1219212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сновные отличия и преимущества программы физического воспитания В. И. Лях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6:32:40Z</dcterms:created>
  <dc:creator>Пользователь Windows</dc:creator>
  <dc:description/>
  <dc:language>en-US</dc:language>
  <cp:lastModifiedBy>влада</cp:lastModifiedBy>
  <dcterms:modified xsi:type="dcterms:W3CDTF">2019-04-24T18:13:17Z</dcterms:modified>
  <cp:revision>7</cp:revision>
  <dc:subject/>
  <dc:title>Издательство «Просвещение»</dc:title>
</cp:coreProperties>
</file>